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58288" cy="6872288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6480" y="41338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820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028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648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820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028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6480" y="7740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8000"/>
            <a:ext cx="9145440" cy="154080"/>
            <a:chOff x="0" y="1278000"/>
            <a:chExt cx="9145440" cy="154080"/>
          </a:xfrm>
        </p:grpSpPr>
        <p:sp>
          <p:nvSpPr>
            <p:cNvPr id="1" name=""/>
            <p:cNvSpPr/>
            <p:nvPr/>
          </p:nvSpPr>
          <p:spPr>
            <a:xfrm>
              <a:off x="0" y="1278000"/>
              <a:ext cx="9145440" cy="7596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3920"/>
              <a:ext cx="91454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59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17320" y="6567480"/>
            <a:ext cx="178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ter A. Steenkiste, SCS, CM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23880" y="642636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5888-C8FA-4D8A-9F93-FB896956A83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 Transport protoco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of Computer 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ttp://www.cs.cmu.edu/~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liabilit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3240" y="1746000"/>
            <a:ext cx="7174080" cy="4120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sum guarantees end-end data integr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 numbers detect packet sequencing problem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e: ign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ordered: reorder or dr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: re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t packets detected by sen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time out to detect lack of acknowledg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reliable roundtrip time estim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ansmission requires that sender keeps copy of the data until ack is receiv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en to Send a Packet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-to-end flow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buffer overflow on recei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advertizes a window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s amount of data that can be in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using the congestion window, slow start, and fast retransmit/recovery mechanis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cy consider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to send large packets (if possib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efficient in the network and on end 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gybacking of a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nd-to-End Flow Contr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120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er advertises how much data it can rece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ed up with real buffer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in sequence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knowledgement indicates that data was received correct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er can delete copy of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data still consumes buffer space on recei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 update indicates that data was consumed and that buffer space was freed u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er can send mor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5760" y="5810400"/>
            <a:ext cx="7365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55800" y="5778360"/>
            <a:ext cx="63720" cy="6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80040" y="5778360"/>
            <a:ext cx="63360" cy="6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23040" y="5778360"/>
            <a:ext cx="63360" cy="6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51840" y="5778360"/>
            <a:ext cx="63360" cy="6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54720" y="54356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0080" y="5934240"/>
            <a:ext cx="2032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3365fb"/>
                </a:solidFill>
                <a:latin typeface="Book Antiqua"/>
              </a:rPr>
              <a:t>acknowled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2560" y="5934240"/>
            <a:ext cx="736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0560" y="5934240"/>
            <a:ext cx="1447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Book Antiqua"/>
              </a:rPr>
              <a:t>to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82720" y="5934240"/>
            <a:ext cx="2198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Book Antiqua"/>
              </a:rPr>
              <a:t>outsid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8600" y="5810400"/>
            <a:ext cx="1422360" cy="0"/>
          </a:xfrm>
          <a:prstGeom prst="line">
            <a:avLst/>
          </a:prstGeom>
          <a:ln w="381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62480" y="5810400"/>
            <a:ext cx="10414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5480" y="5810400"/>
            <a:ext cx="172728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85760" y="5810400"/>
            <a:ext cx="165096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83520" y="54356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11720" y="54356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87480" y="54356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ndow Size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versus Throughpu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2292480"/>
            <a:ext cx="703584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27320" y="4349880"/>
            <a:ext cx="703548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7000" y="2305080"/>
            <a:ext cx="203184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24200" y="2305080"/>
            <a:ext cx="203184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81400" y="2305080"/>
            <a:ext cx="203184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38600" y="2305080"/>
            <a:ext cx="203184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95800" y="2305080"/>
            <a:ext cx="3860640" cy="2031840"/>
            <a:chOff x="3295800" y="2305080"/>
            <a:chExt cx="3860640" cy="2031840"/>
          </a:xfrm>
        </p:grpSpPr>
        <p:sp>
          <p:nvSpPr>
            <p:cNvPr id="173" name=""/>
            <p:cNvSpPr/>
            <p:nvPr/>
          </p:nvSpPr>
          <p:spPr>
            <a:xfrm>
              <a:off x="3295800" y="2305080"/>
              <a:ext cx="2031840" cy="20318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753000" y="2305080"/>
              <a:ext cx="3403440" cy="2031840"/>
              <a:chOff x="3753000" y="2305080"/>
              <a:chExt cx="3403440" cy="2031840"/>
            </a:xfrm>
          </p:grpSpPr>
          <p:sp>
            <p:nvSpPr>
              <p:cNvPr id="175" name=""/>
              <p:cNvSpPr/>
              <p:nvPr/>
            </p:nvSpPr>
            <p:spPr>
              <a:xfrm>
                <a:off x="3753000" y="2305080"/>
                <a:ext cx="2031840" cy="20318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10200" y="2305080"/>
                <a:ext cx="2031840" cy="20318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67400" y="2305080"/>
                <a:ext cx="2031840" cy="20318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24600" y="2305080"/>
                <a:ext cx="2031840" cy="20318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141480" y="2033640"/>
            <a:ext cx="1241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40" y="4092480"/>
            <a:ext cx="1485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472428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0920" y="4510080"/>
            <a:ext cx="744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965600" y="5257800"/>
            <a:ext cx="4282920" cy="882000"/>
            <a:chOff x="1965600" y="5257800"/>
            <a:chExt cx="4282920" cy="882000"/>
          </a:xfrm>
        </p:grpSpPr>
        <p:sp>
          <p:nvSpPr>
            <p:cNvPr id="184" name=""/>
            <p:cNvSpPr/>
            <p:nvPr/>
          </p:nvSpPr>
          <p:spPr>
            <a:xfrm>
              <a:off x="1965600" y="545148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roughput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571500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50080" y="525780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97800" y="568008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ndtrip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447920" y="1690560"/>
            <a:ext cx="4108320" cy="2671920"/>
            <a:chOff x="1447920" y="1690560"/>
            <a:chExt cx="4108320" cy="2671920"/>
          </a:xfrm>
        </p:grpSpPr>
        <p:sp>
          <p:nvSpPr>
            <p:cNvPr id="189" name=""/>
            <p:cNvSpPr/>
            <p:nvPr/>
          </p:nvSpPr>
          <p:spPr>
            <a:xfrm flipV="1">
              <a:off x="3524400" y="2279520"/>
              <a:ext cx="2031840" cy="208296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920" y="1905120"/>
              <a:ext cx="403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27960" y="1690560"/>
              <a:ext cx="703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T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587920" y="2286000"/>
            <a:ext cx="203220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5120" y="2286000"/>
            <a:ext cx="203220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02320" y="2286000"/>
            <a:ext cx="203220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87720" y="2265120"/>
            <a:ext cx="2032200" cy="2082600"/>
          </a:xfrm>
          <a:prstGeom prst="line">
            <a:avLst/>
          </a:prstGeom>
          <a:ln w="284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44920" y="2286000"/>
            <a:ext cx="2032200" cy="2082960"/>
          </a:xfrm>
          <a:prstGeom prst="line">
            <a:avLst/>
          </a:prstGeom>
          <a:ln w="284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56880"/>
            <a:ext cx="7172280" cy="1144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nges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821960"/>
            <a:ext cx="8291520" cy="2140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stion: the load placed on the network is higher than the capacity of the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havior on short time scales (a few roundtrip tim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load can result in lower throughput, large delay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hop nets: heavy traffic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ong queues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ost packets, retransm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: high demand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any colli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with highways: too much traffic slows down through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6400" y="4753080"/>
            <a:ext cx="2082600" cy="269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7"/>
                </a:moveTo>
                <a:arcTo wR="10800" hR="10800" stAng="-10795939" swAng="5390694"/>
                <a:lnTo>
                  <a:pt x="10800" y="10800"/>
                </a:lnTo>
                <a:close/>
              </a:path>
              <a:path fill="none" w="21600" h="21600">
                <a:moveTo>
                  <a:pt x="0" y="10787"/>
                </a:moveTo>
                <a:arcTo wR="10800" hR="10800" stAng="-10795939" swAng="5390694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13240" y="4753080"/>
            <a:ext cx="1168560" cy="117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1" y="0"/>
                </a:moveTo>
                <a:arcTo wR="10800" hR="10800" stAng="-5409342" swAng="5399975"/>
                <a:lnTo>
                  <a:pt x="10800" y="10800"/>
                </a:lnTo>
                <a:close/>
              </a:path>
              <a:path fill="none" w="21600" h="21600">
                <a:moveTo>
                  <a:pt x="10771" y="0"/>
                </a:moveTo>
                <a:arcTo wR="10800" hR="10800" stAng="-5409342" swAng="5399975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29400" y="4408200"/>
            <a:ext cx="0" cy="1700280"/>
          </a:xfrm>
          <a:prstGeom prst="line">
            <a:avLst/>
          </a:prstGeom>
          <a:ln w="381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42000" y="6095880"/>
            <a:ext cx="1878120" cy="0"/>
          </a:xfrm>
          <a:prstGeom prst="line">
            <a:avLst/>
          </a:prstGeom>
          <a:ln w="381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8572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5800" y="40384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809880" y="4419720"/>
            <a:ext cx="91440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76560" y="5029200"/>
            <a:ext cx="685800" cy="106668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5105520"/>
            <a:ext cx="1067040" cy="9903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514600" y="5105520"/>
            <a:ext cx="380880" cy="9903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4419720"/>
            <a:ext cx="838440" cy="60948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447920" y="4419720"/>
            <a:ext cx="91440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5105520"/>
            <a:ext cx="1066680" cy="9903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066320" y="5105520"/>
            <a:ext cx="381240" cy="9903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4419720"/>
            <a:ext cx="53316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6095880"/>
            <a:ext cx="14479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895480" y="5105520"/>
            <a:ext cx="9907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334120"/>
            <a:ext cx="15228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648320"/>
            <a:ext cx="228600" cy="3045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5029200"/>
            <a:ext cx="38088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5943600"/>
            <a:ext cx="30456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4876920"/>
            <a:ext cx="304920" cy="3045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594360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42670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49528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594360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2670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49528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49528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CP Congestion Avoidanc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0600" y="1593720"/>
            <a:ext cx="7173720" cy="4121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5000"/>
          </a:bodyPr>
          <a:p>
            <a:pPr marL="242640" indent="-2426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avoidance limits how fast TCP can send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using a congestion window that limits how much data can be in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from flow control wind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ssion is limited by minimum of the two wind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 grows in response to acknowled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loss is seen as sign of conges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ve decrease of the congestion wind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cut back fast since cost of congestion is hi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detect when more bandwidth becomes availab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lly increment congestion window (prob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in oscillation around congestion window siz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aptation with Binary Feedback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6480" y="19839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stability requires multiplicative decreases and additive increases in the transmission r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stion is a dangerous condi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-&gt; back off quick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used bandwidth is undesirable but not dangerous    -&gt; probe carefu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4267080"/>
            <a:ext cx="0" cy="19400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620712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295280" y="4648320"/>
            <a:ext cx="1447920" cy="9144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4648320"/>
            <a:ext cx="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52360" y="6248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743200" y="4724280"/>
            <a:ext cx="990720" cy="6098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724280"/>
            <a:ext cx="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733920" y="4495320"/>
            <a:ext cx="106668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4495680"/>
            <a:ext cx="0" cy="9907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00600" y="4572000"/>
            <a:ext cx="1447920" cy="9144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4572000"/>
            <a:ext cx="0" cy="9144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248520" y="4800240"/>
            <a:ext cx="106668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4800600"/>
            <a:ext cx="0" cy="5335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988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CP Fairness Issu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TCP flows sharing the same bottleneck link do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cessarily get the same bandwid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such as roundtrip time, small differences in timeouts, and start time, … affect how bandwidth is sh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ndwidth ratio typically does stabil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ying the congestion control implementation changes the aggressiveness of TCP and will change how much bandwidth a source g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s “fairness” relative to other fl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 timeouts, dropping or adding features, 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can grab more bandwidth by using parallel flo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flow gets a share of the bandwidth to the user gets more bandwidth than users who use only a single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ther Transport Protoco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need a form of reliability,  congestion avoidance, or flow control different from that of TC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not need a 100% reliable trans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outs or slow down for congestion avoidance may introduce unacceptable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ransport protocols are often implemented in user space on top of UD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addressing provided by UD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 Multimed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layback of Audio/Video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6480" y="159984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attaches a timestamp to each s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 uses the timestamp to playback the sample at the right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yback point corresponds to the delay in the replay relative to the generation of the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s that arrive too late have no value and are igno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s that arrive too early have to be buffe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3962520"/>
            <a:ext cx="1371600" cy="761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0280" y="3962520"/>
            <a:ext cx="1371600" cy="761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95280" y="4813200"/>
            <a:ext cx="596880" cy="1282680"/>
            <a:chOff x="1295280" y="4813200"/>
            <a:chExt cx="596880" cy="1282680"/>
          </a:xfrm>
        </p:grpSpPr>
        <p:sp>
          <p:nvSpPr>
            <p:cNvPr id="255" name=""/>
            <p:cNvSpPr/>
            <p:nvPr/>
          </p:nvSpPr>
          <p:spPr>
            <a:xfrm>
              <a:off x="1879560" y="4813200"/>
              <a:ext cx="0" cy="12700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07880" y="4813200"/>
              <a:ext cx="0" cy="12700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295280" y="609588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295280" y="586728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295280" y="563868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295280" y="541008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295280" y="518148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598760" y="6095880"/>
            <a:ext cx="992160" cy="22860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0"/>
                </a:moveTo>
                <a:lnTo>
                  <a:pt x="0" y="336"/>
                </a:lnTo>
                <a:lnTo>
                  <a:pt x="576" y="336"/>
                </a:lnTo>
              </a:path>
            </a:pathLst>
          </a:custGeom>
          <a:noFill/>
          <a:ln cap="rnd" w="5076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5867280"/>
            <a:ext cx="1066680" cy="457200"/>
          </a:xfrm>
          <a:custGeom>
            <a:avLst/>
            <a:gdLst/>
            <a:ahLst/>
            <a:rect l="l" t="t" r="r" b="b"/>
            <a:pathLst>
              <a:path w="553" h="433">
                <a:moveTo>
                  <a:pt x="0" y="432"/>
                </a:moveTo>
                <a:lnTo>
                  <a:pt x="552" y="432"/>
                </a:lnTo>
                <a:lnTo>
                  <a:pt x="552" y="0"/>
                </a:lnTo>
              </a:path>
            </a:pathLst>
          </a:custGeom>
          <a:noFill/>
          <a:ln cap="rnd" w="5076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632448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391520" y="4876920"/>
            <a:ext cx="596880" cy="1320480"/>
            <a:chOff x="7391520" y="4876920"/>
            <a:chExt cx="596880" cy="1320480"/>
          </a:xfrm>
        </p:grpSpPr>
        <p:sp>
          <p:nvSpPr>
            <p:cNvPr id="266" name=""/>
            <p:cNvSpPr/>
            <p:nvPr/>
          </p:nvSpPr>
          <p:spPr>
            <a:xfrm flipV="1">
              <a:off x="7975800" y="4876920"/>
              <a:ext cx="0" cy="13204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404480" y="4876920"/>
              <a:ext cx="0" cy="13204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391520" y="488952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7391520" y="511812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391520" y="534672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391520" y="557532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391520" y="580392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696080" y="4648320"/>
            <a:ext cx="0" cy="253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4648320"/>
            <a:ext cx="0" cy="48240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9200" y="6095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6095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6095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6095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632304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632160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rotoc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nsport Protocol Propert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23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lost data is typically acceptable (impact depends on the type of encodingencod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outs typically result in unacceptable delay, and there is often not enough time to retransmit data (live transfe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e of the flow fundamentally limits its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tion of rate in response to congestion should not be done by sending samples slower but by reduce data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change frame rate or fram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s should be paced at the natural rate of th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ing too slow --&gt; underflow and missed dead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ing too fast --&gt; buffer overflow and los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aptive Video Stream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4" name=""/>
          <p:cNvSpPr/>
          <p:nvPr/>
        </p:nvSpPr>
        <p:spPr>
          <a:xfrm>
            <a:off x="1301760" y="1797120"/>
            <a:ext cx="1371600" cy="761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5880" y="1797120"/>
            <a:ext cx="1371600" cy="761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670040" y="2914560"/>
            <a:ext cx="596880" cy="1282680"/>
            <a:chOff x="1670040" y="2914560"/>
            <a:chExt cx="596880" cy="1282680"/>
          </a:xfrm>
        </p:grpSpPr>
        <p:sp>
          <p:nvSpPr>
            <p:cNvPr id="287" name=""/>
            <p:cNvSpPr/>
            <p:nvPr/>
          </p:nvSpPr>
          <p:spPr>
            <a:xfrm>
              <a:off x="2254320" y="2914560"/>
              <a:ext cx="0" cy="12700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82640" y="2914560"/>
              <a:ext cx="0" cy="12700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670040" y="419724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70040" y="396864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670040" y="374004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670040" y="351144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670040" y="328284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080120" y="2889360"/>
            <a:ext cx="596880" cy="1320480"/>
            <a:chOff x="7080120" y="2889360"/>
            <a:chExt cx="596880" cy="1320480"/>
          </a:xfrm>
        </p:grpSpPr>
        <p:sp>
          <p:nvSpPr>
            <p:cNvPr id="295" name=""/>
            <p:cNvSpPr/>
            <p:nvPr/>
          </p:nvSpPr>
          <p:spPr>
            <a:xfrm flipV="1">
              <a:off x="7664400" y="2889360"/>
              <a:ext cx="0" cy="13204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093080" y="2889360"/>
              <a:ext cx="0" cy="13204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80120" y="290196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80120" y="313056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080120" y="335916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080120" y="358776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080120" y="381636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397640" y="2584440"/>
            <a:ext cx="0" cy="2541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7560" y="2584440"/>
            <a:ext cx="0" cy="482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647800" y="2178000"/>
            <a:ext cx="4013280" cy="0"/>
          </a:xfrm>
          <a:prstGeom prst="line">
            <a:avLst/>
          </a:prstGeom>
          <a:ln w="507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31360" y="175248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4152960"/>
            <a:ext cx="1143000" cy="15228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0"/>
                </a:moveTo>
                <a:lnTo>
                  <a:pt x="0" y="336"/>
                </a:lnTo>
                <a:lnTo>
                  <a:pt x="576" y="336"/>
                </a:lnTo>
              </a:path>
            </a:pathLst>
          </a:custGeom>
          <a:noFill/>
          <a:ln cap="rnd" w="5076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3851280"/>
            <a:ext cx="1219320" cy="457200"/>
          </a:xfrm>
          <a:custGeom>
            <a:avLst/>
            <a:gdLst/>
            <a:ahLst/>
            <a:rect l="l" t="t" r="r" b="b"/>
            <a:pathLst>
              <a:path w="553" h="433">
                <a:moveTo>
                  <a:pt x="0" y="432"/>
                </a:moveTo>
                <a:lnTo>
                  <a:pt x="552" y="432"/>
                </a:lnTo>
                <a:lnTo>
                  <a:pt x="552" y="0"/>
                </a:lnTo>
              </a:path>
            </a:pathLst>
          </a:custGeom>
          <a:noFill/>
          <a:ln cap="rnd" w="5076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4079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079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4079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430704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430524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4876920"/>
            <a:ext cx="7162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 reports dropped pack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 reduces frame size if loss rate is too hi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uses probing to detect additional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to TCP, except that lost data is typically not retransmit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al-Time Transport Protocol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TP (RFC 1889)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the transport of data with real-time characteristi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the formatting and synchronization information for the data transfe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encoding used, timestamps for synchronization, loss rates for used by congestion control protocol, sequence numbers for ordering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P does not guarantee timely data delive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antees have to be provided by lower level protoc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ocol has two par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Transport Protocol: car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Control protocol: monitor quality, exchange information about participants, 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: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Quality of Servic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of Computer 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ttp://www.cs.cmu.edu/~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quality of servi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provide 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Internet proposals: IntServ and DiffSer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at is QoS?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n Application View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nternet supports best effort packet delivery on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icient for most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pplications require or can benefit from a “higher” level of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” quality of service typically means that bounds are provided for one or more performance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: fast data transfers, vid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, jitter: telepho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 loss, bit error rate: update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at is QoS?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 Network Manager View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haring: multiple organizations share a lin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ays for certain % and expects service according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providers want to offer different types of services to different us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, silver, bron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s want to place limits on how much bandwidth is used by certain traffic cl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 bandwidth over Web, video, audio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26040" y="2749680"/>
            <a:ext cx="1981440" cy="5331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68840" y="4083120"/>
            <a:ext cx="1295640" cy="5331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9040" y="4083120"/>
            <a:ext cx="1295640" cy="5331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229080" y="3308400"/>
            <a:ext cx="507960" cy="71100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23200" y="3308400"/>
            <a:ext cx="330120" cy="71100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03960" y="4667400"/>
            <a:ext cx="48240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72160" y="4667400"/>
            <a:ext cx="35568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555880" y="4667400"/>
            <a:ext cx="48276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19880" y="4667400"/>
            <a:ext cx="35568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708160" y="4667400"/>
            <a:ext cx="40644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43560" y="4667400"/>
            <a:ext cx="27936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013440" y="4667400"/>
            <a:ext cx="17784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67600" y="4667400"/>
            <a:ext cx="12672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004160" y="4667400"/>
            <a:ext cx="48240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72360" y="4667400"/>
            <a:ext cx="35568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156080" y="4667400"/>
            <a:ext cx="48276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20080" y="4667400"/>
            <a:ext cx="35568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308360" y="4667400"/>
            <a:ext cx="40644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43760" y="4667400"/>
            <a:ext cx="27936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613640" y="4667400"/>
            <a:ext cx="17784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67800" y="4667400"/>
            <a:ext cx="12672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QoS Analogy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urface Mai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faults if “first class mail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gets there within a few d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icient for most let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“guaranteed” mail delivery services: next day, 2-day delivery, next day am, 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more faster and more predictable service at a higher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s differentiate their services: target specific markets with specific requirements and budg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n’t we do the same thing in network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QoS Requirements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nd Challeng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648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technical solu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ffer appropriate types of guarantees (complex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to large numbers of flows and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usage models for networks with QoS guarant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develop applications for such network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we get (uneducated) users to use such networks appropriatel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ppropriate business models that make economic sen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ill a contract for network services with QoS look like and will anybody sign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it match the technology solu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ow to Provide QoS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ssion control limits number of us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not provide guarantees if there are too many users sharing the same set of resources (bandwidt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telephone networks - busy t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mplies that your request for service can be rej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ffic enforcement limits how much traffic users can inject based on predefined limi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user respects the traffic contr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outside of contract can be dropped (before entering the network!) or can be sent at a lower prio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ing support in the routers guarantee that users get their share of the bandwid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 based on pre-negotiated bo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nsport protoco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st level end-to-end protoc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generated by sender is interpreted only by the dest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range of fun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exing/ demultiplexing for multiple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 establish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types of error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-to-end flow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61320" y="23954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61320" y="2854440"/>
            <a:ext cx="901800" cy="44136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61320" y="33098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3954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854440"/>
            <a:ext cx="901800" cy="44136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3098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3767040"/>
            <a:ext cx="901800" cy="444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42242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6814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51386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61320" y="3767040"/>
            <a:ext cx="901800" cy="444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61320" y="42242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61320" y="46814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61320" y="51386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4224240"/>
            <a:ext cx="106704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22600" y="5735520"/>
            <a:ext cx="788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4681440"/>
            <a:ext cx="53352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4681440"/>
            <a:ext cx="53352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138640"/>
            <a:ext cx="53352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5138640"/>
            <a:ext cx="53352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5354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5354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48974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48974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4402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44402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983040"/>
            <a:ext cx="24386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286000" y="3048120"/>
            <a:ext cx="4724280" cy="281916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QoS Framework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4172040" y="3714840"/>
            <a:ext cx="355680" cy="812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409560" y="3689280"/>
            <a:ext cx="584280" cy="10922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571640" y="4419720"/>
            <a:ext cx="1066680" cy="228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184280" y="2743200"/>
            <a:ext cx="692280" cy="6793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2819520"/>
            <a:ext cx="0" cy="6858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3048120"/>
            <a:ext cx="75960" cy="8380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362320" y="4946760"/>
            <a:ext cx="831600" cy="3110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200400" y="5022360"/>
            <a:ext cx="146160" cy="768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44960" y="5340240"/>
            <a:ext cx="30492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54440" y="3664080"/>
            <a:ext cx="304920" cy="304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71640" y="3886200"/>
            <a:ext cx="15228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172040" y="3561840"/>
            <a:ext cx="660240" cy="279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191120" y="4648320"/>
            <a:ext cx="457200" cy="838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3409920" y="4933800"/>
            <a:ext cx="812880" cy="508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3429000"/>
            <a:ext cx="30456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952720" y="3537000"/>
            <a:ext cx="432000" cy="330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3352320" y="3504960"/>
            <a:ext cx="685800" cy="75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92680" y="3435480"/>
            <a:ext cx="304560" cy="3045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5840" y="4502160"/>
            <a:ext cx="30492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06880" y="4730760"/>
            <a:ext cx="30456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9680" y="3740040"/>
            <a:ext cx="30456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2743200"/>
            <a:ext cx="76320" cy="8380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191280" y="3200400"/>
            <a:ext cx="514440" cy="2476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00600" y="3580920"/>
            <a:ext cx="1295280" cy="2286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92880" y="4273560"/>
            <a:ext cx="30456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638320" y="3581280"/>
            <a:ext cx="304920" cy="762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857840" y="3866760"/>
            <a:ext cx="812880" cy="507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73760" y="3435480"/>
            <a:ext cx="304920" cy="3045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54440" y="3664080"/>
            <a:ext cx="304920" cy="3045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5029200"/>
            <a:ext cx="30456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24480" y="4343400"/>
            <a:ext cx="30492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943600" y="4495320"/>
            <a:ext cx="457200" cy="6858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562720" y="4419720"/>
            <a:ext cx="380880" cy="761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4419720"/>
            <a:ext cx="762120" cy="759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6476760" y="4495320"/>
            <a:ext cx="685800" cy="7621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6477120" y="4495680"/>
            <a:ext cx="761760" cy="763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62920" y="4419720"/>
            <a:ext cx="304560" cy="30456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4280" y="2590920"/>
            <a:ext cx="304920" cy="30456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54240" y="5645160"/>
            <a:ext cx="30492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5111640"/>
            <a:ext cx="30492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92680" y="2673360"/>
            <a:ext cx="30456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73360" y="2825640"/>
            <a:ext cx="30492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91320" y="2590920"/>
            <a:ext cx="304560" cy="30456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559560" y="3054240"/>
            <a:ext cx="30492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10280" y="5105520"/>
            <a:ext cx="304920" cy="30456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209680" y="3429000"/>
            <a:ext cx="4114800" cy="2437920"/>
            <a:chOff x="2209680" y="3429000"/>
            <a:chExt cx="4114800" cy="2437920"/>
          </a:xfrm>
        </p:grpSpPr>
        <p:sp>
          <p:nvSpPr>
            <p:cNvPr id="399" name=""/>
            <p:cNvSpPr/>
            <p:nvPr/>
          </p:nvSpPr>
          <p:spPr>
            <a:xfrm>
              <a:off x="2895480" y="3886200"/>
              <a:ext cx="457200" cy="99072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4572000" y="4647960"/>
              <a:ext cx="1371600" cy="5331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09680" y="3429000"/>
              <a:ext cx="685800" cy="4572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352680" y="4647960"/>
              <a:ext cx="1219320" cy="2286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943600" y="5181120"/>
              <a:ext cx="380880" cy="6858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43160" y="3429000"/>
            <a:ext cx="5881320" cy="2437920"/>
            <a:chOff x="443160" y="3429000"/>
            <a:chExt cx="5881320" cy="2437920"/>
          </a:xfrm>
        </p:grpSpPr>
        <p:sp>
          <p:nvSpPr>
            <p:cNvPr id="405" name=""/>
            <p:cNvSpPr/>
            <p:nvPr/>
          </p:nvSpPr>
          <p:spPr>
            <a:xfrm>
              <a:off x="443160" y="4262400"/>
              <a:ext cx="1553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mi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209680" y="3429000"/>
              <a:ext cx="4114800" cy="2437920"/>
              <a:chOff x="2209680" y="3429000"/>
              <a:chExt cx="4114800" cy="2437920"/>
            </a:xfrm>
          </p:grpSpPr>
          <p:sp>
            <p:nvSpPr>
              <p:cNvPr id="407" name=""/>
              <p:cNvSpPr/>
              <p:nvPr/>
            </p:nvSpPr>
            <p:spPr>
              <a:xfrm>
                <a:off x="2895480" y="3886200"/>
                <a:ext cx="457200" cy="990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4572000" y="4647960"/>
                <a:ext cx="1371600" cy="53316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09680" y="3429000"/>
                <a:ext cx="685800" cy="4572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52680" y="4647960"/>
                <a:ext cx="1219320" cy="2286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5943600" y="5181120"/>
                <a:ext cx="380880" cy="6858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 flipV="1">
              <a:off x="1905120" y="4343400"/>
              <a:ext cx="11430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063880" y="3282840"/>
            <a:ext cx="30456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72200" y="5715000"/>
            <a:ext cx="30492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57560" y="1778040"/>
            <a:ext cx="2285640" cy="1955880"/>
            <a:chOff x="457560" y="1778040"/>
            <a:chExt cx="2285640" cy="1955880"/>
          </a:xfrm>
        </p:grpSpPr>
        <p:sp>
          <p:nvSpPr>
            <p:cNvPr id="416" name=""/>
            <p:cNvSpPr/>
            <p:nvPr/>
          </p:nvSpPr>
          <p:spPr>
            <a:xfrm>
              <a:off x="457560" y="1778040"/>
              <a:ext cx="1875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for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2514600"/>
              <a:ext cx="7621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724280" y="1905120"/>
            <a:ext cx="3222720" cy="2590560"/>
            <a:chOff x="4724280" y="1905120"/>
            <a:chExt cx="3222720" cy="2590560"/>
          </a:xfrm>
        </p:grpSpPr>
        <p:sp>
          <p:nvSpPr>
            <p:cNvPr id="419" name=""/>
            <p:cNvSpPr/>
            <p:nvPr/>
          </p:nvSpPr>
          <p:spPr>
            <a:xfrm>
              <a:off x="6325920" y="1905120"/>
              <a:ext cx="1621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hedu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724280" y="2666880"/>
              <a:ext cx="198144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QOS Admission Contr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1000"/>
          </a:bodyPr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ubmits reque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raffic sour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requested from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nclude desirable and acceptable levels of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ffic descrip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 traffic servic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parameters describing service or traf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checks whether the request can be satisfied and accepts or rejects the reque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have to check with the routers in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have to reserve resource on every router along the path that was selected for the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signaling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ow Do We Distinguish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Between Flows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404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very packet we must be able to determine what flow (or user) it belongs 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step towards giving it appropriate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classifier takes as input the packet header and generates a flow identifi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lassifier has to be initialized, for example as part of admissions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3616200"/>
            <a:ext cx="3048120" cy="18288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ck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5445000"/>
            <a:ext cx="0" cy="45720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34320" y="3159000"/>
            <a:ext cx="0" cy="45720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864040" y="5791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34640" y="1752480"/>
            <a:ext cx="279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, dest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 address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masks, and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eighted Fair Queueing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FQ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1984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bandwidth to flows according to some agreed upon distrib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s are given a set of weights during signa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FQ can support bandwidth reserv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 the weights so that guaranteed flows get their bandwid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flows share bandwidth according to some sharing formula (e.g. equall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s have to be adjusted when flows leave and 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8680" y="2133720"/>
            <a:ext cx="2187720" cy="3962160"/>
          </a:xfrm>
          <a:prstGeom prst="rect">
            <a:avLst/>
          </a:prstGeom>
          <a:noFill/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4114800"/>
            <a:ext cx="609480" cy="0"/>
          </a:xfrm>
          <a:prstGeom prst="line">
            <a:avLst/>
          </a:prstGeom>
          <a:ln w="7632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242712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57800" y="288432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334332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846760" y="2266920"/>
            <a:ext cx="1244520" cy="311040"/>
            <a:chOff x="5846760" y="2266920"/>
            <a:chExt cx="1244520" cy="311040"/>
          </a:xfrm>
        </p:grpSpPr>
        <p:sp>
          <p:nvSpPr>
            <p:cNvPr id="438" name=""/>
            <p:cNvSpPr/>
            <p:nvPr/>
          </p:nvSpPr>
          <p:spPr>
            <a:xfrm>
              <a:off x="5846760" y="227304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46760" y="257796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62680" y="22669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34080" y="22669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05480" y="22669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76880" y="22669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1280" y="2266920"/>
              <a:ext cx="0" cy="304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846760" y="2724120"/>
            <a:ext cx="1244520" cy="311040"/>
            <a:chOff x="5846760" y="2724120"/>
            <a:chExt cx="1244520" cy="311040"/>
          </a:xfrm>
        </p:grpSpPr>
        <p:sp>
          <p:nvSpPr>
            <p:cNvPr id="446" name=""/>
            <p:cNvSpPr/>
            <p:nvPr/>
          </p:nvSpPr>
          <p:spPr>
            <a:xfrm>
              <a:off x="5846760" y="273024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6760" y="303516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62680" y="27241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34080" y="27241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05480" y="27241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6880" y="27241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91280" y="2724120"/>
              <a:ext cx="0" cy="304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846760" y="3181320"/>
            <a:ext cx="1244520" cy="311040"/>
            <a:chOff x="5846760" y="3181320"/>
            <a:chExt cx="1244520" cy="311040"/>
          </a:xfrm>
        </p:grpSpPr>
        <p:sp>
          <p:nvSpPr>
            <p:cNvPr id="454" name=""/>
            <p:cNvSpPr/>
            <p:nvPr/>
          </p:nvSpPr>
          <p:spPr>
            <a:xfrm>
              <a:off x="5846760" y="318744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46760" y="349236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62680" y="31813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34080" y="31813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05480" y="31813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6880" y="31813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91280" y="3181320"/>
              <a:ext cx="0" cy="304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257800" y="397044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442764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488628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846760" y="3809880"/>
            <a:ext cx="1244520" cy="311040"/>
            <a:chOff x="5846760" y="3809880"/>
            <a:chExt cx="1244520" cy="311040"/>
          </a:xfrm>
        </p:grpSpPr>
        <p:sp>
          <p:nvSpPr>
            <p:cNvPr id="465" name=""/>
            <p:cNvSpPr/>
            <p:nvPr/>
          </p:nvSpPr>
          <p:spPr>
            <a:xfrm>
              <a:off x="5846760" y="381600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46760" y="412092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62680" y="38098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4080" y="38098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05480" y="38098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6880" y="38098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91280" y="3809880"/>
              <a:ext cx="0" cy="304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846760" y="4267080"/>
            <a:ext cx="1244520" cy="311040"/>
            <a:chOff x="5846760" y="4267080"/>
            <a:chExt cx="1244520" cy="311040"/>
          </a:xfrm>
        </p:grpSpPr>
        <p:sp>
          <p:nvSpPr>
            <p:cNvPr id="473" name=""/>
            <p:cNvSpPr/>
            <p:nvPr/>
          </p:nvSpPr>
          <p:spPr>
            <a:xfrm>
              <a:off x="5846760" y="427320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46760" y="457812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62680" y="42670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34080" y="42670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05480" y="42670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76880" y="42670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91280" y="4267080"/>
              <a:ext cx="0" cy="304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846760" y="4724280"/>
            <a:ext cx="1244520" cy="311040"/>
            <a:chOff x="5846760" y="4724280"/>
            <a:chExt cx="1244520" cy="311040"/>
          </a:xfrm>
        </p:grpSpPr>
        <p:sp>
          <p:nvSpPr>
            <p:cNvPr id="481" name=""/>
            <p:cNvSpPr/>
            <p:nvPr/>
          </p:nvSpPr>
          <p:spPr>
            <a:xfrm>
              <a:off x="5846760" y="473040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46760" y="503532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62680" y="47242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34080" y="47242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05480" y="47242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76880" y="47242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91280" y="4724280"/>
              <a:ext cx="0" cy="304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7164360" y="2209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6436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64360" y="31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534348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846760" y="5181480"/>
            <a:ext cx="1244520" cy="311040"/>
            <a:chOff x="5846760" y="5181480"/>
            <a:chExt cx="1244520" cy="311040"/>
          </a:xfrm>
        </p:grpSpPr>
        <p:sp>
          <p:nvSpPr>
            <p:cNvPr id="493" name=""/>
            <p:cNvSpPr/>
            <p:nvPr/>
          </p:nvSpPr>
          <p:spPr>
            <a:xfrm>
              <a:off x="5846760" y="518760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46760" y="549252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62680" y="51814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34080" y="51814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5480" y="51814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76880" y="51814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91280" y="5181480"/>
              <a:ext cx="0" cy="304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257800" y="5562720"/>
            <a:ext cx="2392200" cy="459720"/>
            <a:chOff x="5257800" y="5562720"/>
            <a:chExt cx="2392200" cy="459720"/>
          </a:xfrm>
        </p:grpSpPr>
        <p:sp>
          <p:nvSpPr>
            <p:cNvPr id="501" name=""/>
            <p:cNvSpPr/>
            <p:nvPr/>
          </p:nvSpPr>
          <p:spPr>
            <a:xfrm>
              <a:off x="5257800" y="5800680"/>
              <a:ext cx="35568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846760" y="5638680"/>
              <a:ext cx="1244520" cy="311040"/>
              <a:chOff x="5846760" y="5638680"/>
              <a:chExt cx="1244520" cy="311040"/>
            </a:xfrm>
          </p:grpSpPr>
          <p:sp>
            <p:nvSpPr>
              <p:cNvPr id="503" name=""/>
              <p:cNvSpPr/>
              <p:nvPr/>
            </p:nvSpPr>
            <p:spPr>
              <a:xfrm>
                <a:off x="5846760" y="5644800"/>
                <a:ext cx="124452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46760" y="5949720"/>
                <a:ext cx="124452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62680" y="56386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34080" y="56386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405480" y="56386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176880" y="56386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91280" y="5638680"/>
                <a:ext cx="0" cy="30456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7164360" y="5562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257800" y="6095880"/>
            <a:ext cx="1833480" cy="311040"/>
            <a:chOff x="5257800" y="6095880"/>
            <a:chExt cx="1833480" cy="311040"/>
          </a:xfrm>
        </p:grpSpPr>
        <p:sp>
          <p:nvSpPr>
            <p:cNvPr id="512" name=""/>
            <p:cNvSpPr/>
            <p:nvPr/>
          </p:nvSpPr>
          <p:spPr>
            <a:xfrm>
              <a:off x="5257800" y="6257880"/>
              <a:ext cx="35568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846760" y="6095880"/>
              <a:ext cx="1244520" cy="311040"/>
              <a:chOff x="5846760" y="6095880"/>
              <a:chExt cx="1244520" cy="311040"/>
            </a:xfrm>
          </p:grpSpPr>
          <p:sp>
            <p:nvSpPr>
              <p:cNvPr id="514" name=""/>
              <p:cNvSpPr/>
              <p:nvPr/>
            </p:nvSpPr>
            <p:spPr>
              <a:xfrm>
                <a:off x="5846760" y="6102000"/>
                <a:ext cx="124452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46760" y="6406920"/>
                <a:ext cx="124452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62680" y="60958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634080" y="60958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05480" y="60958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176880" y="60958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91280" y="6095880"/>
                <a:ext cx="0" cy="30456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1" name=""/>
          <p:cNvSpPr/>
          <p:nvPr/>
        </p:nvSpPr>
        <p:spPr>
          <a:xfrm>
            <a:off x="71643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6436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64360" y="464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6436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238520" y="3733920"/>
            <a:ext cx="989280" cy="2745720"/>
            <a:chOff x="7238520" y="3733920"/>
            <a:chExt cx="989280" cy="2745720"/>
          </a:xfrm>
        </p:grpSpPr>
        <p:sp>
          <p:nvSpPr>
            <p:cNvPr id="526" name=""/>
            <p:cNvSpPr/>
            <p:nvPr/>
          </p:nvSpPr>
          <p:spPr>
            <a:xfrm>
              <a:off x="7437240" y="37339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37240" y="41911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37240" y="4648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37240" y="51055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37240" y="55627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5560" y="60199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7238520" y="3886200"/>
              <a:ext cx="30492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7238520" y="4343400"/>
              <a:ext cx="30492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7238520" y="4800600"/>
              <a:ext cx="30492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7238520" y="5257800"/>
              <a:ext cx="30492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7238520" y="5715000"/>
              <a:ext cx="30492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nforcement - Exampl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984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have to limit the traffic that each user can inject in the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 to stay within agreed upon bou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we do this for bursty traffi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ing interval is important: seconds, hours,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ken bucket supports enforcement for bursty traffic: limits a long term average rate and a burst r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97680" y="4341960"/>
            <a:ext cx="915840" cy="763560"/>
          </a:xfrm>
          <a:custGeom>
            <a:avLst/>
            <a:gdLst/>
            <a:ahLst/>
            <a:rect l="l" t="t" r="r" b="b"/>
            <a:pathLst>
              <a:path w="577" h="481">
                <a:moveTo>
                  <a:pt x="0" y="0"/>
                </a:moveTo>
                <a:lnTo>
                  <a:pt x="576" y="0"/>
                </a:lnTo>
                <a:lnTo>
                  <a:pt x="461" y="480"/>
                </a:lnTo>
                <a:lnTo>
                  <a:pt x="115" y="480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4127400"/>
            <a:ext cx="13456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04200" y="393876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at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59240" y="4471920"/>
            <a:ext cx="81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z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313524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454880" y="3649680"/>
            <a:ext cx="0" cy="69840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454880" y="3567240"/>
            <a:ext cx="0" cy="10152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89960" y="3351240"/>
            <a:ext cx="749160" cy="0"/>
          </a:xfrm>
          <a:prstGeom prst="line">
            <a:avLst/>
          </a:prstGeom>
          <a:ln w="1260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473800" y="3046320"/>
            <a:ext cx="939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473800" y="3656160"/>
            <a:ext cx="939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351240"/>
            <a:ext cx="596880" cy="0"/>
          </a:xfrm>
          <a:prstGeom prst="line">
            <a:avLst/>
          </a:prstGeom>
          <a:ln w="1260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88200" y="3351240"/>
            <a:ext cx="831600" cy="0"/>
          </a:xfrm>
          <a:prstGeom prst="line">
            <a:avLst/>
          </a:prstGeom>
          <a:ln w="1260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00800" y="3059280"/>
            <a:ext cx="0" cy="583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248520" y="3059280"/>
            <a:ext cx="0" cy="583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3059280"/>
            <a:ext cx="0" cy="583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059280"/>
            <a:ext cx="0" cy="583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91320" y="3059280"/>
            <a:ext cx="0" cy="583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 Short History of Internet Qo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of initial research in the late 80s and early 90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takes a telecommunications view of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 QoS and Integrated services were developed based on these res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still on per-flow, hard Q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ast 5 years, the focus has shifted to differentiated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is on QoS for flow aggregates, e.g. all the flows belonging to one custo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mmediate user is really the network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ervice Model of a Network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of services supported by that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 coherent offering that satisfies a wide range of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types of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ive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: constant bit rate, variable bit rate, unreliable bit rate, available bit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F Integrated services (IntServ): best effort, controlled load, guaranteed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F Differentiated services (DiffServ): defines set of mechanisms, not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ETF IntServ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98432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per-flow Q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specific applications such as video strea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 on mathematical guarante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concer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it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abilit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model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ing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37200" y="2063880"/>
            <a:ext cx="2171520" cy="761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27400" y="3733920"/>
            <a:ext cx="150516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1520" y="3733920"/>
            <a:ext cx="150516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34000" y="2851200"/>
            <a:ext cx="406440" cy="86364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1120" y="5410080"/>
            <a:ext cx="122580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W,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aran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40280" y="5416560"/>
            <a:ext cx="122544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88200" y="5416560"/>
            <a:ext cx="122544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ir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89960" y="5416560"/>
            <a:ext cx="122544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51320" y="4495680"/>
            <a:ext cx="406440" cy="86364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950240" y="4527720"/>
            <a:ext cx="406440" cy="8632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5466960" y="2851200"/>
            <a:ext cx="406440" cy="86364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184280" y="4495680"/>
            <a:ext cx="406440" cy="86364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883560" y="4527720"/>
            <a:ext cx="406080" cy="8632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harging for Network Servic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t charge: you pay a flat fee, independent from us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bage pick up (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ge charging: you pay for what you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, electricity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: you pay for the thickness of the pi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equal to potential use or peak u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needed: bilateral agreements between ISPs to deal with cross ISP traf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of the early work on QoS would require usage based charging, if deploy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pay on a per connection ba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rns for increased complexity and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66640" y="77400"/>
            <a:ext cx="816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ifferentiated Services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tivation and Desig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fine grain enforcement only at the edge of the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ly slower links at ed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mail sorting in post off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packets with a type fi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a priority sta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re of the network uses only the type field for QoS manag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number of types with well defined behavi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handled f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expedited service versus best effo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tion rather than revol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10080" y="2819520"/>
            <a:ext cx="2667240" cy="2743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715000" y="4572000"/>
            <a:ext cx="609480" cy="380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324480" y="4343040"/>
            <a:ext cx="1067040" cy="1522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324480" y="3733920"/>
            <a:ext cx="381240" cy="7617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7467480" y="4267080"/>
            <a:ext cx="533520" cy="457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6400440" y="4495680"/>
            <a:ext cx="609480" cy="990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781680" y="3047760"/>
            <a:ext cx="609840" cy="609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019920" y="304776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6705720" y="358092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010280" y="4266720"/>
            <a:ext cx="381240" cy="1219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67280" y="2895480"/>
            <a:ext cx="38124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2819520"/>
            <a:ext cx="38124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86400" y="480060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772400" y="449568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533412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251460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086600" y="5715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153280" y="48769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5181480" y="518112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7543440" y="2438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350532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411480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172200" y="4343400"/>
            <a:ext cx="38088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171840" y="2286000"/>
            <a:ext cx="228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53160" y="1612800"/>
            <a:ext cx="150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sha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228600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User Datagram Protoc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used for (de)multiplex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numbers = connection/application end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-end reliability through optional end-to-end checks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s against any data corruption errors between source and destination (links, switches/routers, b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protect against packet loss, duplication or re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sum is very si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5283360"/>
            <a:ext cx="1803600" cy="3538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43360" y="5283360"/>
            <a:ext cx="1803600" cy="3538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. 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4560" y="5662440"/>
            <a:ext cx="1803600" cy="3574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3360" y="5662440"/>
            <a:ext cx="1803600" cy="3574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iffServ Charging Models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buys into a specific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nze, gold, sil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gets service in a number of classes and sorts traffic according to prior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telephony and president get expedited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 get best eff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rting is based on classif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 “speed up” button to the brows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tient users can switch to a higher class (as a higher cost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est grain user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2819520"/>
            <a:ext cx="2667240" cy="2743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715000" y="4572000"/>
            <a:ext cx="609480" cy="380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324480" y="4343040"/>
            <a:ext cx="1067040" cy="1522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6324480" y="3733920"/>
            <a:ext cx="381240" cy="7617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7467480" y="4267080"/>
            <a:ext cx="533520" cy="457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6400440" y="4495680"/>
            <a:ext cx="609480" cy="990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781680" y="3047760"/>
            <a:ext cx="609840" cy="609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6019920" y="304776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6705720" y="358092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010280" y="4266720"/>
            <a:ext cx="381240" cy="1219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67280" y="2895480"/>
            <a:ext cx="38124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38880" y="2819520"/>
            <a:ext cx="38124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86400" y="480060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772400" y="449568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58000" y="533412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562720" y="251460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715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153280" y="48769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257800" y="518112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543440" y="2438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52880" y="198108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24280" y="541008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20120" y="182880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1880" y="510552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350532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238880" y="411480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172200" y="4343400"/>
            <a:ext cx="38088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source Reservation Protocol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(RSVP)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984320"/>
            <a:ext cx="389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ing protocol that establishes connections in the Inter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Serv, Diff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 goal: establish “state” in each of the routers so they “know” how they should treat flow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 = packet classifier parameters, bandwidth reservation, 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s periodic refresh to deal with failures and recove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 on receiver initiated operation (like multicas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819520"/>
            <a:ext cx="2667240" cy="2743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53080" y="350532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8880" y="411480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72200" y="4343400"/>
            <a:ext cx="38088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715000" y="4572000"/>
            <a:ext cx="609480" cy="380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324480" y="4343040"/>
            <a:ext cx="1067040" cy="1522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324480" y="3733920"/>
            <a:ext cx="381240" cy="7617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7467480" y="4267080"/>
            <a:ext cx="533520" cy="457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6400440" y="4495680"/>
            <a:ext cx="609480" cy="990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3047760"/>
            <a:ext cx="609840" cy="609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019920" y="304776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6705720" y="358092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010280" y="4266720"/>
            <a:ext cx="381240" cy="1219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67280" y="2895480"/>
            <a:ext cx="38124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819520"/>
            <a:ext cx="38124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86400" y="480060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772400" y="449568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0" y="533412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62720" y="251460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6600" y="5715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153280" y="48769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257800" y="518112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543440" y="2438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52880" y="198108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724280" y="541008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20120" y="182880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48520" y="3124080"/>
            <a:ext cx="304560" cy="3049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10280" y="3733920"/>
            <a:ext cx="304920" cy="30456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20120" y="4267080"/>
            <a:ext cx="304560" cy="3049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38680" y="2438280"/>
            <a:ext cx="304920" cy="38124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381880" y="510552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229600" y="4876920"/>
            <a:ext cx="304920" cy="30456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olicy Issues 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6480" y="1905120"/>
            <a:ext cx="365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QoS solution must include mechanisms for implementing a range of polic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gets to use what service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P: payment drives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other environment, administrative policies are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omponents is to use a directory service for policy manag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rs can enter 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entities can retrieve the policies they n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562720" y="3657600"/>
            <a:ext cx="2133360" cy="11430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29400" y="2895480"/>
            <a:ext cx="0" cy="76212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47560" y="2403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67280" y="4800600"/>
            <a:ext cx="0" cy="762120"/>
          </a:xfrm>
          <a:prstGeom prst="line">
            <a:avLst/>
          </a:prstGeom>
          <a:ln w="381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248520" y="4800600"/>
            <a:ext cx="0" cy="762120"/>
          </a:xfrm>
          <a:prstGeom prst="line">
            <a:avLst/>
          </a:prstGeom>
          <a:ln w="381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629400" y="4800600"/>
            <a:ext cx="0" cy="762120"/>
          </a:xfrm>
          <a:prstGeom prst="line">
            <a:avLst/>
          </a:prstGeom>
          <a:ln w="381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4800600"/>
            <a:ext cx="0" cy="762120"/>
          </a:xfrm>
          <a:prstGeom prst="line">
            <a:avLst/>
          </a:prstGeom>
          <a:ln w="381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391520" y="4800600"/>
            <a:ext cx="0" cy="762120"/>
          </a:xfrm>
          <a:prstGeom prst="line">
            <a:avLst/>
          </a:prstGeom>
          <a:ln w="381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22080" y="55278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mmon Open Policy Service (COPS) Protoc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s have a “Policy Enforcement Point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responsible for enforcing policies when a request for resources is handl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RSVP router performing policy based admission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S defines the interaction between the PEP and the policy ser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P issues policy request through an RP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action is based on long-term session that can have state at both e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hronous streaming of information to PE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ing information on the PE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00800" y="2666880"/>
            <a:ext cx="1447920" cy="914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48520" y="5029200"/>
            <a:ext cx="1828800" cy="68580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48520" y="4114800"/>
            <a:ext cx="1828800" cy="838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15200" y="4191120"/>
            <a:ext cx="68580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S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4495680"/>
            <a:ext cx="68580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360" y="358128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7848720" y="21337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ing Research at CMU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eter Steenkist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chool of Computer Sci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arnegie Mellon University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http://www.cs.cmu.edu/~pr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quality of serv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win: customizable network quality of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: scalable electronic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traffic repor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less, mobile, and ad hoc network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arch: mobile and ad hoc net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 management on wireless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Andr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erformance network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gabit Nectar and Credit 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Generation Inter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6480" y="380520"/>
            <a:ext cx="716292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ing Facult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1760" y="1679040"/>
            <a:ext cx="784836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Johnson - Mon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IP for IP v4 and v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protocols for ad hoc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i Zha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ical scheduling and core-stateless Q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ast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performance net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-oriented Q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monito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bandwidth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tiv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interface that supports both monitoring and adaptation of network resour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reports on expected performance so services can adapt pro-activ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r increase bandwidth, move to different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e the Remos Quorum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the network resources to deliver the performance the services ne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ve use of reservations can improve predict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e the Darwin Quorum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arwin Motivation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pplications versus Network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7" name=""/>
          <p:cNvSpPr/>
          <p:nvPr/>
        </p:nvSpPr>
        <p:spPr>
          <a:xfrm>
            <a:off x="2254320" y="1682640"/>
            <a:ext cx="144756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nhan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44960" y="1682640"/>
            <a:ext cx="144792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3680" y="1682640"/>
            <a:ext cx="144756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92280" y="2901960"/>
            <a:ext cx="144756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82840" y="2749680"/>
            <a:ext cx="144792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638520" y="3384720"/>
            <a:ext cx="432000" cy="40608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4552920" y="2394000"/>
            <a:ext cx="279360" cy="33012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03280" y="3537000"/>
            <a:ext cx="558720" cy="40644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78280" y="2394000"/>
            <a:ext cx="0" cy="55872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5800" y="4475160"/>
            <a:ext cx="155304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467000" y="3892680"/>
            <a:ext cx="4546440" cy="2580120"/>
            <a:chOff x="1467000" y="3892680"/>
            <a:chExt cx="4546440" cy="2580120"/>
          </a:xfrm>
        </p:grpSpPr>
        <p:sp>
          <p:nvSpPr>
            <p:cNvPr id="708" name=""/>
            <p:cNvSpPr/>
            <p:nvPr/>
          </p:nvSpPr>
          <p:spPr>
            <a:xfrm>
              <a:off x="2762280" y="6114960"/>
              <a:ext cx="66024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946760" y="4133880"/>
              <a:ext cx="17784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65600" y="5746680"/>
              <a:ext cx="1092240" cy="406440"/>
            </a:xfrm>
            <a:prstGeom prst="line">
              <a:avLst/>
            </a:prstGeom>
            <a:ln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3409920" y="4857480"/>
              <a:ext cx="355680" cy="888840"/>
            </a:xfrm>
            <a:prstGeom prst="line">
              <a:avLst/>
            </a:prstGeom>
            <a:ln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3561840" y="4857840"/>
              <a:ext cx="660600" cy="27936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5009760" y="4908600"/>
              <a:ext cx="584280" cy="1092240"/>
            </a:xfrm>
            <a:prstGeom prst="line">
              <a:avLst/>
            </a:prstGeom>
            <a:ln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67000" y="459108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17680" y="5213520"/>
              <a:ext cx="406440" cy="78732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2723760" y="4984920"/>
              <a:ext cx="660600" cy="101592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76480" y="413388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498840" y="4286160"/>
              <a:ext cx="10152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43160" y="4286160"/>
              <a:ext cx="20340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28760" y="4438800"/>
              <a:ext cx="5076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71560" y="481968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076480" y="6089760"/>
              <a:ext cx="50796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76480" y="5734080"/>
              <a:ext cx="5842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2851200" y="5695920"/>
              <a:ext cx="863640" cy="355680"/>
            </a:xfrm>
            <a:prstGeom prst="line">
              <a:avLst/>
            </a:prstGeom>
            <a:ln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44960" y="4959360"/>
              <a:ext cx="304920" cy="304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3714480" y="5289480"/>
              <a:ext cx="507960" cy="406440"/>
            </a:xfrm>
            <a:prstGeom prst="line">
              <a:avLst/>
            </a:prstGeom>
            <a:ln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673360" y="4654440"/>
              <a:ext cx="304920" cy="3049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342880" y="4832280"/>
              <a:ext cx="431640" cy="33012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2952720" y="4781160"/>
              <a:ext cx="355680" cy="12708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82840" y="4730760"/>
              <a:ext cx="304920" cy="3049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87760" y="5568840"/>
              <a:ext cx="304920" cy="304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97040" y="5873760"/>
              <a:ext cx="304920" cy="3049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139840" y="5035680"/>
              <a:ext cx="304920" cy="30456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92880" y="3892680"/>
              <a:ext cx="304560" cy="304560"/>
            </a:xfrm>
            <a:prstGeom prst="ellipse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22800" y="5289480"/>
              <a:ext cx="711000" cy="78732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022720" y="5734080"/>
              <a:ext cx="71136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708520" y="4793760"/>
              <a:ext cx="17784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5099040" y="6165360"/>
              <a:ext cx="558720" cy="10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645160" y="4210200"/>
              <a:ext cx="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0760" y="4578480"/>
              <a:ext cx="304920" cy="30456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248000" y="4756320"/>
              <a:ext cx="508320" cy="33012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5009760" y="4704840"/>
              <a:ext cx="507960" cy="12708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92880" y="4654440"/>
              <a:ext cx="304560" cy="3049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07080" y="5950080"/>
              <a:ext cx="304560" cy="30456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9360" y="3892680"/>
              <a:ext cx="304920" cy="304560"/>
            </a:xfrm>
            <a:prstGeom prst="ellipse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81800" y="558180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57560" y="4438800"/>
              <a:ext cx="127080" cy="66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24200" y="558180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81800" y="611496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847880" y="603900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44960" y="4959360"/>
              <a:ext cx="304920" cy="3049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35480" y="6026040"/>
              <a:ext cx="304560" cy="304920"/>
            </a:xfrm>
            <a:prstGeom prst="ellipse">
              <a:avLst/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717000" y="6064200"/>
              <a:ext cx="8856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chi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34080" y="512460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88520" y="4083120"/>
              <a:ext cx="9511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78280" y="4121280"/>
              <a:ext cx="304560" cy="304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435480" y="4121280"/>
              <a:ext cx="304560" cy="304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92680" y="4273560"/>
              <a:ext cx="304560" cy="30492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445000" y="1871640"/>
            <a:ext cx="36043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w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edic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igh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, where qu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n </a:t>
            </a:r>
            <a:r>
              <a:rPr b="1" lang="en-US" sz="2400" spc="-1" strike="noStrike">
                <a:solidFill>
                  <a:srgbClr val="438e00"/>
                </a:solidFill>
                <a:latin typeface="Arial"/>
              </a:rPr>
              <a:t>applic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Arial"/>
              </a:rPr>
              <a:t>user-specif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137280" y="4157640"/>
            <a:ext cx="2822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of dive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Arial"/>
              </a:rPr>
              <a:t>generic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ha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ng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51000" y="2394000"/>
            <a:ext cx="330120" cy="33012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5257800" y="3048120"/>
            <a:ext cx="96840" cy="251460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3048120"/>
            <a:ext cx="1066680" cy="228600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86400" y="3048120"/>
            <a:ext cx="782640" cy="243828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449520" y="3048120"/>
            <a:ext cx="1579680" cy="228600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24280" y="2286000"/>
            <a:ext cx="1447920" cy="838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n Architecture for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User-oriented Qo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1523880"/>
            <a:ext cx="1219320" cy="7621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91120" y="1981080"/>
            <a:ext cx="609480" cy="38124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412040" y="1905120"/>
            <a:ext cx="1219320" cy="76176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680" y="5280120"/>
            <a:ext cx="2984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rs guara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proper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raffic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895480" y="5213520"/>
            <a:ext cx="6019920" cy="1214280"/>
            <a:chOff x="2895480" y="5213520"/>
            <a:chExt cx="6019920" cy="1214280"/>
          </a:xfrm>
        </p:grpSpPr>
        <p:sp>
          <p:nvSpPr>
            <p:cNvPr id="773" name=""/>
            <p:cNvSpPr/>
            <p:nvPr/>
          </p:nvSpPr>
          <p:spPr>
            <a:xfrm flipH="1">
              <a:off x="4820760" y="5335560"/>
              <a:ext cx="30492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125680" y="5884920"/>
              <a:ext cx="24444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197840" y="5457960"/>
              <a:ext cx="3664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969320" y="6111720"/>
              <a:ext cx="62532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8163000" y="5644800"/>
              <a:ext cx="5000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99280" y="5788080"/>
              <a:ext cx="649440" cy="12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92800" y="5896080"/>
              <a:ext cx="43488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445000" y="5889600"/>
              <a:ext cx="84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827680" y="5896080"/>
              <a:ext cx="52560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5842080" y="5781240"/>
              <a:ext cx="138888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65880" y="5781600"/>
              <a:ext cx="82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65880" y="5788080"/>
              <a:ext cx="69228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265880" y="5775480"/>
              <a:ext cx="820800" cy="47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24560" y="6098760"/>
              <a:ext cx="570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4800600" y="5380200"/>
              <a:ext cx="1176480" cy="33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62200" y="5553000"/>
              <a:ext cx="24624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525480" y="5746680"/>
              <a:ext cx="35892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32440" y="5510160"/>
              <a:ext cx="479520" cy="26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70520" y="5380200"/>
              <a:ext cx="1041480" cy="14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84760" y="5746680"/>
              <a:ext cx="436320" cy="37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3935520" y="5740560"/>
              <a:ext cx="84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320720" y="5748480"/>
              <a:ext cx="522360" cy="37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843440" y="5748480"/>
              <a:ext cx="49860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334040" y="5864040"/>
              <a:ext cx="113796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852720" y="5373360"/>
              <a:ext cx="66060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346720" y="5457960"/>
              <a:ext cx="585720" cy="38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205080" y="5781600"/>
              <a:ext cx="66672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954760" y="5432400"/>
              <a:ext cx="35388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296040" y="5808600"/>
              <a:ext cx="934920" cy="46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13320" y="5373720"/>
              <a:ext cx="28872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432480" y="5775480"/>
              <a:ext cx="81936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32040" y="5702400"/>
              <a:ext cx="34164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429760" y="6129360"/>
              <a:ext cx="379440" cy="2365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164120" y="6022800"/>
              <a:ext cx="34272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96240" y="5702400"/>
              <a:ext cx="34272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43760" y="5702400"/>
              <a:ext cx="34128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43760" y="6129360"/>
              <a:ext cx="341280" cy="1792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189840" y="5737320"/>
              <a:ext cx="34272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64320" y="5310360"/>
              <a:ext cx="341280" cy="1774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57760" y="6129360"/>
              <a:ext cx="341280" cy="1792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00680" y="5416560"/>
              <a:ext cx="34308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76760" y="5630760"/>
              <a:ext cx="34128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08480" y="5808600"/>
              <a:ext cx="34308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72120" y="5273640"/>
              <a:ext cx="34272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788240" y="6022800"/>
              <a:ext cx="34308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535960" y="5808600"/>
              <a:ext cx="379440" cy="2365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535960" y="5487840"/>
              <a:ext cx="379440" cy="2365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59160" y="6022800"/>
              <a:ext cx="379440" cy="23688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92320" y="5786280"/>
              <a:ext cx="379440" cy="2365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52960" y="5380200"/>
              <a:ext cx="379080" cy="2379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741840" y="5729400"/>
              <a:ext cx="122040" cy="1220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53200" y="5729400"/>
              <a:ext cx="120600" cy="1220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00720" y="5762520"/>
              <a:ext cx="122400" cy="1224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19720" y="5837400"/>
              <a:ext cx="120600" cy="1220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786200" y="5657760"/>
              <a:ext cx="120600" cy="1224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05680" y="5729400"/>
              <a:ext cx="122400" cy="1220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419640" y="5518080"/>
              <a:ext cx="365040" cy="24444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3784680" y="5702040"/>
              <a:ext cx="1036440" cy="601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821120" y="5702400"/>
              <a:ext cx="549360" cy="1825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5370480" y="5824440"/>
              <a:ext cx="974880" cy="604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6345360" y="5762520"/>
              <a:ext cx="852480" cy="619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97840" y="5762520"/>
              <a:ext cx="85392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8051760" y="5579640"/>
              <a:ext cx="669960" cy="1825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43520" y="5213520"/>
              <a:ext cx="379440" cy="23652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43520" y="6191280"/>
              <a:ext cx="379440" cy="23652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81800" y="5335560"/>
              <a:ext cx="379440" cy="23652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065560" y="5273640"/>
              <a:ext cx="120960" cy="1224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4821120" y="5335200"/>
              <a:ext cx="304920" cy="36684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02400" y="5396040"/>
              <a:ext cx="122400" cy="12204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197840" y="5457960"/>
              <a:ext cx="366480" cy="304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051760" y="5762520"/>
              <a:ext cx="669960" cy="12240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95480" y="556272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5600" y="3527280"/>
            <a:ext cx="6858720" cy="2297160"/>
            <a:chOff x="75600" y="3527280"/>
            <a:chExt cx="6858720" cy="2297160"/>
          </a:xfrm>
        </p:grpSpPr>
        <p:sp>
          <p:nvSpPr>
            <p:cNvPr id="846" name=""/>
            <p:cNvSpPr/>
            <p:nvPr/>
          </p:nvSpPr>
          <p:spPr>
            <a:xfrm>
              <a:off x="4943520" y="5029200"/>
              <a:ext cx="304920" cy="244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62840" y="5518080"/>
              <a:ext cx="304560" cy="244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97240" y="5273640"/>
              <a:ext cx="304920" cy="244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86520" y="5580000"/>
              <a:ext cx="304560" cy="244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629400" y="5257800"/>
              <a:ext cx="304920" cy="244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600" y="3527280"/>
              <a:ext cx="28767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legates man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user’s networ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sources at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19520" y="3962520"/>
              <a:ext cx="2209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8001000" y="2666880"/>
            <a:ext cx="0" cy="266724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77040" y="1787400"/>
            <a:ext cx="8478000" cy="3927600"/>
            <a:chOff x="77040" y="1787400"/>
            <a:chExt cx="8478000" cy="3927600"/>
          </a:xfrm>
        </p:grpSpPr>
        <p:sp>
          <p:nvSpPr>
            <p:cNvPr id="855" name=""/>
            <p:cNvSpPr/>
            <p:nvPr/>
          </p:nvSpPr>
          <p:spPr>
            <a:xfrm flipH="1">
              <a:off x="7183440" y="2590920"/>
              <a:ext cx="588960" cy="990360"/>
            </a:xfrm>
            <a:prstGeom prst="line">
              <a:avLst/>
            </a:prstGeom>
            <a:ln cap="rnd" w="38160">
              <a:solidFill>
                <a:srgbClr val="fc0128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48720" y="2666880"/>
              <a:ext cx="60948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07120" y="3809880"/>
              <a:ext cx="914400" cy="1905120"/>
            </a:xfrm>
            <a:prstGeom prst="line">
              <a:avLst/>
            </a:prstGeom>
            <a:ln cap="rnd" w="38160">
              <a:solidFill>
                <a:srgbClr val="618ffd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88360" y="3809880"/>
              <a:ext cx="1066680" cy="1676520"/>
            </a:xfrm>
            <a:prstGeom prst="line">
              <a:avLst/>
            </a:prstGeom>
            <a:ln cap="rnd" w="38160">
              <a:solidFill>
                <a:srgbClr val="618ffd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26240" y="3809880"/>
              <a:ext cx="457200" cy="1676520"/>
            </a:xfrm>
            <a:prstGeom prst="line">
              <a:avLst/>
            </a:prstGeom>
            <a:ln cap="rnd" w="38160">
              <a:solidFill>
                <a:srgbClr val="618ffd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040" y="1787400"/>
              <a:ext cx="28414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source Brok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form glob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source al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 behalf of the 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19520" y="2590920"/>
              <a:ext cx="19047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4724280" y="3124080"/>
              <a:ext cx="1447560" cy="838440"/>
              <a:chOff x="4724280" y="3124080"/>
              <a:chExt cx="1447560" cy="838440"/>
            </a:xfrm>
          </p:grpSpPr>
          <p:sp>
            <p:nvSpPr>
              <p:cNvPr id="863" name=""/>
              <p:cNvSpPr/>
              <p:nvPr/>
            </p:nvSpPr>
            <p:spPr>
              <a:xfrm>
                <a:off x="4724280" y="3124080"/>
                <a:ext cx="1447560" cy="8384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00240" y="3200400"/>
                <a:ext cx="1295640" cy="685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Resour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rok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6477120" y="3581280"/>
              <a:ext cx="1295280" cy="685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rok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Using UDP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standard protocols can be implemented on top of UD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standard = non-TCP in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addressing provided by UD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their own reliability, flow control, ordering, congestion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 procedure c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computing communication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at some examples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source Brokers Perform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Global Resource Alloc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911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high-level user request onto a set of resources using domain knowl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includes cost constraints and QoS metr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1.5 Mbs for MPEG-1 vide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alternate mappings, e.g. use compression or no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e quality of service or c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“the best” mapping op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eoffs across resource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otiate with user about o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086440" y="2819520"/>
            <a:ext cx="3733560" cy="1904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257800" y="2895480"/>
            <a:ext cx="167652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943600" y="3962520"/>
            <a:ext cx="205740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09588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78760" y="1600200"/>
            <a:ext cx="136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193080" y="5105520"/>
            <a:ext cx="158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48080" y="1600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0102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010280" y="2895480"/>
            <a:ext cx="167652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4872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095880" y="35812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7619760" y="35812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7315200" y="3124080"/>
            <a:ext cx="152280" cy="8384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6629040" y="1905120"/>
            <a:ext cx="228600" cy="12189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at is (Application-level)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 Quality of Service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03884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-level QoS is inherently a vague conce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quality of service of a distance learning applicati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and user specific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we want to optimize QoS automatically, we must be able to quantify Q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8229600" y="1828800"/>
          <a:ext cx="3477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1828800"/>
                    <a:ext cx="347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5638680" y="1752480"/>
          <a:ext cx="5079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752480"/>
                    <a:ext cx="507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8" name=""/>
          <p:cNvSpPr/>
          <p:nvPr/>
        </p:nvSpPr>
        <p:spPr>
          <a:xfrm>
            <a:off x="5867280" y="2590920"/>
            <a:ext cx="91440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238880" y="3124080"/>
            <a:ext cx="91440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943600" y="3276720"/>
            <a:ext cx="68580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7467480" y="2362320"/>
            <a:ext cx="68580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7162920" y="2285640"/>
            <a:ext cx="22860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705720" y="3123720"/>
            <a:ext cx="75960" cy="1219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324480" y="2590920"/>
            <a:ext cx="1447920" cy="1218960"/>
          </a:xfrm>
          <a:prstGeom prst="cloudCallout">
            <a:avLst>
              <a:gd name="adj1" fmla="val -8004"/>
              <a:gd name="adj2" fmla="val 6379"/>
            </a:avLst>
          </a:prstGeom>
          <a:solidFill>
            <a:srgbClr val="c1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5638680" y="2971800"/>
          <a:ext cx="50796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2971800"/>
                    <a:ext cx="507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"/>
          <p:cNvGraphicFramePr/>
          <p:nvPr/>
        </p:nvGraphicFramePr>
        <p:xfrm>
          <a:off x="8153280" y="2971800"/>
          <a:ext cx="50796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53280" y="2971800"/>
                    <a:ext cx="507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/>
          <p:nvPr/>
        </p:nvSpPr>
        <p:spPr>
          <a:xfrm>
            <a:off x="5606280" y="4724280"/>
            <a:ext cx="33066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Frame Rate &g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Frame Size &gt; 6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Response Time &lt;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Cost &lt;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QoS = (3 x FR + 1/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78560" y="301608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ndwid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6324480" y="1638360"/>
            <a:ext cx="698760" cy="647640"/>
            <a:chOff x="6324480" y="1638360"/>
            <a:chExt cx="698760" cy="647640"/>
          </a:xfrm>
        </p:grpSpPr>
        <p:pic>
          <p:nvPicPr>
            <p:cNvPr id="902" name="" descr=""/>
            <p:cNvPicPr/>
            <p:nvPr/>
          </p:nvPicPr>
          <p:blipFill>
            <a:blip r:embed="rId9"/>
            <a:stretch/>
          </p:blipFill>
          <p:spPr>
            <a:xfrm>
              <a:off x="6324480" y="1676520"/>
              <a:ext cx="698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6538680" y="1638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086600" y="1638360"/>
            <a:ext cx="698400" cy="647640"/>
            <a:chOff x="7086600" y="1638360"/>
            <a:chExt cx="698400" cy="647640"/>
          </a:xfrm>
        </p:grpSpPr>
        <p:pic>
          <p:nvPicPr>
            <p:cNvPr id="905" name="" descr=""/>
            <p:cNvPicPr/>
            <p:nvPr/>
          </p:nvPicPr>
          <p:blipFill>
            <a:blip r:embed="rId10"/>
            <a:stretch/>
          </p:blipFill>
          <p:spPr>
            <a:xfrm>
              <a:off x="7086600" y="1676520"/>
              <a:ext cx="698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7300440" y="1638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6324480" y="3886200"/>
            <a:ext cx="698760" cy="647640"/>
            <a:chOff x="6324480" y="3886200"/>
            <a:chExt cx="698760" cy="647640"/>
          </a:xfrm>
        </p:grpSpPr>
        <p:pic>
          <p:nvPicPr>
            <p:cNvPr id="908" name="" descr=""/>
            <p:cNvPicPr/>
            <p:nvPr/>
          </p:nvPicPr>
          <p:blipFill>
            <a:blip r:embed="rId11"/>
            <a:stretch/>
          </p:blipFill>
          <p:spPr>
            <a:xfrm>
              <a:off x="6324480" y="3924360"/>
              <a:ext cx="698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6538680" y="388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086600" y="3886200"/>
            <a:ext cx="698400" cy="647640"/>
            <a:chOff x="7086600" y="3886200"/>
            <a:chExt cx="698400" cy="647640"/>
          </a:xfrm>
        </p:grpSpPr>
        <p:pic>
          <p:nvPicPr>
            <p:cNvPr id="911" name="" descr=""/>
            <p:cNvPicPr/>
            <p:nvPr/>
          </p:nvPicPr>
          <p:blipFill>
            <a:blip r:embed="rId12"/>
            <a:stretch/>
          </p:blipFill>
          <p:spPr>
            <a:xfrm>
              <a:off x="7086600" y="3924360"/>
              <a:ext cx="698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7300440" y="388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609480" y="4253040"/>
            <a:ext cx="4038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QoS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 Minimum acceptable service level specified as a set of constraints that must be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 QoS expression to be maximized - or cost function to be mini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arwin Hierarchical Schedul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425840" y="160344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must supports efficient,  customizable, hierarchical resource shar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ient = controlled dynamic sharing, besides hard guarante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able = many 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erarchical = flows + flow aggreg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 and conqu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 traffic management policy control in each subtr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ontrol over who gets excess bandwid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archical Fair Service Curve (H-FSC) algorithm supports wide range of sharing polic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20520" y="2141640"/>
            <a:ext cx="4403880" cy="3705120"/>
            <a:chOff x="20520" y="2141640"/>
            <a:chExt cx="4403880" cy="3705120"/>
          </a:xfrm>
        </p:grpSpPr>
        <p:sp>
          <p:nvSpPr>
            <p:cNvPr id="917" name=""/>
            <p:cNvSpPr/>
            <p:nvPr/>
          </p:nvSpPr>
          <p:spPr>
            <a:xfrm flipH="1">
              <a:off x="1139760" y="2536920"/>
              <a:ext cx="936720" cy="7333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29920" y="3298680"/>
              <a:ext cx="63180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165320" y="3298680"/>
              <a:ext cx="263520" cy="41148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01320" y="3908520"/>
              <a:ext cx="25092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5480" y="3908520"/>
              <a:ext cx="73368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6880" y="4518000"/>
              <a:ext cx="47880" cy="7333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9520" y="4594320"/>
              <a:ext cx="428400" cy="6570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3200" y="4518000"/>
              <a:ext cx="1343160" cy="65736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1290600" y="5278320"/>
              <a:ext cx="480960" cy="4302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08280" y="5504040"/>
              <a:ext cx="0" cy="74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73360" y="5202360"/>
              <a:ext cx="506160" cy="50616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2079720" y="2188800"/>
              <a:ext cx="0" cy="230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65320" y="2141640"/>
              <a:ext cx="779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155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295280" y="3344760"/>
              <a:ext cx="538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40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" y="3344760"/>
              <a:ext cx="538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60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7400" y="4046400"/>
              <a:ext cx="61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10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20" y="4059360"/>
              <a:ext cx="795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30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3360" y="2762280"/>
              <a:ext cx="796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100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55680" y="2536920"/>
              <a:ext cx="962280" cy="7333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22520" y="2760840"/>
              <a:ext cx="871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55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31800" y="3908520"/>
              <a:ext cx="1495440" cy="5047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2358720" y="3298680"/>
              <a:ext cx="70812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70080" y="3298680"/>
              <a:ext cx="200160" cy="50508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220920" y="3297240"/>
              <a:ext cx="811440" cy="4302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32120" y="3606840"/>
              <a:ext cx="841320" cy="50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oll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ad 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65240" y="3156120"/>
              <a:ext cx="2044440" cy="19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 Added Service Provider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53960" y="4975200"/>
              <a:ext cx="86544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8000" y="4975200"/>
              <a:ext cx="488880" cy="50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min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141560" y="4376880"/>
              <a:ext cx="447480" cy="25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403280" y="3736800"/>
              <a:ext cx="44784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.Pit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54400" y="4975200"/>
              <a:ext cx="52992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11400" y="5595840"/>
              <a:ext cx="44748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12800" y="5595840"/>
              <a:ext cx="44784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88920" y="5595840"/>
              <a:ext cx="53028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55920" y="2413080"/>
              <a:ext cx="112068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tway Prov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89120" y="4376880"/>
              <a:ext cx="903240" cy="25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mp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98400" y="4975200"/>
              <a:ext cx="520920" cy="50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min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6880" y="4518000"/>
              <a:ext cx="2257560" cy="42876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16080" y="3736800"/>
              <a:ext cx="44748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M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6120" y="3606840"/>
              <a:ext cx="757080" cy="50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uarant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3576600" y="3908520"/>
              <a:ext cx="48096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60800" y="3908520"/>
              <a:ext cx="12384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28840" y="3157560"/>
              <a:ext cx="2014560" cy="2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 Added Service Provider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1120" y="4376880"/>
              <a:ext cx="447840" cy="25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727440" y="3606840"/>
              <a:ext cx="696960" cy="50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st-eff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54480" y="4378320"/>
              <a:ext cx="44748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898800" y="4378320"/>
              <a:ext cx="52092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Base-line Case: No Hierarch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5" name=""/>
          <p:cNvSpPr/>
          <p:nvPr/>
        </p:nvSpPr>
        <p:spPr>
          <a:xfrm>
            <a:off x="6378480" y="3772080"/>
            <a:ext cx="1855800" cy="1060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114ff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525760" y="3452760"/>
            <a:ext cx="1860480" cy="1762200"/>
          </a:xfrm>
          <a:custGeom>
            <a:avLst/>
            <a:gdLst/>
            <a:ahLst/>
            <a:rect l="l" t="t" r="r" b="b"/>
            <a:pathLst>
              <a:path w="1172" h="1110">
                <a:moveTo>
                  <a:pt x="0" y="0"/>
                </a:moveTo>
                <a:lnTo>
                  <a:pt x="194" y="48"/>
                </a:lnTo>
                <a:lnTo>
                  <a:pt x="291" y="79"/>
                </a:lnTo>
                <a:lnTo>
                  <a:pt x="385" y="110"/>
                </a:lnTo>
                <a:lnTo>
                  <a:pt x="473" y="147"/>
                </a:lnTo>
                <a:lnTo>
                  <a:pt x="557" y="194"/>
                </a:lnTo>
                <a:lnTo>
                  <a:pt x="640" y="247"/>
                </a:lnTo>
                <a:lnTo>
                  <a:pt x="715" y="311"/>
                </a:lnTo>
                <a:lnTo>
                  <a:pt x="751" y="348"/>
                </a:lnTo>
                <a:lnTo>
                  <a:pt x="790" y="395"/>
                </a:lnTo>
                <a:lnTo>
                  <a:pt x="861" y="494"/>
                </a:lnTo>
                <a:lnTo>
                  <a:pt x="928" y="610"/>
                </a:lnTo>
                <a:lnTo>
                  <a:pt x="990" y="730"/>
                </a:lnTo>
                <a:lnTo>
                  <a:pt x="1047" y="852"/>
                </a:lnTo>
                <a:lnTo>
                  <a:pt x="1100" y="957"/>
                </a:lnTo>
                <a:lnTo>
                  <a:pt x="1118" y="1004"/>
                </a:lnTo>
                <a:lnTo>
                  <a:pt x="1140" y="1046"/>
                </a:lnTo>
                <a:lnTo>
                  <a:pt x="1158" y="1083"/>
                </a:lnTo>
                <a:lnTo>
                  <a:pt x="1171" y="1109"/>
                </a:lnTo>
              </a:path>
            </a:pathLst>
          </a:custGeom>
          <a:noFill/>
          <a:ln cap="rnd"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76720" y="3048120"/>
            <a:ext cx="1523880" cy="1828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66760" y="3904200"/>
            <a:ext cx="1362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udio/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3537000" y="1992240"/>
            <a:ext cx="1751040" cy="943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5213520" y="2208240"/>
            <a:ext cx="610920" cy="26337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68640" y="2421000"/>
            <a:ext cx="1419480" cy="2095560"/>
          </a:xfrm>
          <a:custGeom>
            <a:avLst/>
            <a:gdLst/>
            <a:ahLst/>
            <a:rect l="l" t="t" r="r" b="b"/>
            <a:pathLst>
              <a:path w="894" h="1320">
                <a:moveTo>
                  <a:pt x="599" y="1315"/>
                </a:moveTo>
                <a:lnTo>
                  <a:pt x="565" y="1319"/>
                </a:lnTo>
                <a:lnTo>
                  <a:pt x="532" y="1310"/>
                </a:lnTo>
                <a:lnTo>
                  <a:pt x="488" y="1282"/>
                </a:lnTo>
                <a:lnTo>
                  <a:pt x="438" y="1245"/>
                </a:lnTo>
                <a:lnTo>
                  <a:pt x="388" y="1194"/>
                </a:lnTo>
                <a:lnTo>
                  <a:pt x="333" y="1138"/>
                </a:lnTo>
                <a:lnTo>
                  <a:pt x="283" y="1073"/>
                </a:lnTo>
                <a:lnTo>
                  <a:pt x="228" y="1003"/>
                </a:lnTo>
                <a:lnTo>
                  <a:pt x="133" y="853"/>
                </a:lnTo>
                <a:lnTo>
                  <a:pt x="88" y="778"/>
                </a:lnTo>
                <a:lnTo>
                  <a:pt x="55" y="704"/>
                </a:lnTo>
                <a:lnTo>
                  <a:pt x="27" y="634"/>
                </a:lnTo>
                <a:lnTo>
                  <a:pt x="5" y="573"/>
                </a:lnTo>
                <a:lnTo>
                  <a:pt x="0" y="518"/>
                </a:lnTo>
                <a:lnTo>
                  <a:pt x="0" y="471"/>
                </a:lnTo>
                <a:lnTo>
                  <a:pt x="16" y="429"/>
                </a:lnTo>
                <a:lnTo>
                  <a:pt x="44" y="387"/>
                </a:lnTo>
                <a:lnTo>
                  <a:pt x="83" y="341"/>
                </a:lnTo>
                <a:lnTo>
                  <a:pt x="138" y="293"/>
                </a:lnTo>
                <a:lnTo>
                  <a:pt x="199" y="247"/>
                </a:lnTo>
                <a:lnTo>
                  <a:pt x="266" y="200"/>
                </a:lnTo>
                <a:lnTo>
                  <a:pt x="410" y="116"/>
                </a:lnTo>
                <a:lnTo>
                  <a:pt x="482" y="79"/>
                </a:lnTo>
                <a:lnTo>
                  <a:pt x="560" y="51"/>
                </a:lnTo>
                <a:lnTo>
                  <a:pt x="626" y="28"/>
                </a:lnTo>
                <a:lnTo>
                  <a:pt x="694" y="9"/>
                </a:lnTo>
                <a:lnTo>
                  <a:pt x="755" y="0"/>
                </a:lnTo>
                <a:lnTo>
                  <a:pt x="799" y="0"/>
                </a:lnTo>
                <a:lnTo>
                  <a:pt x="838" y="9"/>
                </a:lnTo>
                <a:lnTo>
                  <a:pt x="865" y="28"/>
                </a:lnTo>
                <a:lnTo>
                  <a:pt x="876" y="42"/>
                </a:lnTo>
                <a:lnTo>
                  <a:pt x="882" y="65"/>
                </a:lnTo>
                <a:lnTo>
                  <a:pt x="887" y="88"/>
                </a:lnTo>
                <a:lnTo>
                  <a:pt x="887" y="121"/>
                </a:lnTo>
                <a:lnTo>
                  <a:pt x="893" y="191"/>
                </a:lnTo>
                <a:lnTo>
                  <a:pt x="887" y="279"/>
                </a:lnTo>
                <a:lnTo>
                  <a:pt x="876" y="373"/>
                </a:lnTo>
                <a:lnTo>
                  <a:pt x="865" y="476"/>
                </a:lnTo>
                <a:lnTo>
                  <a:pt x="843" y="587"/>
                </a:lnTo>
                <a:lnTo>
                  <a:pt x="827" y="694"/>
                </a:lnTo>
                <a:lnTo>
                  <a:pt x="799" y="806"/>
                </a:lnTo>
                <a:lnTo>
                  <a:pt x="771" y="913"/>
                </a:lnTo>
                <a:lnTo>
                  <a:pt x="744" y="1012"/>
                </a:lnTo>
                <a:lnTo>
                  <a:pt x="716" y="1100"/>
                </a:lnTo>
                <a:lnTo>
                  <a:pt x="688" y="1180"/>
                </a:lnTo>
                <a:lnTo>
                  <a:pt x="654" y="1245"/>
                </a:lnTo>
                <a:lnTo>
                  <a:pt x="643" y="1268"/>
                </a:lnTo>
                <a:lnTo>
                  <a:pt x="626" y="1291"/>
                </a:lnTo>
                <a:lnTo>
                  <a:pt x="615" y="1305"/>
                </a:lnTo>
                <a:lnTo>
                  <a:pt x="599" y="1315"/>
                </a:lnTo>
              </a:path>
            </a:pathLst>
          </a:custGeom>
          <a:noFill/>
          <a:ln cap="rnd" w="507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91280" y="3059640"/>
            <a:ext cx="551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9100"/>
                </a:solidFill>
                <a:latin typeface="Arial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87440" y="3801960"/>
            <a:ext cx="1859040" cy="1765440"/>
          </a:xfrm>
          <a:custGeom>
            <a:avLst/>
            <a:gdLst/>
            <a:ahLst/>
            <a:rect l="l" t="t" r="r" b="b"/>
            <a:pathLst>
              <a:path w="1171" h="1112">
                <a:moveTo>
                  <a:pt x="0" y="0"/>
                </a:moveTo>
                <a:lnTo>
                  <a:pt x="196" y="51"/>
                </a:lnTo>
                <a:lnTo>
                  <a:pt x="293" y="79"/>
                </a:lnTo>
                <a:lnTo>
                  <a:pt x="385" y="107"/>
                </a:lnTo>
                <a:lnTo>
                  <a:pt x="477" y="146"/>
                </a:lnTo>
                <a:lnTo>
                  <a:pt x="560" y="191"/>
                </a:lnTo>
                <a:lnTo>
                  <a:pt x="643" y="247"/>
                </a:lnTo>
                <a:lnTo>
                  <a:pt x="719" y="315"/>
                </a:lnTo>
                <a:lnTo>
                  <a:pt x="756" y="354"/>
                </a:lnTo>
                <a:lnTo>
                  <a:pt x="789" y="393"/>
                </a:lnTo>
                <a:lnTo>
                  <a:pt x="860" y="500"/>
                </a:lnTo>
                <a:lnTo>
                  <a:pt x="928" y="612"/>
                </a:lnTo>
                <a:lnTo>
                  <a:pt x="991" y="735"/>
                </a:lnTo>
                <a:lnTo>
                  <a:pt x="1049" y="853"/>
                </a:lnTo>
                <a:lnTo>
                  <a:pt x="1095" y="960"/>
                </a:lnTo>
                <a:lnTo>
                  <a:pt x="1120" y="1005"/>
                </a:lnTo>
                <a:lnTo>
                  <a:pt x="1137" y="1049"/>
                </a:lnTo>
                <a:lnTo>
                  <a:pt x="1157" y="1083"/>
                </a:lnTo>
                <a:lnTo>
                  <a:pt x="1170" y="1111"/>
                </a:lnTo>
              </a:path>
            </a:pathLst>
          </a:custGeom>
          <a:noFill/>
          <a:ln cap="rnd" w="25560">
            <a:solidFill>
              <a:srgbClr val="d9319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20040" y="4256640"/>
            <a:ext cx="1397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3192"/>
                </a:solidFill>
                <a:latin typeface="Arial"/>
              </a:rPr>
              <a:t>Fil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90000" y="5761440"/>
            <a:ext cx="179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dversary (UD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354720" y="1971720"/>
            <a:ext cx="2575080" cy="359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629400" y="3200400"/>
            <a:ext cx="990720" cy="10666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620120" y="3200400"/>
            <a:ext cx="1066680" cy="1066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7612200" y="2344320"/>
            <a:ext cx="0" cy="733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558560" y="2597040"/>
            <a:ext cx="795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546240" y="344160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038440" y="344160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7314840" y="3276720"/>
            <a:ext cx="304920" cy="914400"/>
          </a:xfrm>
          <a:prstGeom prst="line">
            <a:avLst/>
          </a:prstGeom>
          <a:ln w="507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696080" y="3276720"/>
            <a:ext cx="228600" cy="1066680"/>
          </a:xfrm>
          <a:prstGeom prst="line">
            <a:avLst/>
          </a:prstGeom>
          <a:ln w="507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785280" y="3792600"/>
            <a:ext cx="66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801920" y="372096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391520" y="3029040"/>
            <a:ext cx="457200" cy="4222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3520" y="26924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29360" y="3030480"/>
            <a:ext cx="4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7027920" y="2666520"/>
            <a:ext cx="150840" cy="37620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6416640" y="4876920"/>
            <a:ext cx="465120" cy="345960"/>
            <a:chOff x="6416640" y="4876920"/>
            <a:chExt cx="465120" cy="345960"/>
          </a:xfrm>
        </p:grpSpPr>
        <p:sp>
          <p:nvSpPr>
            <p:cNvPr id="992" name=""/>
            <p:cNvSpPr/>
            <p:nvPr/>
          </p:nvSpPr>
          <p:spPr>
            <a:xfrm>
              <a:off x="6416640" y="487692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432480" y="521172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431040" y="5060880"/>
              <a:ext cx="150840" cy="1620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610320" y="4989600"/>
              <a:ext cx="270000" cy="93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7074000" y="4876920"/>
            <a:ext cx="466560" cy="345960"/>
            <a:chOff x="7074000" y="4876920"/>
            <a:chExt cx="466560" cy="345960"/>
          </a:xfrm>
        </p:grpSpPr>
        <p:sp>
          <p:nvSpPr>
            <p:cNvPr id="997" name=""/>
            <p:cNvSpPr/>
            <p:nvPr/>
          </p:nvSpPr>
          <p:spPr>
            <a:xfrm>
              <a:off x="7074000" y="487692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089840" y="5211720"/>
              <a:ext cx="45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7209000" y="5060880"/>
              <a:ext cx="331560" cy="1620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732800" y="4849920"/>
            <a:ext cx="465120" cy="372960"/>
            <a:chOff x="7732800" y="4849920"/>
            <a:chExt cx="465120" cy="372960"/>
          </a:xfrm>
        </p:grpSpPr>
        <p:sp>
          <p:nvSpPr>
            <p:cNvPr id="1001" name=""/>
            <p:cNvSpPr/>
            <p:nvPr/>
          </p:nvSpPr>
          <p:spPr>
            <a:xfrm>
              <a:off x="7732800" y="487692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748640" y="521172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746840" y="4849920"/>
              <a:ext cx="449280" cy="37296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8388360" y="4876920"/>
            <a:ext cx="466560" cy="345960"/>
            <a:chOff x="8388360" y="4876920"/>
            <a:chExt cx="466560" cy="345960"/>
          </a:xfrm>
        </p:grpSpPr>
        <p:sp>
          <p:nvSpPr>
            <p:cNvPr id="1005" name=""/>
            <p:cNvSpPr/>
            <p:nvPr/>
          </p:nvSpPr>
          <p:spPr>
            <a:xfrm>
              <a:off x="8388360" y="487692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404200" y="5211720"/>
              <a:ext cx="45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8400960" y="4989600"/>
              <a:ext cx="390600" cy="23328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34720" y="19843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reserv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/V guarantee m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Arial"/>
              </a:rPr>
              <a:t>FTP 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3192"/>
                </a:solidFill>
                <a:latin typeface="Arial"/>
              </a:rPr>
              <a:t>1.7 Mb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FT finish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29 seco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981080" y="4038480"/>
            <a:ext cx="1859040" cy="1765440"/>
          </a:xfrm>
          <a:custGeom>
            <a:avLst/>
            <a:gdLst/>
            <a:ahLst/>
            <a:rect l="l" t="t" r="r" b="b"/>
            <a:pathLst>
              <a:path w="1171" h="1112">
                <a:moveTo>
                  <a:pt x="0" y="0"/>
                </a:moveTo>
                <a:lnTo>
                  <a:pt x="196" y="51"/>
                </a:lnTo>
                <a:lnTo>
                  <a:pt x="293" y="79"/>
                </a:lnTo>
                <a:lnTo>
                  <a:pt x="385" y="107"/>
                </a:lnTo>
                <a:lnTo>
                  <a:pt x="477" y="146"/>
                </a:lnTo>
                <a:lnTo>
                  <a:pt x="560" y="191"/>
                </a:lnTo>
                <a:lnTo>
                  <a:pt x="643" y="247"/>
                </a:lnTo>
                <a:lnTo>
                  <a:pt x="719" y="315"/>
                </a:lnTo>
                <a:lnTo>
                  <a:pt x="756" y="354"/>
                </a:lnTo>
                <a:lnTo>
                  <a:pt x="789" y="393"/>
                </a:lnTo>
                <a:lnTo>
                  <a:pt x="860" y="500"/>
                </a:lnTo>
                <a:lnTo>
                  <a:pt x="928" y="612"/>
                </a:lnTo>
                <a:lnTo>
                  <a:pt x="991" y="735"/>
                </a:lnTo>
                <a:lnTo>
                  <a:pt x="1049" y="853"/>
                </a:lnTo>
                <a:lnTo>
                  <a:pt x="1095" y="960"/>
                </a:lnTo>
                <a:lnTo>
                  <a:pt x="1120" y="1005"/>
                </a:lnTo>
                <a:lnTo>
                  <a:pt x="1137" y="1049"/>
                </a:lnTo>
                <a:lnTo>
                  <a:pt x="1157" y="1083"/>
                </a:lnTo>
                <a:lnTo>
                  <a:pt x="1170" y="1111"/>
                </a:lnTo>
              </a:path>
            </a:pathLst>
          </a:custGeom>
          <a:noFill/>
          <a:ln cap="rnd"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458200" y="4086360"/>
            <a:ext cx="40968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16640" y="4086360"/>
            <a:ext cx="44136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086600" y="4086360"/>
            <a:ext cx="40644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772400" y="4086360"/>
            <a:ext cx="37800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876400" y="2862360"/>
            <a:ext cx="986040" cy="474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430880" y="4765680"/>
            <a:ext cx="987120" cy="471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192640" y="1806480"/>
            <a:ext cx="986040" cy="4748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429000" y="3276720"/>
            <a:ext cx="152280" cy="152280"/>
          </a:xfrm>
          <a:prstGeom prst="ellipse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ink-sharing at Root Nod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1452600" y="1682640"/>
            <a:ext cx="574200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est Case: Two Levels of Resource Hierarch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21" name=""/>
          <p:cNvSpPr/>
          <p:nvPr/>
        </p:nvSpPr>
        <p:spPr>
          <a:xfrm>
            <a:off x="6375240" y="4084560"/>
            <a:ext cx="1852920" cy="10494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114ff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178680" y="1601640"/>
            <a:ext cx="2751120" cy="418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552720" y="3352680"/>
            <a:ext cx="762120" cy="12956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620120" y="2514600"/>
            <a:ext cx="457200" cy="838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7615080" y="1692000"/>
            <a:ext cx="0" cy="6570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60360" y="1938240"/>
            <a:ext cx="795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306480" y="375444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860600" y="27766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315200" y="3505320"/>
            <a:ext cx="685800" cy="1066680"/>
          </a:xfrm>
          <a:prstGeom prst="line">
            <a:avLst/>
          </a:prstGeom>
          <a:ln w="507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26600" y="4173480"/>
            <a:ext cx="66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562160" y="375444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7238880" y="25146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 flipV="1">
            <a:off x="7238880" y="3504960"/>
            <a:ext cx="76320" cy="1143000"/>
          </a:xfrm>
          <a:prstGeom prst="line">
            <a:avLst/>
          </a:prstGeom>
          <a:ln w="507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725520" y="27766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928960" y="3660840"/>
            <a:ext cx="1592280" cy="1711440"/>
          </a:xfrm>
          <a:custGeom>
            <a:avLst/>
            <a:gdLst/>
            <a:ahLst/>
            <a:rect l="l" t="t" r="r" b="b"/>
            <a:pathLst>
              <a:path w="1003" h="1078">
                <a:moveTo>
                  <a:pt x="0" y="0"/>
                </a:moveTo>
                <a:lnTo>
                  <a:pt x="169" y="48"/>
                </a:lnTo>
                <a:lnTo>
                  <a:pt x="328" y="108"/>
                </a:lnTo>
                <a:lnTo>
                  <a:pt x="405" y="146"/>
                </a:lnTo>
                <a:lnTo>
                  <a:pt x="478" y="189"/>
                </a:lnTo>
                <a:lnTo>
                  <a:pt x="552" y="243"/>
                </a:lnTo>
                <a:lnTo>
                  <a:pt x="615" y="303"/>
                </a:lnTo>
                <a:lnTo>
                  <a:pt x="647" y="341"/>
                </a:lnTo>
                <a:lnTo>
                  <a:pt x="674" y="384"/>
                </a:lnTo>
                <a:lnTo>
                  <a:pt x="738" y="482"/>
                </a:lnTo>
                <a:lnTo>
                  <a:pt x="793" y="595"/>
                </a:lnTo>
                <a:lnTo>
                  <a:pt x="847" y="709"/>
                </a:lnTo>
                <a:lnTo>
                  <a:pt x="897" y="823"/>
                </a:lnTo>
                <a:lnTo>
                  <a:pt x="938" y="931"/>
                </a:lnTo>
                <a:lnTo>
                  <a:pt x="957" y="974"/>
                </a:lnTo>
                <a:lnTo>
                  <a:pt x="975" y="1018"/>
                </a:lnTo>
                <a:lnTo>
                  <a:pt x="988" y="1050"/>
                </a:lnTo>
                <a:lnTo>
                  <a:pt x="1002" y="1077"/>
                </a:lnTo>
              </a:path>
            </a:pathLst>
          </a:custGeom>
          <a:noFill/>
          <a:ln cap="rnd"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581280" y="3276720"/>
            <a:ext cx="1447920" cy="19047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29920" y="4089240"/>
            <a:ext cx="121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Audio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3743280" y="2239920"/>
            <a:ext cx="1470240" cy="8762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5286240" y="2388960"/>
            <a:ext cx="557280" cy="26096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129200" y="2606760"/>
            <a:ext cx="1304640" cy="2077920"/>
          </a:xfrm>
          <a:custGeom>
            <a:avLst/>
            <a:gdLst/>
            <a:ahLst/>
            <a:rect l="l" t="t" r="r" b="b"/>
            <a:pathLst>
              <a:path w="822" h="1309">
                <a:moveTo>
                  <a:pt x="559" y="1303"/>
                </a:moveTo>
                <a:lnTo>
                  <a:pt x="531" y="1308"/>
                </a:lnTo>
                <a:lnTo>
                  <a:pt x="498" y="1298"/>
                </a:lnTo>
                <a:lnTo>
                  <a:pt x="453" y="1269"/>
                </a:lnTo>
                <a:lnTo>
                  <a:pt x="407" y="1235"/>
                </a:lnTo>
                <a:lnTo>
                  <a:pt x="363" y="1182"/>
                </a:lnTo>
                <a:lnTo>
                  <a:pt x="312" y="1124"/>
                </a:lnTo>
                <a:lnTo>
                  <a:pt x="262" y="1062"/>
                </a:lnTo>
                <a:lnTo>
                  <a:pt x="212" y="994"/>
                </a:lnTo>
                <a:lnTo>
                  <a:pt x="122" y="844"/>
                </a:lnTo>
                <a:lnTo>
                  <a:pt x="83" y="772"/>
                </a:lnTo>
                <a:lnTo>
                  <a:pt x="50" y="699"/>
                </a:lnTo>
                <a:lnTo>
                  <a:pt x="27" y="632"/>
                </a:lnTo>
                <a:lnTo>
                  <a:pt x="5" y="569"/>
                </a:lnTo>
                <a:lnTo>
                  <a:pt x="0" y="511"/>
                </a:lnTo>
                <a:lnTo>
                  <a:pt x="0" y="468"/>
                </a:lnTo>
                <a:lnTo>
                  <a:pt x="16" y="425"/>
                </a:lnTo>
                <a:lnTo>
                  <a:pt x="44" y="381"/>
                </a:lnTo>
                <a:lnTo>
                  <a:pt x="83" y="338"/>
                </a:lnTo>
                <a:lnTo>
                  <a:pt x="134" y="289"/>
                </a:lnTo>
                <a:lnTo>
                  <a:pt x="189" y="245"/>
                </a:lnTo>
                <a:lnTo>
                  <a:pt x="251" y="197"/>
                </a:lnTo>
                <a:lnTo>
                  <a:pt x="385" y="115"/>
                </a:lnTo>
                <a:lnTo>
                  <a:pt x="453" y="81"/>
                </a:lnTo>
                <a:lnTo>
                  <a:pt x="520" y="48"/>
                </a:lnTo>
                <a:lnTo>
                  <a:pt x="581" y="24"/>
                </a:lnTo>
                <a:lnTo>
                  <a:pt x="643" y="9"/>
                </a:lnTo>
                <a:lnTo>
                  <a:pt x="699" y="0"/>
                </a:lnTo>
                <a:lnTo>
                  <a:pt x="743" y="0"/>
                </a:lnTo>
                <a:lnTo>
                  <a:pt x="777" y="9"/>
                </a:lnTo>
                <a:lnTo>
                  <a:pt x="799" y="28"/>
                </a:lnTo>
                <a:lnTo>
                  <a:pt x="805" y="43"/>
                </a:lnTo>
                <a:lnTo>
                  <a:pt x="816" y="67"/>
                </a:lnTo>
                <a:lnTo>
                  <a:pt x="821" y="120"/>
                </a:lnTo>
                <a:lnTo>
                  <a:pt x="821" y="192"/>
                </a:lnTo>
                <a:lnTo>
                  <a:pt x="821" y="274"/>
                </a:lnTo>
                <a:lnTo>
                  <a:pt x="810" y="372"/>
                </a:lnTo>
                <a:lnTo>
                  <a:pt x="799" y="473"/>
                </a:lnTo>
                <a:lnTo>
                  <a:pt x="766" y="690"/>
                </a:lnTo>
                <a:lnTo>
                  <a:pt x="743" y="796"/>
                </a:lnTo>
                <a:lnTo>
                  <a:pt x="721" y="902"/>
                </a:lnTo>
                <a:lnTo>
                  <a:pt x="693" y="1004"/>
                </a:lnTo>
                <a:lnTo>
                  <a:pt x="665" y="1091"/>
                </a:lnTo>
                <a:lnTo>
                  <a:pt x="637" y="1168"/>
                </a:lnTo>
                <a:lnTo>
                  <a:pt x="609" y="1230"/>
                </a:lnTo>
                <a:lnTo>
                  <a:pt x="598" y="1259"/>
                </a:lnTo>
                <a:lnTo>
                  <a:pt x="587" y="1279"/>
                </a:lnTo>
                <a:lnTo>
                  <a:pt x="570" y="1293"/>
                </a:lnTo>
                <a:lnTo>
                  <a:pt x="559" y="1303"/>
                </a:lnTo>
              </a:path>
            </a:pathLst>
          </a:custGeom>
          <a:noFill/>
          <a:ln cap="rnd" w="507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932200" y="4046400"/>
            <a:ext cx="1369800" cy="1676520"/>
          </a:xfrm>
          <a:custGeom>
            <a:avLst/>
            <a:gdLst/>
            <a:ahLst/>
            <a:rect l="l" t="t" r="r" b="b"/>
            <a:pathLst>
              <a:path w="863" h="1056">
                <a:moveTo>
                  <a:pt x="0" y="0"/>
                </a:moveTo>
                <a:lnTo>
                  <a:pt x="143" y="46"/>
                </a:lnTo>
                <a:lnTo>
                  <a:pt x="281" y="103"/>
                </a:lnTo>
                <a:lnTo>
                  <a:pt x="350" y="138"/>
                </a:lnTo>
                <a:lnTo>
                  <a:pt x="411" y="184"/>
                </a:lnTo>
                <a:lnTo>
                  <a:pt x="472" y="236"/>
                </a:lnTo>
                <a:lnTo>
                  <a:pt x="529" y="294"/>
                </a:lnTo>
                <a:lnTo>
                  <a:pt x="555" y="329"/>
                </a:lnTo>
                <a:lnTo>
                  <a:pt x="581" y="375"/>
                </a:lnTo>
                <a:lnTo>
                  <a:pt x="633" y="473"/>
                </a:lnTo>
                <a:lnTo>
                  <a:pt x="685" y="582"/>
                </a:lnTo>
                <a:lnTo>
                  <a:pt x="728" y="697"/>
                </a:lnTo>
                <a:lnTo>
                  <a:pt x="771" y="808"/>
                </a:lnTo>
                <a:lnTo>
                  <a:pt x="810" y="911"/>
                </a:lnTo>
                <a:lnTo>
                  <a:pt x="823" y="957"/>
                </a:lnTo>
                <a:lnTo>
                  <a:pt x="840" y="997"/>
                </a:lnTo>
                <a:lnTo>
                  <a:pt x="853" y="1026"/>
                </a:lnTo>
                <a:lnTo>
                  <a:pt x="862" y="1055"/>
                </a:lnTo>
              </a:path>
            </a:pathLst>
          </a:custGeom>
          <a:noFill/>
          <a:ln cap="rnd" w="25560">
            <a:solidFill>
              <a:srgbClr val="d9319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930400" y="4272120"/>
            <a:ext cx="1150920" cy="1728720"/>
          </a:xfrm>
          <a:custGeom>
            <a:avLst/>
            <a:gdLst/>
            <a:ahLst/>
            <a:rect l="l" t="t" r="r" b="b"/>
            <a:pathLst>
              <a:path w="725" h="1089">
                <a:moveTo>
                  <a:pt x="0" y="0"/>
                </a:moveTo>
                <a:lnTo>
                  <a:pt x="119" y="48"/>
                </a:lnTo>
                <a:lnTo>
                  <a:pt x="239" y="108"/>
                </a:lnTo>
                <a:lnTo>
                  <a:pt x="292" y="145"/>
                </a:lnTo>
                <a:lnTo>
                  <a:pt x="345" y="193"/>
                </a:lnTo>
                <a:lnTo>
                  <a:pt x="400" y="247"/>
                </a:lnTo>
                <a:lnTo>
                  <a:pt x="445" y="308"/>
                </a:lnTo>
                <a:lnTo>
                  <a:pt x="465" y="345"/>
                </a:lnTo>
                <a:lnTo>
                  <a:pt x="490" y="387"/>
                </a:lnTo>
                <a:lnTo>
                  <a:pt x="531" y="490"/>
                </a:lnTo>
                <a:lnTo>
                  <a:pt x="572" y="598"/>
                </a:lnTo>
                <a:lnTo>
                  <a:pt x="613" y="719"/>
                </a:lnTo>
                <a:lnTo>
                  <a:pt x="646" y="835"/>
                </a:lnTo>
                <a:lnTo>
                  <a:pt x="679" y="937"/>
                </a:lnTo>
                <a:lnTo>
                  <a:pt x="691" y="985"/>
                </a:lnTo>
                <a:lnTo>
                  <a:pt x="703" y="1028"/>
                </a:lnTo>
                <a:lnTo>
                  <a:pt x="716" y="1058"/>
                </a:lnTo>
                <a:lnTo>
                  <a:pt x="724" y="1088"/>
                </a:lnTo>
              </a:path>
            </a:pathLst>
          </a:custGeom>
          <a:noFill/>
          <a:ln cap="rnd"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26600" y="4437000"/>
            <a:ext cx="1252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3192"/>
                </a:solidFill>
                <a:latin typeface="Arial"/>
              </a:rPr>
              <a:t>File 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97880" y="6016680"/>
            <a:ext cx="1597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Adversary (UD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57600" y="3429000"/>
            <a:ext cx="146160" cy="152280"/>
          </a:xfrm>
          <a:prstGeom prst="ellipse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28440" y="3252600"/>
            <a:ext cx="506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9100"/>
                </a:solidFill>
                <a:latin typeface="Arial"/>
              </a:rPr>
              <a:t>F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391520" y="2301840"/>
            <a:ext cx="401400" cy="41760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016760" y="1967040"/>
            <a:ext cx="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32600" y="2301840"/>
            <a:ext cx="44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7031160" y="1941480"/>
            <a:ext cx="150840" cy="37296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6419880" y="5246640"/>
            <a:ext cx="465120" cy="343080"/>
            <a:chOff x="6419880" y="5246640"/>
            <a:chExt cx="465120" cy="343080"/>
          </a:xfrm>
        </p:grpSpPr>
        <p:sp>
          <p:nvSpPr>
            <p:cNvPr id="1052" name=""/>
            <p:cNvSpPr/>
            <p:nvPr/>
          </p:nvSpPr>
          <p:spPr>
            <a:xfrm>
              <a:off x="6419880" y="524664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35720" y="557856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6434280" y="5427720"/>
              <a:ext cx="150840" cy="1620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6613560" y="5359320"/>
              <a:ext cx="270000" cy="907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075440" y="5246640"/>
            <a:ext cx="466920" cy="343080"/>
            <a:chOff x="7075440" y="5246640"/>
            <a:chExt cx="466920" cy="343080"/>
          </a:xfrm>
        </p:grpSpPr>
        <p:sp>
          <p:nvSpPr>
            <p:cNvPr id="1057" name=""/>
            <p:cNvSpPr/>
            <p:nvPr/>
          </p:nvSpPr>
          <p:spPr>
            <a:xfrm>
              <a:off x="7075440" y="524664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1280" y="55785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7210440" y="5427720"/>
              <a:ext cx="331920" cy="1620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7734240" y="5219640"/>
            <a:ext cx="463680" cy="370080"/>
            <a:chOff x="7734240" y="5219640"/>
            <a:chExt cx="463680" cy="370080"/>
          </a:xfrm>
        </p:grpSpPr>
        <p:sp>
          <p:nvSpPr>
            <p:cNvPr id="1061" name=""/>
            <p:cNvSpPr/>
            <p:nvPr/>
          </p:nvSpPr>
          <p:spPr>
            <a:xfrm>
              <a:off x="7734240" y="524664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50080" y="557856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7748640" y="5219640"/>
              <a:ext cx="447480" cy="37008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310680" y="17557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amount of total resource reser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/V guarantee m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3192"/>
                </a:solidFill>
                <a:latin typeface="Arial"/>
              </a:rPr>
              <a:t>FTP through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3192"/>
                </a:solidFill>
                <a:latin typeface="Arial"/>
              </a:rPr>
              <a:t>4 Mb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3192"/>
                </a:solidFill>
                <a:latin typeface="Arial"/>
              </a:rPr>
              <a:t>factor of 2.4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FFT finish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27 seco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slightly fa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149480" y="488304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139840" y="488304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49480" y="541656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9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139840" y="541656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7 M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35080" y="541656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149480" y="595008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9840" y="595008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M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35080" y="595008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419880" y="4392720"/>
            <a:ext cx="43812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086600" y="4392720"/>
            <a:ext cx="40788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696080" y="4392720"/>
            <a:ext cx="45576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848720" y="3208320"/>
            <a:ext cx="422280" cy="41760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010280" y="3208320"/>
            <a:ext cx="457200" cy="4492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8389800" y="3084480"/>
            <a:ext cx="465120" cy="343080"/>
            <a:chOff x="8389800" y="3084480"/>
            <a:chExt cx="465120" cy="343080"/>
          </a:xfrm>
        </p:grpSpPr>
        <p:sp>
          <p:nvSpPr>
            <p:cNvPr id="1079" name=""/>
            <p:cNvSpPr/>
            <p:nvPr/>
          </p:nvSpPr>
          <p:spPr>
            <a:xfrm>
              <a:off x="8389800" y="308448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405640" y="341640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8402760" y="3197160"/>
              <a:ext cx="390240" cy="2304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539040" y="3084480"/>
            <a:ext cx="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554880" y="3416400"/>
            <a:ext cx="44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6553080" y="3057480"/>
            <a:ext cx="270000" cy="37008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30560" y="3043080"/>
            <a:ext cx="928800" cy="4683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64080" y="4925880"/>
            <a:ext cx="928800" cy="4683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049720" y="1959120"/>
            <a:ext cx="927360" cy="4698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ink-sharing at Root Nod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1987560" y="1531800"/>
            <a:ext cx="5207040" cy="51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149480" y="77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ink-sharing at Interior Application Nod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1987560" y="1531800"/>
            <a:ext cx="5130720" cy="50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elegates Manage Resources at Runtime on Behalf of the User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: service quality is sensitive to how resources are managed at run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insertion is a very flexible method of adding “domain expertise” to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parameters is too restrictive and too st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ts in reverse”: user extends network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ng delegates on the router results in fast response tim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 access to relevant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roundtrip delay to end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networking in the control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elegate Implement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91920" y="1679400"/>
            <a:ext cx="433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gates implemented as Java code seg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I implemented as native cl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ed for NetBSD and FreeBSD routers, Cai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gle installs delegates and verifies execution requirements and autho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an programming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gates are associated with nodes in the resource tr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r: isolation in data pla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gates: isolation of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conside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y on Java sandbox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PCC with Fox pro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943600" y="1752480"/>
            <a:ext cx="2666880" cy="46483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19920" y="3124080"/>
            <a:ext cx="2514600" cy="3200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031080" y="1828800"/>
            <a:ext cx="2503440" cy="1295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244200" y="1828800"/>
            <a:ext cx="2080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5160" bIns="65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le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ecution En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153120" y="2590920"/>
            <a:ext cx="331920" cy="3632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058240" y="2590920"/>
            <a:ext cx="312480" cy="350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8134200" y="2743200"/>
            <a:ext cx="76320" cy="19810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305400" y="2743200"/>
            <a:ext cx="19080" cy="1905120"/>
          </a:xfrm>
          <a:prstGeom prst="line">
            <a:avLst/>
          </a:prstGeom>
          <a:ln w="12600">
            <a:solidFill>
              <a:srgbClr val="438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553080" y="3886200"/>
            <a:ext cx="214560" cy="212760"/>
          </a:xfrm>
          <a:prstGeom prst="ellipse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350120" y="4038480"/>
            <a:ext cx="345960" cy="690840"/>
          </a:xfrm>
          <a:custGeom>
            <a:avLst/>
            <a:gdLst/>
            <a:ahLst/>
            <a:rect l="l" t="t" r="r" b="b"/>
            <a:pathLst>
              <a:path w="218" h="435">
                <a:moveTo>
                  <a:pt x="218" y="0"/>
                </a:moveTo>
                <a:lnTo>
                  <a:pt x="0" y="435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705720" y="4038480"/>
            <a:ext cx="152280" cy="609840"/>
          </a:xfrm>
          <a:custGeom>
            <a:avLst/>
            <a:gdLst/>
            <a:ahLst/>
            <a:rect l="l" t="t" r="r" b="b"/>
            <a:pathLst>
              <a:path w="62" h="488">
                <a:moveTo>
                  <a:pt x="0" y="0"/>
                </a:moveTo>
                <a:lnTo>
                  <a:pt x="62" y="488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149960" y="3522600"/>
            <a:ext cx="498600" cy="399960"/>
          </a:xfrm>
          <a:custGeom>
            <a:avLst/>
            <a:gdLst/>
            <a:ahLst/>
            <a:rect l="l" t="t" r="r" b="b"/>
            <a:pathLst>
              <a:path w="314" h="252">
                <a:moveTo>
                  <a:pt x="0" y="0"/>
                </a:moveTo>
                <a:lnTo>
                  <a:pt x="314" y="252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78480" y="4076640"/>
            <a:ext cx="200160" cy="598680"/>
          </a:xfrm>
          <a:custGeom>
            <a:avLst/>
            <a:gdLst/>
            <a:ahLst/>
            <a:rect l="l" t="t" r="r" b="b"/>
            <a:pathLst>
              <a:path w="126" h="377">
                <a:moveTo>
                  <a:pt x="126" y="0"/>
                </a:moveTo>
                <a:lnTo>
                  <a:pt x="0" y="377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772400" y="4038480"/>
            <a:ext cx="304920" cy="685800"/>
          </a:xfrm>
          <a:custGeom>
            <a:avLst/>
            <a:gdLst/>
            <a:ahLst/>
            <a:rect l="l" t="t" r="r" b="b"/>
            <a:pathLst>
              <a:path w="228" h="492">
                <a:moveTo>
                  <a:pt x="228" y="49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721640" y="4067280"/>
            <a:ext cx="1440" cy="635040"/>
          </a:xfrm>
          <a:custGeom>
            <a:avLst/>
            <a:gdLst/>
            <a:ahLst/>
            <a:rect l="l" t="t" r="r" b="b"/>
            <a:pathLst>
              <a:path w="1" h="400">
                <a:moveTo>
                  <a:pt x="0" y="0"/>
                </a:moveTo>
                <a:lnTo>
                  <a:pt x="0" y="400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705720" y="3551400"/>
            <a:ext cx="363240" cy="334800"/>
          </a:xfrm>
          <a:custGeom>
            <a:avLst/>
            <a:gdLst/>
            <a:ahLst/>
            <a:rect l="l" t="t" r="r" b="b"/>
            <a:pathLst>
              <a:path w="181" h="355">
                <a:moveTo>
                  <a:pt x="181" y="0"/>
                </a:moveTo>
                <a:lnTo>
                  <a:pt x="0" y="355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19920" y="5638680"/>
            <a:ext cx="2514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5160" bIns="65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Hierarch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sourc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248520" y="4648320"/>
            <a:ext cx="212760" cy="21276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81680" y="4648320"/>
            <a:ext cx="212760" cy="212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238880" y="4724280"/>
            <a:ext cx="212760" cy="212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20120" y="4724280"/>
            <a:ext cx="212760" cy="212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001000" y="4724280"/>
            <a:ext cx="212760" cy="21276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620120" y="3886200"/>
            <a:ext cx="212760" cy="212760"/>
          </a:xfrm>
          <a:prstGeom prst="ellipse">
            <a:avLst/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010280" y="3352680"/>
            <a:ext cx="212760" cy="21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77000" y="2743200"/>
            <a:ext cx="0" cy="1143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848720" y="5181480"/>
            <a:ext cx="212760" cy="2127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229600" y="5181480"/>
            <a:ext cx="212760" cy="2127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958160" y="4929120"/>
            <a:ext cx="108000" cy="254160"/>
          </a:xfrm>
          <a:custGeom>
            <a:avLst/>
            <a:gdLst/>
            <a:ahLst/>
            <a:rect l="l" t="t" r="r" b="b"/>
            <a:pathLst>
              <a:path w="68" h="160">
                <a:moveTo>
                  <a:pt x="68" y="0"/>
                </a:moveTo>
                <a:lnTo>
                  <a:pt x="0" y="160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166240" y="4919760"/>
            <a:ext cx="144360" cy="253800"/>
          </a:xfrm>
          <a:custGeom>
            <a:avLst/>
            <a:gdLst/>
            <a:ahLst/>
            <a:rect l="l" t="t" r="r" b="b"/>
            <a:pathLst>
              <a:path w="91" h="160">
                <a:moveTo>
                  <a:pt x="0" y="0"/>
                </a:moveTo>
                <a:lnTo>
                  <a:pt x="91" y="160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483240" y="32623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45360" y="350532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Times New Roman"/>
              </a:rPr>
              <a:t>Pi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021440" y="3809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Times New Roman"/>
              </a:rPr>
              <a:t>C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011720" y="484488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Times New Roman"/>
              </a:rPr>
              <a:t>Ap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545600" y="530208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Times New Roman"/>
              </a:rPr>
              <a:t>Flo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524720" y="2590920"/>
            <a:ext cx="314280" cy="350640"/>
          </a:xfrm>
          <a:prstGeom prst="rect">
            <a:avLst/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848200" y="3124080"/>
            <a:ext cx="281952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9200" y="56880"/>
            <a:ext cx="7173720" cy="1144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nsmission Control Protoc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9400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: fully reliable byte strea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 establishment and tear dow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-end flow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avoid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extens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54760" y="3225960"/>
            <a:ext cx="1803240" cy="35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83560" y="3225960"/>
            <a:ext cx="1803240" cy="35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.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54760" y="3606840"/>
            <a:ext cx="36320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c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54760" y="3987720"/>
            <a:ext cx="36320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4760" y="4368960"/>
            <a:ext cx="1803240" cy="35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L/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83560" y="4368960"/>
            <a:ext cx="1803240" cy="35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54760" y="4749840"/>
            <a:ext cx="18032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83560" y="4749840"/>
            <a:ext cx="18032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ge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54760" y="5130720"/>
            <a:ext cx="36320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ons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ntrol/Data Delegate Coordin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96480" y="19839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delegate manages the level of compression in a transcoder that is deployed as a data deleg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PEG hardware encoder in this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 of a control delegate results in a fast response to bandwidth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3868560" y="4630320"/>
            <a:ext cx="277920" cy="50652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954160" y="4529160"/>
            <a:ext cx="277920" cy="40464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035680" y="4502160"/>
            <a:ext cx="2361960" cy="167652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81240" y="5187960"/>
            <a:ext cx="86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33680" y="5187960"/>
            <a:ext cx="861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471760" y="4452840"/>
            <a:ext cx="32868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776680" y="5214960"/>
            <a:ext cx="32832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328760" y="5214960"/>
            <a:ext cx="32868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224240" y="5214960"/>
            <a:ext cx="32868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19680" y="4452840"/>
            <a:ext cx="32832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2471760" y="5163840"/>
            <a:ext cx="328680" cy="81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023840" y="5163840"/>
            <a:ext cx="328680" cy="81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2776680" y="4402080"/>
            <a:ext cx="328320" cy="81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4224240" y="4402080"/>
            <a:ext cx="328680" cy="81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3919680" y="5163840"/>
            <a:ext cx="328320" cy="81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300560" y="5214960"/>
            <a:ext cx="1471680" cy="32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5824440" y="5011200"/>
            <a:ext cx="709560" cy="58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586560" y="4478400"/>
            <a:ext cx="1471680" cy="58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86560" y="5062680"/>
            <a:ext cx="1547640" cy="9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378080" y="4452840"/>
            <a:ext cx="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73160" y="4959360"/>
            <a:ext cx="533520" cy="4572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21080" y="4959360"/>
            <a:ext cx="533160" cy="4572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68240" y="5721480"/>
            <a:ext cx="45720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454040" y="5721480"/>
            <a:ext cx="457200" cy="45720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901960" y="5721480"/>
            <a:ext cx="457200" cy="45720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664080" y="5721480"/>
            <a:ext cx="45720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349880" y="5721480"/>
            <a:ext cx="457200" cy="45720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49480" y="4197240"/>
            <a:ext cx="45720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216160" y="4197240"/>
            <a:ext cx="457200" cy="4572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01960" y="4197240"/>
            <a:ext cx="457200" cy="4572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64080" y="4197240"/>
            <a:ext cx="457200" cy="457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349880" y="4197240"/>
            <a:ext cx="45720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854840" y="4273560"/>
            <a:ext cx="45720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854840" y="4959360"/>
            <a:ext cx="457200" cy="4572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369520" y="621036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917320" y="613404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631600" y="3916440"/>
            <a:ext cx="115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Trans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001680" y="490680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97040" y="5035680"/>
            <a:ext cx="228600" cy="2286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2649240" y="4452840"/>
            <a:ext cx="430200" cy="70956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0800000">
            <a:off x="2598840" y="4479840"/>
            <a:ext cx="25344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5" y="1"/>
                </a:moveTo>
                <a:arcTo wR="10800" hR="10800" stAng="-5442969" swAng="5442969"/>
                <a:lnTo>
                  <a:pt x="10800" y="10800"/>
                </a:lnTo>
                <a:close/>
              </a:path>
              <a:path fill="none" w="21600" h="21600">
                <a:moveTo>
                  <a:pt x="10665" y="1"/>
                </a:moveTo>
                <a:arcTo wR="10800" hR="10800" stAng="-5442969" swAng="5442969"/>
              </a:path>
            </a:pathLst>
          </a:custGeom>
          <a:noFill/>
          <a:ln cap="rnd"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rot="10800000">
            <a:off x="2651760" y="4479840"/>
            <a:ext cx="25020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2"/>
                </a:moveTo>
                <a:arcTo wR="10800" hR="10800" stAng="-10768904" swAng="6431742"/>
                <a:lnTo>
                  <a:pt x="10800" y="10800"/>
                </a:lnTo>
                <a:close/>
              </a:path>
              <a:path fill="none" w="21600" h="21600">
                <a:moveTo>
                  <a:pt x="0" y="10702"/>
                </a:moveTo>
                <a:arcTo wR="10800" hR="10800" stAng="-10768904" swAng="6431742"/>
              </a:path>
            </a:pathLst>
          </a:custGeom>
          <a:noFill/>
          <a:ln cap="rnd" w="255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2514600" y="5392440"/>
            <a:ext cx="285840" cy="7030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081240" y="5264280"/>
            <a:ext cx="862200" cy="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81240" y="5340240"/>
            <a:ext cx="862200" cy="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586560" y="5138640"/>
            <a:ext cx="1338120" cy="4284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24240" y="5291280"/>
            <a:ext cx="1243080" cy="2523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968640" y="4959360"/>
            <a:ext cx="533520" cy="4572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5791320" y="5028840"/>
            <a:ext cx="761760" cy="68580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492880" y="5340240"/>
            <a:ext cx="533160" cy="4572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54640" y="4883040"/>
            <a:ext cx="533520" cy="4572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400520" y="5562720"/>
            <a:ext cx="142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 Di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16160" y="5721480"/>
            <a:ext cx="457200" cy="457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20880" y="7740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aptive Compression Combines Xena, Scheduler, Delegat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34720" y="1603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broker selects JPEG and transparently inserts transcoder to deal with video type mismat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es computational for communication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gate dynamically adapts JPEG encoding level to match available bandwid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ick application-specific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archical scheduler supports cooperative bandwidth sharing between video and bursty simulation data strea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s sharing and iso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4857840" y="2000160"/>
            <a:ext cx="38606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Virtual Private Network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ervice using Darwi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91" name=""/>
          <p:cNvSpPr/>
          <p:nvPr/>
        </p:nvSpPr>
        <p:spPr>
          <a:xfrm>
            <a:off x="6369120" y="57769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288"/>
                </a:moveTo>
                <a:lnTo>
                  <a:pt x="432" y="288"/>
                </a:lnTo>
                <a:moveTo>
                  <a:pt x="36" y="0"/>
                </a:moveTo>
                <a:lnTo>
                  <a:pt x="36" y="288"/>
                </a:lnTo>
                <a:lnTo>
                  <a:pt x="216" y="288"/>
                </a:lnTo>
                <a:moveTo>
                  <a:pt x="135" y="432"/>
                </a:moveTo>
                <a:lnTo>
                  <a:pt x="135" y="288"/>
                </a:lnTo>
                <a:lnTo>
                  <a:pt x="216" y="288"/>
                </a:lnTo>
                <a:moveTo>
                  <a:pt x="298" y="432"/>
                </a:moveTo>
                <a:lnTo>
                  <a:pt x="298" y="288"/>
                </a:lnTo>
                <a:lnTo>
                  <a:pt x="216" y="288"/>
                </a:lnTo>
                <a:moveTo>
                  <a:pt x="216" y="144"/>
                </a:moveTo>
                <a:lnTo>
                  <a:pt x="216" y="288"/>
                </a:lnTo>
                <a:moveTo>
                  <a:pt x="360" y="216"/>
                </a:moveTo>
                <a:lnTo>
                  <a:pt x="360" y="288"/>
                </a:lnTo>
                <a:lnTo>
                  <a:pt x="216" y="288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447920" y="3143160"/>
            <a:ext cx="458640" cy="1201680"/>
          </a:xfrm>
          <a:custGeom>
            <a:avLst/>
            <a:gdLst/>
            <a:ahLst/>
            <a:rect l="l" t="t" r="r" b="b"/>
            <a:pathLst>
              <a:path w="289" h="757">
                <a:moveTo>
                  <a:pt x="0" y="721"/>
                </a:moveTo>
                <a:lnTo>
                  <a:pt x="0" y="37"/>
                </a:lnTo>
                <a:lnTo>
                  <a:pt x="31" y="22"/>
                </a:lnTo>
                <a:lnTo>
                  <a:pt x="63" y="12"/>
                </a:lnTo>
                <a:lnTo>
                  <a:pt x="95" y="4"/>
                </a:lnTo>
                <a:lnTo>
                  <a:pt x="128" y="0"/>
                </a:lnTo>
                <a:lnTo>
                  <a:pt x="162" y="0"/>
                </a:lnTo>
                <a:lnTo>
                  <a:pt x="194" y="4"/>
                </a:lnTo>
                <a:lnTo>
                  <a:pt x="227" y="12"/>
                </a:lnTo>
                <a:lnTo>
                  <a:pt x="259" y="22"/>
                </a:lnTo>
                <a:lnTo>
                  <a:pt x="289" y="37"/>
                </a:lnTo>
                <a:lnTo>
                  <a:pt x="289" y="721"/>
                </a:lnTo>
                <a:lnTo>
                  <a:pt x="259" y="736"/>
                </a:lnTo>
                <a:lnTo>
                  <a:pt x="227" y="746"/>
                </a:lnTo>
                <a:lnTo>
                  <a:pt x="194" y="753"/>
                </a:lnTo>
                <a:lnTo>
                  <a:pt x="162" y="757"/>
                </a:lnTo>
                <a:lnTo>
                  <a:pt x="128" y="757"/>
                </a:lnTo>
                <a:lnTo>
                  <a:pt x="95" y="753"/>
                </a:lnTo>
                <a:lnTo>
                  <a:pt x="63" y="746"/>
                </a:lnTo>
                <a:lnTo>
                  <a:pt x="31" y="736"/>
                </a:lnTo>
                <a:lnTo>
                  <a:pt x="0" y="721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3201840"/>
            <a:ext cx="458640" cy="55800"/>
          </a:xfrm>
          <a:custGeom>
            <a:avLst/>
            <a:gdLst/>
            <a:ahLst/>
            <a:rect l="l" t="t" r="r" b="b"/>
            <a:pathLst>
              <a:path w="289" h="35">
                <a:moveTo>
                  <a:pt x="0" y="0"/>
                </a:moveTo>
                <a:lnTo>
                  <a:pt x="31" y="13"/>
                </a:lnTo>
                <a:lnTo>
                  <a:pt x="63" y="24"/>
                </a:lnTo>
                <a:lnTo>
                  <a:pt x="95" y="32"/>
                </a:lnTo>
                <a:lnTo>
                  <a:pt x="128" y="35"/>
                </a:lnTo>
                <a:lnTo>
                  <a:pt x="162" y="35"/>
                </a:lnTo>
                <a:lnTo>
                  <a:pt x="194" y="32"/>
                </a:lnTo>
                <a:lnTo>
                  <a:pt x="227" y="24"/>
                </a:lnTo>
                <a:lnTo>
                  <a:pt x="259" y="13"/>
                </a:lnTo>
                <a:lnTo>
                  <a:pt x="28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936960" y="4575240"/>
            <a:ext cx="1152720" cy="992160"/>
          </a:xfrm>
          <a:custGeom>
            <a:avLst/>
            <a:gdLst/>
            <a:ahLst/>
            <a:rect l="l" t="t" r="r" b="b"/>
            <a:pathLst>
              <a:path w="726" h="625">
                <a:moveTo>
                  <a:pt x="139" y="0"/>
                </a:moveTo>
                <a:lnTo>
                  <a:pt x="713" y="154"/>
                </a:lnTo>
                <a:lnTo>
                  <a:pt x="722" y="195"/>
                </a:lnTo>
                <a:lnTo>
                  <a:pt x="725" y="237"/>
                </a:lnTo>
                <a:lnTo>
                  <a:pt x="726" y="280"/>
                </a:lnTo>
                <a:lnTo>
                  <a:pt x="724" y="322"/>
                </a:lnTo>
                <a:lnTo>
                  <a:pt x="719" y="363"/>
                </a:lnTo>
                <a:lnTo>
                  <a:pt x="709" y="405"/>
                </a:lnTo>
                <a:lnTo>
                  <a:pt x="697" y="445"/>
                </a:lnTo>
                <a:lnTo>
                  <a:pt x="680" y="485"/>
                </a:lnTo>
                <a:lnTo>
                  <a:pt x="662" y="523"/>
                </a:lnTo>
                <a:lnTo>
                  <a:pt x="640" y="559"/>
                </a:lnTo>
                <a:lnTo>
                  <a:pt x="615" y="593"/>
                </a:lnTo>
                <a:lnTo>
                  <a:pt x="587" y="625"/>
                </a:lnTo>
                <a:lnTo>
                  <a:pt x="13" y="471"/>
                </a:lnTo>
                <a:lnTo>
                  <a:pt x="6" y="430"/>
                </a:lnTo>
                <a:lnTo>
                  <a:pt x="1" y="387"/>
                </a:lnTo>
                <a:lnTo>
                  <a:pt x="0" y="345"/>
                </a:lnTo>
                <a:lnTo>
                  <a:pt x="2" y="303"/>
                </a:lnTo>
                <a:lnTo>
                  <a:pt x="8" y="261"/>
                </a:lnTo>
                <a:lnTo>
                  <a:pt x="17" y="220"/>
                </a:lnTo>
                <a:lnTo>
                  <a:pt x="30" y="180"/>
                </a:lnTo>
                <a:lnTo>
                  <a:pt x="46" y="140"/>
                </a:lnTo>
                <a:lnTo>
                  <a:pt x="65" y="102"/>
                </a:lnTo>
                <a:lnTo>
                  <a:pt x="87" y="66"/>
                </a:lnTo>
                <a:lnTo>
                  <a:pt x="112" y="32"/>
                </a:lnTo>
                <a:lnTo>
                  <a:pt x="139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848120" y="4819680"/>
            <a:ext cx="220680" cy="747720"/>
          </a:xfrm>
          <a:custGeom>
            <a:avLst/>
            <a:gdLst/>
            <a:ahLst/>
            <a:rect l="l" t="t" r="r" b="b"/>
            <a:pathLst>
              <a:path w="139" h="471">
                <a:moveTo>
                  <a:pt x="139" y="0"/>
                </a:moveTo>
                <a:lnTo>
                  <a:pt x="112" y="32"/>
                </a:lnTo>
                <a:lnTo>
                  <a:pt x="87" y="66"/>
                </a:lnTo>
                <a:lnTo>
                  <a:pt x="65" y="102"/>
                </a:lnTo>
                <a:lnTo>
                  <a:pt x="46" y="140"/>
                </a:lnTo>
                <a:lnTo>
                  <a:pt x="29" y="180"/>
                </a:lnTo>
                <a:lnTo>
                  <a:pt x="17" y="220"/>
                </a:lnTo>
                <a:lnTo>
                  <a:pt x="8" y="261"/>
                </a:lnTo>
                <a:lnTo>
                  <a:pt x="2" y="303"/>
                </a:lnTo>
                <a:lnTo>
                  <a:pt x="0" y="345"/>
                </a:lnTo>
                <a:lnTo>
                  <a:pt x="1" y="387"/>
                </a:lnTo>
                <a:lnTo>
                  <a:pt x="5" y="430"/>
                </a:lnTo>
                <a:lnTo>
                  <a:pt x="13" y="47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742160" y="4689360"/>
            <a:ext cx="685800" cy="459000"/>
          </a:xfrm>
          <a:custGeom>
            <a:avLst/>
            <a:gdLst/>
            <a:ahLst/>
            <a:rect l="l" t="t" r="r" b="b"/>
            <a:pathLst>
              <a:path w="432" h="289">
                <a:moveTo>
                  <a:pt x="0" y="144"/>
                </a:moveTo>
                <a:lnTo>
                  <a:pt x="432" y="144"/>
                </a:lnTo>
                <a:moveTo>
                  <a:pt x="36" y="0"/>
                </a:moveTo>
                <a:lnTo>
                  <a:pt x="36" y="144"/>
                </a:lnTo>
                <a:lnTo>
                  <a:pt x="216" y="144"/>
                </a:lnTo>
                <a:moveTo>
                  <a:pt x="135" y="289"/>
                </a:moveTo>
                <a:lnTo>
                  <a:pt x="135" y="144"/>
                </a:lnTo>
                <a:lnTo>
                  <a:pt x="216" y="144"/>
                </a:lnTo>
                <a:moveTo>
                  <a:pt x="298" y="289"/>
                </a:moveTo>
                <a:lnTo>
                  <a:pt x="298" y="144"/>
                </a:lnTo>
                <a:lnTo>
                  <a:pt x="216" y="144"/>
                </a:lnTo>
                <a:moveTo>
                  <a:pt x="216" y="0"/>
                </a:moveTo>
                <a:lnTo>
                  <a:pt x="216" y="144"/>
                </a:lnTo>
                <a:moveTo>
                  <a:pt x="378" y="0"/>
                </a:moveTo>
                <a:lnTo>
                  <a:pt x="378" y="144"/>
                </a:lnTo>
                <a:lnTo>
                  <a:pt x="216" y="144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999120" y="3287880"/>
            <a:ext cx="457200" cy="912600"/>
          </a:xfrm>
          <a:custGeom>
            <a:avLst/>
            <a:gdLst/>
            <a:ahLst/>
            <a:rect l="l" t="t" r="r" b="b"/>
            <a:pathLst>
              <a:path w="288" h="575">
                <a:moveTo>
                  <a:pt x="0" y="540"/>
                </a:moveTo>
                <a:lnTo>
                  <a:pt x="0" y="35"/>
                </a:lnTo>
                <a:lnTo>
                  <a:pt x="29" y="22"/>
                </a:lnTo>
                <a:lnTo>
                  <a:pt x="61" y="10"/>
                </a:lnTo>
                <a:lnTo>
                  <a:pt x="94" y="3"/>
                </a:lnTo>
                <a:lnTo>
                  <a:pt x="127" y="0"/>
                </a:lnTo>
                <a:lnTo>
                  <a:pt x="160" y="0"/>
                </a:lnTo>
                <a:lnTo>
                  <a:pt x="194" y="3"/>
                </a:lnTo>
                <a:lnTo>
                  <a:pt x="227" y="10"/>
                </a:lnTo>
                <a:lnTo>
                  <a:pt x="257" y="22"/>
                </a:lnTo>
                <a:lnTo>
                  <a:pt x="288" y="35"/>
                </a:lnTo>
                <a:lnTo>
                  <a:pt x="288" y="540"/>
                </a:lnTo>
                <a:lnTo>
                  <a:pt x="257" y="554"/>
                </a:lnTo>
                <a:lnTo>
                  <a:pt x="227" y="565"/>
                </a:lnTo>
                <a:lnTo>
                  <a:pt x="194" y="573"/>
                </a:lnTo>
                <a:lnTo>
                  <a:pt x="160" y="575"/>
                </a:lnTo>
                <a:lnTo>
                  <a:pt x="127" y="575"/>
                </a:lnTo>
                <a:lnTo>
                  <a:pt x="94" y="573"/>
                </a:lnTo>
                <a:lnTo>
                  <a:pt x="61" y="565"/>
                </a:lnTo>
                <a:lnTo>
                  <a:pt x="29" y="554"/>
                </a:lnTo>
                <a:lnTo>
                  <a:pt x="0" y="54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99120" y="3343320"/>
            <a:ext cx="457200" cy="57240"/>
          </a:xfrm>
          <a:custGeom>
            <a:avLst/>
            <a:gdLst/>
            <a:ahLst/>
            <a:rect l="l" t="t" r="r" b="b"/>
            <a:pathLst>
              <a:path w="288" h="36">
                <a:moveTo>
                  <a:pt x="0" y="0"/>
                </a:moveTo>
                <a:lnTo>
                  <a:pt x="29" y="15"/>
                </a:lnTo>
                <a:lnTo>
                  <a:pt x="61" y="25"/>
                </a:lnTo>
                <a:lnTo>
                  <a:pt x="94" y="33"/>
                </a:lnTo>
                <a:lnTo>
                  <a:pt x="127" y="36"/>
                </a:lnTo>
                <a:lnTo>
                  <a:pt x="160" y="36"/>
                </a:lnTo>
                <a:lnTo>
                  <a:pt x="194" y="33"/>
                </a:lnTo>
                <a:lnTo>
                  <a:pt x="227" y="25"/>
                </a:lnTo>
                <a:lnTo>
                  <a:pt x="257" y="15"/>
                </a:lnTo>
                <a:lnTo>
                  <a:pt x="28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740560" y="4232160"/>
            <a:ext cx="457200" cy="914400"/>
          </a:xfrm>
          <a:custGeom>
            <a:avLst/>
            <a:gdLst/>
            <a:ahLst/>
            <a:rect l="l" t="t" r="r" b="b"/>
            <a:pathLst>
              <a:path w="288" h="576">
                <a:moveTo>
                  <a:pt x="0" y="540"/>
                </a:moveTo>
                <a:lnTo>
                  <a:pt x="0" y="35"/>
                </a:lnTo>
                <a:lnTo>
                  <a:pt x="30" y="21"/>
                </a:lnTo>
                <a:lnTo>
                  <a:pt x="61" y="10"/>
                </a:lnTo>
                <a:lnTo>
                  <a:pt x="94" y="4"/>
                </a:lnTo>
                <a:lnTo>
                  <a:pt x="127" y="0"/>
                </a:lnTo>
                <a:lnTo>
                  <a:pt x="160" y="0"/>
                </a:lnTo>
                <a:lnTo>
                  <a:pt x="194" y="4"/>
                </a:lnTo>
                <a:lnTo>
                  <a:pt x="227" y="10"/>
                </a:lnTo>
                <a:lnTo>
                  <a:pt x="257" y="21"/>
                </a:lnTo>
                <a:lnTo>
                  <a:pt x="288" y="35"/>
                </a:lnTo>
                <a:lnTo>
                  <a:pt x="288" y="540"/>
                </a:lnTo>
                <a:lnTo>
                  <a:pt x="257" y="554"/>
                </a:lnTo>
                <a:lnTo>
                  <a:pt x="227" y="565"/>
                </a:lnTo>
                <a:lnTo>
                  <a:pt x="194" y="572"/>
                </a:lnTo>
                <a:lnTo>
                  <a:pt x="160" y="576"/>
                </a:lnTo>
                <a:lnTo>
                  <a:pt x="127" y="576"/>
                </a:lnTo>
                <a:lnTo>
                  <a:pt x="94" y="572"/>
                </a:lnTo>
                <a:lnTo>
                  <a:pt x="61" y="565"/>
                </a:lnTo>
                <a:lnTo>
                  <a:pt x="30" y="554"/>
                </a:lnTo>
                <a:lnTo>
                  <a:pt x="0" y="54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740560" y="4287960"/>
            <a:ext cx="457200" cy="56880"/>
          </a:xfrm>
          <a:custGeom>
            <a:avLst/>
            <a:gdLst/>
            <a:ahLst/>
            <a:rect l="l" t="t" r="r" b="b"/>
            <a:pathLst>
              <a:path w="288" h="36">
                <a:moveTo>
                  <a:pt x="0" y="0"/>
                </a:moveTo>
                <a:lnTo>
                  <a:pt x="30" y="15"/>
                </a:lnTo>
                <a:lnTo>
                  <a:pt x="61" y="25"/>
                </a:lnTo>
                <a:lnTo>
                  <a:pt x="94" y="32"/>
                </a:lnTo>
                <a:lnTo>
                  <a:pt x="127" y="36"/>
                </a:lnTo>
                <a:lnTo>
                  <a:pt x="160" y="36"/>
                </a:lnTo>
                <a:lnTo>
                  <a:pt x="194" y="32"/>
                </a:lnTo>
                <a:lnTo>
                  <a:pt x="227" y="25"/>
                </a:lnTo>
                <a:lnTo>
                  <a:pt x="257" y="15"/>
                </a:lnTo>
                <a:lnTo>
                  <a:pt x="28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21000" y="4003560"/>
            <a:ext cx="458640" cy="912960"/>
          </a:xfrm>
          <a:custGeom>
            <a:avLst/>
            <a:gdLst/>
            <a:ahLst/>
            <a:rect l="l" t="t" r="r" b="b"/>
            <a:pathLst>
              <a:path w="289" h="575">
                <a:moveTo>
                  <a:pt x="0" y="540"/>
                </a:moveTo>
                <a:lnTo>
                  <a:pt x="0" y="35"/>
                </a:lnTo>
                <a:lnTo>
                  <a:pt x="30" y="21"/>
                </a:lnTo>
                <a:lnTo>
                  <a:pt x="62" y="10"/>
                </a:lnTo>
                <a:lnTo>
                  <a:pt x="95" y="3"/>
                </a:lnTo>
                <a:lnTo>
                  <a:pt x="127" y="0"/>
                </a:lnTo>
                <a:lnTo>
                  <a:pt x="161" y="0"/>
                </a:lnTo>
                <a:lnTo>
                  <a:pt x="195" y="3"/>
                </a:lnTo>
                <a:lnTo>
                  <a:pt x="227" y="10"/>
                </a:lnTo>
                <a:lnTo>
                  <a:pt x="258" y="21"/>
                </a:lnTo>
                <a:lnTo>
                  <a:pt x="289" y="35"/>
                </a:lnTo>
                <a:lnTo>
                  <a:pt x="289" y="540"/>
                </a:lnTo>
                <a:lnTo>
                  <a:pt x="258" y="554"/>
                </a:lnTo>
                <a:lnTo>
                  <a:pt x="227" y="565"/>
                </a:lnTo>
                <a:lnTo>
                  <a:pt x="195" y="571"/>
                </a:lnTo>
                <a:lnTo>
                  <a:pt x="161" y="575"/>
                </a:lnTo>
                <a:lnTo>
                  <a:pt x="127" y="575"/>
                </a:lnTo>
                <a:lnTo>
                  <a:pt x="95" y="571"/>
                </a:lnTo>
                <a:lnTo>
                  <a:pt x="62" y="565"/>
                </a:lnTo>
                <a:lnTo>
                  <a:pt x="30" y="554"/>
                </a:lnTo>
                <a:lnTo>
                  <a:pt x="0" y="54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421000" y="4059360"/>
            <a:ext cx="458640" cy="56880"/>
          </a:xfrm>
          <a:custGeom>
            <a:avLst/>
            <a:gdLst/>
            <a:ahLst/>
            <a:rect l="l" t="t" r="r" b="b"/>
            <a:pathLst>
              <a:path w="289" h="36">
                <a:moveTo>
                  <a:pt x="0" y="0"/>
                </a:moveTo>
                <a:lnTo>
                  <a:pt x="30" y="14"/>
                </a:lnTo>
                <a:lnTo>
                  <a:pt x="62" y="25"/>
                </a:lnTo>
                <a:lnTo>
                  <a:pt x="95" y="32"/>
                </a:lnTo>
                <a:lnTo>
                  <a:pt x="127" y="36"/>
                </a:lnTo>
                <a:lnTo>
                  <a:pt x="161" y="36"/>
                </a:lnTo>
                <a:lnTo>
                  <a:pt x="195" y="32"/>
                </a:lnTo>
                <a:lnTo>
                  <a:pt x="227" y="25"/>
                </a:lnTo>
                <a:lnTo>
                  <a:pt x="258" y="14"/>
                </a:lnTo>
                <a:lnTo>
                  <a:pt x="28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104840" y="4232160"/>
            <a:ext cx="687600" cy="685800"/>
          </a:xfrm>
          <a:custGeom>
            <a:avLst/>
            <a:gdLst/>
            <a:ahLst/>
            <a:rect l="l" t="t" r="r" b="b"/>
            <a:pathLst>
              <a:path w="433" h="432">
                <a:moveTo>
                  <a:pt x="0" y="288"/>
                </a:moveTo>
                <a:lnTo>
                  <a:pt x="433" y="288"/>
                </a:lnTo>
                <a:moveTo>
                  <a:pt x="55" y="144"/>
                </a:moveTo>
                <a:lnTo>
                  <a:pt x="55" y="288"/>
                </a:lnTo>
                <a:lnTo>
                  <a:pt x="216" y="288"/>
                </a:lnTo>
                <a:moveTo>
                  <a:pt x="136" y="432"/>
                </a:moveTo>
                <a:lnTo>
                  <a:pt x="136" y="288"/>
                </a:lnTo>
                <a:lnTo>
                  <a:pt x="216" y="288"/>
                </a:lnTo>
                <a:moveTo>
                  <a:pt x="298" y="432"/>
                </a:moveTo>
                <a:lnTo>
                  <a:pt x="298" y="288"/>
                </a:lnTo>
                <a:lnTo>
                  <a:pt x="216" y="288"/>
                </a:lnTo>
                <a:moveTo>
                  <a:pt x="216" y="216"/>
                </a:moveTo>
                <a:lnTo>
                  <a:pt x="216" y="288"/>
                </a:lnTo>
                <a:moveTo>
                  <a:pt x="360" y="0"/>
                </a:moveTo>
                <a:lnTo>
                  <a:pt x="360" y="288"/>
                </a:lnTo>
                <a:lnTo>
                  <a:pt x="216" y="288"/>
                </a:lnTo>
                <a:moveTo>
                  <a:pt x="216" y="216"/>
                </a:moveTo>
                <a:lnTo>
                  <a:pt x="216" y="288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628040" y="34304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144"/>
                </a:moveTo>
                <a:lnTo>
                  <a:pt x="432" y="144"/>
                </a:lnTo>
                <a:moveTo>
                  <a:pt x="54" y="0"/>
                </a:moveTo>
                <a:lnTo>
                  <a:pt x="54" y="144"/>
                </a:lnTo>
                <a:lnTo>
                  <a:pt x="216" y="144"/>
                </a:lnTo>
                <a:moveTo>
                  <a:pt x="135" y="288"/>
                </a:moveTo>
                <a:lnTo>
                  <a:pt x="135" y="144"/>
                </a:lnTo>
                <a:lnTo>
                  <a:pt x="216" y="144"/>
                </a:lnTo>
                <a:moveTo>
                  <a:pt x="298" y="288"/>
                </a:moveTo>
                <a:lnTo>
                  <a:pt x="298" y="144"/>
                </a:lnTo>
                <a:lnTo>
                  <a:pt x="216" y="144"/>
                </a:lnTo>
                <a:moveTo>
                  <a:pt x="216" y="0"/>
                </a:moveTo>
                <a:lnTo>
                  <a:pt x="216" y="144"/>
                </a:lnTo>
                <a:moveTo>
                  <a:pt x="378" y="0"/>
                </a:moveTo>
                <a:lnTo>
                  <a:pt x="378" y="144"/>
                </a:lnTo>
                <a:lnTo>
                  <a:pt x="216" y="144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820960" y="2914560"/>
            <a:ext cx="801720" cy="573120"/>
          </a:xfrm>
          <a:custGeom>
            <a:avLst/>
            <a:gdLst/>
            <a:ahLst/>
            <a:rect l="l" t="t" r="r" b="b"/>
            <a:pathLst>
              <a:path w="505" h="361">
                <a:moveTo>
                  <a:pt x="0" y="144"/>
                </a:moveTo>
                <a:lnTo>
                  <a:pt x="433" y="144"/>
                </a:lnTo>
                <a:moveTo>
                  <a:pt x="55" y="0"/>
                </a:moveTo>
                <a:lnTo>
                  <a:pt x="55" y="144"/>
                </a:lnTo>
                <a:lnTo>
                  <a:pt x="217" y="144"/>
                </a:lnTo>
                <a:moveTo>
                  <a:pt x="144" y="361"/>
                </a:moveTo>
                <a:lnTo>
                  <a:pt x="144" y="144"/>
                </a:lnTo>
                <a:lnTo>
                  <a:pt x="217" y="144"/>
                </a:lnTo>
                <a:moveTo>
                  <a:pt x="298" y="288"/>
                </a:moveTo>
                <a:lnTo>
                  <a:pt x="298" y="144"/>
                </a:lnTo>
                <a:lnTo>
                  <a:pt x="217" y="144"/>
                </a:lnTo>
                <a:moveTo>
                  <a:pt x="217" y="0"/>
                </a:moveTo>
                <a:lnTo>
                  <a:pt x="217" y="144"/>
                </a:lnTo>
                <a:moveTo>
                  <a:pt x="379" y="0"/>
                </a:moveTo>
                <a:lnTo>
                  <a:pt x="379" y="144"/>
                </a:lnTo>
                <a:lnTo>
                  <a:pt x="217" y="144"/>
                </a:lnTo>
                <a:moveTo>
                  <a:pt x="505" y="216"/>
                </a:moveTo>
                <a:lnTo>
                  <a:pt x="505" y="144"/>
                </a:lnTo>
                <a:lnTo>
                  <a:pt x="217" y="144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085160" y="5376960"/>
            <a:ext cx="1000080" cy="457200"/>
          </a:xfrm>
          <a:custGeom>
            <a:avLst/>
            <a:gdLst/>
            <a:ahLst/>
            <a:rect l="l" t="t" r="r" b="b"/>
            <a:pathLst>
              <a:path w="630" h="288">
                <a:moveTo>
                  <a:pt x="0" y="144"/>
                </a:moveTo>
                <a:lnTo>
                  <a:pt x="630" y="144"/>
                </a:lnTo>
                <a:moveTo>
                  <a:pt x="78" y="0"/>
                </a:moveTo>
                <a:lnTo>
                  <a:pt x="78" y="144"/>
                </a:lnTo>
                <a:lnTo>
                  <a:pt x="315" y="144"/>
                </a:lnTo>
                <a:moveTo>
                  <a:pt x="197" y="288"/>
                </a:moveTo>
                <a:lnTo>
                  <a:pt x="197" y="144"/>
                </a:lnTo>
                <a:lnTo>
                  <a:pt x="315" y="144"/>
                </a:lnTo>
                <a:moveTo>
                  <a:pt x="433" y="288"/>
                </a:moveTo>
                <a:lnTo>
                  <a:pt x="433" y="144"/>
                </a:lnTo>
                <a:lnTo>
                  <a:pt x="315" y="144"/>
                </a:lnTo>
                <a:moveTo>
                  <a:pt x="315" y="0"/>
                </a:moveTo>
                <a:lnTo>
                  <a:pt x="315" y="144"/>
                </a:lnTo>
                <a:moveTo>
                  <a:pt x="551" y="0"/>
                </a:moveTo>
                <a:lnTo>
                  <a:pt x="551" y="144"/>
                </a:lnTo>
                <a:lnTo>
                  <a:pt x="315" y="144"/>
                </a:lnTo>
                <a:moveTo>
                  <a:pt x="551" y="0"/>
                </a:moveTo>
                <a:lnTo>
                  <a:pt x="551" y="144"/>
                </a:lnTo>
                <a:lnTo>
                  <a:pt x="315" y="144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65480" y="5432400"/>
            <a:ext cx="685800" cy="801720"/>
          </a:xfrm>
          <a:custGeom>
            <a:avLst/>
            <a:gdLst/>
            <a:ahLst/>
            <a:rect l="l" t="t" r="r" b="b"/>
            <a:pathLst>
              <a:path w="432" h="505">
                <a:moveTo>
                  <a:pt x="0" y="361"/>
                </a:moveTo>
                <a:lnTo>
                  <a:pt x="432" y="361"/>
                </a:lnTo>
                <a:moveTo>
                  <a:pt x="36" y="0"/>
                </a:moveTo>
                <a:lnTo>
                  <a:pt x="36" y="361"/>
                </a:lnTo>
                <a:lnTo>
                  <a:pt x="216" y="361"/>
                </a:lnTo>
                <a:moveTo>
                  <a:pt x="135" y="505"/>
                </a:moveTo>
                <a:lnTo>
                  <a:pt x="135" y="361"/>
                </a:lnTo>
                <a:lnTo>
                  <a:pt x="216" y="361"/>
                </a:lnTo>
                <a:moveTo>
                  <a:pt x="297" y="505"/>
                </a:moveTo>
                <a:lnTo>
                  <a:pt x="297" y="361"/>
                </a:lnTo>
                <a:lnTo>
                  <a:pt x="216" y="361"/>
                </a:lnTo>
                <a:moveTo>
                  <a:pt x="216" y="217"/>
                </a:moveTo>
                <a:lnTo>
                  <a:pt x="216" y="361"/>
                </a:lnTo>
                <a:moveTo>
                  <a:pt x="378" y="217"/>
                </a:moveTo>
                <a:lnTo>
                  <a:pt x="378" y="361"/>
                </a:lnTo>
                <a:lnTo>
                  <a:pt x="216" y="361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481120" y="4664160"/>
            <a:ext cx="3668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481120" y="4640400"/>
            <a:ext cx="3682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81120" y="4640400"/>
            <a:ext cx="3682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481120" y="4576680"/>
            <a:ext cx="366840" cy="1224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67012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6" y="24"/>
                </a:lnTo>
                <a:lnTo>
                  <a:pt x="58" y="7"/>
                </a:lnTo>
                <a:lnTo>
                  <a:pt x="76" y="13"/>
                </a:lnTo>
                <a:lnTo>
                  <a:pt x="66" y="0"/>
                </a:lnTo>
                <a:lnTo>
                  <a:pt x="18" y="0"/>
                </a:lnTo>
                <a:lnTo>
                  <a:pt x="38" y="3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7012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6" y="24"/>
                </a:lnTo>
                <a:lnTo>
                  <a:pt x="58" y="7"/>
                </a:lnTo>
                <a:lnTo>
                  <a:pt x="76" y="13"/>
                </a:lnTo>
                <a:lnTo>
                  <a:pt x="66" y="0"/>
                </a:lnTo>
                <a:lnTo>
                  <a:pt x="18" y="0"/>
                </a:lnTo>
                <a:lnTo>
                  <a:pt x="38" y="3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38360" y="4640400"/>
            <a:ext cx="119160" cy="41040"/>
          </a:xfrm>
          <a:custGeom>
            <a:avLst/>
            <a:gdLst/>
            <a:ahLst/>
            <a:rect l="l" t="t" r="r" b="b"/>
            <a:pathLst>
              <a:path w="75" h="26">
                <a:moveTo>
                  <a:pt x="75" y="6"/>
                </a:moveTo>
                <a:lnTo>
                  <a:pt x="59" y="0"/>
                </a:lnTo>
                <a:lnTo>
                  <a:pt x="19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538360" y="4640400"/>
            <a:ext cx="119160" cy="41040"/>
          </a:xfrm>
          <a:custGeom>
            <a:avLst/>
            <a:gdLst/>
            <a:ahLst/>
            <a:rect l="l" t="t" r="r" b="b"/>
            <a:pathLst>
              <a:path w="75" h="26">
                <a:moveTo>
                  <a:pt x="75" y="6"/>
                </a:moveTo>
                <a:lnTo>
                  <a:pt x="59" y="0"/>
                </a:lnTo>
                <a:lnTo>
                  <a:pt x="19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43040" y="4592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5"/>
                </a:moveTo>
                <a:lnTo>
                  <a:pt x="18" y="0"/>
                </a:lnTo>
                <a:lnTo>
                  <a:pt x="58" y="15"/>
                </a:lnTo>
                <a:lnTo>
                  <a:pt x="77" y="11"/>
                </a:lnTo>
                <a:lnTo>
                  <a:pt x="67" y="25"/>
                </a:lnTo>
                <a:lnTo>
                  <a:pt x="19" y="25"/>
                </a:lnTo>
                <a:lnTo>
                  <a:pt x="39" y="2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43040" y="4592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5"/>
                </a:moveTo>
                <a:lnTo>
                  <a:pt x="18" y="0"/>
                </a:lnTo>
                <a:lnTo>
                  <a:pt x="58" y="15"/>
                </a:lnTo>
                <a:lnTo>
                  <a:pt x="77" y="11"/>
                </a:lnTo>
                <a:lnTo>
                  <a:pt x="67" y="25"/>
                </a:lnTo>
                <a:lnTo>
                  <a:pt x="19" y="25"/>
                </a:lnTo>
                <a:lnTo>
                  <a:pt x="39" y="2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665440" y="46450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19" y="8"/>
                </a:lnTo>
                <a:lnTo>
                  <a:pt x="0" y="14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65440" y="46450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19" y="8"/>
                </a:lnTo>
                <a:lnTo>
                  <a:pt x="0" y="14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71920" y="459576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8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71920" y="459576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8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538360" y="4641840"/>
            <a:ext cx="12240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1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9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538360" y="4641840"/>
            <a:ext cx="12240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1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9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4628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4"/>
                </a:moveTo>
                <a:lnTo>
                  <a:pt x="17" y="0"/>
                </a:lnTo>
                <a:lnTo>
                  <a:pt x="58" y="14"/>
                </a:lnTo>
                <a:lnTo>
                  <a:pt x="76" y="10"/>
                </a:lnTo>
                <a:lnTo>
                  <a:pt x="67" y="24"/>
                </a:lnTo>
                <a:lnTo>
                  <a:pt x="19" y="24"/>
                </a:lnTo>
                <a:lnTo>
                  <a:pt x="38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54628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4"/>
                </a:moveTo>
                <a:lnTo>
                  <a:pt x="17" y="0"/>
                </a:lnTo>
                <a:lnTo>
                  <a:pt x="58" y="14"/>
                </a:lnTo>
                <a:lnTo>
                  <a:pt x="76" y="10"/>
                </a:lnTo>
                <a:lnTo>
                  <a:pt x="67" y="24"/>
                </a:lnTo>
                <a:lnTo>
                  <a:pt x="19" y="24"/>
                </a:lnTo>
                <a:lnTo>
                  <a:pt x="38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6880" y="4646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60" y="25"/>
                </a:lnTo>
                <a:lnTo>
                  <a:pt x="20" y="9"/>
                </a:lnTo>
                <a:lnTo>
                  <a:pt x="0" y="14"/>
                </a:lnTo>
                <a:lnTo>
                  <a:pt x="10" y="0"/>
                </a:lnTo>
                <a:lnTo>
                  <a:pt x="60" y="0"/>
                </a:lnTo>
                <a:lnTo>
                  <a:pt x="39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666880" y="4646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60" y="25"/>
                </a:lnTo>
                <a:lnTo>
                  <a:pt x="20" y="9"/>
                </a:lnTo>
                <a:lnTo>
                  <a:pt x="0" y="14"/>
                </a:lnTo>
                <a:lnTo>
                  <a:pt x="10" y="0"/>
                </a:lnTo>
                <a:lnTo>
                  <a:pt x="60" y="0"/>
                </a:lnTo>
                <a:lnTo>
                  <a:pt x="39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81120" y="463716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49400" y="463716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94000" y="420516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494000" y="4183200"/>
            <a:ext cx="3664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494000" y="4183200"/>
            <a:ext cx="3664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494000" y="4119480"/>
            <a:ext cx="365040" cy="1206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681200" y="413712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8" y="24"/>
                </a:lnTo>
                <a:lnTo>
                  <a:pt x="58" y="8"/>
                </a:lnTo>
                <a:lnTo>
                  <a:pt x="76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81200" y="413712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8" y="24"/>
                </a:lnTo>
                <a:lnTo>
                  <a:pt x="58" y="8"/>
                </a:lnTo>
                <a:lnTo>
                  <a:pt x="76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550880" y="418320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58" y="0"/>
                </a:lnTo>
                <a:lnTo>
                  <a:pt x="19" y="16"/>
                </a:lnTo>
                <a:lnTo>
                  <a:pt x="0" y="11"/>
                </a:lnTo>
                <a:lnTo>
                  <a:pt x="9" y="26"/>
                </a:lnTo>
                <a:lnTo>
                  <a:pt x="58" y="26"/>
                </a:lnTo>
                <a:lnTo>
                  <a:pt x="37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550880" y="418320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58" y="0"/>
                </a:lnTo>
                <a:lnTo>
                  <a:pt x="19" y="16"/>
                </a:lnTo>
                <a:lnTo>
                  <a:pt x="0" y="11"/>
                </a:lnTo>
                <a:lnTo>
                  <a:pt x="9" y="26"/>
                </a:lnTo>
                <a:lnTo>
                  <a:pt x="58" y="26"/>
                </a:lnTo>
                <a:lnTo>
                  <a:pt x="37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557360" y="413388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6"/>
                </a:moveTo>
                <a:lnTo>
                  <a:pt x="17" y="0"/>
                </a:lnTo>
                <a:lnTo>
                  <a:pt x="57" y="16"/>
                </a:lnTo>
                <a:lnTo>
                  <a:pt x="75" y="12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557360" y="413388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6"/>
                </a:moveTo>
                <a:lnTo>
                  <a:pt x="17" y="0"/>
                </a:lnTo>
                <a:lnTo>
                  <a:pt x="57" y="16"/>
                </a:lnTo>
                <a:lnTo>
                  <a:pt x="75" y="12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76520" y="41878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60" y="25"/>
                </a:lnTo>
                <a:lnTo>
                  <a:pt x="21" y="8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76520" y="41878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60" y="25"/>
                </a:lnTo>
                <a:lnTo>
                  <a:pt x="21" y="8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82640" y="413856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82640" y="413856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552680" y="418464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9" y="27"/>
                </a:lnTo>
                <a:lnTo>
                  <a:pt x="59" y="27"/>
                </a:lnTo>
                <a:lnTo>
                  <a:pt x="38" y="21"/>
                </a:lnTo>
                <a:lnTo>
                  <a:pt x="7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552680" y="418464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9" y="27"/>
                </a:lnTo>
                <a:lnTo>
                  <a:pt x="59" y="27"/>
                </a:lnTo>
                <a:lnTo>
                  <a:pt x="38" y="21"/>
                </a:lnTo>
                <a:lnTo>
                  <a:pt x="7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558800" y="413712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7" y="0"/>
                </a:lnTo>
                <a:lnTo>
                  <a:pt x="57" y="15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558800" y="413712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7" y="0"/>
                </a:lnTo>
                <a:lnTo>
                  <a:pt x="57" y="15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79400" y="4189320"/>
            <a:ext cx="12096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20" y="8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679400" y="4189320"/>
            <a:ext cx="12096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20" y="8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494000" y="417996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860480" y="417996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86520" y="523548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986520" y="5213520"/>
            <a:ext cx="366840" cy="8856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986520" y="5213520"/>
            <a:ext cx="366840" cy="8856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986520" y="5148360"/>
            <a:ext cx="365040" cy="1220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74080" y="5167440"/>
            <a:ext cx="12060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8" y="24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8" y="0"/>
                </a:lnTo>
                <a:lnTo>
                  <a:pt x="39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174080" y="5167440"/>
            <a:ext cx="12060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8" y="24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8" y="0"/>
                </a:lnTo>
                <a:lnTo>
                  <a:pt x="39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043760" y="5213520"/>
            <a:ext cx="119160" cy="41040"/>
          </a:xfrm>
          <a:custGeom>
            <a:avLst/>
            <a:gdLst/>
            <a:ahLst/>
            <a:rect l="l" t="t" r="r" b="b"/>
            <a:pathLst>
              <a:path w="75" h="26">
                <a:moveTo>
                  <a:pt x="75" y="6"/>
                </a:moveTo>
                <a:lnTo>
                  <a:pt x="58" y="0"/>
                </a:lnTo>
                <a:lnTo>
                  <a:pt x="19" y="16"/>
                </a:lnTo>
                <a:lnTo>
                  <a:pt x="0" y="10"/>
                </a:lnTo>
                <a:lnTo>
                  <a:pt x="9" y="26"/>
                </a:lnTo>
                <a:lnTo>
                  <a:pt x="58" y="26"/>
                </a:lnTo>
                <a:lnTo>
                  <a:pt x="37" y="21"/>
                </a:lnTo>
                <a:lnTo>
                  <a:pt x="7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043760" y="5213520"/>
            <a:ext cx="119160" cy="41040"/>
          </a:xfrm>
          <a:custGeom>
            <a:avLst/>
            <a:gdLst/>
            <a:ahLst/>
            <a:rect l="l" t="t" r="r" b="b"/>
            <a:pathLst>
              <a:path w="75" h="26">
                <a:moveTo>
                  <a:pt x="75" y="6"/>
                </a:moveTo>
                <a:lnTo>
                  <a:pt x="58" y="0"/>
                </a:lnTo>
                <a:lnTo>
                  <a:pt x="19" y="16"/>
                </a:lnTo>
                <a:lnTo>
                  <a:pt x="0" y="10"/>
                </a:lnTo>
                <a:lnTo>
                  <a:pt x="9" y="26"/>
                </a:lnTo>
                <a:lnTo>
                  <a:pt x="58" y="26"/>
                </a:lnTo>
                <a:lnTo>
                  <a:pt x="37" y="21"/>
                </a:lnTo>
                <a:lnTo>
                  <a:pt x="7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048440" y="5164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6"/>
                </a:moveTo>
                <a:lnTo>
                  <a:pt x="18" y="0"/>
                </a:lnTo>
                <a:lnTo>
                  <a:pt x="58" y="15"/>
                </a:lnTo>
                <a:lnTo>
                  <a:pt x="76" y="12"/>
                </a:lnTo>
                <a:lnTo>
                  <a:pt x="67" y="25"/>
                </a:lnTo>
                <a:lnTo>
                  <a:pt x="19" y="25"/>
                </a:lnTo>
                <a:lnTo>
                  <a:pt x="39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048440" y="5164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6"/>
                </a:moveTo>
                <a:lnTo>
                  <a:pt x="18" y="0"/>
                </a:lnTo>
                <a:lnTo>
                  <a:pt x="58" y="15"/>
                </a:lnTo>
                <a:lnTo>
                  <a:pt x="76" y="12"/>
                </a:lnTo>
                <a:lnTo>
                  <a:pt x="67" y="25"/>
                </a:lnTo>
                <a:lnTo>
                  <a:pt x="19" y="25"/>
                </a:lnTo>
                <a:lnTo>
                  <a:pt x="39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69040" y="5218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60" y="25"/>
                </a:lnTo>
                <a:lnTo>
                  <a:pt x="21" y="7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69040" y="5218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60" y="25"/>
                </a:lnTo>
                <a:lnTo>
                  <a:pt x="21" y="7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175520" y="51688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7" y="25"/>
                </a:lnTo>
                <a:lnTo>
                  <a:pt x="59" y="9"/>
                </a:lnTo>
                <a:lnTo>
                  <a:pt x="77" y="13"/>
                </a:lnTo>
                <a:lnTo>
                  <a:pt x="66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175520" y="51688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7" y="25"/>
                </a:lnTo>
                <a:lnTo>
                  <a:pt x="59" y="9"/>
                </a:lnTo>
                <a:lnTo>
                  <a:pt x="77" y="13"/>
                </a:lnTo>
                <a:lnTo>
                  <a:pt x="66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045200" y="5214960"/>
            <a:ext cx="119160" cy="42840"/>
          </a:xfrm>
          <a:custGeom>
            <a:avLst/>
            <a:gdLst/>
            <a:ahLst/>
            <a:rect l="l" t="t" r="r" b="b"/>
            <a:pathLst>
              <a:path w="75" h="27">
                <a:moveTo>
                  <a:pt x="75" y="6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9" y="27"/>
                </a:lnTo>
                <a:lnTo>
                  <a:pt x="59" y="27"/>
                </a:lnTo>
                <a:lnTo>
                  <a:pt x="38" y="21"/>
                </a:lnTo>
                <a:lnTo>
                  <a:pt x="75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045200" y="5214960"/>
            <a:ext cx="119160" cy="42840"/>
          </a:xfrm>
          <a:custGeom>
            <a:avLst/>
            <a:gdLst/>
            <a:ahLst/>
            <a:rect l="l" t="t" r="r" b="b"/>
            <a:pathLst>
              <a:path w="75" h="27">
                <a:moveTo>
                  <a:pt x="75" y="6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9" y="27"/>
                </a:lnTo>
                <a:lnTo>
                  <a:pt x="59" y="27"/>
                </a:lnTo>
                <a:lnTo>
                  <a:pt x="38" y="21"/>
                </a:lnTo>
                <a:lnTo>
                  <a:pt x="75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051680" y="5167440"/>
            <a:ext cx="12060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7" y="0"/>
                </a:lnTo>
                <a:lnTo>
                  <a:pt x="57" y="14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051680" y="5167440"/>
            <a:ext cx="12060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7" y="0"/>
                </a:lnTo>
                <a:lnTo>
                  <a:pt x="57" y="14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172280" y="521964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19" y="8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172280" y="521964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19" y="8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86520" y="521028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353360" y="521028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058160" y="3976560"/>
            <a:ext cx="36648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058160" y="3954600"/>
            <a:ext cx="3682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058160" y="3954600"/>
            <a:ext cx="3682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058160" y="3889440"/>
            <a:ext cx="366480" cy="1220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46800" y="3908520"/>
            <a:ext cx="12096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7" y="24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8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46800" y="3908520"/>
            <a:ext cx="12096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7" y="24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8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115040" y="3954600"/>
            <a:ext cx="12096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59" y="0"/>
                </a:lnTo>
                <a:lnTo>
                  <a:pt x="19" y="16"/>
                </a:lnTo>
                <a:lnTo>
                  <a:pt x="0" y="10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15040" y="3954600"/>
            <a:ext cx="12096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59" y="0"/>
                </a:lnTo>
                <a:lnTo>
                  <a:pt x="19" y="16"/>
                </a:lnTo>
                <a:lnTo>
                  <a:pt x="0" y="10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121520" y="3905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6"/>
                </a:moveTo>
                <a:lnTo>
                  <a:pt x="17" y="0"/>
                </a:lnTo>
                <a:lnTo>
                  <a:pt x="57" y="15"/>
                </a:lnTo>
                <a:lnTo>
                  <a:pt x="76" y="12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121520" y="3905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6"/>
                </a:moveTo>
                <a:lnTo>
                  <a:pt x="17" y="0"/>
                </a:lnTo>
                <a:lnTo>
                  <a:pt x="57" y="15"/>
                </a:lnTo>
                <a:lnTo>
                  <a:pt x="76" y="12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42120" y="3959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20" y="7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3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42120" y="3959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20" y="7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3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48600" y="390996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8" y="9"/>
                </a:lnTo>
                <a:lnTo>
                  <a:pt x="77" y="13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48600" y="390996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8" y="9"/>
                </a:lnTo>
                <a:lnTo>
                  <a:pt x="77" y="13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6840" y="3956040"/>
            <a:ext cx="12204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5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10" y="27"/>
                </a:lnTo>
                <a:lnTo>
                  <a:pt x="59" y="27"/>
                </a:lnTo>
                <a:lnTo>
                  <a:pt x="38" y="21"/>
                </a:lnTo>
                <a:lnTo>
                  <a:pt x="7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116840" y="3956040"/>
            <a:ext cx="12204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5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10" y="27"/>
                </a:lnTo>
                <a:lnTo>
                  <a:pt x="59" y="27"/>
                </a:lnTo>
                <a:lnTo>
                  <a:pt x="38" y="21"/>
                </a:lnTo>
                <a:lnTo>
                  <a:pt x="7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124760" y="3908520"/>
            <a:ext cx="119160" cy="38160"/>
          </a:xfrm>
          <a:custGeom>
            <a:avLst/>
            <a:gdLst/>
            <a:ahLst/>
            <a:rect l="l" t="t" r="r" b="b"/>
            <a:pathLst>
              <a:path w="75" h="24">
                <a:moveTo>
                  <a:pt x="0" y="5"/>
                </a:moveTo>
                <a:lnTo>
                  <a:pt x="16" y="0"/>
                </a:lnTo>
                <a:lnTo>
                  <a:pt x="57" y="14"/>
                </a:lnTo>
                <a:lnTo>
                  <a:pt x="75" y="10"/>
                </a:lnTo>
                <a:lnTo>
                  <a:pt x="66" y="24"/>
                </a:lnTo>
                <a:lnTo>
                  <a:pt x="18" y="24"/>
                </a:lnTo>
                <a:lnTo>
                  <a:pt x="37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124760" y="3908520"/>
            <a:ext cx="119160" cy="38160"/>
          </a:xfrm>
          <a:custGeom>
            <a:avLst/>
            <a:gdLst/>
            <a:ahLst/>
            <a:rect l="l" t="t" r="r" b="b"/>
            <a:pathLst>
              <a:path w="75" h="24">
                <a:moveTo>
                  <a:pt x="0" y="5"/>
                </a:moveTo>
                <a:lnTo>
                  <a:pt x="16" y="0"/>
                </a:lnTo>
                <a:lnTo>
                  <a:pt x="57" y="14"/>
                </a:lnTo>
                <a:lnTo>
                  <a:pt x="75" y="10"/>
                </a:lnTo>
                <a:lnTo>
                  <a:pt x="66" y="24"/>
                </a:lnTo>
                <a:lnTo>
                  <a:pt x="18" y="24"/>
                </a:lnTo>
                <a:lnTo>
                  <a:pt x="37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43920" y="3960720"/>
            <a:ext cx="12204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60" y="25"/>
                </a:lnTo>
                <a:lnTo>
                  <a:pt x="21" y="8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243920" y="3960720"/>
            <a:ext cx="12204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60" y="25"/>
                </a:lnTo>
                <a:lnTo>
                  <a:pt x="21" y="8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58160" y="395136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426440" y="395136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03920" y="498312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803920" y="4957920"/>
            <a:ext cx="36684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803920" y="4957920"/>
            <a:ext cx="36684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803920" y="4894200"/>
            <a:ext cx="365040" cy="1238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991120" y="491184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20"/>
                </a:moveTo>
                <a:lnTo>
                  <a:pt x="18" y="25"/>
                </a:lnTo>
                <a:lnTo>
                  <a:pt x="58" y="8"/>
                </a:lnTo>
                <a:lnTo>
                  <a:pt x="76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991120" y="491184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20"/>
                </a:moveTo>
                <a:lnTo>
                  <a:pt x="18" y="25"/>
                </a:lnTo>
                <a:lnTo>
                  <a:pt x="58" y="8"/>
                </a:lnTo>
                <a:lnTo>
                  <a:pt x="76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861160" y="495792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8" y="0"/>
                </a:lnTo>
                <a:lnTo>
                  <a:pt x="19" y="18"/>
                </a:lnTo>
                <a:lnTo>
                  <a:pt x="0" y="12"/>
                </a:lnTo>
                <a:lnTo>
                  <a:pt x="9" y="27"/>
                </a:lnTo>
                <a:lnTo>
                  <a:pt x="58" y="27"/>
                </a:lnTo>
                <a:lnTo>
                  <a:pt x="37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861160" y="495792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8" y="0"/>
                </a:lnTo>
                <a:lnTo>
                  <a:pt x="19" y="18"/>
                </a:lnTo>
                <a:lnTo>
                  <a:pt x="0" y="12"/>
                </a:lnTo>
                <a:lnTo>
                  <a:pt x="9" y="27"/>
                </a:lnTo>
                <a:lnTo>
                  <a:pt x="58" y="27"/>
                </a:lnTo>
                <a:lnTo>
                  <a:pt x="37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867280" y="4910040"/>
            <a:ext cx="12060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7" y="0"/>
                </a:lnTo>
                <a:lnTo>
                  <a:pt x="57" y="15"/>
                </a:lnTo>
                <a:lnTo>
                  <a:pt x="76" y="11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867280" y="4910040"/>
            <a:ext cx="12060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7" y="0"/>
                </a:lnTo>
                <a:lnTo>
                  <a:pt x="57" y="15"/>
                </a:lnTo>
                <a:lnTo>
                  <a:pt x="76" y="11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987880" y="496260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75" y="20"/>
                </a:moveTo>
                <a:lnTo>
                  <a:pt x="59" y="25"/>
                </a:lnTo>
                <a:lnTo>
                  <a:pt x="20" y="9"/>
                </a:lnTo>
                <a:lnTo>
                  <a:pt x="0" y="15"/>
                </a:lnTo>
                <a:lnTo>
                  <a:pt x="9" y="0"/>
                </a:lnTo>
                <a:lnTo>
                  <a:pt x="59" y="0"/>
                </a:lnTo>
                <a:lnTo>
                  <a:pt x="38" y="4"/>
                </a:lnTo>
                <a:lnTo>
                  <a:pt x="75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987880" y="496260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75" y="20"/>
                </a:moveTo>
                <a:lnTo>
                  <a:pt x="59" y="25"/>
                </a:lnTo>
                <a:lnTo>
                  <a:pt x="20" y="9"/>
                </a:lnTo>
                <a:lnTo>
                  <a:pt x="0" y="15"/>
                </a:lnTo>
                <a:lnTo>
                  <a:pt x="9" y="0"/>
                </a:lnTo>
                <a:lnTo>
                  <a:pt x="59" y="0"/>
                </a:lnTo>
                <a:lnTo>
                  <a:pt x="38" y="4"/>
                </a:lnTo>
                <a:lnTo>
                  <a:pt x="75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992920" y="49132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992920" y="49132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862600" y="496080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5"/>
                </a:moveTo>
                <a:lnTo>
                  <a:pt x="59" y="0"/>
                </a:lnTo>
                <a:lnTo>
                  <a:pt x="20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862600" y="496080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5"/>
                </a:moveTo>
                <a:lnTo>
                  <a:pt x="59" y="0"/>
                </a:lnTo>
                <a:lnTo>
                  <a:pt x="20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870520" y="491184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5"/>
                </a:moveTo>
                <a:lnTo>
                  <a:pt x="16" y="0"/>
                </a:lnTo>
                <a:lnTo>
                  <a:pt x="56" y="15"/>
                </a:lnTo>
                <a:lnTo>
                  <a:pt x="75" y="11"/>
                </a:lnTo>
                <a:lnTo>
                  <a:pt x="65" y="25"/>
                </a:lnTo>
                <a:lnTo>
                  <a:pt x="17" y="25"/>
                </a:lnTo>
                <a:lnTo>
                  <a:pt x="37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870520" y="491184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5"/>
                </a:moveTo>
                <a:lnTo>
                  <a:pt x="16" y="0"/>
                </a:lnTo>
                <a:lnTo>
                  <a:pt x="56" y="15"/>
                </a:lnTo>
                <a:lnTo>
                  <a:pt x="75" y="11"/>
                </a:lnTo>
                <a:lnTo>
                  <a:pt x="65" y="25"/>
                </a:lnTo>
                <a:lnTo>
                  <a:pt x="17" y="25"/>
                </a:lnTo>
                <a:lnTo>
                  <a:pt x="37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989680" y="496404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20"/>
                </a:moveTo>
                <a:lnTo>
                  <a:pt x="59" y="26"/>
                </a:lnTo>
                <a:lnTo>
                  <a:pt x="20" y="9"/>
                </a:lnTo>
                <a:lnTo>
                  <a:pt x="0" y="15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989680" y="496404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20"/>
                </a:moveTo>
                <a:lnTo>
                  <a:pt x="59" y="26"/>
                </a:lnTo>
                <a:lnTo>
                  <a:pt x="20" y="9"/>
                </a:lnTo>
                <a:lnTo>
                  <a:pt x="0" y="15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803920" y="495612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495612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022560" y="536256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22560" y="5338800"/>
            <a:ext cx="366840" cy="871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022560" y="5338800"/>
            <a:ext cx="366840" cy="871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022560" y="5273640"/>
            <a:ext cx="365040" cy="1238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209760" y="5292720"/>
            <a:ext cx="12096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19"/>
                </a:moveTo>
                <a:lnTo>
                  <a:pt x="18" y="25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209760" y="5292720"/>
            <a:ext cx="12096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19"/>
                </a:moveTo>
                <a:lnTo>
                  <a:pt x="18" y="25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079800" y="533880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5"/>
                </a:moveTo>
                <a:lnTo>
                  <a:pt x="58" y="0"/>
                </a:lnTo>
                <a:lnTo>
                  <a:pt x="19" y="17"/>
                </a:lnTo>
                <a:lnTo>
                  <a:pt x="0" y="11"/>
                </a:lnTo>
                <a:lnTo>
                  <a:pt x="9" y="27"/>
                </a:lnTo>
                <a:lnTo>
                  <a:pt x="58" y="27"/>
                </a:lnTo>
                <a:lnTo>
                  <a:pt x="37" y="21"/>
                </a:lnTo>
                <a:lnTo>
                  <a:pt x="7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079800" y="533880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5"/>
                </a:moveTo>
                <a:lnTo>
                  <a:pt x="58" y="0"/>
                </a:lnTo>
                <a:lnTo>
                  <a:pt x="19" y="17"/>
                </a:lnTo>
                <a:lnTo>
                  <a:pt x="0" y="11"/>
                </a:lnTo>
                <a:lnTo>
                  <a:pt x="9" y="27"/>
                </a:lnTo>
                <a:lnTo>
                  <a:pt x="58" y="27"/>
                </a:lnTo>
                <a:lnTo>
                  <a:pt x="37" y="21"/>
                </a:lnTo>
                <a:lnTo>
                  <a:pt x="7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86280" y="5289480"/>
            <a:ext cx="11880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6"/>
                </a:moveTo>
                <a:lnTo>
                  <a:pt x="17" y="0"/>
                </a:lnTo>
                <a:lnTo>
                  <a:pt x="57" y="15"/>
                </a:lnTo>
                <a:lnTo>
                  <a:pt x="75" y="11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086280" y="5289480"/>
            <a:ext cx="11880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6"/>
                </a:moveTo>
                <a:lnTo>
                  <a:pt x="17" y="0"/>
                </a:lnTo>
                <a:lnTo>
                  <a:pt x="57" y="15"/>
                </a:lnTo>
                <a:lnTo>
                  <a:pt x="75" y="11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05080" y="53434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60" y="25"/>
                </a:lnTo>
                <a:lnTo>
                  <a:pt x="21" y="8"/>
                </a:lnTo>
                <a:lnTo>
                  <a:pt x="0" y="14"/>
                </a:lnTo>
                <a:lnTo>
                  <a:pt x="10" y="0"/>
                </a:lnTo>
                <a:lnTo>
                  <a:pt x="60" y="0"/>
                </a:lnTo>
                <a:lnTo>
                  <a:pt x="39" y="3"/>
                </a:lnTo>
                <a:lnTo>
                  <a:pt x="7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205080" y="53434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60" y="25"/>
                </a:lnTo>
                <a:lnTo>
                  <a:pt x="21" y="8"/>
                </a:lnTo>
                <a:lnTo>
                  <a:pt x="0" y="14"/>
                </a:lnTo>
                <a:lnTo>
                  <a:pt x="10" y="0"/>
                </a:lnTo>
                <a:lnTo>
                  <a:pt x="60" y="0"/>
                </a:lnTo>
                <a:lnTo>
                  <a:pt x="39" y="3"/>
                </a:lnTo>
                <a:lnTo>
                  <a:pt x="7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11560" y="5294160"/>
            <a:ext cx="12204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9" y="8"/>
                </a:lnTo>
                <a:lnTo>
                  <a:pt x="77" y="13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211560" y="5294160"/>
            <a:ext cx="12204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9" y="8"/>
                </a:lnTo>
                <a:lnTo>
                  <a:pt x="77" y="13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81240" y="534204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4"/>
                </a:moveTo>
                <a:lnTo>
                  <a:pt x="59" y="0"/>
                </a:lnTo>
                <a:lnTo>
                  <a:pt x="20" y="16"/>
                </a:lnTo>
                <a:lnTo>
                  <a:pt x="0" y="10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081240" y="534204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4"/>
                </a:moveTo>
                <a:lnTo>
                  <a:pt x="59" y="0"/>
                </a:lnTo>
                <a:lnTo>
                  <a:pt x="20" y="16"/>
                </a:lnTo>
                <a:lnTo>
                  <a:pt x="0" y="10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087720" y="529272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7" y="0"/>
                </a:lnTo>
                <a:lnTo>
                  <a:pt x="57" y="14"/>
                </a:lnTo>
                <a:lnTo>
                  <a:pt x="76" y="10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087720" y="529272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7" y="0"/>
                </a:lnTo>
                <a:lnTo>
                  <a:pt x="57" y="14"/>
                </a:lnTo>
                <a:lnTo>
                  <a:pt x="76" y="10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345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59" y="25"/>
                </a:lnTo>
                <a:lnTo>
                  <a:pt x="20" y="8"/>
                </a:lnTo>
                <a:lnTo>
                  <a:pt x="0" y="14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208320" y="5345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59" y="25"/>
                </a:lnTo>
                <a:lnTo>
                  <a:pt x="20" y="8"/>
                </a:lnTo>
                <a:lnTo>
                  <a:pt x="0" y="14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022560" y="5337000"/>
            <a:ext cx="1800" cy="874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389400" y="5337000"/>
            <a:ext cx="1440" cy="874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43760" y="569448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43760" y="5670720"/>
            <a:ext cx="366480" cy="8856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43760" y="5670720"/>
            <a:ext cx="366480" cy="8856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143760" y="5607000"/>
            <a:ext cx="365040" cy="1224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32400" y="5624640"/>
            <a:ext cx="12096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9"/>
                </a:moveTo>
                <a:lnTo>
                  <a:pt x="16" y="24"/>
                </a:lnTo>
                <a:lnTo>
                  <a:pt x="57" y="8"/>
                </a:lnTo>
                <a:lnTo>
                  <a:pt x="76" y="14"/>
                </a:lnTo>
                <a:lnTo>
                  <a:pt x="66" y="0"/>
                </a:lnTo>
                <a:lnTo>
                  <a:pt x="18" y="0"/>
                </a:lnTo>
                <a:lnTo>
                  <a:pt x="37" y="4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332400" y="5624640"/>
            <a:ext cx="12096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9"/>
                </a:moveTo>
                <a:lnTo>
                  <a:pt x="16" y="24"/>
                </a:lnTo>
                <a:lnTo>
                  <a:pt x="57" y="8"/>
                </a:lnTo>
                <a:lnTo>
                  <a:pt x="76" y="14"/>
                </a:lnTo>
                <a:lnTo>
                  <a:pt x="66" y="0"/>
                </a:lnTo>
                <a:lnTo>
                  <a:pt x="18" y="0"/>
                </a:lnTo>
                <a:lnTo>
                  <a:pt x="37" y="4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99200" y="567072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60" y="0"/>
                </a:lnTo>
                <a:lnTo>
                  <a:pt x="19" y="17"/>
                </a:lnTo>
                <a:lnTo>
                  <a:pt x="0" y="11"/>
                </a:lnTo>
                <a:lnTo>
                  <a:pt x="10" y="26"/>
                </a:lnTo>
                <a:lnTo>
                  <a:pt x="60" y="26"/>
                </a:lnTo>
                <a:lnTo>
                  <a:pt x="39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199200" y="567072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60" y="0"/>
                </a:lnTo>
                <a:lnTo>
                  <a:pt x="19" y="17"/>
                </a:lnTo>
                <a:lnTo>
                  <a:pt x="0" y="11"/>
                </a:lnTo>
                <a:lnTo>
                  <a:pt x="10" y="26"/>
                </a:lnTo>
                <a:lnTo>
                  <a:pt x="60" y="26"/>
                </a:lnTo>
                <a:lnTo>
                  <a:pt x="39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05680" y="562140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6"/>
                </a:moveTo>
                <a:lnTo>
                  <a:pt x="17" y="0"/>
                </a:lnTo>
                <a:lnTo>
                  <a:pt x="58" y="16"/>
                </a:lnTo>
                <a:lnTo>
                  <a:pt x="77" y="12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205680" y="562140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6"/>
                </a:moveTo>
                <a:lnTo>
                  <a:pt x="17" y="0"/>
                </a:lnTo>
                <a:lnTo>
                  <a:pt x="58" y="16"/>
                </a:lnTo>
                <a:lnTo>
                  <a:pt x="77" y="12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327720" y="56754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8" y="25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8" y="0"/>
                </a:lnTo>
                <a:lnTo>
                  <a:pt x="37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27720" y="56754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8" y="25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8" y="0"/>
                </a:lnTo>
                <a:lnTo>
                  <a:pt x="37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334200" y="56260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7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8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34200" y="56260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7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8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200640" y="5672160"/>
            <a:ext cx="12240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0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9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200640" y="5672160"/>
            <a:ext cx="12240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0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9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208560" y="5624640"/>
            <a:ext cx="12096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6" y="0"/>
                </a:lnTo>
                <a:lnTo>
                  <a:pt x="58" y="15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7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208560" y="5624640"/>
            <a:ext cx="12096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6" y="0"/>
                </a:lnTo>
                <a:lnTo>
                  <a:pt x="58" y="15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7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329520" y="567684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59" y="25"/>
                </a:lnTo>
                <a:lnTo>
                  <a:pt x="20" y="9"/>
                </a:lnTo>
                <a:lnTo>
                  <a:pt x="0" y="14"/>
                </a:lnTo>
                <a:lnTo>
                  <a:pt x="9" y="0"/>
                </a:lnTo>
                <a:lnTo>
                  <a:pt x="59" y="0"/>
                </a:lnTo>
                <a:lnTo>
                  <a:pt x="38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329520" y="567684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59" y="25"/>
                </a:lnTo>
                <a:lnTo>
                  <a:pt x="20" y="9"/>
                </a:lnTo>
                <a:lnTo>
                  <a:pt x="0" y="14"/>
                </a:lnTo>
                <a:lnTo>
                  <a:pt x="9" y="0"/>
                </a:lnTo>
                <a:lnTo>
                  <a:pt x="59" y="0"/>
                </a:lnTo>
                <a:lnTo>
                  <a:pt x="38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143760" y="566748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510240" y="566748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516800" y="466416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516800" y="4640400"/>
            <a:ext cx="36684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516800" y="4640400"/>
            <a:ext cx="36684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516800" y="4576680"/>
            <a:ext cx="365040" cy="1224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70580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6" y="24"/>
                </a:lnTo>
                <a:lnTo>
                  <a:pt x="57" y="7"/>
                </a:lnTo>
                <a:lnTo>
                  <a:pt x="76" y="13"/>
                </a:lnTo>
                <a:lnTo>
                  <a:pt x="66" y="0"/>
                </a:lnTo>
                <a:lnTo>
                  <a:pt x="18" y="0"/>
                </a:lnTo>
                <a:lnTo>
                  <a:pt x="37" y="3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70580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6" y="24"/>
                </a:lnTo>
                <a:lnTo>
                  <a:pt x="57" y="7"/>
                </a:lnTo>
                <a:lnTo>
                  <a:pt x="76" y="13"/>
                </a:lnTo>
                <a:lnTo>
                  <a:pt x="66" y="0"/>
                </a:lnTo>
                <a:lnTo>
                  <a:pt x="18" y="0"/>
                </a:lnTo>
                <a:lnTo>
                  <a:pt x="37" y="3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572240" y="4640400"/>
            <a:ext cx="12096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60" y="0"/>
                </a:lnTo>
                <a:lnTo>
                  <a:pt x="19" y="17"/>
                </a:lnTo>
                <a:lnTo>
                  <a:pt x="0" y="11"/>
                </a:lnTo>
                <a:lnTo>
                  <a:pt x="10" y="26"/>
                </a:lnTo>
                <a:lnTo>
                  <a:pt x="60" y="26"/>
                </a:lnTo>
                <a:lnTo>
                  <a:pt x="39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572240" y="4640400"/>
            <a:ext cx="12096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60" y="0"/>
                </a:lnTo>
                <a:lnTo>
                  <a:pt x="19" y="17"/>
                </a:lnTo>
                <a:lnTo>
                  <a:pt x="0" y="11"/>
                </a:lnTo>
                <a:lnTo>
                  <a:pt x="10" y="26"/>
                </a:lnTo>
                <a:lnTo>
                  <a:pt x="60" y="26"/>
                </a:lnTo>
                <a:lnTo>
                  <a:pt x="39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578720" y="4592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5"/>
                </a:moveTo>
                <a:lnTo>
                  <a:pt x="17" y="0"/>
                </a:lnTo>
                <a:lnTo>
                  <a:pt x="58" y="15"/>
                </a:lnTo>
                <a:lnTo>
                  <a:pt x="77" y="11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578720" y="4592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5"/>
                </a:moveTo>
                <a:lnTo>
                  <a:pt x="17" y="0"/>
                </a:lnTo>
                <a:lnTo>
                  <a:pt x="58" y="15"/>
                </a:lnTo>
                <a:lnTo>
                  <a:pt x="77" y="11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701120" y="46450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8" y="25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8" y="0"/>
                </a:lnTo>
                <a:lnTo>
                  <a:pt x="37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701120" y="46450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8" y="25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8" y="0"/>
                </a:lnTo>
                <a:lnTo>
                  <a:pt x="37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707240" y="459576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7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8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707240" y="459576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7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8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574040" y="4641840"/>
            <a:ext cx="12204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0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8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574040" y="4641840"/>
            <a:ext cx="12204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0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8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58196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4"/>
                </a:moveTo>
                <a:lnTo>
                  <a:pt x="16" y="0"/>
                </a:lnTo>
                <a:lnTo>
                  <a:pt x="57" y="14"/>
                </a:lnTo>
                <a:lnTo>
                  <a:pt x="76" y="10"/>
                </a:lnTo>
                <a:lnTo>
                  <a:pt x="66" y="24"/>
                </a:lnTo>
                <a:lnTo>
                  <a:pt x="18" y="24"/>
                </a:lnTo>
                <a:lnTo>
                  <a:pt x="37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58196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4"/>
                </a:moveTo>
                <a:lnTo>
                  <a:pt x="16" y="0"/>
                </a:lnTo>
                <a:lnTo>
                  <a:pt x="57" y="14"/>
                </a:lnTo>
                <a:lnTo>
                  <a:pt x="76" y="10"/>
                </a:lnTo>
                <a:lnTo>
                  <a:pt x="66" y="24"/>
                </a:lnTo>
                <a:lnTo>
                  <a:pt x="18" y="24"/>
                </a:lnTo>
                <a:lnTo>
                  <a:pt x="37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702560" y="4646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59" y="25"/>
                </a:lnTo>
                <a:lnTo>
                  <a:pt x="20" y="9"/>
                </a:lnTo>
                <a:lnTo>
                  <a:pt x="0" y="14"/>
                </a:lnTo>
                <a:lnTo>
                  <a:pt x="9" y="0"/>
                </a:lnTo>
                <a:lnTo>
                  <a:pt x="59" y="0"/>
                </a:lnTo>
                <a:lnTo>
                  <a:pt x="38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702560" y="4646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59" y="25"/>
                </a:lnTo>
                <a:lnTo>
                  <a:pt x="20" y="9"/>
                </a:lnTo>
                <a:lnTo>
                  <a:pt x="0" y="14"/>
                </a:lnTo>
                <a:lnTo>
                  <a:pt x="9" y="0"/>
                </a:lnTo>
                <a:lnTo>
                  <a:pt x="59" y="0"/>
                </a:lnTo>
                <a:lnTo>
                  <a:pt x="38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516800" y="463716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883640" y="463716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571360" y="5308560"/>
            <a:ext cx="58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IE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792920" y="4470480"/>
            <a:ext cx="35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662440" y="5653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881760" y="534672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P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474320" y="37828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362680" y="5105520"/>
            <a:ext cx="72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LA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395000" y="4356000"/>
            <a:ext cx="56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L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08440" y="387504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908440" y="3849840"/>
            <a:ext cx="3664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908440" y="3849840"/>
            <a:ext cx="3664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908440" y="3786120"/>
            <a:ext cx="365040" cy="1238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095640" y="3805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19"/>
                </a:moveTo>
                <a:lnTo>
                  <a:pt x="18" y="25"/>
                </a:lnTo>
                <a:lnTo>
                  <a:pt x="58" y="7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9" y="3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095640" y="3805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19"/>
                </a:moveTo>
                <a:lnTo>
                  <a:pt x="18" y="25"/>
                </a:lnTo>
                <a:lnTo>
                  <a:pt x="58" y="7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9" y="3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965320" y="3849840"/>
            <a:ext cx="12096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8" y="0"/>
                </a:lnTo>
                <a:lnTo>
                  <a:pt x="19" y="18"/>
                </a:lnTo>
                <a:lnTo>
                  <a:pt x="0" y="12"/>
                </a:lnTo>
                <a:lnTo>
                  <a:pt x="9" y="27"/>
                </a:lnTo>
                <a:lnTo>
                  <a:pt x="58" y="27"/>
                </a:lnTo>
                <a:lnTo>
                  <a:pt x="37" y="22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965320" y="3849840"/>
            <a:ext cx="12096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8" y="0"/>
                </a:lnTo>
                <a:lnTo>
                  <a:pt x="19" y="18"/>
                </a:lnTo>
                <a:lnTo>
                  <a:pt x="0" y="12"/>
                </a:lnTo>
                <a:lnTo>
                  <a:pt x="9" y="27"/>
                </a:lnTo>
                <a:lnTo>
                  <a:pt x="58" y="27"/>
                </a:lnTo>
                <a:lnTo>
                  <a:pt x="37" y="22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70360" y="3801960"/>
            <a:ext cx="12060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8" y="0"/>
                </a:lnTo>
                <a:lnTo>
                  <a:pt x="58" y="15"/>
                </a:lnTo>
                <a:lnTo>
                  <a:pt x="76" y="11"/>
                </a:lnTo>
                <a:lnTo>
                  <a:pt x="67" y="25"/>
                </a:lnTo>
                <a:lnTo>
                  <a:pt x="19" y="25"/>
                </a:lnTo>
                <a:lnTo>
                  <a:pt x="39" y="21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70360" y="3801960"/>
            <a:ext cx="12060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8" y="0"/>
                </a:lnTo>
                <a:lnTo>
                  <a:pt x="58" y="15"/>
                </a:lnTo>
                <a:lnTo>
                  <a:pt x="76" y="11"/>
                </a:lnTo>
                <a:lnTo>
                  <a:pt x="67" y="25"/>
                </a:lnTo>
                <a:lnTo>
                  <a:pt x="19" y="25"/>
                </a:lnTo>
                <a:lnTo>
                  <a:pt x="39" y="21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090960" y="385452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60" y="25"/>
                </a:lnTo>
                <a:lnTo>
                  <a:pt x="21" y="9"/>
                </a:lnTo>
                <a:lnTo>
                  <a:pt x="0" y="15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090960" y="385452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60" y="25"/>
                </a:lnTo>
                <a:lnTo>
                  <a:pt x="21" y="9"/>
                </a:lnTo>
                <a:lnTo>
                  <a:pt x="0" y="15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97080" y="380520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97080" y="380520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967120" y="385272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5"/>
                </a:moveTo>
                <a:lnTo>
                  <a:pt x="59" y="0"/>
                </a:lnTo>
                <a:lnTo>
                  <a:pt x="20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967120" y="385272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5"/>
                </a:moveTo>
                <a:lnTo>
                  <a:pt x="59" y="0"/>
                </a:lnTo>
                <a:lnTo>
                  <a:pt x="20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973240" y="3805200"/>
            <a:ext cx="12096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4"/>
                </a:moveTo>
                <a:lnTo>
                  <a:pt x="17" y="0"/>
                </a:lnTo>
                <a:lnTo>
                  <a:pt x="57" y="14"/>
                </a:lnTo>
                <a:lnTo>
                  <a:pt x="76" y="10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973240" y="3805200"/>
            <a:ext cx="12096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4"/>
                </a:moveTo>
                <a:lnTo>
                  <a:pt x="17" y="0"/>
                </a:lnTo>
                <a:lnTo>
                  <a:pt x="57" y="14"/>
                </a:lnTo>
                <a:lnTo>
                  <a:pt x="76" y="10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094200" y="385596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20"/>
                </a:moveTo>
                <a:lnTo>
                  <a:pt x="59" y="26"/>
                </a:lnTo>
                <a:lnTo>
                  <a:pt x="20" y="9"/>
                </a:lnTo>
                <a:lnTo>
                  <a:pt x="0" y="15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094200" y="385596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20"/>
                </a:moveTo>
                <a:lnTo>
                  <a:pt x="59" y="26"/>
                </a:lnTo>
                <a:lnTo>
                  <a:pt x="20" y="9"/>
                </a:lnTo>
                <a:lnTo>
                  <a:pt x="0" y="15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908440" y="384804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74920" y="384804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301200" y="3745080"/>
            <a:ext cx="74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C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159600" y="4689360"/>
            <a:ext cx="1353960" cy="317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668680" y="4721400"/>
            <a:ext cx="380880" cy="6555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1849320" y="3887640"/>
            <a:ext cx="1086120" cy="2858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159600" y="5006880"/>
            <a:ext cx="839520" cy="2556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65520" y="4027320"/>
            <a:ext cx="4403520" cy="890640"/>
          </a:xfrm>
          <a:custGeom>
            <a:avLst/>
            <a:gdLst/>
            <a:ahLst/>
            <a:rect l="l" t="t" r="r" b="b"/>
            <a:pathLst>
              <a:path w="2774" h="561">
                <a:moveTo>
                  <a:pt x="2013" y="561"/>
                </a:moveTo>
                <a:lnTo>
                  <a:pt x="2774" y="0"/>
                </a:lnTo>
                <a:lnTo>
                  <a:pt x="0" y="432"/>
                </a:lnTo>
              </a:path>
            </a:pathLst>
          </a:custGeom>
          <a:noFill/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90720" y="42321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32" y="94"/>
                </a:moveTo>
                <a:lnTo>
                  <a:pt x="0" y="94"/>
                </a:lnTo>
                <a:lnTo>
                  <a:pt x="0" y="144"/>
                </a:lnTo>
                <a:lnTo>
                  <a:pt x="144" y="144"/>
                </a:lnTo>
                <a:lnTo>
                  <a:pt x="144" y="94"/>
                </a:lnTo>
                <a:lnTo>
                  <a:pt x="113" y="94"/>
                </a:lnTo>
                <a:lnTo>
                  <a:pt x="113" y="87"/>
                </a:lnTo>
                <a:lnTo>
                  <a:pt x="127" y="87"/>
                </a:lnTo>
                <a:lnTo>
                  <a:pt x="127" y="0"/>
                </a:lnTo>
                <a:lnTo>
                  <a:pt x="18" y="0"/>
                </a:lnTo>
                <a:lnTo>
                  <a:pt x="18" y="87"/>
                </a:lnTo>
                <a:lnTo>
                  <a:pt x="32" y="87"/>
                </a:lnTo>
                <a:lnTo>
                  <a:pt x="32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041480" y="4370400"/>
            <a:ext cx="128520" cy="11160"/>
          </a:xfrm>
          <a:custGeom>
            <a:avLst/>
            <a:gdLst/>
            <a:ahLst/>
            <a:rect l="l" t="t" r="r" b="b"/>
            <a:pathLst>
              <a:path w="81" h="7">
                <a:moveTo>
                  <a:pt x="0" y="7"/>
                </a:moveTo>
                <a:lnTo>
                  <a:pt x="81" y="7"/>
                </a:lnTo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109520" y="4389480"/>
            <a:ext cx="93960" cy="63360"/>
          </a:xfrm>
          <a:custGeom>
            <a:avLst/>
            <a:gdLst/>
            <a:ahLst/>
            <a:rect l="l" t="t" r="r" b="b"/>
            <a:pathLst>
              <a:path w="59" h="40">
                <a:moveTo>
                  <a:pt x="0" y="40"/>
                </a:moveTo>
                <a:lnTo>
                  <a:pt x="47" y="40"/>
                </a:lnTo>
                <a:lnTo>
                  <a:pt x="47" y="0"/>
                </a:lnTo>
                <a:lnTo>
                  <a:pt x="0" y="0"/>
                </a:lnTo>
                <a:lnTo>
                  <a:pt x="0" y="40"/>
                </a:lnTo>
                <a:close/>
                <a:moveTo>
                  <a:pt x="52" y="6"/>
                </a:moveTo>
                <a:lnTo>
                  <a:pt x="59" y="6"/>
                </a:lnTo>
                <a:lnTo>
                  <a:pt x="59" y="0"/>
                </a:lnTo>
                <a:lnTo>
                  <a:pt x="52" y="0"/>
                </a:lnTo>
                <a:lnTo>
                  <a:pt x="52" y="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109520" y="4410000"/>
            <a:ext cx="74880" cy="22320"/>
          </a:xfrm>
          <a:custGeom>
            <a:avLst/>
            <a:gdLst/>
            <a:ahLst/>
            <a:rect l="l" t="t" r="r" b="b"/>
            <a:pathLst>
              <a:path w="47" h="14">
                <a:moveTo>
                  <a:pt x="0" y="0"/>
                </a:moveTo>
                <a:lnTo>
                  <a:pt x="47" y="0"/>
                </a:lnTo>
                <a:moveTo>
                  <a:pt x="0" y="14"/>
                </a:moveTo>
                <a:lnTo>
                  <a:pt x="47" y="14"/>
                </a:lnTo>
                <a:moveTo>
                  <a:pt x="2" y="7"/>
                </a:moveTo>
                <a:lnTo>
                  <a:pt x="45" y="7"/>
                </a:lnTo>
                <a:moveTo>
                  <a:pt x="27" y="11"/>
                </a:moveTo>
                <a:lnTo>
                  <a:pt x="40" y="11"/>
                </a:lnTo>
                <a:lnTo>
                  <a:pt x="40" y="2"/>
                </a:lnTo>
                <a:lnTo>
                  <a:pt x="27" y="2"/>
                </a:lnTo>
                <a:lnTo>
                  <a:pt x="27" y="1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998640" y="4246560"/>
            <a:ext cx="214200" cy="154080"/>
          </a:xfrm>
          <a:custGeom>
            <a:avLst/>
            <a:gdLst/>
            <a:ahLst/>
            <a:rect l="l" t="t" r="r" b="b"/>
            <a:pathLst>
              <a:path w="135" h="97">
                <a:moveTo>
                  <a:pt x="113" y="70"/>
                </a:moveTo>
                <a:lnTo>
                  <a:pt x="118" y="70"/>
                </a:lnTo>
                <a:lnTo>
                  <a:pt x="118" y="68"/>
                </a:lnTo>
                <a:lnTo>
                  <a:pt x="113" y="68"/>
                </a:lnTo>
                <a:lnTo>
                  <a:pt x="113" y="70"/>
                </a:lnTo>
                <a:close/>
                <a:moveTo>
                  <a:pt x="31" y="58"/>
                </a:moveTo>
                <a:lnTo>
                  <a:pt x="31" y="7"/>
                </a:lnTo>
                <a:lnTo>
                  <a:pt x="105" y="7"/>
                </a:lnTo>
                <a:lnTo>
                  <a:pt x="105" y="58"/>
                </a:lnTo>
                <a:lnTo>
                  <a:pt x="31" y="58"/>
                </a:lnTo>
                <a:close/>
                <a:moveTo>
                  <a:pt x="27" y="61"/>
                </a:moveTo>
                <a:lnTo>
                  <a:pt x="108" y="61"/>
                </a:lnTo>
                <a:lnTo>
                  <a:pt x="108" y="4"/>
                </a:lnTo>
                <a:lnTo>
                  <a:pt x="111" y="4"/>
                </a:lnTo>
                <a:lnTo>
                  <a:pt x="111" y="0"/>
                </a:lnTo>
                <a:lnTo>
                  <a:pt x="24" y="0"/>
                </a:lnTo>
                <a:lnTo>
                  <a:pt x="24" y="65"/>
                </a:lnTo>
                <a:lnTo>
                  <a:pt x="27" y="65"/>
                </a:lnTo>
                <a:lnTo>
                  <a:pt x="27" y="61"/>
                </a:lnTo>
                <a:close/>
                <a:moveTo>
                  <a:pt x="0" y="94"/>
                </a:moveTo>
                <a:lnTo>
                  <a:pt x="13" y="94"/>
                </a:lnTo>
                <a:lnTo>
                  <a:pt x="13" y="90"/>
                </a:lnTo>
                <a:lnTo>
                  <a:pt x="0" y="90"/>
                </a:lnTo>
                <a:lnTo>
                  <a:pt x="0" y="94"/>
                </a:lnTo>
                <a:close/>
                <a:moveTo>
                  <a:pt x="79" y="97"/>
                </a:moveTo>
                <a:lnTo>
                  <a:pt x="108" y="97"/>
                </a:lnTo>
                <a:lnTo>
                  <a:pt x="108" y="95"/>
                </a:lnTo>
                <a:lnTo>
                  <a:pt x="79" y="95"/>
                </a:lnTo>
                <a:lnTo>
                  <a:pt x="79" y="97"/>
                </a:lnTo>
                <a:close/>
                <a:moveTo>
                  <a:pt x="131" y="92"/>
                </a:moveTo>
                <a:lnTo>
                  <a:pt x="135" y="92"/>
                </a:lnTo>
                <a:lnTo>
                  <a:pt x="135" y="90"/>
                </a:lnTo>
                <a:lnTo>
                  <a:pt x="131" y="90"/>
                </a:lnTo>
                <a:lnTo>
                  <a:pt x="131" y="92"/>
                </a:lnTo>
                <a:close/>
                <a:moveTo>
                  <a:pt x="131" y="96"/>
                </a:moveTo>
                <a:lnTo>
                  <a:pt x="135" y="96"/>
                </a:lnTo>
                <a:lnTo>
                  <a:pt x="135" y="94"/>
                </a:lnTo>
                <a:lnTo>
                  <a:pt x="131" y="94"/>
                </a:lnTo>
                <a:lnTo>
                  <a:pt x="131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19160" y="4362480"/>
            <a:ext cx="173160" cy="7920"/>
          </a:xfrm>
          <a:custGeom>
            <a:avLst/>
            <a:gdLst/>
            <a:ahLst/>
            <a:rect l="l" t="t" r="r" b="b"/>
            <a:pathLst>
              <a:path w="109" h="5">
                <a:moveTo>
                  <a:pt x="0" y="0"/>
                </a:moveTo>
                <a:lnTo>
                  <a:pt x="109" y="0"/>
                </a:lnTo>
                <a:moveTo>
                  <a:pt x="27" y="5"/>
                </a:moveTo>
                <a:lnTo>
                  <a:pt x="27" y="0"/>
                </a:lnTo>
                <a:moveTo>
                  <a:pt x="54" y="5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062000" y="4502160"/>
            <a:ext cx="85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071000" y="451008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736800" y="56055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32" y="94"/>
                </a:moveTo>
                <a:lnTo>
                  <a:pt x="0" y="94"/>
                </a:lnTo>
                <a:lnTo>
                  <a:pt x="0" y="144"/>
                </a:lnTo>
                <a:lnTo>
                  <a:pt x="144" y="144"/>
                </a:lnTo>
                <a:lnTo>
                  <a:pt x="144" y="94"/>
                </a:lnTo>
                <a:lnTo>
                  <a:pt x="113" y="94"/>
                </a:lnTo>
                <a:lnTo>
                  <a:pt x="113" y="87"/>
                </a:lnTo>
                <a:lnTo>
                  <a:pt x="127" y="87"/>
                </a:lnTo>
                <a:lnTo>
                  <a:pt x="127" y="0"/>
                </a:lnTo>
                <a:lnTo>
                  <a:pt x="18" y="0"/>
                </a:lnTo>
                <a:lnTo>
                  <a:pt x="18" y="87"/>
                </a:lnTo>
                <a:lnTo>
                  <a:pt x="32" y="87"/>
                </a:lnTo>
                <a:lnTo>
                  <a:pt x="32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787920" y="5743440"/>
            <a:ext cx="128520" cy="11160"/>
          </a:xfrm>
          <a:custGeom>
            <a:avLst/>
            <a:gdLst/>
            <a:ahLst/>
            <a:rect l="l" t="t" r="r" b="b"/>
            <a:pathLst>
              <a:path w="81" h="7">
                <a:moveTo>
                  <a:pt x="0" y="7"/>
                </a:moveTo>
                <a:lnTo>
                  <a:pt x="81" y="7"/>
                </a:lnTo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855960" y="5762520"/>
            <a:ext cx="93600" cy="63720"/>
          </a:xfrm>
          <a:custGeom>
            <a:avLst/>
            <a:gdLst/>
            <a:ahLst/>
            <a:rect l="l" t="t" r="r" b="b"/>
            <a:pathLst>
              <a:path w="59" h="40">
                <a:moveTo>
                  <a:pt x="0" y="40"/>
                </a:moveTo>
                <a:lnTo>
                  <a:pt x="47" y="40"/>
                </a:lnTo>
                <a:lnTo>
                  <a:pt x="47" y="0"/>
                </a:lnTo>
                <a:lnTo>
                  <a:pt x="0" y="0"/>
                </a:lnTo>
                <a:lnTo>
                  <a:pt x="0" y="40"/>
                </a:lnTo>
                <a:close/>
                <a:moveTo>
                  <a:pt x="52" y="7"/>
                </a:moveTo>
                <a:lnTo>
                  <a:pt x="59" y="7"/>
                </a:lnTo>
                <a:lnTo>
                  <a:pt x="59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55960" y="5783400"/>
            <a:ext cx="74520" cy="21960"/>
          </a:xfrm>
          <a:custGeom>
            <a:avLst/>
            <a:gdLst/>
            <a:ahLst/>
            <a:rect l="l" t="t" r="r" b="b"/>
            <a:pathLst>
              <a:path w="47" h="14">
                <a:moveTo>
                  <a:pt x="0" y="0"/>
                </a:moveTo>
                <a:lnTo>
                  <a:pt x="47" y="0"/>
                </a:lnTo>
                <a:moveTo>
                  <a:pt x="0" y="14"/>
                </a:moveTo>
                <a:lnTo>
                  <a:pt x="47" y="14"/>
                </a:lnTo>
                <a:moveTo>
                  <a:pt x="2" y="7"/>
                </a:moveTo>
                <a:lnTo>
                  <a:pt x="45" y="7"/>
                </a:lnTo>
                <a:moveTo>
                  <a:pt x="27" y="11"/>
                </a:moveTo>
                <a:lnTo>
                  <a:pt x="40" y="11"/>
                </a:lnTo>
                <a:lnTo>
                  <a:pt x="40" y="2"/>
                </a:lnTo>
                <a:lnTo>
                  <a:pt x="27" y="2"/>
                </a:lnTo>
                <a:lnTo>
                  <a:pt x="27" y="1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745080" y="5621400"/>
            <a:ext cx="214200" cy="154080"/>
          </a:xfrm>
          <a:custGeom>
            <a:avLst/>
            <a:gdLst/>
            <a:ahLst/>
            <a:rect l="l" t="t" r="r" b="b"/>
            <a:pathLst>
              <a:path w="135" h="97">
                <a:moveTo>
                  <a:pt x="113" y="69"/>
                </a:moveTo>
                <a:lnTo>
                  <a:pt x="118" y="69"/>
                </a:lnTo>
                <a:lnTo>
                  <a:pt x="118" y="67"/>
                </a:lnTo>
                <a:lnTo>
                  <a:pt x="113" y="67"/>
                </a:lnTo>
                <a:lnTo>
                  <a:pt x="113" y="69"/>
                </a:lnTo>
                <a:close/>
                <a:moveTo>
                  <a:pt x="30" y="57"/>
                </a:moveTo>
                <a:lnTo>
                  <a:pt x="30" y="6"/>
                </a:lnTo>
                <a:lnTo>
                  <a:pt x="104" y="6"/>
                </a:lnTo>
                <a:lnTo>
                  <a:pt x="104" y="57"/>
                </a:lnTo>
                <a:lnTo>
                  <a:pt x="30" y="57"/>
                </a:lnTo>
                <a:close/>
                <a:moveTo>
                  <a:pt x="27" y="60"/>
                </a:moveTo>
                <a:lnTo>
                  <a:pt x="108" y="60"/>
                </a:lnTo>
                <a:lnTo>
                  <a:pt x="108" y="3"/>
                </a:lnTo>
                <a:lnTo>
                  <a:pt x="111" y="3"/>
                </a:lnTo>
                <a:lnTo>
                  <a:pt x="111" y="0"/>
                </a:lnTo>
                <a:lnTo>
                  <a:pt x="24" y="0"/>
                </a:lnTo>
                <a:lnTo>
                  <a:pt x="24" y="64"/>
                </a:lnTo>
                <a:lnTo>
                  <a:pt x="27" y="64"/>
                </a:lnTo>
                <a:lnTo>
                  <a:pt x="27" y="60"/>
                </a:lnTo>
                <a:close/>
                <a:moveTo>
                  <a:pt x="0" y="93"/>
                </a:moveTo>
                <a:lnTo>
                  <a:pt x="13" y="93"/>
                </a:lnTo>
                <a:lnTo>
                  <a:pt x="13" y="89"/>
                </a:lnTo>
                <a:lnTo>
                  <a:pt x="0" y="89"/>
                </a:lnTo>
                <a:lnTo>
                  <a:pt x="0" y="93"/>
                </a:lnTo>
                <a:close/>
                <a:moveTo>
                  <a:pt x="79" y="97"/>
                </a:moveTo>
                <a:lnTo>
                  <a:pt x="108" y="97"/>
                </a:lnTo>
                <a:lnTo>
                  <a:pt x="108" y="94"/>
                </a:lnTo>
                <a:lnTo>
                  <a:pt x="79" y="94"/>
                </a:lnTo>
                <a:lnTo>
                  <a:pt x="79" y="97"/>
                </a:lnTo>
                <a:close/>
                <a:moveTo>
                  <a:pt x="130" y="91"/>
                </a:moveTo>
                <a:lnTo>
                  <a:pt x="135" y="91"/>
                </a:lnTo>
                <a:lnTo>
                  <a:pt x="135" y="89"/>
                </a:lnTo>
                <a:lnTo>
                  <a:pt x="130" y="89"/>
                </a:lnTo>
                <a:lnTo>
                  <a:pt x="130" y="91"/>
                </a:lnTo>
                <a:close/>
                <a:moveTo>
                  <a:pt x="130" y="96"/>
                </a:moveTo>
                <a:lnTo>
                  <a:pt x="135" y="96"/>
                </a:lnTo>
                <a:lnTo>
                  <a:pt x="135" y="93"/>
                </a:lnTo>
                <a:lnTo>
                  <a:pt x="130" y="93"/>
                </a:lnTo>
                <a:lnTo>
                  <a:pt x="130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765600" y="5737320"/>
            <a:ext cx="173160" cy="6120"/>
          </a:xfrm>
          <a:custGeom>
            <a:avLst/>
            <a:gdLst/>
            <a:ahLst/>
            <a:rect l="l" t="t" r="r" b="b"/>
            <a:pathLst>
              <a:path w="109" h="4">
                <a:moveTo>
                  <a:pt x="0" y="0"/>
                </a:moveTo>
                <a:lnTo>
                  <a:pt x="109" y="0"/>
                </a:lnTo>
                <a:moveTo>
                  <a:pt x="27" y="4"/>
                </a:moveTo>
                <a:lnTo>
                  <a:pt x="27" y="0"/>
                </a:lnTo>
                <a:moveTo>
                  <a:pt x="54" y="4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05200" y="5875200"/>
            <a:ext cx="921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814560" y="58849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742160" y="58341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31" y="94"/>
                </a:moveTo>
                <a:lnTo>
                  <a:pt x="0" y="94"/>
                </a:lnTo>
                <a:lnTo>
                  <a:pt x="0" y="144"/>
                </a:lnTo>
                <a:lnTo>
                  <a:pt x="144" y="144"/>
                </a:lnTo>
                <a:lnTo>
                  <a:pt x="144" y="94"/>
                </a:lnTo>
                <a:lnTo>
                  <a:pt x="113" y="94"/>
                </a:lnTo>
                <a:lnTo>
                  <a:pt x="113" y="88"/>
                </a:lnTo>
                <a:lnTo>
                  <a:pt x="127" y="88"/>
                </a:lnTo>
                <a:lnTo>
                  <a:pt x="127" y="0"/>
                </a:lnTo>
                <a:lnTo>
                  <a:pt x="18" y="0"/>
                </a:lnTo>
                <a:lnTo>
                  <a:pt x="18" y="88"/>
                </a:lnTo>
                <a:lnTo>
                  <a:pt x="31" y="88"/>
                </a:lnTo>
                <a:lnTo>
                  <a:pt x="31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791480" y="5973840"/>
            <a:ext cx="130320" cy="936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6"/>
                </a:moveTo>
                <a:lnTo>
                  <a:pt x="82" y="6"/>
                </a:lnTo>
                <a:moveTo>
                  <a:pt x="0" y="0"/>
                </a:moveTo>
                <a:lnTo>
                  <a:pt x="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861320" y="5991120"/>
            <a:ext cx="92160" cy="63720"/>
          </a:xfrm>
          <a:custGeom>
            <a:avLst/>
            <a:gdLst/>
            <a:ahLst/>
            <a:rect l="l" t="t" r="r" b="b"/>
            <a:pathLst>
              <a:path w="58" h="40">
                <a:moveTo>
                  <a:pt x="0" y="40"/>
                </a:moveTo>
                <a:lnTo>
                  <a:pt x="47" y="40"/>
                </a:lnTo>
                <a:lnTo>
                  <a:pt x="47" y="0"/>
                </a:lnTo>
                <a:lnTo>
                  <a:pt x="0" y="0"/>
                </a:lnTo>
                <a:lnTo>
                  <a:pt x="0" y="40"/>
                </a:lnTo>
                <a:close/>
                <a:moveTo>
                  <a:pt x="52" y="7"/>
                </a:moveTo>
                <a:lnTo>
                  <a:pt x="58" y="7"/>
                </a:lnTo>
                <a:lnTo>
                  <a:pt x="58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861320" y="6013440"/>
            <a:ext cx="74520" cy="20520"/>
          </a:xfrm>
          <a:custGeom>
            <a:avLst/>
            <a:gdLst/>
            <a:ahLst/>
            <a:rect l="l" t="t" r="r" b="b"/>
            <a:pathLst>
              <a:path w="47" h="13">
                <a:moveTo>
                  <a:pt x="0" y="0"/>
                </a:moveTo>
                <a:lnTo>
                  <a:pt x="47" y="0"/>
                </a:lnTo>
                <a:moveTo>
                  <a:pt x="0" y="13"/>
                </a:moveTo>
                <a:lnTo>
                  <a:pt x="47" y="13"/>
                </a:lnTo>
                <a:moveTo>
                  <a:pt x="2" y="6"/>
                </a:moveTo>
                <a:lnTo>
                  <a:pt x="45" y="6"/>
                </a:lnTo>
                <a:moveTo>
                  <a:pt x="27" y="10"/>
                </a:moveTo>
                <a:lnTo>
                  <a:pt x="40" y="10"/>
                </a:lnTo>
                <a:lnTo>
                  <a:pt x="40" y="2"/>
                </a:lnTo>
                <a:lnTo>
                  <a:pt x="27" y="2"/>
                </a:lnTo>
                <a:lnTo>
                  <a:pt x="27" y="1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750080" y="5850000"/>
            <a:ext cx="214560" cy="154080"/>
          </a:xfrm>
          <a:custGeom>
            <a:avLst/>
            <a:gdLst/>
            <a:ahLst/>
            <a:rect l="l" t="t" r="r" b="b"/>
            <a:pathLst>
              <a:path w="135" h="97">
                <a:moveTo>
                  <a:pt x="113" y="69"/>
                </a:moveTo>
                <a:lnTo>
                  <a:pt x="118" y="69"/>
                </a:lnTo>
                <a:lnTo>
                  <a:pt x="118" y="67"/>
                </a:lnTo>
                <a:lnTo>
                  <a:pt x="113" y="67"/>
                </a:lnTo>
                <a:lnTo>
                  <a:pt x="113" y="69"/>
                </a:lnTo>
                <a:close/>
                <a:moveTo>
                  <a:pt x="30" y="57"/>
                </a:moveTo>
                <a:lnTo>
                  <a:pt x="30" y="6"/>
                </a:lnTo>
                <a:lnTo>
                  <a:pt x="104" y="6"/>
                </a:lnTo>
                <a:lnTo>
                  <a:pt x="104" y="57"/>
                </a:lnTo>
                <a:lnTo>
                  <a:pt x="30" y="57"/>
                </a:lnTo>
                <a:close/>
                <a:moveTo>
                  <a:pt x="26" y="60"/>
                </a:moveTo>
                <a:lnTo>
                  <a:pt x="108" y="60"/>
                </a:lnTo>
                <a:lnTo>
                  <a:pt x="108" y="4"/>
                </a:lnTo>
                <a:lnTo>
                  <a:pt x="111" y="4"/>
                </a:lnTo>
                <a:lnTo>
                  <a:pt x="111" y="0"/>
                </a:lnTo>
                <a:lnTo>
                  <a:pt x="24" y="0"/>
                </a:lnTo>
                <a:lnTo>
                  <a:pt x="24" y="64"/>
                </a:lnTo>
                <a:lnTo>
                  <a:pt x="26" y="64"/>
                </a:lnTo>
                <a:lnTo>
                  <a:pt x="26" y="60"/>
                </a:lnTo>
                <a:close/>
                <a:moveTo>
                  <a:pt x="0" y="93"/>
                </a:moveTo>
                <a:lnTo>
                  <a:pt x="13" y="93"/>
                </a:lnTo>
                <a:lnTo>
                  <a:pt x="13" y="89"/>
                </a:lnTo>
                <a:lnTo>
                  <a:pt x="0" y="89"/>
                </a:lnTo>
                <a:lnTo>
                  <a:pt x="0" y="93"/>
                </a:lnTo>
                <a:close/>
                <a:moveTo>
                  <a:pt x="78" y="97"/>
                </a:moveTo>
                <a:lnTo>
                  <a:pt x="108" y="97"/>
                </a:lnTo>
                <a:lnTo>
                  <a:pt x="108" y="94"/>
                </a:lnTo>
                <a:lnTo>
                  <a:pt x="78" y="94"/>
                </a:lnTo>
                <a:lnTo>
                  <a:pt x="78" y="97"/>
                </a:lnTo>
                <a:close/>
                <a:moveTo>
                  <a:pt x="130" y="91"/>
                </a:moveTo>
                <a:lnTo>
                  <a:pt x="135" y="91"/>
                </a:lnTo>
                <a:lnTo>
                  <a:pt x="135" y="89"/>
                </a:lnTo>
                <a:lnTo>
                  <a:pt x="130" y="89"/>
                </a:lnTo>
                <a:lnTo>
                  <a:pt x="130" y="91"/>
                </a:lnTo>
                <a:close/>
                <a:moveTo>
                  <a:pt x="130" y="96"/>
                </a:moveTo>
                <a:lnTo>
                  <a:pt x="135" y="96"/>
                </a:lnTo>
                <a:lnTo>
                  <a:pt x="135" y="93"/>
                </a:lnTo>
                <a:lnTo>
                  <a:pt x="130" y="93"/>
                </a:lnTo>
                <a:lnTo>
                  <a:pt x="130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770960" y="5965920"/>
            <a:ext cx="172800" cy="7920"/>
          </a:xfrm>
          <a:custGeom>
            <a:avLst/>
            <a:gdLst/>
            <a:ahLst/>
            <a:rect l="l" t="t" r="r" b="b"/>
            <a:pathLst>
              <a:path w="109" h="5">
                <a:moveTo>
                  <a:pt x="0" y="0"/>
                </a:moveTo>
                <a:lnTo>
                  <a:pt x="109" y="0"/>
                </a:lnTo>
                <a:moveTo>
                  <a:pt x="27" y="5"/>
                </a:moveTo>
                <a:lnTo>
                  <a:pt x="27" y="0"/>
                </a:lnTo>
                <a:moveTo>
                  <a:pt x="54" y="5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810560" y="6103800"/>
            <a:ext cx="921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19560" y="61135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792440" y="4287960"/>
            <a:ext cx="685800" cy="4014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394080" y="2629080"/>
            <a:ext cx="228600" cy="230040"/>
          </a:xfrm>
          <a:custGeom>
            <a:avLst/>
            <a:gdLst/>
            <a:ahLst/>
            <a:rect l="l" t="t" r="r" b="b"/>
            <a:pathLst>
              <a:path w="144" h="145">
                <a:moveTo>
                  <a:pt x="31" y="95"/>
                </a:moveTo>
                <a:lnTo>
                  <a:pt x="0" y="95"/>
                </a:lnTo>
                <a:lnTo>
                  <a:pt x="0" y="145"/>
                </a:lnTo>
                <a:lnTo>
                  <a:pt x="144" y="145"/>
                </a:lnTo>
                <a:lnTo>
                  <a:pt x="144" y="95"/>
                </a:lnTo>
                <a:lnTo>
                  <a:pt x="113" y="95"/>
                </a:lnTo>
                <a:lnTo>
                  <a:pt x="113" y="88"/>
                </a:lnTo>
                <a:lnTo>
                  <a:pt x="127" y="88"/>
                </a:lnTo>
                <a:lnTo>
                  <a:pt x="127" y="0"/>
                </a:lnTo>
                <a:lnTo>
                  <a:pt x="18" y="0"/>
                </a:lnTo>
                <a:lnTo>
                  <a:pt x="18" y="88"/>
                </a:lnTo>
                <a:lnTo>
                  <a:pt x="31" y="88"/>
                </a:lnTo>
                <a:lnTo>
                  <a:pt x="31" y="9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443400" y="2768760"/>
            <a:ext cx="129960" cy="10800"/>
          </a:xfrm>
          <a:custGeom>
            <a:avLst/>
            <a:gdLst/>
            <a:ahLst/>
            <a:rect l="l" t="t" r="r" b="b"/>
            <a:pathLst>
              <a:path w="82" h="7">
                <a:moveTo>
                  <a:pt x="0" y="7"/>
                </a:moveTo>
                <a:lnTo>
                  <a:pt x="82" y="7"/>
                </a:lnTo>
                <a:moveTo>
                  <a:pt x="0" y="0"/>
                </a:moveTo>
                <a:lnTo>
                  <a:pt x="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13240" y="2786040"/>
            <a:ext cx="91800" cy="65160"/>
          </a:xfrm>
          <a:custGeom>
            <a:avLst/>
            <a:gdLst/>
            <a:ahLst/>
            <a:rect l="l" t="t" r="r" b="b"/>
            <a:pathLst>
              <a:path w="58" h="41">
                <a:moveTo>
                  <a:pt x="0" y="41"/>
                </a:moveTo>
                <a:lnTo>
                  <a:pt x="47" y="41"/>
                </a:lnTo>
                <a:lnTo>
                  <a:pt x="47" y="0"/>
                </a:lnTo>
                <a:lnTo>
                  <a:pt x="0" y="0"/>
                </a:lnTo>
                <a:lnTo>
                  <a:pt x="0" y="41"/>
                </a:lnTo>
                <a:close/>
                <a:moveTo>
                  <a:pt x="52" y="7"/>
                </a:moveTo>
                <a:lnTo>
                  <a:pt x="58" y="7"/>
                </a:lnTo>
                <a:lnTo>
                  <a:pt x="58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13240" y="2808360"/>
            <a:ext cx="74520" cy="20520"/>
          </a:xfrm>
          <a:custGeom>
            <a:avLst/>
            <a:gdLst/>
            <a:ahLst/>
            <a:rect l="l" t="t" r="r" b="b"/>
            <a:pathLst>
              <a:path w="47" h="13">
                <a:moveTo>
                  <a:pt x="0" y="0"/>
                </a:moveTo>
                <a:lnTo>
                  <a:pt x="47" y="0"/>
                </a:lnTo>
                <a:moveTo>
                  <a:pt x="0" y="13"/>
                </a:moveTo>
                <a:lnTo>
                  <a:pt x="47" y="13"/>
                </a:lnTo>
                <a:moveTo>
                  <a:pt x="2" y="7"/>
                </a:moveTo>
                <a:lnTo>
                  <a:pt x="45" y="7"/>
                </a:lnTo>
                <a:moveTo>
                  <a:pt x="27" y="10"/>
                </a:moveTo>
                <a:lnTo>
                  <a:pt x="40" y="10"/>
                </a:lnTo>
                <a:lnTo>
                  <a:pt x="40" y="2"/>
                </a:lnTo>
                <a:lnTo>
                  <a:pt x="27" y="2"/>
                </a:lnTo>
                <a:lnTo>
                  <a:pt x="27" y="1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400560" y="2644920"/>
            <a:ext cx="215640" cy="153720"/>
          </a:xfrm>
          <a:custGeom>
            <a:avLst/>
            <a:gdLst/>
            <a:ahLst/>
            <a:rect l="l" t="t" r="r" b="b"/>
            <a:pathLst>
              <a:path w="136" h="97">
                <a:moveTo>
                  <a:pt x="114" y="69"/>
                </a:moveTo>
                <a:lnTo>
                  <a:pt x="119" y="69"/>
                </a:lnTo>
                <a:lnTo>
                  <a:pt x="119" y="67"/>
                </a:lnTo>
                <a:lnTo>
                  <a:pt x="114" y="67"/>
                </a:lnTo>
                <a:lnTo>
                  <a:pt x="114" y="69"/>
                </a:lnTo>
                <a:close/>
                <a:moveTo>
                  <a:pt x="31" y="58"/>
                </a:moveTo>
                <a:lnTo>
                  <a:pt x="31" y="7"/>
                </a:lnTo>
                <a:lnTo>
                  <a:pt x="105" y="7"/>
                </a:lnTo>
                <a:lnTo>
                  <a:pt x="105" y="58"/>
                </a:lnTo>
                <a:lnTo>
                  <a:pt x="31" y="58"/>
                </a:lnTo>
                <a:close/>
                <a:moveTo>
                  <a:pt x="27" y="60"/>
                </a:moveTo>
                <a:lnTo>
                  <a:pt x="109" y="60"/>
                </a:lnTo>
                <a:lnTo>
                  <a:pt x="109" y="4"/>
                </a:lnTo>
                <a:lnTo>
                  <a:pt x="112" y="4"/>
                </a:lnTo>
                <a:lnTo>
                  <a:pt x="112" y="0"/>
                </a:lnTo>
                <a:lnTo>
                  <a:pt x="25" y="0"/>
                </a:lnTo>
                <a:lnTo>
                  <a:pt x="25" y="64"/>
                </a:lnTo>
                <a:lnTo>
                  <a:pt x="27" y="64"/>
                </a:lnTo>
                <a:lnTo>
                  <a:pt x="27" y="60"/>
                </a:lnTo>
                <a:close/>
                <a:moveTo>
                  <a:pt x="0" y="93"/>
                </a:moveTo>
                <a:lnTo>
                  <a:pt x="14" y="93"/>
                </a:lnTo>
                <a:lnTo>
                  <a:pt x="14" y="89"/>
                </a:lnTo>
                <a:lnTo>
                  <a:pt x="0" y="89"/>
                </a:lnTo>
                <a:lnTo>
                  <a:pt x="0" y="93"/>
                </a:lnTo>
                <a:close/>
                <a:moveTo>
                  <a:pt x="79" y="97"/>
                </a:moveTo>
                <a:lnTo>
                  <a:pt x="109" y="97"/>
                </a:lnTo>
                <a:lnTo>
                  <a:pt x="109" y="94"/>
                </a:lnTo>
                <a:lnTo>
                  <a:pt x="79" y="94"/>
                </a:lnTo>
                <a:lnTo>
                  <a:pt x="79" y="97"/>
                </a:lnTo>
                <a:close/>
                <a:moveTo>
                  <a:pt x="131" y="91"/>
                </a:moveTo>
                <a:lnTo>
                  <a:pt x="136" y="91"/>
                </a:lnTo>
                <a:lnTo>
                  <a:pt x="136" y="89"/>
                </a:lnTo>
                <a:lnTo>
                  <a:pt x="131" y="89"/>
                </a:lnTo>
                <a:lnTo>
                  <a:pt x="131" y="91"/>
                </a:lnTo>
                <a:close/>
                <a:moveTo>
                  <a:pt x="131" y="96"/>
                </a:moveTo>
                <a:lnTo>
                  <a:pt x="136" y="96"/>
                </a:lnTo>
                <a:lnTo>
                  <a:pt x="136" y="93"/>
                </a:lnTo>
                <a:lnTo>
                  <a:pt x="131" y="93"/>
                </a:lnTo>
                <a:lnTo>
                  <a:pt x="131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22520" y="2760840"/>
            <a:ext cx="173160" cy="7920"/>
          </a:xfrm>
          <a:custGeom>
            <a:avLst/>
            <a:gdLst/>
            <a:ahLst/>
            <a:rect l="l" t="t" r="r" b="b"/>
            <a:pathLst>
              <a:path w="109" h="5">
                <a:moveTo>
                  <a:pt x="0" y="0"/>
                </a:moveTo>
                <a:lnTo>
                  <a:pt x="109" y="0"/>
                </a:lnTo>
                <a:moveTo>
                  <a:pt x="27" y="5"/>
                </a:moveTo>
                <a:lnTo>
                  <a:pt x="27" y="0"/>
                </a:lnTo>
                <a:moveTo>
                  <a:pt x="54" y="5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65360" y="2898720"/>
            <a:ext cx="860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74720" y="290844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199360" y="3257640"/>
            <a:ext cx="228600" cy="230040"/>
          </a:xfrm>
          <a:custGeom>
            <a:avLst/>
            <a:gdLst/>
            <a:ahLst/>
            <a:rect l="l" t="t" r="r" b="b"/>
            <a:pathLst>
              <a:path w="144" h="145">
                <a:moveTo>
                  <a:pt x="32" y="95"/>
                </a:moveTo>
                <a:lnTo>
                  <a:pt x="0" y="95"/>
                </a:lnTo>
                <a:lnTo>
                  <a:pt x="0" y="145"/>
                </a:lnTo>
                <a:lnTo>
                  <a:pt x="144" y="145"/>
                </a:lnTo>
                <a:lnTo>
                  <a:pt x="144" y="95"/>
                </a:lnTo>
                <a:lnTo>
                  <a:pt x="113" y="95"/>
                </a:lnTo>
                <a:lnTo>
                  <a:pt x="113" y="88"/>
                </a:lnTo>
                <a:lnTo>
                  <a:pt x="127" y="88"/>
                </a:lnTo>
                <a:lnTo>
                  <a:pt x="127" y="0"/>
                </a:lnTo>
                <a:lnTo>
                  <a:pt x="18" y="0"/>
                </a:lnTo>
                <a:lnTo>
                  <a:pt x="18" y="88"/>
                </a:lnTo>
                <a:lnTo>
                  <a:pt x="32" y="88"/>
                </a:lnTo>
                <a:lnTo>
                  <a:pt x="32" y="9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250120" y="3397320"/>
            <a:ext cx="128880" cy="11160"/>
          </a:xfrm>
          <a:custGeom>
            <a:avLst/>
            <a:gdLst/>
            <a:ahLst/>
            <a:rect l="l" t="t" r="r" b="b"/>
            <a:pathLst>
              <a:path w="81" h="7">
                <a:moveTo>
                  <a:pt x="0" y="7"/>
                </a:moveTo>
                <a:lnTo>
                  <a:pt x="81" y="7"/>
                </a:lnTo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18520" y="3414600"/>
            <a:ext cx="93600" cy="65160"/>
          </a:xfrm>
          <a:custGeom>
            <a:avLst/>
            <a:gdLst/>
            <a:ahLst/>
            <a:rect l="l" t="t" r="r" b="b"/>
            <a:pathLst>
              <a:path w="59" h="41">
                <a:moveTo>
                  <a:pt x="0" y="41"/>
                </a:moveTo>
                <a:lnTo>
                  <a:pt x="47" y="41"/>
                </a:lnTo>
                <a:lnTo>
                  <a:pt x="47" y="0"/>
                </a:lnTo>
                <a:lnTo>
                  <a:pt x="0" y="0"/>
                </a:lnTo>
                <a:lnTo>
                  <a:pt x="0" y="41"/>
                </a:lnTo>
                <a:close/>
                <a:moveTo>
                  <a:pt x="52" y="7"/>
                </a:moveTo>
                <a:lnTo>
                  <a:pt x="59" y="7"/>
                </a:lnTo>
                <a:lnTo>
                  <a:pt x="59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318520" y="3436920"/>
            <a:ext cx="74520" cy="20520"/>
          </a:xfrm>
          <a:custGeom>
            <a:avLst/>
            <a:gdLst/>
            <a:ahLst/>
            <a:rect l="l" t="t" r="r" b="b"/>
            <a:pathLst>
              <a:path w="47" h="13">
                <a:moveTo>
                  <a:pt x="0" y="0"/>
                </a:moveTo>
                <a:lnTo>
                  <a:pt x="47" y="0"/>
                </a:lnTo>
                <a:moveTo>
                  <a:pt x="0" y="13"/>
                </a:moveTo>
                <a:lnTo>
                  <a:pt x="47" y="13"/>
                </a:lnTo>
                <a:moveTo>
                  <a:pt x="2" y="7"/>
                </a:moveTo>
                <a:lnTo>
                  <a:pt x="45" y="7"/>
                </a:lnTo>
                <a:moveTo>
                  <a:pt x="27" y="11"/>
                </a:moveTo>
                <a:lnTo>
                  <a:pt x="40" y="11"/>
                </a:lnTo>
                <a:lnTo>
                  <a:pt x="40" y="3"/>
                </a:lnTo>
                <a:lnTo>
                  <a:pt x="27" y="3"/>
                </a:lnTo>
                <a:lnTo>
                  <a:pt x="27" y="1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207280" y="3274920"/>
            <a:ext cx="214560" cy="152640"/>
          </a:xfrm>
          <a:custGeom>
            <a:avLst/>
            <a:gdLst/>
            <a:ahLst/>
            <a:rect l="l" t="t" r="r" b="b"/>
            <a:pathLst>
              <a:path w="135" h="96">
                <a:moveTo>
                  <a:pt x="113" y="69"/>
                </a:moveTo>
                <a:lnTo>
                  <a:pt x="118" y="69"/>
                </a:lnTo>
                <a:lnTo>
                  <a:pt x="118" y="67"/>
                </a:lnTo>
                <a:lnTo>
                  <a:pt x="113" y="67"/>
                </a:lnTo>
                <a:lnTo>
                  <a:pt x="113" y="69"/>
                </a:lnTo>
                <a:close/>
                <a:moveTo>
                  <a:pt x="31" y="57"/>
                </a:moveTo>
                <a:lnTo>
                  <a:pt x="31" y="7"/>
                </a:lnTo>
                <a:lnTo>
                  <a:pt x="105" y="7"/>
                </a:lnTo>
                <a:lnTo>
                  <a:pt x="105" y="57"/>
                </a:lnTo>
                <a:lnTo>
                  <a:pt x="31" y="57"/>
                </a:lnTo>
                <a:close/>
                <a:moveTo>
                  <a:pt x="27" y="61"/>
                </a:moveTo>
                <a:lnTo>
                  <a:pt x="108" y="61"/>
                </a:lnTo>
                <a:lnTo>
                  <a:pt x="108" y="3"/>
                </a:lnTo>
                <a:lnTo>
                  <a:pt x="111" y="3"/>
                </a:lnTo>
                <a:lnTo>
                  <a:pt x="111" y="0"/>
                </a:lnTo>
                <a:lnTo>
                  <a:pt x="24" y="0"/>
                </a:lnTo>
                <a:lnTo>
                  <a:pt x="24" y="63"/>
                </a:lnTo>
                <a:lnTo>
                  <a:pt x="27" y="63"/>
                </a:lnTo>
                <a:lnTo>
                  <a:pt x="27" y="61"/>
                </a:lnTo>
                <a:close/>
                <a:moveTo>
                  <a:pt x="0" y="93"/>
                </a:moveTo>
                <a:lnTo>
                  <a:pt x="13" y="93"/>
                </a:lnTo>
                <a:lnTo>
                  <a:pt x="13" y="88"/>
                </a:lnTo>
                <a:lnTo>
                  <a:pt x="0" y="88"/>
                </a:lnTo>
                <a:lnTo>
                  <a:pt x="0" y="93"/>
                </a:lnTo>
                <a:close/>
                <a:moveTo>
                  <a:pt x="79" y="96"/>
                </a:moveTo>
                <a:lnTo>
                  <a:pt x="108" y="96"/>
                </a:lnTo>
                <a:lnTo>
                  <a:pt x="108" y="94"/>
                </a:lnTo>
                <a:lnTo>
                  <a:pt x="79" y="94"/>
                </a:lnTo>
                <a:lnTo>
                  <a:pt x="79" y="96"/>
                </a:lnTo>
                <a:close/>
                <a:moveTo>
                  <a:pt x="131" y="90"/>
                </a:moveTo>
                <a:lnTo>
                  <a:pt x="135" y="90"/>
                </a:lnTo>
                <a:lnTo>
                  <a:pt x="135" y="88"/>
                </a:lnTo>
                <a:lnTo>
                  <a:pt x="131" y="88"/>
                </a:lnTo>
                <a:lnTo>
                  <a:pt x="131" y="90"/>
                </a:lnTo>
                <a:close/>
                <a:moveTo>
                  <a:pt x="131" y="95"/>
                </a:moveTo>
                <a:lnTo>
                  <a:pt x="135" y="95"/>
                </a:lnTo>
                <a:lnTo>
                  <a:pt x="135" y="93"/>
                </a:lnTo>
                <a:lnTo>
                  <a:pt x="131" y="93"/>
                </a:lnTo>
                <a:lnTo>
                  <a:pt x="131" y="95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228160" y="3389400"/>
            <a:ext cx="172800" cy="7920"/>
          </a:xfrm>
          <a:custGeom>
            <a:avLst/>
            <a:gdLst/>
            <a:ahLst/>
            <a:rect l="l" t="t" r="r" b="b"/>
            <a:pathLst>
              <a:path w="109" h="5">
                <a:moveTo>
                  <a:pt x="0" y="0"/>
                </a:moveTo>
                <a:lnTo>
                  <a:pt x="109" y="0"/>
                </a:lnTo>
                <a:moveTo>
                  <a:pt x="27" y="5"/>
                </a:moveTo>
                <a:lnTo>
                  <a:pt x="27" y="0"/>
                </a:lnTo>
                <a:moveTo>
                  <a:pt x="54" y="5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273880" y="3529080"/>
            <a:ext cx="8100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282880" y="353700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083680" y="477504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I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083280" y="5032440"/>
            <a:ext cx="171360" cy="5731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65520" y="4746600"/>
            <a:ext cx="3030480" cy="714240"/>
          </a:xfrm>
          <a:custGeom>
            <a:avLst/>
            <a:gdLst/>
            <a:ahLst/>
            <a:rect l="l" t="t" r="r" b="b"/>
            <a:pathLst>
              <a:path w="1909" h="450">
                <a:moveTo>
                  <a:pt x="0" y="0"/>
                </a:moveTo>
                <a:lnTo>
                  <a:pt x="62" y="23"/>
                </a:lnTo>
                <a:lnTo>
                  <a:pt x="124" y="45"/>
                </a:lnTo>
                <a:lnTo>
                  <a:pt x="185" y="67"/>
                </a:lnTo>
                <a:lnTo>
                  <a:pt x="247" y="88"/>
                </a:lnTo>
                <a:lnTo>
                  <a:pt x="307" y="108"/>
                </a:lnTo>
                <a:lnTo>
                  <a:pt x="369" y="128"/>
                </a:lnTo>
                <a:lnTo>
                  <a:pt x="429" y="147"/>
                </a:lnTo>
                <a:lnTo>
                  <a:pt x="490" y="166"/>
                </a:lnTo>
                <a:lnTo>
                  <a:pt x="550" y="184"/>
                </a:lnTo>
                <a:lnTo>
                  <a:pt x="612" y="203"/>
                </a:lnTo>
                <a:lnTo>
                  <a:pt x="672" y="221"/>
                </a:lnTo>
                <a:lnTo>
                  <a:pt x="733" y="239"/>
                </a:lnTo>
                <a:lnTo>
                  <a:pt x="794" y="257"/>
                </a:lnTo>
                <a:lnTo>
                  <a:pt x="855" y="277"/>
                </a:lnTo>
                <a:lnTo>
                  <a:pt x="916" y="295"/>
                </a:lnTo>
                <a:lnTo>
                  <a:pt x="977" y="314"/>
                </a:lnTo>
                <a:lnTo>
                  <a:pt x="1039" y="333"/>
                </a:lnTo>
                <a:lnTo>
                  <a:pt x="1100" y="353"/>
                </a:lnTo>
                <a:lnTo>
                  <a:pt x="1163" y="375"/>
                </a:lnTo>
                <a:lnTo>
                  <a:pt x="1175" y="378"/>
                </a:lnTo>
                <a:lnTo>
                  <a:pt x="1188" y="383"/>
                </a:lnTo>
                <a:lnTo>
                  <a:pt x="1201" y="387"/>
                </a:lnTo>
                <a:lnTo>
                  <a:pt x="1214" y="391"/>
                </a:lnTo>
                <a:lnTo>
                  <a:pt x="1226" y="396"/>
                </a:lnTo>
                <a:lnTo>
                  <a:pt x="1239" y="400"/>
                </a:lnTo>
                <a:lnTo>
                  <a:pt x="1251" y="403"/>
                </a:lnTo>
                <a:lnTo>
                  <a:pt x="1264" y="408"/>
                </a:lnTo>
                <a:lnTo>
                  <a:pt x="1276" y="412"/>
                </a:lnTo>
                <a:lnTo>
                  <a:pt x="1289" y="416"/>
                </a:lnTo>
                <a:lnTo>
                  <a:pt x="1301" y="420"/>
                </a:lnTo>
                <a:lnTo>
                  <a:pt x="1314" y="423"/>
                </a:lnTo>
                <a:lnTo>
                  <a:pt x="1326" y="427"/>
                </a:lnTo>
                <a:lnTo>
                  <a:pt x="1338" y="429"/>
                </a:lnTo>
                <a:lnTo>
                  <a:pt x="1351" y="432"/>
                </a:lnTo>
                <a:lnTo>
                  <a:pt x="1363" y="435"/>
                </a:lnTo>
                <a:lnTo>
                  <a:pt x="1375" y="438"/>
                </a:lnTo>
                <a:lnTo>
                  <a:pt x="1388" y="441"/>
                </a:lnTo>
                <a:lnTo>
                  <a:pt x="1399" y="443"/>
                </a:lnTo>
                <a:lnTo>
                  <a:pt x="1412" y="445"/>
                </a:lnTo>
                <a:lnTo>
                  <a:pt x="1423" y="447"/>
                </a:lnTo>
                <a:lnTo>
                  <a:pt x="1435" y="448"/>
                </a:lnTo>
                <a:lnTo>
                  <a:pt x="1446" y="449"/>
                </a:lnTo>
                <a:lnTo>
                  <a:pt x="1458" y="450"/>
                </a:lnTo>
                <a:lnTo>
                  <a:pt x="1469" y="450"/>
                </a:lnTo>
                <a:lnTo>
                  <a:pt x="1481" y="450"/>
                </a:lnTo>
                <a:lnTo>
                  <a:pt x="1492" y="450"/>
                </a:lnTo>
                <a:lnTo>
                  <a:pt x="1503" y="449"/>
                </a:lnTo>
                <a:lnTo>
                  <a:pt x="1514" y="448"/>
                </a:lnTo>
                <a:lnTo>
                  <a:pt x="1525" y="446"/>
                </a:lnTo>
                <a:lnTo>
                  <a:pt x="1536" y="444"/>
                </a:lnTo>
                <a:lnTo>
                  <a:pt x="1551" y="440"/>
                </a:lnTo>
                <a:lnTo>
                  <a:pt x="1565" y="436"/>
                </a:lnTo>
                <a:lnTo>
                  <a:pt x="1581" y="430"/>
                </a:lnTo>
                <a:lnTo>
                  <a:pt x="1595" y="425"/>
                </a:lnTo>
                <a:lnTo>
                  <a:pt x="1610" y="418"/>
                </a:lnTo>
                <a:lnTo>
                  <a:pt x="1623" y="410"/>
                </a:lnTo>
                <a:lnTo>
                  <a:pt x="1636" y="402"/>
                </a:lnTo>
                <a:lnTo>
                  <a:pt x="1650" y="393"/>
                </a:lnTo>
                <a:lnTo>
                  <a:pt x="1663" y="384"/>
                </a:lnTo>
                <a:lnTo>
                  <a:pt x="1676" y="375"/>
                </a:lnTo>
                <a:lnTo>
                  <a:pt x="1689" y="365"/>
                </a:lnTo>
                <a:lnTo>
                  <a:pt x="1702" y="354"/>
                </a:lnTo>
                <a:lnTo>
                  <a:pt x="1713" y="344"/>
                </a:lnTo>
                <a:lnTo>
                  <a:pt x="1726" y="333"/>
                </a:lnTo>
                <a:lnTo>
                  <a:pt x="1737" y="323"/>
                </a:lnTo>
                <a:lnTo>
                  <a:pt x="1749" y="312"/>
                </a:lnTo>
                <a:lnTo>
                  <a:pt x="1761" y="302"/>
                </a:lnTo>
                <a:lnTo>
                  <a:pt x="1772" y="290"/>
                </a:lnTo>
                <a:lnTo>
                  <a:pt x="1783" y="279"/>
                </a:lnTo>
                <a:lnTo>
                  <a:pt x="1795" y="269"/>
                </a:lnTo>
                <a:lnTo>
                  <a:pt x="1806" y="258"/>
                </a:lnTo>
                <a:lnTo>
                  <a:pt x="1816" y="249"/>
                </a:lnTo>
                <a:lnTo>
                  <a:pt x="1827" y="239"/>
                </a:lnTo>
                <a:lnTo>
                  <a:pt x="1838" y="229"/>
                </a:lnTo>
                <a:lnTo>
                  <a:pt x="1848" y="221"/>
                </a:lnTo>
                <a:lnTo>
                  <a:pt x="1858" y="212"/>
                </a:lnTo>
                <a:lnTo>
                  <a:pt x="1869" y="204"/>
                </a:lnTo>
                <a:lnTo>
                  <a:pt x="1880" y="198"/>
                </a:lnTo>
                <a:lnTo>
                  <a:pt x="1889" y="191"/>
                </a:lnTo>
                <a:lnTo>
                  <a:pt x="1900" y="185"/>
                </a:lnTo>
                <a:lnTo>
                  <a:pt x="1909" y="180"/>
                </a:lnTo>
              </a:path>
            </a:pathLst>
          </a:custGeom>
          <a:noFill/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3049560" y="375552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3049560" y="371952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3049560" y="368316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3049560" y="364608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3049560" y="36079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2874960" y="3449520"/>
            <a:ext cx="352440" cy="1904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1501920" y="3697200"/>
            <a:ext cx="352440" cy="19044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3"/>
          <a:stretch/>
        </p:blipFill>
        <p:spPr>
          <a:xfrm>
            <a:off x="7054920" y="3678120"/>
            <a:ext cx="352440" cy="190440"/>
          </a:xfrm>
          <a:prstGeom prst="rect">
            <a:avLst/>
          </a:prstGeom>
          <a:ln w="0">
            <a:noFill/>
          </a:ln>
        </p:spPr>
      </p:pic>
      <p:pic>
        <p:nvPicPr>
          <p:cNvPr id="1471" name="" descr=""/>
          <p:cNvPicPr/>
          <p:nvPr/>
        </p:nvPicPr>
        <p:blipFill>
          <a:blip r:embed="rId4"/>
          <a:stretch/>
        </p:blipFill>
        <p:spPr>
          <a:xfrm>
            <a:off x="6994440" y="4842000"/>
            <a:ext cx="352440" cy="19044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/>
          <p:cNvPicPr/>
          <p:nvPr/>
        </p:nvPicPr>
        <p:blipFill>
          <a:blip r:embed="rId5"/>
          <a:stretch/>
        </p:blipFill>
        <p:spPr>
          <a:xfrm>
            <a:off x="2468520" y="4346640"/>
            <a:ext cx="352440" cy="18900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6"/>
          <a:stretch/>
        </p:blipFill>
        <p:spPr>
          <a:xfrm>
            <a:off x="5850000" y="4575240"/>
            <a:ext cx="352440" cy="18900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/>
          <p:nvPr/>
        </p:nvSpPr>
        <p:spPr>
          <a:xfrm>
            <a:off x="2706840" y="4460760"/>
            <a:ext cx="3203280" cy="669960"/>
          </a:xfrm>
          <a:custGeom>
            <a:avLst/>
            <a:gdLst/>
            <a:ahLst/>
            <a:rect l="l" t="t" r="r" b="b"/>
            <a:pathLst>
              <a:path w="2018" h="422">
                <a:moveTo>
                  <a:pt x="0" y="0"/>
                </a:moveTo>
                <a:lnTo>
                  <a:pt x="64" y="20"/>
                </a:lnTo>
                <a:lnTo>
                  <a:pt x="126" y="40"/>
                </a:lnTo>
                <a:lnTo>
                  <a:pt x="189" y="60"/>
                </a:lnTo>
                <a:lnTo>
                  <a:pt x="250" y="79"/>
                </a:lnTo>
                <a:lnTo>
                  <a:pt x="313" y="97"/>
                </a:lnTo>
                <a:lnTo>
                  <a:pt x="374" y="115"/>
                </a:lnTo>
                <a:lnTo>
                  <a:pt x="436" y="133"/>
                </a:lnTo>
                <a:lnTo>
                  <a:pt x="496" y="149"/>
                </a:lnTo>
                <a:lnTo>
                  <a:pt x="558" y="166"/>
                </a:lnTo>
                <a:lnTo>
                  <a:pt x="619" y="183"/>
                </a:lnTo>
                <a:lnTo>
                  <a:pt x="681" y="199"/>
                </a:lnTo>
                <a:lnTo>
                  <a:pt x="741" y="215"/>
                </a:lnTo>
                <a:lnTo>
                  <a:pt x="803" y="232"/>
                </a:lnTo>
                <a:lnTo>
                  <a:pt x="864" y="248"/>
                </a:lnTo>
                <a:lnTo>
                  <a:pt x="926" y="264"/>
                </a:lnTo>
                <a:lnTo>
                  <a:pt x="987" y="281"/>
                </a:lnTo>
                <a:lnTo>
                  <a:pt x="1050" y="298"/>
                </a:lnTo>
                <a:lnTo>
                  <a:pt x="1111" y="316"/>
                </a:lnTo>
                <a:lnTo>
                  <a:pt x="1174" y="333"/>
                </a:lnTo>
                <a:lnTo>
                  <a:pt x="1237" y="352"/>
                </a:lnTo>
                <a:lnTo>
                  <a:pt x="1250" y="357"/>
                </a:lnTo>
                <a:lnTo>
                  <a:pt x="1263" y="360"/>
                </a:lnTo>
                <a:lnTo>
                  <a:pt x="1276" y="364"/>
                </a:lnTo>
                <a:lnTo>
                  <a:pt x="1289" y="368"/>
                </a:lnTo>
                <a:lnTo>
                  <a:pt x="1301" y="372"/>
                </a:lnTo>
                <a:lnTo>
                  <a:pt x="1315" y="376"/>
                </a:lnTo>
                <a:lnTo>
                  <a:pt x="1327" y="380"/>
                </a:lnTo>
                <a:lnTo>
                  <a:pt x="1341" y="383"/>
                </a:lnTo>
                <a:lnTo>
                  <a:pt x="1353" y="386"/>
                </a:lnTo>
                <a:lnTo>
                  <a:pt x="1367" y="390"/>
                </a:lnTo>
                <a:lnTo>
                  <a:pt x="1379" y="393"/>
                </a:lnTo>
                <a:lnTo>
                  <a:pt x="1393" y="397"/>
                </a:lnTo>
                <a:lnTo>
                  <a:pt x="1405" y="400"/>
                </a:lnTo>
                <a:lnTo>
                  <a:pt x="1418" y="403"/>
                </a:lnTo>
                <a:lnTo>
                  <a:pt x="1430" y="406"/>
                </a:lnTo>
                <a:lnTo>
                  <a:pt x="1443" y="408"/>
                </a:lnTo>
                <a:lnTo>
                  <a:pt x="1455" y="410"/>
                </a:lnTo>
                <a:lnTo>
                  <a:pt x="1468" y="413"/>
                </a:lnTo>
                <a:lnTo>
                  <a:pt x="1480" y="415"/>
                </a:lnTo>
                <a:lnTo>
                  <a:pt x="1493" y="417"/>
                </a:lnTo>
                <a:lnTo>
                  <a:pt x="1505" y="418"/>
                </a:lnTo>
                <a:lnTo>
                  <a:pt x="1517" y="419"/>
                </a:lnTo>
                <a:lnTo>
                  <a:pt x="1529" y="421"/>
                </a:lnTo>
                <a:lnTo>
                  <a:pt x="1541" y="421"/>
                </a:lnTo>
                <a:lnTo>
                  <a:pt x="1552" y="422"/>
                </a:lnTo>
                <a:lnTo>
                  <a:pt x="1565" y="422"/>
                </a:lnTo>
                <a:lnTo>
                  <a:pt x="1576" y="421"/>
                </a:lnTo>
                <a:lnTo>
                  <a:pt x="1587" y="421"/>
                </a:lnTo>
                <a:lnTo>
                  <a:pt x="1598" y="420"/>
                </a:lnTo>
                <a:lnTo>
                  <a:pt x="1610" y="419"/>
                </a:lnTo>
                <a:lnTo>
                  <a:pt x="1621" y="417"/>
                </a:lnTo>
                <a:lnTo>
                  <a:pt x="1632" y="415"/>
                </a:lnTo>
                <a:lnTo>
                  <a:pt x="1647" y="411"/>
                </a:lnTo>
                <a:lnTo>
                  <a:pt x="1663" y="407"/>
                </a:lnTo>
                <a:lnTo>
                  <a:pt x="1677" y="401"/>
                </a:lnTo>
                <a:lnTo>
                  <a:pt x="1692" y="395"/>
                </a:lnTo>
                <a:lnTo>
                  <a:pt x="1706" y="388"/>
                </a:lnTo>
                <a:lnTo>
                  <a:pt x="1721" y="381"/>
                </a:lnTo>
                <a:lnTo>
                  <a:pt x="1734" y="373"/>
                </a:lnTo>
                <a:lnTo>
                  <a:pt x="1747" y="364"/>
                </a:lnTo>
                <a:lnTo>
                  <a:pt x="1761" y="356"/>
                </a:lnTo>
                <a:lnTo>
                  <a:pt x="1773" y="346"/>
                </a:lnTo>
                <a:lnTo>
                  <a:pt x="1787" y="336"/>
                </a:lnTo>
                <a:lnTo>
                  <a:pt x="1799" y="326"/>
                </a:lnTo>
                <a:lnTo>
                  <a:pt x="1812" y="316"/>
                </a:lnTo>
                <a:lnTo>
                  <a:pt x="1823" y="306"/>
                </a:lnTo>
                <a:lnTo>
                  <a:pt x="1836" y="295"/>
                </a:lnTo>
                <a:lnTo>
                  <a:pt x="1847" y="284"/>
                </a:lnTo>
                <a:lnTo>
                  <a:pt x="1859" y="274"/>
                </a:lnTo>
                <a:lnTo>
                  <a:pt x="1870" y="262"/>
                </a:lnTo>
                <a:lnTo>
                  <a:pt x="1882" y="252"/>
                </a:lnTo>
                <a:lnTo>
                  <a:pt x="1893" y="241"/>
                </a:lnTo>
                <a:lnTo>
                  <a:pt x="1904" y="232"/>
                </a:lnTo>
                <a:lnTo>
                  <a:pt x="1915" y="221"/>
                </a:lnTo>
                <a:lnTo>
                  <a:pt x="1925" y="211"/>
                </a:lnTo>
                <a:lnTo>
                  <a:pt x="1936" y="202"/>
                </a:lnTo>
                <a:lnTo>
                  <a:pt x="1946" y="192"/>
                </a:lnTo>
                <a:lnTo>
                  <a:pt x="1957" y="184"/>
                </a:lnTo>
                <a:lnTo>
                  <a:pt x="1968" y="176"/>
                </a:lnTo>
                <a:lnTo>
                  <a:pt x="1978" y="168"/>
                </a:lnTo>
                <a:lnTo>
                  <a:pt x="1989" y="160"/>
                </a:lnTo>
                <a:lnTo>
                  <a:pt x="1998" y="155"/>
                </a:lnTo>
                <a:lnTo>
                  <a:pt x="2009" y="149"/>
                </a:lnTo>
                <a:lnTo>
                  <a:pt x="2018" y="144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6140160" y="4689000"/>
            <a:ext cx="858600" cy="2286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H="1" flipV="1">
            <a:off x="7283520" y="4975200"/>
            <a:ext cx="458640" cy="28728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394080" y="2286000"/>
            <a:ext cx="228600" cy="1144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36"/>
                </a:moveTo>
                <a:lnTo>
                  <a:pt x="2" y="28"/>
                </a:lnTo>
                <a:lnTo>
                  <a:pt x="7" y="20"/>
                </a:lnTo>
                <a:lnTo>
                  <a:pt x="16" y="13"/>
                </a:lnTo>
                <a:lnTo>
                  <a:pt x="28" y="8"/>
                </a:lnTo>
                <a:lnTo>
                  <a:pt x="41" y="3"/>
                </a:lnTo>
                <a:lnTo>
                  <a:pt x="56" y="0"/>
                </a:lnTo>
                <a:lnTo>
                  <a:pt x="72" y="0"/>
                </a:lnTo>
                <a:lnTo>
                  <a:pt x="88" y="0"/>
                </a:lnTo>
                <a:lnTo>
                  <a:pt x="103" y="3"/>
                </a:lnTo>
                <a:lnTo>
                  <a:pt x="117" y="8"/>
                </a:lnTo>
                <a:lnTo>
                  <a:pt x="128" y="13"/>
                </a:lnTo>
                <a:lnTo>
                  <a:pt x="137" y="20"/>
                </a:lnTo>
                <a:lnTo>
                  <a:pt x="142" y="28"/>
                </a:lnTo>
                <a:lnTo>
                  <a:pt x="144" y="36"/>
                </a:lnTo>
                <a:lnTo>
                  <a:pt x="142" y="43"/>
                </a:lnTo>
                <a:lnTo>
                  <a:pt x="137" y="51"/>
                </a:lnTo>
                <a:lnTo>
                  <a:pt x="128" y="58"/>
                </a:lnTo>
                <a:lnTo>
                  <a:pt x="117" y="63"/>
                </a:lnTo>
                <a:lnTo>
                  <a:pt x="103" y="68"/>
                </a:lnTo>
                <a:lnTo>
                  <a:pt x="88" y="71"/>
                </a:lnTo>
                <a:lnTo>
                  <a:pt x="72" y="72"/>
                </a:lnTo>
                <a:lnTo>
                  <a:pt x="56" y="71"/>
                </a:lnTo>
                <a:lnTo>
                  <a:pt x="41" y="68"/>
                </a:lnTo>
                <a:lnTo>
                  <a:pt x="28" y="63"/>
                </a:lnTo>
                <a:lnTo>
                  <a:pt x="16" y="58"/>
                </a:lnTo>
                <a:lnTo>
                  <a:pt x="7" y="51"/>
                </a:lnTo>
                <a:lnTo>
                  <a:pt x="2" y="43"/>
                </a:lnTo>
                <a:lnTo>
                  <a:pt x="0" y="36"/>
                </a:lnTo>
                <a:close/>
              </a:path>
            </a:pathLst>
          </a:custGeom>
          <a:solidFill>
            <a:srgbClr val="0000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742160" y="5203800"/>
            <a:ext cx="228600" cy="1144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37"/>
                </a:moveTo>
                <a:lnTo>
                  <a:pt x="2" y="28"/>
                </a:lnTo>
                <a:lnTo>
                  <a:pt x="7" y="20"/>
                </a:lnTo>
                <a:lnTo>
                  <a:pt x="16" y="14"/>
                </a:lnTo>
                <a:lnTo>
                  <a:pt x="28" y="8"/>
                </a:lnTo>
                <a:lnTo>
                  <a:pt x="41" y="4"/>
                </a:lnTo>
                <a:lnTo>
                  <a:pt x="56" y="1"/>
                </a:lnTo>
                <a:lnTo>
                  <a:pt x="72" y="0"/>
                </a:lnTo>
                <a:lnTo>
                  <a:pt x="88" y="1"/>
                </a:lnTo>
                <a:lnTo>
                  <a:pt x="104" y="4"/>
                </a:lnTo>
                <a:lnTo>
                  <a:pt x="117" y="8"/>
                </a:lnTo>
                <a:lnTo>
                  <a:pt x="129" y="14"/>
                </a:lnTo>
                <a:lnTo>
                  <a:pt x="137" y="20"/>
                </a:lnTo>
                <a:lnTo>
                  <a:pt x="142" y="28"/>
                </a:lnTo>
                <a:lnTo>
                  <a:pt x="144" y="37"/>
                </a:lnTo>
                <a:lnTo>
                  <a:pt x="142" y="44"/>
                </a:lnTo>
                <a:lnTo>
                  <a:pt x="137" y="52"/>
                </a:lnTo>
                <a:lnTo>
                  <a:pt x="129" y="59"/>
                </a:lnTo>
                <a:lnTo>
                  <a:pt x="117" y="64"/>
                </a:lnTo>
                <a:lnTo>
                  <a:pt x="104" y="68"/>
                </a:lnTo>
                <a:lnTo>
                  <a:pt x="88" y="71"/>
                </a:lnTo>
                <a:lnTo>
                  <a:pt x="72" y="72"/>
                </a:lnTo>
                <a:lnTo>
                  <a:pt x="56" y="71"/>
                </a:lnTo>
                <a:lnTo>
                  <a:pt x="41" y="68"/>
                </a:lnTo>
                <a:lnTo>
                  <a:pt x="28" y="64"/>
                </a:lnTo>
                <a:lnTo>
                  <a:pt x="16" y="59"/>
                </a:lnTo>
                <a:lnTo>
                  <a:pt x="7" y="52"/>
                </a:lnTo>
                <a:lnTo>
                  <a:pt x="2" y="44"/>
                </a:lnTo>
                <a:lnTo>
                  <a:pt x="0" y="37"/>
                </a:lnTo>
                <a:close/>
              </a:path>
            </a:pathLst>
          </a:custGeom>
          <a:solidFill>
            <a:srgbClr val="0000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856640" y="581616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856640" y="57780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7856640" y="574164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7856640" y="5705640"/>
            <a:ext cx="1440" cy="1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7856640" y="56685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7856640" y="56322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7856640" y="55954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7856640" y="55591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7856640" y="55224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7856640" y="548604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7856640" y="545004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56640" y="541296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7856640" y="537696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856640" y="533988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856640" y="530388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7856640" y="52653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8313840" y="323964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8313840" y="320364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8313840" y="316656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8313840" y="313056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8313840" y="309420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8313840" y="30556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8313840" y="30189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8313840" y="29826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8313840" y="29458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8313840" y="29095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8313840" y="28731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143920" y="2743200"/>
            <a:ext cx="228600" cy="11592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36"/>
                </a:moveTo>
                <a:lnTo>
                  <a:pt x="1" y="28"/>
                </a:lnTo>
                <a:lnTo>
                  <a:pt x="6" y="21"/>
                </a:lnTo>
                <a:lnTo>
                  <a:pt x="15" y="14"/>
                </a:lnTo>
                <a:lnTo>
                  <a:pt x="26" y="8"/>
                </a:lnTo>
                <a:lnTo>
                  <a:pt x="40" y="3"/>
                </a:lnTo>
                <a:lnTo>
                  <a:pt x="55" y="0"/>
                </a:lnTo>
                <a:lnTo>
                  <a:pt x="72" y="0"/>
                </a:lnTo>
                <a:lnTo>
                  <a:pt x="88" y="0"/>
                </a:lnTo>
                <a:lnTo>
                  <a:pt x="102" y="3"/>
                </a:lnTo>
                <a:lnTo>
                  <a:pt x="117" y="8"/>
                </a:lnTo>
                <a:lnTo>
                  <a:pt x="127" y="14"/>
                </a:lnTo>
                <a:lnTo>
                  <a:pt x="136" y="21"/>
                </a:lnTo>
                <a:lnTo>
                  <a:pt x="142" y="28"/>
                </a:lnTo>
                <a:lnTo>
                  <a:pt x="144" y="36"/>
                </a:lnTo>
                <a:lnTo>
                  <a:pt x="142" y="44"/>
                </a:lnTo>
                <a:lnTo>
                  <a:pt x="136" y="51"/>
                </a:lnTo>
                <a:lnTo>
                  <a:pt x="127" y="58"/>
                </a:lnTo>
                <a:lnTo>
                  <a:pt x="117" y="64"/>
                </a:lnTo>
                <a:lnTo>
                  <a:pt x="102" y="69"/>
                </a:lnTo>
                <a:lnTo>
                  <a:pt x="88" y="72"/>
                </a:lnTo>
                <a:lnTo>
                  <a:pt x="72" y="73"/>
                </a:lnTo>
                <a:lnTo>
                  <a:pt x="55" y="72"/>
                </a:lnTo>
                <a:lnTo>
                  <a:pt x="40" y="69"/>
                </a:lnTo>
                <a:lnTo>
                  <a:pt x="26" y="64"/>
                </a:lnTo>
                <a:lnTo>
                  <a:pt x="15" y="58"/>
                </a:lnTo>
                <a:lnTo>
                  <a:pt x="6" y="51"/>
                </a:lnTo>
                <a:lnTo>
                  <a:pt x="1" y="44"/>
                </a:lnTo>
                <a:lnTo>
                  <a:pt x="0" y="36"/>
                </a:lnTo>
                <a:close/>
              </a:path>
            </a:pathLst>
          </a:custGeom>
          <a:solidFill>
            <a:srgbClr val="0000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6140160" y="3830760"/>
            <a:ext cx="1028520" cy="74448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706840" y="45558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2706840" y="45190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2706840" y="44827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2706840" y="44463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2706840" y="440964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2706840" y="43732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2706840" y="4346640"/>
            <a:ext cx="1440" cy="9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026040" y="474660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026040" y="478296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026040" y="4819680"/>
            <a:ext cx="180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026040" y="485604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26040" y="4892760"/>
            <a:ext cx="180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169040" y="5032440"/>
            <a:ext cx="180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169040" y="5068800"/>
            <a:ext cx="180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169040" y="510696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169040" y="5143680"/>
            <a:ext cx="1800" cy="4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1792440" y="3544560"/>
            <a:ext cx="1143000" cy="2286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" descr=""/>
          <p:cNvPicPr/>
          <p:nvPr/>
        </p:nvPicPr>
        <p:blipFill>
          <a:blip r:embed="rId7"/>
          <a:stretch/>
        </p:blipFill>
        <p:spPr>
          <a:xfrm>
            <a:off x="2478240" y="4145040"/>
            <a:ext cx="342720" cy="201600"/>
          </a:xfrm>
          <a:prstGeom prst="rect">
            <a:avLst/>
          </a:prstGeom>
          <a:ln w="0">
            <a:noFill/>
          </a:ln>
        </p:spPr>
      </p:pic>
      <p:pic>
        <p:nvPicPr>
          <p:cNvPr id="1526" name="" descr=""/>
          <p:cNvPicPr/>
          <p:nvPr/>
        </p:nvPicPr>
        <p:blipFill>
          <a:blip r:embed="rId8"/>
          <a:stretch/>
        </p:blipFill>
        <p:spPr>
          <a:xfrm>
            <a:off x="7570800" y="4145040"/>
            <a:ext cx="342720" cy="201600"/>
          </a:xfrm>
          <a:prstGeom prst="rect">
            <a:avLst/>
          </a:prstGeom>
          <a:ln w="0">
            <a:noFill/>
          </a:ln>
        </p:spPr>
      </p:pic>
      <p:pic>
        <p:nvPicPr>
          <p:cNvPr id="1527" name="" descr=""/>
          <p:cNvPicPr/>
          <p:nvPr/>
        </p:nvPicPr>
        <p:blipFill>
          <a:blip r:embed="rId9"/>
          <a:stretch/>
        </p:blipFill>
        <p:spPr>
          <a:xfrm>
            <a:off x="1506600" y="3316320"/>
            <a:ext cx="342720" cy="200160"/>
          </a:xfrm>
          <a:prstGeom prst="rect">
            <a:avLst/>
          </a:prstGeom>
          <a:ln w="0">
            <a:noFill/>
          </a:ln>
        </p:spPr>
      </p:pic>
      <p:pic>
        <p:nvPicPr>
          <p:cNvPr id="1528" name="" descr=""/>
          <p:cNvPicPr/>
          <p:nvPr/>
        </p:nvPicPr>
        <p:blipFill>
          <a:blip r:embed="rId10"/>
          <a:stretch/>
        </p:blipFill>
        <p:spPr>
          <a:xfrm>
            <a:off x="5796000" y="4346640"/>
            <a:ext cx="344520" cy="199800"/>
          </a:xfrm>
          <a:prstGeom prst="rect">
            <a:avLst/>
          </a:prstGeom>
          <a:ln w="0">
            <a:noFill/>
          </a:ln>
        </p:spPr>
      </p:pic>
      <p:pic>
        <p:nvPicPr>
          <p:cNvPr id="1529" name="" descr=""/>
          <p:cNvPicPr/>
          <p:nvPr/>
        </p:nvPicPr>
        <p:blipFill>
          <a:blip r:embed="rId11"/>
          <a:stretch/>
        </p:blipFill>
        <p:spPr>
          <a:xfrm>
            <a:off x="3108240" y="4917960"/>
            <a:ext cx="343080" cy="20016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3736800" y="5376960"/>
            <a:ext cx="228600" cy="11412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35"/>
                </a:moveTo>
                <a:lnTo>
                  <a:pt x="2" y="28"/>
                </a:lnTo>
                <a:lnTo>
                  <a:pt x="8" y="20"/>
                </a:lnTo>
                <a:lnTo>
                  <a:pt x="16" y="13"/>
                </a:lnTo>
                <a:lnTo>
                  <a:pt x="28" y="7"/>
                </a:lnTo>
                <a:lnTo>
                  <a:pt x="41" y="3"/>
                </a:lnTo>
                <a:lnTo>
                  <a:pt x="57" y="0"/>
                </a:lnTo>
                <a:lnTo>
                  <a:pt x="72" y="0"/>
                </a:lnTo>
                <a:lnTo>
                  <a:pt x="88" y="0"/>
                </a:lnTo>
                <a:lnTo>
                  <a:pt x="104" y="3"/>
                </a:lnTo>
                <a:lnTo>
                  <a:pt x="117" y="7"/>
                </a:lnTo>
                <a:lnTo>
                  <a:pt x="129" y="13"/>
                </a:lnTo>
                <a:lnTo>
                  <a:pt x="137" y="20"/>
                </a:lnTo>
                <a:lnTo>
                  <a:pt x="142" y="28"/>
                </a:lnTo>
                <a:lnTo>
                  <a:pt x="144" y="35"/>
                </a:lnTo>
                <a:lnTo>
                  <a:pt x="142" y="43"/>
                </a:lnTo>
                <a:lnTo>
                  <a:pt x="137" y="51"/>
                </a:lnTo>
                <a:lnTo>
                  <a:pt x="129" y="57"/>
                </a:lnTo>
                <a:lnTo>
                  <a:pt x="117" y="63"/>
                </a:lnTo>
                <a:lnTo>
                  <a:pt x="104" y="68"/>
                </a:lnTo>
                <a:lnTo>
                  <a:pt x="88" y="71"/>
                </a:lnTo>
                <a:lnTo>
                  <a:pt x="72" y="72"/>
                </a:lnTo>
                <a:lnTo>
                  <a:pt x="57" y="71"/>
                </a:lnTo>
                <a:lnTo>
                  <a:pt x="41" y="68"/>
                </a:lnTo>
                <a:lnTo>
                  <a:pt x="28" y="63"/>
                </a:lnTo>
                <a:lnTo>
                  <a:pt x="16" y="57"/>
                </a:lnTo>
                <a:lnTo>
                  <a:pt x="8" y="51"/>
                </a:lnTo>
                <a:lnTo>
                  <a:pt x="2" y="43"/>
                </a:lnTo>
                <a:lnTo>
                  <a:pt x="0" y="35"/>
                </a:lnTo>
                <a:close/>
              </a:path>
            </a:pathLst>
          </a:custGeom>
          <a:solidFill>
            <a:srgbClr val="ff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990720" y="3944880"/>
            <a:ext cx="228600" cy="1144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37"/>
                </a:moveTo>
                <a:lnTo>
                  <a:pt x="2" y="28"/>
                </a:lnTo>
                <a:lnTo>
                  <a:pt x="8" y="20"/>
                </a:lnTo>
                <a:lnTo>
                  <a:pt x="16" y="13"/>
                </a:lnTo>
                <a:lnTo>
                  <a:pt x="28" y="8"/>
                </a:lnTo>
                <a:lnTo>
                  <a:pt x="41" y="4"/>
                </a:lnTo>
                <a:lnTo>
                  <a:pt x="57" y="1"/>
                </a:lnTo>
                <a:lnTo>
                  <a:pt x="72" y="0"/>
                </a:lnTo>
                <a:lnTo>
                  <a:pt x="88" y="1"/>
                </a:lnTo>
                <a:lnTo>
                  <a:pt x="104" y="4"/>
                </a:lnTo>
                <a:lnTo>
                  <a:pt x="117" y="8"/>
                </a:lnTo>
                <a:lnTo>
                  <a:pt x="129" y="13"/>
                </a:lnTo>
                <a:lnTo>
                  <a:pt x="137" y="20"/>
                </a:lnTo>
                <a:lnTo>
                  <a:pt x="142" y="28"/>
                </a:lnTo>
                <a:lnTo>
                  <a:pt x="144" y="37"/>
                </a:lnTo>
                <a:lnTo>
                  <a:pt x="142" y="44"/>
                </a:lnTo>
                <a:lnTo>
                  <a:pt x="137" y="52"/>
                </a:lnTo>
                <a:lnTo>
                  <a:pt x="129" y="59"/>
                </a:lnTo>
                <a:lnTo>
                  <a:pt x="117" y="64"/>
                </a:lnTo>
                <a:lnTo>
                  <a:pt x="104" y="68"/>
                </a:lnTo>
                <a:lnTo>
                  <a:pt x="88" y="71"/>
                </a:lnTo>
                <a:lnTo>
                  <a:pt x="72" y="72"/>
                </a:lnTo>
                <a:lnTo>
                  <a:pt x="57" y="71"/>
                </a:lnTo>
                <a:lnTo>
                  <a:pt x="41" y="68"/>
                </a:lnTo>
                <a:lnTo>
                  <a:pt x="28" y="64"/>
                </a:lnTo>
                <a:lnTo>
                  <a:pt x="16" y="59"/>
                </a:lnTo>
                <a:lnTo>
                  <a:pt x="8" y="52"/>
                </a:lnTo>
                <a:lnTo>
                  <a:pt x="2" y="44"/>
                </a:lnTo>
                <a:lnTo>
                  <a:pt x="0" y="37"/>
                </a:lnTo>
                <a:close/>
              </a:path>
            </a:pathLst>
          </a:custGeom>
          <a:solidFill>
            <a:srgbClr val="ff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6083280" y="4231800"/>
            <a:ext cx="1487520" cy="2286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2820960" y="3544560"/>
            <a:ext cx="4233960" cy="6872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706840" y="4287960"/>
            <a:ext cx="458640" cy="74448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5" name="" descr=""/>
          <p:cNvPicPr/>
          <p:nvPr/>
        </p:nvPicPr>
        <p:blipFill>
          <a:blip r:embed="rId12"/>
          <a:stretch/>
        </p:blipFill>
        <p:spPr>
          <a:xfrm>
            <a:off x="7054920" y="3430440"/>
            <a:ext cx="344520" cy="200160"/>
          </a:xfrm>
          <a:prstGeom prst="rect">
            <a:avLst/>
          </a:prstGeom>
          <a:ln w="0">
            <a:noFill/>
          </a:ln>
        </p:spPr>
      </p:pic>
      <p:sp>
        <p:nvSpPr>
          <p:cNvPr id="1536" name=""/>
          <p:cNvSpPr/>
          <p:nvPr/>
        </p:nvSpPr>
        <p:spPr>
          <a:xfrm flipH="1">
            <a:off x="6026040" y="3602160"/>
            <a:ext cx="1028880" cy="74448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7341840" y="2859120"/>
            <a:ext cx="857160" cy="9144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76520" y="3830760"/>
            <a:ext cx="801720" cy="571320"/>
          </a:xfrm>
          <a:custGeom>
            <a:avLst/>
            <a:gdLst/>
            <a:ahLst/>
            <a:rect l="l" t="t" r="r" b="b"/>
            <a:pathLst>
              <a:path w="505" h="360">
                <a:moveTo>
                  <a:pt x="505" y="360"/>
                </a:moveTo>
                <a:lnTo>
                  <a:pt x="459" y="336"/>
                </a:lnTo>
                <a:lnTo>
                  <a:pt x="414" y="313"/>
                </a:lnTo>
                <a:lnTo>
                  <a:pt x="370" y="291"/>
                </a:lnTo>
                <a:lnTo>
                  <a:pt x="328" y="269"/>
                </a:lnTo>
                <a:lnTo>
                  <a:pt x="287" y="247"/>
                </a:lnTo>
                <a:lnTo>
                  <a:pt x="247" y="226"/>
                </a:lnTo>
                <a:lnTo>
                  <a:pt x="210" y="203"/>
                </a:lnTo>
                <a:lnTo>
                  <a:pt x="174" y="180"/>
                </a:lnTo>
                <a:lnTo>
                  <a:pt x="140" y="155"/>
                </a:lnTo>
                <a:lnTo>
                  <a:pt x="108" y="129"/>
                </a:lnTo>
                <a:lnTo>
                  <a:pt x="78" y="100"/>
                </a:lnTo>
                <a:lnTo>
                  <a:pt x="50" y="69"/>
                </a:lnTo>
                <a:lnTo>
                  <a:pt x="24" y="36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620720" y="3487680"/>
            <a:ext cx="916200" cy="744480"/>
          </a:xfrm>
          <a:custGeom>
            <a:avLst/>
            <a:gdLst/>
            <a:ahLst/>
            <a:rect l="l" t="t" r="r" b="b"/>
            <a:pathLst>
              <a:path w="577" h="469">
                <a:moveTo>
                  <a:pt x="577" y="469"/>
                </a:moveTo>
                <a:lnTo>
                  <a:pt x="524" y="435"/>
                </a:lnTo>
                <a:lnTo>
                  <a:pt x="473" y="402"/>
                </a:lnTo>
                <a:lnTo>
                  <a:pt x="423" y="372"/>
                </a:lnTo>
                <a:lnTo>
                  <a:pt x="375" y="342"/>
                </a:lnTo>
                <a:lnTo>
                  <a:pt x="329" y="311"/>
                </a:lnTo>
                <a:lnTo>
                  <a:pt x="283" y="281"/>
                </a:lnTo>
                <a:lnTo>
                  <a:pt x="240" y="251"/>
                </a:lnTo>
                <a:lnTo>
                  <a:pt x="200" y="221"/>
                </a:lnTo>
                <a:lnTo>
                  <a:pt x="160" y="188"/>
                </a:lnTo>
                <a:lnTo>
                  <a:pt x="124" y="154"/>
                </a:lnTo>
                <a:lnTo>
                  <a:pt x="89" y="120"/>
                </a:lnTo>
                <a:lnTo>
                  <a:pt x="57" y="82"/>
                </a:lnTo>
                <a:lnTo>
                  <a:pt x="27" y="42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279600" y="5032440"/>
            <a:ext cx="514440" cy="34452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706840" y="4287960"/>
            <a:ext cx="3203280" cy="625320"/>
          </a:xfrm>
          <a:custGeom>
            <a:avLst/>
            <a:gdLst/>
            <a:ahLst/>
            <a:rect l="l" t="t" r="r" b="b"/>
            <a:pathLst>
              <a:path w="2018" h="394">
                <a:moveTo>
                  <a:pt x="0" y="0"/>
                </a:moveTo>
                <a:lnTo>
                  <a:pt x="64" y="20"/>
                </a:lnTo>
                <a:lnTo>
                  <a:pt x="127" y="40"/>
                </a:lnTo>
                <a:lnTo>
                  <a:pt x="190" y="58"/>
                </a:lnTo>
                <a:lnTo>
                  <a:pt x="251" y="75"/>
                </a:lnTo>
                <a:lnTo>
                  <a:pt x="314" y="93"/>
                </a:lnTo>
                <a:lnTo>
                  <a:pt x="375" y="109"/>
                </a:lnTo>
                <a:lnTo>
                  <a:pt x="437" y="125"/>
                </a:lnTo>
                <a:lnTo>
                  <a:pt x="498" y="142"/>
                </a:lnTo>
                <a:lnTo>
                  <a:pt x="560" y="157"/>
                </a:lnTo>
                <a:lnTo>
                  <a:pt x="621" y="172"/>
                </a:lnTo>
                <a:lnTo>
                  <a:pt x="683" y="188"/>
                </a:lnTo>
                <a:lnTo>
                  <a:pt x="744" y="202"/>
                </a:lnTo>
                <a:lnTo>
                  <a:pt x="806" y="218"/>
                </a:lnTo>
                <a:lnTo>
                  <a:pt x="867" y="233"/>
                </a:lnTo>
                <a:lnTo>
                  <a:pt x="930" y="248"/>
                </a:lnTo>
                <a:lnTo>
                  <a:pt x="991" y="265"/>
                </a:lnTo>
                <a:lnTo>
                  <a:pt x="1054" y="280"/>
                </a:lnTo>
                <a:lnTo>
                  <a:pt x="1116" y="296"/>
                </a:lnTo>
                <a:lnTo>
                  <a:pt x="1178" y="314"/>
                </a:lnTo>
                <a:lnTo>
                  <a:pt x="1242" y="331"/>
                </a:lnTo>
                <a:lnTo>
                  <a:pt x="1254" y="335"/>
                </a:lnTo>
                <a:lnTo>
                  <a:pt x="1268" y="339"/>
                </a:lnTo>
                <a:lnTo>
                  <a:pt x="1280" y="342"/>
                </a:lnTo>
                <a:lnTo>
                  <a:pt x="1294" y="345"/>
                </a:lnTo>
                <a:lnTo>
                  <a:pt x="1307" y="349"/>
                </a:lnTo>
                <a:lnTo>
                  <a:pt x="1320" y="353"/>
                </a:lnTo>
                <a:lnTo>
                  <a:pt x="1333" y="356"/>
                </a:lnTo>
                <a:lnTo>
                  <a:pt x="1346" y="360"/>
                </a:lnTo>
                <a:lnTo>
                  <a:pt x="1359" y="363"/>
                </a:lnTo>
                <a:lnTo>
                  <a:pt x="1372" y="367"/>
                </a:lnTo>
                <a:lnTo>
                  <a:pt x="1385" y="369"/>
                </a:lnTo>
                <a:lnTo>
                  <a:pt x="1398" y="372"/>
                </a:lnTo>
                <a:lnTo>
                  <a:pt x="1410" y="375"/>
                </a:lnTo>
                <a:lnTo>
                  <a:pt x="1424" y="378"/>
                </a:lnTo>
                <a:lnTo>
                  <a:pt x="1436" y="381"/>
                </a:lnTo>
                <a:lnTo>
                  <a:pt x="1449" y="383"/>
                </a:lnTo>
                <a:lnTo>
                  <a:pt x="1461" y="386"/>
                </a:lnTo>
                <a:lnTo>
                  <a:pt x="1474" y="388"/>
                </a:lnTo>
                <a:lnTo>
                  <a:pt x="1486" y="390"/>
                </a:lnTo>
                <a:lnTo>
                  <a:pt x="1499" y="391"/>
                </a:lnTo>
                <a:lnTo>
                  <a:pt x="1510" y="392"/>
                </a:lnTo>
                <a:lnTo>
                  <a:pt x="1523" y="393"/>
                </a:lnTo>
                <a:lnTo>
                  <a:pt x="1535" y="394"/>
                </a:lnTo>
                <a:lnTo>
                  <a:pt x="1547" y="394"/>
                </a:lnTo>
                <a:lnTo>
                  <a:pt x="1558" y="394"/>
                </a:lnTo>
                <a:lnTo>
                  <a:pt x="1570" y="394"/>
                </a:lnTo>
                <a:lnTo>
                  <a:pt x="1581" y="394"/>
                </a:lnTo>
                <a:lnTo>
                  <a:pt x="1593" y="393"/>
                </a:lnTo>
                <a:lnTo>
                  <a:pt x="1604" y="392"/>
                </a:lnTo>
                <a:lnTo>
                  <a:pt x="1615" y="391"/>
                </a:lnTo>
                <a:lnTo>
                  <a:pt x="1626" y="389"/>
                </a:lnTo>
                <a:lnTo>
                  <a:pt x="1637" y="387"/>
                </a:lnTo>
                <a:lnTo>
                  <a:pt x="1652" y="382"/>
                </a:lnTo>
                <a:lnTo>
                  <a:pt x="1668" y="377"/>
                </a:lnTo>
                <a:lnTo>
                  <a:pt x="1682" y="371"/>
                </a:lnTo>
                <a:lnTo>
                  <a:pt x="1696" y="366"/>
                </a:lnTo>
                <a:lnTo>
                  <a:pt x="1711" y="358"/>
                </a:lnTo>
                <a:lnTo>
                  <a:pt x="1725" y="351"/>
                </a:lnTo>
                <a:lnTo>
                  <a:pt x="1739" y="343"/>
                </a:lnTo>
                <a:lnTo>
                  <a:pt x="1752" y="334"/>
                </a:lnTo>
                <a:lnTo>
                  <a:pt x="1765" y="324"/>
                </a:lnTo>
                <a:lnTo>
                  <a:pt x="1778" y="315"/>
                </a:lnTo>
                <a:lnTo>
                  <a:pt x="1791" y="305"/>
                </a:lnTo>
                <a:lnTo>
                  <a:pt x="1803" y="294"/>
                </a:lnTo>
                <a:lnTo>
                  <a:pt x="1815" y="285"/>
                </a:lnTo>
                <a:lnTo>
                  <a:pt x="1827" y="273"/>
                </a:lnTo>
                <a:lnTo>
                  <a:pt x="1839" y="263"/>
                </a:lnTo>
                <a:lnTo>
                  <a:pt x="1850" y="252"/>
                </a:lnTo>
                <a:lnTo>
                  <a:pt x="1862" y="242"/>
                </a:lnTo>
                <a:lnTo>
                  <a:pt x="1872" y="230"/>
                </a:lnTo>
                <a:lnTo>
                  <a:pt x="1884" y="219"/>
                </a:lnTo>
                <a:lnTo>
                  <a:pt x="1894" y="209"/>
                </a:lnTo>
                <a:lnTo>
                  <a:pt x="1906" y="198"/>
                </a:lnTo>
                <a:lnTo>
                  <a:pt x="1917" y="188"/>
                </a:lnTo>
                <a:lnTo>
                  <a:pt x="1927" y="178"/>
                </a:lnTo>
                <a:lnTo>
                  <a:pt x="1938" y="169"/>
                </a:lnTo>
                <a:lnTo>
                  <a:pt x="1947" y="159"/>
                </a:lnTo>
                <a:lnTo>
                  <a:pt x="1958" y="150"/>
                </a:lnTo>
                <a:lnTo>
                  <a:pt x="1968" y="142"/>
                </a:lnTo>
                <a:lnTo>
                  <a:pt x="1978" y="134"/>
                </a:lnTo>
                <a:lnTo>
                  <a:pt x="1989" y="126"/>
                </a:lnTo>
                <a:lnTo>
                  <a:pt x="1998" y="119"/>
                </a:lnTo>
                <a:lnTo>
                  <a:pt x="2009" y="114"/>
                </a:lnTo>
                <a:lnTo>
                  <a:pt x="2018" y="109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3049560" y="2400480"/>
            <a:ext cx="458640" cy="10872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431120" y="3887640"/>
            <a:ext cx="411120" cy="109800"/>
          </a:xfrm>
          <a:custGeom>
            <a:avLst/>
            <a:gdLst/>
            <a:ahLst/>
            <a:rect l="l" t="t" r="r" b="b"/>
            <a:pathLst>
              <a:path w="259" h="69">
                <a:moveTo>
                  <a:pt x="0" y="69"/>
                </a:moveTo>
                <a:lnTo>
                  <a:pt x="259" y="69"/>
                </a:lnTo>
                <a:lnTo>
                  <a:pt x="259" y="0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1219320" y="3487680"/>
            <a:ext cx="342720" cy="51588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104840" y="400356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104840" y="404028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104840" y="407664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104840" y="411336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104840" y="414972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104840" y="418608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104840" y="4222800"/>
            <a:ext cx="1800" cy="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313840" y="44607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32" y="94"/>
                </a:moveTo>
                <a:lnTo>
                  <a:pt x="0" y="94"/>
                </a:lnTo>
                <a:lnTo>
                  <a:pt x="0" y="144"/>
                </a:lnTo>
                <a:lnTo>
                  <a:pt x="144" y="144"/>
                </a:lnTo>
                <a:lnTo>
                  <a:pt x="144" y="94"/>
                </a:lnTo>
                <a:lnTo>
                  <a:pt x="114" y="94"/>
                </a:lnTo>
                <a:lnTo>
                  <a:pt x="114" y="87"/>
                </a:lnTo>
                <a:lnTo>
                  <a:pt x="127" y="87"/>
                </a:lnTo>
                <a:lnTo>
                  <a:pt x="127" y="0"/>
                </a:lnTo>
                <a:lnTo>
                  <a:pt x="18" y="0"/>
                </a:lnTo>
                <a:lnTo>
                  <a:pt x="18" y="87"/>
                </a:lnTo>
                <a:lnTo>
                  <a:pt x="32" y="87"/>
                </a:lnTo>
                <a:lnTo>
                  <a:pt x="32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364600" y="4599000"/>
            <a:ext cx="129960" cy="11160"/>
          </a:xfrm>
          <a:custGeom>
            <a:avLst/>
            <a:gdLst/>
            <a:ahLst/>
            <a:rect l="l" t="t" r="r" b="b"/>
            <a:pathLst>
              <a:path w="82" h="7">
                <a:moveTo>
                  <a:pt x="0" y="7"/>
                </a:moveTo>
                <a:lnTo>
                  <a:pt x="82" y="7"/>
                </a:lnTo>
                <a:moveTo>
                  <a:pt x="0" y="0"/>
                </a:moveTo>
                <a:lnTo>
                  <a:pt x="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432640" y="4618080"/>
            <a:ext cx="93960" cy="63360"/>
          </a:xfrm>
          <a:custGeom>
            <a:avLst/>
            <a:gdLst/>
            <a:ahLst/>
            <a:rect l="l" t="t" r="r" b="b"/>
            <a:pathLst>
              <a:path w="59" h="40">
                <a:moveTo>
                  <a:pt x="0" y="40"/>
                </a:moveTo>
                <a:lnTo>
                  <a:pt x="47" y="40"/>
                </a:lnTo>
                <a:lnTo>
                  <a:pt x="47" y="0"/>
                </a:lnTo>
                <a:lnTo>
                  <a:pt x="0" y="0"/>
                </a:lnTo>
                <a:lnTo>
                  <a:pt x="0" y="40"/>
                </a:lnTo>
                <a:close/>
                <a:moveTo>
                  <a:pt x="52" y="7"/>
                </a:moveTo>
                <a:lnTo>
                  <a:pt x="59" y="7"/>
                </a:lnTo>
                <a:lnTo>
                  <a:pt x="59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432640" y="4638600"/>
            <a:ext cx="74880" cy="22320"/>
          </a:xfrm>
          <a:custGeom>
            <a:avLst/>
            <a:gdLst/>
            <a:ahLst/>
            <a:rect l="l" t="t" r="r" b="b"/>
            <a:pathLst>
              <a:path w="47" h="14">
                <a:moveTo>
                  <a:pt x="0" y="0"/>
                </a:moveTo>
                <a:lnTo>
                  <a:pt x="47" y="0"/>
                </a:lnTo>
                <a:moveTo>
                  <a:pt x="0" y="14"/>
                </a:moveTo>
                <a:lnTo>
                  <a:pt x="47" y="14"/>
                </a:lnTo>
                <a:moveTo>
                  <a:pt x="2" y="7"/>
                </a:moveTo>
                <a:lnTo>
                  <a:pt x="45" y="7"/>
                </a:lnTo>
                <a:moveTo>
                  <a:pt x="27" y="11"/>
                </a:moveTo>
                <a:lnTo>
                  <a:pt x="40" y="11"/>
                </a:lnTo>
                <a:lnTo>
                  <a:pt x="40" y="2"/>
                </a:lnTo>
                <a:lnTo>
                  <a:pt x="27" y="2"/>
                </a:lnTo>
                <a:lnTo>
                  <a:pt x="27" y="1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21760" y="4476600"/>
            <a:ext cx="214200" cy="154080"/>
          </a:xfrm>
          <a:custGeom>
            <a:avLst/>
            <a:gdLst/>
            <a:ahLst/>
            <a:rect l="l" t="t" r="r" b="b"/>
            <a:pathLst>
              <a:path w="135" h="97">
                <a:moveTo>
                  <a:pt x="113" y="69"/>
                </a:moveTo>
                <a:lnTo>
                  <a:pt x="118" y="69"/>
                </a:lnTo>
                <a:lnTo>
                  <a:pt x="118" y="67"/>
                </a:lnTo>
                <a:lnTo>
                  <a:pt x="113" y="67"/>
                </a:lnTo>
                <a:lnTo>
                  <a:pt x="113" y="69"/>
                </a:lnTo>
                <a:close/>
                <a:moveTo>
                  <a:pt x="31" y="57"/>
                </a:moveTo>
                <a:lnTo>
                  <a:pt x="31" y="6"/>
                </a:lnTo>
                <a:lnTo>
                  <a:pt x="105" y="6"/>
                </a:lnTo>
                <a:lnTo>
                  <a:pt x="105" y="57"/>
                </a:lnTo>
                <a:lnTo>
                  <a:pt x="31" y="57"/>
                </a:lnTo>
                <a:close/>
                <a:moveTo>
                  <a:pt x="27" y="60"/>
                </a:moveTo>
                <a:lnTo>
                  <a:pt x="109" y="60"/>
                </a:lnTo>
                <a:lnTo>
                  <a:pt x="109" y="3"/>
                </a:lnTo>
                <a:lnTo>
                  <a:pt x="111" y="3"/>
                </a:lnTo>
                <a:lnTo>
                  <a:pt x="111" y="0"/>
                </a:lnTo>
                <a:lnTo>
                  <a:pt x="24" y="0"/>
                </a:lnTo>
                <a:lnTo>
                  <a:pt x="24" y="64"/>
                </a:lnTo>
                <a:lnTo>
                  <a:pt x="27" y="64"/>
                </a:lnTo>
                <a:lnTo>
                  <a:pt x="27" y="60"/>
                </a:lnTo>
                <a:close/>
                <a:moveTo>
                  <a:pt x="0" y="93"/>
                </a:moveTo>
                <a:lnTo>
                  <a:pt x="13" y="93"/>
                </a:lnTo>
                <a:lnTo>
                  <a:pt x="13" y="89"/>
                </a:lnTo>
                <a:lnTo>
                  <a:pt x="0" y="89"/>
                </a:lnTo>
                <a:lnTo>
                  <a:pt x="0" y="93"/>
                </a:lnTo>
                <a:close/>
                <a:moveTo>
                  <a:pt x="79" y="97"/>
                </a:moveTo>
                <a:lnTo>
                  <a:pt x="109" y="97"/>
                </a:lnTo>
                <a:lnTo>
                  <a:pt x="109" y="94"/>
                </a:lnTo>
                <a:lnTo>
                  <a:pt x="79" y="94"/>
                </a:lnTo>
                <a:lnTo>
                  <a:pt x="79" y="97"/>
                </a:lnTo>
                <a:close/>
                <a:moveTo>
                  <a:pt x="131" y="91"/>
                </a:moveTo>
                <a:lnTo>
                  <a:pt x="135" y="91"/>
                </a:lnTo>
                <a:lnTo>
                  <a:pt x="135" y="89"/>
                </a:lnTo>
                <a:lnTo>
                  <a:pt x="131" y="89"/>
                </a:lnTo>
                <a:lnTo>
                  <a:pt x="131" y="91"/>
                </a:lnTo>
                <a:close/>
                <a:moveTo>
                  <a:pt x="131" y="96"/>
                </a:moveTo>
                <a:lnTo>
                  <a:pt x="135" y="96"/>
                </a:lnTo>
                <a:lnTo>
                  <a:pt x="135" y="93"/>
                </a:lnTo>
                <a:lnTo>
                  <a:pt x="131" y="93"/>
                </a:lnTo>
                <a:lnTo>
                  <a:pt x="131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342280" y="4592520"/>
            <a:ext cx="173160" cy="6480"/>
          </a:xfrm>
          <a:custGeom>
            <a:avLst/>
            <a:gdLst/>
            <a:ahLst/>
            <a:rect l="l" t="t" r="r" b="b"/>
            <a:pathLst>
              <a:path w="109" h="4">
                <a:moveTo>
                  <a:pt x="0" y="0"/>
                </a:moveTo>
                <a:lnTo>
                  <a:pt x="109" y="0"/>
                </a:lnTo>
                <a:moveTo>
                  <a:pt x="27" y="4"/>
                </a:moveTo>
                <a:lnTo>
                  <a:pt x="27" y="0"/>
                </a:lnTo>
                <a:moveTo>
                  <a:pt x="54" y="4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385120" y="4730760"/>
            <a:ext cx="856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394120" y="474012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258040" y="4232160"/>
            <a:ext cx="228600" cy="1144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35"/>
                </a:moveTo>
                <a:lnTo>
                  <a:pt x="2" y="28"/>
                </a:lnTo>
                <a:lnTo>
                  <a:pt x="6" y="20"/>
                </a:lnTo>
                <a:lnTo>
                  <a:pt x="15" y="13"/>
                </a:lnTo>
                <a:lnTo>
                  <a:pt x="26" y="7"/>
                </a:lnTo>
                <a:lnTo>
                  <a:pt x="40" y="3"/>
                </a:lnTo>
                <a:lnTo>
                  <a:pt x="55" y="0"/>
                </a:lnTo>
                <a:lnTo>
                  <a:pt x="72" y="0"/>
                </a:lnTo>
                <a:lnTo>
                  <a:pt x="88" y="0"/>
                </a:lnTo>
                <a:lnTo>
                  <a:pt x="102" y="3"/>
                </a:lnTo>
                <a:lnTo>
                  <a:pt x="117" y="7"/>
                </a:lnTo>
                <a:lnTo>
                  <a:pt x="127" y="13"/>
                </a:lnTo>
                <a:lnTo>
                  <a:pt x="136" y="20"/>
                </a:lnTo>
                <a:lnTo>
                  <a:pt x="142" y="28"/>
                </a:lnTo>
                <a:lnTo>
                  <a:pt x="144" y="35"/>
                </a:lnTo>
                <a:lnTo>
                  <a:pt x="142" y="43"/>
                </a:lnTo>
                <a:lnTo>
                  <a:pt x="136" y="51"/>
                </a:lnTo>
                <a:lnTo>
                  <a:pt x="127" y="57"/>
                </a:lnTo>
                <a:lnTo>
                  <a:pt x="117" y="63"/>
                </a:lnTo>
                <a:lnTo>
                  <a:pt x="102" y="68"/>
                </a:lnTo>
                <a:lnTo>
                  <a:pt x="88" y="71"/>
                </a:lnTo>
                <a:lnTo>
                  <a:pt x="72" y="72"/>
                </a:lnTo>
                <a:lnTo>
                  <a:pt x="55" y="71"/>
                </a:lnTo>
                <a:lnTo>
                  <a:pt x="40" y="68"/>
                </a:lnTo>
                <a:lnTo>
                  <a:pt x="26" y="63"/>
                </a:lnTo>
                <a:lnTo>
                  <a:pt x="15" y="57"/>
                </a:lnTo>
                <a:lnTo>
                  <a:pt x="6" y="51"/>
                </a:lnTo>
                <a:lnTo>
                  <a:pt x="2" y="43"/>
                </a:lnTo>
                <a:lnTo>
                  <a:pt x="0" y="35"/>
                </a:lnTo>
                <a:close/>
              </a:path>
            </a:pathLst>
          </a:custGeom>
          <a:solidFill>
            <a:srgbClr val="ff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913520" y="4232160"/>
            <a:ext cx="344520" cy="55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3508200" y="261108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3508200" y="2575080"/>
            <a:ext cx="180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3508200" y="253800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3508200" y="2502000"/>
            <a:ext cx="180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3508200" y="2463480"/>
            <a:ext cx="180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3508200" y="2426760"/>
            <a:ext cx="180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3508200" y="2400480"/>
            <a:ext cx="1800" cy="9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851280" y="549108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851280" y="552780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851280" y="556416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851280" y="560088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8427960" y="434664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8427960" y="438300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427960" y="441972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8427960" y="44560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27960" y="4492800"/>
            <a:ext cx="1800" cy="1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27960" y="45291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8427960" y="4565520"/>
            <a:ext cx="1800" cy="9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4481640" y="5654520"/>
            <a:ext cx="1440" cy="2937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21160" y="5491080"/>
            <a:ext cx="119160" cy="177840"/>
          </a:xfrm>
          <a:custGeom>
            <a:avLst/>
            <a:gdLst/>
            <a:ahLst/>
            <a:rect l="l" t="t" r="r" b="b"/>
            <a:pathLst>
              <a:path w="75" h="112">
                <a:moveTo>
                  <a:pt x="0" y="112"/>
                </a:moveTo>
                <a:lnTo>
                  <a:pt x="38" y="0"/>
                </a:lnTo>
                <a:lnTo>
                  <a:pt x="75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079880" y="6024600"/>
            <a:ext cx="1030320" cy="2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141440" y="6062760"/>
            <a:ext cx="90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311880" y="3430440"/>
            <a:ext cx="46512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762600" y="3371760"/>
            <a:ext cx="177840" cy="117720"/>
          </a:xfrm>
          <a:custGeom>
            <a:avLst/>
            <a:gdLst/>
            <a:ahLst/>
            <a:rect l="l" t="t" r="r" b="b"/>
            <a:pathLst>
              <a:path w="112" h="74">
                <a:moveTo>
                  <a:pt x="0" y="0"/>
                </a:moveTo>
                <a:lnTo>
                  <a:pt x="112" y="37"/>
                </a:lnTo>
                <a:lnTo>
                  <a:pt x="0" y="7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881600" y="3087720"/>
            <a:ext cx="1373040" cy="5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928040" y="3156120"/>
            <a:ext cx="114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iz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924080" y="334008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684920" y="42879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84920" y="432432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684920" y="4361040"/>
            <a:ext cx="1800" cy="1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684920" y="439740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684920" y="443556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84920" y="447192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684920" y="450864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684920" y="454500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910120" y="45165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910120" y="455436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910120" y="459108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910120" y="462744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910120" y="466416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910120" y="470052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910120" y="473724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910120" y="477360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910120" y="48099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910120" y="48466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910120" y="48830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169040" y="354492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169040" y="35812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169040" y="361800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169040" y="36543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169040" y="36910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169040" y="37274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169040" y="376560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169040" y="380196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169040" y="383868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169040" y="3875040"/>
            <a:ext cx="180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283520" y="37735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283520" y="38098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83520" y="38466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83520" y="388476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283520" y="392112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283520" y="395748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283520" y="3994200"/>
            <a:ext cx="1440" cy="9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592360" y="423216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2360" y="426888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92360" y="430524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592360" y="434196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92360" y="437832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92360" y="441468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92360" y="445140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592360" y="448776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592360" y="452448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592360" y="456084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592360" y="4597560"/>
            <a:ext cx="1440" cy="1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592360" y="463392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592360" y="467208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562040" y="34304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562040" y="34671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562040" y="350352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62040" y="35402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562040" y="357660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562040" y="3613320"/>
            <a:ext cx="1800" cy="1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562040" y="36496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562040" y="368784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562040" y="372420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562040" y="376092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562040" y="379728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562040" y="383364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562040" y="387036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562040" y="390672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562040" y="39434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562040" y="397980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562040" y="401652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562040" y="40528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562040" y="40892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1676520" y="42127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1676520" y="41763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1676520" y="4140360"/>
            <a:ext cx="1440" cy="1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676520" y="410328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1676520" y="406728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1676520" y="403020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676520" y="399420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1676520" y="395712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1676520" y="392076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1676520" y="388476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1676520" y="384624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165480" y="503244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165480" y="506880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165480" y="510696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165480" y="514368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165480" y="518004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165480" y="521640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165480" y="5253120"/>
            <a:ext cx="1440" cy="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13"/>
          <a:stretch/>
        </p:blipFill>
        <p:spPr>
          <a:xfrm>
            <a:off x="6307200" y="5376960"/>
            <a:ext cx="352440" cy="188640"/>
          </a:xfrm>
          <a:prstGeom prst="rect">
            <a:avLst/>
          </a:prstGeom>
          <a:ln w="0">
            <a:noFill/>
          </a:ln>
        </p:spPr>
      </p:pic>
      <p:sp>
        <p:nvSpPr>
          <p:cNvPr id="1676" name=""/>
          <p:cNvSpPr/>
          <p:nvPr/>
        </p:nvSpPr>
        <p:spPr>
          <a:xfrm flipH="1" flipV="1">
            <a:off x="6140160" y="4689360"/>
            <a:ext cx="228600" cy="6876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 flipV="1">
            <a:off x="6540120" y="5546880"/>
            <a:ext cx="399960" cy="1728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40440" y="5661000"/>
            <a:ext cx="228600" cy="11592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37"/>
                </a:moveTo>
                <a:lnTo>
                  <a:pt x="2" y="28"/>
                </a:lnTo>
                <a:lnTo>
                  <a:pt x="8" y="21"/>
                </a:lnTo>
                <a:lnTo>
                  <a:pt x="17" y="14"/>
                </a:lnTo>
                <a:lnTo>
                  <a:pt x="28" y="8"/>
                </a:lnTo>
                <a:lnTo>
                  <a:pt x="42" y="4"/>
                </a:lnTo>
                <a:lnTo>
                  <a:pt x="57" y="1"/>
                </a:lnTo>
                <a:lnTo>
                  <a:pt x="72" y="0"/>
                </a:lnTo>
                <a:lnTo>
                  <a:pt x="89" y="1"/>
                </a:lnTo>
                <a:lnTo>
                  <a:pt x="104" y="4"/>
                </a:lnTo>
                <a:lnTo>
                  <a:pt x="117" y="8"/>
                </a:lnTo>
                <a:lnTo>
                  <a:pt x="129" y="14"/>
                </a:lnTo>
                <a:lnTo>
                  <a:pt x="138" y="21"/>
                </a:lnTo>
                <a:lnTo>
                  <a:pt x="142" y="28"/>
                </a:lnTo>
                <a:lnTo>
                  <a:pt x="144" y="37"/>
                </a:lnTo>
                <a:lnTo>
                  <a:pt x="142" y="45"/>
                </a:lnTo>
                <a:lnTo>
                  <a:pt x="138" y="52"/>
                </a:lnTo>
                <a:lnTo>
                  <a:pt x="129" y="59"/>
                </a:lnTo>
                <a:lnTo>
                  <a:pt x="117" y="65"/>
                </a:lnTo>
                <a:lnTo>
                  <a:pt x="104" y="69"/>
                </a:lnTo>
                <a:lnTo>
                  <a:pt x="89" y="72"/>
                </a:lnTo>
                <a:lnTo>
                  <a:pt x="72" y="73"/>
                </a:lnTo>
                <a:lnTo>
                  <a:pt x="57" y="72"/>
                </a:lnTo>
                <a:lnTo>
                  <a:pt x="42" y="69"/>
                </a:lnTo>
                <a:lnTo>
                  <a:pt x="28" y="65"/>
                </a:lnTo>
                <a:lnTo>
                  <a:pt x="17" y="59"/>
                </a:lnTo>
                <a:lnTo>
                  <a:pt x="8" y="52"/>
                </a:lnTo>
                <a:lnTo>
                  <a:pt x="2" y="45"/>
                </a:lnTo>
                <a:lnTo>
                  <a:pt x="0" y="37"/>
                </a:lnTo>
                <a:close/>
              </a:path>
            </a:pathLst>
          </a:custGeom>
          <a:solidFill>
            <a:srgbClr val="0000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940440" y="59482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32" y="94"/>
                </a:moveTo>
                <a:lnTo>
                  <a:pt x="0" y="94"/>
                </a:lnTo>
                <a:lnTo>
                  <a:pt x="0" y="144"/>
                </a:lnTo>
                <a:lnTo>
                  <a:pt x="144" y="144"/>
                </a:lnTo>
                <a:lnTo>
                  <a:pt x="144" y="94"/>
                </a:lnTo>
                <a:lnTo>
                  <a:pt x="114" y="94"/>
                </a:lnTo>
                <a:lnTo>
                  <a:pt x="114" y="88"/>
                </a:lnTo>
                <a:lnTo>
                  <a:pt x="127" y="88"/>
                </a:lnTo>
                <a:lnTo>
                  <a:pt x="127" y="0"/>
                </a:lnTo>
                <a:lnTo>
                  <a:pt x="18" y="0"/>
                </a:lnTo>
                <a:lnTo>
                  <a:pt x="18" y="88"/>
                </a:lnTo>
                <a:lnTo>
                  <a:pt x="32" y="88"/>
                </a:lnTo>
                <a:lnTo>
                  <a:pt x="32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991200" y="6087960"/>
            <a:ext cx="130320" cy="972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6"/>
                </a:moveTo>
                <a:lnTo>
                  <a:pt x="82" y="6"/>
                </a:lnTo>
                <a:moveTo>
                  <a:pt x="0" y="0"/>
                </a:moveTo>
                <a:lnTo>
                  <a:pt x="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059600" y="6105600"/>
            <a:ext cx="93600" cy="65160"/>
          </a:xfrm>
          <a:custGeom>
            <a:avLst/>
            <a:gdLst/>
            <a:ahLst/>
            <a:rect l="l" t="t" r="r" b="b"/>
            <a:pathLst>
              <a:path w="59" h="41">
                <a:moveTo>
                  <a:pt x="0" y="41"/>
                </a:moveTo>
                <a:lnTo>
                  <a:pt x="47" y="41"/>
                </a:lnTo>
                <a:lnTo>
                  <a:pt x="47" y="0"/>
                </a:lnTo>
                <a:lnTo>
                  <a:pt x="0" y="0"/>
                </a:lnTo>
                <a:lnTo>
                  <a:pt x="0" y="41"/>
                </a:lnTo>
                <a:close/>
                <a:moveTo>
                  <a:pt x="52" y="7"/>
                </a:moveTo>
                <a:lnTo>
                  <a:pt x="59" y="7"/>
                </a:lnTo>
                <a:lnTo>
                  <a:pt x="59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59600" y="6127920"/>
            <a:ext cx="74520" cy="20520"/>
          </a:xfrm>
          <a:custGeom>
            <a:avLst/>
            <a:gdLst/>
            <a:ahLst/>
            <a:rect l="l" t="t" r="r" b="b"/>
            <a:pathLst>
              <a:path w="47" h="13">
                <a:moveTo>
                  <a:pt x="0" y="0"/>
                </a:moveTo>
                <a:lnTo>
                  <a:pt x="47" y="0"/>
                </a:lnTo>
                <a:moveTo>
                  <a:pt x="0" y="13"/>
                </a:moveTo>
                <a:lnTo>
                  <a:pt x="47" y="13"/>
                </a:lnTo>
                <a:moveTo>
                  <a:pt x="2" y="6"/>
                </a:moveTo>
                <a:lnTo>
                  <a:pt x="45" y="6"/>
                </a:lnTo>
                <a:moveTo>
                  <a:pt x="27" y="10"/>
                </a:moveTo>
                <a:lnTo>
                  <a:pt x="41" y="10"/>
                </a:lnTo>
                <a:lnTo>
                  <a:pt x="41" y="2"/>
                </a:lnTo>
                <a:lnTo>
                  <a:pt x="27" y="2"/>
                </a:lnTo>
                <a:lnTo>
                  <a:pt x="27" y="1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948360" y="5964120"/>
            <a:ext cx="214560" cy="154080"/>
          </a:xfrm>
          <a:custGeom>
            <a:avLst/>
            <a:gdLst/>
            <a:ahLst/>
            <a:rect l="l" t="t" r="r" b="b"/>
            <a:pathLst>
              <a:path w="135" h="97">
                <a:moveTo>
                  <a:pt x="113" y="69"/>
                </a:moveTo>
                <a:lnTo>
                  <a:pt x="118" y="69"/>
                </a:lnTo>
                <a:lnTo>
                  <a:pt x="118" y="67"/>
                </a:lnTo>
                <a:lnTo>
                  <a:pt x="113" y="67"/>
                </a:lnTo>
                <a:lnTo>
                  <a:pt x="113" y="69"/>
                </a:lnTo>
                <a:close/>
                <a:moveTo>
                  <a:pt x="31" y="57"/>
                </a:moveTo>
                <a:lnTo>
                  <a:pt x="31" y="7"/>
                </a:lnTo>
                <a:lnTo>
                  <a:pt x="105" y="7"/>
                </a:lnTo>
                <a:lnTo>
                  <a:pt x="105" y="57"/>
                </a:lnTo>
                <a:lnTo>
                  <a:pt x="31" y="57"/>
                </a:lnTo>
                <a:close/>
                <a:moveTo>
                  <a:pt x="27" y="60"/>
                </a:moveTo>
                <a:lnTo>
                  <a:pt x="109" y="60"/>
                </a:lnTo>
                <a:lnTo>
                  <a:pt x="109" y="4"/>
                </a:lnTo>
                <a:lnTo>
                  <a:pt x="111" y="4"/>
                </a:lnTo>
                <a:lnTo>
                  <a:pt x="111" y="0"/>
                </a:lnTo>
                <a:lnTo>
                  <a:pt x="24" y="0"/>
                </a:lnTo>
                <a:lnTo>
                  <a:pt x="24" y="64"/>
                </a:lnTo>
                <a:lnTo>
                  <a:pt x="27" y="64"/>
                </a:lnTo>
                <a:lnTo>
                  <a:pt x="27" y="60"/>
                </a:lnTo>
                <a:close/>
                <a:moveTo>
                  <a:pt x="0" y="93"/>
                </a:moveTo>
                <a:lnTo>
                  <a:pt x="13" y="93"/>
                </a:lnTo>
                <a:lnTo>
                  <a:pt x="13" y="89"/>
                </a:lnTo>
                <a:lnTo>
                  <a:pt x="0" y="89"/>
                </a:lnTo>
                <a:lnTo>
                  <a:pt x="0" y="93"/>
                </a:lnTo>
                <a:close/>
                <a:moveTo>
                  <a:pt x="79" y="97"/>
                </a:moveTo>
                <a:lnTo>
                  <a:pt x="109" y="97"/>
                </a:lnTo>
                <a:lnTo>
                  <a:pt x="109" y="94"/>
                </a:lnTo>
                <a:lnTo>
                  <a:pt x="79" y="94"/>
                </a:lnTo>
                <a:lnTo>
                  <a:pt x="79" y="97"/>
                </a:lnTo>
                <a:close/>
                <a:moveTo>
                  <a:pt x="131" y="91"/>
                </a:moveTo>
                <a:lnTo>
                  <a:pt x="135" y="91"/>
                </a:lnTo>
                <a:lnTo>
                  <a:pt x="135" y="89"/>
                </a:lnTo>
                <a:lnTo>
                  <a:pt x="131" y="89"/>
                </a:lnTo>
                <a:lnTo>
                  <a:pt x="131" y="91"/>
                </a:lnTo>
                <a:close/>
                <a:moveTo>
                  <a:pt x="131" y="96"/>
                </a:moveTo>
                <a:lnTo>
                  <a:pt x="135" y="96"/>
                </a:lnTo>
                <a:lnTo>
                  <a:pt x="135" y="93"/>
                </a:lnTo>
                <a:lnTo>
                  <a:pt x="131" y="93"/>
                </a:lnTo>
                <a:lnTo>
                  <a:pt x="131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969240" y="6080040"/>
            <a:ext cx="172800" cy="7920"/>
          </a:xfrm>
          <a:custGeom>
            <a:avLst/>
            <a:gdLst/>
            <a:ahLst/>
            <a:rect l="l" t="t" r="r" b="b"/>
            <a:pathLst>
              <a:path w="109" h="5">
                <a:moveTo>
                  <a:pt x="0" y="0"/>
                </a:moveTo>
                <a:lnTo>
                  <a:pt x="109" y="0"/>
                </a:lnTo>
                <a:moveTo>
                  <a:pt x="27" y="5"/>
                </a:moveTo>
                <a:lnTo>
                  <a:pt x="27" y="0"/>
                </a:lnTo>
                <a:moveTo>
                  <a:pt x="54" y="5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007400" y="6218280"/>
            <a:ext cx="968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014960" y="6227640"/>
            <a:ext cx="7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7054920" y="593100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7054920" y="589392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7054920" y="585792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054920" y="58194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7054920" y="578304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7054920" y="57463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7054920" y="57099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7054920" y="567324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960" y="5057640"/>
            <a:ext cx="292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-VPN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985560" y="1857240"/>
            <a:ext cx="35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gates: per-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39120" y="2085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g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s 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838080" y="774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calable Advanced Services based on Coordinated Active Component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networking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core-stateless Q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ware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for end-to-end non-functional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balancing based on request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stributed monito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level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private network service with QoS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xy runtime environment for mobile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ble video 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ice of services emphasizes distribution, composability, and end-to-end requir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 Darwin in ABONE and expand AP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lly combine with other execution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ortable Networked Applications Must be Network-awar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adapts to network conditions in an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application-specif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streaming: match frame rate or size to available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 database: select images with different resolu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 access: select the fastes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computing: change degre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ng network information is a hard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twork can be very l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need different types of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network technologies require different data collection metho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operators are often reluctant to release network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mos: A Traffic Report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or the Interne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343400" cy="427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 that allows applications to collect explicit information on network connectiv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specifies the nodes and network information that are of inter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returns the best available information in a network-independent form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ed “virtual” top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s has been built and released to us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N: adaptation in QuO/Corb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 of Texas, Georgia T.: distributed compu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U: video streaming, 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172200" y="2057400"/>
            <a:ext cx="1447920" cy="74916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553080" y="2743200"/>
            <a:ext cx="0" cy="99072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4648320" y="5257800"/>
            <a:ext cx="4233240" cy="777960"/>
            <a:chOff x="4648320" y="5257800"/>
            <a:chExt cx="4233240" cy="777960"/>
          </a:xfrm>
        </p:grpSpPr>
        <p:sp>
          <p:nvSpPr>
            <p:cNvPr id="1707" name=""/>
            <p:cNvSpPr/>
            <p:nvPr/>
          </p:nvSpPr>
          <p:spPr>
            <a:xfrm>
              <a:off x="8205480" y="5854680"/>
              <a:ext cx="4474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8343720" y="5520960"/>
              <a:ext cx="3567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299080" y="5624640"/>
              <a:ext cx="463320" cy="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64080" y="5700960"/>
              <a:ext cx="31068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6400080" y="5695920"/>
              <a:ext cx="60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6675120" y="5700960"/>
              <a:ext cx="37440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6684840" y="5619600"/>
              <a:ext cx="9932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702200" y="561996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702200" y="5624640"/>
              <a:ext cx="49500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7702200" y="5615280"/>
              <a:ext cx="5871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7745040" y="5844960"/>
              <a:ext cx="40608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5940360" y="5334120"/>
              <a:ext cx="84096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055840" y="5456520"/>
              <a:ext cx="174240" cy="12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5028840" y="5594400"/>
              <a:ext cx="25704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92600" y="5426280"/>
              <a:ext cx="34272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705360" y="5334120"/>
              <a:ext cx="744120" cy="10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286240" y="5594400"/>
              <a:ext cx="31068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5322240" y="5589720"/>
              <a:ext cx="60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5597280" y="5596200"/>
              <a:ext cx="37440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972040" y="5596200"/>
              <a:ext cx="354960" cy="8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5606640" y="5678280"/>
              <a:ext cx="81252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262480" y="5329440"/>
              <a:ext cx="47268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V="1">
              <a:off x="6330600" y="5388120"/>
              <a:ext cx="41868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4800240" y="5619960"/>
              <a:ext cx="47592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765840" y="5370480"/>
              <a:ext cx="252000" cy="3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010280" y="5639040"/>
              <a:ext cx="66780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735520" y="5329440"/>
              <a:ext cx="20592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107120" y="5615280"/>
              <a:ext cx="585360" cy="5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105160" y="556272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534160" y="586764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486040" y="579132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153280" y="556272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43440" y="556272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43440" y="5867640"/>
              <a:ext cx="244080" cy="126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933960" y="5588280"/>
              <a:ext cx="244080" cy="126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629040" y="528336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553080" y="5867640"/>
              <a:ext cx="244080" cy="126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299000" y="5359680"/>
              <a:ext cx="244080" cy="126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51440" y="551196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32320" y="5639040"/>
              <a:ext cx="244080" cy="126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562360" y="525780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076960" y="579132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10480" y="563904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610480" y="541044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10040" y="579132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648320" y="562320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3720" y="533412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4" name=""/>
          <p:cNvSpPr/>
          <p:nvPr/>
        </p:nvSpPr>
        <p:spPr>
          <a:xfrm flipH="1">
            <a:off x="6324120" y="4495680"/>
            <a:ext cx="304920" cy="106704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620120" y="4495680"/>
            <a:ext cx="609480" cy="106704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467480" y="4495680"/>
            <a:ext cx="609840" cy="129564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6019920" y="4495680"/>
            <a:ext cx="304560" cy="99072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5791320" y="4495680"/>
            <a:ext cx="380880" cy="76212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 flipV="1">
            <a:off x="7238880" y="4495320"/>
            <a:ext cx="152640" cy="83844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6781680" y="4495320"/>
            <a:ext cx="152640" cy="76212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6019920" y="3733920"/>
            <a:ext cx="1752120" cy="761400"/>
            <a:chOff x="6019920" y="3733920"/>
            <a:chExt cx="1752120" cy="761400"/>
          </a:xfrm>
        </p:grpSpPr>
        <p:sp>
          <p:nvSpPr>
            <p:cNvPr id="1762" name=""/>
            <p:cNvSpPr/>
            <p:nvPr/>
          </p:nvSpPr>
          <p:spPr>
            <a:xfrm>
              <a:off x="6019920" y="3733920"/>
              <a:ext cx="1752120" cy="76140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em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019920" y="3733920"/>
              <a:ext cx="175212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238880" y="2743200"/>
            <a:ext cx="0" cy="91440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540760" y="29559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378200" y="279252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calable Remos Architectur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goa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ability: deal with large networks and queri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ersity: wide range of technologies and u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cy: operators limit access to internal inf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340240" y="1606680"/>
            <a:ext cx="106704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245360" y="1835280"/>
            <a:ext cx="10666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178680" y="2368440"/>
            <a:ext cx="1218960" cy="53352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1805040" y="4751280"/>
            <a:ext cx="58248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743200" y="4751280"/>
            <a:ext cx="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151080" y="4751280"/>
            <a:ext cx="48096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905120" y="4267080"/>
            <a:ext cx="1676160" cy="685800"/>
          </a:xfrm>
          <a:prstGeom prst="ellipse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014560" y="5129280"/>
            <a:ext cx="695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867280" y="1981080"/>
            <a:ext cx="609840" cy="45720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7315200" y="2133720"/>
            <a:ext cx="533520" cy="38088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5867280" y="2743200"/>
            <a:ext cx="609840" cy="533520"/>
          </a:xfrm>
          <a:prstGeom prst="line">
            <a:avLst/>
          </a:prstGeom>
          <a:ln w="25560">
            <a:solidFill>
              <a:srgbClr val="438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708520" y="3657600"/>
            <a:ext cx="540000" cy="609480"/>
          </a:xfrm>
          <a:prstGeom prst="line">
            <a:avLst/>
          </a:prstGeom>
          <a:ln w="2556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343400" y="3124080"/>
            <a:ext cx="1676520" cy="685800"/>
          </a:xfrm>
          <a:prstGeom prst="ellipse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4793760" y="3733920"/>
            <a:ext cx="228600" cy="533160"/>
          </a:xfrm>
          <a:prstGeom prst="line">
            <a:avLst/>
          </a:prstGeom>
          <a:ln w="2556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2819160" y="3581280"/>
            <a:ext cx="1600200" cy="685800"/>
          </a:xfrm>
          <a:prstGeom prst="line">
            <a:avLst/>
          </a:prstGeom>
          <a:ln w="1260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7089840" y="5513400"/>
            <a:ext cx="480960" cy="100080"/>
          </a:xfrm>
          <a:prstGeom prst="line">
            <a:avLst/>
          </a:prstGeom>
          <a:ln w="255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 flipV="1">
            <a:off x="7089840" y="5779800"/>
            <a:ext cx="480960" cy="176040"/>
          </a:xfrm>
          <a:prstGeom prst="line">
            <a:avLst/>
          </a:prstGeom>
          <a:ln w="255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641600" y="5513400"/>
            <a:ext cx="404640" cy="100080"/>
          </a:xfrm>
          <a:prstGeom prst="line">
            <a:avLst/>
          </a:prstGeom>
          <a:ln w="255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1641600" y="5779800"/>
            <a:ext cx="404640" cy="176040"/>
          </a:xfrm>
          <a:prstGeom prst="line">
            <a:avLst/>
          </a:prstGeom>
          <a:ln w="255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995480" y="5410080"/>
            <a:ext cx="1447920" cy="60984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538280" y="5410080"/>
            <a:ext cx="228600" cy="2286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747960" y="5334120"/>
            <a:ext cx="1676520" cy="76176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729400" y="5410080"/>
            <a:ext cx="1447560" cy="60984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538280" y="5791320"/>
            <a:ext cx="228600" cy="2286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913680" y="5388120"/>
            <a:ext cx="65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.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913680" y="5769000"/>
            <a:ext cx="64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.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405560" y="5410080"/>
            <a:ext cx="228600" cy="2286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405560" y="5791320"/>
            <a:ext cx="228600" cy="2286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620120" y="5388120"/>
            <a:ext cx="69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.C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620120" y="5769000"/>
            <a:ext cx="69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C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818440" y="6302520"/>
            <a:ext cx="975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DGE.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638320" y="6302520"/>
            <a:ext cx="1015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DGE.C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3152880" y="5862240"/>
            <a:ext cx="20160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H="1" flipV="1">
            <a:off x="5800680" y="5862240"/>
            <a:ext cx="16344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443400" y="5562720"/>
            <a:ext cx="304560" cy="3045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424480" y="5562720"/>
            <a:ext cx="304920" cy="3045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5691240" y="4751280"/>
            <a:ext cx="58248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629400" y="4751280"/>
            <a:ext cx="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037280" y="4751280"/>
            <a:ext cx="48096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791320" y="4267080"/>
            <a:ext cx="1676160" cy="685800"/>
          </a:xfrm>
          <a:prstGeom prst="ellipse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900760" y="5129280"/>
            <a:ext cx="695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H="1">
            <a:off x="3633840" y="4751280"/>
            <a:ext cx="58248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572000" y="4751280"/>
            <a:ext cx="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979880" y="4751280"/>
            <a:ext cx="480960" cy="709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733920" y="4267080"/>
            <a:ext cx="1676160" cy="685800"/>
          </a:xfrm>
          <a:prstGeom prst="ellipse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024080" y="5029200"/>
            <a:ext cx="1249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37240" y="3564000"/>
            <a:ext cx="181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ndivid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98720" y="3021120"/>
            <a:ext cx="24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s 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merges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untime Adaptation using Remo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156440" cy="12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shed air pollution modeling application periodically uses Remos to collect network information and adap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cally avoids busy links and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s efficiency under a wider range of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3906720" y="3352680"/>
            <a:ext cx="4780080" cy="3215520"/>
            <a:chOff x="3906720" y="3352680"/>
            <a:chExt cx="4780080" cy="3215520"/>
          </a:xfrm>
        </p:grpSpPr>
        <p:sp>
          <p:nvSpPr>
            <p:cNvPr id="1820" name=""/>
            <p:cNvSpPr/>
            <p:nvPr/>
          </p:nvSpPr>
          <p:spPr>
            <a:xfrm>
              <a:off x="5000760" y="4915080"/>
              <a:ext cx="285480" cy="1089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70600" y="4900680"/>
              <a:ext cx="285840" cy="1103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942240" y="3868560"/>
              <a:ext cx="285480" cy="21355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913520" y="3683160"/>
              <a:ext cx="285840" cy="2320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86240" y="4815000"/>
              <a:ext cx="271440" cy="11890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256440" y="4772160"/>
              <a:ext cx="271440" cy="12319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227720" y="4686480"/>
              <a:ext cx="271440" cy="1317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199360" y="4786200"/>
              <a:ext cx="271440" cy="12178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800600" y="3467160"/>
              <a:ext cx="1440" cy="2536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743360" y="6004080"/>
              <a:ext cx="57240" cy="2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743360" y="5746680"/>
              <a:ext cx="572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743360" y="5502240"/>
              <a:ext cx="57240" cy="3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743360" y="5245200"/>
              <a:ext cx="572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743360" y="4986360"/>
              <a:ext cx="57240" cy="3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743360" y="4743360"/>
              <a:ext cx="572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743360" y="4484520"/>
              <a:ext cx="57240" cy="3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743360" y="4227480"/>
              <a:ext cx="572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743360" y="3968640"/>
              <a:ext cx="57240" cy="3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743360" y="3726000"/>
              <a:ext cx="572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743360" y="3467160"/>
              <a:ext cx="57240" cy="3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800600" y="6004080"/>
              <a:ext cx="3884760" cy="2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4800600" y="6004080"/>
              <a:ext cx="1440" cy="5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5770440" y="6004080"/>
              <a:ext cx="3240" cy="5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6742080" y="6004080"/>
              <a:ext cx="3240" cy="5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7713720" y="6004080"/>
              <a:ext cx="1440" cy="5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8685360" y="6004080"/>
              <a:ext cx="1440" cy="5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95400" y="5889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381200" y="5632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381200" y="5388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381200" y="5130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381200" y="48718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281120" y="46292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281120" y="43704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281120" y="4113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81120" y="38545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281120" y="36115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281120" y="33526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855320" y="6162840"/>
              <a:ext cx="9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dic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118200" y="616284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807520" y="6324480"/>
              <a:ext cx="100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900840" y="616284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ffic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870680" y="616284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ffic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286240" y="3452760"/>
              <a:ext cx="1144800" cy="662040"/>
            </a:xfrm>
            <a:prstGeom prst="rect">
              <a:avLst/>
            </a:pr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357880" y="3567240"/>
              <a:ext cx="100080" cy="1015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535720" y="3510000"/>
              <a:ext cx="52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357880" y="3868560"/>
              <a:ext cx="100080" cy="1000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501520" y="3811680"/>
              <a:ext cx="85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ap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rot="16200000">
              <a:off x="3528720" y="442764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(se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1006560" y="3805200"/>
            <a:ext cx="739800" cy="69696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925560" y="4019400"/>
            <a:ext cx="90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593720" y="4681440"/>
            <a:ext cx="739800" cy="69876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739880" y="412272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584360" y="4444920"/>
            <a:ext cx="187200" cy="2952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2122560" y="4419720"/>
            <a:ext cx="179280" cy="309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106720" y="3789360"/>
            <a:ext cx="739800" cy="6984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031840" y="4019400"/>
            <a:ext cx="939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ber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732040" y="4389480"/>
            <a:ext cx="482760" cy="309600"/>
          </a:xfrm>
          <a:custGeom>
            <a:avLst/>
            <a:gdLst/>
            <a:ahLst/>
            <a:rect l="l" t="t" r="r" b="b"/>
            <a:pathLst>
              <a:path w="513" h="329">
                <a:moveTo>
                  <a:pt x="0" y="0"/>
                </a:moveTo>
                <a:lnTo>
                  <a:pt x="512" y="3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732040" y="3608280"/>
            <a:ext cx="482760" cy="281160"/>
          </a:xfrm>
          <a:custGeom>
            <a:avLst/>
            <a:gdLst/>
            <a:ahLst/>
            <a:rect l="l" t="t" r="r" b="b"/>
            <a:pathLst>
              <a:path w="513" h="297">
                <a:moveTo>
                  <a:pt x="0" y="296"/>
                </a:moveTo>
                <a:lnTo>
                  <a:pt x="51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2836800" y="4116240"/>
            <a:ext cx="378000" cy="1800"/>
          </a:xfrm>
          <a:custGeom>
            <a:avLst/>
            <a:gdLst/>
            <a:ahLst/>
            <a:rect l="l" t="t" r="r" b="b"/>
            <a:pathLst>
              <a:path w="401" h="1">
                <a:moveTo>
                  <a:pt x="400" y="0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512720" y="4917960"/>
            <a:ext cx="90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407960" y="5259240"/>
            <a:ext cx="276480" cy="438120"/>
          </a:xfrm>
          <a:custGeom>
            <a:avLst/>
            <a:gdLst/>
            <a:ahLst/>
            <a:rect l="l" t="t" r="r" b="b"/>
            <a:pathLst>
              <a:path w="295" h="464">
                <a:moveTo>
                  <a:pt x="294" y="0"/>
                </a:moveTo>
                <a:lnTo>
                  <a:pt x="0" y="46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211480" y="5267160"/>
            <a:ext cx="280800" cy="430200"/>
          </a:xfrm>
          <a:custGeom>
            <a:avLst/>
            <a:gdLst/>
            <a:ahLst/>
            <a:rect l="l" t="t" r="r" b="b"/>
            <a:pathLst>
              <a:path w="299" h="455">
                <a:moveTo>
                  <a:pt x="0" y="0"/>
                </a:moveTo>
                <a:lnTo>
                  <a:pt x="298" y="45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H="1" flipV="1">
            <a:off x="1933560" y="5365440"/>
            <a:ext cx="23760" cy="338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265480" y="5695920"/>
            <a:ext cx="450720" cy="4539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H="1">
            <a:off x="676080" y="4154400"/>
            <a:ext cx="33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738440" y="5711760"/>
            <a:ext cx="422280" cy="4240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181160" y="5695920"/>
            <a:ext cx="452520" cy="4539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228840" y="3352680"/>
            <a:ext cx="422280" cy="4240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214800" y="3881520"/>
            <a:ext cx="450720" cy="4539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214800" y="4427640"/>
            <a:ext cx="450720" cy="4521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28600" y="4195800"/>
            <a:ext cx="450720" cy="4539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28600" y="3651120"/>
            <a:ext cx="450720" cy="45252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xt Generation Internet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Goa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matically increase network perform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pplication-level and aggregat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lves scalability along a number of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te the development of a new generation of distributed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resence, virtualized reality, …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network support for this class of applications and networ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management and provisi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and architecture support for high-speed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of service support for diverse set of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6880" y="152280"/>
            <a:ext cx="7782120" cy="1146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Book Antiqua"/>
              </a:rPr>
              <a:t>CMU NGI Topolog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895" name=""/>
          <p:cNvSpPr/>
          <p:nvPr/>
        </p:nvSpPr>
        <p:spPr>
          <a:xfrm>
            <a:off x="5181480" y="3657600"/>
            <a:ext cx="1905120" cy="2438280"/>
          </a:xfrm>
          <a:custGeom>
            <a:avLst/>
            <a:gdLst/>
            <a:ahLst/>
            <a:rect l="l" t="t" r="r" b="b"/>
            <a:pathLst>
              <a:path w="1201" h="1537">
                <a:moveTo>
                  <a:pt x="240" y="0"/>
                </a:moveTo>
                <a:lnTo>
                  <a:pt x="0" y="0"/>
                </a:lnTo>
                <a:lnTo>
                  <a:pt x="0" y="1536"/>
                </a:lnTo>
                <a:lnTo>
                  <a:pt x="1200" y="1536"/>
                </a:lnTo>
              </a:path>
            </a:pathLst>
          </a:custGeom>
          <a:noFill/>
          <a:ln cap="rnd"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105520" y="175248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200400" y="373392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295280" y="167652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162920" y="274320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562720" y="342900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562720" y="426708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562720" y="510552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858000" y="5334120"/>
            <a:ext cx="1523880" cy="9903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032520" y="1994040"/>
            <a:ext cx="1117440" cy="7365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209680" y="1905120"/>
            <a:ext cx="28958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3657600" y="2057400"/>
            <a:ext cx="1473120" cy="16765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6324480" y="3213000"/>
            <a:ext cx="851040" cy="11304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6400440" y="3213000"/>
            <a:ext cx="1079640" cy="19684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019920" y="3898800"/>
            <a:ext cx="0" cy="355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019920" y="4737240"/>
            <a:ext cx="0" cy="355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7162560" y="3200400"/>
            <a:ext cx="393480" cy="22860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6464160" y="2984400"/>
            <a:ext cx="711360" cy="4320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632840" y="441972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604640" y="434340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342320" y="289548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385320" y="1981080"/>
            <a:ext cx="590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461640" y="297180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547240" y="480060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547240" y="388620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6766560" y="358128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690240" y="449568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071480" y="6272280"/>
            <a:ext cx="949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an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146360" y="2462040"/>
            <a:ext cx="93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ert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871520" y="1447920"/>
            <a:ext cx="133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ll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878560" y="4138560"/>
            <a:ext cx="1498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negie Muse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469120" y="467208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ith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545080" y="5510160"/>
            <a:ext cx="973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ildin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546520" y="3147840"/>
            <a:ext cx="85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mbu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280880" y="1395360"/>
            <a:ext cx="100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wes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546120" y="4648320"/>
            <a:ext cx="507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068120" y="449568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mode 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546120" y="4876920"/>
            <a:ext cx="507960" cy="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069200" y="4724280"/>
            <a:ext cx="145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 mode 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886360" y="520056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5638680" y="5486400"/>
            <a:ext cx="254160" cy="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543800" y="596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8077320" y="5486040"/>
            <a:ext cx="253800" cy="305280"/>
            <a:chOff x="8077320" y="5486040"/>
            <a:chExt cx="253800" cy="305280"/>
          </a:xfrm>
        </p:grpSpPr>
        <p:sp>
          <p:nvSpPr>
            <p:cNvPr id="1938" name=""/>
            <p:cNvSpPr/>
            <p:nvPr/>
          </p:nvSpPr>
          <p:spPr>
            <a:xfrm>
              <a:off x="8077320" y="5651640"/>
              <a:ext cx="25380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8077320" y="5486040"/>
              <a:ext cx="253800" cy="10188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77320" y="5740560"/>
              <a:ext cx="253800" cy="5076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5886360" y="43624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5638680" y="4572000"/>
            <a:ext cx="254160" cy="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10280" y="548640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300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620120" y="548640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300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7467480" y="5638680"/>
            <a:ext cx="152640" cy="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7772400" y="5791320"/>
            <a:ext cx="101520" cy="15228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7238880" y="3200400"/>
            <a:ext cx="393840" cy="22860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7315200" y="3200400"/>
            <a:ext cx="393840" cy="22860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46120" y="51055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066680" y="4952880"/>
            <a:ext cx="107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 Mbs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5638680" y="5410080"/>
            <a:ext cx="254160" cy="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5638680" y="5257800"/>
            <a:ext cx="254160" cy="76320"/>
            <a:chOff x="5638680" y="5257800"/>
            <a:chExt cx="254160" cy="76320"/>
          </a:xfrm>
        </p:grpSpPr>
        <p:sp>
          <p:nvSpPr>
            <p:cNvPr id="1953" name=""/>
            <p:cNvSpPr/>
            <p:nvPr/>
          </p:nvSpPr>
          <p:spPr>
            <a:xfrm flipH="1">
              <a:off x="5638680" y="533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5638680" y="5257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5638680" y="52959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8001000" y="6095880"/>
            <a:ext cx="254160" cy="76320"/>
            <a:chOff x="8001000" y="6095880"/>
            <a:chExt cx="254160" cy="76320"/>
          </a:xfrm>
        </p:grpSpPr>
        <p:sp>
          <p:nvSpPr>
            <p:cNvPr id="1957" name=""/>
            <p:cNvSpPr/>
            <p:nvPr/>
          </p:nvSpPr>
          <p:spPr>
            <a:xfrm flipH="1">
              <a:off x="8001000" y="61722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8001000" y="60958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8001000" y="6134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0" name=""/>
          <p:cNvGrpSpPr/>
          <p:nvPr/>
        </p:nvGrpSpPr>
        <p:grpSpPr>
          <a:xfrm>
            <a:off x="5638680" y="4419720"/>
            <a:ext cx="254160" cy="75960"/>
            <a:chOff x="5638680" y="4419720"/>
            <a:chExt cx="254160" cy="75960"/>
          </a:xfrm>
        </p:grpSpPr>
        <p:sp>
          <p:nvSpPr>
            <p:cNvPr id="1961" name=""/>
            <p:cNvSpPr/>
            <p:nvPr/>
          </p:nvSpPr>
          <p:spPr>
            <a:xfrm flipH="1">
              <a:off x="5638680" y="44956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5638680" y="4419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5638680" y="44575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 flipH="1">
            <a:off x="5714640" y="1981080"/>
            <a:ext cx="30492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486400" y="1905120"/>
            <a:ext cx="228600" cy="152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5105520" y="1904760"/>
            <a:ext cx="380880" cy="759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5105520" y="1981080"/>
            <a:ext cx="380880" cy="763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390440" y="5105520"/>
            <a:ext cx="949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an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igh-Level TCP Characteristic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0600" y="1828800"/>
            <a:ext cx="7173720" cy="4121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-oriented reliable byte-stream protoc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for file transfers, telnet, web access, …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way conne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information for one direction piggy-backed on data flow in other 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er fields fall in three classes: general, forward flow, opposite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has evolved over time and will continue to do 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options to change the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ward compatibility is what makes it TC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pplication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vid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lectures, video conferencing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back vid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ive video retrieval for Informe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resenc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U robotics instit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 quake simulation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applications that can benefit from explicit network suppo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/>
          <p:nvPr/>
        </p:nvSpPr>
        <p:spPr>
          <a:xfrm>
            <a:off x="0" y="1066680"/>
            <a:ext cx="6248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664320" y="4784760"/>
            <a:ext cx="941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967200" y="2022480"/>
            <a:ext cx="64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1335240" y="1336680"/>
            <a:ext cx="1201320" cy="1695240"/>
            <a:chOff x="1335240" y="1336680"/>
            <a:chExt cx="1201320" cy="1695240"/>
          </a:xfrm>
        </p:grpSpPr>
        <p:sp>
          <p:nvSpPr>
            <p:cNvPr id="1975" name=""/>
            <p:cNvSpPr/>
            <p:nvPr/>
          </p:nvSpPr>
          <p:spPr>
            <a:xfrm>
              <a:off x="1875240" y="2927160"/>
              <a:ext cx="73080" cy="104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335240" y="1578240"/>
              <a:ext cx="1194840" cy="280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335240" y="2647080"/>
              <a:ext cx="1194840" cy="279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355760" y="2036160"/>
              <a:ext cx="1155240" cy="73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1335240" y="1704960"/>
              <a:ext cx="0" cy="109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2536560" y="1704960"/>
              <a:ext cx="0" cy="109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95720" y="20552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544760" y="209052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697760" y="21063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869120" y="21128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040840" y="21063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218680" y="208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409480" y="204264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311200" y="2892240"/>
              <a:ext cx="73080" cy="104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503720" y="2901600"/>
              <a:ext cx="72720" cy="104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13600" y="1689480"/>
              <a:ext cx="447840" cy="31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757880" y="1728000"/>
              <a:ext cx="362520" cy="24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850040" y="1559520"/>
              <a:ext cx="16200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872360" y="1454040"/>
              <a:ext cx="117360" cy="10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4" name=""/>
            <p:cNvGrpSpPr/>
            <p:nvPr/>
          </p:nvGrpSpPr>
          <p:grpSpPr>
            <a:xfrm>
              <a:off x="1748520" y="1336680"/>
              <a:ext cx="110880" cy="111240"/>
              <a:chOff x="1748520" y="1336680"/>
              <a:chExt cx="110880" cy="111240"/>
            </a:xfrm>
          </p:grpSpPr>
          <p:sp>
            <p:nvSpPr>
              <p:cNvPr id="1995" name=""/>
              <p:cNvSpPr/>
              <p:nvPr/>
            </p:nvSpPr>
            <p:spPr>
              <a:xfrm>
                <a:off x="1748520" y="1336680"/>
                <a:ext cx="110880" cy="11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67600" y="1355760"/>
                <a:ext cx="72720" cy="73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2002680" y="1336680"/>
              <a:ext cx="111240" cy="111240"/>
              <a:chOff x="2002680" y="1336680"/>
              <a:chExt cx="111240" cy="111240"/>
            </a:xfrm>
          </p:grpSpPr>
          <p:sp>
            <p:nvSpPr>
              <p:cNvPr id="1998" name=""/>
              <p:cNvSpPr/>
              <p:nvPr/>
            </p:nvSpPr>
            <p:spPr>
              <a:xfrm>
                <a:off x="2002680" y="1336680"/>
                <a:ext cx="111240" cy="11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021760" y="1355760"/>
                <a:ext cx="73080" cy="73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>
              <a:off x="1881720" y="1393920"/>
              <a:ext cx="101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935720" y="1413000"/>
              <a:ext cx="0" cy="19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2327040" y="1607040"/>
              <a:ext cx="142920" cy="158760"/>
              <a:chOff x="2327040" y="1607040"/>
              <a:chExt cx="142920" cy="158760"/>
            </a:xfrm>
          </p:grpSpPr>
          <p:sp>
            <p:nvSpPr>
              <p:cNvPr id="2003" name=""/>
              <p:cNvSpPr/>
              <p:nvPr/>
            </p:nvSpPr>
            <p:spPr>
              <a:xfrm>
                <a:off x="2327040" y="1680120"/>
                <a:ext cx="142920" cy="85680"/>
              </a:xfrm>
              <a:prstGeom prst="parallelogram">
                <a:avLst>
                  <a:gd name="adj" fmla="val 41694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V="1">
                <a:off x="2435040" y="1607040"/>
                <a:ext cx="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2273040" y="1575360"/>
              <a:ext cx="63360" cy="120600"/>
              <a:chOff x="2273040" y="1575360"/>
              <a:chExt cx="63360" cy="120600"/>
            </a:xfrm>
          </p:grpSpPr>
          <p:sp>
            <p:nvSpPr>
              <p:cNvPr id="2006" name=""/>
              <p:cNvSpPr/>
              <p:nvPr/>
            </p:nvSpPr>
            <p:spPr>
              <a:xfrm>
                <a:off x="2273040" y="1657800"/>
                <a:ext cx="63360" cy="38160"/>
              </a:xfrm>
              <a:prstGeom prst="parallelogram">
                <a:avLst>
                  <a:gd name="adj" fmla="val 41502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2323800" y="1575360"/>
                <a:ext cx="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2190240" y="1549440"/>
              <a:ext cx="63360" cy="120960"/>
              <a:chOff x="2190240" y="1549440"/>
              <a:chExt cx="63360" cy="120960"/>
            </a:xfrm>
          </p:grpSpPr>
          <p:sp>
            <p:nvSpPr>
              <p:cNvPr id="2009" name=""/>
              <p:cNvSpPr/>
              <p:nvPr/>
            </p:nvSpPr>
            <p:spPr>
              <a:xfrm>
                <a:off x="2190240" y="1632240"/>
                <a:ext cx="63360" cy="38160"/>
              </a:xfrm>
              <a:prstGeom prst="parallelogram">
                <a:avLst>
                  <a:gd name="adj" fmla="val 41502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2241000" y="1549440"/>
                <a:ext cx="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1" name=""/>
          <p:cNvSpPr/>
          <p:nvPr/>
        </p:nvSpPr>
        <p:spPr>
          <a:xfrm>
            <a:off x="376200" y="712800"/>
            <a:ext cx="1364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reo color came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601640" y="915840"/>
            <a:ext cx="31932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72320" y="1087560"/>
            <a:ext cx="560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n-ti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988920" y="1220760"/>
            <a:ext cx="83664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71160" y="1450800"/>
            <a:ext cx="891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D mon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992160" y="1663560"/>
            <a:ext cx="67644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66840" y="1828800"/>
            <a:ext cx="6379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R4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893880" y="2079720"/>
            <a:ext cx="685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100240" y="681120"/>
            <a:ext cx="17625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channels of wireless 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from robot to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from network to rob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2365200" y="1236600"/>
            <a:ext cx="2541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4025880" y="1901520"/>
            <a:ext cx="142920" cy="159120"/>
            <a:chOff x="4025880" y="1901520"/>
            <a:chExt cx="142920" cy="159120"/>
          </a:xfrm>
        </p:grpSpPr>
        <p:sp>
          <p:nvSpPr>
            <p:cNvPr id="2022" name=""/>
            <p:cNvSpPr/>
            <p:nvPr/>
          </p:nvSpPr>
          <p:spPr>
            <a:xfrm>
              <a:off x="4025880" y="1974960"/>
              <a:ext cx="142920" cy="85680"/>
            </a:xfrm>
            <a:prstGeom prst="parallelogram">
              <a:avLst>
                <a:gd name="adj" fmla="val 41694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4133880" y="190152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3909960" y="1924200"/>
            <a:ext cx="63360" cy="120600"/>
            <a:chOff x="3909960" y="1924200"/>
            <a:chExt cx="63360" cy="120600"/>
          </a:xfrm>
        </p:grpSpPr>
        <p:sp>
          <p:nvSpPr>
            <p:cNvPr id="2025" name=""/>
            <p:cNvSpPr/>
            <p:nvPr/>
          </p:nvSpPr>
          <p:spPr>
            <a:xfrm>
              <a:off x="3909960" y="2006640"/>
              <a:ext cx="63360" cy="38160"/>
            </a:xfrm>
            <a:prstGeom prst="parallelogram">
              <a:avLst>
                <a:gd name="adj" fmla="val 41502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3960720" y="192420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4194000" y="1901520"/>
            <a:ext cx="142920" cy="159120"/>
            <a:chOff x="4194000" y="1901520"/>
            <a:chExt cx="142920" cy="159120"/>
          </a:xfrm>
        </p:grpSpPr>
        <p:sp>
          <p:nvSpPr>
            <p:cNvPr id="2028" name=""/>
            <p:cNvSpPr/>
            <p:nvPr/>
          </p:nvSpPr>
          <p:spPr>
            <a:xfrm>
              <a:off x="4194000" y="1974960"/>
              <a:ext cx="142920" cy="85680"/>
            </a:xfrm>
            <a:prstGeom prst="parallelogram">
              <a:avLst>
                <a:gd name="adj" fmla="val 41694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4302000" y="190152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2647800" y="1790640"/>
            <a:ext cx="1090800" cy="1684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818440" y="1434960"/>
            <a:ext cx="11210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reless 2 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io / video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52280" y="419040"/>
            <a:ext cx="5799240" cy="3029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881360" y="66600"/>
            <a:ext cx="214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 Muse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765600" y="2401920"/>
            <a:ext cx="20034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 MHz PC 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video receivers, 1 transmi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ASPRO realtime JPEG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gabit Ethernet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H="1" flipV="1">
            <a:off x="4803480" y="2379600"/>
            <a:ext cx="4428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390920" y="503280"/>
            <a:ext cx="10051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166920" y="3676680"/>
            <a:ext cx="5799240" cy="3029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649200" y="3298680"/>
            <a:ext cx="194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 Me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849080" y="5181480"/>
            <a:ext cx="913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8106840" y="4522320"/>
            <a:ext cx="140040" cy="6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267600" y="5837400"/>
            <a:ext cx="2003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 MHz PC 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ASPRO realtime JPEG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gabit Ethernet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202360" y="1679400"/>
            <a:ext cx="1095120" cy="2953080"/>
          </a:xfrm>
          <a:custGeom>
            <a:avLst/>
            <a:gdLst/>
            <a:ahLst/>
            <a:rect l="l" t="t" r="r" b="b"/>
            <a:pathLst>
              <a:path w="689" h="1857">
                <a:moveTo>
                  <a:pt x="0" y="0"/>
                </a:moveTo>
                <a:lnTo>
                  <a:pt x="688" y="0"/>
                </a:lnTo>
                <a:lnTo>
                  <a:pt x="688" y="185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354360" y="1787400"/>
            <a:ext cx="193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gabit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396120" y="3784680"/>
            <a:ext cx="6332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03320" y="4083120"/>
            <a:ext cx="2963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Over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tive - Demo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17000" y="5356080"/>
            <a:ext cx="29376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way audio and 3D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a wireless 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eum robot over Gigab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435480" y="4214880"/>
            <a:ext cx="8938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stal E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D gla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4305240" y="4421160"/>
            <a:ext cx="49536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9" name=""/>
          <p:cNvGraphicFramePr/>
          <p:nvPr/>
        </p:nvGraphicFramePr>
        <p:xfrm>
          <a:off x="7504200" y="3816360"/>
          <a:ext cx="101736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4200" y="3816360"/>
                    <a:ext cx="101736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1" name=""/>
          <p:cNvGraphicFramePr/>
          <p:nvPr/>
        </p:nvGraphicFramePr>
        <p:xfrm>
          <a:off x="4545000" y="966960"/>
          <a:ext cx="744480" cy="13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5000" y="966960"/>
                    <a:ext cx="7444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3" name=""/>
          <p:cNvGrpSpPr/>
          <p:nvPr/>
        </p:nvGrpSpPr>
        <p:grpSpPr>
          <a:xfrm>
            <a:off x="4653000" y="4313160"/>
            <a:ext cx="2277720" cy="1768320"/>
            <a:chOff x="4653000" y="4313160"/>
            <a:chExt cx="2277720" cy="1768320"/>
          </a:xfrm>
        </p:grpSpPr>
        <p:sp>
          <p:nvSpPr>
            <p:cNvPr id="2054" name=""/>
            <p:cNvSpPr/>
            <p:nvPr/>
          </p:nvSpPr>
          <p:spPr>
            <a:xfrm flipH="1" flipV="1">
              <a:off x="6631920" y="5591880"/>
              <a:ext cx="152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55" name=""/>
            <p:cNvGraphicFramePr/>
            <p:nvPr/>
          </p:nvGraphicFramePr>
          <p:xfrm>
            <a:off x="4653000" y="4313160"/>
            <a:ext cx="2277720" cy="176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53000" y="4313160"/>
                      <a:ext cx="2277720" cy="17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57" name=""/>
          <p:cNvSpPr/>
          <p:nvPr/>
        </p:nvSpPr>
        <p:spPr>
          <a:xfrm>
            <a:off x="5006880" y="4506840"/>
            <a:ext cx="260280" cy="103320"/>
          </a:xfrm>
          <a:custGeom>
            <a:avLst/>
            <a:gdLst/>
            <a:ahLst/>
            <a:rect l="l" t="t" r="r" b="b"/>
            <a:pathLst>
              <a:path w="163" h="65">
                <a:moveTo>
                  <a:pt x="0" y="4"/>
                </a:moveTo>
                <a:lnTo>
                  <a:pt x="92" y="6"/>
                </a:lnTo>
                <a:lnTo>
                  <a:pt x="162" y="0"/>
                </a:lnTo>
                <a:lnTo>
                  <a:pt x="160" y="54"/>
                </a:lnTo>
                <a:lnTo>
                  <a:pt x="102" y="64"/>
                </a:lnTo>
                <a:lnTo>
                  <a:pt x="102" y="16"/>
                </a:lnTo>
                <a:lnTo>
                  <a:pt x="2" y="16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5192640" y="453240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4"/>
                </a:moveTo>
                <a:lnTo>
                  <a:pt x="32" y="0"/>
                </a:lnTo>
                <a:lnTo>
                  <a:pt x="28" y="24"/>
                </a:lnTo>
                <a:lnTo>
                  <a:pt x="2" y="26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9" name=""/>
          <p:cNvGraphicFramePr/>
          <p:nvPr/>
        </p:nvGraphicFramePr>
        <p:xfrm>
          <a:off x="1795320" y="1730520"/>
          <a:ext cx="303480" cy="24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5320" y="1730520"/>
                    <a:ext cx="30348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1" name=""/>
          <p:cNvGraphicFramePr/>
          <p:nvPr/>
        </p:nvGraphicFramePr>
        <p:xfrm>
          <a:off x="5354640" y="4452840"/>
          <a:ext cx="444600" cy="47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4640" y="4452840"/>
                    <a:ext cx="4446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3" name=""/>
          <p:cNvGraphicFramePr/>
          <p:nvPr/>
        </p:nvGraphicFramePr>
        <p:xfrm>
          <a:off x="2073240" y="1603440"/>
          <a:ext cx="44460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3240" y="1603440"/>
                    <a:ext cx="444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5" name=""/>
          <p:cNvSpPr/>
          <p:nvPr/>
        </p:nvSpPr>
        <p:spPr>
          <a:xfrm>
            <a:off x="6105600" y="228600"/>
            <a:ext cx="277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Telepres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Virtualized Realit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 real/live elements of a scene with virtual el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super impose images, maps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from different ang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ure scene with multiple cameras from multiple angles and extract 3D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bandwidth for vid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cycles for online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3D information to reconstruct new sc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from different ang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rtificial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8" name=""/>
          <p:cNvGrpSpPr/>
          <p:nvPr/>
        </p:nvGrpSpPr>
        <p:grpSpPr>
          <a:xfrm>
            <a:off x="912960" y="1679400"/>
            <a:ext cx="685800" cy="306360"/>
            <a:chOff x="912960" y="1679400"/>
            <a:chExt cx="685800" cy="306360"/>
          </a:xfrm>
        </p:grpSpPr>
        <p:sp>
          <p:nvSpPr>
            <p:cNvPr id="2069" name=""/>
            <p:cNvSpPr/>
            <p:nvPr/>
          </p:nvSpPr>
          <p:spPr>
            <a:xfrm>
              <a:off x="1141560" y="1679400"/>
              <a:ext cx="457200" cy="306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912960" y="1679400"/>
              <a:ext cx="152280" cy="306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065240" y="1755720"/>
              <a:ext cx="76320" cy="15372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2438280" y="1527120"/>
            <a:ext cx="3052800" cy="22906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483240" y="1603440"/>
            <a:ext cx="992160" cy="22906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346640" y="1679400"/>
            <a:ext cx="761760" cy="61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819520" y="4503600"/>
            <a:ext cx="3357360" cy="23670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7016760" y="4932360"/>
            <a:ext cx="1449360" cy="922320"/>
            <a:chOff x="7016760" y="4932360"/>
            <a:chExt cx="1449360" cy="922320"/>
          </a:xfrm>
        </p:grpSpPr>
        <p:sp>
          <p:nvSpPr>
            <p:cNvPr id="2077" name=""/>
            <p:cNvSpPr/>
            <p:nvPr/>
          </p:nvSpPr>
          <p:spPr>
            <a:xfrm>
              <a:off x="7016760" y="4932360"/>
              <a:ext cx="1449360" cy="92232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82280" y="4997880"/>
              <a:ext cx="1317960" cy="790560"/>
            </a:xfrm>
            <a:prstGeom prst="rect">
              <a:avLst/>
            </a:prstGeom>
            <a:solidFill>
              <a:srgbClr val="fe9b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3125880" y="5878440"/>
            <a:ext cx="915840" cy="8398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7169040" y="4657680"/>
            <a:ext cx="1144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PDP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446120" y="3603600"/>
            <a:ext cx="1068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6635880" y="2413080"/>
            <a:ext cx="8395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Gigabit Etherne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438280" y="3809880"/>
            <a:ext cx="1832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Pentium II 4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201840" y="5954760"/>
            <a:ext cx="83988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Gigabit Ethernet 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422600" y="1679400"/>
            <a:ext cx="7639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Fast Ethernet 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400800" y="4343400"/>
            <a:ext cx="1832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1000BASE-SX  </a:t>
            </a:r>
            <a:r>
              <a:rPr b="0" lang="en-US" sz="1000" spc="-1" strike="noStrike">
                <a:solidFill>
                  <a:srgbClr val="000000"/>
                </a:solidFill>
                <a:latin typeface="Helvetica-Narrow"/>
              </a:rPr>
              <a:t>(up to 1Gb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491080" y="1405080"/>
            <a:ext cx="9921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100BASE-T </a:t>
            </a:r>
            <a:r>
              <a:rPr b="0" lang="en-US" sz="1000" spc="-1" strike="noStrike">
                <a:solidFill>
                  <a:srgbClr val="000000"/>
                </a:solidFill>
                <a:latin typeface="Helvetica-Narrow"/>
              </a:rPr>
              <a:t>(up to 100Mb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475400" y="267192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8085240" y="2671920"/>
            <a:ext cx="0" cy="1450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1369800" y="4122720"/>
            <a:ext cx="6715080" cy="11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370160" y="4122720"/>
            <a:ext cx="0" cy="2136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370160" y="6259680"/>
            <a:ext cx="1755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3" name=""/>
          <p:cNvGrpSpPr/>
          <p:nvPr/>
        </p:nvGrpSpPr>
        <p:grpSpPr>
          <a:xfrm>
            <a:off x="912960" y="2214720"/>
            <a:ext cx="685800" cy="304560"/>
            <a:chOff x="912960" y="2214720"/>
            <a:chExt cx="685800" cy="304560"/>
          </a:xfrm>
        </p:grpSpPr>
        <p:sp>
          <p:nvSpPr>
            <p:cNvPr id="2094" name=""/>
            <p:cNvSpPr/>
            <p:nvPr/>
          </p:nvSpPr>
          <p:spPr>
            <a:xfrm>
              <a:off x="1141560" y="2214720"/>
              <a:ext cx="457200" cy="3045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912960" y="2214720"/>
              <a:ext cx="152280" cy="3045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65240" y="2290680"/>
              <a:ext cx="76320" cy="1526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912960" y="2747880"/>
            <a:ext cx="685800" cy="306000"/>
            <a:chOff x="912960" y="2747880"/>
            <a:chExt cx="685800" cy="306000"/>
          </a:xfrm>
        </p:grpSpPr>
        <p:sp>
          <p:nvSpPr>
            <p:cNvPr id="2098" name=""/>
            <p:cNvSpPr/>
            <p:nvPr/>
          </p:nvSpPr>
          <p:spPr>
            <a:xfrm>
              <a:off x="1141560" y="2747880"/>
              <a:ext cx="457200" cy="306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912960" y="2747880"/>
              <a:ext cx="152280" cy="306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065240" y="2824200"/>
              <a:ext cx="76320" cy="153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912960" y="3282840"/>
            <a:ext cx="685800" cy="304560"/>
            <a:chOff x="912960" y="3282840"/>
            <a:chExt cx="685800" cy="304560"/>
          </a:xfrm>
        </p:grpSpPr>
        <p:sp>
          <p:nvSpPr>
            <p:cNvPr id="2102" name=""/>
            <p:cNvSpPr/>
            <p:nvPr/>
          </p:nvSpPr>
          <p:spPr>
            <a:xfrm>
              <a:off x="1141560" y="3282840"/>
              <a:ext cx="457200" cy="3045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912960" y="3282840"/>
              <a:ext cx="152280" cy="3045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065240" y="3358800"/>
              <a:ext cx="76320" cy="1526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5" name=""/>
          <p:cNvSpPr/>
          <p:nvPr/>
        </p:nvSpPr>
        <p:spPr>
          <a:xfrm>
            <a:off x="5719680" y="6566040"/>
            <a:ext cx="20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491080" y="1986120"/>
            <a:ext cx="992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666880" y="3206880"/>
            <a:ext cx="916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963960" y="1679400"/>
            <a:ext cx="0" cy="19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9" name=""/>
          <p:cNvGrpSpPr/>
          <p:nvPr/>
        </p:nvGrpSpPr>
        <p:grpSpPr>
          <a:xfrm>
            <a:off x="1598760" y="1832040"/>
            <a:ext cx="1067760" cy="1603080"/>
            <a:chOff x="1598760" y="1832040"/>
            <a:chExt cx="1067760" cy="1603080"/>
          </a:xfrm>
        </p:grpSpPr>
        <p:sp>
          <p:nvSpPr>
            <p:cNvPr id="2110" name=""/>
            <p:cNvSpPr/>
            <p:nvPr/>
          </p:nvSpPr>
          <p:spPr>
            <a:xfrm>
              <a:off x="1598760" y="1832040"/>
              <a:ext cx="10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598760" y="2366640"/>
              <a:ext cx="10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598760" y="2900520"/>
              <a:ext cx="10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598760" y="3435120"/>
              <a:ext cx="10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4" name=""/>
          <p:cNvSpPr/>
          <p:nvPr/>
        </p:nvSpPr>
        <p:spPr>
          <a:xfrm>
            <a:off x="4422600" y="4734000"/>
            <a:ext cx="0" cy="198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879800" y="6337440"/>
            <a:ext cx="916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956120" y="6413400"/>
            <a:ext cx="91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Video D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346640" y="3054240"/>
            <a:ext cx="7617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498920" y="3130560"/>
            <a:ext cx="687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346640" y="2443320"/>
            <a:ext cx="839880" cy="458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346640" y="2443320"/>
            <a:ext cx="992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UDP Trans. S/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963960" y="328284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963960" y="19861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659040" y="4657680"/>
            <a:ext cx="763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I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041720" y="3541680"/>
            <a:ext cx="1525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PCI Bus </a:t>
            </a:r>
            <a:r>
              <a:rPr b="0" lang="en-US" sz="1000" spc="-1" strike="noStrike">
                <a:solidFill>
                  <a:srgbClr val="000000"/>
                </a:solidFill>
                <a:latin typeface="Helvetica-Narrow"/>
              </a:rPr>
              <a:t>(up to 133MB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041720" y="625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422600" y="595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422600" y="5421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666880" y="3206880"/>
            <a:ext cx="916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MPEG H/w 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3583080" y="343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666880" y="2671920"/>
            <a:ext cx="916200" cy="458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666880" y="2671920"/>
            <a:ext cx="916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MPEG H/w 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583080" y="29019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666880" y="2138400"/>
            <a:ext cx="916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666880" y="2138400"/>
            <a:ext cx="916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MPEG H/w 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583080" y="2367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666880" y="1603440"/>
            <a:ext cx="916200" cy="458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666880" y="1603440"/>
            <a:ext cx="916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MPEG H/w 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583080" y="18320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9" name=""/>
          <p:cNvGrpSpPr/>
          <p:nvPr/>
        </p:nvGrpSpPr>
        <p:grpSpPr>
          <a:xfrm>
            <a:off x="5948280" y="2138400"/>
            <a:ext cx="534960" cy="1525320"/>
            <a:chOff x="5948280" y="2138400"/>
            <a:chExt cx="534960" cy="1525320"/>
          </a:xfrm>
        </p:grpSpPr>
        <p:sp>
          <p:nvSpPr>
            <p:cNvPr id="2140" name=""/>
            <p:cNvSpPr/>
            <p:nvPr/>
          </p:nvSpPr>
          <p:spPr>
            <a:xfrm>
              <a:off x="5948280" y="213840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948280" y="244296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948280" y="274824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48280" y="229068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948280" y="259596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948280" y="290088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48280" y="305352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948280" y="320616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948280" y="335844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948280" y="351144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948280" y="366372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4952880" y="3809880"/>
            <a:ext cx="61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(X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09480" y="1447920"/>
            <a:ext cx="1297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Camera (X4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4879800" y="5191200"/>
            <a:ext cx="763920" cy="458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956120" y="5267160"/>
            <a:ext cx="91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CPU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879800" y="5726160"/>
            <a:ext cx="7639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956120" y="5802480"/>
            <a:ext cx="91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CPU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422600" y="648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711840" y="6259680"/>
            <a:ext cx="839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S-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7780320" y="5878440"/>
            <a:ext cx="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727520" y="4581360"/>
            <a:ext cx="106848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879800" y="4581360"/>
            <a:ext cx="9162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MPEG S/w 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581280" y="4267080"/>
            <a:ext cx="1830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Dual Pentium II 4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948280" y="3695760"/>
            <a:ext cx="61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(X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3658680" y="137484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579840" y="1371600"/>
            <a:ext cx="992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elvetica-Narrow"/>
              </a:rPr>
              <a:t>up to 4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3658680" y="1374840"/>
            <a:ext cx="304920" cy="992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3658680" y="1374840"/>
            <a:ext cx="304920" cy="152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3658680" y="1374840"/>
            <a:ext cx="304920" cy="206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996840" y="7776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rototyp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latform for Networking Research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for QoS in high-speed environ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-flow, hard-guarantee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based, weak-guarantee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ge-driven control of network on multiple time sca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s with primitive internal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 case: optical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 control, management, and provisi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bed for service development and deploy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on top of Darw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using rich application mi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bile IP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99648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e with mobile hosts using their home IP addr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be transparent to applications and higher level protoc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 changes to host and router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rea has a home agent and foreign agent that managing packet forward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ding = (IP address, foreign agent addres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ding includes time sta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to short circuit the home location by going directly to the foreign ag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bindings in the appropriate pl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to update/invalidate c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consid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bile IP in IPv4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0000"/>
          </a:bodyPr>
          <a:p>
            <a:pPr marL="257040" indent="-2570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ation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host registers with home and foreign ag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indings: address, care-of-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nneling is used to forward packets between ag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 mo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alidating old caches explicitly or in a lazy fash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variants and optimizations possi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host can be its own foreign agent, e.g. can get local addr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can redirect packet directly to foreign ag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78640" y="3587760"/>
            <a:ext cx="838440" cy="53496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799240" y="2290680"/>
            <a:ext cx="915840" cy="68580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265720" y="3740040"/>
            <a:ext cx="914400" cy="68760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e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334200" y="5267160"/>
            <a:ext cx="914400" cy="68760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e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H="1" flipV="1">
            <a:off x="6705720" y="2971440"/>
            <a:ext cx="761760" cy="6094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5715000" y="2971800"/>
            <a:ext cx="533520" cy="76212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181480" y="4800600"/>
            <a:ext cx="304920" cy="30492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V="1">
            <a:off x="5486400" y="4114800"/>
            <a:ext cx="198108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 Hoc Network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496040" cy="41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a network on the fly without the benefit of an established infrastruc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ding site, hotel room,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idea is that hosts function as routers and forward packets for each o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ity of hosts, signal propagation effects, battery power, load conditions, .. make routing very complica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: Dynamic Source Routing (DSR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s maintain a cache of source routes that are discovered through a route discovery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s are updates dynamically as the network chan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5943600" y="281952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315200" y="4267080"/>
            <a:ext cx="38088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248520" y="213372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553080" y="3809880"/>
            <a:ext cx="38124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019920" y="457200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7086600" y="320040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238880" y="2286000"/>
            <a:ext cx="38124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248520" y="533412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477120" y="457200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6" name=""/>
          <p:cNvGrpSpPr/>
          <p:nvPr/>
        </p:nvGrpSpPr>
        <p:grpSpPr>
          <a:xfrm>
            <a:off x="6400440" y="2362320"/>
            <a:ext cx="1067040" cy="2971800"/>
            <a:chOff x="6400440" y="2362320"/>
            <a:chExt cx="1067040" cy="2971800"/>
          </a:xfrm>
        </p:grpSpPr>
        <p:sp>
          <p:nvSpPr>
            <p:cNvPr id="2197" name=""/>
            <p:cNvSpPr/>
            <p:nvPr/>
          </p:nvSpPr>
          <p:spPr>
            <a:xfrm>
              <a:off x="6629400" y="2362320"/>
              <a:ext cx="609480" cy="1522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7315200" y="2666880"/>
              <a:ext cx="76320" cy="53352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315200" y="3581280"/>
              <a:ext cx="152280" cy="685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6858000" y="4419720"/>
              <a:ext cx="457200" cy="304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6400440" y="4952880"/>
              <a:ext cx="228600" cy="38124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reless Networks are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undamentally Differen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: a wireless link is a pip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ickness that interferes with adjacent pip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networks suffer from high, variable error r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ly different from a wired link, which is a fixed-bandwidth isolated p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fundamental changes in scheduling algorithms, monitoring support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less bandwidth is a critical resource so it should be managed carefu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b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 users can fully utilize their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 critical applications can be prot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zing a two-way communication channel is especially importan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ow Do We Manage a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Variable Bandwidth Pipe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23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’s packet schedulers were designed to manage fixed-bandwidth pi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need a fundamentally different model for managing wireless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ations can fail when bandwidth disapp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ies and preferred bandwidth allocations can change with the available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dependent errors raise questions of efficiency and fair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solution: add per-flow parameter that indicates how important it is that this flow maintains fidelity in the presence of err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rror environment gets worse, flows with high “power factor” become more import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nnection managemen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79640"/>
            <a:ext cx="0" cy="4241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36240" y="6175440"/>
            <a:ext cx="71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46440" y="2195640"/>
            <a:ext cx="96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06560" y="3948120"/>
            <a:ext cx="84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65880" y="5337000"/>
            <a:ext cx="101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04120" y="1547640"/>
            <a:ext cx="1044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2920" y="1547640"/>
            <a:ext cx="1244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2205000"/>
            <a:ext cx="2816280" cy="48276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514600" y="2890800"/>
            <a:ext cx="2860560" cy="48276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567320"/>
            <a:ext cx="2816280" cy="48240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4262400"/>
            <a:ext cx="2816280" cy="482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957480"/>
            <a:ext cx="2816280" cy="482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3652920"/>
            <a:ext cx="2816280" cy="48240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514600" y="5329080"/>
            <a:ext cx="2860560" cy="48276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5938920"/>
            <a:ext cx="2816280" cy="48240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1600" y="1981080"/>
            <a:ext cx="70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Book Antiqua"/>
              </a:rPr>
              <a:t>s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51280" y="2666880"/>
            <a:ext cx="136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Book Antiqua"/>
              </a:rPr>
              <a:t>syn/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8040" y="3429000"/>
            <a:ext cx="712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Book Antiqua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6560" y="4191120"/>
            <a:ext cx="592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6280" y="4952880"/>
            <a:ext cx="712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79160" y="5473800"/>
            <a:ext cx="592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07760" y="6083280"/>
            <a:ext cx="712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24160" y="1979640"/>
            <a:ext cx="11530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5181480"/>
            <a:ext cx="2860560" cy="48276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14600" y="4800600"/>
            <a:ext cx="2860560" cy="48276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14600" y="4567320"/>
            <a:ext cx="2860560" cy="48240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514600" y="4343400"/>
            <a:ext cx="2860560" cy="48276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: Class-based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servation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09120" y="1984320"/>
            <a:ext cx="389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classes of f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dio: low bandwidth, high power fa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: high bandwidth, low power fa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: in betw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rror environment degrades, audio will maintain its fidelity the longest by using more “ether time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factor can also be used to optimize efficien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Infocom 2000 fo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257800" y="2209680"/>
            <a:ext cx="533520" cy="3812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629400" y="2209680"/>
            <a:ext cx="106668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791320" y="2209680"/>
            <a:ext cx="838080" cy="3812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8139240" y="2327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257800" y="3733920"/>
            <a:ext cx="99072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05720" y="3733920"/>
            <a:ext cx="99036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248520" y="3733920"/>
            <a:ext cx="457200" cy="3808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813924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248520" y="4267080"/>
            <a:ext cx="53316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91320" y="4267080"/>
            <a:ext cx="457200" cy="3812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257800" y="5791320"/>
            <a:ext cx="38088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791320" y="5791320"/>
            <a:ext cx="22860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638680" y="5791320"/>
            <a:ext cx="152640" cy="3808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257800" y="5257800"/>
            <a:ext cx="137160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934320" y="5257800"/>
            <a:ext cx="76176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629400" y="5257800"/>
            <a:ext cx="304920" cy="3808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8139240" y="548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257800" y="2743200"/>
            <a:ext cx="53352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629400" y="2743200"/>
            <a:ext cx="10666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91320" y="2743200"/>
            <a:ext cx="838080" cy="3808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257800" y="1905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658480" y="156204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fort/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1" name=""/>
          <p:cNvGrpSpPr/>
          <p:nvPr/>
        </p:nvGrpSpPr>
        <p:grpSpPr>
          <a:xfrm>
            <a:off x="4785840" y="2224080"/>
            <a:ext cx="378720" cy="918000"/>
            <a:chOff x="4785840" y="2224080"/>
            <a:chExt cx="378720" cy="918000"/>
          </a:xfrm>
        </p:grpSpPr>
        <p:sp>
          <p:nvSpPr>
            <p:cNvPr id="2232" name=""/>
            <p:cNvSpPr/>
            <p:nvPr/>
          </p:nvSpPr>
          <p:spPr>
            <a:xfrm>
              <a:off x="4786560" y="2224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785840" y="27432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4801680" y="5257800"/>
            <a:ext cx="378720" cy="918000"/>
            <a:chOff x="4801680" y="5257800"/>
            <a:chExt cx="378720" cy="918000"/>
          </a:xfrm>
        </p:grpSpPr>
        <p:sp>
          <p:nvSpPr>
            <p:cNvPr id="2235" name=""/>
            <p:cNvSpPr/>
            <p:nvPr/>
          </p:nvSpPr>
          <p:spPr>
            <a:xfrm>
              <a:off x="480240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801680" y="5776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4801680" y="3733920"/>
            <a:ext cx="378720" cy="918000"/>
            <a:chOff x="4801680" y="3733920"/>
            <a:chExt cx="378720" cy="918000"/>
          </a:xfrm>
        </p:grpSpPr>
        <p:sp>
          <p:nvSpPr>
            <p:cNvPr id="2238" name=""/>
            <p:cNvSpPr/>
            <p:nvPr/>
          </p:nvSpPr>
          <p:spPr>
            <a:xfrm>
              <a:off x="4802400" y="3733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801680" y="42530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0" name=""/>
          <p:cNvSpPr/>
          <p:nvPr/>
        </p:nvSpPr>
        <p:spPr>
          <a:xfrm>
            <a:off x="6781680" y="4267080"/>
            <a:ext cx="914400" cy="381240"/>
          </a:xfrm>
          <a:prstGeom prst="rect">
            <a:avLst/>
          </a:prstGeom>
          <a:noFill/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019920" y="5791320"/>
            <a:ext cx="1676160" cy="380880"/>
          </a:xfrm>
          <a:prstGeom prst="rect">
            <a:avLst/>
          </a:prstGeom>
          <a:noFill/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401880" y="57754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782760" y="425124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ffic Reporting in a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reless LA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 characterization must include used bandwidth and error r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is location 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always be obtained accura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 is affected by traffic in adjacent cel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not reported by management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, result is location 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explicitly consider the physical location of the wireless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address is not enough, as in wired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s of mo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reless Andrew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 based wireless infrastructure on Carnegie Mellon Camp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Lucent wavelan c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ubiquitous connectivity to campus commun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rly widely used by students, faculty and sta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unique environment for experimentation in network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scale wireless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ra project on “distraction free comput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equence Number Spac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byte in byte stream is number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bi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aps ar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values selected at start up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cket has a sequence numb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s where it fits in the byte str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s lost, duplicate or out of order pa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s to offer reliable in-order byte stream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761080"/>
            <a:ext cx="736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5729400"/>
            <a:ext cx="633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72940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572940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53400" y="5729400"/>
            <a:ext cx="633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57760" y="5310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84120" y="5884920"/>
            <a:ext cx="114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cke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2040" y="5884920"/>
            <a:ext cx="114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cke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7600" y="5884920"/>
            <a:ext cx="1280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cket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13320" y="5310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89080" y="5310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85080" y="5310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89440" y="572760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1480" y="530856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0600" y="5867280"/>
            <a:ext cx="1280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cket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6T14:02:43Z</dcterms:created>
  <dc:creator>Campus User</dc:creator>
  <dc:description/>
  <dc:language>en-US</dc:language>
  <cp:lastModifiedBy>Valued Gateway Client</cp:lastModifiedBy>
  <cp:lastPrinted>2000-03-08T22:41:11Z</cp:lastPrinted>
  <dcterms:modified xsi:type="dcterms:W3CDTF">2000-09-25T14:19:13Z</dcterms:modified>
  <cp:revision>201</cp:revision>
  <dc:subject/>
  <dc:title>Darwin: Customizable  Resource Management for  Value-added Services  http://www.cs.cmu.edu/~darwin  </dc:title>
</cp:coreProperties>
</file>