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</p:sldIdLst>
  <p:sldSz cx="9158288" cy="6872288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6480" y="198432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96480" y="41338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6480" y="19843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7040" y="19843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6480" y="41338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7040" y="41338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96480" y="198432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8200" y="198432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40280" y="198432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96480" y="41338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8200" y="41338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40280" y="41338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96480" y="19843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6480" y="19843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6480" y="198432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7040" y="198432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96480" y="7740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6480" y="19843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7040" y="198432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96480" y="41338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6480" y="198432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7040" y="19843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7040" y="41338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6480" y="19843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7040" y="19843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96480" y="41338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278000"/>
            <a:ext cx="9145440" cy="154080"/>
            <a:chOff x="0" y="1278000"/>
            <a:chExt cx="9145440" cy="154080"/>
          </a:xfrm>
        </p:grpSpPr>
        <p:sp>
          <p:nvSpPr>
            <p:cNvPr id="1" name=""/>
            <p:cNvSpPr/>
            <p:nvPr/>
          </p:nvSpPr>
          <p:spPr>
            <a:xfrm>
              <a:off x="0" y="1278000"/>
              <a:ext cx="9145440" cy="75960"/>
            </a:xfrm>
            <a:prstGeom prst="rect">
              <a:avLst/>
            </a:prstGeom>
            <a:gradFill rotWithShape="0">
              <a:gsLst>
                <a:gs pos="0">
                  <a:srgbClr val="19327c"/>
                </a:gs>
                <a:gs pos="50000">
                  <a:srgbClr val="3365fb"/>
                </a:gs>
                <a:gs pos="100000">
                  <a:srgbClr val="1932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393920"/>
              <a:ext cx="9145440" cy="38160"/>
            </a:xfrm>
            <a:prstGeom prst="rect">
              <a:avLst/>
            </a:prstGeom>
            <a:gradFill rotWithShape="0">
              <a:gsLst>
                <a:gs pos="0">
                  <a:srgbClr val="af001b"/>
                </a:gs>
                <a:gs pos="50000">
                  <a:srgbClr val="fc0128"/>
                </a:gs>
                <a:gs pos="100000">
                  <a:srgbClr val="af001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Click to edit the title text format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96480" y="19843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9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59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89000"/>
              </a:lnSpc>
              <a:spcBef>
                <a:spcPts val="9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17320" y="6567480"/>
            <a:ext cx="17877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ter A. Steenkiste, SCS, CM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823880" y="6426360"/>
            <a:ext cx="1287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60504-AD91-44EB-B405-12A2CCEA77D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Introduction to Networking: </a:t>
            </a:r>
            <a:br>
              <a:rPr sz="3600"/>
            </a:b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Protocol Stacks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ter Steenkis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ool of Computer Sci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negie Mellon Univers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http://www.cs.cmu.edu/~p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Limitations of the</a:t>
            </a:r>
            <a:br>
              <a:rPr sz="3600"/>
            </a:b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Layered Model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96480" y="1984320"/>
            <a:ext cx="7309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80080" indent="-28008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layers are not always cleanly separat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-layer dependencies in implementations for performance reas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dependencies in the standards (header checksum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er layers not always well defin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, presentation, application lay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wer layers have “sublayers”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layers well defined in the standa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s are not really standardiz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would be hard to mix and match layers from independent implement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y cross-layer assumptions, e.g. buffer manag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71600" y="66600"/>
            <a:ext cx="7464240" cy="1144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The Internet Protocol Suite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29" name=""/>
          <p:cNvSpPr/>
          <p:nvPr/>
        </p:nvSpPr>
        <p:spPr>
          <a:xfrm>
            <a:off x="1314360" y="2209680"/>
            <a:ext cx="1497240" cy="430200"/>
          </a:xfrm>
          <a:prstGeom prst="rect">
            <a:avLst/>
          </a:prstGeom>
          <a:solidFill>
            <a:srgbClr val="114ffb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314360" y="2665440"/>
            <a:ext cx="1497240" cy="433440"/>
          </a:xfrm>
          <a:prstGeom prst="rect">
            <a:avLst/>
          </a:prstGeom>
          <a:solidFill>
            <a:srgbClr val="114ffb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314360" y="3124080"/>
            <a:ext cx="1497240" cy="430200"/>
          </a:xfrm>
          <a:prstGeom prst="rect">
            <a:avLst/>
          </a:prstGeom>
          <a:solidFill>
            <a:srgbClr val="114ffb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314360" y="3579840"/>
            <a:ext cx="1497240" cy="431640"/>
          </a:xfrm>
          <a:prstGeom prst="rect">
            <a:avLst/>
          </a:prstGeom>
          <a:solidFill>
            <a:srgbClr val="114ffb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314360" y="4037040"/>
            <a:ext cx="1497240" cy="431640"/>
          </a:xfrm>
          <a:prstGeom prst="rect">
            <a:avLst/>
          </a:prstGeom>
          <a:solidFill>
            <a:srgbClr val="114ffb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314360" y="4494240"/>
            <a:ext cx="1497240" cy="431640"/>
          </a:xfrm>
          <a:prstGeom prst="rect">
            <a:avLst/>
          </a:prstGeom>
          <a:solidFill>
            <a:srgbClr val="114ffb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 l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314360" y="4951440"/>
            <a:ext cx="1497240" cy="431640"/>
          </a:xfrm>
          <a:prstGeom prst="rect">
            <a:avLst/>
          </a:prstGeom>
          <a:solidFill>
            <a:srgbClr val="114ffb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hys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2835360" y="4091040"/>
            <a:ext cx="3408120" cy="177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380560" y="4143240"/>
            <a:ext cx="2364480" cy="282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6600"/>
          </a:solidFill>
          <a:ln cap="rnd" w="763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381640" y="4143240"/>
            <a:ext cx="2364480" cy="282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37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379"/>
              </a:path>
            </a:pathLst>
          </a:custGeom>
          <a:solidFill>
            <a:srgbClr val="ff6600"/>
          </a:solidFill>
          <a:ln cap="rnd" w="763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rot="10800000">
            <a:off x="5321880" y="504720"/>
            <a:ext cx="2463120" cy="352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37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379"/>
              </a:path>
            </a:pathLst>
          </a:custGeom>
          <a:solidFill>
            <a:srgbClr val="ff6600"/>
          </a:solidFill>
          <a:ln cap="rnd" w="763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10800000">
            <a:off x="5342400" y="504720"/>
            <a:ext cx="2421360" cy="352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6600"/>
          </a:solidFill>
          <a:ln cap="rnd" w="763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34120" y="2266920"/>
            <a:ext cx="2438280" cy="0"/>
          </a:xfrm>
          <a:prstGeom prst="line">
            <a:avLst/>
          </a:prstGeom>
          <a:ln w="763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334120" y="5543640"/>
            <a:ext cx="2361960" cy="0"/>
          </a:xfrm>
          <a:prstGeom prst="line">
            <a:avLst/>
          </a:prstGeom>
          <a:ln w="763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410160" y="3951360"/>
            <a:ext cx="304920" cy="22860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5943240" y="3470400"/>
            <a:ext cx="1248840" cy="363960"/>
            <a:chOff x="5943240" y="3470400"/>
            <a:chExt cx="1248840" cy="363960"/>
          </a:xfrm>
        </p:grpSpPr>
        <p:sp>
          <p:nvSpPr>
            <p:cNvPr id="245" name=""/>
            <p:cNvSpPr/>
            <p:nvPr/>
          </p:nvSpPr>
          <p:spPr>
            <a:xfrm>
              <a:off x="5943240" y="3470400"/>
              <a:ext cx="6638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4640" bIns="446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D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552720" y="3470400"/>
              <a:ext cx="6393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4640" bIns="446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C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5961960" y="4538520"/>
            <a:ext cx="1211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L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13080" y="4997520"/>
            <a:ext cx="1108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789880" y="2478240"/>
            <a:ext cx="1555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784480" y="2782800"/>
            <a:ext cx="1566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38280" y="3089160"/>
            <a:ext cx="1058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105520" y="5791320"/>
            <a:ext cx="29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Hourglass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71240" y="66600"/>
            <a:ext cx="7311960" cy="11541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Relevant Standardization Bodies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96480" y="19843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 fontScale="96000"/>
          </a:bodyPr>
          <a:p>
            <a:pPr marL="274320" indent="-2743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U-TS (formerly CCITT) - Telecommunications Sector of the International Telecommunications Un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vernment representatives (PTTs/State Departmen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ponsible for international “recommendation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1 - telecom committee reporting to American National Standards Institu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1/ANSI formulate US posi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/adapt ITU standards for US u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resents US in IS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O - International Standards Organiza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vers a broad range of topic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More Bodies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42640" y="19051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EEE - Institute of Electrical and Electronics Engineer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ponsible for many LAN physical layer and datalink layer standa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ETF - Internet Engineering Task Forc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s for network layer and “higher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ization based on working documents (Internet drafts) and proposed standards (Request for Comment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“open” standards organiz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M Foru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ting membership mostly manufactur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aratively rapid evolution of recommend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Introduction to Networking: </a:t>
            </a:r>
            <a:br>
              <a:rPr sz="3600"/>
            </a:b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Network Technologies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ter Steenkis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ool of Computer Sci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negie Mellon Univers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http://www.cs.cmu.edu/~p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Outline</a:t>
            </a:r>
            <a:br>
              <a:rPr sz="3600"/>
            </a:b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Network Technologies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96480" y="19843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 architectur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network technologi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s to the hom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reles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An Internetwork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62" name=""/>
          <p:cNvSpPr/>
          <p:nvPr/>
        </p:nvSpPr>
        <p:spPr>
          <a:xfrm>
            <a:off x="1536840" y="3137040"/>
            <a:ext cx="1815840" cy="977760"/>
          </a:xfrm>
          <a:prstGeom prst="ellipse">
            <a:avLst/>
          </a:prstGeom>
          <a:solidFill>
            <a:srgbClr val="114ffb"/>
          </a:solidFill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97040" y="4121280"/>
            <a:ext cx="1828800" cy="990360"/>
          </a:xfrm>
          <a:prstGeom prst="ellipse">
            <a:avLst/>
          </a:prstGeom>
          <a:solidFill>
            <a:srgbClr val="cecece"/>
          </a:solidFill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11440" y="3130560"/>
            <a:ext cx="1828800" cy="990720"/>
          </a:xfrm>
          <a:prstGeom prst="ellipse">
            <a:avLst/>
          </a:prstGeom>
          <a:solidFill>
            <a:srgbClr val="cecece"/>
          </a:solidFill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654440" y="4044960"/>
            <a:ext cx="1828800" cy="990720"/>
          </a:xfrm>
          <a:prstGeom prst="ellipse">
            <a:avLst/>
          </a:prstGeom>
          <a:solidFill>
            <a:srgbClr val="cecece"/>
          </a:solidFill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499000" y="2984400"/>
            <a:ext cx="1816200" cy="978120"/>
          </a:xfrm>
          <a:prstGeom prst="ellipse">
            <a:avLst/>
          </a:prstGeom>
          <a:solidFill>
            <a:srgbClr val="114ffb"/>
          </a:solidFill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460520" y="5118120"/>
            <a:ext cx="1816200" cy="977760"/>
          </a:xfrm>
          <a:prstGeom prst="ellipse">
            <a:avLst/>
          </a:prstGeom>
          <a:solidFill>
            <a:srgbClr val="114ffb"/>
          </a:solidFill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51640" y="5041800"/>
            <a:ext cx="1815840" cy="978120"/>
          </a:xfrm>
          <a:prstGeom prst="ellipse">
            <a:avLst/>
          </a:prstGeom>
          <a:solidFill>
            <a:srgbClr val="114ffb"/>
          </a:solidFill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280040" y="2070000"/>
            <a:ext cx="1815840" cy="978120"/>
          </a:xfrm>
          <a:prstGeom prst="ellipse">
            <a:avLst/>
          </a:prstGeom>
          <a:solidFill>
            <a:srgbClr val="114ffb"/>
          </a:solidFill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698400" y="3441600"/>
            <a:ext cx="819000" cy="444240"/>
            <a:chOff x="698400" y="3441600"/>
            <a:chExt cx="819000" cy="444240"/>
          </a:xfrm>
        </p:grpSpPr>
        <p:sp>
          <p:nvSpPr>
            <p:cNvPr id="271" name=""/>
            <p:cNvSpPr/>
            <p:nvPr/>
          </p:nvSpPr>
          <p:spPr>
            <a:xfrm>
              <a:off x="698400" y="3441600"/>
              <a:ext cx="596880" cy="444240"/>
            </a:xfrm>
            <a:prstGeom prst="rect">
              <a:avLst/>
            </a:prstGeom>
            <a:solidFill>
              <a:srgbClr val="3365fb"/>
            </a:solidFill>
            <a:ln w="12600">
              <a:solidFill>
                <a:srgbClr val="3365fb"/>
              </a:solidFill>
              <a:miter/>
            </a:ln>
            <a:effectLst>
              <a:outerShdw dist="107932" dir="2700000" blurRad="0" rotWithShape="0">
                <a:srgbClr val="cecec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Book Antiqua"/>
                </a:rPr>
                <a:t>H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314360" y="3664440"/>
              <a:ext cx="203040" cy="0"/>
            </a:xfrm>
            <a:prstGeom prst="line">
              <a:avLst/>
            </a:prstGeom>
            <a:ln w="2556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7334280" y="3289320"/>
            <a:ext cx="742680" cy="444600"/>
            <a:chOff x="7334280" y="3289320"/>
            <a:chExt cx="742680" cy="444600"/>
          </a:xfrm>
        </p:grpSpPr>
        <p:sp>
          <p:nvSpPr>
            <p:cNvPr id="274" name=""/>
            <p:cNvSpPr/>
            <p:nvPr/>
          </p:nvSpPr>
          <p:spPr>
            <a:xfrm>
              <a:off x="7479000" y="3289320"/>
              <a:ext cx="597960" cy="444600"/>
            </a:xfrm>
            <a:prstGeom prst="rect">
              <a:avLst/>
            </a:prstGeom>
            <a:solidFill>
              <a:srgbClr val="3365fb"/>
            </a:solidFill>
            <a:ln w="12600">
              <a:solidFill>
                <a:srgbClr val="3365fb"/>
              </a:solidFill>
              <a:miter/>
            </a:ln>
            <a:effectLst>
              <a:outerShdw dist="107932" dir="2700000" blurRad="0" rotWithShape="0">
                <a:srgbClr val="cecec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Book Antiqua"/>
                </a:rPr>
                <a:t>H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334280" y="3511800"/>
              <a:ext cx="125640" cy="0"/>
            </a:xfrm>
            <a:prstGeom prst="line">
              <a:avLst/>
            </a:prstGeom>
            <a:ln w="2556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5880240" y="4889520"/>
            <a:ext cx="291960" cy="291960"/>
          </a:xfrm>
          <a:prstGeom prst="rect">
            <a:avLst/>
          </a:prstGeom>
          <a:solidFill>
            <a:srgbClr val="fe9b03"/>
          </a:solidFill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880240" y="3898800"/>
            <a:ext cx="291960" cy="292320"/>
          </a:xfrm>
          <a:prstGeom prst="rect">
            <a:avLst/>
          </a:prstGeom>
          <a:solidFill>
            <a:srgbClr val="fe9b03"/>
          </a:solidFill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432320" y="4432320"/>
            <a:ext cx="291960" cy="290520"/>
          </a:xfrm>
          <a:prstGeom prst="rect">
            <a:avLst/>
          </a:prstGeom>
          <a:solidFill>
            <a:srgbClr val="fe9b03"/>
          </a:solidFill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98800" y="4051440"/>
            <a:ext cx="292320" cy="291960"/>
          </a:xfrm>
          <a:prstGeom prst="rect">
            <a:avLst/>
          </a:prstGeom>
          <a:solidFill>
            <a:srgbClr val="fe9b03"/>
          </a:solidFill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755800" y="3975120"/>
            <a:ext cx="292320" cy="291960"/>
          </a:xfrm>
          <a:prstGeom prst="rect">
            <a:avLst/>
          </a:prstGeom>
          <a:solidFill>
            <a:srgbClr val="fe9b03"/>
          </a:solidFill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755800" y="4965840"/>
            <a:ext cx="292320" cy="291960"/>
          </a:xfrm>
          <a:prstGeom prst="rect">
            <a:avLst/>
          </a:prstGeom>
          <a:solidFill>
            <a:srgbClr val="fe9b03"/>
          </a:solidFill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270400" y="3441600"/>
            <a:ext cx="292320" cy="292320"/>
          </a:xfrm>
          <a:prstGeom prst="rect">
            <a:avLst/>
          </a:prstGeom>
          <a:solidFill>
            <a:srgbClr val="fe9b03"/>
          </a:solidFill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737240" y="2984400"/>
            <a:ext cx="291960" cy="292320"/>
          </a:xfrm>
          <a:prstGeom prst="rect">
            <a:avLst/>
          </a:prstGeom>
          <a:solidFill>
            <a:srgbClr val="fe9b03"/>
          </a:solidFill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289320" y="3441600"/>
            <a:ext cx="291960" cy="292320"/>
          </a:xfrm>
          <a:prstGeom prst="rect">
            <a:avLst/>
          </a:prstGeom>
          <a:solidFill>
            <a:srgbClr val="fe9b03"/>
          </a:solidFill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727600" y="2832120"/>
            <a:ext cx="292320" cy="291960"/>
          </a:xfrm>
          <a:prstGeom prst="rect">
            <a:avLst/>
          </a:prstGeom>
          <a:solidFill>
            <a:srgbClr val="fe9b03"/>
          </a:solidFill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7488360" y="5349960"/>
            <a:ext cx="741240" cy="445680"/>
            <a:chOff x="7488360" y="5349960"/>
            <a:chExt cx="741240" cy="445680"/>
          </a:xfrm>
        </p:grpSpPr>
        <p:sp>
          <p:nvSpPr>
            <p:cNvPr id="287" name=""/>
            <p:cNvSpPr/>
            <p:nvPr/>
          </p:nvSpPr>
          <p:spPr>
            <a:xfrm>
              <a:off x="7632720" y="5349960"/>
              <a:ext cx="596880" cy="445680"/>
            </a:xfrm>
            <a:prstGeom prst="rect">
              <a:avLst/>
            </a:prstGeom>
            <a:solidFill>
              <a:srgbClr val="3365fb"/>
            </a:solidFill>
            <a:ln w="12600">
              <a:solidFill>
                <a:srgbClr val="3365fb"/>
              </a:solidFill>
              <a:miter/>
            </a:ln>
            <a:effectLst>
              <a:outerShdw dist="107932" dir="2700000" blurRad="0" rotWithShape="0">
                <a:srgbClr val="cecec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Book Antiqua"/>
                </a:rPr>
                <a:t>H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488360" y="5573160"/>
              <a:ext cx="125280" cy="0"/>
            </a:xfrm>
            <a:prstGeom prst="line">
              <a:avLst/>
            </a:prstGeom>
            <a:ln w="2556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6113520" y="2297160"/>
            <a:ext cx="742680" cy="444240"/>
            <a:chOff x="6113520" y="2297160"/>
            <a:chExt cx="742680" cy="444240"/>
          </a:xfrm>
        </p:grpSpPr>
        <p:sp>
          <p:nvSpPr>
            <p:cNvPr id="290" name=""/>
            <p:cNvSpPr/>
            <p:nvPr/>
          </p:nvSpPr>
          <p:spPr>
            <a:xfrm>
              <a:off x="6257880" y="2297160"/>
              <a:ext cx="598320" cy="444240"/>
            </a:xfrm>
            <a:prstGeom prst="rect">
              <a:avLst/>
            </a:prstGeom>
            <a:solidFill>
              <a:srgbClr val="3365fb"/>
            </a:solidFill>
            <a:ln w="12600">
              <a:solidFill>
                <a:srgbClr val="3365fb"/>
              </a:solidFill>
              <a:miter/>
            </a:ln>
            <a:effectLst>
              <a:outerShdw dist="107932" dir="2700000" blurRad="0" rotWithShape="0">
                <a:srgbClr val="cecec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Book Antiqua"/>
                </a:rPr>
                <a:t>H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113520" y="2519280"/>
              <a:ext cx="125280" cy="0"/>
            </a:xfrm>
            <a:prstGeom prst="line">
              <a:avLst/>
            </a:prstGeom>
            <a:ln w="2556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622440" y="5349960"/>
            <a:ext cx="818640" cy="443880"/>
            <a:chOff x="622440" y="5349960"/>
            <a:chExt cx="818640" cy="443880"/>
          </a:xfrm>
        </p:grpSpPr>
        <p:sp>
          <p:nvSpPr>
            <p:cNvPr id="293" name=""/>
            <p:cNvSpPr/>
            <p:nvPr/>
          </p:nvSpPr>
          <p:spPr>
            <a:xfrm>
              <a:off x="622440" y="5349960"/>
              <a:ext cx="596520" cy="443880"/>
            </a:xfrm>
            <a:prstGeom prst="rect">
              <a:avLst/>
            </a:prstGeom>
            <a:solidFill>
              <a:srgbClr val="3365fb"/>
            </a:solidFill>
            <a:ln w="12600">
              <a:solidFill>
                <a:srgbClr val="3365fb"/>
              </a:solidFill>
              <a:miter/>
            </a:ln>
            <a:effectLst>
              <a:outerShdw dist="107932" dir="2700000" blurRad="0" rotWithShape="0">
                <a:srgbClr val="cecec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Book Antiqua"/>
                </a:rPr>
                <a:t>H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238040" y="5572800"/>
              <a:ext cx="203040" cy="0"/>
            </a:xfrm>
            <a:prstGeom prst="line">
              <a:avLst/>
            </a:prstGeom>
            <a:ln w="2556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3444840" y="2297160"/>
            <a:ext cx="820440" cy="442800"/>
            <a:chOff x="3444840" y="2297160"/>
            <a:chExt cx="820440" cy="442800"/>
          </a:xfrm>
        </p:grpSpPr>
        <p:sp>
          <p:nvSpPr>
            <p:cNvPr id="296" name=""/>
            <p:cNvSpPr/>
            <p:nvPr/>
          </p:nvSpPr>
          <p:spPr>
            <a:xfrm>
              <a:off x="3444840" y="2297160"/>
              <a:ext cx="597960" cy="442800"/>
            </a:xfrm>
            <a:prstGeom prst="rect">
              <a:avLst/>
            </a:prstGeom>
            <a:solidFill>
              <a:srgbClr val="3365fb"/>
            </a:solidFill>
            <a:ln w="12600">
              <a:solidFill>
                <a:srgbClr val="3365fb"/>
              </a:solidFill>
              <a:miter/>
            </a:ln>
            <a:effectLst>
              <a:outerShdw dist="107932" dir="2700000" blurRad="0" rotWithShape="0">
                <a:srgbClr val="cecec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Book Antiqua"/>
                </a:rPr>
                <a:t>H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061880" y="2519280"/>
              <a:ext cx="203400" cy="0"/>
            </a:xfrm>
            <a:prstGeom prst="line">
              <a:avLst/>
            </a:prstGeom>
            <a:ln w="2556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3290760" y="5425920"/>
            <a:ext cx="742680" cy="446040"/>
            <a:chOff x="3290760" y="5425920"/>
            <a:chExt cx="742680" cy="446040"/>
          </a:xfrm>
        </p:grpSpPr>
        <p:sp>
          <p:nvSpPr>
            <p:cNvPr id="299" name=""/>
            <p:cNvSpPr/>
            <p:nvPr/>
          </p:nvSpPr>
          <p:spPr>
            <a:xfrm>
              <a:off x="3435120" y="5425920"/>
              <a:ext cx="598320" cy="446040"/>
            </a:xfrm>
            <a:prstGeom prst="rect">
              <a:avLst/>
            </a:prstGeom>
            <a:solidFill>
              <a:srgbClr val="3365fb"/>
            </a:solidFill>
            <a:ln w="12600">
              <a:solidFill>
                <a:srgbClr val="3365fb"/>
              </a:solidFill>
              <a:miter/>
            </a:ln>
            <a:effectLst>
              <a:outerShdw dist="107932" dir="2700000" blurRad="0" rotWithShape="0">
                <a:srgbClr val="cecec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Book Antiqua"/>
                </a:rPr>
                <a:t>H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290760" y="5648760"/>
              <a:ext cx="125280" cy="0"/>
            </a:xfrm>
            <a:prstGeom prst="line">
              <a:avLst/>
            </a:prstGeom>
            <a:ln w="2556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6792840" y="5941800"/>
            <a:ext cx="596880" cy="617400"/>
            <a:chOff x="6792840" y="5941800"/>
            <a:chExt cx="596880" cy="617400"/>
          </a:xfrm>
        </p:grpSpPr>
        <p:sp>
          <p:nvSpPr>
            <p:cNvPr id="302" name=""/>
            <p:cNvSpPr/>
            <p:nvPr/>
          </p:nvSpPr>
          <p:spPr>
            <a:xfrm>
              <a:off x="6792840" y="6113880"/>
              <a:ext cx="596880" cy="445320"/>
            </a:xfrm>
            <a:prstGeom prst="rect">
              <a:avLst/>
            </a:prstGeom>
            <a:solidFill>
              <a:srgbClr val="3365fb"/>
            </a:solidFill>
            <a:ln w="12600">
              <a:solidFill>
                <a:srgbClr val="3365fb"/>
              </a:solidFill>
              <a:miter/>
            </a:ln>
            <a:effectLst>
              <a:outerShdw dist="107932" dir="2700000" blurRad="0" rotWithShape="0">
                <a:srgbClr val="cecec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Book Antiqua"/>
                </a:rPr>
                <a:t>H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7092720" y="5941800"/>
              <a:ext cx="3240" cy="178200"/>
            </a:xfrm>
            <a:prstGeom prst="line">
              <a:avLst/>
            </a:prstGeom>
            <a:ln w="2556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5877000" y="5941800"/>
            <a:ext cx="597960" cy="617400"/>
            <a:chOff x="5877000" y="5941800"/>
            <a:chExt cx="597960" cy="617400"/>
          </a:xfrm>
        </p:grpSpPr>
        <p:sp>
          <p:nvSpPr>
            <p:cNvPr id="305" name=""/>
            <p:cNvSpPr/>
            <p:nvPr/>
          </p:nvSpPr>
          <p:spPr>
            <a:xfrm>
              <a:off x="5877000" y="6113880"/>
              <a:ext cx="597960" cy="445320"/>
            </a:xfrm>
            <a:prstGeom prst="rect">
              <a:avLst/>
            </a:prstGeom>
            <a:solidFill>
              <a:srgbClr val="3365fb"/>
            </a:solidFill>
            <a:ln w="12600">
              <a:solidFill>
                <a:srgbClr val="3365fb"/>
              </a:solidFill>
              <a:miter/>
            </a:ln>
            <a:effectLst>
              <a:outerShdw dist="107932" dir="2700000" blurRad="0" rotWithShape="0">
                <a:srgbClr val="cecec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Book Antiqua"/>
                </a:rPr>
                <a:t>H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6177600" y="5941800"/>
              <a:ext cx="3240" cy="178200"/>
            </a:xfrm>
            <a:prstGeom prst="line">
              <a:avLst/>
            </a:prstGeom>
            <a:ln w="2556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2147760" y="2525760"/>
            <a:ext cx="596880" cy="591840"/>
            <a:chOff x="2147760" y="2525760"/>
            <a:chExt cx="596880" cy="591840"/>
          </a:xfrm>
        </p:grpSpPr>
        <p:sp>
          <p:nvSpPr>
            <p:cNvPr id="308" name=""/>
            <p:cNvSpPr/>
            <p:nvPr/>
          </p:nvSpPr>
          <p:spPr>
            <a:xfrm>
              <a:off x="2147760" y="2525760"/>
              <a:ext cx="596880" cy="443880"/>
            </a:xfrm>
            <a:prstGeom prst="rect">
              <a:avLst/>
            </a:prstGeom>
            <a:solidFill>
              <a:srgbClr val="3365fb"/>
            </a:solidFill>
            <a:ln w="12600">
              <a:solidFill>
                <a:srgbClr val="3365fb"/>
              </a:solidFill>
              <a:miter/>
            </a:ln>
            <a:effectLst>
              <a:outerShdw dist="107932" dir="2700000" blurRad="0" rotWithShape="0">
                <a:srgbClr val="cecec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Book Antiqua"/>
                </a:rPr>
                <a:t>H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2428560" y="2990160"/>
              <a:ext cx="30240" cy="127440"/>
            </a:xfrm>
            <a:prstGeom prst="line">
              <a:avLst/>
            </a:prstGeom>
            <a:ln w="2556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4818240" y="5349960"/>
            <a:ext cx="820080" cy="443880"/>
            <a:chOff x="4818240" y="5349960"/>
            <a:chExt cx="820080" cy="443880"/>
          </a:xfrm>
        </p:grpSpPr>
        <p:sp>
          <p:nvSpPr>
            <p:cNvPr id="311" name=""/>
            <p:cNvSpPr/>
            <p:nvPr/>
          </p:nvSpPr>
          <p:spPr>
            <a:xfrm>
              <a:off x="4818240" y="5349960"/>
              <a:ext cx="597600" cy="443880"/>
            </a:xfrm>
            <a:prstGeom prst="rect">
              <a:avLst/>
            </a:prstGeom>
            <a:solidFill>
              <a:srgbClr val="3365fb"/>
            </a:solidFill>
            <a:ln w="12600">
              <a:solidFill>
                <a:srgbClr val="3365fb"/>
              </a:solidFill>
              <a:miter/>
            </a:ln>
            <a:effectLst>
              <a:outerShdw dist="107932" dir="2700000" blurRad="0" rotWithShape="0">
                <a:srgbClr val="cecec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Book Antiqua"/>
                </a:rPr>
                <a:t>H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435280" y="5572800"/>
              <a:ext cx="203040" cy="0"/>
            </a:xfrm>
            <a:prstGeom prst="line">
              <a:avLst/>
            </a:prstGeom>
            <a:ln w="2556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1612800" y="4586400"/>
            <a:ext cx="598320" cy="591840"/>
            <a:chOff x="1612800" y="4586400"/>
            <a:chExt cx="598320" cy="591840"/>
          </a:xfrm>
        </p:grpSpPr>
        <p:sp>
          <p:nvSpPr>
            <p:cNvPr id="314" name=""/>
            <p:cNvSpPr/>
            <p:nvPr/>
          </p:nvSpPr>
          <p:spPr>
            <a:xfrm>
              <a:off x="1612800" y="4586400"/>
              <a:ext cx="598320" cy="443880"/>
            </a:xfrm>
            <a:prstGeom prst="rect">
              <a:avLst/>
            </a:prstGeom>
            <a:solidFill>
              <a:srgbClr val="3365fb"/>
            </a:solidFill>
            <a:ln w="12600">
              <a:solidFill>
                <a:srgbClr val="3365fb"/>
              </a:solidFill>
              <a:miter/>
            </a:ln>
            <a:effectLst>
              <a:outerShdw dist="107932" dir="2700000" blurRad="0" rotWithShape="0">
                <a:srgbClr val="cecec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Book Antiqua"/>
                </a:rPr>
                <a:t>H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1894320" y="5050800"/>
              <a:ext cx="30240" cy="127440"/>
            </a:xfrm>
            <a:prstGeom prst="line">
              <a:avLst/>
            </a:prstGeom>
            <a:ln w="2556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5353200" y="1533600"/>
            <a:ext cx="596880" cy="590400"/>
            <a:chOff x="5353200" y="1533600"/>
            <a:chExt cx="596880" cy="590400"/>
          </a:xfrm>
        </p:grpSpPr>
        <p:sp>
          <p:nvSpPr>
            <p:cNvPr id="317" name=""/>
            <p:cNvSpPr/>
            <p:nvPr/>
          </p:nvSpPr>
          <p:spPr>
            <a:xfrm>
              <a:off x="5353200" y="1533600"/>
              <a:ext cx="596880" cy="442800"/>
            </a:xfrm>
            <a:prstGeom prst="rect">
              <a:avLst/>
            </a:prstGeom>
            <a:solidFill>
              <a:srgbClr val="3365fb"/>
            </a:solidFill>
            <a:ln w="12600">
              <a:solidFill>
                <a:srgbClr val="3365fb"/>
              </a:solidFill>
              <a:miter/>
            </a:ln>
            <a:effectLst>
              <a:outerShdw dist="107932" dir="2700000" blurRad="0" rotWithShape="0">
                <a:srgbClr val="cecec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Book Antiqua"/>
                </a:rPr>
                <a:t>H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5634000" y="1997280"/>
              <a:ext cx="30240" cy="126720"/>
            </a:xfrm>
            <a:prstGeom prst="line">
              <a:avLst/>
            </a:prstGeom>
            <a:ln w="2556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4361040" y="1533600"/>
            <a:ext cx="596880" cy="590400"/>
            <a:chOff x="4361040" y="1533600"/>
            <a:chExt cx="596880" cy="590400"/>
          </a:xfrm>
        </p:grpSpPr>
        <p:sp>
          <p:nvSpPr>
            <p:cNvPr id="320" name=""/>
            <p:cNvSpPr/>
            <p:nvPr/>
          </p:nvSpPr>
          <p:spPr>
            <a:xfrm>
              <a:off x="4361040" y="1533600"/>
              <a:ext cx="596880" cy="442800"/>
            </a:xfrm>
            <a:prstGeom prst="rect">
              <a:avLst/>
            </a:prstGeom>
            <a:solidFill>
              <a:srgbClr val="3365fb"/>
            </a:solidFill>
            <a:ln w="12600">
              <a:solidFill>
                <a:srgbClr val="3365fb"/>
              </a:solidFill>
              <a:miter/>
            </a:ln>
            <a:effectLst>
              <a:outerShdw dist="107932" dir="2700000" blurRad="0" rotWithShape="0">
                <a:srgbClr val="cecec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Book Antiqua"/>
                </a:rPr>
                <a:t>H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4641840" y="1997280"/>
              <a:ext cx="30240" cy="126720"/>
            </a:xfrm>
            <a:prstGeom prst="line">
              <a:avLst/>
            </a:prstGeom>
            <a:ln w="2556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6716880" y="3803400"/>
            <a:ext cx="596880" cy="617400"/>
            <a:chOff x="6716880" y="3803400"/>
            <a:chExt cx="596880" cy="617400"/>
          </a:xfrm>
        </p:grpSpPr>
        <p:sp>
          <p:nvSpPr>
            <p:cNvPr id="323" name=""/>
            <p:cNvSpPr/>
            <p:nvPr/>
          </p:nvSpPr>
          <p:spPr>
            <a:xfrm>
              <a:off x="6716880" y="3975480"/>
              <a:ext cx="596880" cy="445320"/>
            </a:xfrm>
            <a:prstGeom prst="rect">
              <a:avLst/>
            </a:prstGeom>
            <a:solidFill>
              <a:srgbClr val="3365fb"/>
            </a:solidFill>
            <a:ln w="12600">
              <a:solidFill>
                <a:srgbClr val="3365fb"/>
              </a:solidFill>
              <a:miter/>
            </a:ln>
            <a:effectLst>
              <a:outerShdw dist="107932" dir="2700000" blurRad="0" rotWithShape="0">
                <a:srgbClr val="cecec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Book Antiqua"/>
                </a:rPr>
                <a:t>H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7017120" y="3803400"/>
              <a:ext cx="2880" cy="178200"/>
            </a:xfrm>
            <a:prstGeom prst="line">
              <a:avLst/>
            </a:prstGeom>
            <a:ln w="2556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Internet Service Providers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96480" y="19843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 Internet services to customer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mary task is providing connectivity between networ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Ps can provide service on multiple scal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: e.g. aggregate the traffic of smaller busin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onal: next level of aggreg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tional and Internation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d-point travel may be handled by several ISPs on its way to its destina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 its way up a hierarchy (local, …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fer between ISPs at the sam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 source ISP does not destin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Access Networks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96480" y="19843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268560" indent="-26856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rt communication between hosts in the same local area or provide access path to the wide-area networks (ISPs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ministratively and technology-wise typically quite different from ISP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ology exploits the smaller physical distances and high concentration of hos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ordination is easier if propagation delays are 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 concentration of hosts can simplify wiring and protoc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 networks often combine a group of host that are part of the same organiza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act on administration, security, charging policies, 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Network Access Points</a:t>
            </a:r>
            <a:br>
              <a:rPr sz="3600"/>
            </a:b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NAPs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96480" y="19843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cations where major ISP connect their networks so they can easily exchange traffic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quipment is often co-loca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ten located in major metropolitan area so it can also provide network access to a large number of customer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ministrative arrangements between ISPs are often bilateral in natur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Ps A and B agree to support certain routes and certain amounts of traffic for each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ter set up has to match these agree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Outline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96480" y="19843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ocol stack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 technologi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Internet protoco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port protocol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lity of servic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ing research at Carnegie Mell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Core Network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96480" y="17524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262800" indent="-26280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networks are switch-bas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800" indent="-26280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itches are high-end router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-21024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nected by the “fattest” pipes that are technically feasible and commercially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800" indent="-26280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ks consist of single-mode optical fibe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-21024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ten use wavelength division multiplexing to send multiple channels (colors) over the fib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-21024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ate of single channel matches the highest port speed of electronic switches (e.g. 622 Mbs, 2.4 Gb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800" indent="-26280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uting through the backbone is primarily driven by policies and not so much by efficienc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-21024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iness arrangements and other polic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-21024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on this la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5181480" y="4038480"/>
            <a:ext cx="990720" cy="1143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543800" y="4038480"/>
            <a:ext cx="990720" cy="1143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543800" y="2666880"/>
            <a:ext cx="990720" cy="1143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181480" y="2666880"/>
            <a:ext cx="990720" cy="1143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Router Architecture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495680" cy="44956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 fontScale="95000"/>
          </a:bodyPr>
          <a:p>
            <a:pPr marL="271440" indent="-2714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s in packets in one interface and has to forward them to an output interface based on the addres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-21708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ig interse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-21708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me idea for bridges, switches, routers: address look up diffe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rol processor manages the switch and executes higher level protocol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-21708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routing, management, 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witch fabric directs the traffic to the right output por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input and output ports deal with transmission and reception of packet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248520" y="2666880"/>
            <a:ext cx="1218960" cy="251460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ab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257800" y="2743200"/>
            <a:ext cx="838080" cy="4572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257800" y="3276720"/>
            <a:ext cx="838080" cy="4572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257800" y="4114800"/>
            <a:ext cx="838080" cy="4572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257800" y="4648320"/>
            <a:ext cx="838080" cy="4572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620120" y="2743200"/>
            <a:ext cx="838080" cy="4572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620120" y="3276720"/>
            <a:ext cx="838080" cy="4572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620120" y="4114800"/>
            <a:ext cx="838080" cy="4572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620120" y="4648320"/>
            <a:ext cx="838080" cy="4572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952880" y="29718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952880" y="44197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952880" y="48769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952880" y="35053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458200" y="29718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458200" y="44197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8458200" y="48769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458200" y="35053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48520" y="1981080"/>
            <a:ext cx="1218960" cy="609840"/>
          </a:xfrm>
          <a:prstGeom prst="rect">
            <a:avLst/>
          </a:prstGeom>
          <a:solidFill>
            <a:srgbClr val="fe9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oces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Access Networks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6480" y="19843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cal area networks (LAN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oadcast bas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itch bas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 from the hom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reless network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Ethernet </a:t>
            </a:r>
            <a:br>
              <a:rPr sz="3600"/>
            </a:b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IEEE 802.3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60" name=""/>
          <p:cNvSpPr/>
          <p:nvPr/>
        </p:nvSpPr>
        <p:spPr>
          <a:xfrm>
            <a:off x="914400" y="1600200"/>
            <a:ext cx="731520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343080" indent="-343080">
              <a:lnSpc>
                <a:spcPct val="97000"/>
              </a:lnSpc>
              <a:spcBef>
                <a:spcPts val="29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oadcast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15480" y="3200400"/>
            <a:ext cx="716292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25720" indent="-225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rybody “hears” the packet but only receiver accepts i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036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cept for broadcast and multicast packe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720" indent="-225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rier-sense multiple access with collision detection (CSMA/CD)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036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st sense for signal on cable before they transm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036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sts check for “collisions”, multiple packets that are on the wire at the same t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036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case of contention, hosts wait for random amount of time to (re)transm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838080" y="2895480"/>
            <a:ext cx="3733920" cy="0"/>
          </a:xfrm>
          <a:prstGeom prst="line">
            <a:avLst/>
          </a:prstGeom>
          <a:ln w="763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110960" y="2387520"/>
            <a:ext cx="610560" cy="2844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409760" y="2679840"/>
            <a:ext cx="0" cy="21564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025360" y="2387520"/>
            <a:ext cx="610560" cy="2844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324160" y="2679840"/>
            <a:ext cx="0" cy="21564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939760" y="2387520"/>
            <a:ext cx="610560" cy="2844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238560" y="2679840"/>
            <a:ext cx="0" cy="21564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854160" y="2387520"/>
            <a:ext cx="610560" cy="2844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152960" y="2679840"/>
            <a:ext cx="0" cy="21564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257440" y="1752480"/>
            <a:ext cx="610560" cy="2844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556240" y="2044800"/>
            <a:ext cx="1149480" cy="7747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171840" y="1752480"/>
            <a:ext cx="610560" cy="2844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470640" y="2044800"/>
            <a:ext cx="311040" cy="7747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086240" y="1752480"/>
            <a:ext cx="610560" cy="2844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7009920" y="2044800"/>
            <a:ext cx="374760" cy="85068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000640" y="1752480"/>
            <a:ext cx="610560" cy="2844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7009920" y="2044800"/>
            <a:ext cx="1289160" cy="85068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629040" y="2743200"/>
            <a:ext cx="572400" cy="2844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Bridges and Switches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96840" y="1599840"/>
            <a:ext cx="7385040" cy="182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222840" indent="-2228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idge keeps track of the source address of every packet on every link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600" indent="-1782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s this information to learn what segment hosts are 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wards packets only on segment of destination hos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600" indent="-1782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haves like a switc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600" indent="-1782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adcast packets are still forwarded everywhe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600" indent="-1782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creases aggregate bandwidth of the network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eme case: one host per segment - Ethernet swit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800600" y="4896000"/>
            <a:ext cx="2438280" cy="0"/>
          </a:xfrm>
          <a:prstGeom prst="line">
            <a:avLst/>
          </a:prstGeom>
          <a:ln w="763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949040" y="4381560"/>
            <a:ext cx="610560" cy="2844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247840" y="4673520"/>
            <a:ext cx="0" cy="21600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863440" y="4381560"/>
            <a:ext cx="610560" cy="284400"/>
          </a:xfrm>
          <a:prstGeom prst="rect">
            <a:avLst/>
          </a:prstGeom>
          <a:solidFill>
            <a:srgbClr val="fe9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162240" y="4673520"/>
            <a:ext cx="0" cy="21600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777840" y="4381560"/>
            <a:ext cx="610560" cy="2844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076640" y="4673520"/>
            <a:ext cx="0" cy="21600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692240" y="4381560"/>
            <a:ext cx="610560" cy="2844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91040" y="4673520"/>
            <a:ext cx="0" cy="21600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606640" y="4381560"/>
            <a:ext cx="610560" cy="2844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905440" y="4673520"/>
            <a:ext cx="0" cy="21600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800600" y="5962680"/>
            <a:ext cx="2438280" cy="0"/>
          </a:xfrm>
          <a:prstGeom prst="line">
            <a:avLst/>
          </a:prstGeom>
          <a:ln w="763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949040" y="6192720"/>
            <a:ext cx="610560" cy="28440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247840" y="5969160"/>
            <a:ext cx="0" cy="21564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863440" y="6192720"/>
            <a:ext cx="610560" cy="2844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162240" y="5969160"/>
            <a:ext cx="0" cy="21564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777840" y="6192720"/>
            <a:ext cx="610560" cy="284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076640" y="5969160"/>
            <a:ext cx="0" cy="21564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692240" y="6192720"/>
            <a:ext cx="610560" cy="2844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991040" y="5969160"/>
            <a:ext cx="0" cy="21564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606640" y="6192720"/>
            <a:ext cx="610560" cy="2844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905440" y="5969160"/>
            <a:ext cx="0" cy="21564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552720" y="4379760"/>
            <a:ext cx="610560" cy="2844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51520" y="4672080"/>
            <a:ext cx="0" cy="21600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552720" y="6191280"/>
            <a:ext cx="610560" cy="2844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851520" y="5967360"/>
            <a:ext cx="0" cy="21600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905120" y="5962680"/>
            <a:ext cx="2438280" cy="0"/>
          </a:xfrm>
          <a:prstGeom prst="line">
            <a:avLst/>
          </a:prstGeom>
          <a:ln w="763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905120" y="4896000"/>
            <a:ext cx="2438280" cy="0"/>
          </a:xfrm>
          <a:prstGeom prst="line">
            <a:avLst/>
          </a:prstGeom>
          <a:ln w="763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343400" y="4896000"/>
            <a:ext cx="0" cy="1066680"/>
          </a:xfrm>
          <a:prstGeom prst="line">
            <a:avLst/>
          </a:prstGeom>
          <a:ln w="763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800600" y="4896000"/>
            <a:ext cx="0" cy="1066680"/>
          </a:xfrm>
          <a:prstGeom prst="line">
            <a:avLst/>
          </a:prstGeom>
          <a:ln w="763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114800" y="5124600"/>
            <a:ext cx="914400" cy="60948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IEEE 802 Networks:</a:t>
            </a:r>
            <a:br>
              <a:rPr sz="3600"/>
            </a:b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MAC in the LAN and MAN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996480" y="19843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on addressing at MAC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ed on 48 bit IEEE addr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02.3 (Etherne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02.5 (Token ring)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DD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ken-based media access contr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02.6 (Distributed queue dual bus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ervation-based access contr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T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Ethernet: 100 Mbit/secon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gabit Ethernet: 1000 Mbit/secon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Why Ethernet?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96480" y="17524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45520" indent="-245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manag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9680" indent="-19656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plug in the host and it basically wor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9680" indent="-19656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configuration at the datalink lay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5520" indent="-245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oadcast-bas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9680" indent="-19656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part explains the easy manag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9680" indent="-19656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of the LAN protocols (e.g. ARP) rely on broadca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ing would be harder without AR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9680" indent="-19656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having natural broadcast capabilities adds a lot of complexity to a L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 AT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5520" indent="-245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wback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9680" indent="-19656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oadcast-based: limits bandwidth since each packets consumes the bandwidth of the entire netwo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9680" indent="-19656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Ethernet switches reduce impact of this probl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Physical Layer </a:t>
            </a:r>
            <a:br>
              <a:rPr sz="3600"/>
            </a:b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in the LAN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418" name=""/>
          <p:cNvSpPr/>
          <p:nvPr/>
        </p:nvSpPr>
        <p:spPr>
          <a:xfrm>
            <a:off x="221040" y="1649520"/>
            <a:ext cx="8684640" cy="50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Transmit/receiv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a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Com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pp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1000BASE-C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5 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machine room 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isted pai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1000BASE-T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 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not yet defined; cos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:4 pairs of UTP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M fiber 62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1000BASE-S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60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0BASE-L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0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M fiber 50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1000BASE-S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25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0BASE-L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50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M fib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1000BASE-L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00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isted pai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100BASE-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 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2p of UTP5/2-4p of UTP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M fib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100BASE-S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00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 rot="16200000">
            <a:off x="7039080" y="2836440"/>
            <a:ext cx="685800" cy="1219320"/>
          </a:xfrm>
          <a:prstGeom prst="ellipse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oor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6770520" y="4932000"/>
            <a:ext cx="1219320" cy="685800"/>
            <a:chOff x="6770520" y="4932000"/>
            <a:chExt cx="1219320" cy="685800"/>
          </a:xfrm>
        </p:grpSpPr>
        <p:sp>
          <p:nvSpPr>
            <p:cNvPr id="421" name=""/>
            <p:cNvSpPr/>
            <p:nvPr/>
          </p:nvSpPr>
          <p:spPr>
            <a:xfrm rot="16200000">
              <a:off x="7037280" y="4665240"/>
              <a:ext cx="685800" cy="1219320"/>
            </a:xfrm>
            <a:prstGeom prst="ellipse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917400" y="5076720"/>
              <a:ext cx="92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loor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6770520" y="4017600"/>
            <a:ext cx="1219320" cy="685800"/>
            <a:chOff x="6770520" y="4017600"/>
            <a:chExt cx="1219320" cy="685800"/>
          </a:xfrm>
        </p:grpSpPr>
        <p:sp>
          <p:nvSpPr>
            <p:cNvPr id="424" name=""/>
            <p:cNvSpPr/>
            <p:nvPr/>
          </p:nvSpPr>
          <p:spPr>
            <a:xfrm rot="16200000">
              <a:off x="7037280" y="3750840"/>
              <a:ext cx="685800" cy="1219320"/>
            </a:xfrm>
            <a:prstGeom prst="ellipse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933240" y="4162320"/>
              <a:ext cx="92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loor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6770520" y="2188800"/>
            <a:ext cx="1219320" cy="685800"/>
            <a:chOff x="6770520" y="2188800"/>
            <a:chExt cx="1219320" cy="685800"/>
          </a:xfrm>
        </p:grpSpPr>
        <p:sp>
          <p:nvSpPr>
            <p:cNvPr id="427" name=""/>
            <p:cNvSpPr/>
            <p:nvPr/>
          </p:nvSpPr>
          <p:spPr>
            <a:xfrm rot="16200000">
              <a:off x="7037280" y="1922040"/>
              <a:ext cx="685800" cy="1219320"/>
            </a:xfrm>
            <a:prstGeom prst="ellipse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917400" y="2333520"/>
              <a:ext cx="92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loor 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Example LAN </a:t>
            </a:r>
            <a:br>
              <a:rPr sz="3600"/>
            </a:b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Configuration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4496040" cy="434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80080" indent="-28008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or 100 Mbit/second connectivity to the desk top using switch or hubs in wiring closet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0 or 1000 Mbit/second switch fabric between wiring closets or floor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simplified by having wiring based on star topology with wiring closet in the cente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twork manager can manage capacity in two ways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eed of individual lin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ub/bridge/switch tradeoff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6608880" y="5160600"/>
            <a:ext cx="228600" cy="2286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rot="16200000">
            <a:off x="6608880" y="4246200"/>
            <a:ext cx="228600" cy="2286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rot="16200000">
            <a:off x="6608880" y="3331800"/>
            <a:ext cx="228600" cy="2286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6608880" y="2417400"/>
            <a:ext cx="228600" cy="2286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rot="16200000">
            <a:off x="5808600" y="4703400"/>
            <a:ext cx="228600" cy="2286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808600" y="2874600"/>
            <a:ext cx="228600" cy="2286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 flipV="1">
            <a:off x="5884920" y="4779720"/>
            <a:ext cx="838080" cy="53316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H="1" flipV="1">
            <a:off x="5884920" y="2950920"/>
            <a:ext cx="838080" cy="53316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H="1">
            <a:off x="5884560" y="4322880"/>
            <a:ext cx="762120" cy="45720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5884560" y="2494080"/>
            <a:ext cx="762120" cy="45720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5884920" y="3026880"/>
            <a:ext cx="0" cy="175284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Connectivity to the Home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96480" y="19843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m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D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S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ble mode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4120" y="2666880"/>
            <a:ext cx="2361960" cy="2286000"/>
          </a:xfrm>
          <a:prstGeom prst="cloudCallout">
            <a:avLst>
              <a:gd name="adj1" fmla="val 1546"/>
              <a:gd name="adj2" fmla="val 14791"/>
            </a:avLst>
          </a:prstGeom>
          <a:solidFill>
            <a:srgbClr val="c1c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Example: Web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6480" y="198432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r clicks on URL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b browser sends a message to the web serve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ver retrieves file specified in request and sends it as a message to the browse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owser interprets the file and displays it on the browse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952880" y="2438280"/>
            <a:ext cx="1219320" cy="7621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row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162920" y="4114800"/>
            <a:ext cx="1295280" cy="76212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248520" y="3048120"/>
            <a:ext cx="990360" cy="99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19920" y="3276720"/>
            <a:ext cx="990360" cy="99036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Modems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7162920" cy="228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3000"/>
          </a:bodyPr>
          <a:p>
            <a:pPr marL="208440" indent="-2084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m offers a bit stream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0400" indent="-16668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ggressive signal processing has dramatically increased the available throughput - beats the Nyquist limit!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440" indent="-2084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P: Serial Line IP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0400" indent="-16668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tocol to sent IP packets with minimum fram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0400" indent="-16668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cks authentication, error detection, non-IP support, 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440" indent="-2084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PP: Point-to-Point Packet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0400" indent="-16668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tter framing, error control, and testing suppor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0400" indent="-16668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negotiate choice of higher layer protocols, IP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0400" indent="-16668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support unreliable and reliable transmis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981080" y="5791320"/>
            <a:ext cx="381240" cy="15228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066680" y="4800600"/>
            <a:ext cx="685800" cy="60948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705720" y="4648320"/>
            <a:ext cx="1447560" cy="1752480"/>
          </a:xfrm>
          <a:prstGeom prst="rect">
            <a:avLst/>
          </a:prstGeom>
          <a:solidFill>
            <a:srgbClr val="cecece"/>
          </a:solidFill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d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a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781680" y="5257800"/>
            <a:ext cx="381240" cy="15228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781680" y="5486400"/>
            <a:ext cx="381240" cy="15228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781680" y="5715000"/>
            <a:ext cx="381240" cy="15228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781680" y="5943600"/>
            <a:ext cx="381240" cy="15228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781680" y="6172200"/>
            <a:ext cx="381240" cy="15228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238880" y="5257800"/>
            <a:ext cx="381240" cy="15228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238880" y="5486400"/>
            <a:ext cx="381240" cy="15228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238880" y="5715000"/>
            <a:ext cx="381240" cy="15228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238880" y="5943600"/>
            <a:ext cx="381240" cy="15228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238880" y="6172200"/>
            <a:ext cx="381240" cy="15228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696080" y="5257800"/>
            <a:ext cx="381240" cy="15228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696080" y="5486400"/>
            <a:ext cx="381240" cy="15228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696080" y="5715000"/>
            <a:ext cx="381240" cy="15228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696080" y="5943600"/>
            <a:ext cx="381240" cy="15228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696080" y="6172200"/>
            <a:ext cx="381240" cy="15228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362320" y="5867280"/>
            <a:ext cx="4343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276720" y="5257800"/>
            <a:ext cx="2133360" cy="1295280"/>
          </a:xfrm>
          <a:prstGeom prst="cloudCallout">
            <a:avLst>
              <a:gd name="adj1" fmla="val -1486"/>
              <a:gd name="adj2" fmla="val -2694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657600" y="5572080"/>
            <a:ext cx="14684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le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371600" y="5410080"/>
            <a:ext cx="609480" cy="457200"/>
          </a:xfrm>
          <a:custGeom>
            <a:avLst/>
            <a:gdLst/>
            <a:ahLst/>
            <a:rect l="l" t="t" r="r" b="b"/>
            <a:pathLst>
              <a:path w="384" h="288">
                <a:moveTo>
                  <a:pt x="0" y="0"/>
                </a:moveTo>
                <a:lnTo>
                  <a:pt x="0" y="288"/>
                </a:lnTo>
                <a:lnTo>
                  <a:pt x="384" y="288"/>
                </a:lnTo>
              </a:path>
            </a:pathLst>
          </a:custGeom>
          <a:noFill/>
          <a:ln w="5076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752480" y="5029200"/>
            <a:ext cx="495324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8153280" y="5867280"/>
            <a:ext cx="5335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Integrated Services Digital Network (ISDN)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996480" y="1984320"/>
            <a:ext cx="7162920" cy="213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DN integrates voice and data servic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s a set of bit pipes that can be used for voice, data, signaling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lemented by using time multiplex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sic rate ISDN offers to 64Kbs data bit pipes and one 16 Kbs signaling channel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066680" y="4495680"/>
            <a:ext cx="685800" cy="60984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705720" y="4343400"/>
            <a:ext cx="1447560" cy="1752480"/>
          </a:xfrm>
          <a:prstGeom prst="rect">
            <a:avLst/>
          </a:prstGeom>
          <a:solidFill>
            <a:srgbClr val="cecece"/>
          </a:solidFill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SD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362320" y="5562720"/>
            <a:ext cx="4343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276720" y="4952880"/>
            <a:ext cx="2133360" cy="1295640"/>
          </a:xfrm>
          <a:prstGeom prst="cloudCallout">
            <a:avLst>
              <a:gd name="adj1" fmla="val -1486"/>
              <a:gd name="adj2" fmla="val 3185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657600" y="5267160"/>
            <a:ext cx="14684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le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371600" y="5105520"/>
            <a:ext cx="609480" cy="457200"/>
          </a:xfrm>
          <a:custGeom>
            <a:avLst/>
            <a:gdLst/>
            <a:ahLst/>
            <a:rect l="l" t="t" r="r" b="b"/>
            <a:pathLst>
              <a:path w="384" h="288">
                <a:moveTo>
                  <a:pt x="0" y="0"/>
                </a:moveTo>
                <a:lnTo>
                  <a:pt x="0" y="288"/>
                </a:lnTo>
                <a:lnTo>
                  <a:pt x="384" y="288"/>
                </a:lnTo>
              </a:path>
            </a:pathLst>
          </a:custGeom>
          <a:noFill/>
          <a:ln w="5076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752480" y="4724280"/>
            <a:ext cx="495324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153280" y="5562720"/>
            <a:ext cx="5335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600200" y="5257800"/>
            <a:ext cx="1295280" cy="990720"/>
          </a:xfrm>
          <a:prstGeom prst="rect">
            <a:avLst/>
          </a:prstGeom>
          <a:solidFill>
            <a:srgbClr val="cecece"/>
          </a:solidFill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ubl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0880" y="5410080"/>
            <a:ext cx="685800" cy="38124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h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80880" y="5867280"/>
            <a:ext cx="685800" cy="38124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066680" y="5715000"/>
            <a:ext cx="533520" cy="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066680" y="6019920"/>
            <a:ext cx="533520" cy="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Digital Subscriber Line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996480" y="1676520"/>
            <a:ext cx="7162920" cy="2587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queeze more bandwidth out of the telephone line using advanced signal processing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ymmetric digital subscriber line (ADSL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re “download” bandwidth, e.g. video on demand or web surf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ple: T1 incoming path, 64 Kbs outgoing pat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Symmetric) digital subscriber line (DSL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me bandwidth both ways, e.g. 768 Kb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066680" y="4572000"/>
            <a:ext cx="685800" cy="60948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705720" y="4419720"/>
            <a:ext cx="1447560" cy="1752480"/>
          </a:xfrm>
          <a:prstGeom prst="rect">
            <a:avLst/>
          </a:prstGeom>
          <a:solidFill>
            <a:srgbClr val="cecece"/>
          </a:solidFill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S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362320" y="5638680"/>
            <a:ext cx="4343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505320" y="5029200"/>
            <a:ext cx="2133360" cy="1295280"/>
          </a:xfrm>
          <a:prstGeom prst="cloudCallout">
            <a:avLst>
              <a:gd name="adj1" fmla="val -5060"/>
              <a:gd name="adj2" fmla="val -2694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886200" y="5343480"/>
            <a:ext cx="14684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le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371600" y="5181480"/>
            <a:ext cx="609480" cy="457200"/>
          </a:xfrm>
          <a:custGeom>
            <a:avLst/>
            <a:gdLst/>
            <a:ahLst/>
            <a:rect l="l" t="t" r="r" b="b"/>
            <a:pathLst>
              <a:path w="384" h="288">
                <a:moveTo>
                  <a:pt x="0" y="0"/>
                </a:moveTo>
                <a:lnTo>
                  <a:pt x="0" y="288"/>
                </a:lnTo>
                <a:lnTo>
                  <a:pt x="384" y="288"/>
                </a:lnTo>
              </a:path>
            </a:pathLst>
          </a:custGeom>
          <a:noFill/>
          <a:ln w="5076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752480" y="4800600"/>
            <a:ext cx="495324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153280" y="5638680"/>
            <a:ext cx="5335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676520" y="5334120"/>
            <a:ext cx="1523880" cy="990360"/>
          </a:xfrm>
          <a:prstGeom prst="rect">
            <a:avLst/>
          </a:prstGeom>
          <a:solidFill>
            <a:srgbClr val="cecece"/>
          </a:solidFill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S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bscri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57200" y="5638680"/>
            <a:ext cx="685800" cy="38124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h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143000" y="5943600"/>
            <a:ext cx="533520" cy="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Cable Modem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96480" y="17524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cable infrastructure for data servic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herently has more bandwidt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last mile is a shared infrastructure that was designed for broadcasting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aning: the bandwidth is shared by use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ple: 27 Mbs shared incoming path; 768 Kbs common outgoing pat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89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2590920" y="4267080"/>
            <a:ext cx="4876560" cy="533520"/>
            <a:chOff x="2590920" y="4267080"/>
            <a:chExt cx="4876560" cy="533520"/>
          </a:xfrm>
        </p:grpSpPr>
        <p:sp>
          <p:nvSpPr>
            <p:cNvPr id="501" name=""/>
            <p:cNvSpPr/>
            <p:nvPr/>
          </p:nvSpPr>
          <p:spPr>
            <a:xfrm>
              <a:off x="2590920" y="4800600"/>
              <a:ext cx="4876560" cy="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124080" y="4572000"/>
              <a:ext cx="0" cy="228600"/>
            </a:xfrm>
            <a:prstGeom prst="line">
              <a:avLst/>
            </a:prstGeom>
            <a:ln w="2844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886200" y="4572000"/>
              <a:ext cx="0" cy="228600"/>
            </a:xfrm>
            <a:prstGeom prst="line">
              <a:avLst/>
            </a:prstGeom>
            <a:ln w="2844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648320" y="4572000"/>
              <a:ext cx="0" cy="228600"/>
            </a:xfrm>
            <a:prstGeom prst="line">
              <a:avLst/>
            </a:prstGeom>
            <a:ln w="2844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410080" y="4572000"/>
              <a:ext cx="0" cy="228600"/>
            </a:xfrm>
            <a:prstGeom prst="line">
              <a:avLst/>
            </a:prstGeom>
            <a:ln w="2844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172200" y="4572000"/>
              <a:ext cx="0" cy="228600"/>
            </a:xfrm>
            <a:prstGeom prst="line">
              <a:avLst/>
            </a:prstGeom>
            <a:ln w="2844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934320" y="4572000"/>
              <a:ext cx="0" cy="228600"/>
            </a:xfrm>
            <a:prstGeom prst="line">
              <a:avLst/>
            </a:prstGeom>
            <a:ln w="2844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2895480" y="4267080"/>
              <a:ext cx="457200" cy="304920"/>
              <a:chOff x="2895480" y="4267080"/>
              <a:chExt cx="457200" cy="304920"/>
            </a:xfrm>
          </p:grpSpPr>
          <p:sp>
            <p:nvSpPr>
              <p:cNvPr id="509" name=""/>
              <p:cNvSpPr/>
              <p:nvPr/>
            </p:nvSpPr>
            <p:spPr>
              <a:xfrm>
                <a:off x="2895480" y="4419720"/>
                <a:ext cx="457200" cy="152280"/>
              </a:xfrm>
              <a:prstGeom prst="rect">
                <a:avLst/>
              </a:prstGeom>
              <a:solidFill>
                <a:srgbClr val="fe9b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2895480" y="4267080"/>
                <a:ext cx="457200" cy="152640"/>
              </a:xfrm>
              <a:custGeom>
                <a:avLst/>
                <a:gdLst/>
                <a:ahLst/>
                <a:rect l="l" t="t" r="r" b="b"/>
                <a:pathLst>
                  <a:path w="288" h="96">
                    <a:moveTo>
                      <a:pt x="0" y="96"/>
                    </a:moveTo>
                    <a:lnTo>
                      <a:pt x="96" y="0"/>
                    </a:lnTo>
                    <a:lnTo>
                      <a:pt x="192" y="0"/>
                    </a:lnTo>
                    <a:lnTo>
                      <a:pt x="288" y="96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1" name=""/>
            <p:cNvGrpSpPr/>
            <p:nvPr/>
          </p:nvGrpSpPr>
          <p:grpSpPr>
            <a:xfrm>
              <a:off x="3657600" y="4267080"/>
              <a:ext cx="457200" cy="304920"/>
              <a:chOff x="3657600" y="4267080"/>
              <a:chExt cx="457200" cy="304920"/>
            </a:xfrm>
          </p:grpSpPr>
          <p:sp>
            <p:nvSpPr>
              <p:cNvPr id="512" name=""/>
              <p:cNvSpPr/>
              <p:nvPr/>
            </p:nvSpPr>
            <p:spPr>
              <a:xfrm>
                <a:off x="3657600" y="4419720"/>
                <a:ext cx="457200" cy="152280"/>
              </a:xfrm>
              <a:prstGeom prst="rect">
                <a:avLst/>
              </a:prstGeom>
              <a:solidFill>
                <a:srgbClr val="fe9b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657600" y="4267080"/>
                <a:ext cx="457200" cy="152640"/>
              </a:xfrm>
              <a:custGeom>
                <a:avLst/>
                <a:gdLst/>
                <a:ahLst/>
                <a:rect l="l" t="t" r="r" b="b"/>
                <a:pathLst>
                  <a:path w="288" h="96">
                    <a:moveTo>
                      <a:pt x="0" y="96"/>
                    </a:moveTo>
                    <a:lnTo>
                      <a:pt x="96" y="0"/>
                    </a:lnTo>
                    <a:lnTo>
                      <a:pt x="192" y="0"/>
                    </a:lnTo>
                    <a:lnTo>
                      <a:pt x="288" y="96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4" name=""/>
            <p:cNvGrpSpPr/>
            <p:nvPr/>
          </p:nvGrpSpPr>
          <p:grpSpPr>
            <a:xfrm>
              <a:off x="4419720" y="4267080"/>
              <a:ext cx="457200" cy="304920"/>
              <a:chOff x="4419720" y="4267080"/>
              <a:chExt cx="457200" cy="304920"/>
            </a:xfrm>
          </p:grpSpPr>
          <p:sp>
            <p:nvSpPr>
              <p:cNvPr id="515" name=""/>
              <p:cNvSpPr/>
              <p:nvPr/>
            </p:nvSpPr>
            <p:spPr>
              <a:xfrm>
                <a:off x="4419720" y="4419720"/>
                <a:ext cx="457200" cy="152280"/>
              </a:xfrm>
              <a:prstGeom prst="rect">
                <a:avLst/>
              </a:prstGeom>
              <a:solidFill>
                <a:srgbClr val="fe9b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419720" y="4267080"/>
                <a:ext cx="457200" cy="152640"/>
              </a:xfrm>
              <a:custGeom>
                <a:avLst/>
                <a:gdLst/>
                <a:ahLst/>
                <a:rect l="l" t="t" r="r" b="b"/>
                <a:pathLst>
                  <a:path w="288" h="96">
                    <a:moveTo>
                      <a:pt x="0" y="96"/>
                    </a:moveTo>
                    <a:lnTo>
                      <a:pt x="96" y="0"/>
                    </a:lnTo>
                    <a:lnTo>
                      <a:pt x="192" y="0"/>
                    </a:lnTo>
                    <a:lnTo>
                      <a:pt x="288" y="96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5181480" y="4267080"/>
              <a:ext cx="457200" cy="304920"/>
              <a:chOff x="5181480" y="4267080"/>
              <a:chExt cx="457200" cy="304920"/>
            </a:xfrm>
          </p:grpSpPr>
          <p:sp>
            <p:nvSpPr>
              <p:cNvPr id="518" name=""/>
              <p:cNvSpPr/>
              <p:nvPr/>
            </p:nvSpPr>
            <p:spPr>
              <a:xfrm>
                <a:off x="5181480" y="4419720"/>
                <a:ext cx="457200" cy="152280"/>
              </a:xfrm>
              <a:prstGeom prst="rect">
                <a:avLst/>
              </a:prstGeom>
              <a:solidFill>
                <a:srgbClr val="fe9b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181480" y="4267080"/>
                <a:ext cx="457200" cy="152640"/>
              </a:xfrm>
              <a:custGeom>
                <a:avLst/>
                <a:gdLst/>
                <a:ahLst/>
                <a:rect l="l" t="t" r="r" b="b"/>
                <a:pathLst>
                  <a:path w="288" h="96">
                    <a:moveTo>
                      <a:pt x="0" y="96"/>
                    </a:moveTo>
                    <a:lnTo>
                      <a:pt x="96" y="0"/>
                    </a:lnTo>
                    <a:lnTo>
                      <a:pt x="192" y="0"/>
                    </a:lnTo>
                    <a:lnTo>
                      <a:pt x="288" y="96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0" name=""/>
            <p:cNvGrpSpPr/>
            <p:nvPr/>
          </p:nvGrpSpPr>
          <p:grpSpPr>
            <a:xfrm>
              <a:off x="5943600" y="4267080"/>
              <a:ext cx="457200" cy="304920"/>
              <a:chOff x="5943600" y="4267080"/>
              <a:chExt cx="457200" cy="304920"/>
            </a:xfrm>
          </p:grpSpPr>
          <p:sp>
            <p:nvSpPr>
              <p:cNvPr id="521" name=""/>
              <p:cNvSpPr/>
              <p:nvPr/>
            </p:nvSpPr>
            <p:spPr>
              <a:xfrm>
                <a:off x="5943600" y="4419720"/>
                <a:ext cx="457200" cy="152280"/>
              </a:xfrm>
              <a:prstGeom prst="rect">
                <a:avLst/>
              </a:prstGeom>
              <a:solidFill>
                <a:srgbClr val="fe9b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5943600" y="4267080"/>
                <a:ext cx="457200" cy="152640"/>
              </a:xfrm>
              <a:custGeom>
                <a:avLst/>
                <a:gdLst/>
                <a:ahLst/>
                <a:rect l="l" t="t" r="r" b="b"/>
                <a:pathLst>
                  <a:path w="288" h="96">
                    <a:moveTo>
                      <a:pt x="0" y="96"/>
                    </a:moveTo>
                    <a:lnTo>
                      <a:pt x="96" y="0"/>
                    </a:lnTo>
                    <a:lnTo>
                      <a:pt x="192" y="0"/>
                    </a:lnTo>
                    <a:lnTo>
                      <a:pt x="288" y="96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3" name=""/>
            <p:cNvGrpSpPr/>
            <p:nvPr/>
          </p:nvGrpSpPr>
          <p:grpSpPr>
            <a:xfrm>
              <a:off x="6705720" y="4267080"/>
              <a:ext cx="457200" cy="304920"/>
              <a:chOff x="6705720" y="4267080"/>
              <a:chExt cx="457200" cy="304920"/>
            </a:xfrm>
          </p:grpSpPr>
          <p:sp>
            <p:nvSpPr>
              <p:cNvPr id="524" name=""/>
              <p:cNvSpPr/>
              <p:nvPr/>
            </p:nvSpPr>
            <p:spPr>
              <a:xfrm>
                <a:off x="6705720" y="4419720"/>
                <a:ext cx="457200" cy="152280"/>
              </a:xfrm>
              <a:prstGeom prst="rect">
                <a:avLst/>
              </a:prstGeom>
              <a:solidFill>
                <a:srgbClr val="fe9b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705720" y="4267080"/>
                <a:ext cx="457200" cy="152640"/>
              </a:xfrm>
              <a:custGeom>
                <a:avLst/>
                <a:gdLst/>
                <a:ahLst/>
                <a:rect l="l" t="t" r="r" b="b"/>
                <a:pathLst>
                  <a:path w="288" h="96">
                    <a:moveTo>
                      <a:pt x="0" y="96"/>
                    </a:moveTo>
                    <a:lnTo>
                      <a:pt x="96" y="0"/>
                    </a:lnTo>
                    <a:lnTo>
                      <a:pt x="192" y="0"/>
                    </a:lnTo>
                    <a:lnTo>
                      <a:pt x="288" y="96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6" name=""/>
          <p:cNvGrpSpPr/>
          <p:nvPr/>
        </p:nvGrpSpPr>
        <p:grpSpPr>
          <a:xfrm>
            <a:off x="2590920" y="5029200"/>
            <a:ext cx="4876560" cy="533520"/>
            <a:chOff x="2590920" y="5029200"/>
            <a:chExt cx="4876560" cy="533520"/>
          </a:xfrm>
        </p:grpSpPr>
        <p:sp>
          <p:nvSpPr>
            <p:cNvPr id="527" name=""/>
            <p:cNvSpPr/>
            <p:nvPr/>
          </p:nvSpPr>
          <p:spPr>
            <a:xfrm>
              <a:off x="2590920" y="5562720"/>
              <a:ext cx="4876560" cy="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124080" y="5334120"/>
              <a:ext cx="0" cy="228600"/>
            </a:xfrm>
            <a:prstGeom prst="line">
              <a:avLst/>
            </a:prstGeom>
            <a:ln w="2844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886200" y="5334120"/>
              <a:ext cx="0" cy="228600"/>
            </a:xfrm>
            <a:prstGeom prst="line">
              <a:avLst/>
            </a:prstGeom>
            <a:ln w="2844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648320" y="5334120"/>
              <a:ext cx="0" cy="228600"/>
            </a:xfrm>
            <a:prstGeom prst="line">
              <a:avLst/>
            </a:prstGeom>
            <a:ln w="2844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410080" y="5334120"/>
              <a:ext cx="0" cy="228600"/>
            </a:xfrm>
            <a:prstGeom prst="line">
              <a:avLst/>
            </a:prstGeom>
            <a:ln w="2844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172200" y="5334120"/>
              <a:ext cx="0" cy="228600"/>
            </a:xfrm>
            <a:prstGeom prst="line">
              <a:avLst/>
            </a:prstGeom>
            <a:ln w="2844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934320" y="5334120"/>
              <a:ext cx="0" cy="228600"/>
            </a:xfrm>
            <a:prstGeom prst="line">
              <a:avLst/>
            </a:prstGeom>
            <a:ln w="2844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4" name=""/>
            <p:cNvGrpSpPr/>
            <p:nvPr/>
          </p:nvGrpSpPr>
          <p:grpSpPr>
            <a:xfrm>
              <a:off x="2895480" y="5029200"/>
              <a:ext cx="457200" cy="304920"/>
              <a:chOff x="2895480" y="5029200"/>
              <a:chExt cx="457200" cy="304920"/>
            </a:xfrm>
          </p:grpSpPr>
          <p:sp>
            <p:nvSpPr>
              <p:cNvPr id="535" name=""/>
              <p:cNvSpPr/>
              <p:nvPr/>
            </p:nvSpPr>
            <p:spPr>
              <a:xfrm>
                <a:off x="2895480" y="5181840"/>
                <a:ext cx="457200" cy="152280"/>
              </a:xfrm>
              <a:prstGeom prst="rect">
                <a:avLst/>
              </a:prstGeom>
              <a:solidFill>
                <a:srgbClr val="fe9b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895480" y="5029200"/>
                <a:ext cx="457200" cy="152640"/>
              </a:xfrm>
              <a:custGeom>
                <a:avLst/>
                <a:gdLst/>
                <a:ahLst/>
                <a:rect l="l" t="t" r="r" b="b"/>
                <a:pathLst>
                  <a:path w="288" h="96">
                    <a:moveTo>
                      <a:pt x="0" y="96"/>
                    </a:moveTo>
                    <a:lnTo>
                      <a:pt x="96" y="0"/>
                    </a:lnTo>
                    <a:lnTo>
                      <a:pt x="192" y="0"/>
                    </a:lnTo>
                    <a:lnTo>
                      <a:pt x="288" y="96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7" name=""/>
            <p:cNvGrpSpPr/>
            <p:nvPr/>
          </p:nvGrpSpPr>
          <p:grpSpPr>
            <a:xfrm>
              <a:off x="3657600" y="5029200"/>
              <a:ext cx="457200" cy="304920"/>
              <a:chOff x="3657600" y="5029200"/>
              <a:chExt cx="457200" cy="304920"/>
            </a:xfrm>
          </p:grpSpPr>
          <p:sp>
            <p:nvSpPr>
              <p:cNvPr id="538" name=""/>
              <p:cNvSpPr/>
              <p:nvPr/>
            </p:nvSpPr>
            <p:spPr>
              <a:xfrm>
                <a:off x="3657600" y="5181840"/>
                <a:ext cx="457200" cy="152280"/>
              </a:xfrm>
              <a:prstGeom prst="rect">
                <a:avLst/>
              </a:prstGeom>
              <a:solidFill>
                <a:srgbClr val="fe9b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3657600" y="5029200"/>
                <a:ext cx="457200" cy="152640"/>
              </a:xfrm>
              <a:custGeom>
                <a:avLst/>
                <a:gdLst/>
                <a:ahLst/>
                <a:rect l="l" t="t" r="r" b="b"/>
                <a:pathLst>
                  <a:path w="288" h="96">
                    <a:moveTo>
                      <a:pt x="0" y="96"/>
                    </a:moveTo>
                    <a:lnTo>
                      <a:pt x="96" y="0"/>
                    </a:lnTo>
                    <a:lnTo>
                      <a:pt x="192" y="0"/>
                    </a:lnTo>
                    <a:lnTo>
                      <a:pt x="288" y="96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0" name=""/>
            <p:cNvGrpSpPr/>
            <p:nvPr/>
          </p:nvGrpSpPr>
          <p:grpSpPr>
            <a:xfrm>
              <a:off x="4419720" y="5029200"/>
              <a:ext cx="457200" cy="304920"/>
              <a:chOff x="4419720" y="5029200"/>
              <a:chExt cx="457200" cy="304920"/>
            </a:xfrm>
          </p:grpSpPr>
          <p:sp>
            <p:nvSpPr>
              <p:cNvPr id="541" name=""/>
              <p:cNvSpPr/>
              <p:nvPr/>
            </p:nvSpPr>
            <p:spPr>
              <a:xfrm>
                <a:off x="4419720" y="5181840"/>
                <a:ext cx="457200" cy="152280"/>
              </a:xfrm>
              <a:prstGeom prst="rect">
                <a:avLst/>
              </a:prstGeom>
              <a:solidFill>
                <a:srgbClr val="fe9b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419720" y="5029200"/>
                <a:ext cx="457200" cy="152640"/>
              </a:xfrm>
              <a:custGeom>
                <a:avLst/>
                <a:gdLst/>
                <a:ahLst/>
                <a:rect l="l" t="t" r="r" b="b"/>
                <a:pathLst>
                  <a:path w="288" h="96">
                    <a:moveTo>
                      <a:pt x="0" y="96"/>
                    </a:moveTo>
                    <a:lnTo>
                      <a:pt x="96" y="0"/>
                    </a:lnTo>
                    <a:lnTo>
                      <a:pt x="192" y="0"/>
                    </a:lnTo>
                    <a:lnTo>
                      <a:pt x="288" y="96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3" name=""/>
            <p:cNvGrpSpPr/>
            <p:nvPr/>
          </p:nvGrpSpPr>
          <p:grpSpPr>
            <a:xfrm>
              <a:off x="5181480" y="5029200"/>
              <a:ext cx="457200" cy="304920"/>
              <a:chOff x="5181480" y="5029200"/>
              <a:chExt cx="457200" cy="304920"/>
            </a:xfrm>
          </p:grpSpPr>
          <p:sp>
            <p:nvSpPr>
              <p:cNvPr id="544" name=""/>
              <p:cNvSpPr/>
              <p:nvPr/>
            </p:nvSpPr>
            <p:spPr>
              <a:xfrm>
                <a:off x="5181480" y="5181840"/>
                <a:ext cx="457200" cy="152280"/>
              </a:xfrm>
              <a:prstGeom prst="rect">
                <a:avLst/>
              </a:prstGeom>
              <a:solidFill>
                <a:srgbClr val="fe9b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181480" y="5029200"/>
                <a:ext cx="457200" cy="152640"/>
              </a:xfrm>
              <a:custGeom>
                <a:avLst/>
                <a:gdLst/>
                <a:ahLst/>
                <a:rect l="l" t="t" r="r" b="b"/>
                <a:pathLst>
                  <a:path w="288" h="96">
                    <a:moveTo>
                      <a:pt x="0" y="96"/>
                    </a:moveTo>
                    <a:lnTo>
                      <a:pt x="96" y="0"/>
                    </a:lnTo>
                    <a:lnTo>
                      <a:pt x="192" y="0"/>
                    </a:lnTo>
                    <a:lnTo>
                      <a:pt x="288" y="96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6" name=""/>
            <p:cNvGrpSpPr/>
            <p:nvPr/>
          </p:nvGrpSpPr>
          <p:grpSpPr>
            <a:xfrm>
              <a:off x="5943600" y="5029200"/>
              <a:ext cx="457200" cy="304920"/>
              <a:chOff x="5943600" y="5029200"/>
              <a:chExt cx="457200" cy="304920"/>
            </a:xfrm>
          </p:grpSpPr>
          <p:sp>
            <p:nvSpPr>
              <p:cNvPr id="547" name=""/>
              <p:cNvSpPr/>
              <p:nvPr/>
            </p:nvSpPr>
            <p:spPr>
              <a:xfrm>
                <a:off x="5943600" y="5181840"/>
                <a:ext cx="457200" cy="152280"/>
              </a:xfrm>
              <a:prstGeom prst="rect">
                <a:avLst/>
              </a:prstGeom>
              <a:solidFill>
                <a:srgbClr val="fe9b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943600" y="5029200"/>
                <a:ext cx="457200" cy="152640"/>
              </a:xfrm>
              <a:custGeom>
                <a:avLst/>
                <a:gdLst/>
                <a:ahLst/>
                <a:rect l="l" t="t" r="r" b="b"/>
                <a:pathLst>
                  <a:path w="288" h="96">
                    <a:moveTo>
                      <a:pt x="0" y="96"/>
                    </a:moveTo>
                    <a:lnTo>
                      <a:pt x="96" y="0"/>
                    </a:lnTo>
                    <a:lnTo>
                      <a:pt x="192" y="0"/>
                    </a:lnTo>
                    <a:lnTo>
                      <a:pt x="288" y="96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9" name=""/>
            <p:cNvGrpSpPr/>
            <p:nvPr/>
          </p:nvGrpSpPr>
          <p:grpSpPr>
            <a:xfrm>
              <a:off x="6705720" y="5029200"/>
              <a:ext cx="457200" cy="304920"/>
              <a:chOff x="6705720" y="5029200"/>
              <a:chExt cx="457200" cy="304920"/>
            </a:xfrm>
          </p:grpSpPr>
          <p:sp>
            <p:nvSpPr>
              <p:cNvPr id="550" name=""/>
              <p:cNvSpPr/>
              <p:nvPr/>
            </p:nvSpPr>
            <p:spPr>
              <a:xfrm>
                <a:off x="6705720" y="5181840"/>
                <a:ext cx="457200" cy="152280"/>
              </a:xfrm>
              <a:prstGeom prst="rect">
                <a:avLst/>
              </a:prstGeom>
              <a:solidFill>
                <a:srgbClr val="fe9b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6705720" y="5029200"/>
                <a:ext cx="457200" cy="152640"/>
              </a:xfrm>
              <a:custGeom>
                <a:avLst/>
                <a:gdLst/>
                <a:ahLst/>
                <a:rect l="l" t="t" r="r" b="b"/>
                <a:pathLst>
                  <a:path w="288" h="96">
                    <a:moveTo>
                      <a:pt x="0" y="96"/>
                    </a:moveTo>
                    <a:lnTo>
                      <a:pt x="96" y="0"/>
                    </a:lnTo>
                    <a:lnTo>
                      <a:pt x="192" y="0"/>
                    </a:lnTo>
                    <a:lnTo>
                      <a:pt x="288" y="96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52" name=""/>
          <p:cNvGrpSpPr/>
          <p:nvPr/>
        </p:nvGrpSpPr>
        <p:grpSpPr>
          <a:xfrm>
            <a:off x="2590920" y="5791320"/>
            <a:ext cx="4876560" cy="533160"/>
            <a:chOff x="2590920" y="5791320"/>
            <a:chExt cx="4876560" cy="533160"/>
          </a:xfrm>
        </p:grpSpPr>
        <p:sp>
          <p:nvSpPr>
            <p:cNvPr id="553" name=""/>
            <p:cNvSpPr/>
            <p:nvPr/>
          </p:nvSpPr>
          <p:spPr>
            <a:xfrm>
              <a:off x="2590920" y="6324480"/>
              <a:ext cx="4876560" cy="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124080" y="6095880"/>
              <a:ext cx="0" cy="228240"/>
            </a:xfrm>
            <a:prstGeom prst="line">
              <a:avLst/>
            </a:prstGeom>
            <a:ln w="2844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886200" y="6095880"/>
              <a:ext cx="0" cy="228240"/>
            </a:xfrm>
            <a:prstGeom prst="line">
              <a:avLst/>
            </a:prstGeom>
            <a:ln w="2844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648320" y="6095880"/>
              <a:ext cx="0" cy="228240"/>
            </a:xfrm>
            <a:prstGeom prst="line">
              <a:avLst/>
            </a:prstGeom>
            <a:ln w="2844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410080" y="6095880"/>
              <a:ext cx="0" cy="228240"/>
            </a:xfrm>
            <a:prstGeom prst="line">
              <a:avLst/>
            </a:prstGeom>
            <a:ln w="2844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172200" y="6095880"/>
              <a:ext cx="0" cy="228240"/>
            </a:xfrm>
            <a:prstGeom prst="line">
              <a:avLst/>
            </a:prstGeom>
            <a:ln w="2844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934320" y="6095880"/>
              <a:ext cx="0" cy="228240"/>
            </a:xfrm>
            <a:prstGeom prst="line">
              <a:avLst/>
            </a:prstGeom>
            <a:ln w="2844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0" name=""/>
            <p:cNvGrpSpPr/>
            <p:nvPr/>
          </p:nvGrpSpPr>
          <p:grpSpPr>
            <a:xfrm>
              <a:off x="2895480" y="5791320"/>
              <a:ext cx="457200" cy="304200"/>
              <a:chOff x="2895480" y="5791320"/>
              <a:chExt cx="457200" cy="304200"/>
            </a:xfrm>
          </p:grpSpPr>
          <p:sp>
            <p:nvSpPr>
              <p:cNvPr id="561" name=""/>
              <p:cNvSpPr/>
              <p:nvPr/>
            </p:nvSpPr>
            <p:spPr>
              <a:xfrm>
                <a:off x="2895480" y="5943600"/>
                <a:ext cx="457200" cy="151920"/>
              </a:xfrm>
              <a:prstGeom prst="rect">
                <a:avLst/>
              </a:prstGeom>
              <a:solidFill>
                <a:srgbClr val="fe9b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2895480" y="5791320"/>
                <a:ext cx="457200" cy="152280"/>
              </a:xfrm>
              <a:custGeom>
                <a:avLst/>
                <a:gdLst/>
                <a:ahLst/>
                <a:rect l="l" t="t" r="r" b="b"/>
                <a:pathLst>
                  <a:path w="288" h="96">
                    <a:moveTo>
                      <a:pt x="0" y="96"/>
                    </a:moveTo>
                    <a:lnTo>
                      <a:pt x="96" y="0"/>
                    </a:lnTo>
                    <a:lnTo>
                      <a:pt x="192" y="0"/>
                    </a:lnTo>
                    <a:lnTo>
                      <a:pt x="288" y="96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3" name=""/>
            <p:cNvGrpSpPr/>
            <p:nvPr/>
          </p:nvGrpSpPr>
          <p:grpSpPr>
            <a:xfrm>
              <a:off x="3657600" y="5791320"/>
              <a:ext cx="457200" cy="304200"/>
              <a:chOff x="3657600" y="5791320"/>
              <a:chExt cx="457200" cy="304200"/>
            </a:xfrm>
          </p:grpSpPr>
          <p:sp>
            <p:nvSpPr>
              <p:cNvPr id="564" name=""/>
              <p:cNvSpPr/>
              <p:nvPr/>
            </p:nvSpPr>
            <p:spPr>
              <a:xfrm>
                <a:off x="3657600" y="5943600"/>
                <a:ext cx="457200" cy="151920"/>
              </a:xfrm>
              <a:prstGeom prst="rect">
                <a:avLst/>
              </a:prstGeom>
              <a:solidFill>
                <a:srgbClr val="fe9b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3657600" y="5791320"/>
                <a:ext cx="457200" cy="152280"/>
              </a:xfrm>
              <a:custGeom>
                <a:avLst/>
                <a:gdLst/>
                <a:ahLst/>
                <a:rect l="l" t="t" r="r" b="b"/>
                <a:pathLst>
                  <a:path w="288" h="96">
                    <a:moveTo>
                      <a:pt x="0" y="96"/>
                    </a:moveTo>
                    <a:lnTo>
                      <a:pt x="96" y="0"/>
                    </a:lnTo>
                    <a:lnTo>
                      <a:pt x="192" y="0"/>
                    </a:lnTo>
                    <a:lnTo>
                      <a:pt x="288" y="96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6" name=""/>
            <p:cNvGrpSpPr/>
            <p:nvPr/>
          </p:nvGrpSpPr>
          <p:grpSpPr>
            <a:xfrm>
              <a:off x="4419720" y="5791320"/>
              <a:ext cx="457200" cy="304200"/>
              <a:chOff x="4419720" y="5791320"/>
              <a:chExt cx="457200" cy="304200"/>
            </a:xfrm>
          </p:grpSpPr>
          <p:sp>
            <p:nvSpPr>
              <p:cNvPr id="567" name=""/>
              <p:cNvSpPr/>
              <p:nvPr/>
            </p:nvSpPr>
            <p:spPr>
              <a:xfrm>
                <a:off x="4419720" y="5943600"/>
                <a:ext cx="457200" cy="151920"/>
              </a:xfrm>
              <a:prstGeom prst="rect">
                <a:avLst/>
              </a:prstGeom>
              <a:solidFill>
                <a:srgbClr val="fe9b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419720" y="5791320"/>
                <a:ext cx="457200" cy="152280"/>
              </a:xfrm>
              <a:custGeom>
                <a:avLst/>
                <a:gdLst/>
                <a:ahLst/>
                <a:rect l="l" t="t" r="r" b="b"/>
                <a:pathLst>
                  <a:path w="288" h="96">
                    <a:moveTo>
                      <a:pt x="0" y="96"/>
                    </a:moveTo>
                    <a:lnTo>
                      <a:pt x="96" y="0"/>
                    </a:lnTo>
                    <a:lnTo>
                      <a:pt x="192" y="0"/>
                    </a:lnTo>
                    <a:lnTo>
                      <a:pt x="288" y="96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5181480" y="5791320"/>
              <a:ext cx="457200" cy="304200"/>
              <a:chOff x="5181480" y="5791320"/>
              <a:chExt cx="457200" cy="304200"/>
            </a:xfrm>
          </p:grpSpPr>
          <p:sp>
            <p:nvSpPr>
              <p:cNvPr id="570" name=""/>
              <p:cNvSpPr/>
              <p:nvPr/>
            </p:nvSpPr>
            <p:spPr>
              <a:xfrm>
                <a:off x="5181480" y="5943600"/>
                <a:ext cx="457200" cy="151920"/>
              </a:xfrm>
              <a:prstGeom prst="rect">
                <a:avLst/>
              </a:prstGeom>
              <a:solidFill>
                <a:srgbClr val="fe9b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181480" y="5791320"/>
                <a:ext cx="457200" cy="152280"/>
              </a:xfrm>
              <a:custGeom>
                <a:avLst/>
                <a:gdLst/>
                <a:ahLst/>
                <a:rect l="l" t="t" r="r" b="b"/>
                <a:pathLst>
                  <a:path w="288" h="96">
                    <a:moveTo>
                      <a:pt x="0" y="96"/>
                    </a:moveTo>
                    <a:lnTo>
                      <a:pt x="96" y="0"/>
                    </a:lnTo>
                    <a:lnTo>
                      <a:pt x="192" y="0"/>
                    </a:lnTo>
                    <a:lnTo>
                      <a:pt x="288" y="96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2" name=""/>
            <p:cNvGrpSpPr/>
            <p:nvPr/>
          </p:nvGrpSpPr>
          <p:grpSpPr>
            <a:xfrm>
              <a:off x="5943600" y="5791320"/>
              <a:ext cx="457200" cy="304200"/>
              <a:chOff x="5943600" y="5791320"/>
              <a:chExt cx="457200" cy="304200"/>
            </a:xfrm>
          </p:grpSpPr>
          <p:sp>
            <p:nvSpPr>
              <p:cNvPr id="573" name=""/>
              <p:cNvSpPr/>
              <p:nvPr/>
            </p:nvSpPr>
            <p:spPr>
              <a:xfrm>
                <a:off x="5943600" y="5943600"/>
                <a:ext cx="457200" cy="151920"/>
              </a:xfrm>
              <a:prstGeom prst="rect">
                <a:avLst/>
              </a:prstGeom>
              <a:solidFill>
                <a:srgbClr val="fe9b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943600" y="5791320"/>
                <a:ext cx="457200" cy="152280"/>
              </a:xfrm>
              <a:custGeom>
                <a:avLst/>
                <a:gdLst/>
                <a:ahLst/>
                <a:rect l="l" t="t" r="r" b="b"/>
                <a:pathLst>
                  <a:path w="288" h="96">
                    <a:moveTo>
                      <a:pt x="0" y="96"/>
                    </a:moveTo>
                    <a:lnTo>
                      <a:pt x="96" y="0"/>
                    </a:lnTo>
                    <a:lnTo>
                      <a:pt x="192" y="0"/>
                    </a:lnTo>
                    <a:lnTo>
                      <a:pt x="288" y="96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5" name=""/>
            <p:cNvGrpSpPr/>
            <p:nvPr/>
          </p:nvGrpSpPr>
          <p:grpSpPr>
            <a:xfrm>
              <a:off x="6705720" y="5791320"/>
              <a:ext cx="457200" cy="304200"/>
              <a:chOff x="6705720" y="5791320"/>
              <a:chExt cx="457200" cy="304200"/>
            </a:xfrm>
          </p:grpSpPr>
          <p:sp>
            <p:nvSpPr>
              <p:cNvPr id="576" name=""/>
              <p:cNvSpPr/>
              <p:nvPr/>
            </p:nvSpPr>
            <p:spPr>
              <a:xfrm>
                <a:off x="6705720" y="5943600"/>
                <a:ext cx="457200" cy="151920"/>
              </a:xfrm>
              <a:prstGeom prst="rect">
                <a:avLst/>
              </a:prstGeom>
              <a:solidFill>
                <a:srgbClr val="fe9b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705720" y="5791320"/>
                <a:ext cx="457200" cy="152280"/>
              </a:xfrm>
              <a:custGeom>
                <a:avLst/>
                <a:gdLst/>
                <a:ahLst/>
                <a:rect l="l" t="t" r="r" b="b"/>
                <a:pathLst>
                  <a:path w="288" h="96">
                    <a:moveTo>
                      <a:pt x="0" y="96"/>
                    </a:moveTo>
                    <a:lnTo>
                      <a:pt x="96" y="0"/>
                    </a:lnTo>
                    <a:lnTo>
                      <a:pt x="192" y="0"/>
                    </a:lnTo>
                    <a:lnTo>
                      <a:pt x="288" y="96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8" name=""/>
          <p:cNvSpPr/>
          <p:nvPr/>
        </p:nvSpPr>
        <p:spPr>
          <a:xfrm>
            <a:off x="2133720" y="4572000"/>
            <a:ext cx="457200" cy="4572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133720" y="5334120"/>
            <a:ext cx="457200" cy="4572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133720" y="6095880"/>
            <a:ext cx="457200" cy="4572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990720" y="4800600"/>
            <a:ext cx="1371600" cy="68580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H="1" flipV="1">
            <a:off x="990720" y="5486400"/>
            <a:ext cx="1371600" cy="83808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 flipV="1">
            <a:off x="914400" y="5486400"/>
            <a:ext cx="1447920" cy="7632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80880" y="4724280"/>
            <a:ext cx="1371600" cy="1600200"/>
          </a:xfrm>
          <a:prstGeom prst="ellipse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fra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Comparison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996480" y="1984320"/>
            <a:ext cx="7309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ms use “worst case” technolog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s to fit within a voice channel so encoding suboptim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DN can be more aggressiv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it is old technology by n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SL is highly optimized for the transmission mediu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though there are some constraints on dist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blemodem uses a transmission medium that has inherently a higher bandwidth, but the network architecture will limit throughpu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igned for broadcasting, not for point-point conn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Wireless Access Networks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257040" indent="-2570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a basestation that functions as an edge router in the wired infrastructur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EEE 802.11 wireless network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7040" indent="-20556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e becoming very popular in LA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ular digital packet data (CDPD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7040" indent="-20556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ares spectrum with cellular telephone netwo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7040" indent="-20556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grams are sent over idle chann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7040" indent="-20556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eds of 10s of Kbit/second of shared bandwid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9000"/>
              </a:lnSpc>
              <a:spcBef>
                <a:spcPts val="1049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w-altitude satellite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7040" indent="-205560">
              <a:lnSpc>
                <a:spcPct val="89000"/>
              </a:lnSpc>
              <a:spcBef>
                <a:spcPts val="75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ly at ~750 km, in circular (polar) orb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7040" indent="-205560">
              <a:lnSpc>
                <a:spcPct val="89000"/>
              </a:lnSpc>
              <a:spcBef>
                <a:spcPts val="75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be viewed a cellular with cells mov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7040" indent="-205560">
              <a:lnSpc>
                <a:spcPct val="89000"/>
              </a:lnSpc>
              <a:spcBef>
                <a:spcPts val="75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g, www.iridium.com, www.teledesic.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Cells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09480" y="19843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268560" indent="-26856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ell corresponds to the area covered by a “base station”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miting the power avoids interference between cell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equency reus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different frequencies between adjacent cells can reduce interferenc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ance typically drops if there are too many users in the cell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mited number of chan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bile users require support for handoff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1" name=""/>
          <p:cNvGrpSpPr/>
          <p:nvPr/>
        </p:nvGrpSpPr>
        <p:grpSpPr>
          <a:xfrm>
            <a:off x="5257800" y="3657600"/>
            <a:ext cx="990720" cy="914400"/>
            <a:chOff x="5257800" y="3657600"/>
            <a:chExt cx="990720" cy="914400"/>
          </a:xfrm>
        </p:grpSpPr>
        <p:sp>
          <p:nvSpPr>
            <p:cNvPr id="592" name=""/>
            <p:cNvSpPr/>
            <p:nvPr/>
          </p:nvSpPr>
          <p:spPr>
            <a:xfrm>
              <a:off x="5486400" y="3657600"/>
              <a:ext cx="533520" cy="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486400" y="4572000"/>
              <a:ext cx="533520" cy="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257800" y="3657600"/>
              <a:ext cx="228600" cy="45720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6019920" y="4114800"/>
              <a:ext cx="228600" cy="45720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019920" y="3657600"/>
              <a:ext cx="228600" cy="45720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257800" y="4114800"/>
              <a:ext cx="228600" cy="45720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6095880" y="4191120"/>
            <a:ext cx="990720" cy="914400"/>
            <a:chOff x="6095880" y="4191120"/>
            <a:chExt cx="990720" cy="914400"/>
          </a:xfrm>
        </p:grpSpPr>
        <p:sp>
          <p:nvSpPr>
            <p:cNvPr id="599" name=""/>
            <p:cNvSpPr/>
            <p:nvPr/>
          </p:nvSpPr>
          <p:spPr>
            <a:xfrm>
              <a:off x="6324480" y="4191120"/>
              <a:ext cx="533520" cy="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324480" y="5105520"/>
              <a:ext cx="533520" cy="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6095880" y="4191120"/>
              <a:ext cx="228600" cy="45720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6858000" y="4648320"/>
              <a:ext cx="228600" cy="45720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858000" y="4191120"/>
              <a:ext cx="228600" cy="45720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095880" y="4648320"/>
              <a:ext cx="228600" cy="45720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6095880" y="2209680"/>
            <a:ext cx="990720" cy="914400"/>
            <a:chOff x="6095880" y="2209680"/>
            <a:chExt cx="990720" cy="914400"/>
          </a:xfrm>
        </p:grpSpPr>
        <p:sp>
          <p:nvSpPr>
            <p:cNvPr id="606" name=""/>
            <p:cNvSpPr/>
            <p:nvPr/>
          </p:nvSpPr>
          <p:spPr>
            <a:xfrm>
              <a:off x="6324480" y="2209680"/>
              <a:ext cx="533520" cy="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324480" y="3124080"/>
              <a:ext cx="533520" cy="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V="1">
              <a:off x="6095880" y="2209680"/>
              <a:ext cx="228600" cy="45720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V="1">
              <a:off x="6858000" y="2666880"/>
              <a:ext cx="228600" cy="45720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858000" y="2209680"/>
              <a:ext cx="228600" cy="45720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095880" y="2666880"/>
              <a:ext cx="228600" cy="45720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6095880" y="3200400"/>
            <a:ext cx="990720" cy="914400"/>
            <a:chOff x="6095880" y="3200400"/>
            <a:chExt cx="990720" cy="914400"/>
          </a:xfrm>
        </p:grpSpPr>
        <p:sp>
          <p:nvSpPr>
            <p:cNvPr id="613" name=""/>
            <p:cNvSpPr/>
            <p:nvPr/>
          </p:nvSpPr>
          <p:spPr>
            <a:xfrm>
              <a:off x="6324480" y="3200400"/>
              <a:ext cx="533520" cy="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324480" y="4114800"/>
              <a:ext cx="533520" cy="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V="1">
              <a:off x="6095880" y="3200400"/>
              <a:ext cx="228600" cy="45720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6858000" y="3657600"/>
              <a:ext cx="228600" cy="45720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858000" y="3200400"/>
              <a:ext cx="228600" cy="45720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095880" y="3657600"/>
              <a:ext cx="228600" cy="45720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5257800" y="2666880"/>
            <a:ext cx="990720" cy="914400"/>
            <a:chOff x="5257800" y="2666880"/>
            <a:chExt cx="990720" cy="914400"/>
          </a:xfrm>
        </p:grpSpPr>
        <p:sp>
          <p:nvSpPr>
            <p:cNvPr id="620" name=""/>
            <p:cNvSpPr/>
            <p:nvPr/>
          </p:nvSpPr>
          <p:spPr>
            <a:xfrm>
              <a:off x="5486400" y="2666880"/>
              <a:ext cx="533520" cy="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486400" y="3581280"/>
              <a:ext cx="533520" cy="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>
              <a:off x="5257800" y="2666880"/>
              <a:ext cx="228600" cy="45720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V="1">
              <a:off x="6019920" y="3124080"/>
              <a:ext cx="228600" cy="45720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019920" y="2666880"/>
              <a:ext cx="228600" cy="45720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257800" y="3124080"/>
              <a:ext cx="228600" cy="45720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6934320" y="4724280"/>
            <a:ext cx="990000" cy="914400"/>
            <a:chOff x="6934320" y="4724280"/>
            <a:chExt cx="990000" cy="914400"/>
          </a:xfrm>
        </p:grpSpPr>
        <p:sp>
          <p:nvSpPr>
            <p:cNvPr id="627" name=""/>
            <p:cNvSpPr/>
            <p:nvPr/>
          </p:nvSpPr>
          <p:spPr>
            <a:xfrm>
              <a:off x="7162560" y="4724280"/>
              <a:ext cx="533160" cy="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162560" y="5638680"/>
              <a:ext cx="533160" cy="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6934320" y="4724280"/>
              <a:ext cx="228240" cy="45720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7696080" y="5181480"/>
              <a:ext cx="228240" cy="45720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696080" y="4724280"/>
              <a:ext cx="228240" cy="45720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934320" y="5181480"/>
              <a:ext cx="228240" cy="45720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6934320" y="2743200"/>
            <a:ext cx="990000" cy="914400"/>
            <a:chOff x="6934320" y="2743200"/>
            <a:chExt cx="990000" cy="914400"/>
          </a:xfrm>
        </p:grpSpPr>
        <p:sp>
          <p:nvSpPr>
            <p:cNvPr id="634" name=""/>
            <p:cNvSpPr/>
            <p:nvPr/>
          </p:nvSpPr>
          <p:spPr>
            <a:xfrm>
              <a:off x="7162560" y="2743200"/>
              <a:ext cx="533160" cy="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162560" y="3657600"/>
              <a:ext cx="533160" cy="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V="1">
              <a:off x="6934320" y="2743200"/>
              <a:ext cx="228240" cy="45720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V="1">
              <a:off x="7696080" y="3200400"/>
              <a:ext cx="228240" cy="45720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696080" y="2743200"/>
              <a:ext cx="228240" cy="45720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934320" y="3200400"/>
              <a:ext cx="228240" cy="45720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6934320" y="3733920"/>
            <a:ext cx="990000" cy="914400"/>
            <a:chOff x="6934320" y="3733920"/>
            <a:chExt cx="990000" cy="914400"/>
          </a:xfrm>
        </p:grpSpPr>
        <p:sp>
          <p:nvSpPr>
            <p:cNvPr id="641" name=""/>
            <p:cNvSpPr/>
            <p:nvPr/>
          </p:nvSpPr>
          <p:spPr>
            <a:xfrm>
              <a:off x="7162560" y="3733920"/>
              <a:ext cx="533160" cy="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62560" y="4648320"/>
              <a:ext cx="533160" cy="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V="1">
              <a:off x="6934320" y="3733920"/>
              <a:ext cx="228240" cy="45720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7696080" y="4191120"/>
              <a:ext cx="228240" cy="45720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696080" y="3733920"/>
              <a:ext cx="228240" cy="45720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934320" y="4191120"/>
              <a:ext cx="228240" cy="45720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5257800" y="4648320"/>
            <a:ext cx="990720" cy="914400"/>
            <a:chOff x="5257800" y="4648320"/>
            <a:chExt cx="990720" cy="914400"/>
          </a:xfrm>
        </p:grpSpPr>
        <p:sp>
          <p:nvSpPr>
            <p:cNvPr id="648" name=""/>
            <p:cNvSpPr/>
            <p:nvPr/>
          </p:nvSpPr>
          <p:spPr>
            <a:xfrm>
              <a:off x="5486400" y="4648320"/>
              <a:ext cx="533520" cy="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486400" y="5562720"/>
              <a:ext cx="533520" cy="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V="1">
              <a:off x="5257800" y="4648320"/>
              <a:ext cx="228600" cy="45720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V="1">
              <a:off x="6019920" y="5105520"/>
              <a:ext cx="228600" cy="45720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019920" y="4648320"/>
              <a:ext cx="228600" cy="45720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257800" y="5105520"/>
              <a:ext cx="228600" cy="45720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7772400" y="4267080"/>
            <a:ext cx="990720" cy="914400"/>
            <a:chOff x="7772400" y="4267080"/>
            <a:chExt cx="990720" cy="914400"/>
          </a:xfrm>
        </p:grpSpPr>
        <p:sp>
          <p:nvSpPr>
            <p:cNvPr id="655" name=""/>
            <p:cNvSpPr/>
            <p:nvPr/>
          </p:nvSpPr>
          <p:spPr>
            <a:xfrm>
              <a:off x="8001000" y="4267080"/>
              <a:ext cx="533520" cy="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8001000" y="5181480"/>
              <a:ext cx="533520" cy="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V="1">
              <a:off x="7772400" y="4267080"/>
              <a:ext cx="228600" cy="45720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V="1">
              <a:off x="8534520" y="4724280"/>
              <a:ext cx="228600" cy="45720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534520" y="4267080"/>
              <a:ext cx="228600" cy="45720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772400" y="4724280"/>
              <a:ext cx="228600" cy="45720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7772400" y="3276720"/>
            <a:ext cx="990720" cy="914400"/>
            <a:chOff x="7772400" y="3276720"/>
            <a:chExt cx="990720" cy="914400"/>
          </a:xfrm>
        </p:grpSpPr>
        <p:sp>
          <p:nvSpPr>
            <p:cNvPr id="662" name=""/>
            <p:cNvSpPr/>
            <p:nvPr/>
          </p:nvSpPr>
          <p:spPr>
            <a:xfrm>
              <a:off x="8001000" y="3276720"/>
              <a:ext cx="533520" cy="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8001000" y="4191120"/>
              <a:ext cx="533520" cy="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V="1">
              <a:off x="7772400" y="3276720"/>
              <a:ext cx="228600" cy="45720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V="1">
              <a:off x="8534520" y="3733920"/>
              <a:ext cx="228600" cy="45720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8534520" y="3276720"/>
              <a:ext cx="228600" cy="45720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772400" y="3733920"/>
              <a:ext cx="228600" cy="45720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Wireless LANs: 802.11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-28296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ally wireless Ethernet in each cel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der cannot detect collision, so collision avoidance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itive ack after correct recep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unication goes through a basesta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nected to the wired netwo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so supports other operating modes, e.g.  point coordination func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estation controls the bandwid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send to specific stations and invite a station to transm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ention period for new stations to request bandwid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rarely cleanly separat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mitter consumes bandwidth in multiple cel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 frequencies helps manag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Mobility Support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761760" y="1984320"/>
            <a:ext cx="374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sestations periodically invite new stations to join them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bile stations listen for invite messages and basestations and select on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ically based on signal strengt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s to be willing to leave old station, but avoid quick chan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5562720" y="1981080"/>
            <a:ext cx="1371600" cy="1371600"/>
          </a:xfrm>
          <a:prstGeom prst="ellipse">
            <a:avLst/>
          </a:prstGeom>
          <a:noFill/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400800" y="2362320"/>
            <a:ext cx="1371600" cy="1447560"/>
          </a:xfrm>
          <a:prstGeom prst="ellipse">
            <a:avLst/>
          </a:prstGeom>
          <a:noFill/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181480" y="3048120"/>
            <a:ext cx="1676520" cy="1676160"/>
          </a:xfrm>
          <a:prstGeom prst="ellipse">
            <a:avLst/>
          </a:prstGeom>
          <a:noFill/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553080" y="3505320"/>
            <a:ext cx="1295640" cy="1371600"/>
          </a:xfrm>
          <a:prstGeom prst="ellipse">
            <a:avLst/>
          </a:prstGeom>
          <a:noFill/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562720" y="4648320"/>
            <a:ext cx="1371600" cy="1371600"/>
          </a:xfrm>
          <a:prstGeom prst="ellipse">
            <a:avLst/>
          </a:prstGeom>
          <a:noFill/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781680" y="4572000"/>
            <a:ext cx="1143000" cy="1143000"/>
          </a:xfrm>
          <a:prstGeom prst="ellipse">
            <a:avLst/>
          </a:prstGeom>
          <a:noFill/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105520" y="2514600"/>
            <a:ext cx="1371600" cy="1371600"/>
          </a:xfrm>
          <a:prstGeom prst="ellipse">
            <a:avLst/>
          </a:prstGeom>
          <a:noFill/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Introduction to Networking:</a:t>
            </a:r>
            <a:br>
              <a:rPr sz="3600"/>
            </a:b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The Internet Protocol - IP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ter Steenkis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ool of Computer Sci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negie Mellon Univers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http://www.cs.cmu.edu/~p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But Many Things Happen </a:t>
            </a:r>
            <a:br>
              <a:rPr sz="3600"/>
            </a:b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Under the Covers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6480" y="19843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268560" indent="-26856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browser and client have to speak a common language (protocol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 the server must be able to understand the reque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etwork can lose packets, so the hosts must be able to recover lost packe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ires another protoc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etwork does not consist of a single network but of multiple diverse network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area networks, ISPs, home access networks, 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fferent networks must carry packets using very diverse technologi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ber, twisted pair, wireless, satellite, .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Outline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996480" y="19843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Interne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 address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ut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main Name Syste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Internet protoco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v6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Internetworking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84" name=""/>
          <p:cNvSpPr/>
          <p:nvPr/>
        </p:nvSpPr>
        <p:spPr>
          <a:xfrm>
            <a:off x="1536840" y="3137040"/>
            <a:ext cx="1815840" cy="977760"/>
          </a:xfrm>
          <a:prstGeom prst="ellipse">
            <a:avLst/>
          </a:prstGeom>
          <a:solidFill>
            <a:srgbClr val="114ffb"/>
          </a:solidFill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Eth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603520" y="4127400"/>
            <a:ext cx="1816200" cy="978120"/>
          </a:xfrm>
          <a:prstGeom prst="ellipse">
            <a:avLst/>
          </a:prstGeom>
          <a:solidFill>
            <a:srgbClr val="114ffb"/>
          </a:solidFill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over SO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517920" y="3137040"/>
            <a:ext cx="1816200" cy="977760"/>
          </a:xfrm>
          <a:prstGeom prst="ellipse">
            <a:avLst/>
          </a:prstGeom>
          <a:solidFill>
            <a:srgbClr val="114ffb"/>
          </a:solidFill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A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660920" y="4051440"/>
            <a:ext cx="1816200" cy="977760"/>
          </a:xfrm>
          <a:prstGeom prst="ellipse">
            <a:avLst/>
          </a:prstGeom>
          <a:solidFill>
            <a:srgbClr val="114ffb"/>
          </a:solidFill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A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499000" y="2984400"/>
            <a:ext cx="1816200" cy="978120"/>
          </a:xfrm>
          <a:prstGeom prst="ellipse">
            <a:avLst/>
          </a:prstGeom>
          <a:solidFill>
            <a:srgbClr val="114ffb"/>
          </a:solidFill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Mix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Eth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460520" y="5118120"/>
            <a:ext cx="1816200" cy="977760"/>
          </a:xfrm>
          <a:prstGeom prst="ellipse">
            <a:avLst/>
          </a:prstGeom>
          <a:solidFill>
            <a:srgbClr val="114ffb"/>
          </a:solidFill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Mix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Eth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651640" y="5041800"/>
            <a:ext cx="1815840" cy="978120"/>
          </a:xfrm>
          <a:prstGeom prst="ellipse">
            <a:avLst/>
          </a:prstGeom>
          <a:solidFill>
            <a:srgbClr val="114ffb"/>
          </a:solidFill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FDD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280040" y="2070000"/>
            <a:ext cx="1815840" cy="978120"/>
          </a:xfrm>
          <a:prstGeom prst="ellipse">
            <a:avLst/>
          </a:prstGeom>
          <a:solidFill>
            <a:srgbClr val="114ffb"/>
          </a:solidFill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802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98400" y="3441600"/>
            <a:ext cx="596880" cy="444600"/>
          </a:xfrm>
          <a:prstGeom prst="rect">
            <a:avLst/>
          </a:prstGeom>
          <a:solidFill>
            <a:srgbClr val="3365fb"/>
          </a:solidFill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7480440" y="3289320"/>
            <a:ext cx="596880" cy="444600"/>
          </a:xfrm>
          <a:prstGeom prst="rect">
            <a:avLst/>
          </a:prstGeom>
          <a:solidFill>
            <a:srgbClr val="3365fb"/>
          </a:solidFill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314360" y="3664080"/>
            <a:ext cx="203400" cy="0"/>
          </a:xfrm>
          <a:prstGeom prst="line">
            <a:avLst/>
          </a:prstGeom>
          <a:ln w="255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334280" y="3511440"/>
            <a:ext cx="127080" cy="0"/>
          </a:xfrm>
          <a:prstGeom prst="line">
            <a:avLst/>
          </a:prstGeom>
          <a:ln w="255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880240" y="4889520"/>
            <a:ext cx="291960" cy="291960"/>
          </a:xfrm>
          <a:prstGeom prst="rect">
            <a:avLst/>
          </a:prstGeom>
          <a:solidFill>
            <a:srgbClr val="fe9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880240" y="3898800"/>
            <a:ext cx="291960" cy="292320"/>
          </a:xfrm>
          <a:prstGeom prst="rect">
            <a:avLst/>
          </a:prstGeom>
          <a:solidFill>
            <a:srgbClr val="fe9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432320" y="4432320"/>
            <a:ext cx="291960" cy="290520"/>
          </a:xfrm>
          <a:prstGeom prst="rect">
            <a:avLst/>
          </a:prstGeom>
          <a:solidFill>
            <a:srgbClr val="fe9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98800" y="4051440"/>
            <a:ext cx="292320" cy="291960"/>
          </a:xfrm>
          <a:prstGeom prst="rect">
            <a:avLst/>
          </a:prstGeom>
          <a:solidFill>
            <a:srgbClr val="fe9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755800" y="3975120"/>
            <a:ext cx="292320" cy="291960"/>
          </a:xfrm>
          <a:prstGeom prst="rect">
            <a:avLst/>
          </a:prstGeom>
          <a:solidFill>
            <a:srgbClr val="fe9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755800" y="4965840"/>
            <a:ext cx="292320" cy="291960"/>
          </a:xfrm>
          <a:prstGeom prst="rect">
            <a:avLst/>
          </a:prstGeom>
          <a:solidFill>
            <a:srgbClr val="fe9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270400" y="3441600"/>
            <a:ext cx="292320" cy="292320"/>
          </a:xfrm>
          <a:prstGeom prst="rect">
            <a:avLst/>
          </a:prstGeom>
          <a:solidFill>
            <a:srgbClr val="fe9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737240" y="2984400"/>
            <a:ext cx="291960" cy="292320"/>
          </a:xfrm>
          <a:prstGeom prst="rect">
            <a:avLst/>
          </a:prstGeom>
          <a:solidFill>
            <a:srgbClr val="fe9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289320" y="3441600"/>
            <a:ext cx="291960" cy="292320"/>
          </a:xfrm>
          <a:prstGeom prst="rect">
            <a:avLst/>
          </a:prstGeom>
          <a:solidFill>
            <a:srgbClr val="fe9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727600" y="2832120"/>
            <a:ext cx="292320" cy="291960"/>
          </a:xfrm>
          <a:prstGeom prst="rect">
            <a:avLst/>
          </a:prstGeom>
          <a:solidFill>
            <a:srgbClr val="fe9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685800" y="5410080"/>
            <a:ext cx="596880" cy="444600"/>
          </a:xfrm>
          <a:prstGeom prst="rect">
            <a:avLst/>
          </a:prstGeom>
          <a:solidFill>
            <a:srgbClr val="3365fb"/>
          </a:solidFill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301760" y="5632560"/>
            <a:ext cx="203040" cy="0"/>
          </a:xfrm>
          <a:prstGeom prst="line">
            <a:avLst/>
          </a:prstGeom>
          <a:ln w="255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3505320" y="2209680"/>
            <a:ext cx="596880" cy="444600"/>
          </a:xfrm>
          <a:prstGeom prst="rect">
            <a:avLst/>
          </a:prstGeom>
          <a:solidFill>
            <a:srgbClr val="3365fb"/>
          </a:solidFill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121280" y="2432160"/>
            <a:ext cx="203040" cy="0"/>
          </a:xfrm>
          <a:prstGeom prst="line">
            <a:avLst/>
          </a:prstGeom>
          <a:ln w="255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7620120" y="5334120"/>
            <a:ext cx="596880" cy="444240"/>
          </a:xfrm>
          <a:prstGeom prst="rect">
            <a:avLst/>
          </a:prstGeom>
          <a:solidFill>
            <a:srgbClr val="3365fb"/>
          </a:solidFill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7473960" y="5556240"/>
            <a:ext cx="127080" cy="0"/>
          </a:xfrm>
          <a:prstGeom prst="line">
            <a:avLst/>
          </a:prstGeom>
          <a:ln w="255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172200" y="2209680"/>
            <a:ext cx="596880" cy="444600"/>
          </a:xfrm>
          <a:prstGeom prst="rect">
            <a:avLst/>
          </a:prstGeom>
          <a:solidFill>
            <a:srgbClr val="3365fb"/>
          </a:solidFill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026040" y="2432160"/>
            <a:ext cx="127080" cy="0"/>
          </a:xfrm>
          <a:prstGeom prst="line">
            <a:avLst/>
          </a:prstGeom>
          <a:ln w="255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Internetworking Issues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996480" y="19843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ing and address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to structure the name and address spa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cket forwarding and rout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iven a packet with an address, how do we get the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gmenta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versing networks with different maximum packet siz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ordinating IP-level activities in different networ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Traditional</a:t>
            </a:r>
            <a:br>
              <a:rPr sz="3600"/>
            </a:b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Addressing in IP v4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996480" y="1679400"/>
            <a:ext cx="7162920" cy="220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 fontScale="48000"/>
          </a:bodyPr>
          <a:p>
            <a:pPr marL="137160" indent="-13716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host has an internet addres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10944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 128.2.209.1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160" indent="-13716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resses are hierarchic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10944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ess contains hint about loc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160" indent="-13716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al design: 4 classes of subnet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71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71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71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71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7160" indent="-13716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 address space used to be assigned by the Internet Assigned Numbers Authority (IANA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10944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http://www.iana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2592360" y="3695760"/>
            <a:ext cx="811080" cy="431640"/>
          </a:xfrm>
          <a:prstGeom prst="rect">
            <a:avLst/>
          </a:prstGeom>
          <a:solidFill>
            <a:srgbClr val="114ffb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429000" y="3695760"/>
            <a:ext cx="1498680" cy="431640"/>
          </a:xfrm>
          <a:prstGeom prst="rect">
            <a:avLst/>
          </a:prstGeom>
          <a:solidFill>
            <a:srgbClr val="114ffb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952880" y="3695760"/>
            <a:ext cx="2032200" cy="431640"/>
          </a:xfrm>
          <a:prstGeom prst="rect">
            <a:avLst/>
          </a:prstGeom>
          <a:solidFill>
            <a:srgbClr val="114ffb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898640" y="4394160"/>
            <a:ext cx="51055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4640" bIns="4464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dec" pos="1055520"/>
                <a:tab algn="dec" pos="2301840"/>
                <a:tab algn="dec" pos="4159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8000"/>
              </a:lnSpc>
              <a:tabLst>
                <a:tab algn="l" pos="0"/>
                <a:tab algn="dec" pos="1055520"/>
                <a:tab algn="dec" pos="2301840"/>
                <a:tab algn="dec" pos="4159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1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8000"/>
              </a:lnSpc>
              <a:tabLst>
                <a:tab algn="l" pos="0"/>
                <a:tab algn="dec" pos="1055520"/>
                <a:tab algn="dec" pos="2301840"/>
                <a:tab algn="dec" pos="4159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11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8000"/>
              </a:lnSpc>
              <a:tabLst>
                <a:tab algn="l" pos="0"/>
                <a:tab algn="dec" pos="1055520"/>
                <a:tab algn="dec" pos="2301840"/>
                <a:tab algn="dec" pos="4159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       1110                       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Motivation for Address Structure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996480" y="19843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erarchical structure gives a hint about the location that can be used to simplify rout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are with postal addr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what happens when your machine move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assign subnet address spaces that are appropriate for the size of the organizatio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small number of large spa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y smaller spa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what happens when your organization grow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D corresponds to multicas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 address stru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IP Addressing: Problems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996480" y="17524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262800" indent="-26280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ANA was running out of class C address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-21024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ass-based addressing does not use space efficient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800" indent="-26280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uting tables in the network core grow too fast as a result of the success of the Interne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-21024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o many networks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800" indent="-26280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nning out of IP address space: too many hos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-21024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2-bit address is not sufficient on the long ru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800" indent="-26280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bination of solu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-21024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assless Inter-Domain Routing (CID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-21024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ynamic address assign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-21024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 Address translation (NA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-21024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Pv6 with 128 bit addr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Short-term Solutions to </a:t>
            </a:r>
            <a:br>
              <a:rPr sz="3600"/>
            </a:b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Address Space Crunch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996480" y="17524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262800" indent="-26280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ynamic assignment of IP address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-21024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ign an IP address for duration that it is needed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-21024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 dial up conn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-21024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supported by the Dynamic Host Configuration Protocol (DHC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800" indent="-26280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of private address spac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-21024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y large organizations have hosts that do not need direct access to the netwo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ly talk to other host in the organization, 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use application level gateways to talk to hosts outside of the organiz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-21024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ANA set aside blocks of address space for use inside such organiz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-21024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s Network Address Translation (NAT) boxes (late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Classless Inter-Domain Routing</a:t>
            </a:r>
            <a:br>
              <a:rPr sz="3600"/>
            </a:b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(CIDR)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996480" y="1905120"/>
            <a:ext cx="7309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address space more efficiently by relaxing the strict address structur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ngth of network address is vari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ze of network can be made to fit size of organiz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 internet service providers hand out blocks of addresses to their customer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uces the size of the address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are many exceptions to CID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isting organizations, organizations with multiple ISPs, 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overall it has been very successfu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/>
          <p:nvPr/>
        </p:nvSpPr>
        <p:spPr>
          <a:xfrm>
            <a:off x="5029200" y="2209680"/>
            <a:ext cx="3276720" cy="41148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What Does Routing Do?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984320"/>
            <a:ext cx="4044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74320" indent="-27432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uting protocol specifies how routers jointly collect information about the network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ting protocols must be standard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uting algorithm uses network information to select appropriate routes and to set up the routing tabl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ata forwarding engine performs route lookup in the routing tabl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rough which interface should a packet be forwarded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5181480" y="4343400"/>
            <a:ext cx="2971800" cy="1828800"/>
          </a:xfrm>
          <a:prstGeom prst="rect">
            <a:avLst/>
          </a:prstGeom>
          <a:solidFill>
            <a:srgbClr val="114ff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172200" y="4876920"/>
            <a:ext cx="990720" cy="838080"/>
          </a:xfrm>
          <a:prstGeom prst="rect">
            <a:avLst/>
          </a:prstGeom>
          <a:solidFill>
            <a:srgbClr val="fe9b03"/>
          </a:solidFill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o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oo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724280" y="44956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4724280" y="46483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181480" y="4343400"/>
            <a:ext cx="457200" cy="457200"/>
          </a:xfrm>
          <a:prstGeom prst="rect">
            <a:avLst/>
          </a:prstGeom>
          <a:solidFill>
            <a:srgbClr val="008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724280" y="4952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724280" y="51055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181480" y="4800600"/>
            <a:ext cx="457200" cy="457200"/>
          </a:xfrm>
          <a:prstGeom prst="rect">
            <a:avLst/>
          </a:prstGeom>
          <a:solidFill>
            <a:srgbClr val="008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724280" y="54100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4724280" y="55627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181480" y="5257800"/>
            <a:ext cx="457200" cy="457200"/>
          </a:xfrm>
          <a:prstGeom prst="rect">
            <a:avLst/>
          </a:prstGeom>
          <a:solidFill>
            <a:srgbClr val="008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724280" y="58672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724280" y="60199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181480" y="5715000"/>
            <a:ext cx="457200" cy="457200"/>
          </a:xfrm>
          <a:prstGeom prst="rect">
            <a:avLst/>
          </a:prstGeom>
          <a:solidFill>
            <a:srgbClr val="008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H="1">
            <a:off x="8153280" y="44956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H="1">
            <a:off x="8153280" y="46483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H="1">
            <a:off x="7696080" y="4343400"/>
            <a:ext cx="457200" cy="457200"/>
          </a:xfrm>
          <a:prstGeom prst="rect">
            <a:avLst/>
          </a:prstGeom>
          <a:solidFill>
            <a:srgbClr val="008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flipH="1">
            <a:off x="8153280" y="4952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H="1">
            <a:off x="8153280" y="51055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flipH="1">
            <a:off x="7696080" y="4800600"/>
            <a:ext cx="457200" cy="457200"/>
          </a:xfrm>
          <a:prstGeom prst="rect">
            <a:avLst/>
          </a:prstGeom>
          <a:solidFill>
            <a:srgbClr val="008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H="1">
            <a:off x="8153280" y="54100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H="1">
            <a:off x="8153280" y="55627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H="1">
            <a:off x="7696080" y="5257800"/>
            <a:ext cx="457200" cy="457200"/>
          </a:xfrm>
          <a:prstGeom prst="rect">
            <a:avLst/>
          </a:prstGeom>
          <a:solidFill>
            <a:srgbClr val="008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 flipH="1">
            <a:off x="8153280" y="58672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flipH="1">
            <a:off x="8153280" y="60199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H="1">
            <a:off x="7696080" y="5715000"/>
            <a:ext cx="457200" cy="457200"/>
          </a:xfrm>
          <a:prstGeom prst="rect">
            <a:avLst/>
          </a:prstGeom>
          <a:solidFill>
            <a:srgbClr val="008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181480" y="2362320"/>
            <a:ext cx="2971800" cy="18288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486400" y="2514600"/>
            <a:ext cx="1143000" cy="60948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Rou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rotoc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486400" y="3429000"/>
            <a:ext cx="1143000" cy="60948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Rou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lgorith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019920" y="19051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019920" y="31240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095880" y="4038480"/>
            <a:ext cx="53352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934320" y="2895480"/>
            <a:ext cx="1066680" cy="609840"/>
          </a:xfrm>
          <a:prstGeom prst="rect">
            <a:avLst/>
          </a:prstGeom>
          <a:solidFill>
            <a:srgbClr val="ffc5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093280" y="1981080"/>
            <a:ext cx="18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outing  protoc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326560" y="1562040"/>
            <a:ext cx="137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ther rou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Packet Forwarding based on </a:t>
            </a:r>
            <a:br>
              <a:rPr sz="3600"/>
            </a:b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Network Identifier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69" name=""/>
          <p:cNvSpPr/>
          <p:nvPr/>
        </p:nvSpPr>
        <p:spPr>
          <a:xfrm>
            <a:off x="1536840" y="3137040"/>
            <a:ext cx="1815840" cy="977760"/>
          </a:xfrm>
          <a:prstGeom prst="ellipse">
            <a:avLst/>
          </a:prstGeom>
          <a:solidFill>
            <a:srgbClr val="114ffb"/>
          </a:solidFill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AN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603520" y="4127400"/>
            <a:ext cx="1816200" cy="978120"/>
          </a:xfrm>
          <a:prstGeom prst="ellipse">
            <a:avLst/>
          </a:prstGeom>
          <a:solidFill>
            <a:srgbClr val="114ffb"/>
          </a:solidFill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ISP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517920" y="3137040"/>
            <a:ext cx="1816200" cy="977760"/>
          </a:xfrm>
          <a:prstGeom prst="ellipse">
            <a:avLst/>
          </a:prstGeom>
          <a:solidFill>
            <a:srgbClr val="114ffb"/>
          </a:solidFill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ISP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660920" y="4051440"/>
            <a:ext cx="1816200" cy="977760"/>
          </a:xfrm>
          <a:prstGeom prst="ellipse">
            <a:avLst/>
          </a:prstGeom>
          <a:solidFill>
            <a:srgbClr val="114ffb"/>
          </a:solidFill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ISP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5499000" y="2984400"/>
            <a:ext cx="1816200" cy="978120"/>
          </a:xfrm>
          <a:prstGeom prst="ellipse">
            <a:avLst/>
          </a:prstGeom>
          <a:solidFill>
            <a:srgbClr val="114ffb"/>
          </a:solidFill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AN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460520" y="5118120"/>
            <a:ext cx="1816200" cy="977760"/>
          </a:xfrm>
          <a:prstGeom prst="ellipse">
            <a:avLst/>
          </a:prstGeom>
          <a:solidFill>
            <a:srgbClr val="114ffb"/>
          </a:solidFill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AN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651640" y="5041800"/>
            <a:ext cx="1815840" cy="978120"/>
          </a:xfrm>
          <a:prstGeom prst="ellipse">
            <a:avLst/>
          </a:prstGeom>
          <a:solidFill>
            <a:srgbClr val="114ffb"/>
          </a:solidFill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AN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280040" y="2070000"/>
            <a:ext cx="1815840" cy="978120"/>
          </a:xfrm>
          <a:prstGeom prst="ellipse">
            <a:avLst/>
          </a:prstGeom>
          <a:solidFill>
            <a:srgbClr val="114ffb"/>
          </a:solidFill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AN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98400" y="3441600"/>
            <a:ext cx="596880" cy="444600"/>
          </a:xfrm>
          <a:prstGeom prst="rect">
            <a:avLst/>
          </a:prstGeom>
          <a:solidFill>
            <a:srgbClr val="3365fb"/>
          </a:solidFill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7480440" y="3289320"/>
            <a:ext cx="596880" cy="444600"/>
          </a:xfrm>
          <a:prstGeom prst="rect">
            <a:avLst/>
          </a:prstGeom>
          <a:solidFill>
            <a:srgbClr val="3365fb"/>
          </a:solidFill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314360" y="3664080"/>
            <a:ext cx="203400" cy="0"/>
          </a:xfrm>
          <a:prstGeom prst="line">
            <a:avLst/>
          </a:prstGeom>
          <a:ln w="255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7334280" y="3511440"/>
            <a:ext cx="127080" cy="0"/>
          </a:xfrm>
          <a:prstGeom prst="line">
            <a:avLst/>
          </a:prstGeom>
          <a:ln w="255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880240" y="4889520"/>
            <a:ext cx="291960" cy="291960"/>
          </a:xfrm>
          <a:prstGeom prst="rect">
            <a:avLst/>
          </a:prstGeom>
          <a:solidFill>
            <a:srgbClr val="fe9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880240" y="3898800"/>
            <a:ext cx="291960" cy="292320"/>
          </a:xfrm>
          <a:prstGeom prst="rect">
            <a:avLst/>
          </a:prstGeom>
          <a:solidFill>
            <a:srgbClr val="fe9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432320" y="4432320"/>
            <a:ext cx="291960" cy="290520"/>
          </a:xfrm>
          <a:prstGeom prst="rect">
            <a:avLst/>
          </a:prstGeom>
          <a:solidFill>
            <a:srgbClr val="fe9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3898800" y="4051440"/>
            <a:ext cx="292320" cy="291960"/>
          </a:xfrm>
          <a:prstGeom prst="rect">
            <a:avLst/>
          </a:prstGeom>
          <a:solidFill>
            <a:srgbClr val="fe9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755800" y="3975120"/>
            <a:ext cx="292320" cy="291960"/>
          </a:xfrm>
          <a:prstGeom prst="rect">
            <a:avLst/>
          </a:prstGeom>
          <a:solidFill>
            <a:srgbClr val="fe9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755800" y="4965840"/>
            <a:ext cx="292320" cy="291960"/>
          </a:xfrm>
          <a:prstGeom prst="rect">
            <a:avLst/>
          </a:prstGeom>
          <a:solidFill>
            <a:srgbClr val="fe9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270400" y="3441600"/>
            <a:ext cx="292320" cy="292320"/>
          </a:xfrm>
          <a:prstGeom prst="rect">
            <a:avLst/>
          </a:prstGeom>
          <a:solidFill>
            <a:srgbClr val="fe9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737240" y="2984400"/>
            <a:ext cx="291960" cy="292320"/>
          </a:xfrm>
          <a:prstGeom prst="rect">
            <a:avLst/>
          </a:prstGeom>
          <a:solidFill>
            <a:srgbClr val="fe9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289320" y="3441600"/>
            <a:ext cx="291960" cy="292320"/>
          </a:xfrm>
          <a:prstGeom prst="rect">
            <a:avLst/>
          </a:prstGeom>
          <a:solidFill>
            <a:srgbClr val="fe9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727600" y="2832120"/>
            <a:ext cx="292320" cy="291960"/>
          </a:xfrm>
          <a:prstGeom prst="rect">
            <a:avLst/>
          </a:prstGeom>
          <a:solidFill>
            <a:srgbClr val="fe9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85800" y="5410080"/>
            <a:ext cx="596880" cy="444600"/>
          </a:xfrm>
          <a:prstGeom prst="rect">
            <a:avLst/>
          </a:prstGeom>
          <a:solidFill>
            <a:srgbClr val="3365fb"/>
          </a:solidFill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301760" y="5632560"/>
            <a:ext cx="203040" cy="0"/>
          </a:xfrm>
          <a:prstGeom prst="line">
            <a:avLst/>
          </a:prstGeom>
          <a:ln w="255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505320" y="2209680"/>
            <a:ext cx="596880" cy="444600"/>
          </a:xfrm>
          <a:prstGeom prst="rect">
            <a:avLst/>
          </a:prstGeom>
          <a:solidFill>
            <a:srgbClr val="3365fb"/>
          </a:solidFill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4121280" y="2432160"/>
            <a:ext cx="203040" cy="0"/>
          </a:xfrm>
          <a:prstGeom prst="line">
            <a:avLst/>
          </a:prstGeom>
          <a:ln w="255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7620120" y="5334120"/>
            <a:ext cx="596880" cy="444240"/>
          </a:xfrm>
          <a:prstGeom prst="rect">
            <a:avLst/>
          </a:prstGeom>
          <a:solidFill>
            <a:srgbClr val="3365fb"/>
          </a:solidFill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7473960" y="5556240"/>
            <a:ext cx="127080" cy="0"/>
          </a:xfrm>
          <a:prstGeom prst="line">
            <a:avLst/>
          </a:prstGeom>
          <a:ln w="255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172200" y="2209680"/>
            <a:ext cx="596880" cy="444600"/>
          </a:xfrm>
          <a:prstGeom prst="rect">
            <a:avLst/>
          </a:prstGeom>
          <a:solidFill>
            <a:srgbClr val="3365fb"/>
          </a:solidFill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6026040" y="2432160"/>
            <a:ext cx="127080" cy="0"/>
          </a:xfrm>
          <a:prstGeom prst="line">
            <a:avLst/>
          </a:prstGeom>
          <a:ln w="255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941040" y="5867280"/>
            <a:ext cx="1038960" cy="36828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Times New Roman"/>
              </a:rPr>
              <a:t>Ne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0" name=""/>
          <p:cNvGrpSpPr/>
          <p:nvPr/>
        </p:nvGrpSpPr>
        <p:grpSpPr>
          <a:xfrm>
            <a:off x="1371600" y="3581280"/>
            <a:ext cx="6095880" cy="2133360"/>
            <a:chOff x="1371600" y="3581280"/>
            <a:chExt cx="6095880" cy="2133360"/>
          </a:xfrm>
        </p:grpSpPr>
        <p:sp>
          <p:nvSpPr>
            <p:cNvPr id="801" name=""/>
            <p:cNvSpPr/>
            <p:nvPr/>
          </p:nvSpPr>
          <p:spPr>
            <a:xfrm flipV="1">
              <a:off x="1371600" y="5105160"/>
              <a:ext cx="1371600" cy="60948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V="1">
              <a:off x="4191120" y="3657600"/>
              <a:ext cx="1066680" cy="38088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V="1">
              <a:off x="3048120" y="4343040"/>
              <a:ext cx="838080" cy="60948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V="1">
              <a:off x="5562720" y="3581280"/>
              <a:ext cx="1904760" cy="76320"/>
            </a:xfrm>
            <a:prstGeom prst="line">
              <a:avLst/>
            </a:prstGeom>
            <a:ln w="507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5" name=""/>
          <p:cNvGrpSpPr/>
          <p:nvPr/>
        </p:nvGrpSpPr>
        <p:grpSpPr>
          <a:xfrm>
            <a:off x="151200" y="1523880"/>
            <a:ext cx="2169720" cy="1556280"/>
            <a:chOff x="151200" y="1523880"/>
            <a:chExt cx="2169720" cy="1556280"/>
          </a:xfrm>
        </p:grpSpPr>
        <p:sp>
          <p:nvSpPr>
            <p:cNvPr id="806" name=""/>
            <p:cNvSpPr/>
            <p:nvPr/>
          </p:nvSpPr>
          <p:spPr>
            <a:xfrm>
              <a:off x="457200" y="1523880"/>
              <a:ext cx="838080" cy="30492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Net 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7200" y="2133720"/>
              <a:ext cx="838080" cy="30456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Net 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7200" y="1828800"/>
              <a:ext cx="838080" cy="30492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Net 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57200" y="2438280"/>
              <a:ext cx="838080" cy="30492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Net 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295280" y="1523880"/>
              <a:ext cx="838440" cy="304920"/>
            </a:xfrm>
            <a:prstGeom prst="rect">
              <a:avLst/>
            </a:prstGeom>
            <a:solidFill>
              <a:srgbClr val="114ff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N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1295280" y="2133720"/>
              <a:ext cx="838440" cy="304560"/>
            </a:xfrm>
            <a:prstGeom prst="rect">
              <a:avLst/>
            </a:prstGeom>
            <a:solidFill>
              <a:srgbClr val="114ff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N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295280" y="1828800"/>
              <a:ext cx="838440" cy="304920"/>
            </a:xfrm>
            <a:prstGeom prst="rect">
              <a:avLst/>
            </a:prstGeom>
            <a:solidFill>
              <a:srgbClr val="114ff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N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295280" y="2438280"/>
              <a:ext cx="838440" cy="304920"/>
            </a:xfrm>
            <a:prstGeom prst="rect">
              <a:avLst/>
            </a:prstGeom>
            <a:solidFill>
              <a:srgbClr val="114ff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N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51200" y="2681280"/>
              <a:ext cx="216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orwarding T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What Makes Networking Hard?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295280" y="3657600"/>
            <a:ext cx="6773400" cy="1242000"/>
            <a:chOff x="1295280" y="3657600"/>
            <a:chExt cx="6773400" cy="1242000"/>
          </a:xfrm>
        </p:grpSpPr>
        <p:grpSp>
          <p:nvGrpSpPr>
            <p:cNvPr id="58" name=""/>
            <p:cNvGrpSpPr/>
            <p:nvPr/>
          </p:nvGrpSpPr>
          <p:grpSpPr>
            <a:xfrm>
              <a:off x="1295280" y="3657600"/>
              <a:ext cx="6773400" cy="1242000"/>
              <a:chOff x="1295280" y="3657600"/>
              <a:chExt cx="6773400" cy="1242000"/>
            </a:xfrm>
          </p:grpSpPr>
          <p:sp>
            <p:nvSpPr>
              <p:cNvPr id="59" name=""/>
              <p:cNvSpPr/>
              <p:nvPr/>
            </p:nvSpPr>
            <p:spPr>
              <a:xfrm>
                <a:off x="6986520" y="4610880"/>
                <a:ext cx="716400" cy="13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V="1">
                <a:off x="7207560" y="4078440"/>
                <a:ext cx="57132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36280" y="4243320"/>
                <a:ext cx="741600" cy="144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040640" y="4365360"/>
                <a:ext cx="497520" cy="428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>
                <a:off x="4098240" y="4357080"/>
                <a:ext cx="967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>
                <a:off x="4537800" y="4365360"/>
                <a:ext cx="599400" cy="428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V="1">
                <a:off x="4553640" y="4235760"/>
                <a:ext cx="1589400" cy="575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6181200" y="4235760"/>
                <a:ext cx="939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6181200" y="4243320"/>
                <a:ext cx="792360" cy="354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V="1">
                <a:off x="6181200" y="4227840"/>
                <a:ext cx="939600" cy="53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V="1">
                <a:off x="6249960" y="4595760"/>
                <a:ext cx="65016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>
                <a:off x="3362760" y="3779280"/>
                <a:ext cx="1345680" cy="385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947600" y="3974760"/>
                <a:ext cx="279000" cy="207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>
                <a:off x="1904040" y="4195080"/>
                <a:ext cx="411480" cy="436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685840" y="3926520"/>
                <a:ext cx="548640" cy="301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4586400" y="3779280"/>
                <a:ext cx="1190880" cy="169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316240" y="4195080"/>
                <a:ext cx="497520" cy="430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>
                <a:off x="2374200" y="4187520"/>
                <a:ext cx="967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>
                <a:off x="2813400" y="4197960"/>
                <a:ext cx="599400" cy="428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413520" y="4197960"/>
                <a:ext cx="568440" cy="131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V="1">
                <a:off x="2828880" y="4329360"/>
                <a:ext cx="1300320" cy="314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V="1">
                <a:off x="2278080" y="3771720"/>
                <a:ext cx="756720" cy="372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V="1">
                <a:off x="3987000" y="3865680"/>
                <a:ext cx="670320" cy="44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1538640" y="4235760"/>
                <a:ext cx="761760" cy="15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683240" y="3837240"/>
                <a:ext cx="403560" cy="49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074200" y="4266360"/>
                <a:ext cx="1068840" cy="524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035160" y="3771720"/>
                <a:ext cx="329760" cy="413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>
                <a:off x="5229360" y="4228200"/>
                <a:ext cx="936720" cy="90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026440" y="4144320"/>
                <a:ext cx="390960" cy="202680"/>
              </a:xfrm>
              <a:prstGeom prst="rect">
                <a:avLst/>
              </a:prstGeom>
              <a:solidFill>
                <a:srgbClr val="618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512120" y="4631400"/>
                <a:ext cx="434160" cy="268200"/>
              </a:xfrm>
              <a:prstGeom prst="ellips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635920" y="4509360"/>
                <a:ext cx="390960" cy="202680"/>
              </a:xfrm>
              <a:prstGeom prst="rect">
                <a:avLst/>
              </a:prstGeom>
              <a:solidFill>
                <a:srgbClr val="618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903000" y="4144320"/>
                <a:ext cx="390960" cy="202680"/>
              </a:xfrm>
              <a:prstGeom prst="rect">
                <a:avLst/>
              </a:prstGeom>
              <a:solidFill>
                <a:srgbClr val="618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927400" y="4144320"/>
                <a:ext cx="390960" cy="202680"/>
              </a:xfrm>
              <a:prstGeom prst="rect">
                <a:avLst/>
              </a:prstGeom>
              <a:solidFill>
                <a:srgbClr val="618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927400" y="4631400"/>
                <a:ext cx="390960" cy="202320"/>
              </a:xfrm>
              <a:prstGeom prst="rect">
                <a:avLst/>
              </a:prstGeom>
              <a:solidFill>
                <a:srgbClr val="618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952160" y="4185360"/>
                <a:ext cx="390960" cy="202320"/>
              </a:xfrm>
              <a:prstGeom prst="rect">
                <a:avLst/>
              </a:prstGeom>
              <a:solidFill>
                <a:srgbClr val="618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464360" y="3698280"/>
                <a:ext cx="390960" cy="202680"/>
              </a:xfrm>
              <a:prstGeom prst="rect">
                <a:avLst/>
              </a:prstGeom>
              <a:solidFill>
                <a:srgbClr val="618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343040" y="4631400"/>
                <a:ext cx="390960" cy="202320"/>
              </a:xfrm>
              <a:prstGeom prst="rect">
                <a:avLst/>
              </a:prstGeom>
              <a:solidFill>
                <a:srgbClr val="618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536440" y="3819960"/>
                <a:ext cx="390960" cy="202320"/>
              </a:xfrm>
              <a:prstGeom prst="rect">
                <a:avLst/>
              </a:prstGeom>
              <a:solidFill>
                <a:srgbClr val="618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220560" y="4063320"/>
                <a:ext cx="390960" cy="202680"/>
              </a:xfrm>
              <a:prstGeom prst="rect">
                <a:avLst/>
              </a:prstGeom>
              <a:solidFill>
                <a:srgbClr val="618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829680" y="4266360"/>
                <a:ext cx="390960" cy="202320"/>
              </a:xfrm>
              <a:prstGeom prst="rect">
                <a:avLst/>
              </a:prstGeom>
              <a:solidFill>
                <a:srgbClr val="618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757960" y="3657600"/>
                <a:ext cx="390960" cy="202680"/>
              </a:xfrm>
              <a:prstGeom prst="rect">
                <a:avLst/>
              </a:prstGeom>
              <a:solidFill>
                <a:srgbClr val="618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780960" y="4509360"/>
                <a:ext cx="390960" cy="202680"/>
              </a:xfrm>
              <a:prstGeom prst="rect">
                <a:avLst/>
              </a:prstGeom>
              <a:solidFill>
                <a:srgbClr val="618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4520" y="4266360"/>
                <a:ext cx="434160" cy="268200"/>
              </a:xfrm>
              <a:prstGeom prst="ellips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4520" y="3901320"/>
                <a:ext cx="434160" cy="268200"/>
              </a:xfrm>
              <a:prstGeom prst="ellips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714320" y="4509360"/>
                <a:ext cx="434160" cy="268200"/>
              </a:xfrm>
              <a:prstGeom prst="ellips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295280" y="4241160"/>
                <a:ext cx="434160" cy="268200"/>
              </a:xfrm>
              <a:prstGeom prst="ellips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592280" y="3779280"/>
                <a:ext cx="434160" cy="268200"/>
              </a:xfrm>
              <a:prstGeom prst="ellips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1924560" y="3900600"/>
              <a:ext cx="365760" cy="36504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2290320" y="4144320"/>
              <a:ext cx="1097280" cy="12132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387600" y="4144680"/>
              <a:ext cx="609840" cy="24300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3997800" y="4266000"/>
              <a:ext cx="1097280" cy="12168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095080" y="4266000"/>
              <a:ext cx="974880" cy="48708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6070320" y="4265640"/>
              <a:ext cx="974880" cy="48708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7045560" y="4022280"/>
              <a:ext cx="853560" cy="24300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6256800" y="1676520"/>
            <a:ext cx="145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04800" y="2452680"/>
            <a:ext cx="214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perating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59600" y="5119560"/>
            <a:ext cx="218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twork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857720" y="5334120"/>
            <a:ext cx="129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u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01480" y="304812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n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98240" y="5105520"/>
            <a:ext cx="212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outer Hard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47280" y="2209680"/>
            <a:ext cx="2030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outer Soft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many protocol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3400" y="5638680"/>
            <a:ext cx="189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ridge HW/S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2440" y="1995480"/>
            <a:ext cx="145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6760" y="2438280"/>
            <a:ext cx="214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perating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64680" y="4648320"/>
            <a:ext cx="129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u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246000" y="4952880"/>
            <a:ext cx="218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twork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2362320"/>
            <a:ext cx="53352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828440" y="2895480"/>
            <a:ext cx="15228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762120" y="3962520"/>
            <a:ext cx="838080" cy="761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200040" y="3429000"/>
            <a:ext cx="15228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1905120" y="4038120"/>
            <a:ext cx="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733920" y="3429000"/>
            <a:ext cx="1522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4647960" y="2971800"/>
            <a:ext cx="22860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638680" y="2895480"/>
            <a:ext cx="76320" cy="83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934320" y="2057400"/>
            <a:ext cx="838080" cy="1752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7924320" y="2819520"/>
            <a:ext cx="22860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8076960" y="4114800"/>
            <a:ext cx="609480" cy="1295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6095880" y="4876920"/>
            <a:ext cx="15264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3733920" y="4419720"/>
            <a:ext cx="15228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419720" y="4876920"/>
            <a:ext cx="7596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7315200" y="4114800"/>
            <a:ext cx="38088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Routing Requirements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996480" y="19843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les to large numbers of nod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ymptotic properties mat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bust in the presence of failur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ntralized algorithms unacceptable because they form a single point of fail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mall errors should not result in disas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apts to changes in the network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k or node err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ad sensitive rout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s high quality path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mall number of hops, low load, 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Taxonomy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996480" y="1828800"/>
            <a:ext cx="7309080" cy="4114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 fontScale="95000"/>
          </a:bodyPr>
          <a:p>
            <a:pPr marL="271440" indent="-2714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ic versus adaptive (load sensitive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-21708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es the route depend only on static topology information or also on the load condi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p-by-hop versus source rout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-21708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ters determined one hop at a time or preplann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computed versus on deman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-21708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tes are looked up in a precomputed table or are calculated for each packet/connection reque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ntralized versus distribut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-21708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are how are routing decisions ma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k state versus distance vecto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-21708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wo commonly used routing mechanis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Dykstra’s </a:t>
            </a:r>
            <a:br>
              <a:rPr sz="3600"/>
            </a:b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Shortest Path Algorithm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1356480" y="2670120"/>
            <a:ext cx="6275160" cy="2817360"/>
            <a:chOff x="1356480" y="2670120"/>
            <a:chExt cx="6275160" cy="2817360"/>
          </a:xfrm>
        </p:grpSpPr>
        <p:sp>
          <p:nvSpPr>
            <p:cNvPr id="821" name=""/>
            <p:cNvSpPr/>
            <p:nvPr/>
          </p:nvSpPr>
          <p:spPr>
            <a:xfrm>
              <a:off x="3308400" y="3057480"/>
              <a:ext cx="2311200" cy="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170480" y="3660480"/>
              <a:ext cx="461160" cy="63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4640" bIns="446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356480" y="3660480"/>
              <a:ext cx="513000" cy="63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4640" bIns="446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622120" y="2670120"/>
              <a:ext cx="513000" cy="63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4640" bIns="446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308400" y="4962240"/>
              <a:ext cx="2311200" cy="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633280" y="4573440"/>
              <a:ext cx="487080" cy="63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4640" bIns="446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742480" y="4573440"/>
              <a:ext cx="513000" cy="63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4640" bIns="446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V="1">
              <a:off x="1784520" y="3108240"/>
              <a:ext cx="1015920" cy="73656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784520" y="4225680"/>
              <a:ext cx="1015920" cy="63360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V="1">
              <a:off x="6127920" y="4174920"/>
              <a:ext cx="1015920" cy="73656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127920" y="3082680"/>
              <a:ext cx="1015920" cy="63504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054240" y="3311280"/>
              <a:ext cx="0" cy="132084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873760" y="3311280"/>
              <a:ext cx="0" cy="132084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V="1">
              <a:off x="3232080" y="3183840"/>
              <a:ext cx="2463840" cy="165132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232080" y="3235320"/>
              <a:ext cx="2463840" cy="154908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615000" y="2973240"/>
              <a:ext cx="351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4640" bIns="446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615000" y="4574880"/>
              <a:ext cx="351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4640" bIns="446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852880" y="3736800"/>
              <a:ext cx="351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4640" bIns="446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024080" y="2670120"/>
              <a:ext cx="351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4640" bIns="446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946320" y="3355920"/>
              <a:ext cx="351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4640" bIns="446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795480" y="4332240"/>
              <a:ext cx="351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4640" bIns="446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176720" y="5032080"/>
              <a:ext cx="351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4640" bIns="446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635200" y="3887640"/>
              <a:ext cx="351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4640" bIns="446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890720" y="3203280"/>
              <a:ext cx="351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4640" bIns="446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814400" y="4484520"/>
              <a:ext cx="351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4640" bIns="446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2801160" y="2670120"/>
              <a:ext cx="513000" cy="63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4640" bIns="446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7" name=""/>
          <p:cNvSpPr/>
          <p:nvPr/>
        </p:nvSpPr>
        <p:spPr>
          <a:xfrm>
            <a:off x="7086600" y="3584520"/>
            <a:ext cx="609480" cy="758880"/>
          </a:xfrm>
          <a:prstGeom prst="ellipse">
            <a:avLst/>
          </a:prstGeom>
          <a:noFill/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8" name=""/>
          <p:cNvGrpSpPr/>
          <p:nvPr/>
        </p:nvGrpSpPr>
        <p:grpSpPr>
          <a:xfrm>
            <a:off x="5563440" y="2209680"/>
            <a:ext cx="668160" cy="3507480"/>
            <a:chOff x="5563440" y="2209680"/>
            <a:chExt cx="668160" cy="3507480"/>
          </a:xfrm>
        </p:grpSpPr>
        <p:sp>
          <p:nvSpPr>
            <p:cNvPr id="849" name=""/>
            <p:cNvSpPr/>
            <p:nvPr/>
          </p:nvSpPr>
          <p:spPr>
            <a:xfrm>
              <a:off x="5639400" y="5318280"/>
              <a:ext cx="5922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00"/>
                  </a:solidFill>
                  <a:latin typeface="Times New Roman"/>
                </a:rPr>
                <a:t>2, 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563440" y="2209680"/>
              <a:ext cx="5922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00"/>
                  </a:solidFill>
                  <a:latin typeface="Times New Roman"/>
                </a:rPr>
                <a:t>3, 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1" name=""/>
          <p:cNvGrpSpPr/>
          <p:nvPr/>
        </p:nvGrpSpPr>
        <p:grpSpPr>
          <a:xfrm>
            <a:off x="2667960" y="1905120"/>
            <a:ext cx="3487680" cy="3812040"/>
            <a:chOff x="2667960" y="1905120"/>
            <a:chExt cx="3487680" cy="3812040"/>
          </a:xfrm>
        </p:grpSpPr>
        <p:sp>
          <p:nvSpPr>
            <p:cNvPr id="852" name=""/>
            <p:cNvSpPr/>
            <p:nvPr/>
          </p:nvSpPr>
          <p:spPr>
            <a:xfrm>
              <a:off x="2744280" y="2209680"/>
              <a:ext cx="6058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00"/>
                  </a:solidFill>
                  <a:latin typeface="Times New Roman"/>
                </a:rPr>
                <a:t>5, 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667960" y="5318280"/>
              <a:ext cx="6058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00"/>
                  </a:solidFill>
                  <a:latin typeface="Times New Roman"/>
                </a:rPr>
                <a:t>6, 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563440" y="1905120"/>
              <a:ext cx="5922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00"/>
                  </a:solidFill>
                  <a:latin typeface="Times New Roman"/>
                </a:rPr>
                <a:t>3, 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5" name=""/>
          <p:cNvGrpSpPr/>
          <p:nvPr/>
        </p:nvGrpSpPr>
        <p:grpSpPr>
          <a:xfrm>
            <a:off x="2667960" y="1905120"/>
            <a:ext cx="682200" cy="4208760"/>
            <a:chOff x="2667960" y="1905120"/>
            <a:chExt cx="682200" cy="4208760"/>
          </a:xfrm>
        </p:grpSpPr>
        <p:sp>
          <p:nvSpPr>
            <p:cNvPr id="856" name=""/>
            <p:cNvSpPr/>
            <p:nvPr/>
          </p:nvSpPr>
          <p:spPr>
            <a:xfrm>
              <a:off x="2667960" y="5715000"/>
              <a:ext cx="6058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00"/>
                  </a:solidFill>
                  <a:latin typeface="Times New Roman"/>
                </a:rPr>
                <a:t>6, 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744280" y="1905120"/>
              <a:ext cx="6058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00"/>
                  </a:solidFill>
                  <a:latin typeface="Times New Roman"/>
                </a:rPr>
                <a:t>5, 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8" name=""/>
          <p:cNvGrpSpPr/>
          <p:nvPr/>
        </p:nvGrpSpPr>
        <p:grpSpPr>
          <a:xfrm>
            <a:off x="2666880" y="1905120"/>
            <a:ext cx="3505320" cy="3733200"/>
            <a:chOff x="2666880" y="1905120"/>
            <a:chExt cx="3505320" cy="3733200"/>
          </a:xfrm>
        </p:grpSpPr>
        <p:sp>
          <p:nvSpPr>
            <p:cNvPr id="859" name=""/>
            <p:cNvSpPr/>
            <p:nvPr/>
          </p:nvSpPr>
          <p:spPr>
            <a:xfrm>
              <a:off x="5563440" y="1905120"/>
              <a:ext cx="5922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c0128"/>
                  </a:solidFill>
                  <a:latin typeface="Times New Roman"/>
                </a:rPr>
                <a:t>3, 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V="1">
              <a:off x="2743200" y="2361960"/>
              <a:ext cx="609480" cy="152280"/>
            </a:xfrm>
            <a:prstGeom prst="line">
              <a:avLst/>
            </a:prstGeom>
            <a:ln w="1908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562720" y="2590920"/>
              <a:ext cx="609480" cy="758880"/>
            </a:xfrm>
            <a:prstGeom prst="ellipse">
              <a:avLst/>
            </a:prstGeom>
            <a:noFill/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V="1">
              <a:off x="2666880" y="5486040"/>
              <a:ext cx="609840" cy="152280"/>
            </a:xfrm>
            <a:prstGeom prst="line">
              <a:avLst/>
            </a:prstGeom>
            <a:ln w="1908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"/>
          <p:cNvGrpSpPr/>
          <p:nvPr/>
        </p:nvGrpSpPr>
        <p:grpSpPr>
          <a:xfrm>
            <a:off x="2666880" y="1905120"/>
            <a:ext cx="685800" cy="4114800"/>
            <a:chOff x="2666880" y="1905120"/>
            <a:chExt cx="685800" cy="4114800"/>
          </a:xfrm>
        </p:grpSpPr>
        <p:sp>
          <p:nvSpPr>
            <p:cNvPr id="864" name=""/>
            <p:cNvSpPr/>
            <p:nvPr/>
          </p:nvSpPr>
          <p:spPr>
            <a:xfrm flipV="1">
              <a:off x="2666880" y="5867280"/>
              <a:ext cx="609840" cy="152640"/>
            </a:xfrm>
            <a:prstGeom prst="line">
              <a:avLst/>
            </a:prstGeom>
            <a:ln w="1908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745720" y="1905120"/>
              <a:ext cx="6058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c0128"/>
                  </a:solidFill>
                  <a:latin typeface="Times New Roman"/>
                </a:rPr>
                <a:t>5, 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2743200" y="2590920"/>
              <a:ext cx="609480" cy="758880"/>
            </a:xfrm>
            <a:prstGeom prst="ellipse">
              <a:avLst/>
            </a:prstGeom>
            <a:noFill/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7" name=""/>
          <p:cNvGrpSpPr/>
          <p:nvPr/>
        </p:nvGrpSpPr>
        <p:grpSpPr>
          <a:xfrm>
            <a:off x="686880" y="3809880"/>
            <a:ext cx="2588760" cy="2684880"/>
            <a:chOff x="686880" y="3809880"/>
            <a:chExt cx="2588760" cy="2684880"/>
          </a:xfrm>
        </p:grpSpPr>
        <p:sp>
          <p:nvSpPr>
            <p:cNvPr id="868" name=""/>
            <p:cNvSpPr/>
            <p:nvPr/>
          </p:nvSpPr>
          <p:spPr>
            <a:xfrm>
              <a:off x="2669760" y="6095880"/>
              <a:ext cx="6058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00"/>
                  </a:solidFill>
                  <a:latin typeface="Times New Roman"/>
                </a:rPr>
                <a:t>6, 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86880" y="3809880"/>
              <a:ext cx="6058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00"/>
                  </a:solidFill>
                  <a:latin typeface="Times New Roman"/>
                </a:rPr>
                <a:t>6, 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0" name=""/>
          <p:cNvSpPr/>
          <p:nvPr/>
        </p:nvSpPr>
        <p:spPr>
          <a:xfrm>
            <a:off x="686880" y="4191120"/>
            <a:ext cx="605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6,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685800" y="3962160"/>
            <a:ext cx="2590920" cy="2532600"/>
            <a:chOff x="685800" y="3962160"/>
            <a:chExt cx="2590920" cy="2532600"/>
          </a:xfrm>
        </p:grpSpPr>
        <p:sp>
          <p:nvSpPr>
            <p:cNvPr id="872" name=""/>
            <p:cNvSpPr/>
            <p:nvPr/>
          </p:nvSpPr>
          <p:spPr>
            <a:xfrm>
              <a:off x="2669760" y="6095880"/>
              <a:ext cx="6058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c0128"/>
                  </a:solidFill>
                  <a:latin typeface="Times New Roman"/>
                </a:rPr>
                <a:t>6, 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V="1">
              <a:off x="685800" y="3962160"/>
              <a:ext cx="609480" cy="152280"/>
            </a:xfrm>
            <a:prstGeom prst="line">
              <a:avLst/>
            </a:prstGeom>
            <a:ln w="1908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2666880" y="4495680"/>
              <a:ext cx="609840" cy="758880"/>
            </a:xfrm>
            <a:prstGeom prst="ellipse">
              <a:avLst/>
            </a:prstGeom>
            <a:noFill/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5" name=""/>
          <p:cNvGrpSpPr/>
          <p:nvPr/>
        </p:nvGrpSpPr>
        <p:grpSpPr>
          <a:xfrm>
            <a:off x="688320" y="3657600"/>
            <a:ext cx="1216800" cy="932400"/>
            <a:chOff x="688320" y="3657600"/>
            <a:chExt cx="1216800" cy="932400"/>
          </a:xfrm>
        </p:grpSpPr>
        <p:sp>
          <p:nvSpPr>
            <p:cNvPr id="876" name=""/>
            <p:cNvSpPr/>
            <p:nvPr/>
          </p:nvSpPr>
          <p:spPr>
            <a:xfrm>
              <a:off x="688320" y="4191120"/>
              <a:ext cx="6058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c0128"/>
                  </a:solidFill>
                  <a:latin typeface="Times New Roman"/>
                </a:rPr>
                <a:t>6, 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295280" y="3657600"/>
              <a:ext cx="609840" cy="758880"/>
            </a:xfrm>
            <a:prstGeom prst="ellipse">
              <a:avLst/>
            </a:prstGeom>
            <a:noFill/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8" name=""/>
          <p:cNvGrpSpPr/>
          <p:nvPr/>
        </p:nvGrpSpPr>
        <p:grpSpPr>
          <a:xfrm>
            <a:off x="5562720" y="2361960"/>
            <a:ext cx="668880" cy="3371040"/>
            <a:chOff x="5562720" y="2361960"/>
            <a:chExt cx="668880" cy="3371040"/>
          </a:xfrm>
        </p:grpSpPr>
        <p:sp>
          <p:nvSpPr>
            <p:cNvPr id="879" name=""/>
            <p:cNvSpPr/>
            <p:nvPr/>
          </p:nvSpPr>
          <p:spPr>
            <a:xfrm>
              <a:off x="5562720" y="4495680"/>
              <a:ext cx="609480" cy="762120"/>
            </a:xfrm>
            <a:prstGeom prst="ellipse">
              <a:avLst/>
            </a:prstGeom>
            <a:noFill/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5639400" y="5334120"/>
              <a:ext cx="5922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c0128"/>
                  </a:solidFill>
                  <a:latin typeface="Times New Roman"/>
                </a:rPr>
                <a:t>2, 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V="1">
              <a:off x="5562720" y="2361960"/>
              <a:ext cx="609480" cy="152280"/>
            </a:xfrm>
            <a:prstGeom prst="line">
              <a:avLst/>
            </a:prstGeom>
            <a:ln w="1908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Link State Routing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826920" y="1905120"/>
            <a:ext cx="7554960" cy="41227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node collects information about the network topology and link cos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des periodically sends information about its immediate topology to all other nodes using flood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tion includes neighbors and link cos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ime-to-live field is used to expire old inform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des execute Dijkstra’s algorithm locall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 local forwarding t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unt of state information limits scalabilit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entire network topology is broadcasted over the netwo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node has to store the entire network topolog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Flooding Algorithm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3816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-26568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goal is to distribute information without knowing the topolog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ortant for routing in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ode sends the packet to all its neighbor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node drops incoming packets that are old or duplicat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quires sequence numbe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incoming packets are forwarded on all outgoing links, other than the one the packet came in 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68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5791320" y="4876920"/>
            <a:ext cx="304560" cy="30456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7924680" y="3657600"/>
            <a:ext cx="304920" cy="30492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7238880" y="4876920"/>
            <a:ext cx="304920" cy="30456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7086600" y="2514600"/>
            <a:ext cx="304920" cy="30492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H="1">
            <a:off x="6324480" y="2666880"/>
            <a:ext cx="914400" cy="121932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 flipH="1">
            <a:off x="7391160" y="3809880"/>
            <a:ext cx="685800" cy="121932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324480" y="3886200"/>
            <a:ext cx="1067040" cy="114300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 flipH="1">
            <a:off x="5943600" y="3886200"/>
            <a:ext cx="380880" cy="114300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7238880" y="2666880"/>
            <a:ext cx="838440" cy="114300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943600" y="5029200"/>
            <a:ext cx="1447920" cy="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6172200" y="3733920"/>
            <a:ext cx="304920" cy="30456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7" name=""/>
          <p:cNvGrpSpPr/>
          <p:nvPr/>
        </p:nvGrpSpPr>
        <p:grpSpPr>
          <a:xfrm>
            <a:off x="6171840" y="3124080"/>
            <a:ext cx="838440" cy="1600200"/>
            <a:chOff x="6171840" y="3124080"/>
            <a:chExt cx="838440" cy="1600200"/>
          </a:xfrm>
        </p:grpSpPr>
        <p:sp>
          <p:nvSpPr>
            <p:cNvPr id="898" name=""/>
            <p:cNvSpPr/>
            <p:nvPr/>
          </p:nvSpPr>
          <p:spPr>
            <a:xfrm flipV="1">
              <a:off x="6705720" y="3124080"/>
              <a:ext cx="304560" cy="45720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705720" y="4114800"/>
              <a:ext cx="304560" cy="38088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6171840" y="4267080"/>
              <a:ext cx="152280" cy="45720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1" name=""/>
          <p:cNvGrpSpPr/>
          <p:nvPr/>
        </p:nvGrpSpPr>
        <p:grpSpPr>
          <a:xfrm>
            <a:off x="5791320" y="2514600"/>
            <a:ext cx="1752480" cy="2666880"/>
            <a:chOff x="5791320" y="2514600"/>
            <a:chExt cx="1752480" cy="2666880"/>
          </a:xfrm>
        </p:grpSpPr>
        <p:grpSp>
          <p:nvGrpSpPr>
            <p:cNvPr id="902" name=""/>
            <p:cNvGrpSpPr/>
            <p:nvPr/>
          </p:nvGrpSpPr>
          <p:grpSpPr>
            <a:xfrm>
              <a:off x="5791320" y="2514600"/>
              <a:ext cx="1752480" cy="2666880"/>
              <a:chOff x="5791320" y="2514600"/>
              <a:chExt cx="1752480" cy="2666880"/>
            </a:xfrm>
          </p:grpSpPr>
          <p:sp>
            <p:nvSpPr>
              <p:cNvPr id="903" name=""/>
              <p:cNvSpPr/>
              <p:nvPr/>
            </p:nvSpPr>
            <p:spPr>
              <a:xfrm>
                <a:off x="7238880" y="4876920"/>
                <a:ext cx="304920" cy="304560"/>
              </a:xfrm>
              <a:prstGeom prst="rect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7086600" y="2514600"/>
                <a:ext cx="304920" cy="304920"/>
              </a:xfrm>
              <a:prstGeom prst="rect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5791320" y="4876920"/>
                <a:ext cx="304560" cy="304560"/>
              </a:xfrm>
              <a:prstGeom prst="rect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6" name=""/>
            <p:cNvGrpSpPr/>
            <p:nvPr/>
          </p:nvGrpSpPr>
          <p:grpSpPr>
            <a:xfrm>
              <a:off x="6171840" y="3124080"/>
              <a:ext cx="838440" cy="1600200"/>
              <a:chOff x="6171840" y="3124080"/>
              <a:chExt cx="838440" cy="1600200"/>
            </a:xfrm>
          </p:grpSpPr>
          <p:sp>
            <p:nvSpPr>
              <p:cNvPr id="907" name=""/>
              <p:cNvSpPr/>
              <p:nvPr/>
            </p:nvSpPr>
            <p:spPr>
              <a:xfrm flipV="1">
                <a:off x="6705720" y="3124080"/>
                <a:ext cx="304560" cy="457200"/>
              </a:xfrm>
              <a:prstGeom prst="line">
                <a:avLst/>
              </a:prstGeom>
              <a:ln w="38160">
                <a:solidFill>
                  <a:srgbClr val="fc012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6705720" y="4114800"/>
                <a:ext cx="304560" cy="380880"/>
              </a:xfrm>
              <a:prstGeom prst="line">
                <a:avLst/>
              </a:prstGeom>
              <a:ln w="38160">
                <a:solidFill>
                  <a:srgbClr val="fc012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 flipH="1">
                <a:off x="6171840" y="4267080"/>
                <a:ext cx="152280" cy="457200"/>
              </a:xfrm>
              <a:prstGeom prst="line">
                <a:avLst/>
              </a:prstGeom>
              <a:ln w="38160">
                <a:solidFill>
                  <a:srgbClr val="fc012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10" name=""/>
          <p:cNvGrpSpPr/>
          <p:nvPr/>
        </p:nvGrpSpPr>
        <p:grpSpPr>
          <a:xfrm>
            <a:off x="6477120" y="3048120"/>
            <a:ext cx="1523880" cy="2057400"/>
            <a:chOff x="6477120" y="3048120"/>
            <a:chExt cx="1523880" cy="2057400"/>
          </a:xfrm>
        </p:grpSpPr>
        <p:sp>
          <p:nvSpPr>
            <p:cNvPr id="911" name=""/>
            <p:cNvSpPr/>
            <p:nvPr/>
          </p:nvSpPr>
          <p:spPr>
            <a:xfrm flipV="1">
              <a:off x="7696080" y="4190760"/>
              <a:ext cx="304920" cy="53316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620120" y="3048120"/>
              <a:ext cx="304560" cy="38088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477120" y="5105520"/>
              <a:ext cx="457200" cy="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477120" y="4952880"/>
              <a:ext cx="457200" cy="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5" name=""/>
          <p:cNvGrpSpPr/>
          <p:nvPr/>
        </p:nvGrpSpPr>
        <p:grpSpPr>
          <a:xfrm>
            <a:off x="6477120" y="3048120"/>
            <a:ext cx="1752480" cy="2057400"/>
            <a:chOff x="6477120" y="3048120"/>
            <a:chExt cx="1752480" cy="2057400"/>
          </a:xfrm>
        </p:grpSpPr>
        <p:sp>
          <p:nvSpPr>
            <p:cNvPr id="916" name=""/>
            <p:cNvSpPr/>
            <p:nvPr/>
          </p:nvSpPr>
          <p:spPr>
            <a:xfrm>
              <a:off x="7924680" y="3657600"/>
              <a:ext cx="304920" cy="30492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V="1">
              <a:off x="7696080" y="4190760"/>
              <a:ext cx="304920" cy="53316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620120" y="3048120"/>
              <a:ext cx="304560" cy="38088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6477120" y="5105520"/>
              <a:ext cx="457200" cy="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477120" y="4952880"/>
              <a:ext cx="457200" cy="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Distance Vector Routing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99648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 fontScale="90000"/>
          </a:bodyPr>
          <a:p>
            <a:pPr marL="257040" indent="-2570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node knows its neighbors and the cost of getting to the neighbor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node keeps a routing t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7040" indent="-20556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tination + cost + outgoing lin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node sends the (destination + cost) vector to its neighbo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7040" indent="-20556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oming updates are used to execute one iteration of Dijkstra’s algorithm (Bellman-Ford algorithm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7040" indent="-20556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e that cost can sometimes increase: have to accept the higher cost from nodes that are on shortest pa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are updates sent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7040" indent="-20556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ever information changes: fast propag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7040" indent="-20556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iodically: provides robustness against node fail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Common Properties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 fontScale="87000"/>
          </a:bodyPr>
          <a:p>
            <a:pPr marL="248400" indent="-24840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tributed algorithm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6520" indent="-19872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survive node fail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96520" indent="-19872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lack of) reachability information continues to propag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96520" indent="-19872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can result in temporary problems (e.g. routing loop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8400" indent="-24840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sms to eliminate old informa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6520" indent="-19872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reases stabi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96520" indent="-19872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uces life time of err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8400" indent="-24840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undanc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6520" indent="-19872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s the system more robu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8400" indent="-24840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ft” sta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6520" indent="-19872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e that is periodically upda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96520" indent="-19872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survive node failu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fter a short interruption of servi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Hierarchical Routing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529400" cy="41212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wo level routing based on intra-domain and inter-domain routing to improve scalabilit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ches the structure of the address space (next lecture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iven in part by business/management concern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cal network information is kept intern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greements with specific service providers at bound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1536840" y="4654440"/>
            <a:ext cx="1815840" cy="978120"/>
          </a:xfrm>
          <a:prstGeom prst="ellipse">
            <a:avLst/>
          </a:prstGeom>
          <a:solidFill>
            <a:srgbClr val="114ffb"/>
          </a:solidFill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2603520" y="5645160"/>
            <a:ext cx="1816200" cy="977760"/>
          </a:xfrm>
          <a:prstGeom prst="ellipse">
            <a:avLst/>
          </a:prstGeom>
          <a:solidFill>
            <a:srgbClr val="114ffb"/>
          </a:solidFill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517920" y="4654440"/>
            <a:ext cx="1816200" cy="978120"/>
          </a:xfrm>
          <a:prstGeom prst="ellipse">
            <a:avLst/>
          </a:prstGeom>
          <a:solidFill>
            <a:srgbClr val="114ffb"/>
          </a:solidFill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660920" y="5568840"/>
            <a:ext cx="1816200" cy="978120"/>
          </a:xfrm>
          <a:prstGeom prst="ellipse">
            <a:avLst/>
          </a:prstGeom>
          <a:solidFill>
            <a:srgbClr val="114ffb"/>
          </a:solidFill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5499000" y="4502160"/>
            <a:ext cx="1816200" cy="977760"/>
          </a:xfrm>
          <a:prstGeom prst="ellipse">
            <a:avLst/>
          </a:prstGeom>
          <a:solidFill>
            <a:srgbClr val="114ffb"/>
          </a:solidFill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2463840" y="3733920"/>
            <a:ext cx="1816200" cy="977760"/>
          </a:xfrm>
          <a:prstGeom prst="ellipse">
            <a:avLst/>
          </a:prstGeom>
          <a:solidFill>
            <a:srgbClr val="114ffb"/>
          </a:solidFill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98400" y="4959360"/>
            <a:ext cx="596880" cy="444600"/>
          </a:xfrm>
          <a:prstGeom prst="rect">
            <a:avLst/>
          </a:prstGeom>
          <a:solidFill>
            <a:srgbClr val="3365fb"/>
          </a:solidFill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7480440" y="4807080"/>
            <a:ext cx="596880" cy="444240"/>
          </a:xfrm>
          <a:prstGeom prst="rect">
            <a:avLst/>
          </a:prstGeom>
          <a:solidFill>
            <a:srgbClr val="3365fb"/>
          </a:solidFill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314360" y="5181480"/>
            <a:ext cx="203400" cy="0"/>
          </a:xfrm>
          <a:prstGeom prst="line">
            <a:avLst/>
          </a:prstGeom>
          <a:ln w="255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7334280" y="5029200"/>
            <a:ext cx="127080" cy="0"/>
          </a:xfrm>
          <a:prstGeom prst="line">
            <a:avLst/>
          </a:prstGeom>
          <a:ln w="255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5880240" y="5416560"/>
            <a:ext cx="291960" cy="291960"/>
          </a:xfrm>
          <a:prstGeom prst="rect">
            <a:avLst/>
          </a:prstGeom>
          <a:solidFill>
            <a:srgbClr val="fe9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4432320" y="5950080"/>
            <a:ext cx="291960" cy="290520"/>
          </a:xfrm>
          <a:prstGeom prst="rect">
            <a:avLst/>
          </a:prstGeom>
          <a:solidFill>
            <a:srgbClr val="fe9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898800" y="5568840"/>
            <a:ext cx="292320" cy="292320"/>
          </a:xfrm>
          <a:prstGeom prst="rect">
            <a:avLst/>
          </a:prstGeom>
          <a:solidFill>
            <a:srgbClr val="fe9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755800" y="5492880"/>
            <a:ext cx="292320" cy="291960"/>
          </a:xfrm>
          <a:prstGeom prst="rect">
            <a:avLst/>
          </a:prstGeom>
          <a:solidFill>
            <a:srgbClr val="fe9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270400" y="4959360"/>
            <a:ext cx="292320" cy="291960"/>
          </a:xfrm>
          <a:prstGeom prst="rect">
            <a:avLst/>
          </a:prstGeom>
          <a:solidFill>
            <a:srgbClr val="fe9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2743200" y="4495680"/>
            <a:ext cx="291960" cy="292320"/>
          </a:xfrm>
          <a:prstGeom prst="rect">
            <a:avLst/>
          </a:prstGeom>
          <a:solidFill>
            <a:srgbClr val="fe9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289320" y="4959360"/>
            <a:ext cx="291960" cy="291960"/>
          </a:xfrm>
          <a:prstGeom prst="rect">
            <a:avLst/>
          </a:prstGeom>
          <a:solidFill>
            <a:srgbClr val="fe9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3911760" y="4495680"/>
            <a:ext cx="291960" cy="292320"/>
          </a:xfrm>
          <a:prstGeom prst="rect">
            <a:avLst/>
          </a:prstGeom>
          <a:solidFill>
            <a:srgbClr val="fe9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1847880" y="5937120"/>
            <a:ext cx="596880" cy="444600"/>
          </a:xfrm>
          <a:prstGeom prst="rect">
            <a:avLst/>
          </a:prstGeom>
          <a:solidFill>
            <a:srgbClr val="3365fb"/>
          </a:solidFill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2463840" y="6159600"/>
            <a:ext cx="203040" cy="0"/>
          </a:xfrm>
          <a:prstGeom prst="line">
            <a:avLst/>
          </a:prstGeom>
          <a:ln w="255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689120" y="3873600"/>
            <a:ext cx="596880" cy="444240"/>
          </a:xfrm>
          <a:prstGeom prst="rect">
            <a:avLst/>
          </a:prstGeom>
          <a:solidFill>
            <a:srgbClr val="3365fb"/>
          </a:solidFill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2305080" y="4095720"/>
            <a:ext cx="203040" cy="0"/>
          </a:xfrm>
          <a:prstGeom prst="line">
            <a:avLst/>
          </a:prstGeom>
          <a:ln w="255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6622920" y="5861160"/>
            <a:ext cx="596880" cy="444240"/>
          </a:xfrm>
          <a:prstGeom prst="rect">
            <a:avLst/>
          </a:prstGeom>
          <a:solidFill>
            <a:srgbClr val="3365fb"/>
          </a:solidFill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477120" y="6083280"/>
            <a:ext cx="126720" cy="0"/>
          </a:xfrm>
          <a:prstGeom prst="line">
            <a:avLst/>
          </a:prstGeom>
          <a:ln w="255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356000" y="3873600"/>
            <a:ext cx="596880" cy="444240"/>
          </a:xfrm>
          <a:prstGeom prst="rect">
            <a:avLst/>
          </a:prstGeom>
          <a:solidFill>
            <a:srgbClr val="3365fb"/>
          </a:solidFill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4210200" y="4095720"/>
            <a:ext cx="126720" cy="0"/>
          </a:xfrm>
          <a:prstGeom prst="line">
            <a:avLst/>
          </a:prstGeom>
          <a:ln w="255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6172200" y="4724280"/>
            <a:ext cx="139680" cy="1396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705720" y="4800600"/>
            <a:ext cx="139680" cy="1396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6629400" y="5105520"/>
            <a:ext cx="139680" cy="1396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5867280" y="4889520"/>
            <a:ext cx="139680" cy="1396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6261120" y="5194440"/>
            <a:ext cx="139680" cy="1396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419720" y="4876920"/>
            <a:ext cx="139680" cy="1396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4800600" y="4952880"/>
            <a:ext cx="139680" cy="1396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4724280" y="5257800"/>
            <a:ext cx="139680" cy="1396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3962520" y="4952880"/>
            <a:ext cx="139680" cy="1396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4280040" y="5257800"/>
            <a:ext cx="139680" cy="1396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2311560" y="4876920"/>
            <a:ext cx="139680" cy="1396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2921040" y="5041800"/>
            <a:ext cx="139680" cy="1396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2603520" y="5181480"/>
            <a:ext cx="139680" cy="1396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841400" y="4952880"/>
            <a:ext cx="139680" cy="1396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994040" y="5257800"/>
            <a:ext cx="139680" cy="1396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3365640" y="3886200"/>
            <a:ext cx="139680" cy="1396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3746520" y="4114800"/>
            <a:ext cx="139680" cy="1396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2819520" y="4203720"/>
            <a:ext cx="139680" cy="1396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213000" y="4356000"/>
            <a:ext cx="139680" cy="1396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3276720" y="5867280"/>
            <a:ext cx="139680" cy="1396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051440" y="6032520"/>
            <a:ext cx="139680" cy="1396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3581280" y="6095880"/>
            <a:ext cx="139680" cy="1396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2971800" y="5943600"/>
            <a:ext cx="139680" cy="1396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124080" y="6248520"/>
            <a:ext cx="139680" cy="1396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5562720" y="5956200"/>
            <a:ext cx="139680" cy="1396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5943600" y="5867280"/>
            <a:ext cx="139680" cy="1396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5867280" y="6172200"/>
            <a:ext cx="139680" cy="1396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5194440" y="5791320"/>
            <a:ext cx="139680" cy="1396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5105520" y="6172200"/>
            <a:ext cx="139680" cy="1396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2" name=""/>
          <p:cNvGrpSpPr/>
          <p:nvPr/>
        </p:nvGrpSpPr>
        <p:grpSpPr>
          <a:xfrm>
            <a:off x="4724280" y="5638320"/>
            <a:ext cx="1828800" cy="610200"/>
            <a:chOff x="4724280" y="5638320"/>
            <a:chExt cx="1828800" cy="610200"/>
          </a:xfrm>
        </p:grpSpPr>
        <p:sp>
          <p:nvSpPr>
            <p:cNvPr id="983" name=""/>
            <p:cNvSpPr/>
            <p:nvPr/>
          </p:nvSpPr>
          <p:spPr>
            <a:xfrm>
              <a:off x="5638680" y="6019920"/>
              <a:ext cx="228600" cy="152280"/>
            </a:xfrm>
            <a:prstGeom prst="line">
              <a:avLst/>
            </a:prstGeom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4" name=""/>
            <p:cNvGrpSpPr/>
            <p:nvPr/>
          </p:nvGrpSpPr>
          <p:grpSpPr>
            <a:xfrm>
              <a:off x="4724280" y="5638320"/>
              <a:ext cx="1828800" cy="610200"/>
              <a:chOff x="4724280" y="5638320"/>
              <a:chExt cx="1828800" cy="610200"/>
            </a:xfrm>
          </p:grpSpPr>
          <p:sp>
            <p:nvSpPr>
              <p:cNvPr id="985" name=""/>
              <p:cNvSpPr/>
              <p:nvPr/>
            </p:nvSpPr>
            <p:spPr>
              <a:xfrm flipV="1">
                <a:off x="4724280" y="5866920"/>
                <a:ext cx="457200" cy="228600"/>
              </a:xfrm>
              <a:prstGeom prst="line">
                <a:avLst/>
              </a:prstGeom>
              <a:ln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flipV="1">
                <a:off x="5638680" y="5638320"/>
                <a:ext cx="228600" cy="304920"/>
              </a:xfrm>
              <a:prstGeom prst="line">
                <a:avLst/>
              </a:prstGeom>
              <a:ln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5334120" y="5867280"/>
                <a:ext cx="228600" cy="152640"/>
              </a:xfrm>
              <a:prstGeom prst="line">
                <a:avLst/>
              </a:prstGeom>
              <a:ln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 flipV="1">
                <a:off x="5638680" y="5943600"/>
                <a:ext cx="304920" cy="76320"/>
              </a:xfrm>
              <a:prstGeom prst="line">
                <a:avLst/>
              </a:prstGeom>
              <a:ln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5257800" y="6248520"/>
                <a:ext cx="609480" cy="0"/>
              </a:xfrm>
              <a:prstGeom prst="line">
                <a:avLst/>
              </a:prstGeom>
              <a:ln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 flipV="1">
                <a:off x="5943600" y="6019560"/>
                <a:ext cx="76320" cy="152280"/>
              </a:xfrm>
              <a:prstGeom prst="line">
                <a:avLst/>
              </a:prstGeom>
              <a:ln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 flipV="1">
                <a:off x="6019920" y="6095880"/>
                <a:ext cx="533160" cy="152640"/>
              </a:xfrm>
              <a:prstGeom prst="line">
                <a:avLst/>
              </a:prstGeom>
              <a:ln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 flipV="1">
                <a:off x="5181480" y="5943240"/>
                <a:ext cx="76320" cy="228600"/>
              </a:xfrm>
              <a:prstGeom prst="line">
                <a:avLst/>
              </a:prstGeom>
              <a:ln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 flipV="1">
                <a:off x="6019920" y="5714640"/>
                <a:ext cx="75960" cy="152280"/>
              </a:xfrm>
              <a:prstGeom prst="line">
                <a:avLst/>
              </a:prstGeom>
              <a:ln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4724280" y="6172200"/>
                <a:ext cx="381240" cy="76320"/>
              </a:xfrm>
              <a:prstGeom prst="line">
                <a:avLst/>
              </a:prstGeom>
              <a:ln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95" name=""/>
          <p:cNvGrpSpPr/>
          <p:nvPr/>
        </p:nvGrpSpPr>
        <p:grpSpPr>
          <a:xfrm>
            <a:off x="2895480" y="4572000"/>
            <a:ext cx="3200400" cy="1523880"/>
            <a:chOff x="2895480" y="4572000"/>
            <a:chExt cx="3200400" cy="1523880"/>
          </a:xfrm>
        </p:grpSpPr>
        <p:sp>
          <p:nvSpPr>
            <p:cNvPr id="996" name=""/>
            <p:cNvSpPr/>
            <p:nvPr/>
          </p:nvSpPr>
          <p:spPr>
            <a:xfrm flipV="1">
              <a:off x="2895480" y="5105520"/>
              <a:ext cx="457200" cy="380880"/>
            </a:xfrm>
            <a:prstGeom prst="line">
              <a:avLst/>
            </a:prstGeom>
            <a:ln w="507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V="1">
              <a:off x="4038480" y="4723920"/>
              <a:ext cx="76320" cy="838440"/>
            </a:xfrm>
            <a:prstGeom prst="line">
              <a:avLst/>
            </a:prstGeom>
            <a:ln w="507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3048120" y="5715000"/>
              <a:ext cx="838080" cy="76320"/>
            </a:xfrm>
            <a:prstGeom prst="line">
              <a:avLst/>
            </a:prstGeom>
            <a:ln w="507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895480" y="5715000"/>
              <a:ext cx="1524240" cy="380880"/>
            </a:xfrm>
            <a:prstGeom prst="line">
              <a:avLst/>
            </a:prstGeom>
            <a:ln w="507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V="1">
              <a:off x="3505320" y="4723920"/>
              <a:ext cx="457200" cy="381240"/>
            </a:xfrm>
            <a:prstGeom prst="line">
              <a:avLst/>
            </a:prstGeom>
            <a:ln w="507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H="1">
              <a:off x="2971800" y="4572000"/>
              <a:ext cx="990720" cy="76320"/>
            </a:xfrm>
            <a:prstGeom prst="line">
              <a:avLst/>
            </a:prstGeom>
            <a:ln w="507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V="1">
              <a:off x="4114800" y="5105160"/>
              <a:ext cx="1143000" cy="533160"/>
            </a:xfrm>
            <a:prstGeom prst="line">
              <a:avLst/>
            </a:prstGeom>
            <a:ln w="507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486400" y="5029200"/>
              <a:ext cx="609480" cy="457200"/>
            </a:xfrm>
            <a:prstGeom prst="line">
              <a:avLst/>
            </a:prstGeom>
            <a:ln w="507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 flipV="1">
              <a:off x="4724280" y="5638680"/>
              <a:ext cx="1219320" cy="457200"/>
            </a:xfrm>
            <a:prstGeom prst="line">
              <a:avLst/>
            </a:prstGeom>
            <a:ln w="507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114800" y="5791320"/>
              <a:ext cx="304920" cy="228600"/>
            </a:xfrm>
            <a:prstGeom prst="line">
              <a:avLst/>
            </a:prstGeom>
            <a:ln w="507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191120" y="4724280"/>
              <a:ext cx="1066680" cy="304920"/>
            </a:xfrm>
            <a:prstGeom prst="line">
              <a:avLst/>
            </a:prstGeom>
            <a:ln w="507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Intra- versus</a:t>
            </a:r>
            <a:br>
              <a:rPr sz="3600"/>
            </a:b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Inter-domain Routing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16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ly concerns itself with routing inside the autonomous system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tween two hosts in the 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tween host and boundary rou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tween two boundary route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es not know about the structure of the world outside the A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undary routers represent the connectivity to the outside worl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54440" y="2133720"/>
            <a:ext cx="3803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-28296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ly concerns itself with routing between boundary router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livious to the internal structure of the networ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-router links can be physical or virtual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hysical = single lin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rtual = path consisting of sequence of lin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ies on intra-domain routing for packet transport between boundary router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virtual lin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1370880" y="1463760"/>
            <a:ext cx="253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Times New Roman"/>
              </a:rPr>
              <a:t>Intra-dom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5469840" y="1463760"/>
            <a:ext cx="250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Times New Roman"/>
              </a:rPr>
              <a:t>Inter-dom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Examples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996480" y="19843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 fontScale="94000"/>
          </a:bodyPr>
          <a:p>
            <a:pPr marL="268560" indent="-26856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uting Information Protocol (RIP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rtest-hop distance vector protocol for networ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adomain protoc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Shortest Path First (OSPF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hentication, load balancing, multiple lev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a-domain protoc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rder Gateway Protocol (BGP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vertises complete path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-domain protoc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M PNNI protocol: multi-level hierarchical link state rout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ad sensitiv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A Layer Network Model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41" name=""/>
          <p:cNvSpPr/>
          <p:nvPr/>
        </p:nvSpPr>
        <p:spPr>
          <a:xfrm>
            <a:off x="933480" y="1644480"/>
            <a:ext cx="731520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720" rIns="63720" tIns="25560" bIns="25560" anchor="t">
            <a:spAutoFit/>
          </a:bodyPr>
          <a:p>
            <a:pPr marL="343080" indent="-343080">
              <a:lnSpc>
                <a:spcPct val="97000"/>
              </a:lnSpc>
              <a:spcBef>
                <a:spcPts val="2900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pen Systems Interconnection (OSI) Mod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66680" y="2540160"/>
            <a:ext cx="1498680" cy="431640"/>
          </a:xfrm>
          <a:prstGeom prst="rect">
            <a:avLst/>
          </a:prstGeom>
          <a:solidFill>
            <a:srgbClr val="fc0128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997360"/>
            <a:ext cx="1498680" cy="431640"/>
          </a:xfrm>
          <a:prstGeom prst="rect">
            <a:avLst/>
          </a:prstGeom>
          <a:solidFill>
            <a:srgbClr val="008000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3454560"/>
            <a:ext cx="1498680" cy="431640"/>
          </a:xfrm>
          <a:prstGeom prst="rect">
            <a:avLst/>
          </a:prstGeom>
          <a:solidFill>
            <a:srgbClr val="008000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911760"/>
            <a:ext cx="1498680" cy="431640"/>
          </a:xfrm>
          <a:prstGeom prst="rect">
            <a:avLst/>
          </a:prstGeom>
          <a:solidFill>
            <a:srgbClr val="008000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66680" y="4368960"/>
            <a:ext cx="1498680" cy="430200"/>
          </a:xfrm>
          <a:prstGeom prst="rect">
            <a:avLst/>
          </a:prstGeom>
          <a:solidFill>
            <a:srgbClr val="114ffb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826160"/>
            <a:ext cx="1498680" cy="431640"/>
          </a:xfrm>
          <a:prstGeom prst="rect">
            <a:avLst/>
          </a:prstGeom>
          <a:solidFill>
            <a:srgbClr val="114ffb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 l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283360"/>
            <a:ext cx="1498680" cy="431640"/>
          </a:xfrm>
          <a:prstGeom prst="rect">
            <a:avLst/>
          </a:prstGeom>
          <a:solidFill>
            <a:srgbClr val="114ffb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hys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1760" y="5372280"/>
            <a:ext cx="2545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720" rIns="6372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61760" y="4915080"/>
            <a:ext cx="2545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720" rIns="6372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61760" y="4457880"/>
            <a:ext cx="2545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720" rIns="6372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1760" y="4000680"/>
            <a:ext cx="2545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720" rIns="6372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1760" y="3543480"/>
            <a:ext cx="2545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720" rIns="6372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1760" y="3084480"/>
            <a:ext cx="2545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720" rIns="6372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1760" y="2629080"/>
            <a:ext cx="2545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720" rIns="6372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49560" y="4349880"/>
            <a:ext cx="1498680" cy="430200"/>
          </a:xfrm>
          <a:prstGeom prst="rect">
            <a:avLst/>
          </a:prstGeom>
          <a:solidFill>
            <a:srgbClr val="114ffb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49560" y="4807080"/>
            <a:ext cx="1498680" cy="431640"/>
          </a:xfrm>
          <a:prstGeom prst="rect">
            <a:avLst/>
          </a:prstGeom>
          <a:solidFill>
            <a:srgbClr val="114ffb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 l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49560" y="5264280"/>
            <a:ext cx="1498680" cy="431640"/>
          </a:xfrm>
          <a:prstGeom prst="rect">
            <a:avLst/>
          </a:prstGeom>
          <a:solidFill>
            <a:srgbClr val="114ffb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hys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590920" y="5479920"/>
            <a:ext cx="132084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90920" y="5022720"/>
            <a:ext cx="132084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90920" y="4565520"/>
            <a:ext cx="132084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90920" y="2736720"/>
            <a:ext cx="4190760" cy="1296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769080" y="2540160"/>
            <a:ext cx="1498680" cy="431640"/>
          </a:xfrm>
          <a:prstGeom prst="rect">
            <a:avLst/>
          </a:prstGeom>
          <a:solidFill>
            <a:srgbClr val="fc0128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769080" y="2997360"/>
            <a:ext cx="1498680" cy="431640"/>
          </a:xfrm>
          <a:prstGeom prst="rect">
            <a:avLst/>
          </a:prstGeom>
          <a:solidFill>
            <a:srgbClr val="008000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69080" y="3454560"/>
            <a:ext cx="1498680" cy="431640"/>
          </a:xfrm>
          <a:prstGeom prst="rect">
            <a:avLst/>
          </a:prstGeom>
          <a:solidFill>
            <a:srgbClr val="008000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769080" y="3911760"/>
            <a:ext cx="1498680" cy="431640"/>
          </a:xfrm>
          <a:prstGeom prst="rect">
            <a:avLst/>
          </a:prstGeom>
          <a:solidFill>
            <a:srgbClr val="008000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69080" y="4368960"/>
            <a:ext cx="1498680" cy="430200"/>
          </a:xfrm>
          <a:prstGeom prst="rect">
            <a:avLst/>
          </a:prstGeom>
          <a:solidFill>
            <a:srgbClr val="114ffb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769080" y="4826160"/>
            <a:ext cx="1498680" cy="431640"/>
          </a:xfrm>
          <a:prstGeom prst="rect">
            <a:avLst/>
          </a:prstGeom>
          <a:solidFill>
            <a:srgbClr val="114ffb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 l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769080" y="5283360"/>
            <a:ext cx="1498680" cy="431640"/>
          </a:xfrm>
          <a:prstGeom prst="rect">
            <a:avLst/>
          </a:prstGeom>
          <a:solidFill>
            <a:srgbClr val="114ffb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hys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410080" y="5499000"/>
            <a:ext cx="132084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410080" y="5041800"/>
            <a:ext cx="132084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10080" y="4584600"/>
            <a:ext cx="132084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90920" y="3206880"/>
            <a:ext cx="4190760" cy="1260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590920" y="3664080"/>
            <a:ext cx="4190760" cy="1260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90920" y="4121280"/>
            <a:ext cx="4190760" cy="1260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Multicast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996480" y="1984320"/>
            <a:ext cx="7309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ckets sent by a sender are received by more than one receive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 replicates the pack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 the communication overhead on the sender, making it possible to send to a large number of receiv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tentially reduces bandwidth consumption in the netwo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 issues/challeng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(receiver) multicast group membership managed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do we route packet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do routers forward multicast packet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Multicast Routing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996480" y="19843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on” of point-to-point path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bine message over shared lin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izations possible but difficult if the receivers are not know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used in intern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2540160" y="4552560"/>
            <a:ext cx="939600" cy="66060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2432160" y="5181480"/>
            <a:ext cx="1352520" cy="36216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V="1">
            <a:off x="3835440" y="5181120"/>
            <a:ext cx="882720" cy="41436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3835440" y="5595840"/>
            <a:ext cx="1092240" cy="48096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3530520" y="4578480"/>
            <a:ext cx="1092240" cy="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V="1">
            <a:off x="4749840" y="4171680"/>
            <a:ext cx="863640" cy="43164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4673520" y="4603680"/>
            <a:ext cx="1015920" cy="33012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V="1">
            <a:off x="5664240" y="3885840"/>
            <a:ext cx="1492200" cy="33660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5664240" y="4222800"/>
            <a:ext cx="958680" cy="27288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 flipV="1">
            <a:off x="5740560" y="4800600"/>
            <a:ext cx="1415880" cy="18432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5816520" y="4984920"/>
            <a:ext cx="959040" cy="42516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 flipV="1">
            <a:off x="4978440" y="5466960"/>
            <a:ext cx="711000" cy="66060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4978440" y="6127920"/>
            <a:ext cx="2178000" cy="12060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 flipV="1">
            <a:off x="4870440" y="5695560"/>
            <a:ext cx="1276200" cy="47628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3346560" y="4419720"/>
            <a:ext cx="304560" cy="30456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7010280" y="3740040"/>
            <a:ext cx="381240" cy="381240"/>
          </a:xfrm>
          <a:prstGeom prst="ellipse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6019920" y="5492880"/>
            <a:ext cx="380880" cy="380880"/>
          </a:xfrm>
          <a:prstGeom prst="ellipse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4572000" y="5035680"/>
            <a:ext cx="380880" cy="380880"/>
          </a:xfrm>
          <a:prstGeom prst="ellipse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934320" y="6026040"/>
            <a:ext cx="380880" cy="381240"/>
          </a:xfrm>
          <a:prstGeom prst="ellipse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553080" y="5264280"/>
            <a:ext cx="381240" cy="380880"/>
          </a:xfrm>
          <a:prstGeom prst="ellipse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6477120" y="4349880"/>
            <a:ext cx="380880" cy="380880"/>
          </a:xfrm>
          <a:prstGeom prst="ellipse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6934320" y="4654440"/>
            <a:ext cx="380880" cy="381240"/>
          </a:xfrm>
          <a:prstGeom prst="ellipse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5638680" y="5264280"/>
            <a:ext cx="381240" cy="380880"/>
          </a:xfrm>
          <a:prstGeom prst="ellipse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5632560" y="4800600"/>
            <a:ext cx="304560" cy="30492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479920" y="4038480"/>
            <a:ext cx="304920" cy="30492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4565520" y="4419720"/>
            <a:ext cx="304920" cy="30456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3651120" y="5410080"/>
            <a:ext cx="304920" cy="30492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4794120" y="5943600"/>
            <a:ext cx="304920" cy="30492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1365120" y="5181480"/>
            <a:ext cx="1092240" cy="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2400480" y="5022720"/>
            <a:ext cx="304560" cy="30492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1289160" y="5029200"/>
            <a:ext cx="380880" cy="380880"/>
          </a:xfrm>
          <a:prstGeom prst="ellipse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Group Management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 fontScale="89000"/>
          </a:bodyPr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agement strategy depends on usag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034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quickly does membership change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034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trictions on membershi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034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ze of the grou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et: focus on large groups that can change rapidly and with little control over membership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034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tributed algorithm (scalability, agai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034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eiver-initiated management (scalability, agai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034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der does not have list of receivers (scalability, agai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et Group Management Protocol (IGMP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034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ters jointly keep track of membershi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034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ies on multicast (e.g. Ethernet) in leaf networ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034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ocol defines how receivers contact routers to join a grou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Hop-by-Hop Packet</a:t>
            </a:r>
            <a:br>
              <a:rPr sz="3600"/>
            </a:b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Forwarding in the Internet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052" name=""/>
          <p:cNvSpPr/>
          <p:nvPr/>
        </p:nvSpPr>
        <p:spPr>
          <a:xfrm>
            <a:off x="1841400" y="1981080"/>
            <a:ext cx="1816200" cy="978120"/>
          </a:xfrm>
          <a:prstGeom prst="ellipse">
            <a:avLst/>
          </a:prstGeom>
          <a:solidFill>
            <a:srgbClr val="114ffb"/>
          </a:solidFill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Eth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809880" y="1981080"/>
            <a:ext cx="1816200" cy="978120"/>
          </a:xfrm>
          <a:prstGeom prst="ellipse">
            <a:avLst/>
          </a:prstGeom>
          <a:solidFill>
            <a:srgbClr val="114ffb"/>
          </a:solidFill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W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803920" y="1994040"/>
            <a:ext cx="1816200" cy="977760"/>
          </a:xfrm>
          <a:prstGeom prst="ellipse">
            <a:avLst/>
          </a:prstGeom>
          <a:solidFill>
            <a:srgbClr val="114ffb"/>
          </a:solidFill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Mix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Eth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1003320" y="2286000"/>
            <a:ext cx="596880" cy="444600"/>
          </a:xfrm>
          <a:prstGeom prst="rect">
            <a:avLst/>
          </a:prstGeom>
          <a:solidFill>
            <a:srgbClr val="3365fb"/>
          </a:solidFill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7785000" y="2298600"/>
            <a:ext cx="596880" cy="444600"/>
          </a:xfrm>
          <a:prstGeom prst="rect">
            <a:avLst/>
          </a:prstGeom>
          <a:solidFill>
            <a:srgbClr val="3365fb"/>
          </a:solidFill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1619280" y="2508120"/>
            <a:ext cx="203040" cy="0"/>
          </a:xfrm>
          <a:prstGeom prst="line">
            <a:avLst/>
          </a:prstGeom>
          <a:ln w="255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7639200" y="2521080"/>
            <a:ext cx="126720" cy="0"/>
          </a:xfrm>
          <a:prstGeom prst="line">
            <a:avLst/>
          </a:prstGeom>
          <a:ln w="255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5575320" y="2286000"/>
            <a:ext cx="291960" cy="291960"/>
          </a:xfrm>
          <a:prstGeom prst="rect">
            <a:avLst/>
          </a:prstGeom>
          <a:solidFill>
            <a:srgbClr val="fe9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3594240" y="2286000"/>
            <a:ext cx="291960" cy="291960"/>
          </a:xfrm>
          <a:prstGeom prst="rect">
            <a:avLst/>
          </a:prstGeom>
          <a:solidFill>
            <a:srgbClr val="fe9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2819520" y="4740120"/>
            <a:ext cx="228600" cy="2286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1143000" y="3368520"/>
            <a:ext cx="304920" cy="304920"/>
          </a:xfrm>
          <a:prstGeom prst="ellipse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3505320" y="4054320"/>
            <a:ext cx="380880" cy="381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2209680" y="4740120"/>
            <a:ext cx="228600" cy="2286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324480" y="4740120"/>
            <a:ext cx="228600" cy="2286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7010280" y="4740120"/>
            <a:ext cx="228600" cy="2286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2362320" y="4968720"/>
            <a:ext cx="533160" cy="304920"/>
          </a:xfrm>
          <a:custGeom>
            <a:avLst/>
            <a:gdLst/>
            <a:ahLst/>
            <a:rect l="l" t="t" r="r" b="b"/>
            <a:pathLst>
              <a:path w="336" h="192">
                <a:moveTo>
                  <a:pt x="0" y="0"/>
                </a:moveTo>
                <a:lnTo>
                  <a:pt x="0" y="192"/>
                </a:lnTo>
                <a:lnTo>
                  <a:pt x="336" y="192"/>
                </a:lnTo>
                <a:lnTo>
                  <a:pt x="336" y="0"/>
                </a:lnTo>
              </a:path>
            </a:pathLst>
          </a:custGeom>
          <a:noFill/>
          <a:ln w="28440">
            <a:solidFill>
              <a:srgbClr val="114ffb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6477120" y="4968720"/>
            <a:ext cx="609480" cy="304920"/>
          </a:xfrm>
          <a:custGeom>
            <a:avLst/>
            <a:gdLst/>
            <a:ahLst/>
            <a:rect l="l" t="t" r="r" b="b"/>
            <a:pathLst>
              <a:path w="336" h="192">
                <a:moveTo>
                  <a:pt x="0" y="0"/>
                </a:moveTo>
                <a:lnTo>
                  <a:pt x="0" y="192"/>
                </a:lnTo>
                <a:lnTo>
                  <a:pt x="336" y="192"/>
                </a:lnTo>
                <a:lnTo>
                  <a:pt x="336" y="0"/>
                </a:lnTo>
              </a:path>
            </a:pathLst>
          </a:custGeom>
          <a:noFill/>
          <a:ln w="28440">
            <a:solidFill>
              <a:srgbClr val="114ffb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971800" y="4435560"/>
            <a:ext cx="609480" cy="838080"/>
          </a:xfrm>
          <a:custGeom>
            <a:avLst/>
            <a:gdLst/>
            <a:ahLst/>
            <a:rect l="l" t="t" r="r" b="b"/>
            <a:pathLst>
              <a:path w="432" h="528">
                <a:moveTo>
                  <a:pt x="0" y="336"/>
                </a:moveTo>
                <a:lnTo>
                  <a:pt x="0" y="528"/>
                </a:lnTo>
                <a:lnTo>
                  <a:pt x="432" y="528"/>
                </a:lnTo>
                <a:lnTo>
                  <a:pt x="432" y="0"/>
                </a:lnTo>
              </a:path>
            </a:pathLst>
          </a:custGeom>
          <a:noFill/>
          <a:ln w="28440">
            <a:solidFill>
              <a:srgbClr val="114ffb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5638680" y="4054320"/>
            <a:ext cx="381240" cy="381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 flipH="1">
            <a:off x="5943600" y="4435560"/>
            <a:ext cx="457200" cy="838080"/>
          </a:xfrm>
          <a:custGeom>
            <a:avLst/>
            <a:gdLst/>
            <a:ahLst/>
            <a:rect l="l" t="t" r="r" b="b"/>
            <a:pathLst>
              <a:path w="432" h="528">
                <a:moveTo>
                  <a:pt x="0" y="336"/>
                </a:moveTo>
                <a:lnTo>
                  <a:pt x="0" y="528"/>
                </a:lnTo>
                <a:lnTo>
                  <a:pt x="432" y="528"/>
                </a:lnTo>
                <a:lnTo>
                  <a:pt x="432" y="0"/>
                </a:lnTo>
              </a:path>
            </a:pathLst>
          </a:custGeom>
          <a:noFill/>
          <a:ln w="28440">
            <a:solidFill>
              <a:srgbClr val="114ffb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7924680" y="3368520"/>
            <a:ext cx="304920" cy="304920"/>
          </a:xfrm>
          <a:prstGeom prst="ellipse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1295280" y="3673440"/>
            <a:ext cx="990720" cy="1600200"/>
          </a:xfrm>
          <a:custGeom>
            <a:avLst/>
            <a:gdLst/>
            <a:ahLst/>
            <a:rect l="l" t="t" r="r" b="b"/>
            <a:pathLst>
              <a:path w="720" h="1008">
                <a:moveTo>
                  <a:pt x="0" y="0"/>
                </a:moveTo>
                <a:lnTo>
                  <a:pt x="0" y="1008"/>
                </a:lnTo>
                <a:lnTo>
                  <a:pt x="720" y="1008"/>
                </a:lnTo>
                <a:lnTo>
                  <a:pt x="720" y="816"/>
                </a:lnTo>
              </a:path>
            </a:pathLst>
          </a:custGeom>
          <a:noFill/>
          <a:ln w="28440">
            <a:solidFill>
              <a:srgbClr val="114ffb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 flipH="1">
            <a:off x="7162920" y="3673440"/>
            <a:ext cx="914400" cy="1600200"/>
          </a:xfrm>
          <a:custGeom>
            <a:avLst/>
            <a:gdLst/>
            <a:ahLst/>
            <a:rect l="l" t="t" r="r" b="b"/>
            <a:pathLst>
              <a:path w="720" h="1008">
                <a:moveTo>
                  <a:pt x="0" y="0"/>
                </a:moveTo>
                <a:lnTo>
                  <a:pt x="0" y="1008"/>
                </a:lnTo>
                <a:lnTo>
                  <a:pt x="720" y="1008"/>
                </a:lnTo>
                <a:lnTo>
                  <a:pt x="720" y="816"/>
                </a:lnTo>
              </a:path>
            </a:pathLst>
          </a:custGeom>
          <a:noFill/>
          <a:ln w="28440">
            <a:solidFill>
              <a:srgbClr val="114ffb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213840" y="3352680"/>
            <a:ext cx="308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4038480" y="4038480"/>
            <a:ext cx="381240" cy="381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4572000" y="4038480"/>
            <a:ext cx="380880" cy="381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5105520" y="4038480"/>
            <a:ext cx="380880" cy="381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3733920" y="4419720"/>
            <a:ext cx="380880" cy="838080"/>
          </a:xfrm>
          <a:custGeom>
            <a:avLst/>
            <a:gdLst/>
            <a:ahLst/>
            <a:rect l="l" t="t" r="r" b="b"/>
            <a:pathLst>
              <a:path w="240" h="528">
                <a:moveTo>
                  <a:pt x="0" y="0"/>
                </a:moveTo>
                <a:lnTo>
                  <a:pt x="0" y="528"/>
                </a:lnTo>
                <a:lnTo>
                  <a:pt x="240" y="528"/>
                </a:lnTo>
                <a:lnTo>
                  <a:pt x="240" y="0"/>
                </a:lnTo>
              </a:path>
            </a:pathLst>
          </a:custGeom>
          <a:noFill/>
          <a:ln w="19080">
            <a:solidFill>
              <a:srgbClr val="114ffb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4267080" y="4419720"/>
            <a:ext cx="381240" cy="838080"/>
          </a:xfrm>
          <a:custGeom>
            <a:avLst/>
            <a:gdLst/>
            <a:ahLst/>
            <a:rect l="l" t="t" r="r" b="b"/>
            <a:pathLst>
              <a:path w="240" h="528">
                <a:moveTo>
                  <a:pt x="0" y="0"/>
                </a:moveTo>
                <a:lnTo>
                  <a:pt x="0" y="528"/>
                </a:lnTo>
                <a:lnTo>
                  <a:pt x="240" y="528"/>
                </a:lnTo>
                <a:lnTo>
                  <a:pt x="240" y="0"/>
                </a:lnTo>
              </a:path>
            </a:pathLst>
          </a:custGeom>
          <a:noFill/>
          <a:ln w="19080">
            <a:solidFill>
              <a:srgbClr val="114ffb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4876920" y="4419720"/>
            <a:ext cx="380880" cy="838080"/>
          </a:xfrm>
          <a:custGeom>
            <a:avLst/>
            <a:gdLst/>
            <a:ahLst/>
            <a:rect l="l" t="t" r="r" b="b"/>
            <a:pathLst>
              <a:path w="240" h="528">
                <a:moveTo>
                  <a:pt x="0" y="0"/>
                </a:moveTo>
                <a:lnTo>
                  <a:pt x="0" y="528"/>
                </a:lnTo>
                <a:lnTo>
                  <a:pt x="240" y="528"/>
                </a:lnTo>
                <a:lnTo>
                  <a:pt x="240" y="0"/>
                </a:lnTo>
              </a:path>
            </a:pathLst>
          </a:custGeom>
          <a:noFill/>
          <a:ln w="19080">
            <a:solidFill>
              <a:srgbClr val="114ffb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5410080" y="4419720"/>
            <a:ext cx="381240" cy="838080"/>
          </a:xfrm>
          <a:custGeom>
            <a:avLst/>
            <a:gdLst/>
            <a:ahLst/>
            <a:rect l="l" t="t" r="r" b="b"/>
            <a:pathLst>
              <a:path w="240" h="528">
                <a:moveTo>
                  <a:pt x="0" y="0"/>
                </a:moveTo>
                <a:lnTo>
                  <a:pt x="0" y="528"/>
                </a:lnTo>
                <a:lnTo>
                  <a:pt x="240" y="528"/>
                </a:lnTo>
                <a:lnTo>
                  <a:pt x="240" y="0"/>
                </a:lnTo>
              </a:path>
            </a:pathLst>
          </a:custGeom>
          <a:noFill/>
          <a:ln w="19080">
            <a:solidFill>
              <a:srgbClr val="114ffb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 flipH="1" flipV="1">
            <a:off x="4723920" y="5257440"/>
            <a:ext cx="38124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 flipH="1" flipV="1">
            <a:off x="1294920" y="5257440"/>
            <a:ext cx="38124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1662840" y="5329080"/>
            <a:ext cx="2764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ute look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tur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xt hop IP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5104800" y="5319720"/>
            <a:ext cx="25459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ute look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tur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utgoing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Translation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106632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 -&gt; (IP) destination addr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me look up: cache + serv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tination address -&gt; next hop addr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k up in routing t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 address -&gt; physical addr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ess resolution protocol (AR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iter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ability: should work for large networ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rectness: the right answer in a dynamic environ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bustness: can survive failu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: cach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Domain Name System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996840" y="1752480"/>
            <a:ext cx="7385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39760" indent="-23976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late “names” into IP address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000" indent="-19188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so: adding new names, changing the name-address mapping, delete names, supporting short cuts, and secur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6000" indent="-19188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 challenge is scale: large number of hos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NS uses a hierarchical naming schem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0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waii.cmcl.cs.cmu.e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 idea: a separate authority for the name y.z... manages the name space </a:t>
            </a:r>
            <a:r>
              <a:rPr b="1" i="1" lang="en-US" sz="2800" spc="-1" strike="noStrike">
                <a:solidFill>
                  <a:srgbClr val="fc0128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y.z.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000" indent="-19188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MCL lab manages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cmcl.cs.cmu.ed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6000" indent="-19188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r science manages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cs.cmu.ed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6000" indent="-19188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MU manages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cmu.ed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ing authority is distribut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000" indent="-19188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 InterNIC for .com, .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DNS Server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98432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80080" indent="-28008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DNS server is responsible for maintaining the name-address mapping in a specific domai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cs.cmu.ed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etwork manager can add, remove, or change mapping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uters can send requests to the server to translate a name into an addres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how do you find the server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ursively contact the parent in the hierarchical name spa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ching is used to speed up the lookup of frequently used nam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008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6095880" y="3184560"/>
            <a:ext cx="1752840" cy="990720"/>
          </a:xfrm>
          <a:prstGeom prst="rect">
            <a:avLst/>
          </a:prstGeom>
          <a:solidFill>
            <a:srgbClr val="336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s.cmu.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 flipV="1">
            <a:off x="6324480" y="4174920"/>
            <a:ext cx="0" cy="990360"/>
          </a:xfrm>
          <a:prstGeom prst="line">
            <a:avLst/>
          </a:prstGeom>
          <a:ln w="5076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 flipV="1">
            <a:off x="7620120" y="4174920"/>
            <a:ext cx="0" cy="1523880"/>
          </a:xfrm>
          <a:prstGeom prst="line">
            <a:avLst/>
          </a:prstGeom>
          <a:ln w="50760">
            <a:solidFill>
              <a:srgbClr val="114ffb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5223960" y="5214960"/>
            <a:ext cx="216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awaii.cs.cmu.ed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5789520" y="1797120"/>
            <a:ext cx="224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ther DNS serv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 flipV="1">
            <a:off x="6324480" y="2193840"/>
            <a:ext cx="0" cy="990720"/>
          </a:xfrm>
          <a:prstGeom prst="line">
            <a:avLst/>
          </a:prstGeom>
          <a:ln w="5076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 flipV="1">
            <a:off x="7620120" y="2193840"/>
            <a:ext cx="0" cy="990720"/>
          </a:xfrm>
          <a:prstGeom prst="line">
            <a:avLst/>
          </a:prstGeom>
          <a:ln w="50760">
            <a:solidFill>
              <a:srgbClr val="114ffb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6854400" y="5775480"/>
            <a:ext cx="152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28.17.4.17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Name Lookup Example</a:t>
            </a:r>
            <a:br>
              <a:rPr sz="3600"/>
            </a:b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Recursive Queries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102" name=""/>
          <p:cNvSpPr/>
          <p:nvPr/>
        </p:nvSpPr>
        <p:spPr>
          <a:xfrm>
            <a:off x="914400" y="5791320"/>
            <a:ext cx="1752480" cy="685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.cs.cmu.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914400" y="4419720"/>
            <a:ext cx="1752480" cy="685800"/>
          </a:xfrm>
          <a:prstGeom prst="rect">
            <a:avLst/>
          </a:prstGeom>
          <a:solidFill>
            <a:srgbClr val="336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s.cmu.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3657600" y="1828800"/>
            <a:ext cx="1752480" cy="685800"/>
          </a:xfrm>
          <a:prstGeom prst="rect">
            <a:avLst/>
          </a:prstGeom>
          <a:solidFill>
            <a:srgbClr val="336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oot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5867280" y="3352680"/>
            <a:ext cx="1752840" cy="685800"/>
          </a:xfrm>
          <a:prstGeom prst="rect">
            <a:avLst/>
          </a:prstGeom>
          <a:solidFill>
            <a:srgbClr val="336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cb.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5867280" y="4724280"/>
            <a:ext cx="1752840" cy="685800"/>
          </a:xfrm>
          <a:prstGeom prst="rect">
            <a:avLst/>
          </a:prstGeom>
          <a:solidFill>
            <a:srgbClr val="336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s.ucb.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 flipV="1">
            <a:off x="1447920" y="510516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5105520" y="2514600"/>
            <a:ext cx="152388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H="1">
            <a:off x="1599840" y="2514600"/>
            <a:ext cx="2438280" cy="19051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 flipV="1">
            <a:off x="2133720" y="510516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839880" y="1981080"/>
            <a:ext cx="174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cs.ucb.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5867280" y="5867280"/>
            <a:ext cx="1752840" cy="685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.cs.ucb.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 flipH="1">
            <a:off x="1904760" y="2514600"/>
            <a:ext cx="2438280" cy="1905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 flipV="1">
            <a:off x="6400800" y="403812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flipV="1">
            <a:off x="7086600" y="403812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724280" y="2514600"/>
            <a:ext cx="1524240" cy="8380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ARP: </a:t>
            </a:r>
            <a:br>
              <a:rPr sz="3600"/>
            </a:b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Address Resolution Protocol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242640" y="1668600"/>
            <a:ext cx="4405320" cy="41227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 fontScale="94000"/>
          </a:bodyPr>
          <a:p>
            <a:pPr marL="268560" indent="-26856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over physical address given an internet addres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oadcast request to nodes on local network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tination will respond with MAC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tination saves internet + physical address of requesting no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node keeps cache to limit overhea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me out old ent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roadcast LANs often use ARP serve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BMA ARP (NARP) for non-broadcast, multi-access networ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5365800" y="3359160"/>
            <a:ext cx="3073320" cy="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6635880" y="3511440"/>
            <a:ext cx="457200" cy="4572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7702560" y="3511440"/>
            <a:ext cx="457200" cy="4572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5568840" y="3511440"/>
            <a:ext cx="457200" cy="4572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5574600" y="2970360"/>
            <a:ext cx="2948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641640" y="2970360"/>
            <a:ext cx="2948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7712640" y="2970360"/>
            <a:ext cx="2844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71240" y="56880"/>
            <a:ext cx="7173720" cy="1144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IPv4 Protocol Functions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7174080" cy="41212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est layer that is not end to en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nectionless best-effort packet deliver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ader shows what functions are provid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2836800" y="3827520"/>
            <a:ext cx="890640" cy="357120"/>
          </a:xfrm>
          <a:prstGeom prst="rect">
            <a:avLst/>
          </a:prstGeom>
          <a:solidFill>
            <a:srgbClr val="114ffb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/H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3753000" y="3827520"/>
            <a:ext cx="888840" cy="357120"/>
          </a:xfrm>
          <a:prstGeom prst="rect">
            <a:avLst/>
          </a:prstGeom>
          <a:solidFill>
            <a:srgbClr val="114ffb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4667400" y="3827520"/>
            <a:ext cx="1803240" cy="357120"/>
          </a:xfrm>
          <a:prstGeom prst="rect">
            <a:avLst/>
          </a:prstGeom>
          <a:solidFill>
            <a:srgbClr val="114ffb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2836800" y="4210200"/>
            <a:ext cx="1805040" cy="353880"/>
          </a:xfrm>
          <a:prstGeom prst="rect">
            <a:avLst/>
          </a:prstGeom>
          <a:solidFill>
            <a:srgbClr val="114ffb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667400" y="4210200"/>
            <a:ext cx="1803240" cy="353880"/>
          </a:xfrm>
          <a:prstGeom prst="rect">
            <a:avLst/>
          </a:prstGeom>
          <a:solidFill>
            <a:srgbClr val="114ffb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lags/Off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2836800" y="4589640"/>
            <a:ext cx="890640" cy="357120"/>
          </a:xfrm>
          <a:prstGeom prst="rect">
            <a:avLst/>
          </a:prstGeom>
          <a:solidFill>
            <a:srgbClr val="114ffb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T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3753000" y="4589640"/>
            <a:ext cx="888840" cy="357120"/>
          </a:xfrm>
          <a:prstGeom prst="rect">
            <a:avLst/>
          </a:prstGeom>
          <a:solidFill>
            <a:srgbClr val="114ffb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4667400" y="4589640"/>
            <a:ext cx="1803240" cy="357120"/>
          </a:xfrm>
          <a:prstGeom prst="rect">
            <a:avLst/>
          </a:prstGeom>
          <a:solidFill>
            <a:srgbClr val="114ffb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. Checks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2836800" y="4971960"/>
            <a:ext cx="3633840" cy="354240"/>
          </a:xfrm>
          <a:prstGeom prst="rect">
            <a:avLst/>
          </a:prstGeom>
          <a:solidFill>
            <a:srgbClr val="114ffb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urce IP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2836800" y="5351400"/>
            <a:ext cx="3633840" cy="357120"/>
          </a:xfrm>
          <a:prstGeom prst="rect">
            <a:avLst/>
          </a:prstGeom>
          <a:solidFill>
            <a:srgbClr val="114ffb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stination IP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2836800" y="5734080"/>
            <a:ext cx="3633840" cy="353880"/>
          </a:xfrm>
          <a:prstGeom prst="rect">
            <a:avLst/>
          </a:prstGeom>
          <a:solidFill>
            <a:srgbClr val="114ffb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ptions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OSI Functions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96480" y="19843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) Physical: transmission of a bit strea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2) Data link: flow control, framing, error detec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3) Network: switching and rout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4) Transport: reliable end to end deliver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5) Session: managing logical connectio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6) Presentation: data transformatio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7) Application: specific uses, e.g. mail, file transfer, telnet, network managemen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88200" y="5799240"/>
            <a:ext cx="6269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plexing takes place in multiple lay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Multiplexing and</a:t>
            </a:r>
            <a:br>
              <a:rPr sz="3600"/>
            </a:b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Demultiplexing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996480" y="198432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col field specifies which transport protocol (layer 4) should interpret the packe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tocol identifiers are controlled by IA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form of multiplexing and demultiplexing happens at each laye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gical Link Control (LLC) header in datalink layer (layer 2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7467480" y="3962520"/>
            <a:ext cx="914400" cy="38088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H="1" flipV="1">
            <a:off x="7620120" y="3733560"/>
            <a:ext cx="304560" cy="228600"/>
          </a:xfrm>
          <a:prstGeom prst="line">
            <a:avLst/>
          </a:prstGeom>
          <a:ln w="1908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flipV="1">
            <a:off x="7924680" y="3733560"/>
            <a:ext cx="304920" cy="228600"/>
          </a:xfrm>
          <a:prstGeom prst="line">
            <a:avLst/>
          </a:prstGeom>
          <a:ln w="1908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 flipV="1">
            <a:off x="7924680" y="3657240"/>
            <a:ext cx="0" cy="304920"/>
          </a:xfrm>
          <a:prstGeom prst="line">
            <a:avLst/>
          </a:prstGeom>
          <a:ln w="1908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467480" y="3276720"/>
            <a:ext cx="914400" cy="38088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 flipH="1" flipV="1">
            <a:off x="7620120" y="3047760"/>
            <a:ext cx="304560" cy="228600"/>
          </a:xfrm>
          <a:prstGeom prst="line">
            <a:avLst/>
          </a:prstGeom>
          <a:ln w="1908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 flipV="1">
            <a:off x="7924680" y="3047760"/>
            <a:ext cx="304920" cy="228600"/>
          </a:xfrm>
          <a:prstGeom prst="line">
            <a:avLst/>
          </a:prstGeom>
          <a:ln w="1908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 flipV="1">
            <a:off x="7924680" y="2971440"/>
            <a:ext cx="0" cy="304920"/>
          </a:xfrm>
          <a:prstGeom prst="line">
            <a:avLst/>
          </a:prstGeom>
          <a:ln w="1908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486400" y="3962520"/>
            <a:ext cx="914400" cy="38088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 flipH="1" flipV="1">
            <a:off x="5638320" y="3733560"/>
            <a:ext cx="304920" cy="228600"/>
          </a:xfrm>
          <a:prstGeom prst="line">
            <a:avLst/>
          </a:prstGeom>
          <a:ln w="1908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 flipV="1">
            <a:off x="5943600" y="3733560"/>
            <a:ext cx="304920" cy="228600"/>
          </a:xfrm>
          <a:prstGeom prst="line">
            <a:avLst/>
          </a:prstGeom>
          <a:ln w="1908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 flipV="1">
            <a:off x="5943600" y="3657240"/>
            <a:ext cx="0" cy="304920"/>
          </a:xfrm>
          <a:prstGeom prst="line">
            <a:avLst/>
          </a:prstGeom>
          <a:ln w="1908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5486400" y="3276720"/>
            <a:ext cx="914400" cy="38088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 flipH="1" flipV="1">
            <a:off x="5638320" y="3047760"/>
            <a:ext cx="304920" cy="228600"/>
          </a:xfrm>
          <a:prstGeom prst="line">
            <a:avLst/>
          </a:prstGeom>
          <a:ln w="1908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flipV="1">
            <a:off x="5943600" y="3047760"/>
            <a:ext cx="304920" cy="228600"/>
          </a:xfrm>
          <a:prstGeom prst="line">
            <a:avLst/>
          </a:prstGeom>
          <a:ln w="1908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 flipV="1">
            <a:off x="5943600" y="2971440"/>
            <a:ext cx="0" cy="304920"/>
          </a:xfrm>
          <a:prstGeom prst="line">
            <a:avLst/>
          </a:prstGeom>
          <a:ln w="1908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5943600" y="4343400"/>
            <a:ext cx="1981080" cy="380880"/>
          </a:xfrm>
          <a:custGeom>
            <a:avLst/>
            <a:gdLst/>
            <a:ahLst/>
            <a:rect l="l" t="t" r="r" b="b"/>
            <a:pathLst>
              <a:path w="1248" h="240">
                <a:moveTo>
                  <a:pt x="0" y="0"/>
                </a:moveTo>
                <a:lnTo>
                  <a:pt x="0" y="240"/>
                </a:lnTo>
                <a:lnTo>
                  <a:pt x="1248" y="240"/>
                </a:lnTo>
                <a:lnTo>
                  <a:pt x="1248" y="0"/>
                </a:lnTo>
              </a:path>
            </a:pathLst>
          </a:custGeom>
          <a:noFill/>
          <a:ln w="1908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Time to live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996480" y="19843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al: drop packets that are stuck in an infinite loop in the network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happen because of route inconsistenc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rement TTL field in each hop and drop packet if it reaches 0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eld is initialized by send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outer that drops the packet notifies the send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d as basis for trace tool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d sequence of packets with TTL set to 1, 2, 3, .. until the destination is reach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quence of ICMP replies identifies current rou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Fragmentation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834840" y="1809360"/>
            <a:ext cx="7242120" cy="413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 fontScale="94000"/>
          </a:bodyPr>
          <a:p>
            <a:pPr marL="268560" indent="-26856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fferent networks have a different maximum transfer unit (MTU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problem can occur if packet is routed onto network with a smaller MTU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 FDDI (4500B) onto Ethernet (1500B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: break packet into smaller fragmen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fragment has identifier and sequence numb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tination reassembles packet before handing it up in the stack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ternative would be to reassemble when entering network with larger MT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der can disable fragmentation using fla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Fragmentation Example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163" name=""/>
          <p:cNvSpPr/>
          <p:nvPr/>
        </p:nvSpPr>
        <p:spPr>
          <a:xfrm>
            <a:off x="2222640" y="2222640"/>
            <a:ext cx="901440" cy="520560"/>
          </a:xfrm>
          <a:prstGeom prst="rect">
            <a:avLst/>
          </a:prstGeom>
          <a:solidFill>
            <a:srgbClr val="919191"/>
          </a:solidFill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3213000" y="2222640"/>
            <a:ext cx="4178520" cy="520560"/>
          </a:xfrm>
          <a:prstGeom prst="rect">
            <a:avLst/>
          </a:prstGeom>
          <a:solidFill>
            <a:srgbClr val="114ffb"/>
          </a:solidFill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622440" y="4203720"/>
            <a:ext cx="901440" cy="519120"/>
          </a:xfrm>
          <a:prstGeom prst="rect">
            <a:avLst/>
          </a:prstGeom>
          <a:solidFill>
            <a:srgbClr val="919191"/>
          </a:solidFill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1612800" y="4203720"/>
            <a:ext cx="1435320" cy="519120"/>
          </a:xfrm>
          <a:prstGeom prst="rect">
            <a:avLst/>
          </a:prstGeom>
          <a:solidFill>
            <a:srgbClr val="114ffb"/>
          </a:solidFill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4508640" y="4203720"/>
            <a:ext cx="1434960" cy="519120"/>
          </a:xfrm>
          <a:prstGeom prst="rect">
            <a:avLst/>
          </a:prstGeom>
          <a:solidFill>
            <a:srgbClr val="114ffb"/>
          </a:solidFill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7251840" y="4203720"/>
            <a:ext cx="1282680" cy="519120"/>
          </a:xfrm>
          <a:prstGeom prst="rect">
            <a:avLst/>
          </a:prstGeom>
          <a:solidFill>
            <a:srgbClr val="114ffb"/>
          </a:solidFill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3441600" y="4203720"/>
            <a:ext cx="901800" cy="519120"/>
          </a:xfrm>
          <a:prstGeom prst="rect">
            <a:avLst/>
          </a:prstGeom>
          <a:solidFill>
            <a:srgbClr val="919191"/>
          </a:solidFill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6261120" y="4203720"/>
            <a:ext cx="901800" cy="519120"/>
          </a:xfrm>
          <a:prstGeom prst="rect">
            <a:avLst/>
          </a:prstGeom>
          <a:solidFill>
            <a:srgbClr val="919191"/>
          </a:solidFill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 flipH="1">
            <a:off x="1593720" y="2762280"/>
            <a:ext cx="1625760" cy="1422360"/>
          </a:xfrm>
          <a:prstGeom prst="line">
            <a:avLst/>
          </a:prstGeom>
          <a:ln w="255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H="1">
            <a:off x="3041640" y="2762280"/>
            <a:ext cx="1625760" cy="1422360"/>
          </a:xfrm>
          <a:prstGeom prst="line">
            <a:avLst/>
          </a:prstGeom>
          <a:ln w="255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 flipH="1">
            <a:off x="4489560" y="2762280"/>
            <a:ext cx="177840" cy="1422360"/>
          </a:xfrm>
          <a:prstGeom prst="line">
            <a:avLst/>
          </a:prstGeom>
          <a:ln w="255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H="1">
            <a:off x="5937120" y="2762280"/>
            <a:ext cx="177840" cy="1422360"/>
          </a:xfrm>
          <a:prstGeom prst="line">
            <a:avLst/>
          </a:prstGeom>
          <a:ln w="255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6114960" y="2762280"/>
            <a:ext cx="1117800" cy="1422360"/>
          </a:xfrm>
          <a:prstGeom prst="line">
            <a:avLst/>
          </a:prstGeom>
          <a:ln w="255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7410600" y="2762280"/>
            <a:ext cx="1117440" cy="1422360"/>
          </a:xfrm>
          <a:prstGeom prst="line">
            <a:avLst/>
          </a:prstGeom>
          <a:ln w="255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499000" y="5575320"/>
            <a:ext cx="1206720" cy="520560"/>
          </a:xfrm>
          <a:prstGeom prst="rect">
            <a:avLst/>
          </a:prstGeom>
          <a:solidFill>
            <a:srgbClr val="114ffb"/>
          </a:solidFill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Off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2755800" y="5575320"/>
            <a:ext cx="1816200" cy="520560"/>
          </a:xfrm>
          <a:prstGeom prst="rect">
            <a:avLst/>
          </a:prstGeom>
          <a:solidFill>
            <a:srgbClr val="114ffb"/>
          </a:solidFill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Ident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4660920" y="5575320"/>
            <a:ext cx="749160" cy="520560"/>
          </a:xfrm>
          <a:prstGeom prst="rect">
            <a:avLst/>
          </a:prstGeom>
          <a:solidFill>
            <a:srgbClr val="114ffb"/>
          </a:solidFill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Fla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 rot="10800000">
            <a:off x="1072080" y="3920760"/>
            <a:ext cx="3174480" cy="195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9" y="0"/>
                </a:moveTo>
                <a:arcTo wR="10800" hR="10800" stAng="-5403443" swAng="5403443"/>
                <a:lnTo>
                  <a:pt x="10800" y="10800"/>
                </a:lnTo>
                <a:close/>
              </a:path>
              <a:path fill="none" w="21600" h="21600">
                <a:moveTo>
                  <a:pt x="10789" y="0"/>
                </a:moveTo>
                <a:arcTo wR="10800" hR="10800" stAng="-5403443" swAng="5403443"/>
              </a:path>
            </a:pathLst>
          </a:custGeom>
          <a:noFill/>
          <a:ln cap="rnd" w="25560">
            <a:solidFill>
              <a:srgbClr val="114ffb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"/>
          <p:cNvSpPr/>
          <p:nvPr/>
        </p:nvSpPr>
        <p:spPr>
          <a:xfrm>
            <a:off x="5054760" y="2743200"/>
            <a:ext cx="3632040" cy="660240"/>
          </a:xfrm>
          <a:prstGeom prst="rect">
            <a:avLst/>
          </a:prstGeom>
          <a:solidFill>
            <a:srgbClr val="114ffb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P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ICMP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996840" y="1983960"/>
            <a:ext cx="3422880" cy="4264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et Control Message Protocol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ort errors to sende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dire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ired packe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agmentation probl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so used as the basis for tracing and information retrieval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5054760" y="3429000"/>
            <a:ext cx="888840" cy="355680"/>
          </a:xfrm>
          <a:prstGeom prst="rect">
            <a:avLst/>
          </a:prstGeom>
          <a:solidFill>
            <a:srgbClr val="114ffb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969160" y="3429000"/>
            <a:ext cx="888840" cy="355680"/>
          </a:xfrm>
          <a:prstGeom prst="rect">
            <a:avLst/>
          </a:prstGeom>
          <a:solidFill>
            <a:srgbClr val="114ffb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6883560" y="3429000"/>
            <a:ext cx="1803240" cy="355680"/>
          </a:xfrm>
          <a:prstGeom prst="rect">
            <a:avLst/>
          </a:prstGeom>
          <a:solidFill>
            <a:srgbClr val="114ffb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ecks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5054760" y="3809880"/>
            <a:ext cx="3632040" cy="660600"/>
          </a:xfrm>
          <a:prstGeom prst="rect">
            <a:avLst/>
          </a:prstGeom>
          <a:solidFill>
            <a:srgbClr val="114ffb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CMP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IP v6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6840" y="1746360"/>
            <a:ext cx="4343400" cy="4883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xt generation” IP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urgent issue: increasing address spac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8 bit addresse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ified header for faster processing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other chang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port for guaranteed services: priority and flow i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s handled as “next header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duces overhead of handling op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5027760" y="2362320"/>
            <a:ext cx="890280" cy="357120"/>
          </a:xfrm>
          <a:prstGeom prst="rect">
            <a:avLst/>
          </a:prstGeom>
          <a:solidFill>
            <a:srgbClr val="114ffb"/>
          </a:solidFill>
          <a:ln w="0">
            <a:noFill/>
          </a:ln>
          <a:effectLst>
            <a:outerShdw dist="63504" dir="2216091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/P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5943600" y="2362320"/>
            <a:ext cx="2741760" cy="357120"/>
          </a:xfrm>
          <a:prstGeom prst="rect">
            <a:avLst/>
          </a:prstGeom>
          <a:solidFill>
            <a:srgbClr val="114ffb"/>
          </a:solidFill>
          <a:ln w="0">
            <a:noFill/>
          </a:ln>
          <a:effectLst>
            <a:outerShdw dist="63504" dir="2216091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low 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5029200" y="2819520"/>
            <a:ext cx="1805040" cy="353880"/>
          </a:xfrm>
          <a:prstGeom prst="rect">
            <a:avLst/>
          </a:prstGeom>
          <a:solidFill>
            <a:srgbClr val="114ffb"/>
          </a:solidFill>
          <a:ln w="0">
            <a:noFill/>
          </a:ln>
          <a:effectLst>
            <a:outerShdw dist="63504" dir="2216091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6858000" y="2819520"/>
            <a:ext cx="888840" cy="357120"/>
          </a:xfrm>
          <a:prstGeom prst="rect">
            <a:avLst/>
          </a:prstGeom>
          <a:solidFill>
            <a:srgbClr val="114ffb"/>
          </a:solidFill>
          <a:ln w="0">
            <a:noFill/>
          </a:ln>
          <a:effectLst>
            <a:outerShdw dist="63504" dir="2216091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7772400" y="2819520"/>
            <a:ext cx="914400" cy="357120"/>
          </a:xfrm>
          <a:prstGeom prst="rect">
            <a:avLst/>
          </a:prstGeom>
          <a:solidFill>
            <a:srgbClr val="114ffb"/>
          </a:solidFill>
          <a:ln w="0">
            <a:noFill/>
          </a:ln>
          <a:effectLst>
            <a:outerShdw dist="63504" dir="2216091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p 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5029200" y="3276720"/>
            <a:ext cx="3657600" cy="1371600"/>
          </a:xfrm>
          <a:prstGeom prst="rect">
            <a:avLst/>
          </a:prstGeom>
          <a:solidFill>
            <a:srgbClr val="114ffb"/>
          </a:solidFill>
          <a:ln w="0">
            <a:noFill/>
          </a:ln>
          <a:effectLst>
            <a:outerShdw dist="63504" dir="2216091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urce IP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5029200" y="4722840"/>
            <a:ext cx="3657600" cy="1371600"/>
          </a:xfrm>
          <a:prstGeom prst="rect">
            <a:avLst/>
          </a:prstGeom>
          <a:solidFill>
            <a:srgbClr val="114ffb"/>
          </a:solidFill>
          <a:ln w="0">
            <a:noFill/>
          </a:ln>
          <a:effectLst>
            <a:outerShdw dist="63504" dir="2216091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stination IP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IPv6 Addressing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996480" y="1983960"/>
            <a:ext cx="716292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8 bit addresses with complex structur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: format for local configuration, geographical addressing, IPv4 backwards compatible, 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r-based unicast addressing extends the format used in IPv4 with CID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2058840" y="5105520"/>
            <a:ext cx="1143000" cy="60948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gis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1295280" y="5105520"/>
            <a:ext cx="687600" cy="60948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3278160" y="5105520"/>
            <a:ext cx="1143000" cy="60948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vi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6935760" y="5105520"/>
            <a:ext cx="609480" cy="60948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5943600" y="5105520"/>
            <a:ext cx="915840" cy="60948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4497480" y="5105520"/>
            <a:ext cx="1407960" cy="60948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bscri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Migration from IPv4 to IPv6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996480" y="19843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 fontScale="94000"/>
          </a:bodyPr>
          <a:p>
            <a:pPr marL="268560" indent="-26856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operability with IP v4 is necessary for gradual deploymen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mechanism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al stack operation: IP v6 nodes support both address typ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nneling: tunnel IP v6 packets through IP v4 clou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fortunately there is little motivation for any one organization to move to IP v6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hallenge is the existing hosts (using IPv4 addresse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ttle benefit unless one can consistently use IPv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no longer talk to IPv4 nod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etching address space through address translation seems to work reasonably wel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Some Tools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996480" y="19843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ng: check whether a host exists and measure the roundtrip tim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oodping: send as fast as you can - not very friend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ceroute: find the path to a hos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ed on ICMP, as described earli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hchar: more recent tool that tries to measure the bandwidth of each link on the path to a host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ats on the network pretty heavi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slookup: uses DNS to find IP address of hos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OSI Motivation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616880" cy="41227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 fontScale="97000"/>
          </a:bodyPr>
          <a:p>
            <a:pPr marL="277200" indent="-27720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layer provides services to the layer above, using services provided by the layer below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layer encapsulates/encodes/fragments data from the layer abov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operability two way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920" indent="-2214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er level protocols (e.g. TCP/IP, Appletalk) can run on multiple lower lay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4920" indent="-2214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ple higher level protocols can share a single physical netwo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s naturally creates independent modul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920" indent="-2214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yers can be implemented and modified in iso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4920" indent="-2214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ten not true in practi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447920" y="4114800"/>
            <a:ext cx="1447560" cy="1676520"/>
          </a:xfrm>
          <a:prstGeom prst="cloudCallout">
            <a:avLst>
              <a:gd name="adj1" fmla="val -44847"/>
              <a:gd name="adj2" fmla="val -2555"/>
            </a:avLst>
          </a:prstGeom>
          <a:solidFill>
            <a:srgbClr val="fe9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400800" y="4191120"/>
            <a:ext cx="1447920" cy="1676160"/>
          </a:xfrm>
          <a:prstGeom prst="cloudCallout">
            <a:avLst>
              <a:gd name="adj1" fmla="val -44847"/>
              <a:gd name="adj2" fmla="val -2555"/>
            </a:avLst>
          </a:prstGeom>
          <a:solidFill>
            <a:srgbClr val="d93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4114800"/>
            <a:ext cx="1447920" cy="1676520"/>
          </a:xfrm>
          <a:prstGeom prst="cloudCallout">
            <a:avLst>
              <a:gd name="adj1" fmla="val -44847"/>
              <a:gd name="adj2" fmla="val -2555"/>
            </a:avLst>
          </a:prstGeom>
          <a:solidFill>
            <a:srgbClr val="c1c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Example Revisited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" y="2457360"/>
            <a:ext cx="1498680" cy="895320"/>
          </a:xfrm>
          <a:prstGeom prst="rect">
            <a:avLst/>
          </a:prstGeom>
          <a:solidFill>
            <a:srgbClr val="114ffb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row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569360" y="2457360"/>
            <a:ext cx="1498320" cy="895320"/>
          </a:xfrm>
          <a:prstGeom prst="rect">
            <a:avLst/>
          </a:prstGeom>
          <a:solidFill>
            <a:srgbClr val="114ffb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752480" y="2889360"/>
            <a:ext cx="5778720" cy="61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6629400" y="4743360"/>
            <a:ext cx="2438280" cy="432000"/>
            <a:chOff x="6629400" y="4743360"/>
            <a:chExt cx="2438280" cy="432000"/>
          </a:xfrm>
        </p:grpSpPr>
        <p:sp>
          <p:nvSpPr>
            <p:cNvPr id="189" name=""/>
            <p:cNvSpPr/>
            <p:nvPr/>
          </p:nvSpPr>
          <p:spPr>
            <a:xfrm>
              <a:off x="7569360" y="4743360"/>
              <a:ext cx="1498320" cy="432000"/>
            </a:xfrm>
            <a:prstGeom prst="rect">
              <a:avLst/>
            </a:prstGeom>
            <a:solidFill>
              <a:srgbClr val="114ffb"/>
            </a:solidFill>
            <a:ln w="255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ecec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ata lin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29400" y="4952880"/>
              <a:ext cx="901800" cy="6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4191120" y="4724280"/>
            <a:ext cx="2438280" cy="432000"/>
            <a:chOff x="4191120" y="4724280"/>
            <a:chExt cx="2438280" cy="432000"/>
          </a:xfrm>
        </p:grpSpPr>
        <p:sp>
          <p:nvSpPr>
            <p:cNvPr id="192" name=""/>
            <p:cNvSpPr/>
            <p:nvPr/>
          </p:nvSpPr>
          <p:spPr>
            <a:xfrm>
              <a:off x="5130720" y="4724280"/>
              <a:ext cx="1498680" cy="432000"/>
            </a:xfrm>
            <a:prstGeom prst="rect">
              <a:avLst/>
            </a:prstGeom>
            <a:solidFill>
              <a:srgbClr val="114ffb"/>
            </a:solidFill>
            <a:ln w="255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ecec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ata lin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191120" y="4952880"/>
              <a:ext cx="901440" cy="6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219560" y="247968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228600" y="3165480"/>
            <a:ext cx="8839080" cy="638280"/>
            <a:chOff x="228600" y="3165480"/>
            <a:chExt cx="8839080" cy="638280"/>
          </a:xfrm>
        </p:grpSpPr>
        <p:sp>
          <p:nvSpPr>
            <p:cNvPr id="196" name=""/>
            <p:cNvSpPr/>
            <p:nvPr/>
          </p:nvSpPr>
          <p:spPr>
            <a:xfrm>
              <a:off x="228600" y="3371760"/>
              <a:ext cx="1498680" cy="432000"/>
            </a:xfrm>
            <a:prstGeom prst="rect">
              <a:avLst/>
            </a:prstGeom>
            <a:solidFill>
              <a:srgbClr val="114ffb"/>
            </a:solidFill>
            <a:ln w="255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ecec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es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569360" y="3371760"/>
              <a:ext cx="1498320" cy="432000"/>
            </a:xfrm>
            <a:prstGeom prst="rect">
              <a:avLst/>
            </a:prstGeom>
            <a:solidFill>
              <a:srgbClr val="114ffb"/>
            </a:solidFill>
            <a:ln w="255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ecec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es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752480" y="3581280"/>
              <a:ext cx="5778720" cy="6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127400" y="3165480"/>
              <a:ext cx="116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ocke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228600" y="3622680"/>
            <a:ext cx="8839080" cy="638280"/>
            <a:chOff x="228600" y="3622680"/>
            <a:chExt cx="8839080" cy="638280"/>
          </a:xfrm>
        </p:grpSpPr>
        <p:sp>
          <p:nvSpPr>
            <p:cNvPr id="201" name=""/>
            <p:cNvSpPr/>
            <p:nvPr/>
          </p:nvSpPr>
          <p:spPr>
            <a:xfrm>
              <a:off x="228600" y="3828960"/>
              <a:ext cx="1498680" cy="432000"/>
            </a:xfrm>
            <a:prstGeom prst="rect">
              <a:avLst/>
            </a:prstGeom>
            <a:solidFill>
              <a:srgbClr val="114ffb"/>
            </a:solidFill>
            <a:ln w="255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ecec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rans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569360" y="3828960"/>
              <a:ext cx="1498320" cy="432000"/>
            </a:xfrm>
            <a:prstGeom prst="rect">
              <a:avLst/>
            </a:prstGeom>
            <a:solidFill>
              <a:srgbClr val="114ffb"/>
            </a:solidFill>
            <a:ln w="255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ecec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rans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752480" y="4038480"/>
              <a:ext cx="5778720" cy="6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322160" y="362268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C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28600" y="4079880"/>
            <a:ext cx="8839080" cy="636480"/>
            <a:chOff x="228600" y="4079880"/>
            <a:chExt cx="8839080" cy="636480"/>
          </a:xfrm>
        </p:grpSpPr>
        <p:sp>
          <p:nvSpPr>
            <p:cNvPr id="206" name=""/>
            <p:cNvSpPr/>
            <p:nvPr/>
          </p:nvSpPr>
          <p:spPr>
            <a:xfrm>
              <a:off x="228600" y="4286160"/>
              <a:ext cx="1498680" cy="430200"/>
            </a:xfrm>
            <a:prstGeom prst="rect">
              <a:avLst/>
            </a:prstGeom>
            <a:solidFill>
              <a:srgbClr val="114ffb"/>
            </a:solidFill>
            <a:ln w="255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ecec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569360" y="4286160"/>
              <a:ext cx="1498320" cy="430200"/>
            </a:xfrm>
            <a:prstGeom prst="rect">
              <a:avLst/>
            </a:prstGeom>
            <a:solidFill>
              <a:srgbClr val="114ffb"/>
            </a:solidFill>
            <a:ln w="255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ecec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130720" y="4267080"/>
              <a:ext cx="1498680" cy="430200"/>
            </a:xfrm>
            <a:prstGeom prst="rect">
              <a:avLst/>
            </a:prstGeom>
            <a:solidFill>
              <a:srgbClr val="114ffb"/>
            </a:solidFill>
            <a:ln w="255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ecec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666880" y="4267080"/>
              <a:ext cx="1498680" cy="430200"/>
            </a:xfrm>
            <a:prstGeom prst="rect">
              <a:avLst/>
            </a:prstGeom>
            <a:solidFill>
              <a:srgbClr val="114ffb"/>
            </a:solidFill>
            <a:ln w="255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ecec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629400" y="4495680"/>
              <a:ext cx="914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752480" y="4495680"/>
              <a:ext cx="914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191120" y="4495680"/>
              <a:ext cx="914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465440" y="40798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28600" y="4724280"/>
            <a:ext cx="3936960" cy="451080"/>
            <a:chOff x="228600" y="4724280"/>
            <a:chExt cx="3936960" cy="451080"/>
          </a:xfrm>
        </p:grpSpPr>
        <p:sp>
          <p:nvSpPr>
            <p:cNvPr id="215" name=""/>
            <p:cNvSpPr/>
            <p:nvPr/>
          </p:nvSpPr>
          <p:spPr>
            <a:xfrm>
              <a:off x="228600" y="4743360"/>
              <a:ext cx="1498680" cy="432000"/>
            </a:xfrm>
            <a:prstGeom prst="rect">
              <a:avLst/>
            </a:prstGeom>
            <a:solidFill>
              <a:srgbClr val="114ffb"/>
            </a:solidFill>
            <a:ln w="255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ecec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ata lin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4724280"/>
              <a:ext cx="1498680" cy="432000"/>
            </a:xfrm>
            <a:prstGeom prst="rect">
              <a:avLst/>
            </a:prstGeom>
            <a:solidFill>
              <a:srgbClr val="114ffb"/>
            </a:solidFill>
            <a:ln w="255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ecec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ata lin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752480" y="4952880"/>
              <a:ext cx="901800" cy="6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228600" y="5181480"/>
            <a:ext cx="8839080" cy="451080"/>
            <a:chOff x="228600" y="5181480"/>
            <a:chExt cx="8839080" cy="451080"/>
          </a:xfrm>
        </p:grpSpPr>
        <p:sp>
          <p:nvSpPr>
            <p:cNvPr id="219" name=""/>
            <p:cNvSpPr/>
            <p:nvPr/>
          </p:nvSpPr>
          <p:spPr>
            <a:xfrm>
              <a:off x="228600" y="5200560"/>
              <a:ext cx="1498680" cy="432000"/>
            </a:xfrm>
            <a:prstGeom prst="rect">
              <a:avLst/>
            </a:prstGeom>
            <a:solidFill>
              <a:srgbClr val="114ffb"/>
            </a:solidFill>
            <a:ln w="255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ecec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hysi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569360" y="5200560"/>
              <a:ext cx="1498320" cy="432000"/>
            </a:xfrm>
            <a:prstGeom prst="rect">
              <a:avLst/>
            </a:prstGeom>
            <a:solidFill>
              <a:srgbClr val="114ffb"/>
            </a:solidFill>
            <a:ln w="255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ecec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hysi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130720" y="5181480"/>
              <a:ext cx="1498680" cy="432000"/>
            </a:xfrm>
            <a:prstGeom prst="rect">
              <a:avLst/>
            </a:prstGeom>
            <a:solidFill>
              <a:srgbClr val="114ffb"/>
            </a:solidFill>
            <a:ln w="255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ecec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hysi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666880" y="5181480"/>
              <a:ext cx="1498680" cy="432000"/>
            </a:xfrm>
            <a:prstGeom prst="rect">
              <a:avLst/>
            </a:prstGeom>
            <a:solidFill>
              <a:srgbClr val="114ffb"/>
            </a:solidFill>
            <a:ln w="255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ecec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hysi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629400" y="5410080"/>
              <a:ext cx="901800" cy="6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752480" y="5410080"/>
              <a:ext cx="901800" cy="6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191120" y="5410080"/>
              <a:ext cx="901440" cy="6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16T14:02:43Z</dcterms:created>
  <dc:creator>Campus User</dc:creator>
  <dc:description/>
  <dc:language>en-US</dc:language>
  <cp:lastModifiedBy>Valued Gateway Client</cp:lastModifiedBy>
  <cp:lastPrinted>2000-03-08T22:39:43Z</cp:lastPrinted>
  <dcterms:modified xsi:type="dcterms:W3CDTF">2000-09-25T14:14:10Z</dcterms:modified>
  <cp:revision>122</cp:revision>
  <dc:subject/>
  <dc:title>Darwin: Customizable  Resource Management for  Value-added Services  http://www.cs.cmu.edu/~darwin  </dc:title>
</cp:coreProperties>
</file>