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rt shows where the costs lie in a typical credit card compan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02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02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66400"/>
            <a:ext cx="8381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6000" indent="-154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2480" y="1285920"/>
            <a:ext cx="798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6280" y="92160"/>
            <a:ext cx="8817120" cy="65023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9080" y="6586560"/>
            <a:ext cx="18572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1999  Marvin A. Sir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00920" y="6586560"/>
            <a:ext cx="11145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89388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60C043-07E6-47EF-ABD2-AD324A87F8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9680" y="95400"/>
            <a:ext cx="525600" cy="522000"/>
          </a:xfrm>
          <a:custGeom>
            <a:avLst/>
            <a:gdLst/>
            <a:ahLst/>
            <a:rect l="l" t="t" r="r" b="b"/>
            <a:pathLst>
              <a:path w="331" h="329">
                <a:moveTo>
                  <a:pt x="57" y="328"/>
                </a:moveTo>
                <a:lnTo>
                  <a:pt x="0" y="61"/>
                </a:lnTo>
                <a:lnTo>
                  <a:pt x="273" y="0"/>
                </a:lnTo>
                <a:lnTo>
                  <a:pt x="330" y="263"/>
                </a:lnTo>
                <a:lnTo>
                  <a:pt x="57" y="3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3480" y="125280"/>
            <a:ext cx="675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rneg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7160" y="208080"/>
            <a:ext cx="62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ll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 Payment Systems and 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vin Sirb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Engineering and Public Poli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uate School of Industrial Administ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ttsburgh, Pa U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netbil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putational Efficien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key encryption and decryption are computationally expens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Pentium 9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28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C4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15,230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en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1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de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17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ublic Key to encrypt a symmetric key; use symmetric key to encrypt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=&gt; B     E(M, K), E(K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RSA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9800" y="1425600"/>
            <a:ext cx="8134560" cy="4533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fact that factoring the product of two large primes is very difficu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s may be 512 - 1024 bits lo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ion and Decryption are commuta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D(M) = D(E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Public Keys for Signa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 Message M, computer a Message Digest,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 H(M) using the Private key of the sender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d M, D(H(M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cipient uses sender’s public key, 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verify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E(D(H(M))) matches H(M) computed on the received message, th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ssage must have been signed by the se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sender knows 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not been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easible to create an altered message which computes to the same H(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OBTAINING PUBLIC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wants to communicate securely with B, how can A obtain B’s public ke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A trusts a third party cal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Author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well know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asks the CA for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 return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ed by the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{B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ertificate is a message signed by the trusted CA asserting that B’s public key is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mercial Certificate Authoriti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ern Tele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(Lotus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nfidence in Certificat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“identity certificate” would  you trust mo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membership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’s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passport to issue, you must provide extensive proof of identity to the iss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 offers multip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ublic Key Certificates which vary by how much of an effort Verisign makes to assure the identity of the person named in the certific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tomicity in Electronic Commer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ity:  money is not lost or created in a trans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ity:  Money is exchanged for goods in an atomic trans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  Merchant can prove what consumer ordered and consumer can prove what merchant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icrosoft Authenticode or Sun’s signed Java applets, can prove that software came from a particular author and was not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orders signed by consumer allow proof of what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-Based Payment Model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e transmission of credit car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a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he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ized online aggegation accou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05740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7120" y="205740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49840" y="205740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200" spc="-1" strike="noStrike">
                <a:solidFill>
                  <a:srgbClr val="232323"/>
                </a:solidFill>
                <a:latin typeface="Times New Roman"/>
              </a:rPr>
              <a:t>Internet Payment Transaction Ranges</a:t>
            </a:r>
            <a:endParaRPr b="1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5760" y="2516040"/>
            <a:ext cx="153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Pa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4000" y="212256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5200" y="212256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212256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14800"/>
            <a:ext cx="8512200" cy="7621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8200" y="430704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4000" y="4307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4160" y="4307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4307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206880"/>
            <a:ext cx="8526240" cy="6793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720" y="334800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4160" y="334800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84920" y="3348000"/>
            <a:ext cx="1271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1520" y="33480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880" y="5105520"/>
            <a:ext cx="8512200" cy="6919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523404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4160" y="5234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4000" y="5234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1520" y="5234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6720" y="6275520"/>
            <a:ext cx="368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Digital Equipment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Info Sent Direct to Merchant  (Netscape Model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1120" y="2389320"/>
            <a:ext cx="100080" cy="343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4120" y="40086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2960" y="1631880"/>
            <a:ext cx="1517760" cy="81288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9720" y="1932120"/>
            <a:ext cx="320508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2400" y="17463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92680" y="1517760"/>
            <a:ext cx="147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48160" y="2533680"/>
            <a:ext cx="2685960" cy="3733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sends card # direct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ilar to today’s phone or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trust merchant with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transaction co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Informatio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arket Struc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04920" y="762120"/>
          <a:ext cx="1005840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762120"/>
                    <a:ext cx="100584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Intermediary Model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(CyberCash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461360" y="3384720"/>
            <a:ext cx="1517400" cy="812520"/>
            <a:chOff x="7461360" y="3384720"/>
            <a:chExt cx="1517400" cy="812520"/>
          </a:xfrm>
        </p:grpSpPr>
        <p:sp>
          <p:nvSpPr>
            <p:cNvPr id="172" name=""/>
            <p:cNvSpPr/>
            <p:nvPr/>
          </p:nvSpPr>
          <p:spPr>
            <a:xfrm>
              <a:off x="7461360" y="3384720"/>
              <a:ext cx="1517400" cy="81252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800" y="34974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180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Cybercash gateway to acquir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o credit card card c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240" y="4699080"/>
            <a:ext cx="1289160" cy="869760"/>
          </a:xfrm>
          <a:prstGeom prst="ellipse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040" y="494496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ber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61240" y="4281120"/>
            <a:ext cx="21420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Credit Card Transactions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47920" y="1981080"/>
          <a:ext cx="68706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8706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86880" y="6546960"/>
            <a:ext cx="220536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2323"/>
                </a:solidFill>
                <a:latin typeface="Times New Roman"/>
              </a:rPr>
              <a:t>copyright CyberCash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onsumer and merchant have public key pai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gateway maintains list of public keys of consumers and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uses her private key to sign payment authorization and hash of transaction de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uses his private key to sign invo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verifies both signatures before communicating with ban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ssible for merchant to forge consumer’s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Acquirer On the Net (SET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622920" y="4565520"/>
            <a:ext cx="1517760" cy="812880"/>
            <a:chOff x="6622920" y="4565520"/>
            <a:chExt cx="1517760" cy="812880"/>
          </a:xfrm>
        </p:grpSpPr>
        <p:sp>
          <p:nvSpPr>
            <p:cNvPr id="221" name=""/>
            <p:cNvSpPr/>
            <p:nvPr/>
          </p:nvSpPr>
          <p:spPr>
            <a:xfrm>
              <a:off x="6622920" y="4565520"/>
              <a:ext cx="1517760" cy="81288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42360" y="46782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229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acquir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s expensive credit card 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T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65240" y="18241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754680" y="1725480"/>
            <a:ext cx="80028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666800" y="5052960"/>
            <a:ext cx="196524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84400" y="18478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21906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84400" y="25336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4400" y="28764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32194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84400" y="35622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3440" y="1479600"/>
            <a:ext cx="276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ques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42680" y="1879560"/>
            <a:ext cx="286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Acknowledg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7040" y="2260440"/>
            <a:ext cx="221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Purchas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9600" y="2584440"/>
            <a:ext cx="354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Purchase Orde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31920" y="2889360"/>
            <a:ext cx="1883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 Status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0520" y="3287880"/>
            <a:ext cx="358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Purchase status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2743200"/>
            <a:ext cx="2884320" cy="2401920"/>
          </a:xfrm>
          <a:custGeom>
            <a:avLst/>
            <a:gdLst/>
            <a:ahLst/>
            <a:rect l="l" t="t" r="r" b="b"/>
            <a:pathLst>
              <a:path w="1817" h="1513">
                <a:moveTo>
                  <a:pt x="1816" y="0"/>
                </a:moveTo>
                <a:lnTo>
                  <a:pt x="1816" y="1512"/>
                </a:lnTo>
                <a:lnTo>
                  <a:pt x="0" y="15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05440" y="2895480"/>
            <a:ext cx="2923920" cy="2630520"/>
          </a:xfrm>
          <a:custGeom>
            <a:avLst/>
            <a:gdLst/>
            <a:ahLst/>
            <a:rect l="l" t="t" r="r" b="b"/>
            <a:pathLst>
              <a:path w="1842" h="1657">
                <a:moveTo>
                  <a:pt x="1841" y="0"/>
                </a:moveTo>
                <a:lnTo>
                  <a:pt x="1841" y="1656"/>
                </a:lnTo>
                <a:lnTo>
                  <a:pt x="0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120" y="2876400"/>
            <a:ext cx="3381480" cy="2935440"/>
          </a:xfrm>
          <a:custGeom>
            <a:avLst/>
            <a:gdLst/>
            <a:ahLst/>
            <a:rect l="l" t="t" r="r" b="b"/>
            <a:pathLst>
              <a:path w="2130" h="1849">
                <a:moveTo>
                  <a:pt x="2129" y="0"/>
                </a:moveTo>
                <a:lnTo>
                  <a:pt x="2129" y="1848"/>
                </a:lnTo>
                <a:lnTo>
                  <a:pt x="0" y="18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48040" y="2952720"/>
            <a:ext cx="3811680" cy="3183120"/>
          </a:xfrm>
          <a:custGeom>
            <a:avLst/>
            <a:gdLst/>
            <a:ahLst/>
            <a:rect l="l" t="t" r="r" b="b"/>
            <a:pathLst>
              <a:path w="2401" h="2005">
                <a:moveTo>
                  <a:pt x="2400" y="0"/>
                </a:moveTo>
                <a:lnTo>
                  <a:pt x="2400" y="2004"/>
                </a:lnTo>
                <a:lnTo>
                  <a:pt x="0" y="200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6200" y="4811760"/>
            <a:ext cx="303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Customer paym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7560" y="5192640"/>
            <a:ext cx="269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Verify custom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07240" y="5554800"/>
            <a:ext cx="241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 Request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77080" y="5859360"/>
            <a:ext cx="227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 Verify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21284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1360" y="109872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720" y="6278400"/>
            <a:ext cx="28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 Acquirer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tal Cash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 strings as tokens representing value (amount, serial #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d by banks (similar to 19th century bank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 to protect integ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easily duplicated.  Must prevent double spending by monitoring serial number re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cash Mode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232323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99760" y="3843360"/>
            <a:ext cx="1096920" cy="203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671480" y="3805200"/>
            <a:ext cx="1097280" cy="203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814120" y="2357280"/>
            <a:ext cx="220680" cy="347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33680" y="2389320"/>
            <a:ext cx="1077840" cy="785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398600" y="2338200"/>
            <a:ext cx="976320" cy="88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38360" y="46022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62000" y="40496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6400" y="28702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7558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14680" y="25653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5400" y="1409400"/>
            <a:ext cx="5086440" cy="4724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asks Bank for Digicas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sends Digicash bits to consu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sends Digicash to merchant in pay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checks that Digicash has not been double sp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verifies that Digicash is vali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,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ing double sp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bustness against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9200" y="2089080"/>
            <a:ext cx="7779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illic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6880" y="2133720"/>
            <a:ext cx="7991640" cy="3657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q’s (DEC) micropayment syste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-specific currency,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r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scrip from bro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hecks for double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down to 0.1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down to 0.002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d to minimize cryp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trial in Jap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518000" y="4648320"/>
            <a:ext cx="4283280" cy="1995480"/>
            <a:chOff x="4518000" y="4648320"/>
            <a:chExt cx="4283280" cy="1995480"/>
          </a:xfrm>
        </p:grpSpPr>
        <p:grpSp>
          <p:nvGrpSpPr>
            <p:cNvPr id="308" name=""/>
            <p:cNvGrpSpPr/>
            <p:nvPr/>
          </p:nvGrpSpPr>
          <p:grpSpPr>
            <a:xfrm>
              <a:off x="7340760" y="4648320"/>
              <a:ext cx="1460520" cy="774720"/>
              <a:chOff x="7340760" y="4648320"/>
              <a:chExt cx="1460520" cy="774720"/>
            </a:xfrm>
          </p:grpSpPr>
          <p:sp>
            <p:nvSpPr>
              <p:cNvPr id="309" name=""/>
              <p:cNvSpPr/>
              <p:nvPr/>
            </p:nvSpPr>
            <p:spPr>
              <a:xfrm>
                <a:off x="734076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6400" y="4648320"/>
                <a:ext cx="111780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648200" y="4730760"/>
              <a:ext cx="90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8000" y="5821200"/>
              <a:ext cx="184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15200" y="4800600"/>
              <a:ext cx="10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58200" y="5494320"/>
              <a:ext cx="71568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754600" y="5436720"/>
              <a:ext cx="563760" cy="5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85120" y="5551560"/>
              <a:ext cx="465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02240" y="5003640"/>
              <a:ext cx="10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5840" y="5553000"/>
              <a:ext cx="668520" cy="66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978440" y="4648320"/>
              <a:ext cx="1460520" cy="774720"/>
              <a:chOff x="4978440" y="4648320"/>
              <a:chExt cx="1460520" cy="774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97844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4440" y="4648320"/>
                <a:ext cx="111744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134040" y="6426360"/>
              <a:ext cx="1460520" cy="126720"/>
            </a:xfrm>
            <a:prstGeom prst="parallelogram">
              <a:avLst>
                <a:gd name="adj" fmla="val 256550"/>
              </a:avLst>
            </a:prstGeom>
            <a:gradFill rotWithShape="0">
              <a:gsLst>
                <a:gs pos="0">
                  <a:srgbClr val="f2e7cb"/>
                </a:gs>
                <a:gs pos="100000">
                  <a:srgbClr val="e8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50040" y="5778360"/>
              <a:ext cx="1117440" cy="5781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6200" y="4782960"/>
              <a:ext cx="1011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31840" y="5938920"/>
              <a:ext cx="7560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113600" y="2946240"/>
            <a:ext cx="1407960" cy="56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Digital Check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7840" y="132372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issue signed drafts on online bank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do online or delayed cle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 through existing bank system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ttach remittanc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428480" y="3249720"/>
            <a:ext cx="6483960" cy="3040560"/>
            <a:chOff x="1428480" y="3249720"/>
            <a:chExt cx="6483960" cy="3040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978200" y="3652920"/>
              <a:ext cx="83340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72728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6442200" y="3573360"/>
              <a:ext cx="9334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624204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693880" y="3981600"/>
              <a:ext cx="387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53400" y="431316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967120" y="544824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28360" y="328788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9880" y="324972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28480" y="595476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1800" y="593568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8800" y="3630600"/>
              <a:ext cx="189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Ch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05280" y="561960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3800" y="4030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70680" y="43354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22880" y="50212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2880" y="57070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20" y="45720"/>
            <a:ext cx="911088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Check Concep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2880" y="2341440"/>
            <a:ext cx="1297080" cy="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8280" y="2557440"/>
            <a:ext cx="1397160" cy="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24600" y="2033640"/>
            <a:ext cx="574560" cy="1920960"/>
            <a:chOff x="5124600" y="2033640"/>
            <a:chExt cx="574560" cy="1920960"/>
          </a:xfrm>
        </p:grpSpPr>
        <p:sp>
          <p:nvSpPr>
            <p:cNvPr id="353" name=""/>
            <p:cNvSpPr/>
            <p:nvPr/>
          </p:nvSpPr>
          <p:spPr>
            <a:xfrm>
              <a:off x="5124600" y="2147760"/>
              <a:ext cx="574560" cy="201600"/>
            </a:xfrm>
            <a:custGeom>
              <a:avLst/>
              <a:gdLst/>
              <a:ahLst/>
              <a:rect l="l" t="t" r="r" b="b"/>
              <a:pathLst>
                <a:path w="362" h="127">
                  <a:moveTo>
                    <a:pt x="0" y="75"/>
                  </a:moveTo>
                  <a:lnTo>
                    <a:pt x="206" y="126"/>
                  </a:lnTo>
                  <a:lnTo>
                    <a:pt x="361" y="37"/>
                  </a:lnTo>
                  <a:lnTo>
                    <a:pt x="172" y="0"/>
                  </a:lnTo>
                  <a:lnTo>
                    <a:pt x="0" y="75"/>
                  </a:lnTo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24600" y="2268360"/>
              <a:ext cx="326880" cy="1686240"/>
            </a:xfrm>
            <a:custGeom>
              <a:avLst/>
              <a:gdLst/>
              <a:ahLst/>
              <a:rect l="l" t="t" r="r" b="b"/>
              <a:pathLst>
                <a:path w="206" h="1062">
                  <a:moveTo>
                    <a:pt x="0" y="0"/>
                  </a:moveTo>
                  <a:lnTo>
                    <a:pt x="205" y="55"/>
                  </a:lnTo>
                  <a:lnTo>
                    <a:pt x="205" y="1061"/>
                  </a:lnTo>
                  <a:lnTo>
                    <a:pt x="162" y="1038"/>
                  </a:lnTo>
                  <a:lnTo>
                    <a:pt x="162" y="911"/>
                  </a:lnTo>
                  <a:lnTo>
                    <a:pt x="104" y="874"/>
                  </a:lnTo>
                  <a:lnTo>
                    <a:pt x="104" y="988"/>
                  </a:lnTo>
                  <a:lnTo>
                    <a:pt x="72" y="964"/>
                  </a:lnTo>
                  <a:lnTo>
                    <a:pt x="72" y="851"/>
                  </a:lnTo>
                  <a:lnTo>
                    <a:pt x="26" y="818"/>
                  </a:lnTo>
                  <a:lnTo>
                    <a:pt x="26" y="932"/>
                  </a:lnTo>
                  <a:lnTo>
                    <a:pt x="0" y="914"/>
                  </a:lnTo>
                  <a:lnTo>
                    <a:pt x="0" y="0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130720" y="2033640"/>
              <a:ext cx="568440" cy="1920960"/>
              <a:chOff x="5130720" y="2033640"/>
              <a:chExt cx="568440" cy="192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5456160" y="2208240"/>
                <a:ext cx="243000" cy="1746360"/>
              </a:xfrm>
              <a:custGeom>
                <a:avLst/>
                <a:gdLst/>
                <a:ahLst/>
                <a:rect l="l" t="t" r="r" b="b"/>
                <a:pathLst>
                  <a:path w="153" h="1100">
                    <a:moveTo>
                      <a:pt x="0" y="93"/>
                    </a:moveTo>
                    <a:lnTo>
                      <a:pt x="150" y="0"/>
                    </a:lnTo>
                    <a:lnTo>
                      <a:pt x="152" y="850"/>
                    </a:lnTo>
                    <a:lnTo>
                      <a:pt x="0" y="1099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292720" y="3654360"/>
                <a:ext cx="92160" cy="182520"/>
                <a:chOff x="5292720" y="3654360"/>
                <a:chExt cx="92160" cy="1825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345280" y="3691080"/>
                  <a:ext cx="39600" cy="126720"/>
                </a:xfrm>
                <a:custGeom>
                  <a:avLst/>
                  <a:gdLst/>
                  <a:ahLst/>
                  <a:rect l="l" t="t" r="r" b="b"/>
                  <a:pathLst>
                    <a:path w="25" h="80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24" y="79"/>
                      </a:lnTo>
                      <a:lnTo>
                        <a:pt x="2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92720" y="3654360"/>
                  <a:ext cx="49320" cy="182520"/>
                </a:xfrm>
                <a:custGeom>
                  <a:avLst/>
                  <a:gdLst/>
                  <a:ahLst/>
                  <a:rect l="l" t="t" r="r" b="b"/>
                  <a:pathLst>
                    <a:path w="31" h="115">
                      <a:moveTo>
                        <a:pt x="0" y="0"/>
                      </a:moveTo>
                      <a:lnTo>
                        <a:pt x="0" y="114"/>
                      </a:lnTo>
                      <a:lnTo>
                        <a:pt x="30" y="81"/>
                      </a:lnTo>
                      <a:lnTo>
                        <a:pt x="3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164200" y="3565440"/>
                <a:ext cx="93600" cy="184320"/>
                <a:chOff x="5164200" y="3565440"/>
                <a:chExt cx="93600" cy="1843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221440" y="3600360"/>
                  <a:ext cx="36360" cy="127080"/>
                </a:xfrm>
                <a:custGeom>
                  <a:avLst/>
                  <a:gdLst/>
                  <a:ahLst/>
                  <a:rect l="l" t="t" r="r" b="b"/>
                  <a:pathLst>
                    <a:path w="23" h="80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22" y="79"/>
                      </a:lnTo>
                      <a:lnTo>
                        <a:pt x="2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164200" y="3565440"/>
                  <a:ext cx="50760" cy="184320"/>
                </a:xfrm>
                <a:custGeom>
                  <a:avLst/>
                  <a:gdLst/>
                  <a:ahLst/>
                  <a:rect l="l" t="t" r="r" b="b"/>
                  <a:pathLst>
                    <a:path w="32" h="116">
                      <a:moveTo>
                        <a:pt x="0" y="0"/>
                      </a:moveTo>
                      <a:lnTo>
                        <a:pt x="0" y="115"/>
                      </a:lnTo>
                      <a:lnTo>
                        <a:pt x="31" y="83"/>
                      </a:lnTo>
                      <a:lnTo>
                        <a:pt x="31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130720" y="2306520"/>
                <a:ext cx="300240" cy="1333440"/>
                <a:chOff x="5130720" y="2306520"/>
                <a:chExt cx="300240" cy="13334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146560" y="2316240"/>
                  <a:ext cx="265320" cy="1323720"/>
                </a:xfrm>
                <a:custGeom>
                  <a:avLst/>
                  <a:gdLst/>
                  <a:ahLst/>
                  <a:rect l="l" t="t" r="r" b="b"/>
                  <a:pathLst>
                    <a:path w="167" h="834">
                      <a:moveTo>
                        <a:pt x="0" y="0"/>
                      </a:moveTo>
                      <a:lnTo>
                        <a:pt x="166" y="44"/>
                      </a:lnTo>
                      <a:lnTo>
                        <a:pt x="166" y="833"/>
                      </a:lnTo>
                      <a:lnTo>
                        <a:pt x="1" y="7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5130720" y="2306520"/>
                  <a:ext cx="300240" cy="1308240"/>
                  <a:chOff x="5130720" y="2306520"/>
                  <a:chExt cx="300240" cy="13082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35400" y="3306600"/>
                    <a:ext cx="2955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00">
                        <a:moveTo>
                          <a:pt x="0" y="0"/>
                        </a:moveTo>
                        <a:lnTo>
                          <a:pt x="185" y="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130720" y="3137040"/>
                    <a:ext cx="3002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88">
                        <a:moveTo>
                          <a:pt x="0" y="0"/>
                        </a:moveTo>
                        <a:lnTo>
                          <a:pt x="188" y="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140440" y="2965320"/>
                    <a:ext cx="2905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79">
                        <a:moveTo>
                          <a:pt x="0" y="0"/>
                        </a:moveTo>
                        <a:lnTo>
                          <a:pt x="182" y="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35400" y="2786040"/>
                    <a:ext cx="2923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71">
                        <a:moveTo>
                          <a:pt x="0" y="0"/>
                        </a:moveTo>
                        <a:lnTo>
                          <a:pt x="183" y="7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141880" y="2614680"/>
                    <a:ext cx="285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59">
                        <a:moveTo>
                          <a:pt x="0" y="0"/>
                        </a:moveTo>
                        <a:lnTo>
                          <a:pt x="179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130720" y="2454120"/>
                    <a:ext cx="293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2">
                        <a:moveTo>
                          <a:pt x="0" y="0"/>
                        </a:moveTo>
                        <a:lnTo>
                          <a:pt x="184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200560" y="2306520"/>
                    <a:ext cx="180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69">
                        <a:moveTo>
                          <a:pt x="0" y="0"/>
                        </a:moveTo>
                        <a:lnTo>
                          <a:pt x="0" y="76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68960" y="2327400"/>
                    <a:ext cx="144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88">
                        <a:moveTo>
                          <a:pt x="0" y="0"/>
                        </a:moveTo>
                        <a:lnTo>
                          <a:pt x="0" y="7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0240" y="2344680"/>
                    <a:ext cx="1800" cy="12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00">
                        <a:moveTo>
                          <a:pt x="0" y="0"/>
                        </a:moveTo>
                        <a:lnTo>
                          <a:pt x="0" y="7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5249880" y="2033640"/>
                <a:ext cx="338040" cy="263520"/>
                <a:chOff x="5249880" y="2033640"/>
                <a:chExt cx="338040" cy="263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5249880" y="2033640"/>
                  <a:ext cx="338040" cy="263520"/>
                  <a:chOff x="5249880" y="2033640"/>
                  <a:chExt cx="338040" cy="26352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5249880" y="2033640"/>
                    <a:ext cx="3380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64">
                        <a:moveTo>
                          <a:pt x="0" y="41"/>
                        </a:moveTo>
                        <a:lnTo>
                          <a:pt x="123" y="63"/>
                        </a:lnTo>
                        <a:lnTo>
                          <a:pt x="212" y="21"/>
                        </a:lnTo>
                        <a:lnTo>
                          <a:pt x="92" y="0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450040" y="2071800"/>
                    <a:ext cx="1378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42">
                        <a:moveTo>
                          <a:pt x="0" y="43"/>
                        </a:moveTo>
                        <a:lnTo>
                          <a:pt x="86" y="0"/>
                        </a:lnTo>
                        <a:lnTo>
                          <a:pt x="86" y="89"/>
                        </a:lnTo>
                        <a:lnTo>
                          <a:pt x="0" y="141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249880" y="2100240"/>
                    <a:ext cx="1936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24">
                        <a:moveTo>
                          <a:pt x="121" y="23"/>
                        </a:moveTo>
                        <a:lnTo>
                          <a:pt x="121" y="123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  <a:lnTo>
                          <a:pt x="121" y="23"/>
                        </a:lnTo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5273640" y="2136600"/>
                  <a:ext cx="111240" cy="38160"/>
                </a:xfrm>
                <a:custGeom>
                  <a:avLst/>
                  <a:gdLst/>
                  <a:ahLst/>
                  <a:rect l="l" t="t" r="r" b="b"/>
                  <a:pathLst>
                    <a:path w="70" h="24">
                      <a:moveTo>
                        <a:pt x="0" y="0"/>
                      </a:moveTo>
                      <a:lnTo>
                        <a:pt x="69" y="9"/>
                      </a:lnTo>
                      <a:lnTo>
                        <a:pt x="69" y="23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1" name=""/>
          <p:cNvSpPr/>
          <p:nvPr/>
        </p:nvSpPr>
        <p:spPr>
          <a:xfrm>
            <a:off x="6999120" y="2189160"/>
            <a:ext cx="444600" cy="291960"/>
          </a:xfrm>
          <a:prstGeom prst="roundRect">
            <a:avLst>
              <a:gd name="adj" fmla="val 12486"/>
            </a:avLst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37280" y="2220840"/>
            <a:ext cx="139680" cy="88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802480" y="1978200"/>
            <a:ext cx="923760" cy="714240"/>
            <a:chOff x="5802480" y="1978200"/>
            <a:chExt cx="923760" cy="714240"/>
          </a:xfrm>
        </p:grpSpPr>
        <p:grpSp>
          <p:nvGrpSpPr>
            <p:cNvPr id="384" name=""/>
            <p:cNvGrpSpPr/>
            <p:nvPr/>
          </p:nvGrpSpPr>
          <p:grpSpPr>
            <a:xfrm>
              <a:off x="5802480" y="2581200"/>
              <a:ext cx="923760" cy="111240"/>
              <a:chOff x="5802480" y="2581200"/>
              <a:chExt cx="923760" cy="111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802480" y="2581200"/>
                <a:ext cx="923760" cy="111240"/>
                <a:chOff x="5802480" y="2581200"/>
                <a:chExt cx="923760" cy="111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810400" y="2690640"/>
                  <a:ext cx="89820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02480" y="258120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829480" y="259236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904000" y="2590920"/>
                <a:ext cx="726840" cy="34920"/>
                <a:chOff x="5904000" y="2590920"/>
                <a:chExt cx="726840" cy="34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904000" y="2590920"/>
                  <a:ext cx="30240" cy="2700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973840" y="25909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21440" y="2590920"/>
                  <a:ext cx="111240" cy="2700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53200" y="2590920"/>
                  <a:ext cx="112680" cy="2700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200" y="259092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508800" y="2598840"/>
                  <a:ext cx="12204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875200" y="2617920"/>
                <a:ext cx="766800" cy="42840"/>
                <a:chOff x="5875200" y="2617920"/>
                <a:chExt cx="766800" cy="42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5942160" y="2619360"/>
                  <a:ext cx="379440" cy="38160"/>
                  <a:chOff x="5942160" y="2619360"/>
                  <a:chExt cx="379440" cy="381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5942160" y="2619360"/>
                    <a:ext cx="358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956200" y="2631960"/>
                    <a:ext cx="365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961240" y="2643120"/>
                    <a:ext cx="317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969160" y="265572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875200" y="2624040"/>
                  <a:ext cx="65160" cy="25560"/>
                  <a:chOff x="5875200" y="2624040"/>
                  <a:chExt cx="65160" cy="255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891040" y="262404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84920" y="2637000"/>
                    <a:ext cx="36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875200" y="264780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6022800" y="2617920"/>
                  <a:ext cx="347760" cy="39600"/>
                  <a:chOff x="6022800" y="2617920"/>
                  <a:chExt cx="347760" cy="396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6022800" y="265572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16560" y="2617920"/>
                    <a:ext cx="50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29520" y="2631960"/>
                    <a:ext cx="41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302520" y="2643120"/>
                    <a:ext cx="68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46720" y="265572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291360" y="2655720"/>
                    <a:ext cx="75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386400" y="2624040"/>
                  <a:ext cx="109800" cy="34920"/>
                  <a:chOff x="6386400" y="2624040"/>
                  <a:chExt cx="109800" cy="349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386400" y="2624040"/>
                    <a:ext cx="10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400800" y="2639880"/>
                    <a:ext cx="90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402240" y="2657520"/>
                    <a:ext cx="9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512040" y="2624040"/>
                  <a:ext cx="129960" cy="36720"/>
                  <a:chOff x="6512040" y="2624040"/>
                  <a:chExt cx="129960" cy="36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6521400" y="2624040"/>
                    <a:ext cx="98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512040" y="2637000"/>
                    <a:ext cx="81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521400" y="264780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518160" y="265896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607080" y="2638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615000" y="265428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4" name=""/>
            <p:cNvGrpSpPr/>
            <p:nvPr/>
          </p:nvGrpSpPr>
          <p:grpSpPr>
            <a:xfrm>
              <a:off x="5981760" y="1978200"/>
              <a:ext cx="588960" cy="599760"/>
              <a:chOff x="5981760" y="1978200"/>
              <a:chExt cx="588960" cy="5997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981760" y="2362320"/>
                <a:ext cx="588960" cy="215640"/>
                <a:chOff x="5981760" y="2362320"/>
                <a:chExt cx="588960" cy="2156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981760" y="2362320"/>
                  <a:ext cx="588960" cy="215640"/>
                  <a:chOff x="5981760" y="2362320"/>
                  <a:chExt cx="588960" cy="21564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981760" y="2362320"/>
                    <a:ext cx="588960" cy="215640"/>
                    <a:chOff x="5981760" y="2362320"/>
                    <a:chExt cx="588960" cy="2156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5981760" y="2362320"/>
                      <a:ext cx="587160" cy="215640"/>
                      <a:chOff x="5981760" y="2362320"/>
                      <a:chExt cx="587160" cy="21564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5981760" y="2362320"/>
                        <a:ext cx="587160" cy="215640"/>
                        <a:chOff x="5981760" y="2362320"/>
                        <a:chExt cx="587160" cy="21564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5986440" y="2424240"/>
                          <a:ext cx="565200" cy="1537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5981760" y="2362320"/>
                          <a:ext cx="5871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5">
                              <a:moveTo>
                                <a:pt x="0" y="34"/>
                              </a:moveTo>
                              <a:lnTo>
                                <a:pt x="369" y="34"/>
                              </a:lnTo>
                              <a:lnTo>
                                <a:pt x="334" y="0"/>
                              </a:lnTo>
                              <a:lnTo>
                                <a:pt x="39" y="0"/>
                              </a:lnTo>
                              <a:lnTo>
                                <a:pt x="0" y="34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991120" y="2406600"/>
                        <a:ext cx="5698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9" h="17">
                            <a:moveTo>
                              <a:pt x="0" y="0"/>
                            </a:moveTo>
                            <a:lnTo>
                              <a:pt x="358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5997600" y="2549520"/>
                      <a:ext cx="573120" cy="28440"/>
                      <a:chOff x="5997600" y="2549520"/>
                      <a:chExt cx="573120" cy="28440"/>
                    </a:xfrm>
                  </p:grpSpPr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5997600" y="2549520"/>
                        <a:ext cx="295200" cy="28440"/>
                        <a:chOff x="5997600" y="2549520"/>
                        <a:chExt cx="295200" cy="28440"/>
                      </a:xfrm>
                    </p:grpSpPr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5997600" y="2550960"/>
                          <a:ext cx="156960" cy="27000"/>
                          <a:chOff x="5997600" y="2550960"/>
                          <a:chExt cx="156960" cy="27000"/>
                        </a:xfrm>
                      </p:grpSpPr>
                      <p:grpSp>
                        <p:nvGrpSpPr>
                          <p:cNvPr id="436" name=""/>
                          <p:cNvGrpSpPr/>
                          <p:nvPr/>
                        </p:nvGrpSpPr>
                        <p:grpSpPr>
                          <a:xfrm>
                            <a:off x="5997600" y="2550960"/>
                            <a:ext cx="87120" cy="27000"/>
                            <a:chOff x="5997600" y="2550960"/>
                            <a:chExt cx="87120" cy="27000"/>
                          </a:xfrm>
                        </p:grpSpPr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5997600" y="2550960"/>
                              <a:ext cx="52200" cy="27000"/>
                              <a:chOff x="5997600" y="2550960"/>
                              <a:chExt cx="52200" cy="27000"/>
                            </a:xfrm>
                          </p:grpSpPr>
                          <p:grpSp>
                            <p:nvGrpSpPr>
                              <p:cNvPr id="438" name=""/>
                              <p:cNvGrpSpPr/>
                              <p:nvPr/>
                            </p:nvGrpSpPr>
                            <p:grpSpPr>
                              <a:xfrm>
                                <a:off x="5997600" y="2550960"/>
                                <a:ext cx="34920" cy="27000"/>
                                <a:chOff x="59976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59976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6005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1" name=""/>
                              <p:cNvGrpSpPr/>
                              <p:nvPr/>
                            </p:nvGrpSpPr>
                            <p:grpSpPr>
                              <a:xfrm>
                                <a:off x="6014880" y="2550960"/>
                                <a:ext cx="34920" cy="27000"/>
                                <a:chOff x="601488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2" name=""/>
                                <p:cNvSpPr/>
                                <p:nvPr/>
                              </p:nvSpPr>
                              <p:spPr>
                                <a:xfrm>
                                  <a:off x="60148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3" name=""/>
                                <p:cNvSpPr/>
                                <p:nvPr/>
                              </p:nvSpPr>
                              <p:spPr>
                                <a:xfrm>
                                  <a:off x="6022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4" name=""/>
                            <p:cNvGrpSpPr/>
                            <p:nvPr/>
                          </p:nvGrpSpPr>
                          <p:grpSpPr>
                            <a:xfrm>
                              <a:off x="6032520" y="2550960"/>
                              <a:ext cx="52200" cy="27000"/>
                              <a:chOff x="6032520" y="2550960"/>
                              <a:chExt cx="52200" cy="27000"/>
                            </a:xfrm>
                          </p:grpSpPr>
                          <p:grpSp>
                            <p:nvGrpSpPr>
                              <p:cNvPr id="445" name=""/>
                              <p:cNvGrpSpPr/>
                              <p:nvPr/>
                            </p:nvGrpSpPr>
                            <p:grpSpPr>
                              <a:xfrm>
                                <a:off x="6032520" y="2550960"/>
                                <a:ext cx="34920" cy="27000"/>
                                <a:chOff x="603252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6" name=""/>
                                <p:cNvSpPr/>
                                <p:nvPr/>
                              </p:nvSpPr>
                              <p:spPr>
                                <a:xfrm>
                                  <a:off x="6032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7" name=""/>
                                <p:cNvSpPr/>
                                <p:nvPr/>
                              </p:nvSpPr>
                              <p:spPr>
                                <a:xfrm>
                                  <a:off x="6040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8" name=""/>
                              <p:cNvGrpSpPr/>
                              <p:nvPr/>
                            </p:nvGrpSpPr>
                            <p:grpSpPr>
                              <a:xfrm>
                                <a:off x="6049800" y="2550960"/>
                                <a:ext cx="34920" cy="27000"/>
                                <a:chOff x="60498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9" name=""/>
                                <p:cNvSpPr/>
                                <p:nvPr/>
                              </p:nvSpPr>
                              <p:spPr>
                                <a:xfrm>
                                  <a:off x="6049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" name=""/>
                                <p:cNvSpPr/>
                                <p:nvPr/>
                              </p:nvSpPr>
                              <p:spPr>
                                <a:xfrm>
                                  <a:off x="605808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51" name=""/>
                          <p:cNvGrpSpPr/>
                          <p:nvPr/>
                        </p:nvGrpSpPr>
                        <p:grpSpPr>
                          <a:xfrm>
                            <a:off x="6067440" y="2550960"/>
                            <a:ext cx="87120" cy="27000"/>
                            <a:chOff x="6067440" y="2550960"/>
                            <a:chExt cx="87120" cy="27000"/>
                          </a:xfrm>
                        </p:grpSpPr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6067440" y="2550960"/>
                              <a:ext cx="52200" cy="27000"/>
                              <a:chOff x="6067440" y="2550960"/>
                              <a:chExt cx="52200" cy="27000"/>
                            </a:xfrm>
                          </p:grpSpPr>
                          <p:grpSp>
                            <p:nvGrpSpPr>
                              <p:cNvPr id="453" name=""/>
                              <p:cNvGrpSpPr/>
                              <p:nvPr/>
                            </p:nvGrpSpPr>
                            <p:grpSpPr>
                              <a:xfrm>
                                <a:off x="6067440" y="2550960"/>
                                <a:ext cx="34920" cy="27000"/>
                                <a:chOff x="60674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54" name=""/>
                                <p:cNvSpPr/>
                                <p:nvPr/>
                              </p:nvSpPr>
                              <p:spPr>
                                <a:xfrm>
                                  <a:off x="6067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5" name=""/>
                                <p:cNvSpPr/>
                                <p:nvPr/>
                              </p:nvSpPr>
                              <p:spPr>
                                <a:xfrm>
                                  <a:off x="607536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6083280" y="2550960"/>
                                <a:ext cx="36360" cy="27000"/>
                                <a:chOff x="608328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57" name=""/>
                                <p:cNvSpPr/>
                                <p:nvPr/>
                              </p:nvSpPr>
                              <p:spPr>
                                <a:xfrm>
                                  <a:off x="6083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/>
                                <p:nvPr/>
                              </p:nvSpPr>
                              <p:spPr>
                                <a:xfrm>
                                  <a:off x="609300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9" name=""/>
                            <p:cNvGrpSpPr/>
                            <p:nvPr/>
                          </p:nvGrpSpPr>
                          <p:grpSpPr>
                            <a:xfrm>
                              <a:off x="6100920" y="2550960"/>
                              <a:ext cx="53640" cy="27000"/>
                              <a:chOff x="6100920" y="2550960"/>
                              <a:chExt cx="53640" cy="27000"/>
                            </a:xfrm>
                          </p:grpSpPr>
                          <p:grpSp>
                            <p:nvGrpSpPr>
                              <p:cNvPr id="460" name=""/>
                              <p:cNvGrpSpPr/>
                              <p:nvPr/>
                            </p:nvGrpSpPr>
                            <p:grpSpPr>
                              <a:xfrm>
                                <a:off x="6100920" y="2550960"/>
                                <a:ext cx="36360" cy="27000"/>
                                <a:chOff x="610092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61" name=""/>
                                <p:cNvSpPr/>
                                <p:nvPr/>
                              </p:nvSpPr>
                              <p:spPr>
                                <a:xfrm>
                                  <a:off x="61009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"/>
                                <p:cNvSpPr/>
                                <p:nvPr/>
                              </p:nvSpPr>
                              <p:spPr>
                                <a:xfrm>
                                  <a:off x="6110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3" name=""/>
                              <p:cNvGrpSpPr/>
                              <p:nvPr/>
                            </p:nvGrpSpPr>
                            <p:grpSpPr>
                              <a:xfrm>
                                <a:off x="6119640" y="2550960"/>
                                <a:ext cx="34920" cy="27000"/>
                                <a:chOff x="61196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64" name=""/>
                                <p:cNvSpPr/>
                                <p:nvPr/>
                              </p:nvSpPr>
                              <p:spPr>
                                <a:xfrm>
                                  <a:off x="61196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5" name=""/>
                                <p:cNvSpPr/>
                                <p:nvPr/>
                              </p:nvSpPr>
                              <p:spPr>
                                <a:xfrm>
                                  <a:off x="612792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466" name=""/>
                        <p:cNvGrpSpPr/>
                        <p:nvPr/>
                      </p:nvGrpSpPr>
                      <p:grpSpPr>
                        <a:xfrm>
                          <a:off x="6135840" y="2549520"/>
                          <a:ext cx="156960" cy="27000"/>
                          <a:chOff x="6135840" y="2549520"/>
                          <a:chExt cx="156960" cy="27000"/>
                        </a:xfrm>
                      </p:grpSpPr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6135840" y="2549520"/>
                            <a:ext cx="88920" cy="27000"/>
                            <a:chOff x="6135840" y="2549520"/>
                            <a:chExt cx="88920" cy="2700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6135840" y="2549520"/>
                              <a:ext cx="54000" cy="27000"/>
                              <a:chOff x="6135840" y="2549520"/>
                              <a:chExt cx="54000" cy="2700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6135840" y="2549520"/>
                                <a:ext cx="36360" cy="27000"/>
                                <a:chOff x="61358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0" name=""/>
                                <p:cNvSpPr/>
                                <p:nvPr/>
                              </p:nvSpPr>
                              <p:spPr>
                                <a:xfrm>
                                  <a:off x="6135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1" name=""/>
                                <p:cNvSpPr/>
                                <p:nvPr/>
                              </p:nvSpPr>
                              <p:spPr>
                                <a:xfrm>
                                  <a:off x="614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2" name=""/>
                              <p:cNvGrpSpPr/>
                              <p:nvPr/>
                            </p:nvGrpSpPr>
                            <p:grpSpPr>
                              <a:xfrm>
                                <a:off x="6153120" y="2549520"/>
                                <a:ext cx="36720" cy="27000"/>
                                <a:chOff x="61531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73" name=""/>
                                <p:cNvSpPr/>
                                <p:nvPr/>
                              </p:nvSpPr>
                              <p:spPr>
                                <a:xfrm>
                                  <a:off x="615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4" name=""/>
                                <p:cNvSpPr/>
                                <p:nvPr/>
                              </p:nvSpPr>
                              <p:spPr>
                                <a:xfrm>
                                  <a:off x="6162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75" name=""/>
                            <p:cNvGrpSpPr/>
                            <p:nvPr/>
                          </p:nvGrpSpPr>
                          <p:grpSpPr>
                            <a:xfrm>
                              <a:off x="6170760" y="2549520"/>
                              <a:ext cx="54000" cy="27000"/>
                              <a:chOff x="6170760" y="2549520"/>
                              <a:chExt cx="54000" cy="27000"/>
                            </a:xfrm>
                          </p:grpSpPr>
                          <p:grpSp>
                            <p:nvGrpSpPr>
                              <p:cNvPr id="476" name=""/>
                              <p:cNvGrpSpPr/>
                              <p:nvPr/>
                            </p:nvGrpSpPr>
                            <p:grpSpPr>
                              <a:xfrm>
                                <a:off x="6170760" y="2549520"/>
                                <a:ext cx="36360" cy="27000"/>
                                <a:chOff x="61707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7" name=""/>
                                <p:cNvSpPr/>
                                <p:nvPr/>
                              </p:nvSpPr>
                              <p:spPr>
                                <a:xfrm>
                                  <a:off x="6170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8" name=""/>
                                <p:cNvSpPr/>
                                <p:nvPr/>
                              </p:nvSpPr>
                              <p:spPr>
                                <a:xfrm>
                                  <a:off x="6180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9" name=""/>
                              <p:cNvGrpSpPr/>
                              <p:nvPr/>
                            </p:nvGrpSpPr>
                            <p:grpSpPr>
                              <a:xfrm>
                                <a:off x="6188040" y="2549520"/>
                                <a:ext cx="36720" cy="27000"/>
                                <a:chOff x="618804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0" name=""/>
                                <p:cNvSpPr/>
                                <p:nvPr/>
                              </p:nvSpPr>
                              <p:spPr>
                                <a:xfrm>
                                  <a:off x="618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1" name=""/>
                                <p:cNvSpPr/>
                                <p:nvPr/>
                              </p:nvSpPr>
                              <p:spPr>
                                <a:xfrm>
                                  <a:off x="6197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82" name=""/>
                          <p:cNvGrpSpPr/>
                          <p:nvPr/>
                        </p:nvGrpSpPr>
                        <p:grpSpPr>
                          <a:xfrm>
                            <a:off x="6205680" y="2549520"/>
                            <a:ext cx="87120" cy="27000"/>
                            <a:chOff x="6205680" y="2549520"/>
                            <a:chExt cx="87120" cy="27000"/>
                          </a:xfrm>
                        </p:grpSpPr>
                        <p:grpSp>
                          <p:nvGrpSpPr>
                            <p:cNvPr id="483" name=""/>
                            <p:cNvGrpSpPr/>
                            <p:nvPr/>
                          </p:nvGrpSpPr>
                          <p:grpSpPr>
                            <a:xfrm>
                              <a:off x="6205680" y="2549520"/>
                              <a:ext cx="54000" cy="27000"/>
                              <a:chOff x="6205680" y="2549520"/>
                              <a:chExt cx="54000" cy="27000"/>
                            </a:xfrm>
                          </p:grpSpPr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6205680" y="2549520"/>
                                <a:ext cx="36360" cy="27000"/>
                                <a:chOff x="62056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85" name=""/>
                                <p:cNvSpPr/>
                                <p:nvPr/>
                              </p:nvSpPr>
                              <p:spPr>
                                <a:xfrm>
                                  <a:off x="6205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" name=""/>
                                <p:cNvSpPr/>
                                <p:nvPr/>
                              </p:nvSpPr>
                              <p:spPr>
                                <a:xfrm>
                                  <a:off x="6215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7" name=""/>
                              <p:cNvGrpSpPr/>
                              <p:nvPr/>
                            </p:nvGrpSpPr>
                            <p:grpSpPr>
                              <a:xfrm>
                                <a:off x="6222960" y="2549520"/>
                                <a:ext cx="36720" cy="27000"/>
                                <a:chOff x="622296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8" name=""/>
                                <p:cNvSpPr/>
                                <p:nvPr/>
                              </p:nvSpPr>
                              <p:spPr>
                                <a:xfrm>
                                  <a:off x="6222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9" name=""/>
                                <p:cNvSpPr/>
                                <p:nvPr/>
                              </p:nvSpPr>
                              <p:spPr>
                                <a:xfrm>
                                  <a:off x="6232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90" name=""/>
                            <p:cNvGrpSpPr/>
                            <p:nvPr/>
                          </p:nvGrpSpPr>
                          <p:grpSpPr>
                            <a:xfrm>
                              <a:off x="6240600" y="2549520"/>
                              <a:ext cx="52200" cy="27000"/>
                              <a:chOff x="6240600" y="2549520"/>
                              <a:chExt cx="52200" cy="27000"/>
                            </a:xfrm>
                          </p:grpSpPr>
                          <p:grpSp>
                            <p:nvGrpSpPr>
                              <p:cNvPr id="491" name=""/>
                              <p:cNvGrpSpPr/>
                              <p:nvPr/>
                            </p:nvGrpSpPr>
                            <p:grpSpPr>
                              <a:xfrm>
                                <a:off x="6240600" y="2549520"/>
                                <a:ext cx="34920" cy="27000"/>
                                <a:chOff x="62406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2" name=""/>
                                <p:cNvSpPr/>
                                <p:nvPr/>
                              </p:nvSpPr>
                              <p:spPr>
                                <a:xfrm>
                                  <a:off x="62406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3" name=""/>
                                <p:cNvSpPr/>
                                <p:nvPr/>
                              </p:nvSpPr>
                              <p:spPr>
                                <a:xfrm>
                                  <a:off x="6248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94" name=""/>
                              <p:cNvGrpSpPr/>
                              <p:nvPr/>
                            </p:nvGrpSpPr>
                            <p:grpSpPr>
                              <a:xfrm>
                                <a:off x="6257880" y="2549520"/>
                                <a:ext cx="34920" cy="27000"/>
                                <a:chOff x="625788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5" name=""/>
                                <p:cNvSpPr/>
                                <p:nvPr/>
                              </p:nvSpPr>
                              <p:spPr>
                                <a:xfrm>
                                  <a:off x="6257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6" name=""/>
                                <p:cNvSpPr/>
                                <p:nvPr/>
                              </p:nvSpPr>
                              <p:spPr>
                                <a:xfrm>
                                  <a:off x="626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6275520" y="2549520"/>
                        <a:ext cx="295200" cy="27000"/>
                        <a:chOff x="6275520" y="2549520"/>
                        <a:chExt cx="295200" cy="270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6275520" y="2549520"/>
                          <a:ext cx="156960" cy="27000"/>
                          <a:chOff x="6275520" y="2549520"/>
                          <a:chExt cx="156960" cy="270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6275520" y="2549520"/>
                            <a:ext cx="87120" cy="27000"/>
                            <a:chOff x="6275520" y="2549520"/>
                            <a:chExt cx="87120" cy="27000"/>
                          </a:xfrm>
                        </p:grpSpPr>
                        <p:grpSp>
                          <p:nvGrpSpPr>
                            <p:cNvPr id="500" name=""/>
                            <p:cNvGrpSpPr/>
                            <p:nvPr/>
                          </p:nvGrpSpPr>
                          <p:grpSpPr>
                            <a:xfrm>
                              <a:off x="6275520" y="2549520"/>
                              <a:ext cx="52200" cy="27000"/>
                              <a:chOff x="627552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1" name=""/>
                              <p:cNvGrpSpPr/>
                              <p:nvPr/>
                            </p:nvGrpSpPr>
                            <p:grpSpPr>
                              <a:xfrm>
                                <a:off x="6275520" y="2549520"/>
                                <a:ext cx="34920" cy="27000"/>
                                <a:chOff x="62755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6275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6283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04" name=""/>
                              <p:cNvGrpSpPr/>
                              <p:nvPr/>
                            </p:nvGrpSpPr>
                            <p:grpSpPr>
                              <a:xfrm>
                                <a:off x="6292800" y="2549520"/>
                                <a:ext cx="34920" cy="27000"/>
                                <a:chOff x="6292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5" name=""/>
                                <p:cNvSpPr/>
                                <p:nvPr/>
                              </p:nvSpPr>
                              <p:spPr>
                                <a:xfrm>
                                  <a:off x="6292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6" name=""/>
                                <p:cNvSpPr/>
                                <p:nvPr/>
                              </p:nvSpPr>
                              <p:spPr>
                                <a:xfrm>
                                  <a:off x="6300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07" name=""/>
                            <p:cNvGrpSpPr/>
                            <p:nvPr/>
                          </p:nvGrpSpPr>
                          <p:grpSpPr>
                            <a:xfrm>
                              <a:off x="6310440" y="2549520"/>
                              <a:ext cx="52200" cy="27000"/>
                              <a:chOff x="631044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8" name=""/>
                              <p:cNvGrpSpPr/>
                              <p:nvPr/>
                            </p:nvGrpSpPr>
                            <p:grpSpPr>
                              <a:xfrm>
                                <a:off x="6310440" y="2549520"/>
                                <a:ext cx="34920" cy="27000"/>
                                <a:chOff x="63104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9" name=""/>
                                <p:cNvSpPr/>
                                <p:nvPr/>
                              </p:nvSpPr>
                              <p:spPr>
                                <a:xfrm>
                                  <a:off x="6310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0" name=""/>
                                <p:cNvSpPr/>
                                <p:nvPr/>
                              </p:nvSpPr>
                              <p:spPr>
                                <a:xfrm>
                                  <a:off x="6318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1" name=""/>
                              <p:cNvGrpSpPr/>
                              <p:nvPr/>
                            </p:nvGrpSpPr>
                            <p:grpSpPr>
                              <a:xfrm>
                                <a:off x="6327720" y="2549520"/>
                                <a:ext cx="34920" cy="27000"/>
                                <a:chOff x="63277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2" name=""/>
                                <p:cNvSpPr/>
                                <p:nvPr/>
                              </p:nvSpPr>
                              <p:spPr>
                                <a:xfrm>
                                  <a:off x="6327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3" name=""/>
                                <p:cNvSpPr/>
                                <p:nvPr/>
                              </p:nvSpPr>
                              <p:spPr>
                                <a:xfrm>
                                  <a:off x="6335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6345360" y="2549520"/>
                            <a:ext cx="87120" cy="27000"/>
                            <a:chOff x="6345360" y="2549520"/>
                            <a:chExt cx="87120" cy="27000"/>
                          </a:xfrm>
                        </p:grpSpPr>
                        <p:grpSp>
                          <p:nvGrpSpPr>
                            <p:cNvPr id="515" name=""/>
                            <p:cNvGrpSpPr/>
                            <p:nvPr/>
                          </p:nvGrpSpPr>
                          <p:grpSpPr>
                            <a:xfrm>
                              <a:off x="6345360" y="2549520"/>
                              <a:ext cx="52200" cy="27000"/>
                              <a:chOff x="6345360" y="2549520"/>
                              <a:chExt cx="52200" cy="27000"/>
                            </a:xfrm>
                          </p:grpSpPr>
                          <p:grpSp>
                            <p:nvGrpSpPr>
                              <p:cNvPr id="516" name=""/>
                              <p:cNvGrpSpPr/>
                              <p:nvPr/>
                            </p:nvGrpSpPr>
                            <p:grpSpPr>
                              <a:xfrm>
                                <a:off x="6345360" y="2549520"/>
                                <a:ext cx="34920" cy="27000"/>
                                <a:chOff x="63453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7" name=""/>
                                <p:cNvSpPr/>
                                <p:nvPr/>
                              </p:nvSpPr>
                              <p:spPr>
                                <a:xfrm>
                                  <a:off x="6345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8" name=""/>
                                <p:cNvSpPr/>
                                <p:nvPr/>
                              </p:nvSpPr>
                              <p:spPr>
                                <a:xfrm>
                                  <a:off x="63532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9" name=""/>
                              <p:cNvGrpSpPr/>
                              <p:nvPr/>
                            </p:nvGrpSpPr>
                            <p:grpSpPr>
                              <a:xfrm>
                                <a:off x="6362640" y="2549520"/>
                                <a:ext cx="34920" cy="27000"/>
                                <a:chOff x="63626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20" name=""/>
                                <p:cNvSpPr/>
                                <p:nvPr/>
                              </p:nvSpPr>
                              <p:spPr>
                                <a:xfrm>
                                  <a:off x="6362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1" name=""/>
                                <p:cNvSpPr/>
                                <p:nvPr/>
                              </p:nvSpPr>
                              <p:spPr>
                                <a:xfrm>
                                  <a:off x="63705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22" name=""/>
                            <p:cNvGrpSpPr/>
                            <p:nvPr/>
                          </p:nvGrpSpPr>
                          <p:grpSpPr>
                            <a:xfrm>
                              <a:off x="6378480" y="2549520"/>
                              <a:ext cx="54000" cy="27000"/>
                              <a:chOff x="6378480" y="2549520"/>
                              <a:chExt cx="54000" cy="27000"/>
                            </a:xfrm>
                          </p:grpSpPr>
                          <p:grpSp>
                            <p:nvGrpSpPr>
                              <p:cNvPr id="523" name=""/>
                              <p:cNvGrpSpPr/>
                              <p:nvPr/>
                            </p:nvGrpSpPr>
                            <p:grpSpPr>
                              <a:xfrm>
                                <a:off x="6378480" y="2549520"/>
                                <a:ext cx="36720" cy="27000"/>
                                <a:chOff x="637848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24" name=""/>
                                <p:cNvSpPr/>
                                <p:nvPr/>
                              </p:nvSpPr>
                              <p:spPr>
                                <a:xfrm>
                                  <a:off x="6378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5" name=""/>
                                <p:cNvSpPr/>
                                <p:nvPr/>
                              </p:nvSpPr>
                              <p:spPr>
                                <a:xfrm>
                                  <a:off x="6388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26" name=""/>
                              <p:cNvGrpSpPr/>
                              <p:nvPr/>
                            </p:nvGrpSpPr>
                            <p:grpSpPr>
                              <a:xfrm>
                                <a:off x="6396120" y="2549520"/>
                                <a:ext cx="36360" cy="27000"/>
                                <a:chOff x="639612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27" name=""/>
                                <p:cNvSpPr/>
                                <p:nvPr/>
                              </p:nvSpPr>
                              <p:spPr>
                                <a:xfrm>
                                  <a:off x="6396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8" name=""/>
                                <p:cNvSpPr/>
                                <p:nvPr/>
                              </p:nvSpPr>
                              <p:spPr>
                                <a:xfrm>
                                  <a:off x="6405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529" name=""/>
                        <p:cNvGrpSpPr/>
                        <p:nvPr/>
                      </p:nvGrpSpPr>
                      <p:grpSpPr>
                        <a:xfrm>
                          <a:off x="6415200" y="2549520"/>
                          <a:ext cx="155520" cy="27000"/>
                          <a:chOff x="6415200" y="2549520"/>
                          <a:chExt cx="155520" cy="27000"/>
                        </a:xfrm>
                      </p:grpSpPr>
                      <p:grpSp>
                        <p:nvGrpSpPr>
                          <p:cNvPr id="530" name=""/>
                          <p:cNvGrpSpPr/>
                          <p:nvPr/>
                        </p:nvGrpSpPr>
                        <p:grpSpPr>
                          <a:xfrm>
                            <a:off x="6415200" y="2549520"/>
                            <a:ext cx="87120" cy="27000"/>
                            <a:chOff x="6415200" y="2549520"/>
                            <a:chExt cx="87120" cy="27000"/>
                          </a:xfrm>
                        </p:grpSpPr>
                        <p:grpSp>
                          <p:nvGrpSpPr>
                            <p:cNvPr id="531" name=""/>
                            <p:cNvGrpSpPr/>
                            <p:nvPr/>
                          </p:nvGrpSpPr>
                          <p:grpSpPr>
                            <a:xfrm>
                              <a:off x="6415200" y="2549520"/>
                              <a:ext cx="52200" cy="27000"/>
                              <a:chOff x="6415200" y="2549520"/>
                              <a:chExt cx="52200" cy="27000"/>
                            </a:xfrm>
                          </p:grpSpPr>
                          <p:grpSp>
                            <p:nvGrpSpPr>
                              <p:cNvPr id="532" name=""/>
                              <p:cNvGrpSpPr/>
                              <p:nvPr/>
                            </p:nvGrpSpPr>
                            <p:grpSpPr>
                              <a:xfrm>
                                <a:off x="6415200" y="2549520"/>
                                <a:ext cx="34920" cy="27000"/>
                                <a:chOff x="64152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33" name=""/>
                                <p:cNvSpPr/>
                                <p:nvPr/>
                              </p:nvSpPr>
                              <p:spPr>
                                <a:xfrm>
                                  <a:off x="641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4" name=""/>
                                <p:cNvSpPr/>
                                <p:nvPr/>
                              </p:nvSpPr>
                              <p:spPr>
                                <a:xfrm>
                                  <a:off x="642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35" name=""/>
                              <p:cNvGrpSpPr/>
                              <p:nvPr/>
                            </p:nvGrpSpPr>
                            <p:grpSpPr>
                              <a:xfrm>
                                <a:off x="6431040" y="2549520"/>
                                <a:ext cx="36360" cy="27000"/>
                                <a:chOff x="64310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36" name=""/>
                                <p:cNvSpPr/>
                                <p:nvPr/>
                              </p:nvSpPr>
                              <p:spPr>
                                <a:xfrm>
                                  <a:off x="6431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7" name=""/>
                                <p:cNvSpPr/>
                                <p:nvPr/>
                              </p:nvSpPr>
                              <p:spPr>
                                <a:xfrm>
                                  <a:off x="64404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38" name=""/>
                            <p:cNvGrpSpPr/>
                            <p:nvPr/>
                          </p:nvGrpSpPr>
                          <p:grpSpPr>
                            <a:xfrm>
                              <a:off x="6448320" y="2549520"/>
                              <a:ext cx="54000" cy="27000"/>
                              <a:chOff x="6448320" y="2549520"/>
                              <a:chExt cx="54000" cy="27000"/>
                            </a:xfrm>
                          </p:grpSpPr>
                          <p:grpSp>
                            <p:nvGrpSpPr>
                              <p:cNvPr id="539" name=""/>
                              <p:cNvGrpSpPr/>
                              <p:nvPr/>
                            </p:nvGrpSpPr>
                            <p:grpSpPr>
                              <a:xfrm>
                                <a:off x="6448320" y="2549520"/>
                                <a:ext cx="36720" cy="27000"/>
                                <a:chOff x="64483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40" name=""/>
                                <p:cNvSpPr/>
                                <p:nvPr/>
                              </p:nvSpPr>
                              <p:spPr>
                                <a:xfrm>
                                  <a:off x="6448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1" name=""/>
                                <p:cNvSpPr/>
                                <p:nvPr/>
                              </p:nvSpPr>
                              <p:spPr>
                                <a:xfrm>
                                  <a:off x="645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2" name=""/>
                              <p:cNvGrpSpPr/>
                              <p:nvPr/>
                            </p:nvGrpSpPr>
                            <p:grpSpPr>
                              <a:xfrm>
                                <a:off x="6465960" y="2549520"/>
                                <a:ext cx="36360" cy="27000"/>
                                <a:chOff x="64659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43" name=""/>
                                <p:cNvSpPr/>
                                <p:nvPr/>
                              </p:nvSpPr>
                              <p:spPr>
                                <a:xfrm>
                                  <a:off x="6465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"/>
                                <p:cNvSpPr/>
                                <p:nvPr/>
                              </p:nvSpPr>
                              <p:spPr>
                                <a:xfrm>
                                  <a:off x="6475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6483240" y="2549520"/>
                            <a:ext cx="87480" cy="27000"/>
                            <a:chOff x="6483240" y="2549520"/>
                            <a:chExt cx="87480" cy="2700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6483240" y="2549520"/>
                              <a:ext cx="54000" cy="27000"/>
                              <a:chOff x="6483240" y="2549520"/>
                              <a:chExt cx="54000" cy="27000"/>
                            </a:xfrm>
                          </p:grpSpPr>
                          <p:grpSp>
                            <p:nvGrpSpPr>
                              <p:cNvPr id="547" name=""/>
                              <p:cNvGrpSpPr/>
                              <p:nvPr/>
                            </p:nvGrpSpPr>
                            <p:grpSpPr>
                              <a:xfrm>
                                <a:off x="6483240" y="2549520"/>
                                <a:ext cx="34920" cy="27000"/>
                                <a:chOff x="64832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48" name=""/>
                                <p:cNvSpPr/>
                                <p:nvPr/>
                              </p:nvSpPr>
                              <p:spPr>
                                <a:xfrm>
                                  <a:off x="6483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"/>
                                <p:cNvSpPr/>
                                <p:nvPr/>
                              </p:nvSpPr>
                              <p:spPr>
                                <a:xfrm>
                                  <a:off x="6491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0" name=""/>
                              <p:cNvGrpSpPr/>
                              <p:nvPr/>
                            </p:nvGrpSpPr>
                            <p:grpSpPr>
                              <a:xfrm>
                                <a:off x="6500880" y="2549520"/>
                                <a:ext cx="36360" cy="27000"/>
                                <a:chOff x="65008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51" name=""/>
                                <p:cNvSpPr/>
                                <p:nvPr/>
                              </p:nvSpPr>
                              <p:spPr>
                                <a:xfrm>
                                  <a:off x="6500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2" name=""/>
                                <p:cNvSpPr/>
                                <p:nvPr/>
                              </p:nvSpPr>
                              <p:spPr>
                                <a:xfrm>
                                  <a:off x="6510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3" name=""/>
                            <p:cNvGrpSpPr/>
                            <p:nvPr/>
                          </p:nvGrpSpPr>
                          <p:grpSpPr>
                            <a:xfrm>
                              <a:off x="6518160" y="2549520"/>
                              <a:ext cx="52560" cy="27000"/>
                              <a:chOff x="6518160" y="2549520"/>
                              <a:chExt cx="52560" cy="27000"/>
                            </a:xfrm>
                          </p:grpSpPr>
                          <p:grpSp>
                            <p:nvGrpSpPr>
                              <p:cNvPr id="554" name=""/>
                              <p:cNvGrpSpPr/>
                              <p:nvPr/>
                            </p:nvGrpSpPr>
                            <p:grpSpPr>
                              <a:xfrm>
                                <a:off x="6518160" y="2549520"/>
                                <a:ext cx="34920" cy="27000"/>
                                <a:chOff x="65181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5" name=""/>
                                <p:cNvSpPr/>
                                <p:nvPr/>
                              </p:nvSpPr>
                              <p:spPr>
                                <a:xfrm>
                                  <a:off x="6518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6" name=""/>
                                <p:cNvSpPr/>
                                <p:nvPr/>
                              </p:nvSpPr>
                              <p:spPr>
                                <a:xfrm>
                                  <a:off x="65260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7" name=""/>
                              <p:cNvGrpSpPr/>
                              <p:nvPr/>
                            </p:nvGrpSpPr>
                            <p:grpSpPr>
                              <a:xfrm>
                                <a:off x="6535800" y="2549520"/>
                                <a:ext cx="34920" cy="27000"/>
                                <a:chOff x="6535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8" name=""/>
                                <p:cNvSpPr/>
                                <p:nvPr/>
                              </p:nvSpPr>
                              <p:spPr>
                                <a:xfrm>
                                  <a:off x="653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"/>
                                <p:cNvSpPr/>
                                <p:nvPr/>
                              </p:nvSpPr>
                              <p:spPr>
                                <a:xfrm>
                                  <a:off x="6543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6002280" y="2438280"/>
                    <a:ext cx="533520" cy="66960"/>
                    <a:chOff x="6002280" y="2438280"/>
                    <a:chExt cx="533520" cy="669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6002280" y="2438280"/>
                      <a:ext cx="98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122880" y="2438280"/>
                      <a:ext cx="14940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6294600" y="2438280"/>
                      <a:ext cx="161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6478560" y="2438280"/>
                      <a:ext cx="572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6488280" y="2446200"/>
                  <a:ext cx="39600" cy="36720"/>
                  <a:chOff x="6488280" y="2446200"/>
                  <a:chExt cx="39600" cy="367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6512040" y="2448000"/>
                    <a:ext cx="792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515280" y="24591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6488280" y="2446200"/>
                    <a:ext cx="12600" cy="36720"/>
                    <a:chOff x="6488280" y="2446200"/>
                    <a:chExt cx="12600" cy="367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6488280" y="2446200"/>
                      <a:ext cx="12600" cy="12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6488280" y="2470320"/>
                      <a:ext cx="12600" cy="12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129360" y="2444760"/>
                  <a:ext cx="138240" cy="49320"/>
                  <a:chOff x="6129360" y="2444760"/>
                  <a:chExt cx="138240" cy="4932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6129360" y="2449440"/>
                    <a:ext cx="138240" cy="33480"/>
                    <a:chOff x="6129360" y="2449440"/>
                    <a:chExt cx="138240" cy="334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6180120" y="2449440"/>
                      <a:ext cx="363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6180120" y="2459160"/>
                      <a:ext cx="363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6129360" y="2457360"/>
                      <a:ext cx="138240" cy="25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6" name=""/>
                  <p:cNvSpPr/>
                  <p:nvPr/>
                </p:nvSpPr>
                <p:spPr>
                  <a:xfrm>
                    <a:off x="6129360" y="2444760"/>
                    <a:ext cx="12600" cy="1260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249960" y="2487600"/>
                    <a:ext cx="79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5997600" y="2498760"/>
                  <a:ext cx="125280" cy="27000"/>
                  <a:chOff x="5997600" y="2498760"/>
                  <a:chExt cx="125280" cy="2700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997600" y="2498760"/>
                    <a:ext cx="73080" cy="27000"/>
                    <a:chOff x="5997600" y="2498760"/>
                    <a:chExt cx="73080" cy="2700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5997600" y="2498760"/>
                      <a:ext cx="47520" cy="27000"/>
                      <a:chOff x="5997600" y="2498760"/>
                      <a:chExt cx="47520" cy="2700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5997600" y="2498760"/>
                        <a:ext cx="33480" cy="27000"/>
                        <a:chOff x="5997600" y="2498760"/>
                        <a:chExt cx="33480" cy="27000"/>
                      </a:xfrm>
                    </p:grpSpPr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5997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6004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4" name=""/>
                      <p:cNvGrpSpPr/>
                      <p:nvPr/>
                    </p:nvGrpSpPr>
                    <p:grpSpPr>
                      <a:xfrm>
                        <a:off x="6010200" y="2498760"/>
                        <a:ext cx="34920" cy="27000"/>
                        <a:chOff x="6010200" y="2498760"/>
                        <a:chExt cx="34920" cy="27000"/>
                      </a:xfrm>
                    </p:grpSpPr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6010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601812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6024600" y="2498760"/>
                      <a:ext cx="46080" cy="27000"/>
                      <a:chOff x="6024600" y="2498760"/>
                      <a:chExt cx="46080" cy="27000"/>
                    </a:xfrm>
                  </p:grpSpPr>
                  <p:grpSp>
                    <p:nvGrpSpPr>
                      <p:cNvPr id="588" name=""/>
                      <p:cNvGrpSpPr/>
                      <p:nvPr/>
                    </p:nvGrpSpPr>
                    <p:grpSpPr>
                      <a:xfrm>
                        <a:off x="6024600" y="2498760"/>
                        <a:ext cx="33480" cy="27000"/>
                        <a:chOff x="6024600" y="2498760"/>
                        <a:chExt cx="33480" cy="27000"/>
                      </a:xfrm>
                    </p:grpSpPr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024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6031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6037200" y="2498760"/>
                        <a:ext cx="33480" cy="27000"/>
                        <a:chOff x="6037200" y="2498760"/>
                        <a:chExt cx="33480" cy="2700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6037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6043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6049800" y="2498760"/>
                    <a:ext cx="73080" cy="27000"/>
                    <a:chOff x="6049800" y="2498760"/>
                    <a:chExt cx="73080" cy="27000"/>
                  </a:xfrm>
                </p:grpSpPr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6049800" y="2498760"/>
                      <a:ext cx="47880" cy="27000"/>
                      <a:chOff x="6049800" y="2498760"/>
                      <a:chExt cx="47880" cy="27000"/>
                    </a:xfrm>
                  </p:grpSpPr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6049800" y="2498760"/>
                        <a:ext cx="33480" cy="27000"/>
                        <a:chOff x="6049800" y="2498760"/>
                        <a:chExt cx="33480" cy="27000"/>
                      </a:xfrm>
                    </p:grpSpPr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6049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6056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" name=""/>
                      <p:cNvGrpSpPr/>
                      <p:nvPr/>
                    </p:nvGrpSpPr>
                    <p:grpSpPr>
                      <a:xfrm>
                        <a:off x="6064200" y="2498760"/>
                        <a:ext cx="33480" cy="27000"/>
                        <a:chOff x="6064200" y="2498760"/>
                        <a:chExt cx="33480" cy="27000"/>
                      </a:xfrm>
                    </p:grpSpPr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6064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6070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6076800" y="2498760"/>
                      <a:ext cx="46080" cy="27000"/>
                      <a:chOff x="6076800" y="2498760"/>
                      <a:chExt cx="46080" cy="2700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6076800" y="2498760"/>
                        <a:ext cx="33480" cy="27000"/>
                        <a:chOff x="6076800" y="2498760"/>
                        <a:chExt cx="33480" cy="2700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6076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6083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6089760" y="2498760"/>
                        <a:ext cx="33120" cy="27000"/>
                        <a:chOff x="6089760" y="2498760"/>
                        <a:chExt cx="33120" cy="2700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608976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60958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09" name=""/>
                <p:cNvSpPr/>
                <p:nvPr/>
              </p:nvSpPr>
              <p:spPr>
                <a:xfrm>
                  <a:off x="5996160" y="2481120"/>
                  <a:ext cx="558720" cy="27000"/>
                </a:xfrm>
                <a:custGeom>
                  <a:avLst/>
                  <a:gdLst/>
                  <a:ahLst/>
                  <a:rect l="l" t="t" r="r" b="b"/>
                  <a:pathLst>
                    <a:path w="352" h="17">
                      <a:moveTo>
                        <a:pt x="0" y="12"/>
                      </a:moveTo>
                      <a:lnTo>
                        <a:pt x="154" y="12"/>
                      </a:lnTo>
                      <a:lnTo>
                        <a:pt x="154" y="0"/>
                      </a:lnTo>
                      <a:lnTo>
                        <a:pt x="179" y="0"/>
                      </a:lnTo>
                      <a:lnTo>
                        <a:pt x="179" y="16"/>
                      </a:lnTo>
                      <a:lnTo>
                        <a:pt x="351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6073920" y="2320920"/>
                <a:ext cx="403200" cy="65160"/>
                <a:chOff x="6073920" y="2320920"/>
                <a:chExt cx="403200" cy="65160"/>
              </a:xfrm>
            </p:grpSpPr>
            <p:grpSp>
              <p:nvGrpSpPr>
                <p:cNvPr id="611" name=""/>
                <p:cNvGrpSpPr/>
                <p:nvPr/>
              </p:nvGrpSpPr>
              <p:grpSpPr>
                <a:xfrm>
                  <a:off x="6073920" y="2346480"/>
                  <a:ext cx="403200" cy="39600"/>
                  <a:chOff x="6073920" y="2346480"/>
                  <a:chExt cx="403200" cy="396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6073920" y="2346480"/>
                    <a:ext cx="4032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19">
                        <a:moveTo>
                          <a:pt x="0" y="18"/>
                        </a:moveTo>
                        <a:lnTo>
                          <a:pt x="253" y="18"/>
                        </a:lnTo>
                        <a:lnTo>
                          <a:pt x="238" y="0"/>
                        </a:lnTo>
                        <a:lnTo>
                          <a:pt x="1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080040" y="2381400"/>
                    <a:ext cx="378000" cy="46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6165720" y="2320920"/>
                  <a:ext cx="216000" cy="55440"/>
                </a:xfrm>
                <a:custGeom>
                  <a:avLst/>
                  <a:gdLst/>
                  <a:ahLst/>
                  <a:rect l="l" t="t" r="r" b="b"/>
                  <a:pathLst>
                    <a:path w="136" h="35">
                      <a:moveTo>
                        <a:pt x="0" y="19"/>
                      </a:moveTo>
                      <a:lnTo>
                        <a:pt x="0" y="0"/>
                      </a:lnTo>
                      <a:lnTo>
                        <a:pt x="135" y="0"/>
                      </a:lnTo>
                      <a:lnTo>
                        <a:pt x="135" y="20"/>
                      </a:lnTo>
                      <a:lnTo>
                        <a:pt x="134" y="22"/>
                      </a:lnTo>
                      <a:lnTo>
                        <a:pt x="133" y="23"/>
                      </a:lnTo>
                      <a:lnTo>
                        <a:pt x="130" y="25"/>
                      </a:lnTo>
                      <a:lnTo>
                        <a:pt x="127" y="26"/>
                      </a:lnTo>
                      <a:lnTo>
                        <a:pt x="124" y="27"/>
                      </a:lnTo>
                      <a:lnTo>
                        <a:pt x="120" y="29"/>
                      </a:lnTo>
                      <a:lnTo>
                        <a:pt x="116" y="30"/>
                      </a:lnTo>
                      <a:lnTo>
                        <a:pt x="111" y="30"/>
                      </a:lnTo>
                      <a:lnTo>
                        <a:pt x="106" y="31"/>
                      </a:lnTo>
                      <a:lnTo>
                        <a:pt x="99" y="32"/>
                      </a:lnTo>
                      <a:lnTo>
                        <a:pt x="93" y="33"/>
                      </a:lnTo>
                      <a:lnTo>
                        <a:pt x="88" y="33"/>
                      </a:lnTo>
                      <a:lnTo>
                        <a:pt x="81" y="34"/>
                      </a:lnTo>
                      <a:lnTo>
                        <a:pt x="74" y="34"/>
                      </a:lnTo>
                      <a:lnTo>
                        <a:pt x="64" y="34"/>
                      </a:lnTo>
                      <a:lnTo>
                        <a:pt x="55" y="34"/>
                      </a:lnTo>
                      <a:lnTo>
                        <a:pt x="47" y="33"/>
                      </a:lnTo>
                      <a:lnTo>
                        <a:pt x="40" y="33"/>
                      </a:lnTo>
                      <a:lnTo>
                        <a:pt x="34" y="32"/>
                      </a:lnTo>
                      <a:lnTo>
                        <a:pt x="29" y="31"/>
                      </a:lnTo>
                      <a:lnTo>
                        <a:pt x="22" y="30"/>
                      </a:lnTo>
                      <a:lnTo>
                        <a:pt x="17" y="29"/>
                      </a:lnTo>
                      <a:lnTo>
                        <a:pt x="13" y="28"/>
                      </a:lnTo>
                      <a:lnTo>
                        <a:pt x="9" y="26"/>
                      </a:lnTo>
                      <a:lnTo>
                        <a:pt x="6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31080" y="1978200"/>
                <a:ext cx="475920" cy="345960"/>
                <a:chOff x="6031080" y="1978200"/>
                <a:chExt cx="475920" cy="34596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6031080" y="1978200"/>
                  <a:ext cx="475920" cy="338040"/>
                  <a:chOff x="6031080" y="1978200"/>
                  <a:chExt cx="475920" cy="3380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6031080" y="1978200"/>
                    <a:ext cx="475920" cy="338040"/>
                  </a:xfrm>
                  <a:prstGeom prst="roundRect">
                    <a:avLst>
                      <a:gd name="adj" fmla="val 1221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086520" y="2017800"/>
                    <a:ext cx="365040" cy="25884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108840" y="2033640"/>
                    <a:ext cx="320400" cy="226800"/>
                  </a:xfrm>
                  <a:prstGeom prst="roundRect">
                    <a:avLst>
                      <a:gd name="adj" fmla="val 11935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0" name=""/>
                <p:cNvSpPr/>
                <p:nvPr/>
              </p:nvSpPr>
              <p:spPr>
                <a:xfrm>
                  <a:off x="6446880" y="2311560"/>
                  <a:ext cx="12600" cy="12600"/>
                </a:xfrm>
                <a:prstGeom prst="rect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"/>
          <p:cNvSpPr/>
          <p:nvPr/>
        </p:nvSpPr>
        <p:spPr>
          <a:xfrm>
            <a:off x="5865840" y="1332000"/>
            <a:ext cx="69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1120" y="263520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5320" y="2787480"/>
            <a:ext cx="91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592280" y="2016000"/>
            <a:ext cx="923760" cy="714600"/>
            <a:chOff x="1592280" y="2016000"/>
            <a:chExt cx="923760" cy="714600"/>
          </a:xfrm>
        </p:grpSpPr>
        <p:grpSp>
          <p:nvGrpSpPr>
            <p:cNvPr id="625" name=""/>
            <p:cNvGrpSpPr/>
            <p:nvPr/>
          </p:nvGrpSpPr>
          <p:grpSpPr>
            <a:xfrm>
              <a:off x="1771560" y="2400480"/>
              <a:ext cx="588960" cy="215640"/>
              <a:chOff x="1771560" y="2400480"/>
              <a:chExt cx="588960" cy="2156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771560" y="2400480"/>
                <a:ext cx="588960" cy="215640"/>
                <a:chOff x="1771560" y="2400480"/>
                <a:chExt cx="588960" cy="21564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771560" y="2400480"/>
                  <a:ext cx="588960" cy="215640"/>
                  <a:chOff x="1771560" y="2400480"/>
                  <a:chExt cx="588960" cy="21564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1771560" y="2400480"/>
                    <a:ext cx="587520" cy="215640"/>
                    <a:chOff x="1771560" y="2400480"/>
                    <a:chExt cx="587520" cy="2156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771560" y="2400480"/>
                      <a:ext cx="587520" cy="215640"/>
                      <a:chOff x="1771560" y="2400480"/>
                      <a:chExt cx="587520" cy="215640"/>
                    </a:xfrm>
                  </p:grpSpPr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1776240" y="2462040"/>
                        <a:ext cx="565200" cy="1540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1771560" y="2400480"/>
                        <a:ext cx="58752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5">
                            <a:moveTo>
                              <a:pt x="0" y="34"/>
                            </a:moveTo>
                            <a:lnTo>
                              <a:pt x="369" y="34"/>
                            </a:lnTo>
                            <a:lnTo>
                              <a:pt x="334" y="0"/>
                            </a:lnTo>
                            <a:lnTo>
                              <a:pt x="39" y="0"/>
                            </a:lnTo>
                            <a:lnTo>
                              <a:pt x="0" y="34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781280" y="2444760"/>
                      <a:ext cx="5698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7">
                          <a:moveTo>
                            <a:pt x="0" y="0"/>
                          </a:moveTo>
                          <a:lnTo>
                            <a:pt x="35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1787400" y="2587680"/>
                    <a:ext cx="573120" cy="28440"/>
                    <a:chOff x="1787400" y="2587680"/>
                    <a:chExt cx="573120" cy="28440"/>
                  </a:xfrm>
                </p:grpSpPr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1787400" y="2587680"/>
                      <a:ext cx="295560" cy="28440"/>
                      <a:chOff x="1787400" y="2587680"/>
                      <a:chExt cx="295560" cy="28440"/>
                    </a:xfrm>
                  </p:grpSpPr>
                  <p:grpSp>
                    <p:nvGrpSpPr>
                      <p:cNvPr id="635" name=""/>
                      <p:cNvGrpSpPr/>
                      <p:nvPr/>
                    </p:nvGrpSpPr>
                    <p:grpSpPr>
                      <a:xfrm>
                        <a:off x="1787400" y="2589120"/>
                        <a:ext cx="157320" cy="27000"/>
                        <a:chOff x="1787400" y="2589120"/>
                        <a:chExt cx="157320" cy="27000"/>
                      </a:xfrm>
                    </p:grpSpPr>
                    <p:grpSp>
                      <p:nvGrpSpPr>
                        <p:cNvPr id="636" name=""/>
                        <p:cNvGrpSpPr/>
                        <p:nvPr/>
                      </p:nvGrpSpPr>
                      <p:grpSpPr>
                        <a:xfrm>
                          <a:off x="1787400" y="2589120"/>
                          <a:ext cx="87480" cy="27000"/>
                          <a:chOff x="1787400" y="2589120"/>
                          <a:chExt cx="87480" cy="27000"/>
                        </a:xfrm>
                      </p:grpSpPr>
                      <p:grpSp>
                        <p:nvGrpSpPr>
                          <p:cNvPr id="637" name=""/>
                          <p:cNvGrpSpPr/>
                          <p:nvPr/>
                        </p:nvGrpSpPr>
                        <p:grpSpPr>
                          <a:xfrm>
                            <a:off x="1787400" y="2589120"/>
                            <a:ext cx="52560" cy="27000"/>
                            <a:chOff x="1787400" y="2589120"/>
                            <a:chExt cx="52560" cy="27000"/>
                          </a:xfrm>
                        </p:grpSpPr>
                        <p:grpSp>
                          <p:nvGrpSpPr>
                            <p:cNvPr id="638" name=""/>
                            <p:cNvGrpSpPr/>
                            <p:nvPr/>
                          </p:nvGrpSpPr>
                          <p:grpSpPr>
                            <a:xfrm>
                              <a:off x="1787400" y="2589120"/>
                              <a:ext cx="34920" cy="27000"/>
                              <a:chOff x="1787400" y="2589120"/>
                              <a:chExt cx="34920" cy="27000"/>
                            </a:xfrm>
                          </p:grpSpPr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17874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1795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1805040" y="2589120"/>
                              <a:ext cx="34920" cy="27000"/>
                              <a:chOff x="1805040" y="2589120"/>
                              <a:chExt cx="34920" cy="2700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18050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1812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4" name=""/>
                          <p:cNvGrpSpPr/>
                          <p:nvPr/>
                        </p:nvGrpSpPr>
                        <p:grpSpPr>
                          <a:xfrm>
                            <a:off x="1822320" y="2589120"/>
                            <a:ext cx="52560" cy="27000"/>
                            <a:chOff x="1822320" y="2589120"/>
                            <a:chExt cx="52560" cy="27000"/>
                          </a:xfrm>
                        </p:grpSpPr>
                        <p:grpSp>
                          <p:nvGrpSpPr>
                            <p:cNvPr id="645" name=""/>
                            <p:cNvGrpSpPr/>
                            <p:nvPr/>
                          </p:nvGrpSpPr>
                          <p:grpSpPr>
                            <a:xfrm>
                              <a:off x="1822320" y="2589120"/>
                              <a:ext cx="34920" cy="27000"/>
                              <a:chOff x="1822320" y="2589120"/>
                              <a:chExt cx="34920" cy="27000"/>
                            </a:xfrm>
                          </p:grpSpPr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1822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" name=""/>
                              <p:cNvSpPr/>
                              <p:nvPr/>
                            </p:nvSpPr>
                            <p:spPr>
                              <a:xfrm>
                                <a:off x="1830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1839960" y="2589120"/>
                              <a:ext cx="34920" cy="27000"/>
                              <a:chOff x="1839960" y="2589120"/>
                              <a:chExt cx="34920" cy="2700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1839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18478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1" name=""/>
                        <p:cNvGrpSpPr/>
                        <p:nvPr/>
                      </p:nvGrpSpPr>
                      <p:grpSpPr>
                        <a:xfrm>
                          <a:off x="1857240" y="2589120"/>
                          <a:ext cx="87480" cy="27000"/>
                          <a:chOff x="1857240" y="2589120"/>
                          <a:chExt cx="87480" cy="27000"/>
                        </a:xfrm>
                      </p:grpSpPr>
                      <p:grpSp>
                        <p:nvGrpSpPr>
                          <p:cNvPr id="652" name=""/>
                          <p:cNvGrpSpPr/>
                          <p:nvPr/>
                        </p:nvGrpSpPr>
                        <p:grpSpPr>
                          <a:xfrm>
                            <a:off x="1857240" y="2589120"/>
                            <a:ext cx="52560" cy="27000"/>
                            <a:chOff x="1857240" y="2589120"/>
                            <a:chExt cx="52560" cy="27000"/>
                          </a:xfrm>
                        </p:grpSpPr>
                        <p:grpSp>
                          <p:nvGrpSpPr>
                            <p:cNvPr id="653" name=""/>
                            <p:cNvGrpSpPr/>
                            <p:nvPr/>
                          </p:nvGrpSpPr>
                          <p:grpSpPr>
                            <a:xfrm>
                              <a:off x="1857240" y="2589120"/>
                              <a:ext cx="34920" cy="27000"/>
                              <a:chOff x="1857240" y="2589120"/>
                              <a:chExt cx="34920" cy="27000"/>
                            </a:xfrm>
                          </p:grpSpPr>
                          <p:sp>
                            <p:nvSpPr>
                              <p:cNvPr id="654" name=""/>
                              <p:cNvSpPr/>
                              <p:nvPr/>
                            </p:nvSpPr>
                            <p:spPr>
                              <a:xfrm>
                                <a:off x="1857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" name=""/>
                              <p:cNvSpPr/>
                              <p:nvPr/>
                            </p:nvSpPr>
                            <p:spPr>
                              <a:xfrm>
                                <a:off x="18651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6" name=""/>
                            <p:cNvGrpSpPr/>
                            <p:nvPr/>
                          </p:nvGrpSpPr>
                          <p:grpSpPr>
                            <a:xfrm>
                              <a:off x="1873080" y="2589120"/>
                              <a:ext cx="36720" cy="27000"/>
                              <a:chOff x="1873080" y="2589120"/>
                              <a:chExt cx="36720" cy="27000"/>
                            </a:xfrm>
                          </p:grpSpPr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1873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1882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9" name=""/>
                          <p:cNvGrpSpPr/>
                          <p:nvPr/>
                        </p:nvGrpSpPr>
                        <p:grpSpPr>
                          <a:xfrm>
                            <a:off x="1890720" y="2589120"/>
                            <a:ext cx="54000" cy="27000"/>
                            <a:chOff x="1890720" y="2589120"/>
                            <a:chExt cx="54000" cy="27000"/>
                          </a:xfrm>
                        </p:grpSpPr>
                        <p:grpSp>
                          <p:nvGrpSpPr>
                            <p:cNvPr id="660" name=""/>
                            <p:cNvGrpSpPr/>
                            <p:nvPr/>
                          </p:nvGrpSpPr>
                          <p:grpSpPr>
                            <a:xfrm>
                              <a:off x="1890720" y="2589120"/>
                              <a:ext cx="36360" cy="27000"/>
                              <a:chOff x="1890720" y="2589120"/>
                              <a:chExt cx="36360" cy="27000"/>
                            </a:xfrm>
                          </p:grpSpPr>
                          <p:sp>
                            <p:nvSpPr>
                              <p:cNvPr id="661" name=""/>
                              <p:cNvSpPr/>
                              <p:nvPr/>
                            </p:nvSpPr>
                            <p:spPr>
                              <a:xfrm>
                                <a:off x="1890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" name=""/>
                              <p:cNvSpPr/>
                              <p:nvPr/>
                            </p:nvSpPr>
                            <p:spPr>
                              <a:xfrm>
                                <a:off x="1900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3" name=""/>
                            <p:cNvGrpSpPr/>
                            <p:nvPr/>
                          </p:nvGrpSpPr>
                          <p:grpSpPr>
                            <a:xfrm>
                              <a:off x="1909800" y="2589120"/>
                              <a:ext cx="34920" cy="27000"/>
                              <a:chOff x="1909800" y="2589120"/>
                              <a:chExt cx="34920" cy="27000"/>
                            </a:xfrm>
                          </p:grpSpPr>
                          <p:sp>
                            <p:nvSpPr>
                              <p:cNvPr id="664" name=""/>
                              <p:cNvSpPr/>
                              <p:nvPr/>
                            </p:nvSpPr>
                            <p:spPr>
                              <a:xfrm>
                                <a:off x="1909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1917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6" name=""/>
                      <p:cNvGrpSpPr/>
                      <p:nvPr/>
                    </p:nvGrpSpPr>
                    <p:grpSpPr>
                      <a:xfrm>
                        <a:off x="1925640" y="2587680"/>
                        <a:ext cx="157320" cy="27000"/>
                        <a:chOff x="1925640" y="2587680"/>
                        <a:chExt cx="157320" cy="27000"/>
                      </a:xfrm>
                    </p:grpSpPr>
                    <p:grpSp>
                      <p:nvGrpSpPr>
                        <p:cNvPr id="667" name=""/>
                        <p:cNvGrpSpPr/>
                        <p:nvPr/>
                      </p:nvGrpSpPr>
                      <p:grpSpPr>
                        <a:xfrm>
                          <a:off x="1925640" y="2587680"/>
                          <a:ext cx="88920" cy="27000"/>
                          <a:chOff x="1925640" y="2587680"/>
                          <a:chExt cx="88920" cy="27000"/>
                        </a:xfrm>
                      </p:grpSpPr>
                      <p:grpSp>
                        <p:nvGrpSpPr>
                          <p:cNvPr id="668" name=""/>
                          <p:cNvGrpSpPr/>
                          <p:nvPr/>
                        </p:nvGrpSpPr>
                        <p:grpSpPr>
                          <a:xfrm>
                            <a:off x="1925640" y="2587680"/>
                            <a:ext cx="54000" cy="27000"/>
                            <a:chOff x="1925640" y="2587680"/>
                            <a:chExt cx="54000" cy="27000"/>
                          </a:xfrm>
                        </p:grpSpPr>
                        <p:grpSp>
                          <p:nvGrpSpPr>
                            <p:cNvPr id="669" name=""/>
                            <p:cNvGrpSpPr/>
                            <p:nvPr/>
                          </p:nvGrpSpPr>
                          <p:grpSpPr>
                            <a:xfrm>
                              <a:off x="1925640" y="2587680"/>
                              <a:ext cx="36360" cy="27000"/>
                              <a:chOff x="1925640" y="2587680"/>
                              <a:chExt cx="36360" cy="27000"/>
                            </a:xfrm>
                          </p:grpSpPr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192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193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1943280" y="2587680"/>
                              <a:ext cx="36360" cy="27000"/>
                              <a:chOff x="1943280" y="2587680"/>
                              <a:chExt cx="36360" cy="2700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194328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1952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5" name=""/>
                          <p:cNvGrpSpPr/>
                          <p:nvPr/>
                        </p:nvGrpSpPr>
                        <p:grpSpPr>
                          <a:xfrm>
                            <a:off x="1960560" y="2587680"/>
                            <a:ext cx="54000" cy="27000"/>
                            <a:chOff x="1960560" y="2587680"/>
                            <a:chExt cx="54000" cy="27000"/>
                          </a:xfrm>
                        </p:grpSpPr>
                        <p:grpSp>
                          <p:nvGrpSpPr>
                            <p:cNvPr id="676" name=""/>
                            <p:cNvGrpSpPr/>
                            <p:nvPr/>
                          </p:nvGrpSpPr>
                          <p:grpSpPr>
                            <a:xfrm>
                              <a:off x="1960560" y="2587680"/>
                              <a:ext cx="36360" cy="27000"/>
                              <a:chOff x="1960560" y="2587680"/>
                              <a:chExt cx="36360" cy="27000"/>
                            </a:xfrm>
                          </p:grpSpPr>
                          <p:sp>
                            <p:nvSpPr>
                              <p:cNvPr id="677" name=""/>
                              <p:cNvSpPr/>
                              <p:nvPr/>
                            </p:nvSpPr>
                            <p:spPr>
                              <a:xfrm>
                                <a:off x="196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" name=""/>
                              <p:cNvSpPr/>
                              <p:nvPr/>
                            </p:nvSpPr>
                            <p:spPr>
                              <a:xfrm>
                                <a:off x="1969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9" name=""/>
                            <p:cNvGrpSpPr/>
                            <p:nvPr/>
                          </p:nvGrpSpPr>
                          <p:grpSpPr>
                            <a:xfrm>
                              <a:off x="1978200" y="2587680"/>
                              <a:ext cx="36360" cy="27000"/>
                              <a:chOff x="1978200" y="2587680"/>
                              <a:chExt cx="36360" cy="27000"/>
                            </a:xfrm>
                          </p:grpSpPr>
                          <p:sp>
                            <p:nvSpPr>
                              <p:cNvPr id="680" name=""/>
                              <p:cNvSpPr/>
                              <p:nvPr/>
                            </p:nvSpPr>
                            <p:spPr>
                              <a:xfrm>
                                <a:off x="197820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1987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2" name=""/>
                        <p:cNvGrpSpPr/>
                        <p:nvPr/>
                      </p:nvGrpSpPr>
                      <p:grpSpPr>
                        <a:xfrm>
                          <a:off x="1995480" y="2587680"/>
                          <a:ext cx="87480" cy="27000"/>
                          <a:chOff x="1995480" y="2587680"/>
                          <a:chExt cx="87480" cy="27000"/>
                        </a:xfrm>
                      </p:grpSpPr>
                      <p:grpSp>
                        <p:nvGrpSpPr>
                          <p:cNvPr id="683" name=""/>
                          <p:cNvGrpSpPr/>
                          <p:nvPr/>
                        </p:nvGrpSpPr>
                        <p:grpSpPr>
                          <a:xfrm>
                            <a:off x="1995480" y="2587680"/>
                            <a:ext cx="54000" cy="27000"/>
                            <a:chOff x="1995480" y="2587680"/>
                            <a:chExt cx="54000" cy="27000"/>
                          </a:xfrm>
                        </p:grpSpPr>
                        <p:grpSp>
                          <p:nvGrpSpPr>
                            <p:cNvPr id="684" name=""/>
                            <p:cNvGrpSpPr/>
                            <p:nvPr/>
                          </p:nvGrpSpPr>
                          <p:grpSpPr>
                            <a:xfrm>
                              <a:off x="1995480" y="2587680"/>
                              <a:ext cx="36360" cy="27000"/>
                              <a:chOff x="1995480" y="2587680"/>
                              <a:chExt cx="36360" cy="27000"/>
                            </a:xfrm>
                          </p:grpSpPr>
                          <p:sp>
                            <p:nvSpPr>
                              <p:cNvPr id="685" name=""/>
                              <p:cNvSpPr/>
                              <p:nvPr/>
                            </p:nvSpPr>
                            <p:spPr>
                              <a:xfrm>
                                <a:off x="199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" name=""/>
                              <p:cNvSpPr/>
                              <p:nvPr/>
                            </p:nvSpPr>
                            <p:spPr>
                              <a:xfrm>
                                <a:off x="2004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7" name=""/>
                            <p:cNvGrpSpPr/>
                            <p:nvPr/>
                          </p:nvGrpSpPr>
                          <p:grpSpPr>
                            <a:xfrm>
                              <a:off x="2013120" y="2587680"/>
                              <a:ext cx="36360" cy="27000"/>
                              <a:chOff x="2013120" y="2587680"/>
                              <a:chExt cx="36360" cy="27000"/>
                            </a:xfrm>
                          </p:grpSpPr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201312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2022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0" name=""/>
                          <p:cNvGrpSpPr/>
                          <p:nvPr/>
                        </p:nvGrpSpPr>
                        <p:grpSpPr>
                          <a:xfrm>
                            <a:off x="2030400" y="2587680"/>
                            <a:ext cx="52560" cy="27000"/>
                            <a:chOff x="2030400" y="2587680"/>
                            <a:chExt cx="52560" cy="27000"/>
                          </a:xfrm>
                        </p:grpSpPr>
                        <p:grpSp>
                          <p:nvGrpSpPr>
                            <p:cNvPr id="691" name=""/>
                            <p:cNvGrpSpPr/>
                            <p:nvPr/>
                          </p:nvGrpSpPr>
                          <p:grpSpPr>
                            <a:xfrm>
                              <a:off x="2030400" y="2587680"/>
                              <a:ext cx="34920" cy="27000"/>
                              <a:chOff x="2030400" y="2587680"/>
                              <a:chExt cx="34920" cy="27000"/>
                            </a:xfrm>
                          </p:grpSpPr>
                          <p:sp>
                            <p:nvSpPr>
                              <p:cNvPr id="692" name=""/>
                              <p:cNvSpPr/>
                              <p:nvPr/>
                            </p:nvSpPr>
                            <p:spPr>
                              <a:xfrm>
                                <a:off x="203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3" name=""/>
                              <p:cNvSpPr/>
                              <p:nvPr/>
                            </p:nvSpPr>
                            <p:spPr>
                              <a:xfrm>
                                <a:off x="203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4" name=""/>
                            <p:cNvGrpSpPr/>
                            <p:nvPr/>
                          </p:nvGrpSpPr>
                          <p:grpSpPr>
                            <a:xfrm>
                              <a:off x="2048040" y="2587680"/>
                              <a:ext cx="34920" cy="27000"/>
                              <a:chOff x="2048040" y="2587680"/>
                              <a:chExt cx="34920" cy="27000"/>
                            </a:xfrm>
                          </p:grpSpPr>
                          <p:sp>
                            <p:nvSpPr>
                              <p:cNvPr id="695" name=""/>
                              <p:cNvSpPr/>
                              <p:nvPr/>
                            </p:nvSpPr>
                            <p:spPr>
                              <a:xfrm>
                                <a:off x="20480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"/>
                              <p:cNvSpPr/>
                              <p:nvPr/>
                            </p:nvSpPr>
                            <p:spPr>
                              <a:xfrm>
                                <a:off x="2055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2065320" y="2587680"/>
                      <a:ext cx="295200" cy="27000"/>
                      <a:chOff x="2065320" y="2587680"/>
                      <a:chExt cx="295200" cy="27000"/>
                    </a:xfrm>
                  </p:grpSpPr>
                  <p:grpSp>
                    <p:nvGrpSpPr>
                      <p:cNvPr id="698" name=""/>
                      <p:cNvGrpSpPr/>
                      <p:nvPr/>
                    </p:nvGrpSpPr>
                    <p:grpSpPr>
                      <a:xfrm>
                        <a:off x="2065320" y="2587680"/>
                        <a:ext cx="157320" cy="27000"/>
                        <a:chOff x="2065320" y="2587680"/>
                        <a:chExt cx="157320" cy="27000"/>
                      </a:xfrm>
                    </p:grpSpPr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2065320" y="2587680"/>
                          <a:ext cx="87480" cy="27000"/>
                          <a:chOff x="2065320" y="2587680"/>
                          <a:chExt cx="87480" cy="27000"/>
                        </a:xfrm>
                      </p:grpSpPr>
                      <p:grpSp>
                        <p:nvGrpSpPr>
                          <p:cNvPr id="700" name=""/>
                          <p:cNvGrpSpPr/>
                          <p:nvPr/>
                        </p:nvGrpSpPr>
                        <p:grpSpPr>
                          <a:xfrm>
                            <a:off x="2065320" y="2587680"/>
                            <a:ext cx="52560" cy="27000"/>
                            <a:chOff x="2065320" y="2587680"/>
                            <a:chExt cx="52560" cy="27000"/>
                          </a:xfrm>
                        </p:grpSpPr>
                        <p:grpSp>
                          <p:nvGrpSpPr>
                            <p:cNvPr id="701" name=""/>
                            <p:cNvGrpSpPr/>
                            <p:nvPr/>
                          </p:nvGrpSpPr>
                          <p:grpSpPr>
                            <a:xfrm>
                              <a:off x="2065320" y="2587680"/>
                              <a:ext cx="34920" cy="27000"/>
                              <a:chOff x="2065320" y="2587680"/>
                              <a:chExt cx="34920" cy="27000"/>
                            </a:xfrm>
                          </p:grpSpPr>
                          <p:sp>
                            <p:nvSpPr>
                              <p:cNvPr id="702" name=""/>
                              <p:cNvSpPr/>
                              <p:nvPr/>
                            </p:nvSpPr>
                            <p:spPr>
                              <a:xfrm>
                                <a:off x="2065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" name=""/>
                              <p:cNvSpPr/>
                              <p:nvPr/>
                            </p:nvSpPr>
                            <p:spPr>
                              <a:xfrm>
                                <a:off x="2073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4" name=""/>
                            <p:cNvGrpSpPr/>
                            <p:nvPr/>
                          </p:nvGrpSpPr>
                          <p:grpSpPr>
                            <a:xfrm>
                              <a:off x="2082960" y="2587680"/>
                              <a:ext cx="34920" cy="27000"/>
                              <a:chOff x="2082960" y="2587680"/>
                              <a:chExt cx="34920" cy="27000"/>
                            </a:xfrm>
                          </p:grpSpPr>
                          <p:sp>
                            <p:nvSpPr>
                              <p:cNvPr id="705" name=""/>
                              <p:cNvSpPr/>
                              <p:nvPr/>
                            </p:nvSpPr>
                            <p:spPr>
                              <a:xfrm>
                                <a:off x="2082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" name=""/>
                              <p:cNvSpPr/>
                              <p:nvPr/>
                            </p:nvSpPr>
                            <p:spPr>
                              <a:xfrm>
                                <a:off x="2090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7" name=""/>
                          <p:cNvGrpSpPr/>
                          <p:nvPr/>
                        </p:nvGrpSpPr>
                        <p:grpSpPr>
                          <a:xfrm>
                            <a:off x="2100240" y="2587680"/>
                            <a:ext cx="52560" cy="27000"/>
                            <a:chOff x="2100240" y="2587680"/>
                            <a:chExt cx="52560" cy="27000"/>
                          </a:xfrm>
                        </p:grpSpPr>
                        <p:grpSp>
                          <p:nvGrpSpPr>
                            <p:cNvPr id="708" name=""/>
                            <p:cNvGrpSpPr/>
                            <p:nvPr/>
                          </p:nvGrpSpPr>
                          <p:grpSpPr>
                            <a:xfrm>
                              <a:off x="2100240" y="2587680"/>
                              <a:ext cx="34920" cy="27000"/>
                              <a:chOff x="2100240" y="2587680"/>
                              <a:chExt cx="34920" cy="27000"/>
                            </a:xfrm>
                          </p:grpSpPr>
                          <p:sp>
                            <p:nvSpPr>
                              <p:cNvPr id="709" name=""/>
                              <p:cNvSpPr/>
                              <p:nvPr/>
                            </p:nvSpPr>
                            <p:spPr>
                              <a:xfrm>
                                <a:off x="2100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" name=""/>
                              <p:cNvSpPr/>
                              <p:nvPr/>
                            </p:nvSpPr>
                            <p:spPr>
                              <a:xfrm>
                                <a:off x="2108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1" name=""/>
                            <p:cNvGrpSpPr/>
                            <p:nvPr/>
                          </p:nvGrpSpPr>
                          <p:grpSpPr>
                            <a:xfrm>
                              <a:off x="2117880" y="2587680"/>
                              <a:ext cx="34920" cy="27000"/>
                              <a:chOff x="2117880" y="2587680"/>
                              <a:chExt cx="34920" cy="27000"/>
                            </a:xfrm>
                          </p:grpSpPr>
                          <p:sp>
                            <p:nvSpPr>
                              <p:cNvPr id="712" name=""/>
                              <p:cNvSpPr/>
                              <p:nvPr/>
                            </p:nvSpPr>
                            <p:spPr>
                              <a:xfrm>
                                <a:off x="2117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3" name=""/>
                              <p:cNvSpPr/>
                              <p:nvPr/>
                            </p:nvSpPr>
                            <p:spPr>
                              <a:xfrm>
                                <a:off x="2125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2135160" y="2587680"/>
                          <a:ext cx="87480" cy="27000"/>
                          <a:chOff x="2135160" y="2587680"/>
                          <a:chExt cx="87480" cy="27000"/>
                        </a:xfrm>
                      </p:grpSpPr>
                      <p:grpSp>
                        <p:nvGrpSpPr>
                          <p:cNvPr id="715" name=""/>
                          <p:cNvGrpSpPr/>
                          <p:nvPr/>
                        </p:nvGrpSpPr>
                        <p:grpSpPr>
                          <a:xfrm>
                            <a:off x="2135160" y="2587680"/>
                            <a:ext cx="52560" cy="27000"/>
                            <a:chOff x="2135160" y="2587680"/>
                            <a:chExt cx="52560" cy="27000"/>
                          </a:xfrm>
                        </p:grpSpPr>
                        <p:grpSp>
                          <p:nvGrpSpPr>
                            <p:cNvPr id="716" name=""/>
                            <p:cNvGrpSpPr/>
                            <p:nvPr/>
                          </p:nvGrpSpPr>
                          <p:grpSpPr>
                            <a:xfrm>
                              <a:off x="2135160" y="2587680"/>
                              <a:ext cx="34920" cy="27000"/>
                              <a:chOff x="2135160" y="2587680"/>
                              <a:chExt cx="34920" cy="27000"/>
                            </a:xfrm>
                          </p:grpSpPr>
                          <p:sp>
                            <p:nvSpPr>
                              <p:cNvPr id="717" name=""/>
                              <p:cNvSpPr/>
                              <p:nvPr/>
                            </p:nvSpPr>
                            <p:spPr>
                              <a:xfrm>
                                <a:off x="2135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8" name=""/>
                              <p:cNvSpPr/>
                              <p:nvPr/>
                            </p:nvSpPr>
                            <p:spPr>
                              <a:xfrm>
                                <a:off x="21430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9" name=""/>
                            <p:cNvGrpSpPr/>
                            <p:nvPr/>
                          </p:nvGrpSpPr>
                          <p:grpSpPr>
                            <a:xfrm>
                              <a:off x="2152800" y="2587680"/>
                              <a:ext cx="34920" cy="27000"/>
                              <a:chOff x="2152800" y="2587680"/>
                              <a:chExt cx="34920" cy="27000"/>
                            </a:xfrm>
                          </p:grpSpPr>
                          <p:sp>
                            <p:nvSpPr>
                              <p:cNvPr id="720" name=""/>
                              <p:cNvSpPr/>
                              <p:nvPr/>
                            </p:nvSpPr>
                            <p:spPr>
                              <a:xfrm>
                                <a:off x="2152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1" name=""/>
                              <p:cNvSpPr/>
                              <p:nvPr/>
                            </p:nvSpPr>
                            <p:spPr>
                              <a:xfrm>
                                <a:off x="21607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2" name=""/>
                          <p:cNvGrpSpPr/>
                          <p:nvPr/>
                        </p:nvGrpSpPr>
                        <p:grpSpPr>
                          <a:xfrm>
                            <a:off x="2168640" y="2587680"/>
                            <a:ext cx="54000" cy="27000"/>
                            <a:chOff x="2168640" y="2587680"/>
                            <a:chExt cx="54000" cy="27000"/>
                          </a:xfrm>
                        </p:grpSpPr>
                        <p:grpSp>
                          <p:nvGrpSpPr>
                            <p:cNvPr id="723" name=""/>
                            <p:cNvGrpSpPr/>
                            <p:nvPr/>
                          </p:nvGrpSpPr>
                          <p:grpSpPr>
                            <a:xfrm>
                              <a:off x="2168640" y="2587680"/>
                              <a:ext cx="36360" cy="27000"/>
                              <a:chOff x="2168640" y="2587680"/>
                              <a:chExt cx="36360" cy="27000"/>
                            </a:xfrm>
                          </p:grpSpPr>
                          <p:sp>
                            <p:nvSpPr>
                              <p:cNvPr id="724" name=""/>
                              <p:cNvSpPr/>
                              <p:nvPr/>
                            </p:nvSpPr>
                            <p:spPr>
                              <a:xfrm>
                                <a:off x="2168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"/>
                              <p:cNvSpPr/>
                              <p:nvPr/>
                            </p:nvSpPr>
                            <p:spPr>
                              <a:xfrm>
                                <a:off x="2178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6" name=""/>
                            <p:cNvGrpSpPr/>
                            <p:nvPr/>
                          </p:nvGrpSpPr>
                          <p:grpSpPr>
                            <a:xfrm>
                              <a:off x="2185920" y="2587680"/>
                              <a:ext cx="36720" cy="27000"/>
                              <a:chOff x="2185920" y="2587680"/>
                              <a:chExt cx="36720" cy="27000"/>
                            </a:xfrm>
                          </p:grpSpPr>
                          <p:sp>
                            <p:nvSpPr>
                              <p:cNvPr id="727" name=""/>
                              <p:cNvSpPr/>
                              <p:nvPr/>
                            </p:nvSpPr>
                            <p:spPr>
                              <a:xfrm>
                                <a:off x="2185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"/>
                              <p:cNvSpPr/>
                              <p:nvPr/>
                            </p:nvSpPr>
                            <p:spPr>
                              <a:xfrm>
                                <a:off x="219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2205000" y="2587680"/>
                        <a:ext cx="155520" cy="27000"/>
                        <a:chOff x="2205000" y="2587680"/>
                        <a:chExt cx="155520" cy="27000"/>
                      </a:xfrm>
                    </p:grpSpPr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2205000" y="2587680"/>
                          <a:ext cx="87480" cy="27000"/>
                          <a:chOff x="2205000" y="2587680"/>
                          <a:chExt cx="87480" cy="27000"/>
                        </a:xfrm>
                      </p:grpSpPr>
                      <p:grpSp>
                        <p:nvGrpSpPr>
                          <p:cNvPr id="731" name=""/>
                          <p:cNvGrpSpPr/>
                          <p:nvPr/>
                        </p:nvGrpSpPr>
                        <p:grpSpPr>
                          <a:xfrm>
                            <a:off x="2205000" y="2587680"/>
                            <a:ext cx="52560" cy="27000"/>
                            <a:chOff x="2205000" y="2587680"/>
                            <a:chExt cx="52560" cy="27000"/>
                          </a:xfrm>
                        </p:grpSpPr>
                        <p:grpSp>
                          <p:nvGrpSpPr>
                            <p:cNvPr id="732" name=""/>
                            <p:cNvGrpSpPr/>
                            <p:nvPr/>
                          </p:nvGrpSpPr>
                          <p:grpSpPr>
                            <a:xfrm>
                              <a:off x="2205000" y="2587680"/>
                              <a:ext cx="34920" cy="27000"/>
                              <a:chOff x="2205000" y="2587680"/>
                              <a:chExt cx="34920" cy="27000"/>
                            </a:xfrm>
                          </p:grpSpPr>
                          <p:sp>
                            <p:nvSpPr>
                              <p:cNvPr id="733" name=""/>
                              <p:cNvSpPr/>
                              <p:nvPr/>
                            </p:nvSpPr>
                            <p:spPr>
                              <a:xfrm>
                                <a:off x="220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" name=""/>
                              <p:cNvSpPr/>
                              <p:nvPr/>
                            </p:nvSpPr>
                            <p:spPr>
                              <a:xfrm>
                                <a:off x="2212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5" name=""/>
                            <p:cNvGrpSpPr/>
                            <p:nvPr/>
                          </p:nvGrpSpPr>
                          <p:grpSpPr>
                            <a:xfrm>
                              <a:off x="2220840" y="2587680"/>
                              <a:ext cx="36720" cy="27000"/>
                              <a:chOff x="2220840" y="2587680"/>
                              <a:chExt cx="36720" cy="27000"/>
                            </a:xfrm>
                          </p:grpSpPr>
                          <p:sp>
                            <p:nvSpPr>
                              <p:cNvPr id="736" name=""/>
                              <p:cNvSpPr/>
                              <p:nvPr/>
                            </p:nvSpPr>
                            <p:spPr>
                              <a:xfrm>
                                <a:off x="2220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7" name=""/>
                              <p:cNvSpPr/>
                              <p:nvPr/>
                            </p:nvSpPr>
                            <p:spPr>
                              <a:xfrm>
                                <a:off x="223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8" name=""/>
                          <p:cNvGrpSpPr/>
                          <p:nvPr/>
                        </p:nvGrpSpPr>
                        <p:grpSpPr>
                          <a:xfrm>
                            <a:off x="2238480" y="2587680"/>
                            <a:ext cx="54000" cy="27000"/>
                            <a:chOff x="2238480" y="2587680"/>
                            <a:chExt cx="54000" cy="27000"/>
                          </a:xfrm>
                        </p:grpSpPr>
                        <p:grpSp>
                          <p:nvGrpSpPr>
                            <p:cNvPr id="739" name=""/>
                            <p:cNvGrpSpPr/>
                            <p:nvPr/>
                          </p:nvGrpSpPr>
                          <p:grpSpPr>
                            <a:xfrm>
                              <a:off x="2238480" y="2587680"/>
                              <a:ext cx="36360" cy="27000"/>
                              <a:chOff x="2238480" y="2587680"/>
                              <a:chExt cx="36360" cy="27000"/>
                            </a:xfrm>
                          </p:grpSpPr>
                          <p:sp>
                            <p:nvSpPr>
                              <p:cNvPr id="740" name=""/>
                              <p:cNvSpPr/>
                              <p:nvPr/>
                            </p:nvSpPr>
                            <p:spPr>
                              <a:xfrm>
                                <a:off x="2238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"/>
                              <p:cNvSpPr/>
                              <p:nvPr/>
                            </p:nvSpPr>
                            <p:spPr>
                              <a:xfrm>
                                <a:off x="2247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2" name=""/>
                            <p:cNvGrpSpPr/>
                            <p:nvPr/>
                          </p:nvGrpSpPr>
                          <p:grpSpPr>
                            <a:xfrm>
                              <a:off x="2255760" y="2587680"/>
                              <a:ext cx="36720" cy="27000"/>
                              <a:chOff x="2255760" y="2587680"/>
                              <a:chExt cx="36720" cy="27000"/>
                            </a:xfrm>
                          </p:grpSpPr>
                          <p:sp>
                            <p:nvSpPr>
                              <p:cNvPr id="743" name=""/>
                              <p:cNvSpPr/>
                              <p:nvPr/>
                            </p:nvSpPr>
                            <p:spPr>
                              <a:xfrm>
                                <a:off x="22557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4" name=""/>
                              <p:cNvSpPr/>
                              <p:nvPr/>
                            </p:nvSpPr>
                            <p:spPr>
                              <a:xfrm>
                                <a:off x="226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2273400" y="2587680"/>
                          <a:ext cx="87120" cy="27000"/>
                          <a:chOff x="2273400" y="2587680"/>
                          <a:chExt cx="87120" cy="27000"/>
                        </a:xfrm>
                      </p:grpSpPr>
                      <p:grpSp>
                        <p:nvGrpSpPr>
                          <p:cNvPr id="746" name=""/>
                          <p:cNvGrpSpPr/>
                          <p:nvPr/>
                        </p:nvGrpSpPr>
                        <p:grpSpPr>
                          <a:xfrm>
                            <a:off x="2273400" y="2587680"/>
                            <a:ext cx="54000" cy="27000"/>
                            <a:chOff x="2273400" y="2587680"/>
                            <a:chExt cx="54000" cy="27000"/>
                          </a:xfrm>
                        </p:grpSpPr>
                        <p:grpSp>
                          <p:nvGrpSpPr>
                            <p:cNvPr id="747" name=""/>
                            <p:cNvGrpSpPr/>
                            <p:nvPr/>
                          </p:nvGrpSpPr>
                          <p:grpSpPr>
                            <a:xfrm>
                              <a:off x="2273400" y="2587680"/>
                              <a:ext cx="34920" cy="27000"/>
                              <a:chOff x="2273400" y="2587680"/>
                              <a:chExt cx="34920" cy="27000"/>
                            </a:xfrm>
                          </p:grpSpPr>
                          <p:sp>
                            <p:nvSpPr>
                              <p:cNvPr id="748" name=""/>
                              <p:cNvSpPr/>
                              <p:nvPr/>
                            </p:nvSpPr>
                            <p:spPr>
                              <a:xfrm>
                                <a:off x="2273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2281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0" name=""/>
                            <p:cNvGrpSpPr/>
                            <p:nvPr/>
                          </p:nvGrpSpPr>
                          <p:grpSpPr>
                            <a:xfrm>
                              <a:off x="2290680" y="2587680"/>
                              <a:ext cx="36720" cy="27000"/>
                              <a:chOff x="2290680" y="2587680"/>
                              <a:chExt cx="36720" cy="27000"/>
                            </a:xfrm>
                          </p:grpSpPr>
                          <p:sp>
                            <p:nvSpPr>
                              <p:cNvPr id="751" name=""/>
                              <p:cNvSpPr/>
                              <p:nvPr/>
                            </p:nvSpPr>
                            <p:spPr>
                              <a:xfrm>
                                <a:off x="22906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" name=""/>
                              <p:cNvSpPr/>
                              <p:nvPr/>
                            </p:nvSpPr>
                            <p:spPr>
                              <a:xfrm>
                                <a:off x="230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3" name=""/>
                          <p:cNvGrpSpPr/>
                          <p:nvPr/>
                        </p:nvGrpSpPr>
                        <p:grpSpPr>
                          <a:xfrm>
                            <a:off x="2308320" y="2587680"/>
                            <a:ext cx="52200" cy="27000"/>
                            <a:chOff x="2308320" y="2587680"/>
                            <a:chExt cx="52200" cy="27000"/>
                          </a:xfrm>
                        </p:grpSpPr>
                        <p:grpSp>
                          <p:nvGrpSpPr>
                            <p:cNvPr id="754" name=""/>
                            <p:cNvGrpSpPr/>
                            <p:nvPr/>
                          </p:nvGrpSpPr>
                          <p:grpSpPr>
                            <a:xfrm>
                              <a:off x="2308320" y="2587680"/>
                              <a:ext cx="34920" cy="27000"/>
                              <a:chOff x="2308320" y="2587680"/>
                              <a:chExt cx="34920" cy="27000"/>
                            </a:xfrm>
                          </p:grpSpPr>
                          <p:sp>
                            <p:nvSpPr>
                              <p:cNvPr id="755" name=""/>
                              <p:cNvSpPr/>
                              <p:nvPr/>
                            </p:nvSpPr>
                            <p:spPr>
                              <a:xfrm>
                                <a:off x="230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"/>
                              <p:cNvSpPr/>
                              <p:nvPr/>
                            </p:nvSpPr>
                            <p:spPr>
                              <a:xfrm>
                                <a:off x="2316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7" name=""/>
                            <p:cNvGrpSpPr/>
                            <p:nvPr/>
                          </p:nvGrpSpPr>
                          <p:grpSpPr>
                            <a:xfrm>
                              <a:off x="2325600" y="2587680"/>
                              <a:ext cx="34920" cy="27000"/>
                              <a:chOff x="2325600" y="2587680"/>
                              <a:chExt cx="34920" cy="27000"/>
                            </a:xfrm>
                          </p:grpSpPr>
                          <p:sp>
                            <p:nvSpPr>
                              <p:cNvPr id="758" name=""/>
                              <p:cNvSpPr/>
                              <p:nvPr/>
                            </p:nvSpPr>
                            <p:spPr>
                              <a:xfrm>
                                <a:off x="23256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" name=""/>
                              <p:cNvSpPr/>
                              <p:nvPr/>
                            </p:nvSpPr>
                            <p:spPr>
                              <a:xfrm>
                                <a:off x="23335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792440" y="2476440"/>
                  <a:ext cx="533160" cy="66600"/>
                  <a:chOff x="1792440" y="2476440"/>
                  <a:chExt cx="533160" cy="6660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792440" y="2476440"/>
                    <a:ext cx="9828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913040" y="2476440"/>
                    <a:ext cx="1490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084400" y="2476440"/>
                    <a:ext cx="16200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268360" y="2476440"/>
                    <a:ext cx="572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5" name=""/>
              <p:cNvGrpSpPr/>
              <p:nvPr/>
            </p:nvGrpSpPr>
            <p:grpSpPr>
              <a:xfrm>
                <a:off x="2278080" y="2484360"/>
                <a:ext cx="39600" cy="36720"/>
                <a:chOff x="2278080" y="2484360"/>
                <a:chExt cx="39600" cy="36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301840" y="2486160"/>
                  <a:ext cx="7920" cy="20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305080" y="2496960"/>
                  <a:ext cx="1260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"/>
                <p:cNvGrpSpPr/>
                <p:nvPr/>
              </p:nvGrpSpPr>
              <p:grpSpPr>
                <a:xfrm>
                  <a:off x="2278080" y="2484360"/>
                  <a:ext cx="12600" cy="36720"/>
                  <a:chOff x="2278080" y="2484360"/>
                  <a:chExt cx="12600" cy="3672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2278080" y="24843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278080" y="2508120"/>
                    <a:ext cx="1260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919160" y="2482920"/>
                <a:ext cx="138240" cy="49320"/>
                <a:chOff x="1919160" y="2482920"/>
                <a:chExt cx="138240" cy="493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919160" y="2487600"/>
                  <a:ext cx="138240" cy="33480"/>
                  <a:chOff x="1919160" y="2487600"/>
                  <a:chExt cx="138240" cy="334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969920" y="2487600"/>
                    <a:ext cx="3672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969920" y="2496960"/>
                    <a:ext cx="367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919160" y="2495520"/>
                    <a:ext cx="13824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1919160" y="2482920"/>
                  <a:ext cx="12960" cy="126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039760" y="2525760"/>
                  <a:ext cx="8280" cy="64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87400" y="2536920"/>
                <a:ext cx="125640" cy="27000"/>
                <a:chOff x="1787400" y="2536920"/>
                <a:chExt cx="125640" cy="2700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1787400" y="2536920"/>
                  <a:ext cx="73080" cy="27000"/>
                  <a:chOff x="1787400" y="2536920"/>
                  <a:chExt cx="73080" cy="2700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1787400" y="2536920"/>
                    <a:ext cx="47880" cy="27000"/>
                    <a:chOff x="1787400" y="2536920"/>
                    <a:chExt cx="47880" cy="27000"/>
                  </a:xfrm>
                </p:grpSpPr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1787400" y="2536920"/>
                      <a:ext cx="33480" cy="27000"/>
                      <a:chOff x="1787400" y="2536920"/>
                      <a:chExt cx="33480" cy="2700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1787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1793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1800360" y="2536920"/>
                      <a:ext cx="34920" cy="27000"/>
                      <a:chOff x="1800360" y="2536920"/>
                      <a:chExt cx="34920" cy="27000"/>
                    </a:xfrm>
                  </p:grpSpPr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1800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18082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87" name=""/>
                  <p:cNvGrpSpPr/>
                  <p:nvPr/>
                </p:nvGrpSpPr>
                <p:grpSpPr>
                  <a:xfrm>
                    <a:off x="1814400" y="2536920"/>
                    <a:ext cx="46080" cy="27000"/>
                    <a:chOff x="1814400" y="2536920"/>
                    <a:chExt cx="46080" cy="27000"/>
                  </a:xfrm>
                </p:grpSpPr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1814400" y="2536920"/>
                      <a:ext cx="33480" cy="27000"/>
                      <a:chOff x="1814400" y="2536920"/>
                      <a:chExt cx="33480" cy="27000"/>
                    </a:xfrm>
                  </p:grpSpPr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1814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1820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1827360" y="2536920"/>
                      <a:ext cx="33120" cy="27000"/>
                      <a:chOff x="1827360" y="2536920"/>
                      <a:chExt cx="33120" cy="27000"/>
                    </a:xfrm>
                  </p:grpSpPr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1827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1833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1839960" y="2536920"/>
                  <a:ext cx="73080" cy="27000"/>
                  <a:chOff x="1839960" y="2536920"/>
                  <a:chExt cx="73080" cy="270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1839960" y="2536920"/>
                    <a:ext cx="47520" cy="27000"/>
                    <a:chOff x="1839960" y="2536920"/>
                    <a:chExt cx="47520" cy="27000"/>
                  </a:xfrm>
                </p:grpSpPr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1839960" y="2536920"/>
                      <a:ext cx="33120" cy="27000"/>
                      <a:chOff x="1839960" y="2536920"/>
                      <a:chExt cx="33120" cy="2700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1839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1846440" y="253692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1854360" y="2536920"/>
                      <a:ext cx="33120" cy="27000"/>
                      <a:chOff x="1854360" y="2536920"/>
                      <a:chExt cx="33120" cy="27000"/>
                    </a:xfrm>
                  </p:grpSpPr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1854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1860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1866960" y="2536920"/>
                    <a:ext cx="46080" cy="27000"/>
                    <a:chOff x="1866960" y="2536920"/>
                    <a:chExt cx="46080" cy="27000"/>
                  </a:xfrm>
                </p:grpSpPr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1866960" y="2536920"/>
                      <a:ext cx="33120" cy="27000"/>
                      <a:chOff x="1866960" y="2536920"/>
                      <a:chExt cx="33120" cy="2700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1866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18730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1879560" y="2536920"/>
                      <a:ext cx="33480" cy="27000"/>
                      <a:chOff x="1879560" y="2536920"/>
                      <a:chExt cx="33480" cy="2700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18795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88604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809" name=""/>
              <p:cNvSpPr/>
              <p:nvPr/>
            </p:nvSpPr>
            <p:spPr>
              <a:xfrm>
                <a:off x="1785960" y="25192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2"/>
                    </a:moveTo>
                    <a:lnTo>
                      <a:pt x="154" y="12"/>
                    </a:lnTo>
                    <a:lnTo>
                      <a:pt x="154" y="0"/>
                    </a:lnTo>
                    <a:lnTo>
                      <a:pt x="179" y="0"/>
                    </a:lnTo>
                    <a:lnTo>
                      <a:pt x="179" y="16"/>
                    </a:lnTo>
                    <a:lnTo>
                      <a:pt x="3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592280" y="2619360"/>
              <a:ext cx="923760" cy="111240"/>
              <a:chOff x="1592280" y="2619360"/>
              <a:chExt cx="923760" cy="1112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1592280" y="2619360"/>
                <a:ext cx="923760" cy="111240"/>
                <a:chOff x="1592280" y="2619360"/>
                <a:chExt cx="923760" cy="1112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1600200" y="2728800"/>
                  <a:ext cx="89856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92280" y="261936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19280" y="263052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693800" y="2629080"/>
                <a:ext cx="727200" cy="34920"/>
                <a:chOff x="1693800" y="2629080"/>
                <a:chExt cx="727200" cy="349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693800" y="26290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63640" y="2629080"/>
                  <a:ext cx="115920" cy="2664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11240" y="2629080"/>
                  <a:ext cx="111240" cy="2664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043000" y="2629080"/>
                  <a:ext cx="112680" cy="2664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178000" y="2629080"/>
                  <a:ext cx="10008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298600" y="2637000"/>
                  <a:ext cx="12240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665360" y="2655720"/>
                <a:ext cx="766800" cy="43200"/>
                <a:chOff x="1665360" y="2655720"/>
                <a:chExt cx="766800" cy="4320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1731960" y="2657520"/>
                  <a:ext cx="379440" cy="38160"/>
                  <a:chOff x="1731960" y="2657520"/>
                  <a:chExt cx="379440" cy="381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1731960" y="2657520"/>
                    <a:ext cx="358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746360" y="2670120"/>
                    <a:ext cx="365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751040" y="2681280"/>
                    <a:ext cx="31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758960" y="26938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1665360" y="2662200"/>
                  <a:ext cx="65160" cy="25560"/>
                  <a:chOff x="1665360" y="2662200"/>
                  <a:chExt cx="65160" cy="2556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1681200" y="266220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674720" y="267480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665360" y="268596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1812960" y="2655720"/>
                  <a:ext cx="347760" cy="39960"/>
                  <a:chOff x="1812960" y="2655720"/>
                  <a:chExt cx="347760" cy="399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1812960" y="269388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106720" y="2655720"/>
                    <a:ext cx="50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119320" y="2670120"/>
                    <a:ext cx="41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092320" y="2681280"/>
                    <a:ext cx="68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036880" y="2693880"/>
                    <a:ext cx="36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081160" y="2693880"/>
                    <a:ext cx="76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2176560" y="2662200"/>
                  <a:ext cx="109440" cy="34920"/>
                  <a:chOff x="2176560" y="2662200"/>
                  <a:chExt cx="109440" cy="3492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2176560" y="2662200"/>
                    <a:ext cx="10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190600" y="2678040"/>
                    <a:ext cx="90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192400" y="2695680"/>
                    <a:ext cx="9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2301840" y="2662200"/>
                  <a:ext cx="130320" cy="36720"/>
                  <a:chOff x="2301840" y="2662200"/>
                  <a:chExt cx="130320" cy="367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2311560" y="2662200"/>
                    <a:ext cx="9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301840" y="2674800"/>
                    <a:ext cx="81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311560" y="268596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308320" y="269712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397240" y="267660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405160" y="2692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1863720" y="2359080"/>
              <a:ext cx="403200" cy="65160"/>
              <a:chOff x="1863720" y="2359080"/>
              <a:chExt cx="403200" cy="6516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1863720" y="2384280"/>
                <a:ext cx="403200" cy="39960"/>
                <a:chOff x="1863720" y="2384280"/>
                <a:chExt cx="403200" cy="3996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863720" y="2384280"/>
                  <a:ext cx="4032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19">
                      <a:moveTo>
                        <a:pt x="0" y="18"/>
                      </a:moveTo>
                      <a:lnTo>
                        <a:pt x="253" y="18"/>
                      </a:lnTo>
                      <a:lnTo>
                        <a:pt x="238" y="0"/>
                      </a:lnTo>
                      <a:lnTo>
                        <a:pt x="15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870200" y="2419200"/>
                  <a:ext cx="377640" cy="50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1955880" y="2359080"/>
                <a:ext cx="216000" cy="55440"/>
              </a:xfrm>
              <a:custGeom>
                <a:avLst/>
                <a:gdLst/>
                <a:ahLst/>
                <a:rect l="l" t="t" r="r" b="b"/>
                <a:pathLst>
                  <a:path w="136" h="35">
                    <a:moveTo>
                      <a:pt x="0" y="19"/>
                    </a:moveTo>
                    <a:lnTo>
                      <a:pt x="0" y="0"/>
                    </a:lnTo>
                    <a:lnTo>
                      <a:pt x="135" y="0"/>
                    </a:lnTo>
                    <a:lnTo>
                      <a:pt x="135" y="20"/>
                    </a:lnTo>
                    <a:lnTo>
                      <a:pt x="134" y="22"/>
                    </a:lnTo>
                    <a:lnTo>
                      <a:pt x="133" y="23"/>
                    </a:lnTo>
                    <a:lnTo>
                      <a:pt x="130" y="25"/>
                    </a:lnTo>
                    <a:lnTo>
                      <a:pt x="127" y="26"/>
                    </a:lnTo>
                    <a:lnTo>
                      <a:pt x="124" y="27"/>
                    </a:lnTo>
                    <a:lnTo>
                      <a:pt x="120" y="29"/>
                    </a:lnTo>
                    <a:lnTo>
                      <a:pt x="116" y="30"/>
                    </a:lnTo>
                    <a:lnTo>
                      <a:pt x="111" y="30"/>
                    </a:lnTo>
                    <a:lnTo>
                      <a:pt x="106" y="31"/>
                    </a:lnTo>
                    <a:lnTo>
                      <a:pt x="99" y="32"/>
                    </a:lnTo>
                    <a:lnTo>
                      <a:pt x="93" y="33"/>
                    </a:lnTo>
                    <a:lnTo>
                      <a:pt x="88" y="33"/>
                    </a:lnTo>
                    <a:lnTo>
                      <a:pt x="81" y="34"/>
                    </a:lnTo>
                    <a:lnTo>
                      <a:pt x="74" y="34"/>
                    </a:lnTo>
                    <a:lnTo>
                      <a:pt x="64" y="34"/>
                    </a:lnTo>
                    <a:lnTo>
                      <a:pt x="55" y="34"/>
                    </a:lnTo>
                    <a:lnTo>
                      <a:pt x="47" y="33"/>
                    </a:lnTo>
                    <a:lnTo>
                      <a:pt x="40" y="33"/>
                    </a:lnTo>
                    <a:lnTo>
                      <a:pt x="34" y="32"/>
                    </a:lnTo>
                    <a:lnTo>
                      <a:pt x="29" y="31"/>
                    </a:lnTo>
                    <a:lnTo>
                      <a:pt x="22" y="30"/>
                    </a:lnTo>
                    <a:lnTo>
                      <a:pt x="17" y="29"/>
                    </a:lnTo>
                    <a:lnTo>
                      <a:pt x="13" y="28"/>
                    </a:lnTo>
                    <a:lnTo>
                      <a:pt x="9" y="26"/>
                    </a:lnTo>
                    <a:lnTo>
                      <a:pt x="6" y="25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0880" y="2016000"/>
              <a:ext cx="476280" cy="338400"/>
              <a:chOff x="1820880" y="2016000"/>
              <a:chExt cx="476280" cy="338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0880" y="2016000"/>
                <a:ext cx="476280" cy="338400"/>
              </a:xfrm>
              <a:prstGeom prst="roundRect">
                <a:avLst>
                  <a:gd name="adj" fmla="val 1221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76320" y="2055960"/>
                <a:ext cx="365400" cy="258480"/>
              </a:xfrm>
              <a:prstGeom prst="roundRect">
                <a:avLst>
                  <a:gd name="adj" fmla="val 1227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898640" y="2071800"/>
                <a:ext cx="320760" cy="226800"/>
              </a:xfrm>
              <a:prstGeom prst="roundRect">
                <a:avLst>
                  <a:gd name="adj" fmla="val 11935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9" name=""/>
          <p:cNvSpPr/>
          <p:nvPr/>
        </p:nvSpPr>
        <p:spPr>
          <a:xfrm>
            <a:off x="1848240" y="1332000"/>
            <a:ext cx="66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07440" y="2384280"/>
            <a:ext cx="53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WW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32040" y="1506600"/>
            <a:ext cx="806760" cy="33336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98920" y="1424160"/>
            <a:ext cx="868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3006720" y="1795320"/>
            <a:ext cx="519120" cy="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33360" y="2309760"/>
            <a:ext cx="444600" cy="29232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71520" y="2360520"/>
            <a:ext cx="139680" cy="889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00440" y="3116160"/>
            <a:ext cx="405000" cy="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03360" y="1763280"/>
            <a:ext cx="3682440" cy="185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31040" y="2847960"/>
            <a:ext cx="0" cy="108576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6170400" y="3633840"/>
            <a:ext cx="284040" cy="347760"/>
          </a:xfrm>
          <a:prstGeom prst="line">
            <a:avLst/>
          </a:prstGeom>
          <a:ln w="25560">
            <a:solidFill>
              <a:srgbClr val="60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189840" y="3687840"/>
            <a:ext cx="0" cy="117144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92840" y="2535120"/>
            <a:ext cx="35532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0"/>
                </a:moveTo>
                <a:arcTo wR="10800" hR="10800" stAng="-10793587" swAng="5362894"/>
                <a:lnTo>
                  <a:pt x="10800" y="10800"/>
                </a:lnTo>
                <a:close/>
              </a:path>
              <a:path fill="none" w="21600" h="21600">
                <a:moveTo>
                  <a:pt x="0" y="10780"/>
                </a:moveTo>
                <a:arcTo wR="10800" hR="10800" stAng="-10793587" swAng="5362894"/>
              </a:path>
            </a:pathLst>
          </a:custGeom>
          <a:noFill/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92840" y="2557440"/>
            <a:ext cx="71100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71880" y="3405240"/>
            <a:ext cx="63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17560" y="1222200"/>
            <a:ext cx="1116000" cy="1398600"/>
            <a:chOff x="817560" y="1222200"/>
            <a:chExt cx="1116000" cy="1398600"/>
          </a:xfrm>
        </p:grpSpPr>
        <p:grpSp>
          <p:nvGrpSpPr>
            <p:cNvPr id="875" name=""/>
            <p:cNvGrpSpPr/>
            <p:nvPr/>
          </p:nvGrpSpPr>
          <p:grpSpPr>
            <a:xfrm>
              <a:off x="1214280" y="1527120"/>
              <a:ext cx="719280" cy="1093680"/>
              <a:chOff x="1214280" y="1527120"/>
              <a:chExt cx="719280" cy="109368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1214280" y="1527120"/>
                <a:ext cx="719280" cy="1093680"/>
                <a:chOff x="1214280" y="1527120"/>
                <a:chExt cx="719280" cy="109368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1622520" y="2158920"/>
                  <a:ext cx="311040" cy="461880"/>
                  <a:chOff x="1622520" y="2158920"/>
                  <a:chExt cx="311040" cy="461880"/>
                </a:xfrm>
              </p:grpSpPr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1700280" y="2266920"/>
                    <a:ext cx="233280" cy="353880"/>
                    <a:chOff x="1700280" y="2266920"/>
                    <a:chExt cx="233280" cy="35388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1782720" y="2508120"/>
                      <a:ext cx="74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6">
                          <a:moveTo>
                            <a:pt x="46" y="16"/>
                          </a:moveTo>
                          <a:lnTo>
                            <a:pt x="36" y="0"/>
                          </a:lnTo>
                          <a:lnTo>
                            <a:pt x="25" y="1"/>
                          </a:lnTo>
                          <a:lnTo>
                            <a:pt x="16" y="3"/>
                          </a:lnTo>
                          <a:lnTo>
                            <a:pt x="0" y="9"/>
                          </a:lnTo>
                          <a:lnTo>
                            <a:pt x="5" y="25"/>
                          </a:lnTo>
                          <a:lnTo>
                            <a:pt x="46" y="16"/>
                          </a:lnTo>
                        </a:path>
                      </a:pathLst>
                    </a:custGeom>
                    <a:solidFill>
                      <a:srgbClr val="c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1793880" y="252900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3">
                          <a:moveTo>
                            <a:pt x="38" y="0"/>
                          </a:moveTo>
                          <a:lnTo>
                            <a:pt x="31" y="0"/>
                          </a:lnTo>
                          <a:lnTo>
                            <a:pt x="20" y="3"/>
                          </a:lnTo>
                          <a:lnTo>
                            <a:pt x="8" y="6"/>
                          </a:lnTo>
                          <a:lnTo>
                            <a:pt x="1" y="7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4" y="19"/>
                          </a:lnTo>
                          <a:lnTo>
                            <a:pt x="10" y="22"/>
                          </a:lnTo>
                          <a:lnTo>
                            <a:pt x="20" y="20"/>
                          </a:lnTo>
                          <a:lnTo>
                            <a:pt x="36" y="16"/>
                          </a:lnTo>
                          <a:lnTo>
                            <a:pt x="50" y="8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1700280" y="2266920"/>
                      <a:ext cx="233280" cy="35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23">
                          <a:moveTo>
                            <a:pt x="37" y="0"/>
                          </a:moveTo>
                          <a:lnTo>
                            <a:pt x="42" y="9"/>
                          </a:lnTo>
                          <a:lnTo>
                            <a:pt x="45" y="19"/>
                          </a:lnTo>
                          <a:lnTo>
                            <a:pt x="50" y="28"/>
                          </a:lnTo>
                          <a:lnTo>
                            <a:pt x="55" y="35"/>
                          </a:lnTo>
                          <a:lnTo>
                            <a:pt x="59" y="42"/>
                          </a:lnTo>
                          <a:lnTo>
                            <a:pt x="65" y="49"/>
                          </a:lnTo>
                          <a:lnTo>
                            <a:pt x="73" y="55"/>
                          </a:lnTo>
                          <a:lnTo>
                            <a:pt x="74" y="57"/>
                          </a:lnTo>
                          <a:lnTo>
                            <a:pt x="76" y="62"/>
                          </a:lnTo>
                          <a:lnTo>
                            <a:pt x="76" y="70"/>
                          </a:lnTo>
                          <a:lnTo>
                            <a:pt x="79" y="79"/>
                          </a:lnTo>
                          <a:lnTo>
                            <a:pt x="86" y="86"/>
                          </a:lnTo>
                          <a:lnTo>
                            <a:pt x="91" y="93"/>
                          </a:lnTo>
                          <a:lnTo>
                            <a:pt x="94" y="99"/>
                          </a:lnTo>
                          <a:lnTo>
                            <a:pt x="101" y="112"/>
                          </a:lnTo>
                          <a:lnTo>
                            <a:pt x="109" y="126"/>
                          </a:lnTo>
                          <a:lnTo>
                            <a:pt x="110" y="131"/>
                          </a:lnTo>
                          <a:lnTo>
                            <a:pt x="111" y="139"/>
                          </a:lnTo>
                          <a:lnTo>
                            <a:pt x="111" y="149"/>
                          </a:lnTo>
                          <a:lnTo>
                            <a:pt x="111" y="158"/>
                          </a:lnTo>
                          <a:lnTo>
                            <a:pt x="110" y="165"/>
                          </a:lnTo>
                          <a:lnTo>
                            <a:pt x="111" y="172"/>
                          </a:lnTo>
                          <a:lnTo>
                            <a:pt x="116" y="181"/>
                          </a:lnTo>
                          <a:lnTo>
                            <a:pt x="123" y="190"/>
                          </a:lnTo>
                          <a:lnTo>
                            <a:pt x="146" y="217"/>
                          </a:lnTo>
                          <a:lnTo>
                            <a:pt x="131" y="222"/>
                          </a:lnTo>
                          <a:lnTo>
                            <a:pt x="121" y="212"/>
                          </a:lnTo>
                          <a:lnTo>
                            <a:pt x="109" y="200"/>
                          </a:lnTo>
                          <a:lnTo>
                            <a:pt x="99" y="190"/>
                          </a:lnTo>
                          <a:lnTo>
                            <a:pt x="91" y="180"/>
                          </a:lnTo>
                          <a:lnTo>
                            <a:pt x="85" y="172"/>
                          </a:lnTo>
                          <a:lnTo>
                            <a:pt x="79" y="159"/>
                          </a:lnTo>
                          <a:lnTo>
                            <a:pt x="70" y="152"/>
                          </a:lnTo>
                          <a:lnTo>
                            <a:pt x="63" y="146"/>
                          </a:lnTo>
                          <a:lnTo>
                            <a:pt x="59" y="141"/>
                          </a:lnTo>
                          <a:lnTo>
                            <a:pt x="62" y="151"/>
                          </a:lnTo>
                          <a:lnTo>
                            <a:pt x="65" y="161"/>
                          </a:lnTo>
                          <a:lnTo>
                            <a:pt x="66" y="172"/>
                          </a:lnTo>
                          <a:lnTo>
                            <a:pt x="65" y="184"/>
                          </a:lnTo>
                          <a:lnTo>
                            <a:pt x="62" y="197"/>
                          </a:lnTo>
                          <a:lnTo>
                            <a:pt x="60" y="204"/>
                          </a:lnTo>
                          <a:lnTo>
                            <a:pt x="57" y="208"/>
                          </a:lnTo>
                          <a:lnTo>
                            <a:pt x="52" y="211"/>
                          </a:lnTo>
                          <a:lnTo>
                            <a:pt x="47" y="212"/>
                          </a:lnTo>
                          <a:lnTo>
                            <a:pt x="43" y="211"/>
                          </a:lnTo>
                          <a:lnTo>
                            <a:pt x="39" y="210"/>
                          </a:lnTo>
                          <a:lnTo>
                            <a:pt x="38" y="206"/>
                          </a:lnTo>
                          <a:lnTo>
                            <a:pt x="39" y="200"/>
                          </a:lnTo>
                          <a:lnTo>
                            <a:pt x="43" y="196"/>
                          </a:lnTo>
                          <a:lnTo>
                            <a:pt x="47" y="192"/>
                          </a:lnTo>
                          <a:lnTo>
                            <a:pt x="48" y="180"/>
                          </a:lnTo>
                          <a:lnTo>
                            <a:pt x="45" y="167"/>
                          </a:lnTo>
                          <a:lnTo>
                            <a:pt x="44" y="158"/>
                          </a:lnTo>
                          <a:lnTo>
                            <a:pt x="41" y="150"/>
                          </a:lnTo>
                          <a:lnTo>
                            <a:pt x="38" y="143"/>
                          </a:lnTo>
                          <a:lnTo>
                            <a:pt x="33" y="135"/>
                          </a:lnTo>
                          <a:lnTo>
                            <a:pt x="32" y="131"/>
                          </a:lnTo>
                          <a:lnTo>
                            <a:pt x="30" y="118"/>
                          </a:lnTo>
                          <a:lnTo>
                            <a:pt x="30" y="107"/>
                          </a:lnTo>
                          <a:lnTo>
                            <a:pt x="21" y="88"/>
                          </a:lnTo>
                          <a:lnTo>
                            <a:pt x="15" y="71"/>
                          </a:lnTo>
                          <a:lnTo>
                            <a:pt x="10" y="55"/>
                          </a:lnTo>
                          <a:lnTo>
                            <a:pt x="3" y="37"/>
                          </a:lnTo>
                          <a:lnTo>
                            <a:pt x="0" y="7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1790640" y="24829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14"/>
                          </a:moveTo>
                          <a:lnTo>
                            <a:pt x="10" y="11"/>
                          </a:lnTo>
                          <a:lnTo>
                            <a:pt x="6" y="8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lnTo>
                            <a:pt x="4" y="9"/>
                          </a:lnTo>
                          <a:lnTo>
                            <a:pt x="5" y="13"/>
                          </a:lnTo>
                          <a:lnTo>
                            <a:pt x="8" y="20"/>
                          </a:lnTo>
                          <a:lnTo>
                            <a:pt x="10" y="26"/>
                          </a:lnTo>
                          <a:lnTo>
                            <a:pt x="13" y="18"/>
                          </a:lnTo>
                          <a:lnTo>
                            <a:pt x="16" y="14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1768320" y="2514600"/>
                      <a:ext cx="270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9">
                          <a:moveTo>
                            <a:pt x="0" y="41"/>
                          </a:moveTo>
                          <a:lnTo>
                            <a:pt x="5" y="40"/>
                          </a:lnTo>
                          <a:lnTo>
                            <a:pt x="10" y="42"/>
                          </a:lnTo>
                          <a:lnTo>
                            <a:pt x="14" y="46"/>
                          </a:lnTo>
                          <a:lnTo>
                            <a:pt x="16" y="48"/>
                          </a:lnTo>
                          <a:lnTo>
                            <a:pt x="14" y="43"/>
                          </a:lnTo>
                          <a:lnTo>
                            <a:pt x="12" y="40"/>
                          </a:lnTo>
                          <a:lnTo>
                            <a:pt x="8" y="37"/>
                          </a:lnTo>
                          <a:lnTo>
                            <a:pt x="9" y="33"/>
                          </a:lnTo>
                          <a:lnTo>
                            <a:pt x="9" y="24"/>
                          </a:lnTo>
                          <a:lnTo>
                            <a:pt x="8" y="17"/>
                          </a:lnTo>
                          <a:lnTo>
                            <a:pt x="5" y="10"/>
                          </a:lnTo>
                          <a:lnTo>
                            <a:pt x="1" y="0"/>
                          </a:lnTo>
                          <a:lnTo>
                            <a:pt x="2" y="7"/>
                          </a:lnTo>
                          <a:lnTo>
                            <a:pt x="4" y="15"/>
                          </a:lnTo>
                          <a:lnTo>
                            <a:pt x="5" y="22"/>
                          </a:lnTo>
                          <a:lnTo>
                            <a:pt x="5" y="26"/>
                          </a:lnTo>
                          <a:lnTo>
                            <a:pt x="5" y="30"/>
                          </a:lnTo>
                          <a:lnTo>
                            <a:pt x="4" y="35"/>
                          </a:lnTo>
                          <a:lnTo>
                            <a:pt x="0" y="41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846440" y="2467080"/>
                      <a:ext cx="33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7">
                          <a:moveTo>
                            <a:pt x="20" y="46"/>
                          </a:moveTo>
                          <a:lnTo>
                            <a:pt x="17" y="42"/>
                          </a:lnTo>
                          <a:lnTo>
                            <a:pt x="14" y="37"/>
                          </a:lnTo>
                          <a:lnTo>
                            <a:pt x="13" y="32"/>
                          </a:lnTo>
                          <a:lnTo>
                            <a:pt x="13" y="25"/>
                          </a:lnTo>
                          <a:lnTo>
                            <a:pt x="13" y="18"/>
                          </a:lnTo>
                          <a:lnTo>
                            <a:pt x="12" y="12"/>
                          </a:lnTo>
                          <a:lnTo>
                            <a:pt x="12" y="8"/>
                          </a:lnTo>
                          <a:lnTo>
                            <a:pt x="9" y="5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1" y="5"/>
                          </a:lnTo>
                          <a:lnTo>
                            <a:pt x="15" y="5"/>
                          </a:lnTo>
                          <a:lnTo>
                            <a:pt x="18" y="3"/>
                          </a:lnTo>
                          <a:lnTo>
                            <a:pt x="19" y="6"/>
                          </a:lnTo>
                          <a:lnTo>
                            <a:pt x="20" y="12"/>
                          </a:lnTo>
                          <a:lnTo>
                            <a:pt x="20" y="17"/>
                          </a:lnTo>
                          <a:lnTo>
                            <a:pt x="20" y="24"/>
                          </a:lnTo>
                          <a:lnTo>
                            <a:pt x="20" y="30"/>
                          </a:lnTo>
                          <a:lnTo>
                            <a:pt x="19" y="36"/>
                          </a:lnTo>
                          <a:lnTo>
                            <a:pt x="18" y="39"/>
                          </a:lnTo>
                          <a:lnTo>
                            <a:pt x="20" y="46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1622520" y="2158920"/>
                    <a:ext cx="149040" cy="177840"/>
                    <a:chOff x="1622520" y="2158920"/>
                    <a:chExt cx="149040" cy="17784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1622520" y="2158920"/>
                      <a:ext cx="14904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12">
                          <a:moveTo>
                            <a:pt x="66" y="0"/>
                          </a:moveTo>
                          <a:lnTo>
                            <a:pt x="51" y="4"/>
                          </a:lnTo>
                          <a:lnTo>
                            <a:pt x="25" y="15"/>
                          </a:lnTo>
                          <a:lnTo>
                            <a:pt x="8" y="29"/>
                          </a:lnTo>
                          <a:lnTo>
                            <a:pt x="0" y="43"/>
                          </a:lnTo>
                          <a:lnTo>
                            <a:pt x="2" y="53"/>
                          </a:lnTo>
                          <a:lnTo>
                            <a:pt x="8" y="61"/>
                          </a:lnTo>
                          <a:lnTo>
                            <a:pt x="13" y="66"/>
                          </a:lnTo>
                          <a:lnTo>
                            <a:pt x="20" y="72"/>
                          </a:lnTo>
                          <a:lnTo>
                            <a:pt x="26" y="81"/>
                          </a:lnTo>
                          <a:lnTo>
                            <a:pt x="32" y="89"/>
                          </a:lnTo>
                          <a:lnTo>
                            <a:pt x="36" y="97"/>
                          </a:lnTo>
                          <a:lnTo>
                            <a:pt x="40" y="103"/>
                          </a:lnTo>
                          <a:lnTo>
                            <a:pt x="44" y="107"/>
                          </a:lnTo>
                          <a:lnTo>
                            <a:pt x="49" y="110"/>
                          </a:lnTo>
                          <a:lnTo>
                            <a:pt x="54" y="111"/>
                          </a:lnTo>
                          <a:lnTo>
                            <a:pt x="53" y="106"/>
                          </a:lnTo>
                          <a:lnTo>
                            <a:pt x="51" y="102"/>
                          </a:lnTo>
                          <a:lnTo>
                            <a:pt x="53" y="92"/>
                          </a:lnTo>
                          <a:lnTo>
                            <a:pt x="60" y="84"/>
                          </a:lnTo>
                          <a:lnTo>
                            <a:pt x="75" y="77"/>
                          </a:lnTo>
                          <a:lnTo>
                            <a:pt x="88" y="75"/>
                          </a:lnTo>
                          <a:lnTo>
                            <a:pt x="91" y="77"/>
                          </a:lnTo>
                          <a:lnTo>
                            <a:pt x="93" y="74"/>
                          </a:lnTo>
                          <a:lnTo>
                            <a:pt x="93" y="71"/>
                          </a:lnTo>
                          <a:lnTo>
                            <a:pt x="92" y="67"/>
                          </a:lnTo>
                          <a:lnTo>
                            <a:pt x="89" y="63"/>
                          </a:lnTo>
                          <a:lnTo>
                            <a:pt x="84" y="53"/>
                          </a:lnTo>
                          <a:lnTo>
                            <a:pt x="81" y="41"/>
                          </a:lnTo>
                          <a:lnTo>
                            <a:pt x="75" y="23"/>
                          </a:lnTo>
                          <a:lnTo>
                            <a:pt x="69" y="6"/>
                          </a:lnTo>
                          <a:lnTo>
                            <a:pt x="6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701720" y="2274840"/>
                      <a:ext cx="666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8">
                          <a:moveTo>
                            <a:pt x="41" y="4"/>
                          </a:moveTo>
                          <a:lnTo>
                            <a:pt x="40" y="2"/>
                          </a:lnTo>
                          <a:lnTo>
                            <a:pt x="37" y="1"/>
                          </a:lnTo>
                          <a:lnTo>
                            <a:pt x="32" y="0"/>
                          </a:lnTo>
                          <a:lnTo>
                            <a:pt x="27" y="0"/>
                          </a:lnTo>
                          <a:lnTo>
                            <a:pt x="22" y="2"/>
                          </a:lnTo>
                          <a:lnTo>
                            <a:pt x="17" y="4"/>
                          </a:lnTo>
                          <a:lnTo>
                            <a:pt x="11" y="8"/>
                          </a:lnTo>
                          <a:lnTo>
                            <a:pt x="7" y="11"/>
                          </a:lnTo>
                          <a:lnTo>
                            <a:pt x="3" y="16"/>
                          </a:lnTo>
                          <a:lnTo>
                            <a:pt x="0" y="21"/>
                          </a:lnTo>
                          <a:lnTo>
                            <a:pt x="0" y="26"/>
                          </a:lnTo>
                          <a:lnTo>
                            <a:pt x="1" y="31"/>
                          </a:lnTo>
                          <a:lnTo>
                            <a:pt x="2" y="33"/>
                          </a:lnTo>
                          <a:lnTo>
                            <a:pt x="5" y="37"/>
                          </a:lnTo>
                          <a:lnTo>
                            <a:pt x="3" y="31"/>
                          </a:lnTo>
                          <a:lnTo>
                            <a:pt x="2" y="25"/>
                          </a:lnTo>
                          <a:lnTo>
                            <a:pt x="5" y="19"/>
                          </a:lnTo>
                          <a:lnTo>
                            <a:pt x="8" y="14"/>
                          </a:lnTo>
                          <a:lnTo>
                            <a:pt x="14" y="10"/>
                          </a:lnTo>
                          <a:lnTo>
                            <a:pt x="21" y="7"/>
                          </a:lnTo>
                          <a:lnTo>
                            <a:pt x="27" y="5"/>
                          </a:lnTo>
                          <a:lnTo>
                            <a:pt x="33" y="4"/>
                          </a:lnTo>
                          <a:lnTo>
                            <a:pt x="41" y="4"/>
                          </a:lnTo>
                        </a:path>
                      </a:pathLst>
                    </a:custGeom>
                    <a:solidFill>
                      <a:srgbClr val="d0d0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1214280" y="1527120"/>
                  <a:ext cx="519120" cy="720720"/>
                  <a:chOff x="1214280" y="1527120"/>
                  <a:chExt cx="519120" cy="72072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1214280" y="1527120"/>
                    <a:ext cx="519120" cy="7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450">
                        <a:moveTo>
                          <a:pt x="186" y="0"/>
                        </a:moveTo>
                        <a:lnTo>
                          <a:pt x="67" y="74"/>
                        </a:lnTo>
                        <a:lnTo>
                          <a:pt x="42" y="160"/>
                        </a:lnTo>
                        <a:lnTo>
                          <a:pt x="0" y="227"/>
                        </a:lnTo>
                        <a:lnTo>
                          <a:pt x="20" y="279"/>
                        </a:lnTo>
                        <a:lnTo>
                          <a:pt x="32" y="259"/>
                        </a:lnTo>
                        <a:lnTo>
                          <a:pt x="59" y="239"/>
                        </a:lnTo>
                        <a:lnTo>
                          <a:pt x="92" y="232"/>
                        </a:lnTo>
                        <a:lnTo>
                          <a:pt x="104" y="225"/>
                        </a:lnTo>
                        <a:lnTo>
                          <a:pt x="114" y="215"/>
                        </a:lnTo>
                        <a:lnTo>
                          <a:pt x="122" y="234"/>
                        </a:lnTo>
                        <a:lnTo>
                          <a:pt x="144" y="274"/>
                        </a:lnTo>
                        <a:lnTo>
                          <a:pt x="164" y="304"/>
                        </a:lnTo>
                        <a:lnTo>
                          <a:pt x="165" y="308"/>
                        </a:lnTo>
                        <a:lnTo>
                          <a:pt x="168" y="312"/>
                        </a:lnTo>
                        <a:lnTo>
                          <a:pt x="171" y="314"/>
                        </a:lnTo>
                        <a:lnTo>
                          <a:pt x="174" y="319"/>
                        </a:lnTo>
                        <a:lnTo>
                          <a:pt x="178" y="333"/>
                        </a:lnTo>
                        <a:lnTo>
                          <a:pt x="183" y="346"/>
                        </a:lnTo>
                        <a:lnTo>
                          <a:pt x="186" y="345"/>
                        </a:lnTo>
                        <a:lnTo>
                          <a:pt x="188" y="346"/>
                        </a:lnTo>
                        <a:lnTo>
                          <a:pt x="194" y="358"/>
                        </a:lnTo>
                        <a:lnTo>
                          <a:pt x="198" y="373"/>
                        </a:lnTo>
                        <a:lnTo>
                          <a:pt x="202" y="377"/>
                        </a:lnTo>
                        <a:lnTo>
                          <a:pt x="208" y="379"/>
                        </a:lnTo>
                        <a:lnTo>
                          <a:pt x="215" y="381"/>
                        </a:lnTo>
                        <a:lnTo>
                          <a:pt x="216" y="389"/>
                        </a:lnTo>
                        <a:lnTo>
                          <a:pt x="217" y="398"/>
                        </a:lnTo>
                        <a:lnTo>
                          <a:pt x="223" y="404"/>
                        </a:lnTo>
                        <a:lnTo>
                          <a:pt x="230" y="407"/>
                        </a:lnTo>
                        <a:lnTo>
                          <a:pt x="236" y="417"/>
                        </a:lnTo>
                        <a:lnTo>
                          <a:pt x="240" y="425"/>
                        </a:lnTo>
                        <a:lnTo>
                          <a:pt x="241" y="432"/>
                        </a:lnTo>
                        <a:lnTo>
                          <a:pt x="244" y="439"/>
                        </a:lnTo>
                        <a:lnTo>
                          <a:pt x="246" y="446"/>
                        </a:lnTo>
                        <a:lnTo>
                          <a:pt x="252" y="448"/>
                        </a:lnTo>
                        <a:lnTo>
                          <a:pt x="259" y="449"/>
                        </a:lnTo>
                        <a:lnTo>
                          <a:pt x="262" y="432"/>
                        </a:lnTo>
                        <a:lnTo>
                          <a:pt x="275" y="416"/>
                        </a:lnTo>
                        <a:lnTo>
                          <a:pt x="299" y="408"/>
                        </a:lnTo>
                        <a:lnTo>
                          <a:pt x="311" y="403"/>
                        </a:lnTo>
                        <a:lnTo>
                          <a:pt x="326" y="405"/>
                        </a:lnTo>
                        <a:lnTo>
                          <a:pt x="320" y="386"/>
                        </a:lnTo>
                        <a:lnTo>
                          <a:pt x="319" y="375"/>
                        </a:lnTo>
                        <a:lnTo>
                          <a:pt x="317" y="364"/>
                        </a:lnTo>
                        <a:lnTo>
                          <a:pt x="313" y="354"/>
                        </a:lnTo>
                        <a:lnTo>
                          <a:pt x="309" y="348"/>
                        </a:lnTo>
                        <a:lnTo>
                          <a:pt x="292" y="336"/>
                        </a:lnTo>
                        <a:lnTo>
                          <a:pt x="293" y="325"/>
                        </a:lnTo>
                        <a:lnTo>
                          <a:pt x="292" y="316"/>
                        </a:lnTo>
                        <a:lnTo>
                          <a:pt x="289" y="307"/>
                        </a:lnTo>
                        <a:lnTo>
                          <a:pt x="284" y="296"/>
                        </a:lnTo>
                        <a:lnTo>
                          <a:pt x="279" y="290"/>
                        </a:lnTo>
                        <a:lnTo>
                          <a:pt x="272" y="284"/>
                        </a:lnTo>
                        <a:lnTo>
                          <a:pt x="264" y="281"/>
                        </a:lnTo>
                        <a:lnTo>
                          <a:pt x="268" y="276"/>
                        </a:lnTo>
                        <a:lnTo>
                          <a:pt x="270" y="269"/>
                        </a:lnTo>
                        <a:lnTo>
                          <a:pt x="271" y="261"/>
                        </a:lnTo>
                        <a:lnTo>
                          <a:pt x="270" y="254"/>
                        </a:lnTo>
                        <a:lnTo>
                          <a:pt x="267" y="247"/>
                        </a:lnTo>
                        <a:lnTo>
                          <a:pt x="261" y="243"/>
                        </a:lnTo>
                        <a:lnTo>
                          <a:pt x="257" y="239"/>
                        </a:lnTo>
                        <a:lnTo>
                          <a:pt x="256" y="234"/>
                        </a:lnTo>
                        <a:lnTo>
                          <a:pt x="252" y="231"/>
                        </a:lnTo>
                        <a:lnTo>
                          <a:pt x="247" y="230"/>
                        </a:lnTo>
                        <a:lnTo>
                          <a:pt x="246" y="223"/>
                        </a:lnTo>
                        <a:lnTo>
                          <a:pt x="241" y="217"/>
                        </a:lnTo>
                        <a:lnTo>
                          <a:pt x="236" y="216"/>
                        </a:lnTo>
                        <a:lnTo>
                          <a:pt x="231" y="214"/>
                        </a:lnTo>
                        <a:lnTo>
                          <a:pt x="230" y="209"/>
                        </a:lnTo>
                        <a:lnTo>
                          <a:pt x="229" y="205"/>
                        </a:lnTo>
                        <a:lnTo>
                          <a:pt x="230" y="199"/>
                        </a:lnTo>
                        <a:lnTo>
                          <a:pt x="231" y="192"/>
                        </a:lnTo>
                        <a:lnTo>
                          <a:pt x="232" y="184"/>
                        </a:lnTo>
                        <a:lnTo>
                          <a:pt x="233" y="178"/>
                        </a:lnTo>
                        <a:lnTo>
                          <a:pt x="230" y="172"/>
                        </a:lnTo>
                        <a:lnTo>
                          <a:pt x="227" y="167"/>
                        </a:lnTo>
                        <a:lnTo>
                          <a:pt x="223" y="163"/>
                        </a:lnTo>
                        <a:lnTo>
                          <a:pt x="220" y="160"/>
                        </a:lnTo>
                        <a:lnTo>
                          <a:pt x="219" y="153"/>
                        </a:lnTo>
                        <a:lnTo>
                          <a:pt x="219" y="148"/>
                        </a:lnTo>
                        <a:lnTo>
                          <a:pt x="220" y="139"/>
                        </a:lnTo>
                        <a:lnTo>
                          <a:pt x="222" y="133"/>
                        </a:lnTo>
                        <a:lnTo>
                          <a:pt x="216" y="115"/>
                        </a:lnTo>
                        <a:lnTo>
                          <a:pt x="210" y="99"/>
                        </a:lnTo>
                        <a:lnTo>
                          <a:pt x="207" y="78"/>
                        </a:lnTo>
                        <a:lnTo>
                          <a:pt x="203" y="61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a0a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27240" y="1630440"/>
                    <a:ext cx="506160" cy="617400"/>
                    <a:chOff x="1227240" y="1630440"/>
                    <a:chExt cx="506160" cy="61740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27240" y="1630440"/>
                      <a:ext cx="3697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29">
                          <a:moveTo>
                            <a:pt x="148" y="228"/>
                          </a:moveTo>
                          <a:lnTo>
                            <a:pt x="137" y="212"/>
                          </a:lnTo>
                          <a:lnTo>
                            <a:pt x="128" y="197"/>
                          </a:lnTo>
                          <a:lnTo>
                            <a:pt x="120" y="182"/>
                          </a:lnTo>
                          <a:lnTo>
                            <a:pt x="111" y="164"/>
                          </a:lnTo>
                          <a:lnTo>
                            <a:pt x="107" y="152"/>
                          </a:lnTo>
                          <a:lnTo>
                            <a:pt x="98" y="160"/>
                          </a:lnTo>
                          <a:lnTo>
                            <a:pt x="91" y="166"/>
                          </a:lnTo>
                          <a:lnTo>
                            <a:pt x="81" y="170"/>
                          </a:lnTo>
                          <a:lnTo>
                            <a:pt x="67" y="173"/>
                          </a:lnTo>
                          <a:lnTo>
                            <a:pt x="54" y="177"/>
                          </a:lnTo>
                          <a:lnTo>
                            <a:pt x="46" y="180"/>
                          </a:lnTo>
                          <a:lnTo>
                            <a:pt x="37" y="187"/>
                          </a:lnTo>
                          <a:lnTo>
                            <a:pt x="28" y="193"/>
                          </a:lnTo>
                          <a:lnTo>
                            <a:pt x="19" y="204"/>
                          </a:lnTo>
                          <a:lnTo>
                            <a:pt x="13" y="214"/>
                          </a:lnTo>
                          <a:lnTo>
                            <a:pt x="8" y="228"/>
                          </a:lnTo>
                          <a:lnTo>
                            <a:pt x="5" y="215"/>
                          </a:lnTo>
                          <a:lnTo>
                            <a:pt x="0" y="133"/>
                          </a:lnTo>
                          <a:lnTo>
                            <a:pt x="35" y="113"/>
                          </a:lnTo>
                          <a:lnTo>
                            <a:pt x="54" y="88"/>
                          </a:lnTo>
                          <a:lnTo>
                            <a:pt x="69" y="49"/>
                          </a:lnTo>
                          <a:lnTo>
                            <a:pt x="80" y="0"/>
                          </a:lnTo>
                          <a:lnTo>
                            <a:pt x="132" y="5"/>
                          </a:lnTo>
                          <a:lnTo>
                            <a:pt x="143" y="29"/>
                          </a:lnTo>
                          <a:lnTo>
                            <a:pt x="148" y="47"/>
                          </a:lnTo>
                          <a:lnTo>
                            <a:pt x="150" y="68"/>
                          </a:lnTo>
                          <a:lnTo>
                            <a:pt x="148" y="86"/>
                          </a:lnTo>
                          <a:lnTo>
                            <a:pt x="133" y="118"/>
                          </a:lnTo>
                          <a:lnTo>
                            <a:pt x="121" y="133"/>
                          </a:lnTo>
                          <a:lnTo>
                            <a:pt x="146" y="113"/>
                          </a:lnTo>
                          <a:lnTo>
                            <a:pt x="167" y="100"/>
                          </a:lnTo>
                          <a:lnTo>
                            <a:pt x="186" y="88"/>
                          </a:lnTo>
                          <a:lnTo>
                            <a:pt x="210" y="73"/>
                          </a:lnTo>
                          <a:lnTo>
                            <a:pt x="184" y="95"/>
                          </a:lnTo>
                          <a:lnTo>
                            <a:pt x="171" y="111"/>
                          </a:lnTo>
                          <a:lnTo>
                            <a:pt x="165" y="121"/>
                          </a:lnTo>
                          <a:lnTo>
                            <a:pt x="166" y="127"/>
                          </a:lnTo>
                          <a:lnTo>
                            <a:pt x="168" y="132"/>
                          </a:lnTo>
                          <a:lnTo>
                            <a:pt x="174" y="134"/>
                          </a:lnTo>
                          <a:lnTo>
                            <a:pt x="180" y="135"/>
                          </a:lnTo>
                          <a:lnTo>
                            <a:pt x="189" y="133"/>
                          </a:lnTo>
                          <a:lnTo>
                            <a:pt x="212" y="118"/>
                          </a:lnTo>
                          <a:lnTo>
                            <a:pt x="204" y="131"/>
                          </a:lnTo>
                          <a:lnTo>
                            <a:pt x="197" y="139"/>
                          </a:lnTo>
                          <a:lnTo>
                            <a:pt x="189" y="149"/>
                          </a:lnTo>
                          <a:lnTo>
                            <a:pt x="180" y="157"/>
                          </a:lnTo>
                          <a:lnTo>
                            <a:pt x="166" y="167"/>
                          </a:lnTo>
                          <a:lnTo>
                            <a:pt x="177" y="163"/>
                          </a:lnTo>
                          <a:lnTo>
                            <a:pt x="188" y="162"/>
                          </a:lnTo>
                          <a:lnTo>
                            <a:pt x="202" y="161"/>
                          </a:lnTo>
                          <a:lnTo>
                            <a:pt x="216" y="163"/>
                          </a:lnTo>
                          <a:lnTo>
                            <a:pt x="229" y="165"/>
                          </a:lnTo>
                          <a:lnTo>
                            <a:pt x="214" y="169"/>
                          </a:lnTo>
                          <a:lnTo>
                            <a:pt x="202" y="174"/>
                          </a:lnTo>
                          <a:lnTo>
                            <a:pt x="192" y="178"/>
                          </a:lnTo>
                          <a:lnTo>
                            <a:pt x="183" y="185"/>
                          </a:lnTo>
                          <a:lnTo>
                            <a:pt x="199" y="182"/>
                          </a:lnTo>
                          <a:lnTo>
                            <a:pt x="209" y="182"/>
                          </a:lnTo>
                          <a:lnTo>
                            <a:pt x="221" y="184"/>
                          </a:lnTo>
                          <a:lnTo>
                            <a:pt x="232" y="187"/>
                          </a:lnTo>
                          <a:lnTo>
                            <a:pt x="210" y="192"/>
                          </a:lnTo>
                          <a:lnTo>
                            <a:pt x="190" y="198"/>
                          </a:lnTo>
                          <a:lnTo>
                            <a:pt x="175" y="204"/>
                          </a:lnTo>
                          <a:lnTo>
                            <a:pt x="164" y="212"/>
                          </a:lnTo>
                          <a:lnTo>
                            <a:pt x="154" y="220"/>
                          </a:lnTo>
                          <a:lnTo>
                            <a:pt x="148" y="228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562040" y="2084400"/>
                      <a:ext cx="15732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60">
                          <a:moveTo>
                            <a:pt x="98" y="14"/>
                          </a:moveTo>
                          <a:lnTo>
                            <a:pt x="87" y="15"/>
                          </a:lnTo>
                          <a:lnTo>
                            <a:pt x="74" y="16"/>
                          </a:lnTo>
                          <a:lnTo>
                            <a:pt x="60" y="20"/>
                          </a:lnTo>
                          <a:lnTo>
                            <a:pt x="51" y="24"/>
                          </a:lnTo>
                          <a:lnTo>
                            <a:pt x="40" y="31"/>
                          </a:lnTo>
                          <a:lnTo>
                            <a:pt x="29" y="40"/>
                          </a:lnTo>
                          <a:lnTo>
                            <a:pt x="21" y="49"/>
                          </a:lnTo>
                          <a:lnTo>
                            <a:pt x="13" y="59"/>
                          </a:lnTo>
                          <a:lnTo>
                            <a:pt x="10" y="57"/>
                          </a:lnTo>
                          <a:lnTo>
                            <a:pt x="5" y="55"/>
                          </a:lnTo>
                          <a:lnTo>
                            <a:pt x="0" y="49"/>
                          </a:lnTo>
                          <a:lnTo>
                            <a:pt x="3" y="44"/>
                          </a:lnTo>
                          <a:lnTo>
                            <a:pt x="14" y="37"/>
                          </a:lnTo>
                          <a:lnTo>
                            <a:pt x="23" y="30"/>
                          </a:lnTo>
                          <a:lnTo>
                            <a:pt x="29" y="24"/>
                          </a:lnTo>
                          <a:lnTo>
                            <a:pt x="41" y="16"/>
                          </a:lnTo>
                          <a:lnTo>
                            <a:pt x="54" y="9"/>
                          </a:lnTo>
                          <a:lnTo>
                            <a:pt x="68" y="4"/>
                          </a:lnTo>
                          <a:lnTo>
                            <a:pt x="80" y="1"/>
                          </a:lnTo>
                          <a:lnTo>
                            <a:pt x="92" y="0"/>
                          </a:lnTo>
                          <a:lnTo>
                            <a:pt x="94" y="3"/>
                          </a:lnTo>
                          <a:lnTo>
                            <a:pt x="97" y="8"/>
                          </a:lnTo>
                          <a:lnTo>
                            <a:pt x="98" y="14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523880" y="2063880"/>
                      <a:ext cx="12384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1">
                          <a:moveTo>
                            <a:pt x="77" y="3"/>
                          </a:moveTo>
                          <a:lnTo>
                            <a:pt x="64" y="7"/>
                          </a:lnTo>
                          <a:lnTo>
                            <a:pt x="51" y="12"/>
                          </a:lnTo>
                          <a:lnTo>
                            <a:pt x="41" y="17"/>
                          </a:lnTo>
                          <a:lnTo>
                            <a:pt x="30" y="24"/>
                          </a:lnTo>
                          <a:lnTo>
                            <a:pt x="21" y="31"/>
                          </a:lnTo>
                          <a:lnTo>
                            <a:pt x="12" y="40"/>
                          </a:lnTo>
                          <a:lnTo>
                            <a:pt x="7" y="39"/>
                          </a:lnTo>
                          <a:lnTo>
                            <a:pt x="2" y="35"/>
                          </a:lnTo>
                          <a:lnTo>
                            <a:pt x="0" y="31"/>
                          </a:lnTo>
                          <a:lnTo>
                            <a:pt x="0" y="25"/>
                          </a:lnTo>
                          <a:lnTo>
                            <a:pt x="5" y="21"/>
                          </a:lnTo>
                          <a:lnTo>
                            <a:pt x="11" y="20"/>
                          </a:lnTo>
                          <a:lnTo>
                            <a:pt x="18" y="18"/>
                          </a:lnTo>
                          <a:lnTo>
                            <a:pt x="26" y="16"/>
                          </a:lnTo>
                          <a:lnTo>
                            <a:pt x="32" y="11"/>
                          </a:lnTo>
                          <a:lnTo>
                            <a:pt x="39" y="6"/>
                          </a:lnTo>
                          <a:lnTo>
                            <a:pt x="48" y="2"/>
                          </a:lnTo>
                          <a:lnTo>
                            <a:pt x="56" y="1"/>
                          </a:lnTo>
                          <a:lnTo>
                            <a:pt x="62" y="0"/>
                          </a:lnTo>
                          <a:lnTo>
                            <a:pt x="70" y="1"/>
                          </a:lnTo>
                          <a:lnTo>
                            <a:pt x="77" y="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498680" y="1992240"/>
                      <a:ext cx="17280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52">
                          <a:moveTo>
                            <a:pt x="108" y="23"/>
                          </a:moveTo>
                          <a:lnTo>
                            <a:pt x="101" y="20"/>
                          </a:lnTo>
                          <a:lnTo>
                            <a:pt x="94" y="17"/>
                          </a:lnTo>
                          <a:lnTo>
                            <a:pt x="83" y="13"/>
                          </a:lnTo>
                          <a:lnTo>
                            <a:pt x="74" y="15"/>
                          </a:lnTo>
                          <a:lnTo>
                            <a:pt x="64" y="20"/>
                          </a:lnTo>
                          <a:lnTo>
                            <a:pt x="55" y="26"/>
                          </a:lnTo>
                          <a:lnTo>
                            <a:pt x="41" y="33"/>
                          </a:lnTo>
                          <a:lnTo>
                            <a:pt x="28" y="42"/>
                          </a:lnTo>
                          <a:lnTo>
                            <a:pt x="15" y="51"/>
                          </a:lnTo>
                          <a:lnTo>
                            <a:pt x="12" y="49"/>
                          </a:lnTo>
                          <a:lnTo>
                            <a:pt x="7" y="49"/>
                          </a:lnTo>
                          <a:lnTo>
                            <a:pt x="3" y="50"/>
                          </a:lnTo>
                          <a:lnTo>
                            <a:pt x="0" y="38"/>
                          </a:lnTo>
                          <a:lnTo>
                            <a:pt x="25" y="22"/>
                          </a:lnTo>
                          <a:lnTo>
                            <a:pt x="43" y="13"/>
                          </a:lnTo>
                          <a:lnTo>
                            <a:pt x="55" y="7"/>
                          </a:lnTo>
                          <a:lnTo>
                            <a:pt x="65" y="2"/>
                          </a:lnTo>
                          <a:lnTo>
                            <a:pt x="75" y="0"/>
                          </a:lnTo>
                          <a:lnTo>
                            <a:pt x="84" y="1"/>
                          </a:lnTo>
                          <a:lnTo>
                            <a:pt x="92" y="5"/>
                          </a:lnTo>
                          <a:lnTo>
                            <a:pt x="101" y="13"/>
                          </a:lnTo>
                          <a:lnTo>
                            <a:pt x="108" y="2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528920" y="1927080"/>
                      <a:ext cx="1141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8">
                          <a:moveTo>
                            <a:pt x="71" y="7"/>
                          </a:moveTo>
                          <a:lnTo>
                            <a:pt x="70" y="16"/>
                          </a:lnTo>
                          <a:lnTo>
                            <a:pt x="68" y="22"/>
                          </a:lnTo>
                          <a:lnTo>
                            <a:pt x="65" y="27"/>
                          </a:lnTo>
                          <a:lnTo>
                            <a:pt x="59" y="29"/>
                          </a:lnTo>
                          <a:lnTo>
                            <a:pt x="34" y="27"/>
                          </a:lnTo>
                          <a:lnTo>
                            <a:pt x="25" y="35"/>
                          </a:lnTo>
                          <a:lnTo>
                            <a:pt x="13" y="41"/>
                          </a:lnTo>
                          <a:lnTo>
                            <a:pt x="0" y="47"/>
                          </a:lnTo>
                          <a:lnTo>
                            <a:pt x="9" y="36"/>
                          </a:lnTo>
                          <a:lnTo>
                            <a:pt x="19" y="27"/>
                          </a:lnTo>
                          <a:lnTo>
                            <a:pt x="29" y="18"/>
                          </a:lnTo>
                          <a:lnTo>
                            <a:pt x="42" y="12"/>
                          </a:lnTo>
                          <a:lnTo>
                            <a:pt x="51" y="5"/>
                          </a:lnTo>
                          <a:lnTo>
                            <a:pt x="57" y="1"/>
                          </a:lnTo>
                          <a:lnTo>
                            <a:pt x="64" y="0"/>
                          </a:lnTo>
                          <a:lnTo>
                            <a:pt x="69" y="2"/>
                          </a:lnTo>
                          <a:lnTo>
                            <a:pt x="71" y="7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1619280" y="2165400"/>
                      <a:ext cx="1141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52">
                          <a:moveTo>
                            <a:pt x="71" y="2"/>
                          </a:moveTo>
                          <a:lnTo>
                            <a:pt x="64" y="2"/>
                          </a:lnTo>
                          <a:lnTo>
                            <a:pt x="56" y="4"/>
                          </a:lnTo>
                          <a:lnTo>
                            <a:pt x="46" y="7"/>
                          </a:lnTo>
                          <a:lnTo>
                            <a:pt x="38" y="11"/>
                          </a:lnTo>
                          <a:lnTo>
                            <a:pt x="25" y="16"/>
                          </a:lnTo>
                          <a:lnTo>
                            <a:pt x="18" y="20"/>
                          </a:lnTo>
                          <a:lnTo>
                            <a:pt x="12" y="26"/>
                          </a:lnTo>
                          <a:lnTo>
                            <a:pt x="8" y="32"/>
                          </a:lnTo>
                          <a:lnTo>
                            <a:pt x="7" y="38"/>
                          </a:lnTo>
                          <a:lnTo>
                            <a:pt x="5" y="47"/>
                          </a:lnTo>
                          <a:lnTo>
                            <a:pt x="6" y="51"/>
                          </a:lnTo>
                          <a:lnTo>
                            <a:pt x="2" y="46"/>
                          </a:lnTo>
                          <a:lnTo>
                            <a:pt x="0" y="38"/>
                          </a:lnTo>
                          <a:lnTo>
                            <a:pt x="1" y="31"/>
                          </a:lnTo>
                          <a:lnTo>
                            <a:pt x="5" y="23"/>
                          </a:lnTo>
                          <a:lnTo>
                            <a:pt x="11" y="17"/>
                          </a:lnTo>
                          <a:lnTo>
                            <a:pt x="20" y="11"/>
                          </a:lnTo>
                          <a:lnTo>
                            <a:pt x="32" y="5"/>
                          </a:lnTo>
                          <a:lnTo>
                            <a:pt x="45" y="1"/>
                          </a:lnTo>
                          <a:lnTo>
                            <a:pt x="53" y="0"/>
                          </a:lnTo>
                          <a:lnTo>
                            <a:pt x="63" y="0"/>
                          </a:lnTo>
                          <a:lnTo>
                            <a:pt x="71" y="2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424160" y="1668600"/>
                      <a:ext cx="12204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08">
                          <a:moveTo>
                            <a:pt x="76" y="0"/>
                          </a:moveTo>
                          <a:lnTo>
                            <a:pt x="59" y="17"/>
                          </a:lnTo>
                          <a:lnTo>
                            <a:pt x="45" y="37"/>
                          </a:lnTo>
                          <a:lnTo>
                            <a:pt x="32" y="63"/>
                          </a:lnTo>
                          <a:lnTo>
                            <a:pt x="0" y="105"/>
                          </a:lnTo>
                          <a:lnTo>
                            <a:pt x="0" y="107"/>
                          </a:lnTo>
                          <a:lnTo>
                            <a:pt x="18" y="91"/>
                          </a:lnTo>
                          <a:lnTo>
                            <a:pt x="31" y="77"/>
                          </a:lnTo>
                          <a:lnTo>
                            <a:pt x="46" y="61"/>
                          </a:lnTo>
                          <a:lnTo>
                            <a:pt x="59" y="39"/>
                          </a:lnTo>
                          <a:lnTo>
                            <a:pt x="67" y="21"/>
                          </a:lnTo>
                          <a:lnTo>
                            <a:pt x="76" y="0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555920" y="2075040"/>
                      <a:ext cx="12672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3">
                          <a:moveTo>
                            <a:pt x="0" y="38"/>
                          </a:moveTo>
                          <a:lnTo>
                            <a:pt x="12" y="23"/>
                          </a:lnTo>
                          <a:lnTo>
                            <a:pt x="21" y="15"/>
                          </a:lnTo>
                          <a:lnTo>
                            <a:pt x="35" y="7"/>
                          </a:lnTo>
                          <a:lnTo>
                            <a:pt x="47" y="3"/>
                          </a:lnTo>
                          <a:lnTo>
                            <a:pt x="61" y="1"/>
                          </a:lnTo>
                          <a:lnTo>
                            <a:pt x="70" y="0"/>
                          </a:lnTo>
                          <a:lnTo>
                            <a:pt x="76" y="1"/>
                          </a:lnTo>
                          <a:lnTo>
                            <a:pt x="79" y="3"/>
                          </a:lnTo>
                          <a:lnTo>
                            <a:pt x="78" y="7"/>
                          </a:lnTo>
                          <a:lnTo>
                            <a:pt x="74" y="10"/>
                          </a:lnTo>
                          <a:lnTo>
                            <a:pt x="61" y="16"/>
                          </a:lnTo>
                          <a:lnTo>
                            <a:pt x="49" y="24"/>
                          </a:lnTo>
                          <a:lnTo>
                            <a:pt x="34" y="34"/>
                          </a:lnTo>
                          <a:lnTo>
                            <a:pt x="24" y="43"/>
                          </a:lnTo>
                          <a:lnTo>
                            <a:pt x="16" y="53"/>
                          </a:lnTo>
                          <a:lnTo>
                            <a:pt x="9" y="62"/>
                          </a:lnTo>
                          <a:lnTo>
                            <a:pt x="6" y="57"/>
                          </a:lnTo>
                          <a:lnTo>
                            <a:pt x="2" y="53"/>
                          </a:lnTo>
                          <a:lnTo>
                            <a:pt x="0" y="48"/>
                          </a:lnTo>
                          <a:lnTo>
                            <a:pt x="0" y="44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1514520" y="2033640"/>
                      <a:ext cx="141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47">
                          <a:moveTo>
                            <a:pt x="88" y="15"/>
                          </a:moveTo>
                          <a:lnTo>
                            <a:pt x="78" y="13"/>
                          </a:lnTo>
                          <a:lnTo>
                            <a:pt x="68" y="15"/>
                          </a:lnTo>
                          <a:lnTo>
                            <a:pt x="57" y="17"/>
                          </a:lnTo>
                          <a:lnTo>
                            <a:pt x="47" y="21"/>
                          </a:lnTo>
                          <a:lnTo>
                            <a:pt x="38" y="25"/>
                          </a:lnTo>
                          <a:lnTo>
                            <a:pt x="28" y="33"/>
                          </a:lnTo>
                          <a:lnTo>
                            <a:pt x="25" y="38"/>
                          </a:lnTo>
                          <a:lnTo>
                            <a:pt x="19" y="42"/>
                          </a:lnTo>
                          <a:lnTo>
                            <a:pt x="13" y="45"/>
                          </a:lnTo>
                          <a:lnTo>
                            <a:pt x="7" y="46"/>
                          </a:lnTo>
                          <a:lnTo>
                            <a:pt x="3" y="40"/>
                          </a:lnTo>
                          <a:lnTo>
                            <a:pt x="1" y="34"/>
                          </a:lnTo>
                          <a:lnTo>
                            <a:pt x="0" y="27"/>
                          </a:lnTo>
                          <a:lnTo>
                            <a:pt x="22" y="12"/>
                          </a:lnTo>
                          <a:lnTo>
                            <a:pt x="34" y="6"/>
                          </a:lnTo>
                          <a:lnTo>
                            <a:pt x="47" y="2"/>
                          </a:lnTo>
                          <a:lnTo>
                            <a:pt x="58" y="0"/>
                          </a:lnTo>
                          <a:lnTo>
                            <a:pt x="65" y="1"/>
                          </a:lnTo>
                          <a:lnTo>
                            <a:pt x="73" y="4"/>
                          </a:lnTo>
                          <a:lnTo>
                            <a:pt x="80" y="8"/>
                          </a:lnTo>
                          <a:lnTo>
                            <a:pt x="88" y="15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1490760" y="1920960"/>
                      <a:ext cx="17280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94">
                          <a:moveTo>
                            <a:pt x="108" y="51"/>
                          </a:moveTo>
                          <a:lnTo>
                            <a:pt x="97" y="50"/>
                          </a:lnTo>
                          <a:lnTo>
                            <a:pt x="87" y="51"/>
                          </a:lnTo>
                          <a:lnTo>
                            <a:pt x="73" y="52"/>
                          </a:lnTo>
                          <a:lnTo>
                            <a:pt x="59" y="56"/>
                          </a:lnTo>
                          <a:lnTo>
                            <a:pt x="46" y="62"/>
                          </a:lnTo>
                          <a:lnTo>
                            <a:pt x="32" y="69"/>
                          </a:lnTo>
                          <a:lnTo>
                            <a:pt x="21" y="75"/>
                          </a:lnTo>
                          <a:lnTo>
                            <a:pt x="13" y="84"/>
                          </a:lnTo>
                          <a:lnTo>
                            <a:pt x="7" y="93"/>
                          </a:lnTo>
                          <a:lnTo>
                            <a:pt x="3" y="81"/>
                          </a:lnTo>
                          <a:lnTo>
                            <a:pt x="0" y="70"/>
                          </a:lnTo>
                          <a:lnTo>
                            <a:pt x="0" y="61"/>
                          </a:lnTo>
                          <a:lnTo>
                            <a:pt x="2" y="53"/>
                          </a:lnTo>
                          <a:lnTo>
                            <a:pt x="7" y="46"/>
                          </a:lnTo>
                          <a:lnTo>
                            <a:pt x="5" y="38"/>
                          </a:lnTo>
                          <a:lnTo>
                            <a:pt x="6" y="29"/>
                          </a:lnTo>
                          <a:lnTo>
                            <a:pt x="17" y="24"/>
                          </a:lnTo>
                          <a:lnTo>
                            <a:pt x="29" y="21"/>
                          </a:lnTo>
                          <a:lnTo>
                            <a:pt x="43" y="17"/>
                          </a:lnTo>
                          <a:lnTo>
                            <a:pt x="55" y="12"/>
                          </a:lnTo>
                          <a:lnTo>
                            <a:pt x="69" y="5"/>
                          </a:lnTo>
                          <a:lnTo>
                            <a:pt x="79" y="2"/>
                          </a:lnTo>
                          <a:lnTo>
                            <a:pt x="84" y="0"/>
                          </a:lnTo>
                          <a:lnTo>
                            <a:pt x="88" y="2"/>
                          </a:lnTo>
                          <a:lnTo>
                            <a:pt x="92" y="5"/>
                          </a:lnTo>
                          <a:lnTo>
                            <a:pt x="93" y="9"/>
                          </a:lnTo>
                          <a:lnTo>
                            <a:pt x="93" y="14"/>
                          </a:lnTo>
                          <a:lnTo>
                            <a:pt x="91" y="19"/>
                          </a:lnTo>
                          <a:lnTo>
                            <a:pt x="81" y="22"/>
                          </a:lnTo>
                          <a:lnTo>
                            <a:pt x="69" y="24"/>
                          </a:lnTo>
                          <a:lnTo>
                            <a:pt x="49" y="29"/>
                          </a:lnTo>
                          <a:lnTo>
                            <a:pt x="36" y="31"/>
                          </a:lnTo>
                          <a:lnTo>
                            <a:pt x="20" y="34"/>
                          </a:lnTo>
                          <a:lnTo>
                            <a:pt x="34" y="35"/>
                          </a:lnTo>
                          <a:lnTo>
                            <a:pt x="50" y="36"/>
                          </a:lnTo>
                          <a:lnTo>
                            <a:pt x="65" y="38"/>
                          </a:lnTo>
                          <a:lnTo>
                            <a:pt x="78" y="41"/>
                          </a:lnTo>
                          <a:lnTo>
                            <a:pt x="93" y="45"/>
                          </a:lnTo>
                          <a:lnTo>
                            <a:pt x="108" y="51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01" name=""/>
              <p:cNvSpPr/>
              <p:nvPr/>
            </p:nvSpPr>
            <p:spPr>
              <a:xfrm>
                <a:off x="1233360" y="1609560"/>
                <a:ext cx="212760" cy="228600"/>
              </a:xfrm>
              <a:custGeom>
                <a:avLst/>
                <a:gdLst/>
                <a:ahLst/>
                <a:rect l="l" t="t" r="r" b="b"/>
                <a:pathLst>
                  <a:path w="134" h="144">
                    <a:moveTo>
                      <a:pt x="133" y="49"/>
                    </a:moveTo>
                    <a:lnTo>
                      <a:pt x="131" y="33"/>
                    </a:lnTo>
                    <a:lnTo>
                      <a:pt x="128" y="22"/>
                    </a:lnTo>
                    <a:lnTo>
                      <a:pt x="107" y="0"/>
                    </a:lnTo>
                    <a:lnTo>
                      <a:pt x="50" y="47"/>
                    </a:lnTo>
                    <a:lnTo>
                      <a:pt x="37" y="65"/>
                    </a:lnTo>
                    <a:lnTo>
                      <a:pt x="28" y="81"/>
                    </a:lnTo>
                    <a:lnTo>
                      <a:pt x="3" y="101"/>
                    </a:lnTo>
                    <a:lnTo>
                      <a:pt x="0" y="143"/>
                    </a:lnTo>
                    <a:lnTo>
                      <a:pt x="13" y="139"/>
                    </a:lnTo>
                    <a:lnTo>
                      <a:pt x="23" y="134"/>
                    </a:lnTo>
                    <a:lnTo>
                      <a:pt x="33" y="127"/>
                    </a:lnTo>
                    <a:lnTo>
                      <a:pt x="41" y="119"/>
                    </a:lnTo>
                    <a:lnTo>
                      <a:pt x="47" y="108"/>
                    </a:lnTo>
                    <a:lnTo>
                      <a:pt x="55" y="95"/>
                    </a:lnTo>
                    <a:lnTo>
                      <a:pt x="60" y="82"/>
                    </a:lnTo>
                    <a:lnTo>
                      <a:pt x="66" y="64"/>
                    </a:lnTo>
                    <a:lnTo>
                      <a:pt x="70" y="47"/>
                    </a:lnTo>
                    <a:lnTo>
                      <a:pt x="104" y="44"/>
                    </a:lnTo>
                    <a:lnTo>
                      <a:pt x="127" y="45"/>
                    </a:lnTo>
                    <a:lnTo>
                      <a:pt x="133" y="4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1109520" y="1484280"/>
              <a:ext cx="281160" cy="279360"/>
              <a:chOff x="1109520" y="1484280"/>
              <a:chExt cx="281160" cy="279360"/>
            </a:xfrm>
          </p:grpSpPr>
          <p:sp>
            <p:nvSpPr>
              <p:cNvPr id="903" name=""/>
              <p:cNvSpPr/>
              <p:nvPr/>
            </p:nvSpPr>
            <p:spPr>
              <a:xfrm>
                <a:off x="1109520" y="1484280"/>
                <a:ext cx="281160" cy="276120"/>
              </a:xfrm>
              <a:custGeom>
                <a:avLst/>
                <a:gdLst/>
                <a:ahLst/>
                <a:rect l="l" t="t" r="r" b="b"/>
                <a:pathLst>
                  <a:path w="177" h="174">
                    <a:moveTo>
                      <a:pt x="84" y="173"/>
                    </a:moveTo>
                    <a:lnTo>
                      <a:pt x="101" y="163"/>
                    </a:lnTo>
                    <a:lnTo>
                      <a:pt x="113" y="146"/>
                    </a:lnTo>
                    <a:lnTo>
                      <a:pt x="118" y="134"/>
                    </a:lnTo>
                    <a:lnTo>
                      <a:pt x="126" y="133"/>
                    </a:lnTo>
                    <a:lnTo>
                      <a:pt x="136" y="131"/>
                    </a:lnTo>
                    <a:lnTo>
                      <a:pt x="152" y="125"/>
                    </a:lnTo>
                    <a:lnTo>
                      <a:pt x="164" y="117"/>
                    </a:lnTo>
                    <a:lnTo>
                      <a:pt x="176" y="109"/>
                    </a:lnTo>
                    <a:lnTo>
                      <a:pt x="171" y="106"/>
                    </a:lnTo>
                    <a:lnTo>
                      <a:pt x="158" y="91"/>
                    </a:lnTo>
                    <a:lnTo>
                      <a:pt x="147" y="78"/>
                    </a:lnTo>
                    <a:lnTo>
                      <a:pt x="136" y="63"/>
                    </a:lnTo>
                    <a:lnTo>
                      <a:pt x="123" y="44"/>
                    </a:lnTo>
                    <a:lnTo>
                      <a:pt x="117" y="29"/>
                    </a:lnTo>
                    <a:lnTo>
                      <a:pt x="111" y="0"/>
                    </a:lnTo>
                    <a:lnTo>
                      <a:pt x="0" y="17"/>
                    </a:lnTo>
                    <a:lnTo>
                      <a:pt x="84" y="1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2200" y="1577880"/>
                <a:ext cx="103320" cy="185760"/>
              </a:xfrm>
              <a:custGeom>
                <a:avLst/>
                <a:gdLst/>
                <a:ahLst/>
                <a:rect l="l" t="t" r="r" b="b"/>
                <a:pathLst>
                  <a:path w="65" h="117">
                    <a:moveTo>
                      <a:pt x="16" y="113"/>
                    </a:moveTo>
                    <a:lnTo>
                      <a:pt x="9" y="116"/>
                    </a:lnTo>
                    <a:lnTo>
                      <a:pt x="15" y="105"/>
                    </a:lnTo>
                    <a:lnTo>
                      <a:pt x="17" y="97"/>
                    </a:lnTo>
                    <a:lnTo>
                      <a:pt x="18" y="85"/>
                    </a:lnTo>
                    <a:lnTo>
                      <a:pt x="17" y="72"/>
                    </a:lnTo>
                    <a:lnTo>
                      <a:pt x="15" y="58"/>
                    </a:lnTo>
                    <a:lnTo>
                      <a:pt x="13" y="45"/>
                    </a:lnTo>
                    <a:lnTo>
                      <a:pt x="9" y="34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0" y="13"/>
                    </a:lnTo>
                    <a:lnTo>
                      <a:pt x="17" y="23"/>
                    </a:lnTo>
                    <a:lnTo>
                      <a:pt x="23" y="32"/>
                    </a:lnTo>
                    <a:lnTo>
                      <a:pt x="30" y="42"/>
                    </a:lnTo>
                    <a:lnTo>
                      <a:pt x="38" y="48"/>
                    </a:lnTo>
                    <a:lnTo>
                      <a:pt x="46" y="55"/>
                    </a:lnTo>
                    <a:lnTo>
                      <a:pt x="55" y="63"/>
                    </a:lnTo>
                    <a:lnTo>
                      <a:pt x="64" y="72"/>
                    </a:lnTo>
                    <a:lnTo>
                      <a:pt x="52" y="75"/>
                    </a:lnTo>
                    <a:lnTo>
                      <a:pt x="49" y="81"/>
                    </a:lnTo>
                    <a:lnTo>
                      <a:pt x="45" y="87"/>
                    </a:lnTo>
                    <a:lnTo>
                      <a:pt x="40" y="94"/>
                    </a:lnTo>
                    <a:lnTo>
                      <a:pt x="35" y="99"/>
                    </a:lnTo>
                    <a:lnTo>
                      <a:pt x="30" y="104"/>
                    </a:lnTo>
                    <a:lnTo>
                      <a:pt x="23" y="109"/>
                    </a:lnTo>
                    <a:lnTo>
                      <a:pt x="16" y="113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57480" y="1554120"/>
                <a:ext cx="74520" cy="13968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0" y="47"/>
                    </a:moveTo>
                    <a:lnTo>
                      <a:pt x="6" y="47"/>
                    </a:lnTo>
                    <a:lnTo>
                      <a:pt x="13" y="45"/>
                    </a:lnTo>
                    <a:lnTo>
                      <a:pt x="14" y="39"/>
                    </a:lnTo>
                    <a:lnTo>
                      <a:pt x="13" y="31"/>
                    </a:lnTo>
                    <a:lnTo>
                      <a:pt x="12" y="21"/>
                    </a:lnTo>
                    <a:lnTo>
                      <a:pt x="10" y="13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7" y="5"/>
                    </a:lnTo>
                    <a:lnTo>
                      <a:pt x="22" y="10"/>
                    </a:lnTo>
                    <a:lnTo>
                      <a:pt x="25" y="15"/>
                    </a:lnTo>
                    <a:lnTo>
                      <a:pt x="27" y="21"/>
                    </a:lnTo>
                    <a:lnTo>
                      <a:pt x="27" y="29"/>
                    </a:lnTo>
                    <a:lnTo>
                      <a:pt x="33" y="34"/>
                    </a:lnTo>
                    <a:lnTo>
                      <a:pt x="37" y="42"/>
                    </a:lnTo>
                    <a:lnTo>
                      <a:pt x="42" y="51"/>
                    </a:lnTo>
                    <a:lnTo>
                      <a:pt x="44" y="63"/>
                    </a:lnTo>
                    <a:lnTo>
                      <a:pt x="45" y="76"/>
                    </a:lnTo>
                    <a:lnTo>
                      <a:pt x="46" y="86"/>
                    </a:lnTo>
                    <a:lnTo>
                      <a:pt x="42" y="87"/>
                    </a:lnTo>
                    <a:lnTo>
                      <a:pt x="7" y="58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817560" y="1436760"/>
              <a:ext cx="446040" cy="730080"/>
              <a:chOff x="817560" y="1436760"/>
              <a:chExt cx="446040" cy="730080"/>
            </a:xfrm>
          </p:grpSpPr>
          <p:sp>
            <p:nvSpPr>
              <p:cNvPr id="907" name=""/>
              <p:cNvSpPr/>
              <p:nvPr/>
            </p:nvSpPr>
            <p:spPr>
              <a:xfrm>
                <a:off x="817560" y="1436760"/>
                <a:ext cx="446040" cy="730080"/>
              </a:xfrm>
              <a:custGeom>
                <a:avLst/>
                <a:gdLst/>
                <a:ahLst/>
                <a:rect l="l" t="t" r="r" b="b"/>
                <a:pathLst>
                  <a:path w="281" h="460">
                    <a:moveTo>
                      <a:pt x="262" y="3"/>
                    </a:moveTo>
                    <a:lnTo>
                      <a:pt x="253" y="41"/>
                    </a:lnTo>
                    <a:lnTo>
                      <a:pt x="252" y="56"/>
                    </a:lnTo>
                    <a:lnTo>
                      <a:pt x="255" y="99"/>
                    </a:lnTo>
                    <a:lnTo>
                      <a:pt x="266" y="115"/>
                    </a:lnTo>
                    <a:lnTo>
                      <a:pt x="271" y="133"/>
                    </a:lnTo>
                    <a:lnTo>
                      <a:pt x="273" y="131"/>
                    </a:lnTo>
                    <a:lnTo>
                      <a:pt x="280" y="155"/>
                    </a:lnTo>
                    <a:lnTo>
                      <a:pt x="275" y="205"/>
                    </a:lnTo>
                    <a:lnTo>
                      <a:pt x="273" y="261"/>
                    </a:lnTo>
                    <a:lnTo>
                      <a:pt x="275" y="279"/>
                    </a:lnTo>
                    <a:lnTo>
                      <a:pt x="274" y="299"/>
                    </a:lnTo>
                    <a:lnTo>
                      <a:pt x="272" y="321"/>
                    </a:lnTo>
                    <a:lnTo>
                      <a:pt x="262" y="368"/>
                    </a:lnTo>
                    <a:lnTo>
                      <a:pt x="247" y="390"/>
                    </a:lnTo>
                    <a:lnTo>
                      <a:pt x="235" y="400"/>
                    </a:lnTo>
                    <a:lnTo>
                      <a:pt x="238" y="427"/>
                    </a:lnTo>
                    <a:lnTo>
                      <a:pt x="216" y="439"/>
                    </a:lnTo>
                    <a:lnTo>
                      <a:pt x="189" y="447"/>
                    </a:lnTo>
                    <a:lnTo>
                      <a:pt x="156" y="442"/>
                    </a:lnTo>
                    <a:lnTo>
                      <a:pt x="142" y="435"/>
                    </a:lnTo>
                    <a:lnTo>
                      <a:pt x="137" y="449"/>
                    </a:lnTo>
                    <a:lnTo>
                      <a:pt x="102" y="452"/>
                    </a:lnTo>
                    <a:lnTo>
                      <a:pt x="60" y="459"/>
                    </a:lnTo>
                    <a:lnTo>
                      <a:pt x="25" y="452"/>
                    </a:lnTo>
                    <a:lnTo>
                      <a:pt x="0" y="437"/>
                    </a:lnTo>
                    <a:lnTo>
                      <a:pt x="0" y="204"/>
                    </a:lnTo>
                    <a:lnTo>
                      <a:pt x="16" y="185"/>
                    </a:lnTo>
                    <a:lnTo>
                      <a:pt x="27" y="169"/>
                    </a:lnTo>
                    <a:lnTo>
                      <a:pt x="47" y="134"/>
                    </a:lnTo>
                    <a:lnTo>
                      <a:pt x="52" y="115"/>
                    </a:lnTo>
                    <a:lnTo>
                      <a:pt x="59" y="94"/>
                    </a:lnTo>
                    <a:lnTo>
                      <a:pt x="69" y="73"/>
                    </a:lnTo>
                    <a:lnTo>
                      <a:pt x="81" y="56"/>
                    </a:lnTo>
                    <a:lnTo>
                      <a:pt x="97" y="38"/>
                    </a:lnTo>
                    <a:lnTo>
                      <a:pt x="110" y="27"/>
                    </a:lnTo>
                    <a:lnTo>
                      <a:pt x="125" y="17"/>
                    </a:lnTo>
                    <a:lnTo>
                      <a:pt x="140" y="10"/>
                    </a:lnTo>
                    <a:lnTo>
                      <a:pt x="161" y="4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8" y="0"/>
                    </a:lnTo>
                    <a:lnTo>
                      <a:pt x="262" y="3"/>
                    </a:lnTo>
                  </a:path>
                </a:pathLst>
              </a:custGeom>
              <a:solidFill>
                <a:srgbClr val="a0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817560" y="1441440"/>
                <a:ext cx="446040" cy="709560"/>
                <a:chOff x="817560" y="1441440"/>
                <a:chExt cx="446040" cy="7095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946080" y="1901880"/>
                  <a:ext cx="106560" cy="220680"/>
                </a:xfrm>
                <a:custGeom>
                  <a:avLst/>
                  <a:gdLst/>
                  <a:ahLst/>
                  <a:rect l="l" t="t" r="r" b="b"/>
                  <a:pathLst>
                    <a:path w="67" h="139">
                      <a:moveTo>
                        <a:pt x="13" y="13"/>
                      </a:moveTo>
                      <a:lnTo>
                        <a:pt x="32" y="30"/>
                      </a:lnTo>
                      <a:lnTo>
                        <a:pt x="52" y="56"/>
                      </a:lnTo>
                      <a:lnTo>
                        <a:pt x="51" y="67"/>
                      </a:lnTo>
                      <a:lnTo>
                        <a:pt x="65" y="95"/>
                      </a:lnTo>
                      <a:lnTo>
                        <a:pt x="66" y="126"/>
                      </a:lnTo>
                      <a:lnTo>
                        <a:pt x="61" y="138"/>
                      </a:lnTo>
                      <a:lnTo>
                        <a:pt x="60" y="128"/>
                      </a:lnTo>
                      <a:lnTo>
                        <a:pt x="60" y="118"/>
                      </a:lnTo>
                      <a:lnTo>
                        <a:pt x="57" y="109"/>
                      </a:lnTo>
                      <a:lnTo>
                        <a:pt x="55" y="100"/>
                      </a:lnTo>
                      <a:lnTo>
                        <a:pt x="54" y="94"/>
                      </a:lnTo>
                      <a:lnTo>
                        <a:pt x="49" y="90"/>
                      </a:lnTo>
                      <a:lnTo>
                        <a:pt x="48" y="83"/>
                      </a:lnTo>
                      <a:lnTo>
                        <a:pt x="45" y="75"/>
                      </a:lnTo>
                      <a:lnTo>
                        <a:pt x="41" y="69"/>
                      </a:lnTo>
                      <a:lnTo>
                        <a:pt x="36" y="65"/>
                      </a:lnTo>
                      <a:lnTo>
                        <a:pt x="38" y="59"/>
                      </a:lnTo>
                      <a:lnTo>
                        <a:pt x="30" y="53"/>
                      </a:lnTo>
                      <a:lnTo>
                        <a:pt x="26" y="46"/>
                      </a:lnTo>
                      <a:lnTo>
                        <a:pt x="23" y="37"/>
                      </a:lnTo>
                      <a:lnTo>
                        <a:pt x="15" y="33"/>
                      </a:lnTo>
                      <a:lnTo>
                        <a:pt x="9" y="27"/>
                      </a:lnTo>
                      <a:lnTo>
                        <a:pt x="4" y="19"/>
                      </a:lnTo>
                      <a:lnTo>
                        <a:pt x="1" y="10"/>
                      </a:lnTo>
                      <a:lnTo>
                        <a:pt x="0" y="0"/>
                      </a:lnTo>
                      <a:lnTo>
                        <a:pt x="13" y="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0120" y="1649520"/>
                  <a:ext cx="123480" cy="231840"/>
                </a:xfrm>
                <a:custGeom>
                  <a:avLst/>
                  <a:gdLst/>
                  <a:ahLst/>
                  <a:rect l="l" t="t" r="r" b="b"/>
                  <a:pathLst>
                    <a:path w="78" h="146">
                      <a:moveTo>
                        <a:pt x="77" y="113"/>
                      </a:moveTo>
                      <a:lnTo>
                        <a:pt x="50" y="81"/>
                      </a:lnTo>
                      <a:lnTo>
                        <a:pt x="43" y="65"/>
                      </a:lnTo>
                      <a:lnTo>
                        <a:pt x="40" y="51"/>
                      </a:lnTo>
                      <a:lnTo>
                        <a:pt x="35" y="33"/>
                      </a:ln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26" y="12"/>
                      </a:lnTo>
                      <a:lnTo>
                        <a:pt x="21" y="24"/>
                      </a:lnTo>
                      <a:lnTo>
                        <a:pt x="20" y="36"/>
                      </a:lnTo>
                      <a:lnTo>
                        <a:pt x="19" y="47"/>
                      </a:lnTo>
                      <a:lnTo>
                        <a:pt x="10" y="48"/>
                      </a:lnTo>
                      <a:lnTo>
                        <a:pt x="4" y="51"/>
                      </a:lnTo>
                      <a:lnTo>
                        <a:pt x="2" y="57"/>
                      </a:lnTo>
                      <a:lnTo>
                        <a:pt x="0" y="63"/>
                      </a:lnTo>
                      <a:lnTo>
                        <a:pt x="1" y="70"/>
                      </a:lnTo>
                      <a:lnTo>
                        <a:pt x="5" y="78"/>
                      </a:lnTo>
                      <a:lnTo>
                        <a:pt x="14" y="91"/>
                      </a:lnTo>
                      <a:lnTo>
                        <a:pt x="28" y="108"/>
                      </a:lnTo>
                      <a:lnTo>
                        <a:pt x="62" y="145"/>
                      </a:lnTo>
                      <a:lnTo>
                        <a:pt x="77" y="1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17560" y="1819440"/>
                  <a:ext cx="109440" cy="1238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63" y="0"/>
                      </a:move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68" y="4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093680" y="1447920"/>
                  <a:ext cx="163800" cy="261720"/>
                </a:xfrm>
                <a:custGeom>
                  <a:avLst/>
                  <a:gdLst/>
                  <a:ahLst/>
                  <a:rect l="l" t="t" r="r" b="b"/>
                  <a:pathLst>
                    <a:path w="103" h="165">
                      <a:moveTo>
                        <a:pt x="94" y="164"/>
                      </a:moveTo>
                      <a:lnTo>
                        <a:pt x="92" y="146"/>
                      </a:lnTo>
                      <a:lnTo>
                        <a:pt x="89" y="129"/>
                      </a:lnTo>
                      <a:lnTo>
                        <a:pt x="85" y="117"/>
                      </a:lnTo>
                      <a:lnTo>
                        <a:pt x="80" y="108"/>
                      </a:lnTo>
                      <a:lnTo>
                        <a:pt x="71" y="95"/>
                      </a:lnTo>
                      <a:lnTo>
                        <a:pt x="60" y="85"/>
                      </a:lnTo>
                      <a:lnTo>
                        <a:pt x="48" y="77"/>
                      </a:lnTo>
                      <a:lnTo>
                        <a:pt x="35" y="66"/>
                      </a:lnTo>
                      <a:lnTo>
                        <a:pt x="26" y="56"/>
                      </a:lnTo>
                      <a:lnTo>
                        <a:pt x="20" y="45"/>
                      </a:lnTo>
                      <a:lnTo>
                        <a:pt x="21" y="34"/>
                      </a:lnTo>
                      <a:lnTo>
                        <a:pt x="18" y="22"/>
                      </a:lnTo>
                      <a:lnTo>
                        <a:pt x="12" y="11"/>
                      </a:lnTo>
                      <a:lnTo>
                        <a:pt x="8" y="5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4"/>
                      </a:lnTo>
                      <a:lnTo>
                        <a:pt x="27" y="9"/>
                      </a:lnTo>
                      <a:lnTo>
                        <a:pt x="34" y="16"/>
                      </a:lnTo>
                      <a:lnTo>
                        <a:pt x="39" y="26"/>
                      </a:lnTo>
                      <a:lnTo>
                        <a:pt x="47" y="38"/>
                      </a:lnTo>
                      <a:lnTo>
                        <a:pt x="55" y="47"/>
                      </a:lnTo>
                      <a:lnTo>
                        <a:pt x="66" y="54"/>
                      </a:lnTo>
                      <a:lnTo>
                        <a:pt x="79" y="58"/>
                      </a:lnTo>
                      <a:lnTo>
                        <a:pt x="80" y="76"/>
                      </a:lnTo>
                      <a:lnTo>
                        <a:pt x="82" y="92"/>
                      </a:lnTo>
                      <a:lnTo>
                        <a:pt x="92" y="107"/>
                      </a:lnTo>
                      <a:lnTo>
                        <a:pt x="98" y="120"/>
                      </a:lnTo>
                      <a:lnTo>
                        <a:pt x="102" y="137"/>
                      </a:lnTo>
                      <a:lnTo>
                        <a:pt x="100" y="150"/>
                      </a:lnTo>
                      <a:lnTo>
                        <a:pt x="94" y="16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179360" y="1644480"/>
                  <a:ext cx="84240" cy="436680"/>
                </a:xfrm>
                <a:custGeom>
                  <a:avLst/>
                  <a:gdLst/>
                  <a:ahLst/>
                  <a:rect l="l" t="t" r="r" b="b"/>
                  <a:pathLst>
                    <a:path w="53" h="275">
                      <a:moveTo>
                        <a:pt x="0" y="274"/>
                      </a:moveTo>
                      <a:lnTo>
                        <a:pt x="7" y="260"/>
                      </a:lnTo>
                      <a:lnTo>
                        <a:pt x="11" y="246"/>
                      </a:lnTo>
                      <a:lnTo>
                        <a:pt x="12" y="235"/>
                      </a:lnTo>
                      <a:lnTo>
                        <a:pt x="19" y="227"/>
                      </a:lnTo>
                      <a:lnTo>
                        <a:pt x="22" y="220"/>
                      </a:lnTo>
                      <a:lnTo>
                        <a:pt x="25" y="209"/>
                      </a:lnTo>
                      <a:lnTo>
                        <a:pt x="24" y="199"/>
                      </a:lnTo>
                      <a:lnTo>
                        <a:pt x="22" y="193"/>
                      </a:lnTo>
                      <a:lnTo>
                        <a:pt x="27" y="180"/>
                      </a:lnTo>
                      <a:lnTo>
                        <a:pt x="29" y="166"/>
                      </a:lnTo>
                      <a:lnTo>
                        <a:pt x="28" y="153"/>
                      </a:lnTo>
                      <a:lnTo>
                        <a:pt x="24" y="140"/>
                      </a:lnTo>
                      <a:lnTo>
                        <a:pt x="19" y="137"/>
                      </a:lnTo>
                      <a:lnTo>
                        <a:pt x="14" y="133"/>
                      </a:lnTo>
                      <a:lnTo>
                        <a:pt x="12" y="123"/>
                      </a:lnTo>
                      <a:lnTo>
                        <a:pt x="13" y="113"/>
                      </a:lnTo>
                      <a:lnTo>
                        <a:pt x="14" y="103"/>
                      </a:lnTo>
                      <a:lnTo>
                        <a:pt x="9" y="94"/>
                      </a:lnTo>
                      <a:lnTo>
                        <a:pt x="7" y="86"/>
                      </a:lnTo>
                      <a:lnTo>
                        <a:pt x="9" y="76"/>
                      </a:lnTo>
                      <a:lnTo>
                        <a:pt x="14" y="66"/>
                      </a:lnTo>
                      <a:lnTo>
                        <a:pt x="20" y="59"/>
                      </a:lnTo>
                      <a:lnTo>
                        <a:pt x="17" y="45"/>
                      </a:lnTo>
                      <a:lnTo>
                        <a:pt x="14" y="30"/>
                      </a:lnTo>
                      <a:lnTo>
                        <a:pt x="16" y="20"/>
                      </a:lnTo>
                      <a:lnTo>
                        <a:pt x="15" y="10"/>
                      </a:lnTo>
                      <a:lnTo>
                        <a:pt x="12" y="0"/>
                      </a:lnTo>
                      <a:lnTo>
                        <a:pt x="20" y="2"/>
                      </a:lnTo>
                      <a:lnTo>
                        <a:pt x="26" y="6"/>
                      </a:lnTo>
                      <a:lnTo>
                        <a:pt x="31" y="14"/>
                      </a:lnTo>
                      <a:lnTo>
                        <a:pt x="34" y="22"/>
                      </a:lnTo>
                      <a:lnTo>
                        <a:pt x="35" y="15"/>
                      </a:lnTo>
                      <a:lnTo>
                        <a:pt x="38" y="9"/>
                      </a:lnTo>
                      <a:lnTo>
                        <a:pt x="41" y="4"/>
                      </a:lnTo>
                      <a:lnTo>
                        <a:pt x="45" y="0"/>
                      </a:lnTo>
                      <a:lnTo>
                        <a:pt x="48" y="7"/>
                      </a:lnTo>
                      <a:lnTo>
                        <a:pt x="51" y="17"/>
                      </a:lnTo>
                      <a:lnTo>
                        <a:pt x="52" y="25"/>
                      </a:lnTo>
                      <a:lnTo>
                        <a:pt x="46" y="37"/>
                      </a:lnTo>
                      <a:lnTo>
                        <a:pt x="42" y="52"/>
                      </a:lnTo>
                      <a:lnTo>
                        <a:pt x="41" y="62"/>
                      </a:lnTo>
                      <a:lnTo>
                        <a:pt x="39" y="74"/>
                      </a:lnTo>
                      <a:lnTo>
                        <a:pt x="37" y="85"/>
                      </a:lnTo>
                      <a:lnTo>
                        <a:pt x="32" y="98"/>
                      </a:lnTo>
                      <a:lnTo>
                        <a:pt x="31" y="108"/>
                      </a:lnTo>
                      <a:lnTo>
                        <a:pt x="32" y="118"/>
                      </a:lnTo>
                      <a:lnTo>
                        <a:pt x="37" y="140"/>
                      </a:lnTo>
                      <a:lnTo>
                        <a:pt x="39" y="156"/>
                      </a:lnTo>
                      <a:lnTo>
                        <a:pt x="40" y="173"/>
                      </a:lnTo>
                      <a:lnTo>
                        <a:pt x="38" y="187"/>
                      </a:lnTo>
                      <a:lnTo>
                        <a:pt x="34" y="203"/>
                      </a:lnTo>
                      <a:lnTo>
                        <a:pt x="38" y="219"/>
                      </a:lnTo>
                      <a:lnTo>
                        <a:pt x="37" y="231"/>
                      </a:lnTo>
                      <a:lnTo>
                        <a:pt x="33" y="241"/>
                      </a:lnTo>
                      <a:lnTo>
                        <a:pt x="28" y="250"/>
                      </a:lnTo>
                      <a:lnTo>
                        <a:pt x="20" y="259"/>
                      </a:lnTo>
                      <a:lnTo>
                        <a:pt x="7" y="269"/>
                      </a:lnTo>
                      <a:lnTo>
                        <a:pt x="0" y="27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035000" y="1922400"/>
                  <a:ext cx="189000" cy="58680"/>
                </a:xfrm>
                <a:custGeom>
                  <a:avLst/>
                  <a:gdLst/>
                  <a:ahLst/>
                  <a:rect l="l" t="t" r="r" b="b"/>
                  <a:pathLst>
                    <a:path w="119" h="37">
                      <a:moveTo>
                        <a:pt x="118" y="0"/>
                      </a:moveTo>
                      <a:lnTo>
                        <a:pt x="109" y="4"/>
                      </a:lnTo>
                      <a:lnTo>
                        <a:pt x="97" y="10"/>
                      </a:lnTo>
                      <a:lnTo>
                        <a:pt x="84" y="15"/>
                      </a:lnTo>
                      <a:lnTo>
                        <a:pt x="73" y="17"/>
                      </a:lnTo>
                      <a:lnTo>
                        <a:pt x="59" y="20"/>
                      </a:lnTo>
                      <a:lnTo>
                        <a:pt x="46" y="19"/>
                      </a:lnTo>
                      <a:lnTo>
                        <a:pt x="32" y="20"/>
                      </a:lnTo>
                      <a:lnTo>
                        <a:pt x="20" y="21"/>
                      </a:lnTo>
                      <a:lnTo>
                        <a:pt x="7" y="25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12" y="35"/>
                      </a:lnTo>
                      <a:lnTo>
                        <a:pt x="26" y="36"/>
                      </a:lnTo>
                      <a:lnTo>
                        <a:pt x="42" y="35"/>
                      </a:lnTo>
                      <a:lnTo>
                        <a:pt x="59" y="33"/>
                      </a:lnTo>
                      <a:lnTo>
                        <a:pt x="77" y="30"/>
                      </a:lnTo>
                      <a:lnTo>
                        <a:pt x="88" y="25"/>
                      </a:lnTo>
                      <a:lnTo>
                        <a:pt x="100" y="18"/>
                      </a:lnTo>
                      <a:lnTo>
                        <a:pt x="109" y="11"/>
                      </a:lnTo>
                      <a:lnTo>
                        <a:pt x="118" y="0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17560" y="2101680"/>
                  <a:ext cx="239760" cy="43200"/>
                </a:xfrm>
                <a:custGeom>
                  <a:avLst/>
                  <a:gdLst/>
                  <a:ahLst/>
                  <a:rect l="l" t="t" r="r" b="b"/>
                  <a:pathLst>
                    <a:path w="151" h="27">
                      <a:moveTo>
                        <a:pt x="150" y="1"/>
                      </a:moveTo>
                      <a:lnTo>
                        <a:pt x="135" y="7"/>
                      </a:lnTo>
                      <a:lnTo>
                        <a:pt x="123" y="11"/>
                      </a:lnTo>
                      <a:lnTo>
                        <a:pt x="109" y="15"/>
                      </a:lnTo>
                      <a:lnTo>
                        <a:pt x="93" y="18"/>
                      </a:lnTo>
                      <a:lnTo>
                        <a:pt x="75" y="20"/>
                      </a:lnTo>
                      <a:lnTo>
                        <a:pt x="56" y="19"/>
                      </a:lnTo>
                      <a:lnTo>
                        <a:pt x="43" y="17"/>
                      </a:lnTo>
                      <a:lnTo>
                        <a:pt x="29" y="13"/>
                      </a:lnTo>
                      <a:lnTo>
                        <a:pt x="20" y="10"/>
                      </a:lnTo>
                      <a:lnTo>
                        <a:pt x="11" y="6"/>
                      </a:ln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13" y="13"/>
                      </a:lnTo>
                      <a:lnTo>
                        <a:pt x="24" y="19"/>
                      </a:lnTo>
                      <a:lnTo>
                        <a:pt x="38" y="22"/>
                      </a:lnTo>
                      <a:lnTo>
                        <a:pt x="51" y="24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2" y="25"/>
                      </a:lnTo>
                      <a:lnTo>
                        <a:pt x="105" y="22"/>
                      </a:lnTo>
                      <a:lnTo>
                        <a:pt x="116" y="19"/>
                      </a:lnTo>
                      <a:lnTo>
                        <a:pt x="129" y="13"/>
                      </a:lnTo>
                      <a:lnTo>
                        <a:pt x="141" y="7"/>
                      </a:lnTo>
                      <a:lnTo>
                        <a:pt x="150" y="1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046160" y="2055960"/>
                  <a:ext cx="162000" cy="31680"/>
                </a:xfrm>
                <a:custGeom>
                  <a:avLst/>
                  <a:gdLst/>
                  <a:ahLst/>
                  <a:rect l="l" t="t" r="r" b="b"/>
                  <a:pathLst>
                    <a:path w="102" h="20">
                      <a:moveTo>
                        <a:pt x="0" y="8"/>
                      </a:moveTo>
                      <a:lnTo>
                        <a:pt x="17" y="15"/>
                      </a:lnTo>
                      <a:lnTo>
                        <a:pt x="32" y="19"/>
                      </a:lnTo>
                      <a:lnTo>
                        <a:pt x="47" y="19"/>
                      </a:lnTo>
                      <a:lnTo>
                        <a:pt x="62" y="16"/>
                      </a:lnTo>
                      <a:lnTo>
                        <a:pt x="76" y="13"/>
                      </a:lnTo>
                      <a:lnTo>
                        <a:pt x="88" y="8"/>
                      </a:lnTo>
                      <a:lnTo>
                        <a:pt x="101" y="0"/>
                      </a:lnTo>
                      <a:lnTo>
                        <a:pt x="87" y="4"/>
                      </a:lnTo>
                      <a:lnTo>
                        <a:pt x="76" y="7"/>
                      </a:lnTo>
                      <a:lnTo>
                        <a:pt x="59" y="10"/>
                      </a:lnTo>
                      <a:lnTo>
                        <a:pt x="47" y="12"/>
                      </a:lnTo>
                      <a:lnTo>
                        <a:pt x="32" y="13"/>
                      </a:lnTo>
                      <a:lnTo>
                        <a:pt x="16" y="11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39680" y="1978200"/>
                  <a:ext cx="176400" cy="83880"/>
                </a:xfrm>
                <a:custGeom>
                  <a:avLst/>
                  <a:gdLst/>
                  <a:ahLst/>
                  <a:rect l="l" t="t" r="r" b="b"/>
                  <a:pathLst>
                    <a:path w="111" h="53">
                      <a:moveTo>
                        <a:pt x="5" y="5"/>
                      </a:moveTo>
                      <a:lnTo>
                        <a:pt x="16" y="8"/>
                      </a:lnTo>
                      <a:lnTo>
                        <a:pt x="27" y="10"/>
                      </a:lnTo>
                      <a:lnTo>
                        <a:pt x="43" y="12"/>
                      </a:lnTo>
                      <a:lnTo>
                        <a:pt x="59" y="11"/>
                      </a:lnTo>
                      <a:lnTo>
                        <a:pt x="74" y="9"/>
                      </a:lnTo>
                      <a:lnTo>
                        <a:pt x="88" y="7"/>
                      </a:lnTo>
                      <a:lnTo>
                        <a:pt x="100" y="4"/>
                      </a:lnTo>
                      <a:lnTo>
                        <a:pt x="110" y="0"/>
                      </a:lnTo>
                      <a:lnTo>
                        <a:pt x="105" y="9"/>
                      </a:lnTo>
                      <a:lnTo>
                        <a:pt x="100" y="20"/>
                      </a:lnTo>
                      <a:lnTo>
                        <a:pt x="94" y="29"/>
                      </a:lnTo>
                      <a:lnTo>
                        <a:pt x="85" y="40"/>
                      </a:lnTo>
                      <a:lnTo>
                        <a:pt x="75" y="47"/>
                      </a:lnTo>
                      <a:lnTo>
                        <a:pt x="61" y="52"/>
                      </a:lnTo>
                      <a:lnTo>
                        <a:pt x="51" y="50"/>
                      </a:lnTo>
                      <a:lnTo>
                        <a:pt x="40" y="49"/>
                      </a:lnTo>
                      <a:lnTo>
                        <a:pt x="29" y="50"/>
                      </a:lnTo>
                      <a:lnTo>
                        <a:pt x="19" y="47"/>
                      </a:lnTo>
                      <a:lnTo>
                        <a:pt x="11" y="44"/>
                      </a:lnTo>
                      <a:lnTo>
                        <a:pt x="0" y="37"/>
                      </a:lnTo>
                      <a:lnTo>
                        <a:pt x="14" y="35"/>
                      </a:lnTo>
                      <a:lnTo>
                        <a:pt x="27" y="35"/>
                      </a:lnTo>
                      <a:lnTo>
                        <a:pt x="43" y="37"/>
                      </a:lnTo>
                      <a:lnTo>
                        <a:pt x="59" y="40"/>
                      </a:lnTo>
                      <a:lnTo>
                        <a:pt x="69" y="29"/>
                      </a:lnTo>
                      <a:lnTo>
                        <a:pt x="81" y="20"/>
                      </a:lnTo>
                      <a:lnTo>
                        <a:pt x="72" y="22"/>
                      </a:lnTo>
                      <a:lnTo>
                        <a:pt x="62" y="24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0" y="23"/>
                      </a:lnTo>
                      <a:lnTo>
                        <a:pt x="10" y="20"/>
                      </a:lnTo>
                      <a:lnTo>
                        <a:pt x="9" y="12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957240" y="1673280"/>
                  <a:ext cx="258840" cy="263520"/>
                </a:xfrm>
                <a:custGeom>
                  <a:avLst/>
                  <a:gdLst/>
                  <a:ahLst/>
                  <a:rect l="l" t="t" r="r" b="b"/>
                  <a:pathLst>
                    <a:path w="163" h="166">
                      <a:moveTo>
                        <a:pt x="162" y="136"/>
                      </a:moveTo>
                      <a:lnTo>
                        <a:pt x="148" y="141"/>
                      </a:lnTo>
                      <a:lnTo>
                        <a:pt x="135" y="145"/>
                      </a:lnTo>
                      <a:lnTo>
                        <a:pt x="123" y="148"/>
                      </a:lnTo>
                      <a:lnTo>
                        <a:pt x="108" y="150"/>
                      </a:lnTo>
                      <a:lnTo>
                        <a:pt x="112" y="153"/>
                      </a:lnTo>
                      <a:lnTo>
                        <a:pt x="117" y="157"/>
                      </a:lnTo>
                      <a:lnTo>
                        <a:pt x="123" y="160"/>
                      </a:lnTo>
                      <a:lnTo>
                        <a:pt x="114" y="163"/>
                      </a:lnTo>
                      <a:lnTo>
                        <a:pt x="102" y="165"/>
                      </a:lnTo>
                      <a:lnTo>
                        <a:pt x="88" y="164"/>
                      </a:lnTo>
                      <a:lnTo>
                        <a:pt x="76" y="160"/>
                      </a:lnTo>
                      <a:lnTo>
                        <a:pt x="62" y="152"/>
                      </a:lnTo>
                      <a:lnTo>
                        <a:pt x="34" y="150"/>
                      </a:lnTo>
                      <a:lnTo>
                        <a:pt x="13" y="150"/>
                      </a:lnTo>
                      <a:lnTo>
                        <a:pt x="0" y="150"/>
                      </a:lnTo>
                      <a:lnTo>
                        <a:pt x="0" y="133"/>
                      </a:lnTo>
                      <a:lnTo>
                        <a:pt x="5" y="106"/>
                      </a:lnTo>
                      <a:lnTo>
                        <a:pt x="3" y="59"/>
                      </a:lnTo>
                      <a:lnTo>
                        <a:pt x="10" y="22"/>
                      </a:lnTo>
                      <a:lnTo>
                        <a:pt x="16" y="11"/>
                      </a:lnTo>
                      <a:lnTo>
                        <a:pt x="24" y="0"/>
                      </a:lnTo>
                      <a:lnTo>
                        <a:pt x="27" y="17"/>
                      </a:lnTo>
                      <a:lnTo>
                        <a:pt x="30" y="39"/>
                      </a:lnTo>
                      <a:lnTo>
                        <a:pt x="31" y="58"/>
                      </a:lnTo>
                      <a:lnTo>
                        <a:pt x="29" y="79"/>
                      </a:lnTo>
                      <a:lnTo>
                        <a:pt x="39" y="118"/>
                      </a:lnTo>
                      <a:lnTo>
                        <a:pt x="49" y="133"/>
                      </a:lnTo>
                      <a:lnTo>
                        <a:pt x="60" y="134"/>
                      </a:lnTo>
                      <a:lnTo>
                        <a:pt x="70" y="134"/>
                      </a:lnTo>
                      <a:lnTo>
                        <a:pt x="84" y="137"/>
                      </a:lnTo>
                      <a:lnTo>
                        <a:pt x="96" y="140"/>
                      </a:lnTo>
                      <a:lnTo>
                        <a:pt x="109" y="135"/>
                      </a:lnTo>
                      <a:lnTo>
                        <a:pt x="121" y="133"/>
                      </a:lnTo>
                      <a:lnTo>
                        <a:pt x="136" y="132"/>
                      </a:lnTo>
                      <a:lnTo>
                        <a:pt x="148" y="133"/>
                      </a:lnTo>
                      <a:lnTo>
                        <a:pt x="162" y="136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023840" y="1630440"/>
                  <a:ext cx="181080" cy="2239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24"/>
                      </a:lnTo>
                      <a:lnTo>
                        <a:pt x="4" y="38"/>
                      </a:lnTo>
                      <a:lnTo>
                        <a:pt x="8" y="52"/>
                      </a:lnTo>
                      <a:lnTo>
                        <a:pt x="14" y="66"/>
                      </a:lnTo>
                      <a:lnTo>
                        <a:pt x="25" y="79"/>
                      </a:lnTo>
                      <a:lnTo>
                        <a:pt x="38" y="89"/>
                      </a:lnTo>
                      <a:lnTo>
                        <a:pt x="53" y="100"/>
                      </a:lnTo>
                      <a:lnTo>
                        <a:pt x="69" y="108"/>
                      </a:lnTo>
                      <a:lnTo>
                        <a:pt x="78" y="117"/>
                      </a:lnTo>
                      <a:lnTo>
                        <a:pt x="89" y="125"/>
                      </a:lnTo>
                      <a:lnTo>
                        <a:pt x="100" y="133"/>
                      </a:lnTo>
                      <a:lnTo>
                        <a:pt x="113" y="140"/>
                      </a:lnTo>
                      <a:lnTo>
                        <a:pt x="106" y="128"/>
                      </a:lnTo>
                      <a:lnTo>
                        <a:pt x="97" y="117"/>
                      </a:lnTo>
                      <a:lnTo>
                        <a:pt x="88" y="109"/>
                      </a:lnTo>
                      <a:lnTo>
                        <a:pt x="80" y="98"/>
                      </a:lnTo>
                      <a:lnTo>
                        <a:pt x="69" y="88"/>
                      </a:lnTo>
                      <a:lnTo>
                        <a:pt x="58" y="80"/>
                      </a:lnTo>
                      <a:lnTo>
                        <a:pt x="50" y="70"/>
                      </a:lnTo>
                      <a:lnTo>
                        <a:pt x="44" y="61"/>
                      </a:lnTo>
                      <a:lnTo>
                        <a:pt x="33" y="55"/>
                      </a:lnTo>
                      <a:lnTo>
                        <a:pt x="24" y="49"/>
                      </a:lnTo>
                      <a:lnTo>
                        <a:pt x="17" y="38"/>
                      </a:lnTo>
                      <a:lnTo>
                        <a:pt x="10" y="25"/>
                      </a:lnTo>
                      <a:lnTo>
                        <a:pt x="5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063800" y="1598760"/>
                  <a:ext cx="125280" cy="212400"/>
                </a:xfrm>
                <a:custGeom>
                  <a:avLst/>
                  <a:gdLst/>
                  <a:ahLst/>
                  <a:rect l="l" t="t" r="r" b="b"/>
                  <a:pathLst>
                    <a:path w="79" h="134">
                      <a:moveTo>
                        <a:pt x="76" y="133"/>
                      </a:moveTo>
                      <a:lnTo>
                        <a:pt x="72" y="123"/>
                      </a:lnTo>
                      <a:lnTo>
                        <a:pt x="70" y="116"/>
                      </a:lnTo>
                      <a:lnTo>
                        <a:pt x="70" y="108"/>
                      </a:lnTo>
                      <a:lnTo>
                        <a:pt x="64" y="107"/>
                      </a:lnTo>
                      <a:lnTo>
                        <a:pt x="59" y="103"/>
                      </a:lnTo>
                      <a:lnTo>
                        <a:pt x="50" y="93"/>
                      </a:lnTo>
                      <a:lnTo>
                        <a:pt x="43" y="81"/>
                      </a:lnTo>
                      <a:lnTo>
                        <a:pt x="25" y="49"/>
                      </a:lnTo>
                      <a:lnTo>
                        <a:pt x="10" y="31"/>
                      </a:lnTo>
                      <a:lnTo>
                        <a:pt x="3" y="19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6" y="2"/>
                      </a:lnTo>
                      <a:lnTo>
                        <a:pt x="22" y="7"/>
                      </a:lnTo>
                      <a:lnTo>
                        <a:pt x="30" y="22"/>
                      </a:lnTo>
                      <a:lnTo>
                        <a:pt x="39" y="39"/>
                      </a:lnTo>
                      <a:lnTo>
                        <a:pt x="48" y="60"/>
                      </a:lnTo>
                      <a:lnTo>
                        <a:pt x="57" y="76"/>
                      </a:lnTo>
                      <a:lnTo>
                        <a:pt x="64" y="89"/>
                      </a:lnTo>
                      <a:lnTo>
                        <a:pt x="69" y="97"/>
                      </a:lnTo>
                      <a:lnTo>
                        <a:pt x="78" y="103"/>
                      </a:lnTo>
                      <a:lnTo>
                        <a:pt x="76" y="112"/>
                      </a:lnTo>
                      <a:lnTo>
                        <a:pt x="76" y="120"/>
                      </a:lnTo>
                      <a:lnTo>
                        <a:pt x="76" y="13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19000" y="1820880"/>
                  <a:ext cx="100080" cy="103320"/>
                </a:xfrm>
                <a:custGeom>
                  <a:avLst/>
                  <a:gdLst/>
                  <a:ahLst/>
                  <a:rect l="l" t="t" r="r" b="b"/>
                  <a:pathLst>
                    <a:path w="63" h="65">
                      <a:moveTo>
                        <a:pt x="62" y="0"/>
                      </a:moveTo>
                      <a:lnTo>
                        <a:pt x="47" y="15"/>
                      </a:lnTo>
                      <a:lnTo>
                        <a:pt x="39" y="24"/>
                      </a:lnTo>
                      <a:lnTo>
                        <a:pt x="30" y="39"/>
                      </a:lnTo>
                      <a:lnTo>
                        <a:pt x="19" y="49"/>
                      </a:lnTo>
                      <a:lnTo>
                        <a:pt x="0" y="64"/>
                      </a:lnTo>
                      <a:lnTo>
                        <a:pt x="28" y="27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173240" y="1441440"/>
                  <a:ext cx="27000" cy="7632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16" y="0"/>
                      </a:moveTo>
                      <a:lnTo>
                        <a:pt x="10" y="5"/>
                      </a:lnTo>
                      <a:lnTo>
                        <a:pt x="5" y="13"/>
                      </a:lnTo>
                      <a:lnTo>
                        <a:pt x="1" y="22"/>
                      </a:lnTo>
                      <a:lnTo>
                        <a:pt x="0" y="37"/>
                      </a:lnTo>
                      <a:lnTo>
                        <a:pt x="2" y="47"/>
                      </a:lnTo>
                      <a:lnTo>
                        <a:pt x="5" y="26"/>
                      </a:lnTo>
                      <a:lnTo>
                        <a:pt x="10" y="13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41400" y="1625760"/>
                  <a:ext cx="209520" cy="333360"/>
                </a:xfrm>
                <a:custGeom>
                  <a:avLst/>
                  <a:gdLst/>
                  <a:ahLst/>
                  <a:rect l="l" t="t" r="r" b="b"/>
                  <a:pathLst>
                    <a:path w="132" h="210">
                      <a:moveTo>
                        <a:pt x="131" y="199"/>
                      </a:moveTo>
                      <a:lnTo>
                        <a:pt x="114" y="189"/>
                      </a:lnTo>
                      <a:lnTo>
                        <a:pt x="96" y="189"/>
                      </a:lnTo>
                      <a:lnTo>
                        <a:pt x="79" y="192"/>
                      </a:lnTo>
                      <a:lnTo>
                        <a:pt x="75" y="185"/>
                      </a:lnTo>
                      <a:lnTo>
                        <a:pt x="67" y="180"/>
                      </a:lnTo>
                      <a:lnTo>
                        <a:pt x="55" y="177"/>
                      </a:lnTo>
                      <a:lnTo>
                        <a:pt x="44" y="177"/>
                      </a:lnTo>
                      <a:lnTo>
                        <a:pt x="33" y="177"/>
                      </a:lnTo>
                      <a:lnTo>
                        <a:pt x="20" y="180"/>
                      </a:lnTo>
                      <a:lnTo>
                        <a:pt x="13" y="169"/>
                      </a:lnTo>
                      <a:lnTo>
                        <a:pt x="14" y="148"/>
                      </a:lnTo>
                      <a:lnTo>
                        <a:pt x="15" y="129"/>
                      </a:lnTo>
                      <a:lnTo>
                        <a:pt x="14" y="108"/>
                      </a:lnTo>
                      <a:lnTo>
                        <a:pt x="13" y="98"/>
                      </a:lnTo>
                      <a:lnTo>
                        <a:pt x="13" y="85"/>
                      </a:lnTo>
                      <a:lnTo>
                        <a:pt x="17" y="66"/>
                      </a:lnTo>
                      <a:lnTo>
                        <a:pt x="22" y="40"/>
                      </a:lnTo>
                      <a:lnTo>
                        <a:pt x="24" y="25"/>
                      </a:lnTo>
                      <a:lnTo>
                        <a:pt x="27" y="0"/>
                      </a:lnTo>
                      <a:lnTo>
                        <a:pt x="18" y="18"/>
                      </a:lnTo>
                      <a:lnTo>
                        <a:pt x="13" y="32"/>
                      </a:lnTo>
                      <a:lnTo>
                        <a:pt x="8" y="29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3" y="44"/>
                      </a:lnTo>
                      <a:lnTo>
                        <a:pt x="5" y="56"/>
                      </a:lnTo>
                      <a:lnTo>
                        <a:pt x="5" y="75"/>
                      </a:lnTo>
                      <a:lnTo>
                        <a:pt x="5" y="94"/>
                      </a:lnTo>
                      <a:lnTo>
                        <a:pt x="0" y="147"/>
                      </a:lnTo>
                      <a:lnTo>
                        <a:pt x="2" y="175"/>
                      </a:lnTo>
                      <a:lnTo>
                        <a:pt x="7" y="185"/>
                      </a:lnTo>
                      <a:lnTo>
                        <a:pt x="15" y="194"/>
                      </a:lnTo>
                      <a:lnTo>
                        <a:pt x="23" y="200"/>
                      </a:lnTo>
                      <a:lnTo>
                        <a:pt x="32" y="204"/>
                      </a:lnTo>
                      <a:lnTo>
                        <a:pt x="45" y="207"/>
                      </a:lnTo>
                      <a:lnTo>
                        <a:pt x="57" y="209"/>
                      </a:lnTo>
                      <a:lnTo>
                        <a:pt x="69" y="205"/>
                      </a:lnTo>
                      <a:lnTo>
                        <a:pt x="82" y="202"/>
                      </a:lnTo>
                      <a:lnTo>
                        <a:pt x="99" y="202"/>
                      </a:lnTo>
                      <a:lnTo>
                        <a:pt x="131" y="199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992160" y="1949400"/>
                  <a:ext cx="158760" cy="201600"/>
                </a:xfrm>
                <a:custGeom>
                  <a:avLst/>
                  <a:gdLst/>
                  <a:ahLst/>
                  <a:rect l="l" t="t" r="r" b="b"/>
                  <a:pathLst>
                    <a:path w="100" h="127">
                      <a:moveTo>
                        <a:pt x="99" y="20"/>
                      </a:moveTo>
                      <a:lnTo>
                        <a:pt x="90" y="18"/>
                      </a:lnTo>
                      <a:lnTo>
                        <a:pt x="84" y="15"/>
                      </a:lnTo>
                      <a:lnTo>
                        <a:pt x="70" y="17"/>
                      </a:lnTo>
                      <a:lnTo>
                        <a:pt x="56" y="18"/>
                      </a:lnTo>
                      <a:lnTo>
                        <a:pt x="42" y="17"/>
                      </a:lnTo>
                      <a:lnTo>
                        <a:pt x="32" y="16"/>
                      </a:lnTo>
                      <a:lnTo>
                        <a:pt x="20" y="13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8"/>
                      </a:lnTo>
                      <a:lnTo>
                        <a:pt x="17" y="25"/>
                      </a:lnTo>
                      <a:lnTo>
                        <a:pt x="15" y="35"/>
                      </a:lnTo>
                      <a:lnTo>
                        <a:pt x="20" y="42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30" y="62"/>
                      </a:lnTo>
                      <a:lnTo>
                        <a:pt x="31" y="73"/>
                      </a:lnTo>
                      <a:lnTo>
                        <a:pt x="32" y="81"/>
                      </a:lnTo>
                      <a:lnTo>
                        <a:pt x="35" y="93"/>
                      </a:lnTo>
                      <a:lnTo>
                        <a:pt x="32" y="106"/>
                      </a:lnTo>
                      <a:lnTo>
                        <a:pt x="40" y="113"/>
                      </a:lnTo>
                      <a:lnTo>
                        <a:pt x="50" y="119"/>
                      </a:lnTo>
                      <a:lnTo>
                        <a:pt x="61" y="123"/>
                      </a:lnTo>
                      <a:lnTo>
                        <a:pt x="72" y="126"/>
                      </a:lnTo>
                      <a:lnTo>
                        <a:pt x="61" y="118"/>
                      </a:lnTo>
                      <a:lnTo>
                        <a:pt x="52" y="111"/>
                      </a:lnTo>
                      <a:lnTo>
                        <a:pt x="45" y="103"/>
                      </a:lnTo>
                      <a:lnTo>
                        <a:pt x="40" y="94"/>
                      </a:lnTo>
                      <a:lnTo>
                        <a:pt x="49" y="97"/>
                      </a:lnTo>
                      <a:lnTo>
                        <a:pt x="59" y="97"/>
                      </a:lnTo>
                      <a:lnTo>
                        <a:pt x="73" y="96"/>
                      </a:lnTo>
                      <a:lnTo>
                        <a:pt x="87" y="94"/>
                      </a:lnTo>
                      <a:lnTo>
                        <a:pt x="71" y="92"/>
                      </a:lnTo>
                      <a:lnTo>
                        <a:pt x="59" y="89"/>
                      </a:lnTo>
                      <a:lnTo>
                        <a:pt x="50" y="85"/>
                      </a:lnTo>
                      <a:lnTo>
                        <a:pt x="42" y="79"/>
                      </a:lnTo>
                      <a:lnTo>
                        <a:pt x="37" y="72"/>
                      </a:lnTo>
                      <a:lnTo>
                        <a:pt x="49" y="70"/>
                      </a:lnTo>
                      <a:lnTo>
                        <a:pt x="59" y="67"/>
                      </a:lnTo>
                      <a:lnTo>
                        <a:pt x="52" y="60"/>
                      </a:lnTo>
                      <a:lnTo>
                        <a:pt x="44" y="54"/>
                      </a:lnTo>
                      <a:lnTo>
                        <a:pt x="35" y="48"/>
                      </a:lnTo>
                      <a:lnTo>
                        <a:pt x="27" y="45"/>
                      </a:lnTo>
                      <a:lnTo>
                        <a:pt x="33" y="42"/>
                      </a:lnTo>
                      <a:lnTo>
                        <a:pt x="39" y="40"/>
                      </a:lnTo>
                      <a:lnTo>
                        <a:pt x="47" y="37"/>
                      </a:lnTo>
                      <a:lnTo>
                        <a:pt x="39" y="33"/>
                      </a:lnTo>
                      <a:lnTo>
                        <a:pt x="32" y="28"/>
                      </a:lnTo>
                      <a:lnTo>
                        <a:pt x="45" y="28"/>
                      </a:lnTo>
                      <a:lnTo>
                        <a:pt x="55" y="28"/>
                      </a:lnTo>
                      <a:lnTo>
                        <a:pt x="71" y="26"/>
                      </a:lnTo>
                      <a:lnTo>
                        <a:pt x="86" y="23"/>
                      </a:lnTo>
                      <a:lnTo>
                        <a:pt x="99" y="2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990720" y="2266920"/>
              <a:ext cx="190440" cy="270000"/>
              <a:chOff x="990720" y="2266920"/>
              <a:chExt cx="190440" cy="270000"/>
            </a:xfrm>
          </p:grpSpPr>
          <p:sp>
            <p:nvSpPr>
              <p:cNvPr id="926" name=""/>
              <p:cNvSpPr/>
              <p:nvPr/>
            </p:nvSpPr>
            <p:spPr>
              <a:xfrm>
                <a:off x="990720" y="2266920"/>
                <a:ext cx="188640" cy="270000"/>
              </a:xfrm>
              <a:custGeom>
                <a:avLst/>
                <a:gdLst/>
                <a:ahLst/>
                <a:rect l="l" t="t" r="r" b="b"/>
                <a:pathLst>
                  <a:path w="119" h="170">
                    <a:moveTo>
                      <a:pt x="59" y="8"/>
                    </a:moveTo>
                    <a:lnTo>
                      <a:pt x="64" y="34"/>
                    </a:lnTo>
                    <a:lnTo>
                      <a:pt x="64" y="48"/>
                    </a:lnTo>
                    <a:lnTo>
                      <a:pt x="61" y="61"/>
                    </a:lnTo>
                    <a:lnTo>
                      <a:pt x="57" y="68"/>
                    </a:lnTo>
                    <a:lnTo>
                      <a:pt x="53" y="71"/>
                    </a:lnTo>
                    <a:lnTo>
                      <a:pt x="44" y="76"/>
                    </a:lnTo>
                    <a:lnTo>
                      <a:pt x="32" y="82"/>
                    </a:lnTo>
                    <a:lnTo>
                      <a:pt x="27" y="85"/>
                    </a:lnTo>
                    <a:lnTo>
                      <a:pt x="20" y="89"/>
                    </a:lnTo>
                    <a:lnTo>
                      <a:pt x="18" y="92"/>
                    </a:lnTo>
                    <a:lnTo>
                      <a:pt x="16" y="99"/>
                    </a:lnTo>
                    <a:lnTo>
                      <a:pt x="11" y="103"/>
                    </a:lnTo>
                    <a:lnTo>
                      <a:pt x="6" y="107"/>
                    </a:lnTo>
                    <a:lnTo>
                      <a:pt x="4" y="112"/>
                    </a:lnTo>
                    <a:lnTo>
                      <a:pt x="3" y="117"/>
                    </a:lnTo>
                    <a:lnTo>
                      <a:pt x="6" y="124"/>
                    </a:lnTo>
                    <a:lnTo>
                      <a:pt x="8" y="130"/>
                    </a:lnTo>
                    <a:lnTo>
                      <a:pt x="12" y="134"/>
                    </a:lnTo>
                    <a:lnTo>
                      <a:pt x="16" y="136"/>
                    </a:lnTo>
                    <a:lnTo>
                      <a:pt x="10" y="140"/>
                    </a:lnTo>
                    <a:lnTo>
                      <a:pt x="5" y="146"/>
                    </a:lnTo>
                    <a:lnTo>
                      <a:pt x="2" y="152"/>
                    </a:lnTo>
                    <a:lnTo>
                      <a:pt x="0" y="158"/>
                    </a:lnTo>
                    <a:lnTo>
                      <a:pt x="1" y="164"/>
                    </a:lnTo>
                    <a:lnTo>
                      <a:pt x="2" y="167"/>
                    </a:lnTo>
                    <a:lnTo>
                      <a:pt x="5" y="169"/>
                    </a:lnTo>
                    <a:lnTo>
                      <a:pt x="9" y="169"/>
                    </a:lnTo>
                    <a:lnTo>
                      <a:pt x="13" y="163"/>
                    </a:lnTo>
                    <a:lnTo>
                      <a:pt x="18" y="156"/>
                    </a:lnTo>
                    <a:lnTo>
                      <a:pt x="35" y="143"/>
                    </a:lnTo>
                    <a:lnTo>
                      <a:pt x="48" y="136"/>
                    </a:lnTo>
                    <a:lnTo>
                      <a:pt x="59" y="132"/>
                    </a:lnTo>
                    <a:lnTo>
                      <a:pt x="68" y="129"/>
                    </a:lnTo>
                    <a:lnTo>
                      <a:pt x="77" y="126"/>
                    </a:lnTo>
                    <a:lnTo>
                      <a:pt x="86" y="121"/>
                    </a:lnTo>
                    <a:lnTo>
                      <a:pt x="98" y="114"/>
                    </a:lnTo>
                    <a:lnTo>
                      <a:pt x="113" y="92"/>
                    </a:lnTo>
                    <a:lnTo>
                      <a:pt x="117" y="79"/>
                    </a:lnTo>
                    <a:lnTo>
                      <a:pt x="118" y="67"/>
                    </a:lnTo>
                    <a:lnTo>
                      <a:pt x="116" y="53"/>
                    </a:lnTo>
                    <a:lnTo>
                      <a:pt x="113" y="34"/>
                    </a:lnTo>
                    <a:lnTo>
                      <a:pt x="107" y="0"/>
                    </a:lnTo>
                    <a:lnTo>
                      <a:pt x="59" y="8"/>
                    </a:lnTo>
                  </a:path>
                </a:pathLst>
              </a:custGeom>
              <a:solidFill>
                <a:srgbClr val="ff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00080" y="245412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5" y="0"/>
                    </a:moveTo>
                    <a:lnTo>
                      <a:pt x="25" y="4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6" y="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87560" y="229392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5" y="55"/>
                    </a:moveTo>
                    <a:lnTo>
                      <a:pt x="20" y="48"/>
                    </a:lnTo>
                    <a:lnTo>
                      <a:pt x="23" y="38"/>
                    </a:lnTo>
                    <a:lnTo>
                      <a:pt x="26" y="29"/>
                    </a:lnTo>
                    <a:lnTo>
                      <a:pt x="27" y="21"/>
                    </a:lnTo>
                    <a:lnTo>
                      <a:pt x="27" y="16"/>
                    </a:lnTo>
                    <a:lnTo>
                      <a:pt x="20" y="17"/>
                    </a:lnTo>
                    <a:lnTo>
                      <a:pt x="13" y="16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3"/>
                    </a:lnTo>
                    <a:lnTo>
                      <a:pt x="50" y="0"/>
                    </a:lnTo>
                    <a:lnTo>
                      <a:pt x="52" y="15"/>
                    </a:lnTo>
                    <a:lnTo>
                      <a:pt x="54" y="23"/>
                    </a:lnTo>
                    <a:lnTo>
                      <a:pt x="56" y="33"/>
                    </a:lnTo>
                    <a:lnTo>
                      <a:pt x="57" y="41"/>
                    </a:lnTo>
                    <a:lnTo>
                      <a:pt x="58" y="50"/>
                    </a:lnTo>
                    <a:lnTo>
                      <a:pt x="58" y="57"/>
                    </a:lnTo>
                    <a:lnTo>
                      <a:pt x="57" y="64"/>
                    </a:lnTo>
                    <a:lnTo>
                      <a:pt x="56" y="69"/>
                    </a:lnTo>
                    <a:lnTo>
                      <a:pt x="53" y="75"/>
                    </a:lnTo>
                    <a:lnTo>
                      <a:pt x="49" y="81"/>
                    </a:lnTo>
                    <a:lnTo>
                      <a:pt x="47" y="86"/>
                    </a:lnTo>
                    <a:lnTo>
                      <a:pt x="42" y="91"/>
                    </a:lnTo>
                    <a:lnTo>
                      <a:pt x="38" y="97"/>
                    </a:lnTo>
                    <a:lnTo>
                      <a:pt x="33" y="100"/>
                    </a:lnTo>
                    <a:lnTo>
                      <a:pt x="27" y="103"/>
                    </a:lnTo>
                    <a:lnTo>
                      <a:pt x="29" y="98"/>
                    </a:lnTo>
                    <a:lnTo>
                      <a:pt x="30" y="89"/>
                    </a:lnTo>
                    <a:lnTo>
                      <a:pt x="29" y="82"/>
                    </a:lnTo>
                    <a:lnTo>
                      <a:pt x="27" y="75"/>
                    </a:lnTo>
                    <a:lnTo>
                      <a:pt x="24" y="67"/>
                    </a:lnTo>
                    <a:lnTo>
                      <a:pt x="19" y="61"/>
                    </a:lnTo>
                    <a:lnTo>
                      <a:pt x="15" y="55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15920" y="24051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7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0" y="1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1" y="1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04760" y="24829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13"/>
                    </a:moveTo>
                    <a:lnTo>
                      <a:pt x="3" y="15"/>
                    </a:lnTo>
                    <a:lnTo>
                      <a:pt x="5" y="17"/>
                    </a:lnTo>
                    <a:lnTo>
                      <a:pt x="8" y="21"/>
                    </a:lnTo>
                    <a:lnTo>
                      <a:pt x="9" y="19"/>
                    </a:lnTo>
                    <a:lnTo>
                      <a:pt x="11" y="17"/>
                    </a:lnTo>
                    <a:lnTo>
                      <a:pt x="17" y="13"/>
                    </a:lnTo>
                    <a:lnTo>
                      <a:pt x="23" y="10"/>
                    </a:lnTo>
                    <a:lnTo>
                      <a:pt x="28" y="7"/>
                    </a:lnTo>
                    <a:lnTo>
                      <a:pt x="33" y="4"/>
                    </a:lnTo>
                    <a:lnTo>
                      <a:pt x="38" y="0"/>
                    </a:lnTo>
                    <a:lnTo>
                      <a:pt x="31" y="3"/>
                    </a:lnTo>
                    <a:lnTo>
                      <a:pt x="27" y="5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33560" y="2112840"/>
              <a:ext cx="174600" cy="203400"/>
              <a:chOff x="1033560" y="2112840"/>
              <a:chExt cx="174600" cy="203400"/>
            </a:xfrm>
          </p:grpSpPr>
          <p:sp>
            <p:nvSpPr>
              <p:cNvPr id="932" name=""/>
              <p:cNvSpPr/>
              <p:nvPr/>
            </p:nvSpPr>
            <p:spPr>
              <a:xfrm>
                <a:off x="1033560" y="2112840"/>
                <a:ext cx="174600" cy="203400"/>
              </a:xfrm>
              <a:custGeom>
                <a:avLst/>
                <a:gdLst/>
                <a:ahLst/>
                <a:rect l="l" t="t" r="r" b="b"/>
                <a:pathLst>
                  <a:path w="110" h="128">
                    <a:moveTo>
                      <a:pt x="102" y="0"/>
                    </a:moveTo>
                    <a:lnTo>
                      <a:pt x="105" y="8"/>
                    </a:lnTo>
                    <a:lnTo>
                      <a:pt x="108" y="17"/>
                    </a:lnTo>
                    <a:lnTo>
                      <a:pt x="109" y="27"/>
                    </a:lnTo>
                    <a:lnTo>
                      <a:pt x="108" y="37"/>
                    </a:lnTo>
                    <a:lnTo>
                      <a:pt x="107" y="41"/>
                    </a:lnTo>
                    <a:lnTo>
                      <a:pt x="103" y="46"/>
                    </a:lnTo>
                    <a:lnTo>
                      <a:pt x="97" y="51"/>
                    </a:lnTo>
                    <a:lnTo>
                      <a:pt x="90" y="55"/>
                    </a:lnTo>
                    <a:lnTo>
                      <a:pt x="92" y="65"/>
                    </a:lnTo>
                    <a:lnTo>
                      <a:pt x="94" y="76"/>
                    </a:lnTo>
                    <a:lnTo>
                      <a:pt x="94" y="90"/>
                    </a:lnTo>
                    <a:lnTo>
                      <a:pt x="93" y="102"/>
                    </a:lnTo>
                    <a:lnTo>
                      <a:pt x="92" y="112"/>
                    </a:lnTo>
                    <a:lnTo>
                      <a:pt x="90" y="117"/>
                    </a:lnTo>
                    <a:lnTo>
                      <a:pt x="83" y="122"/>
                    </a:lnTo>
                    <a:lnTo>
                      <a:pt x="72" y="126"/>
                    </a:lnTo>
                    <a:lnTo>
                      <a:pt x="60" y="127"/>
                    </a:lnTo>
                    <a:lnTo>
                      <a:pt x="49" y="126"/>
                    </a:lnTo>
                    <a:lnTo>
                      <a:pt x="42" y="124"/>
                    </a:lnTo>
                    <a:lnTo>
                      <a:pt x="37" y="121"/>
                    </a:lnTo>
                    <a:lnTo>
                      <a:pt x="31" y="113"/>
                    </a:lnTo>
                    <a:lnTo>
                      <a:pt x="28" y="106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6" y="84"/>
                    </a:lnTo>
                    <a:lnTo>
                      <a:pt x="22" y="77"/>
                    </a:lnTo>
                    <a:lnTo>
                      <a:pt x="21" y="70"/>
                    </a:lnTo>
                    <a:lnTo>
                      <a:pt x="12" y="66"/>
                    </a:lnTo>
                    <a:lnTo>
                      <a:pt x="5" y="62"/>
                    </a:lnTo>
                    <a:lnTo>
                      <a:pt x="4" y="58"/>
                    </a:lnTo>
                    <a:lnTo>
                      <a:pt x="5" y="51"/>
                    </a:lnTo>
                    <a:lnTo>
                      <a:pt x="4" y="43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5"/>
                    </a:lnTo>
                    <a:lnTo>
                      <a:pt x="31" y="17"/>
                    </a:lnTo>
                    <a:lnTo>
                      <a:pt x="39" y="18"/>
                    </a:lnTo>
                    <a:lnTo>
                      <a:pt x="49" y="19"/>
                    </a:lnTo>
                    <a:lnTo>
                      <a:pt x="59" y="18"/>
                    </a:lnTo>
                    <a:lnTo>
                      <a:pt x="68" y="15"/>
                    </a:lnTo>
                    <a:lnTo>
                      <a:pt x="77" y="13"/>
                    </a:lnTo>
                    <a:lnTo>
                      <a:pt x="86" y="8"/>
                    </a:lnTo>
                    <a:lnTo>
                      <a:pt x="94" y="3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9400" y="220032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59" y="1"/>
                    </a:moveTo>
                    <a:lnTo>
                      <a:pt x="52" y="0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6"/>
                    </a:lnTo>
                    <a:lnTo>
                      <a:pt x="29" y="7"/>
                    </a:lnTo>
                    <a:lnTo>
                      <a:pt x="23" y="6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6" y="13"/>
                    </a:lnTo>
                    <a:lnTo>
                      <a:pt x="10" y="15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5" y="20"/>
                    </a:lnTo>
                    <a:lnTo>
                      <a:pt x="31" y="22"/>
                    </a:lnTo>
                    <a:lnTo>
                      <a:pt x="34" y="25"/>
                    </a:lnTo>
                    <a:lnTo>
                      <a:pt x="36" y="30"/>
                    </a:lnTo>
                    <a:lnTo>
                      <a:pt x="40" y="25"/>
                    </a:lnTo>
                    <a:lnTo>
                      <a:pt x="46" y="20"/>
                    </a:lnTo>
                    <a:lnTo>
                      <a:pt x="52" y="16"/>
                    </a:lnTo>
                    <a:lnTo>
                      <a:pt x="57" y="13"/>
                    </a:lnTo>
                    <a:lnTo>
                      <a:pt x="60" y="10"/>
                    </a:lnTo>
                    <a:lnTo>
                      <a:pt x="61" y="7"/>
                    </a:lnTo>
                    <a:lnTo>
                      <a:pt x="61" y="3"/>
                    </a:lnTo>
                    <a:lnTo>
                      <a:pt x="59" y="1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25360" y="213984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8" y="0"/>
                    </a:moveTo>
                    <a:lnTo>
                      <a:pt x="19" y="9"/>
                    </a:lnTo>
                    <a:lnTo>
                      <a:pt x="18" y="17"/>
                    </a:lnTo>
                    <a:lnTo>
                      <a:pt x="16" y="25"/>
                    </a:lnTo>
                    <a:lnTo>
                      <a:pt x="12" y="31"/>
                    </a:lnTo>
                    <a:lnTo>
                      <a:pt x="7" y="34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4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77920" y="212076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0" y="0"/>
                    </a:moveTo>
                    <a:lnTo>
                      <a:pt x="5" y="5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8" y="29"/>
                    </a:lnTo>
                    <a:lnTo>
                      <a:pt x="16" y="36"/>
                    </a:lnTo>
                    <a:lnTo>
                      <a:pt x="11" y="28"/>
                    </a:lnTo>
                    <a:lnTo>
                      <a:pt x="8" y="21"/>
                    </a:lnTo>
                    <a:lnTo>
                      <a:pt x="7" y="14"/>
                    </a:lnTo>
                    <a:lnTo>
                      <a:pt x="8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17440" y="2201760"/>
                <a:ext cx="68400" cy="1144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37" y="0"/>
                    </a:moveTo>
                    <a:lnTo>
                      <a:pt x="30" y="2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0"/>
                    </a:lnTo>
                    <a:lnTo>
                      <a:pt x="5" y="29"/>
                    </a:lnTo>
                    <a:lnTo>
                      <a:pt x="4" y="36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5" y="55"/>
                    </a:lnTo>
                    <a:lnTo>
                      <a:pt x="2" y="63"/>
                    </a:lnTo>
                    <a:lnTo>
                      <a:pt x="0" y="70"/>
                    </a:lnTo>
                    <a:lnTo>
                      <a:pt x="4" y="71"/>
                    </a:lnTo>
                    <a:lnTo>
                      <a:pt x="11" y="71"/>
                    </a:lnTo>
                    <a:lnTo>
                      <a:pt x="17" y="71"/>
                    </a:lnTo>
                    <a:lnTo>
                      <a:pt x="23" y="69"/>
                    </a:lnTo>
                    <a:lnTo>
                      <a:pt x="27" y="67"/>
                    </a:lnTo>
                    <a:lnTo>
                      <a:pt x="33" y="64"/>
                    </a:lnTo>
                    <a:lnTo>
                      <a:pt x="37" y="61"/>
                    </a:lnTo>
                    <a:lnTo>
                      <a:pt x="40" y="55"/>
                    </a:lnTo>
                    <a:lnTo>
                      <a:pt x="41" y="43"/>
                    </a:lnTo>
                    <a:lnTo>
                      <a:pt x="42" y="34"/>
                    </a:lnTo>
                    <a:lnTo>
                      <a:pt x="41" y="25"/>
                    </a:lnTo>
                    <a:lnTo>
                      <a:pt x="40" y="15"/>
                    </a:lnTo>
                    <a:lnTo>
                      <a:pt x="38" y="6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41480" y="2112840"/>
                <a:ext cx="156960" cy="38160"/>
              </a:xfrm>
              <a:custGeom>
                <a:avLst/>
                <a:gdLst/>
                <a:ahLst/>
                <a:rect l="l" t="t" r="r" b="b"/>
                <a:pathLst>
                  <a:path w="99" h="24">
                    <a:moveTo>
                      <a:pt x="97" y="0"/>
                    </a:moveTo>
                    <a:lnTo>
                      <a:pt x="98" y="2"/>
                    </a:lnTo>
                    <a:lnTo>
                      <a:pt x="93" y="5"/>
                    </a:lnTo>
                    <a:lnTo>
                      <a:pt x="88" y="8"/>
                    </a:lnTo>
                    <a:lnTo>
                      <a:pt x="83" y="11"/>
                    </a:lnTo>
                    <a:lnTo>
                      <a:pt x="75" y="15"/>
                    </a:lnTo>
                    <a:lnTo>
                      <a:pt x="69" y="18"/>
                    </a:lnTo>
                    <a:lnTo>
                      <a:pt x="60" y="20"/>
                    </a:lnTo>
                    <a:lnTo>
                      <a:pt x="51" y="22"/>
                    </a:lnTo>
                    <a:lnTo>
                      <a:pt x="46" y="23"/>
                    </a:lnTo>
                    <a:lnTo>
                      <a:pt x="39" y="23"/>
                    </a:lnTo>
                    <a:lnTo>
                      <a:pt x="32" y="22"/>
                    </a:lnTo>
                    <a:lnTo>
                      <a:pt x="25" y="21"/>
                    </a:lnTo>
                    <a:lnTo>
                      <a:pt x="17" y="20"/>
                    </a:lnTo>
                    <a:lnTo>
                      <a:pt x="10" y="18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0" y="12"/>
                    </a:lnTo>
                    <a:lnTo>
                      <a:pt x="19" y="15"/>
                    </a:lnTo>
                    <a:lnTo>
                      <a:pt x="26" y="17"/>
                    </a:lnTo>
                    <a:lnTo>
                      <a:pt x="34" y="18"/>
                    </a:lnTo>
                    <a:lnTo>
                      <a:pt x="44" y="20"/>
                    </a:lnTo>
                    <a:lnTo>
                      <a:pt x="54" y="18"/>
                    </a:lnTo>
                    <a:lnTo>
                      <a:pt x="63" y="15"/>
                    </a:lnTo>
                    <a:lnTo>
                      <a:pt x="72" y="13"/>
                    </a:lnTo>
                    <a:lnTo>
                      <a:pt x="81" y="8"/>
                    </a:lnTo>
                    <a:lnTo>
                      <a:pt x="89" y="3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1184400" y="1222200"/>
              <a:ext cx="498240" cy="463680"/>
              <a:chOff x="1184400" y="1222200"/>
              <a:chExt cx="498240" cy="46368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1276200" y="1336680"/>
                <a:ext cx="347760" cy="349200"/>
                <a:chOff x="1276200" y="1336680"/>
                <a:chExt cx="347760" cy="34920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1276200" y="1336680"/>
                  <a:ext cx="347760" cy="349200"/>
                  <a:chOff x="1276200" y="1336680"/>
                  <a:chExt cx="347760" cy="349200"/>
                </a:xfrm>
              </p:grpSpPr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1523880" y="1479600"/>
                    <a:ext cx="58680" cy="50760"/>
                    <a:chOff x="1523880" y="1479600"/>
                    <a:chExt cx="58680" cy="5076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539720" y="1479600"/>
                      <a:ext cx="428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4">
                          <a:moveTo>
                            <a:pt x="25" y="0"/>
                          </a:moveTo>
                          <a:lnTo>
                            <a:pt x="25" y="12"/>
                          </a:lnTo>
                          <a:lnTo>
                            <a:pt x="26" y="16"/>
                          </a:lnTo>
                          <a:lnTo>
                            <a:pt x="26" y="18"/>
                          </a:lnTo>
                          <a:lnTo>
                            <a:pt x="25" y="21"/>
                          </a:lnTo>
                          <a:lnTo>
                            <a:pt x="21" y="21"/>
                          </a:lnTo>
                          <a:lnTo>
                            <a:pt x="0" y="23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a08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523880" y="150012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30" y="0"/>
                          </a:moveTo>
                          <a:lnTo>
                            <a:pt x="26" y="10"/>
                          </a:lnTo>
                          <a:lnTo>
                            <a:pt x="25" y="14"/>
                          </a:lnTo>
                          <a:lnTo>
                            <a:pt x="25" y="18"/>
                          </a:lnTo>
                          <a:lnTo>
                            <a:pt x="23" y="14"/>
                          </a:lnTo>
                          <a:lnTo>
                            <a:pt x="20" y="13"/>
                          </a:lnTo>
                          <a:lnTo>
                            <a:pt x="0" y="10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1276200" y="1336680"/>
                    <a:ext cx="347760" cy="349200"/>
                    <a:chOff x="1276200" y="1336680"/>
                    <a:chExt cx="347760" cy="34920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284120" y="1336680"/>
                      <a:ext cx="339840" cy="33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3">
                          <a:moveTo>
                            <a:pt x="213" y="54"/>
                          </a:moveTo>
                          <a:lnTo>
                            <a:pt x="198" y="86"/>
                          </a:lnTo>
                          <a:lnTo>
                            <a:pt x="189" y="101"/>
                          </a:lnTo>
                          <a:lnTo>
                            <a:pt x="180" y="111"/>
                          </a:lnTo>
                          <a:lnTo>
                            <a:pt x="169" y="120"/>
                          </a:lnTo>
                          <a:lnTo>
                            <a:pt x="168" y="127"/>
                          </a:lnTo>
                          <a:lnTo>
                            <a:pt x="169" y="135"/>
                          </a:lnTo>
                          <a:lnTo>
                            <a:pt x="170" y="146"/>
                          </a:lnTo>
                          <a:lnTo>
                            <a:pt x="172" y="154"/>
                          </a:lnTo>
                          <a:lnTo>
                            <a:pt x="171" y="159"/>
                          </a:lnTo>
                          <a:lnTo>
                            <a:pt x="169" y="165"/>
                          </a:lnTo>
                          <a:lnTo>
                            <a:pt x="164" y="168"/>
                          </a:lnTo>
                          <a:lnTo>
                            <a:pt x="159" y="170"/>
                          </a:lnTo>
                          <a:lnTo>
                            <a:pt x="152" y="169"/>
                          </a:lnTo>
                          <a:lnTo>
                            <a:pt x="147" y="170"/>
                          </a:lnTo>
                          <a:lnTo>
                            <a:pt x="140" y="179"/>
                          </a:lnTo>
                          <a:lnTo>
                            <a:pt x="139" y="184"/>
                          </a:lnTo>
                          <a:lnTo>
                            <a:pt x="135" y="186"/>
                          </a:lnTo>
                          <a:lnTo>
                            <a:pt x="130" y="185"/>
                          </a:lnTo>
                          <a:lnTo>
                            <a:pt x="128" y="184"/>
                          </a:lnTo>
                          <a:lnTo>
                            <a:pt x="127" y="188"/>
                          </a:lnTo>
                          <a:lnTo>
                            <a:pt x="125" y="192"/>
                          </a:lnTo>
                          <a:lnTo>
                            <a:pt x="121" y="195"/>
                          </a:lnTo>
                          <a:lnTo>
                            <a:pt x="116" y="196"/>
                          </a:lnTo>
                          <a:lnTo>
                            <a:pt x="113" y="196"/>
                          </a:lnTo>
                          <a:lnTo>
                            <a:pt x="108" y="200"/>
                          </a:lnTo>
                          <a:lnTo>
                            <a:pt x="104" y="203"/>
                          </a:lnTo>
                          <a:lnTo>
                            <a:pt x="101" y="207"/>
                          </a:lnTo>
                          <a:lnTo>
                            <a:pt x="93" y="211"/>
                          </a:lnTo>
                          <a:lnTo>
                            <a:pt x="86" y="212"/>
                          </a:lnTo>
                          <a:lnTo>
                            <a:pt x="78" y="209"/>
                          </a:lnTo>
                          <a:lnTo>
                            <a:pt x="70" y="204"/>
                          </a:lnTo>
                          <a:lnTo>
                            <a:pt x="63" y="197"/>
                          </a:lnTo>
                          <a:lnTo>
                            <a:pt x="56" y="187"/>
                          </a:lnTo>
                          <a:lnTo>
                            <a:pt x="48" y="185"/>
                          </a:lnTo>
                          <a:lnTo>
                            <a:pt x="31" y="167"/>
                          </a:lnTo>
                          <a:lnTo>
                            <a:pt x="0" y="130"/>
                          </a:lnTo>
                          <a:lnTo>
                            <a:pt x="5" y="115"/>
                          </a:lnTo>
                          <a:lnTo>
                            <a:pt x="16" y="64"/>
                          </a:lnTo>
                          <a:lnTo>
                            <a:pt x="41" y="29"/>
                          </a:lnTo>
                          <a:lnTo>
                            <a:pt x="80" y="7"/>
                          </a:lnTo>
                          <a:lnTo>
                            <a:pt x="130" y="0"/>
                          </a:lnTo>
                          <a:lnTo>
                            <a:pt x="186" y="10"/>
                          </a:lnTo>
                          <a:lnTo>
                            <a:pt x="206" y="25"/>
                          </a:lnTo>
                          <a:lnTo>
                            <a:pt x="213" y="54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1276200" y="1387440"/>
                      <a:ext cx="266760" cy="298440"/>
                      <a:chOff x="1276200" y="1387440"/>
                      <a:chExt cx="266760" cy="2984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1441440" y="16318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1"/>
                            </a:moveTo>
                            <a:lnTo>
                              <a:pt x="8" y="1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  <a:lnTo>
                              <a:pt x="5" y="9"/>
                            </a:lnTo>
                            <a:lnTo>
                              <a:pt x="9" y="16"/>
                            </a:lnTo>
                            <a:lnTo>
                              <a:pt x="12" y="13"/>
                            </a:lnTo>
                            <a:lnTo>
                              <a:pt x="16" y="11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276200" y="1387440"/>
                        <a:ext cx="25740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65">
                            <a:moveTo>
                              <a:pt x="161" y="42"/>
                            </a:moveTo>
                            <a:lnTo>
                              <a:pt x="140" y="50"/>
                            </a:lnTo>
                            <a:lnTo>
                              <a:pt x="128" y="54"/>
                            </a:lnTo>
                            <a:lnTo>
                              <a:pt x="115" y="55"/>
                            </a:lnTo>
                            <a:lnTo>
                              <a:pt x="102" y="56"/>
                            </a:lnTo>
                            <a:lnTo>
                              <a:pt x="105" y="63"/>
                            </a:lnTo>
                            <a:lnTo>
                              <a:pt x="108" y="73"/>
                            </a:lnTo>
                            <a:lnTo>
                              <a:pt x="109" y="83"/>
                            </a:lnTo>
                            <a:lnTo>
                              <a:pt x="113" y="87"/>
                            </a:lnTo>
                            <a:lnTo>
                              <a:pt x="119" y="91"/>
                            </a:lnTo>
                            <a:lnTo>
                              <a:pt x="129" y="95"/>
                            </a:lnTo>
                            <a:lnTo>
                              <a:pt x="133" y="101"/>
                            </a:lnTo>
                            <a:lnTo>
                              <a:pt x="135" y="108"/>
                            </a:lnTo>
                            <a:lnTo>
                              <a:pt x="133" y="116"/>
                            </a:lnTo>
                            <a:lnTo>
                              <a:pt x="130" y="124"/>
                            </a:lnTo>
                            <a:lnTo>
                              <a:pt x="126" y="130"/>
                            </a:lnTo>
                            <a:lnTo>
                              <a:pt x="119" y="135"/>
                            </a:lnTo>
                            <a:lnTo>
                              <a:pt x="116" y="133"/>
                            </a:lnTo>
                            <a:lnTo>
                              <a:pt x="112" y="132"/>
                            </a:lnTo>
                            <a:lnTo>
                              <a:pt x="107" y="133"/>
                            </a:lnTo>
                            <a:lnTo>
                              <a:pt x="109" y="145"/>
                            </a:lnTo>
                            <a:lnTo>
                              <a:pt x="104" y="148"/>
                            </a:lnTo>
                            <a:lnTo>
                              <a:pt x="99" y="151"/>
                            </a:lnTo>
                            <a:lnTo>
                              <a:pt x="95" y="157"/>
                            </a:lnTo>
                            <a:lnTo>
                              <a:pt x="93" y="161"/>
                            </a:lnTo>
                            <a:lnTo>
                              <a:pt x="88" y="164"/>
                            </a:lnTo>
                            <a:lnTo>
                              <a:pt x="83" y="164"/>
                            </a:lnTo>
                            <a:lnTo>
                              <a:pt x="76" y="159"/>
                            </a:lnTo>
                            <a:lnTo>
                              <a:pt x="70" y="154"/>
                            </a:lnTo>
                            <a:lnTo>
                              <a:pt x="67" y="149"/>
                            </a:lnTo>
                            <a:lnTo>
                              <a:pt x="65" y="138"/>
                            </a:lnTo>
                            <a:lnTo>
                              <a:pt x="63" y="127"/>
                            </a:lnTo>
                            <a:lnTo>
                              <a:pt x="58" y="123"/>
                            </a:lnTo>
                            <a:lnTo>
                              <a:pt x="39" y="116"/>
                            </a:lnTo>
                            <a:lnTo>
                              <a:pt x="21" y="109"/>
                            </a:lnTo>
                            <a:lnTo>
                              <a:pt x="8" y="101"/>
                            </a:lnTo>
                            <a:lnTo>
                              <a:pt x="0" y="92"/>
                            </a:lnTo>
                            <a:lnTo>
                              <a:pt x="15" y="32"/>
                            </a:lnTo>
                            <a:lnTo>
                              <a:pt x="109" y="0"/>
                            </a:lnTo>
                            <a:lnTo>
                              <a:pt x="161" y="4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494000" y="1568520"/>
                        <a:ext cx="48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4">
                            <a:moveTo>
                              <a:pt x="27" y="22"/>
                            </a:moveTo>
                            <a:lnTo>
                              <a:pt x="30" y="20"/>
                            </a:lnTo>
                            <a:lnTo>
                              <a:pt x="30" y="17"/>
                            </a:lnTo>
                            <a:lnTo>
                              <a:pt x="27" y="16"/>
                            </a:lnTo>
                            <a:lnTo>
                              <a:pt x="22" y="16"/>
                            </a:lnTo>
                            <a:lnTo>
                              <a:pt x="17" y="16"/>
                            </a:lnTo>
                            <a:lnTo>
                              <a:pt x="11" y="18"/>
                            </a:lnTo>
                            <a:lnTo>
                              <a:pt x="7" y="12"/>
                            </a:lnTo>
                            <a:lnTo>
                              <a:pt x="7" y="7"/>
                            </a:lnTo>
                            <a:lnTo>
                              <a:pt x="9" y="4"/>
                            </a:lnTo>
                            <a:lnTo>
                              <a:pt x="13" y="3"/>
                            </a:lnTo>
                            <a:lnTo>
                              <a:pt x="16" y="4"/>
                            </a:lnTo>
                            <a:lnTo>
                              <a:pt x="19" y="6"/>
                            </a:lnTo>
                            <a:lnTo>
                              <a:pt x="18" y="3"/>
                            </a:lnTo>
                            <a:lnTo>
                              <a:pt x="15" y="0"/>
                            </a:lnTo>
                            <a:lnTo>
                              <a:pt x="10" y="0"/>
                            </a:lnTo>
                            <a:lnTo>
                              <a:pt x="3" y="2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1" y="15"/>
                            </a:lnTo>
                            <a:lnTo>
                              <a:pt x="4" y="20"/>
                            </a:lnTo>
                            <a:lnTo>
                              <a:pt x="8" y="22"/>
                            </a:lnTo>
                            <a:lnTo>
                              <a:pt x="14" y="23"/>
                            </a:lnTo>
                            <a:lnTo>
                              <a:pt x="18" y="22"/>
                            </a:lnTo>
                            <a:lnTo>
                              <a:pt x="22" y="21"/>
                            </a:lnTo>
                            <a:lnTo>
                              <a:pt x="27" y="2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405080" y="1658880"/>
                        <a:ext cx="378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7">
                            <a:moveTo>
                              <a:pt x="23" y="10"/>
                            </a:moveTo>
                            <a:lnTo>
                              <a:pt x="17" y="7"/>
                            </a:lnTo>
                            <a:lnTo>
                              <a:pt x="12" y="0"/>
                            </a:lnTo>
                            <a:lnTo>
                              <a:pt x="9" y="3"/>
                            </a:lnTo>
                            <a:lnTo>
                              <a:pt x="6" y="5"/>
                            </a:lnTo>
                            <a:lnTo>
                              <a:pt x="3" y="7"/>
                            </a:lnTo>
                            <a:lnTo>
                              <a:pt x="0" y="8"/>
                            </a:lnTo>
                            <a:lnTo>
                              <a:pt x="6" y="14"/>
                            </a:lnTo>
                            <a:lnTo>
                              <a:pt x="11" y="16"/>
                            </a:lnTo>
                            <a:lnTo>
                              <a:pt x="15" y="16"/>
                            </a:lnTo>
                            <a:lnTo>
                              <a:pt x="19" y="14"/>
                            </a:lnTo>
                            <a:lnTo>
                              <a:pt x="23" y="10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450800" y="1601640"/>
                  <a:ext cx="57240" cy="49320"/>
                  <a:chOff x="1450800" y="1601640"/>
                  <a:chExt cx="57240" cy="493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1450800" y="1601640"/>
                    <a:ext cx="51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1" y="16"/>
                        </a:moveTo>
                        <a:lnTo>
                          <a:pt x="24" y="17"/>
                        </a:lnTo>
                        <a:lnTo>
                          <a:pt x="21" y="22"/>
                        </a:lnTo>
                        <a:lnTo>
                          <a:pt x="19" y="24"/>
                        </a:lnTo>
                        <a:lnTo>
                          <a:pt x="7" y="20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31" y="16"/>
                        </a:lnTo>
                      </a:path>
                    </a:pathLst>
                  </a:custGeom>
                  <a:solidFill>
                    <a:srgbClr val="e04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1452600" y="160164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6" y="15"/>
                        </a:moveTo>
                        <a:lnTo>
                          <a:pt x="20" y="21"/>
                        </a:lnTo>
                        <a:lnTo>
                          <a:pt x="16" y="2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6" y="1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450800" y="1601640"/>
                    <a:ext cx="57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9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5" y="6"/>
                        </a:lnTo>
                        <a:lnTo>
                          <a:pt x="24" y="7"/>
                        </a:lnTo>
                        <a:lnTo>
                          <a:pt x="31" y="11"/>
                        </a:lnTo>
                        <a:lnTo>
                          <a:pt x="34" y="13"/>
                        </a:lnTo>
                        <a:lnTo>
                          <a:pt x="35" y="16"/>
                        </a:lnTo>
                        <a:lnTo>
                          <a:pt x="33" y="18"/>
                        </a:lnTo>
                        <a:lnTo>
                          <a:pt x="29" y="18"/>
                        </a:lnTo>
                        <a:lnTo>
                          <a:pt x="26" y="18"/>
                        </a:lnTo>
                        <a:lnTo>
                          <a:pt x="20" y="15"/>
                        </a:lnTo>
                        <a:lnTo>
                          <a:pt x="13" y="10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450800" y="1601640"/>
                    <a:ext cx="352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1">
                        <a:moveTo>
                          <a:pt x="0" y="0"/>
                        </a:moveTo>
                        <a:lnTo>
                          <a:pt x="5" y="11"/>
                        </a:lnTo>
                        <a:lnTo>
                          <a:pt x="10" y="16"/>
                        </a:lnTo>
                        <a:lnTo>
                          <a:pt x="12" y="21"/>
                        </a:lnTo>
                        <a:lnTo>
                          <a:pt x="15" y="23"/>
                        </a:lnTo>
                        <a:lnTo>
                          <a:pt x="18" y="23"/>
                        </a:lnTo>
                        <a:lnTo>
                          <a:pt x="21" y="21"/>
                        </a:lnTo>
                        <a:lnTo>
                          <a:pt x="20" y="25"/>
                        </a:lnTo>
                        <a:lnTo>
                          <a:pt x="18" y="26"/>
                        </a:lnTo>
                        <a:lnTo>
                          <a:pt x="14" y="29"/>
                        </a:lnTo>
                        <a:lnTo>
                          <a:pt x="11" y="30"/>
                        </a:lnTo>
                        <a:lnTo>
                          <a:pt x="8" y="30"/>
                        </a:lnTo>
                        <a:lnTo>
                          <a:pt x="5" y="26"/>
                        </a:lnTo>
                        <a:lnTo>
                          <a:pt x="2" y="23"/>
                        </a:lnTo>
                        <a:lnTo>
                          <a:pt x="1" y="18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"/>
                <p:cNvSpPr/>
                <p:nvPr/>
              </p:nvSpPr>
              <p:spPr>
                <a:xfrm>
                  <a:off x="1495440" y="1494000"/>
                  <a:ext cx="44280" cy="41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13"/>
                      </a:moveTo>
                      <a:lnTo>
                        <a:pt x="24" y="9"/>
                      </a:lnTo>
                      <a:lnTo>
                        <a:pt x="19" y="6"/>
                      </a:lnTo>
                      <a:lnTo>
                        <a:pt x="13" y="3"/>
                      </a:lnTo>
                      <a:lnTo>
                        <a:pt x="7" y="1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1" y="15"/>
                      </a:lnTo>
                      <a:lnTo>
                        <a:pt x="4" y="20"/>
                      </a:lnTo>
                      <a:lnTo>
                        <a:pt x="8" y="23"/>
                      </a:lnTo>
                      <a:lnTo>
                        <a:pt x="13" y="25"/>
                      </a:lnTo>
                      <a:lnTo>
                        <a:pt x="16" y="21"/>
                      </a:lnTo>
                      <a:lnTo>
                        <a:pt x="19" y="18"/>
                      </a:lnTo>
                      <a:lnTo>
                        <a:pt x="21" y="17"/>
                      </a:lnTo>
                      <a:lnTo>
                        <a:pt x="25" y="15"/>
                      </a:lnTo>
                      <a:lnTo>
                        <a:pt x="27" y="13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496880" y="1495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9"/>
                      </a:moveTo>
                      <a:lnTo>
                        <a:pt x="9" y="16"/>
                      </a:lnTo>
                      <a:lnTo>
                        <a:pt x="4" y="11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6" y="9"/>
                      </a:lnTo>
                    </a:path>
                  </a:pathLst>
                </a:custGeom>
                <a:solidFill>
                  <a:srgbClr val="ff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495440" y="149400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0" y="19"/>
                      </a:moveTo>
                      <a:lnTo>
                        <a:pt x="18" y="17"/>
                      </a:lnTo>
                      <a:lnTo>
                        <a:pt x="16" y="12"/>
                      </a:lnTo>
                      <a:lnTo>
                        <a:pt x="11" y="9"/>
                      </a:lnTo>
                      <a:lnTo>
                        <a:pt x="6" y="5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6" y="11"/>
                      </a:lnTo>
                      <a:lnTo>
                        <a:pt x="8" y="14"/>
                      </a:lnTo>
                      <a:lnTo>
                        <a:pt x="10" y="19"/>
                      </a:lnTo>
                      <a:lnTo>
                        <a:pt x="11" y="23"/>
                      </a:lnTo>
                      <a:lnTo>
                        <a:pt x="9" y="18"/>
                      </a:lnTo>
                      <a:lnTo>
                        <a:pt x="7" y="15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8" y="5"/>
                      </a:lnTo>
                      <a:lnTo>
                        <a:pt x="12" y="8"/>
                      </a:lnTo>
                      <a:lnTo>
                        <a:pt x="16" y="11"/>
                      </a:lnTo>
                      <a:lnTo>
                        <a:pt x="19" y="15"/>
                      </a:lnTo>
                      <a:lnTo>
                        <a:pt x="20" y="1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508040" y="1506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7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6" y="7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503360" y="1503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508040" y="1511280"/>
                  <a:ext cx="1296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494000" y="149220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7" y="16"/>
                      </a:moveTo>
                      <a:lnTo>
                        <a:pt x="27" y="13"/>
                      </a:lnTo>
                      <a:lnTo>
                        <a:pt x="25" y="9"/>
                      </a:lnTo>
                      <a:lnTo>
                        <a:pt x="22" y="7"/>
                      </a:lnTo>
                      <a:lnTo>
                        <a:pt x="17" y="4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527120" y="150480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9" y="5"/>
                      </a:lnTo>
                      <a:lnTo>
                        <a:pt x="0" y="10"/>
                      </a:lnTo>
                      <a:lnTo>
                        <a:pt x="4" y="16"/>
                      </a:lnTo>
                      <a:lnTo>
                        <a:pt x="5" y="21"/>
                      </a:lnTo>
                      <a:lnTo>
                        <a:pt x="4" y="28"/>
                      </a:lnTo>
                      <a:lnTo>
                        <a:pt x="1" y="38"/>
                      </a:lnTo>
                      <a:lnTo>
                        <a:pt x="4" y="32"/>
                      </a:lnTo>
                      <a:lnTo>
                        <a:pt x="7" y="27"/>
                      </a:lnTo>
                      <a:lnTo>
                        <a:pt x="10" y="20"/>
                      </a:lnTo>
                      <a:lnTo>
                        <a:pt x="13" y="1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506600" y="1450800"/>
                  <a:ext cx="52200" cy="6192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24" y="37"/>
                      </a:moveTo>
                      <a:lnTo>
                        <a:pt x="23" y="31"/>
                      </a:lnTo>
                      <a:lnTo>
                        <a:pt x="23" y="25"/>
                      </a:lnTo>
                      <a:lnTo>
                        <a:pt x="20" y="20"/>
                      </a:lnTo>
                      <a:lnTo>
                        <a:pt x="11" y="14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13" y="11"/>
                      </a:lnTo>
                      <a:lnTo>
                        <a:pt x="26" y="16"/>
                      </a:lnTo>
                      <a:lnTo>
                        <a:pt x="30" y="23"/>
                      </a:lnTo>
                      <a:lnTo>
                        <a:pt x="32" y="30"/>
                      </a:lnTo>
                      <a:lnTo>
                        <a:pt x="32" y="35"/>
                      </a:lnTo>
                      <a:lnTo>
                        <a:pt x="30" y="37"/>
                      </a:lnTo>
                      <a:lnTo>
                        <a:pt x="27" y="38"/>
                      </a:lnTo>
                      <a:lnTo>
                        <a:pt x="24" y="37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512720" y="151272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1184400" y="1222200"/>
                <a:ext cx="498240" cy="360360"/>
                <a:chOff x="1184400" y="1222200"/>
                <a:chExt cx="498240" cy="3603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1184400" y="1222200"/>
                  <a:ext cx="498240" cy="360360"/>
                </a:xfrm>
                <a:custGeom>
                  <a:avLst/>
                  <a:gdLst/>
                  <a:ahLst/>
                  <a:rect l="l" t="t" r="r" b="b"/>
                  <a:pathLst>
                    <a:path w="314" h="227">
                      <a:moveTo>
                        <a:pt x="258" y="35"/>
                      </a:moveTo>
                      <a:lnTo>
                        <a:pt x="266" y="40"/>
                      </a:lnTo>
                      <a:lnTo>
                        <a:pt x="274" y="46"/>
                      </a:lnTo>
                      <a:lnTo>
                        <a:pt x="282" y="56"/>
                      </a:lnTo>
                      <a:lnTo>
                        <a:pt x="288" y="61"/>
                      </a:lnTo>
                      <a:lnTo>
                        <a:pt x="294" y="68"/>
                      </a:lnTo>
                      <a:lnTo>
                        <a:pt x="298" y="74"/>
                      </a:lnTo>
                      <a:lnTo>
                        <a:pt x="299" y="80"/>
                      </a:lnTo>
                      <a:lnTo>
                        <a:pt x="300" y="85"/>
                      </a:lnTo>
                      <a:lnTo>
                        <a:pt x="299" y="91"/>
                      </a:lnTo>
                      <a:lnTo>
                        <a:pt x="298" y="98"/>
                      </a:lnTo>
                      <a:lnTo>
                        <a:pt x="302" y="104"/>
                      </a:lnTo>
                      <a:lnTo>
                        <a:pt x="304" y="108"/>
                      </a:lnTo>
                      <a:lnTo>
                        <a:pt x="305" y="113"/>
                      </a:lnTo>
                      <a:lnTo>
                        <a:pt x="307" y="120"/>
                      </a:lnTo>
                      <a:lnTo>
                        <a:pt x="310" y="128"/>
                      </a:lnTo>
                      <a:lnTo>
                        <a:pt x="312" y="134"/>
                      </a:lnTo>
                      <a:lnTo>
                        <a:pt x="313" y="141"/>
                      </a:lnTo>
                      <a:lnTo>
                        <a:pt x="312" y="151"/>
                      </a:lnTo>
                      <a:lnTo>
                        <a:pt x="309" y="159"/>
                      </a:lnTo>
                      <a:lnTo>
                        <a:pt x="307" y="166"/>
                      </a:lnTo>
                      <a:lnTo>
                        <a:pt x="303" y="172"/>
                      </a:lnTo>
                      <a:lnTo>
                        <a:pt x="299" y="176"/>
                      </a:lnTo>
                      <a:lnTo>
                        <a:pt x="292" y="180"/>
                      </a:lnTo>
                      <a:lnTo>
                        <a:pt x="295" y="176"/>
                      </a:lnTo>
                      <a:lnTo>
                        <a:pt x="294" y="174"/>
                      </a:lnTo>
                      <a:lnTo>
                        <a:pt x="291" y="172"/>
                      </a:lnTo>
                      <a:lnTo>
                        <a:pt x="288" y="172"/>
                      </a:lnTo>
                      <a:lnTo>
                        <a:pt x="284" y="174"/>
                      </a:lnTo>
                      <a:lnTo>
                        <a:pt x="281" y="178"/>
                      </a:lnTo>
                      <a:lnTo>
                        <a:pt x="276" y="181"/>
                      </a:lnTo>
                      <a:lnTo>
                        <a:pt x="279" y="177"/>
                      </a:lnTo>
                      <a:lnTo>
                        <a:pt x="279" y="174"/>
                      </a:lnTo>
                      <a:lnTo>
                        <a:pt x="272" y="175"/>
                      </a:lnTo>
                      <a:lnTo>
                        <a:pt x="266" y="174"/>
                      </a:lnTo>
                      <a:lnTo>
                        <a:pt x="261" y="171"/>
                      </a:lnTo>
                      <a:lnTo>
                        <a:pt x="257" y="167"/>
                      </a:lnTo>
                      <a:lnTo>
                        <a:pt x="253" y="161"/>
                      </a:lnTo>
                      <a:lnTo>
                        <a:pt x="244" y="163"/>
                      </a:lnTo>
                      <a:lnTo>
                        <a:pt x="236" y="163"/>
                      </a:lnTo>
                      <a:lnTo>
                        <a:pt x="227" y="162"/>
                      </a:lnTo>
                      <a:lnTo>
                        <a:pt x="218" y="159"/>
                      </a:lnTo>
                      <a:lnTo>
                        <a:pt x="209" y="155"/>
                      </a:lnTo>
                      <a:lnTo>
                        <a:pt x="202" y="149"/>
                      </a:lnTo>
                      <a:lnTo>
                        <a:pt x="196" y="143"/>
                      </a:lnTo>
                      <a:lnTo>
                        <a:pt x="191" y="139"/>
                      </a:lnTo>
                      <a:lnTo>
                        <a:pt x="184" y="136"/>
                      </a:lnTo>
                      <a:lnTo>
                        <a:pt x="176" y="137"/>
                      </a:lnTo>
                      <a:lnTo>
                        <a:pt x="165" y="138"/>
                      </a:lnTo>
                      <a:lnTo>
                        <a:pt x="161" y="145"/>
                      </a:lnTo>
                      <a:lnTo>
                        <a:pt x="154" y="153"/>
                      </a:lnTo>
                      <a:lnTo>
                        <a:pt x="145" y="159"/>
                      </a:lnTo>
                      <a:lnTo>
                        <a:pt x="134" y="166"/>
                      </a:lnTo>
                      <a:lnTo>
                        <a:pt x="130" y="170"/>
                      </a:lnTo>
                      <a:lnTo>
                        <a:pt x="127" y="177"/>
                      </a:lnTo>
                      <a:lnTo>
                        <a:pt x="129" y="182"/>
                      </a:lnTo>
                      <a:lnTo>
                        <a:pt x="129" y="187"/>
                      </a:lnTo>
                      <a:lnTo>
                        <a:pt x="127" y="191"/>
                      </a:lnTo>
                      <a:lnTo>
                        <a:pt x="125" y="195"/>
                      </a:lnTo>
                      <a:lnTo>
                        <a:pt x="124" y="204"/>
                      </a:lnTo>
                      <a:lnTo>
                        <a:pt x="125" y="215"/>
                      </a:lnTo>
                      <a:lnTo>
                        <a:pt x="127" y="226"/>
                      </a:lnTo>
                      <a:lnTo>
                        <a:pt x="116" y="223"/>
                      </a:lnTo>
                      <a:lnTo>
                        <a:pt x="102" y="218"/>
                      </a:lnTo>
                      <a:lnTo>
                        <a:pt x="84" y="213"/>
                      </a:lnTo>
                      <a:lnTo>
                        <a:pt x="69" y="205"/>
                      </a:lnTo>
                      <a:lnTo>
                        <a:pt x="58" y="198"/>
                      </a:lnTo>
                      <a:lnTo>
                        <a:pt x="49" y="190"/>
                      </a:lnTo>
                      <a:lnTo>
                        <a:pt x="40" y="188"/>
                      </a:lnTo>
                      <a:lnTo>
                        <a:pt x="31" y="184"/>
                      </a:lnTo>
                      <a:lnTo>
                        <a:pt x="24" y="178"/>
                      </a:lnTo>
                      <a:lnTo>
                        <a:pt x="19" y="170"/>
                      </a:lnTo>
                      <a:lnTo>
                        <a:pt x="14" y="162"/>
                      </a:lnTo>
                      <a:lnTo>
                        <a:pt x="11" y="152"/>
                      </a:lnTo>
                      <a:lnTo>
                        <a:pt x="9" y="143"/>
                      </a:lnTo>
                      <a:lnTo>
                        <a:pt x="11" y="135"/>
                      </a:lnTo>
                      <a:lnTo>
                        <a:pt x="5" y="128"/>
                      </a:lnTo>
                      <a:lnTo>
                        <a:pt x="1" y="119"/>
                      </a:lnTo>
                      <a:lnTo>
                        <a:pt x="0" y="110"/>
                      </a:lnTo>
                      <a:lnTo>
                        <a:pt x="2" y="101"/>
                      </a:lnTo>
                      <a:lnTo>
                        <a:pt x="6" y="92"/>
                      </a:lnTo>
                      <a:lnTo>
                        <a:pt x="14" y="77"/>
                      </a:lnTo>
                      <a:lnTo>
                        <a:pt x="25" y="62"/>
                      </a:lnTo>
                      <a:lnTo>
                        <a:pt x="36" y="49"/>
                      </a:lnTo>
                      <a:lnTo>
                        <a:pt x="45" y="38"/>
                      </a:lnTo>
                      <a:lnTo>
                        <a:pt x="53" y="32"/>
                      </a:lnTo>
                      <a:lnTo>
                        <a:pt x="59" y="28"/>
                      </a:lnTo>
                      <a:lnTo>
                        <a:pt x="67" y="24"/>
                      </a:lnTo>
                      <a:lnTo>
                        <a:pt x="75" y="19"/>
                      </a:lnTo>
                      <a:lnTo>
                        <a:pt x="79" y="10"/>
                      </a:lnTo>
                      <a:lnTo>
                        <a:pt x="85" y="5"/>
                      </a:lnTo>
                      <a:lnTo>
                        <a:pt x="92" y="1"/>
                      </a:lnTo>
                      <a:lnTo>
                        <a:pt x="106" y="0"/>
                      </a:lnTo>
                      <a:lnTo>
                        <a:pt x="117" y="1"/>
                      </a:lnTo>
                      <a:lnTo>
                        <a:pt x="126" y="3"/>
                      </a:lnTo>
                      <a:lnTo>
                        <a:pt x="135" y="4"/>
                      </a:lnTo>
                      <a:lnTo>
                        <a:pt x="146" y="5"/>
                      </a:lnTo>
                      <a:lnTo>
                        <a:pt x="157" y="4"/>
                      </a:lnTo>
                      <a:lnTo>
                        <a:pt x="167" y="3"/>
                      </a:lnTo>
                      <a:lnTo>
                        <a:pt x="178" y="1"/>
                      </a:lnTo>
                      <a:lnTo>
                        <a:pt x="187" y="0"/>
                      </a:lnTo>
                      <a:lnTo>
                        <a:pt x="196" y="2"/>
                      </a:lnTo>
                      <a:lnTo>
                        <a:pt x="204" y="4"/>
                      </a:lnTo>
                      <a:lnTo>
                        <a:pt x="212" y="8"/>
                      </a:lnTo>
                      <a:lnTo>
                        <a:pt x="220" y="10"/>
                      </a:lnTo>
                      <a:lnTo>
                        <a:pt x="229" y="12"/>
                      </a:lnTo>
                      <a:lnTo>
                        <a:pt x="234" y="18"/>
                      </a:lnTo>
                      <a:lnTo>
                        <a:pt x="240" y="25"/>
                      </a:lnTo>
                      <a:lnTo>
                        <a:pt x="247" y="31"/>
                      </a:lnTo>
                      <a:lnTo>
                        <a:pt x="258" y="35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193760" y="1270080"/>
                  <a:ext cx="235080" cy="206280"/>
                </a:xfrm>
                <a:custGeom>
                  <a:avLst/>
                  <a:gdLst/>
                  <a:ahLst/>
                  <a:rect l="l" t="t" r="r" b="b"/>
                  <a:pathLst>
                    <a:path w="148" h="130">
                      <a:moveTo>
                        <a:pt x="147" y="56"/>
                      </a:moveTo>
                      <a:lnTo>
                        <a:pt x="138" y="60"/>
                      </a:lnTo>
                      <a:lnTo>
                        <a:pt x="129" y="63"/>
                      </a:lnTo>
                      <a:lnTo>
                        <a:pt x="122" y="68"/>
                      </a:lnTo>
                      <a:lnTo>
                        <a:pt x="114" y="74"/>
                      </a:lnTo>
                      <a:lnTo>
                        <a:pt x="108" y="79"/>
                      </a:lnTo>
                      <a:lnTo>
                        <a:pt x="104" y="84"/>
                      </a:lnTo>
                      <a:lnTo>
                        <a:pt x="99" y="96"/>
                      </a:lnTo>
                      <a:lnTo>
                        <a:pt x="94" y="118"/>
                      </a:lnTo>
                      <a:lnTo>
                        <a:pt x="90" y="111"/>
                      </a:lnTo>
                      <a:lnTo>
                        <a:pt x="90" y="119"/>
                      </a:lnTo>
                      <a:lnTo>
                        <a:pt x="92" y="129"/>
                      </a:lnTo>
                      <a:lnTo>
                        <a:pt x="86" y="125"/>
                      </a:lnTo>
                      <a:lnTo>
                        <a:pt x="83" y="121"/>
                      </a:lnTo>
                      <a:lnTo>
                        <a:pt x="81" y="114"/>
                      </a:lnTo>
                      <a:lnTo>
                        <a:pt x="80" y="106"/>
                      </a:lnTo>
                      <a:lnTo>
                        <a:pt x="77" y="111"/>
                      </a:lnTo>
                      <a:lnTo>
                        <a:pt x="76" y="117"/>
                      </a:lnTo>
                      <a:lnTo>
                        <a:pt x="77" y="121"/>
                      </a:lnTo>
                      <a:lnTo>
                        <a:pt x="73" y="118"/>
                      </a:lnTo>
                      <a:lnTo>
                        <a:pt x="69" y="114"/>
                      </a:lnTo>
                      <a:lnTo>
                        <a:pt x="61" y="116"/>
                      </a:lnTo>
                      <a:lnTo>
                        <a:pt x="63" y="112"/>
                      </a:lnTo>
                      <a:lnTo>
                        <a:pt x="63" y="107"/>
                      </a:lnTo>
                      <a:lnTo>
                        <a:pt x="61" y="102"/>
                      </a:lnTo>
                      <a:lnTo>
                        <a:pt x="57" y="103"/>
                      </a:lnTo>
                      <a:lnTo>
                        <a:pt x="52" y="106"/>
                      </a:lnTo>
                      <a:lnTo>
                        <a:pt x="55" y="101"/>
                      </a:lnTo>
                      <a:lnTo>
                        <a:pt x="56" y="94"/>
                      </a:lnTo>
                      <a:lnTo>
                        <a:pt x="56" y="86"/>
                      </a:lnTo>
                      <a:lnTo>
                        <a:pt x="50" y="89"/>
                      </a:lnTo>
                      <a:lnTo>
                        <a:pt x="43" y="93"/>
                      </a:lnTo>
                      <a:lnTo>
                        <a:pt x="39" y="98"/>
                      </a:lnTo>
                      <a:lnTo>
                        <a:pt x="41" y="106"/>
                      </a:lnTo>
                      <a:lnTo>
                        <a:pt x="35" y="95"/>
                      </a:lnTo>
                      <a:lnTo>
                        <a:pt x="35" y="88"/>
                      </a:lnTo>
                      <a:lnTo>
                        <a:pt x="33" y="76"/>
                      </a:lnTo>
                      <a:lnTo>
                        <a:pt x="39" y="59"/>
                      </a:lnTo>
                      <a:lnTo>
                        <a:pt x="34" y="63"/>
                      </a:lnTo>
                      <a:lnTo>
                        <a:pt x="28" y="68"/>
                      </a:lnTo>
                      <a:lnTo>
                        <a:pt x="25" y="76"/>
                      </a:lnTo>
                      <a:lnTo>
                        <a:pt x="22" y="73"/>
                      </a:lnTo>
                      <a:lnTo>
                        <a:pt x="20" y="69"/>
                      </a:lnTo>
                      <a:lnTo>
                        <a:pt x="19" y="63"/>
                      </a:lnTo>
                      <a:lnTo>
                        <a:pt x="20" y="58"/>
                      </a:lnTo>
                      <a:lnTo>
                        <a:pt x="22" y="50"/>
                      </a:lnTo>
                      <a:lnTo>
                        <a:pt x="25" y="41"/>
                      </a:lnTo>
                      <a:lnTo>
                        <a:pt x="20" y="43"/>
                      </a:lnTo>
                      <a:lnTo>
                        <a:pt x="16" y="48"/>
                      </a:lnTo>
                      <a:lnTo>
                        <a:pt x="14" y="55"/>
                      </a:lnTo>
                      <a:lnTo>
                        <a:pt x="10" y="62"/>
                      </a:lnTo>
                      <a:lnTo>
                        <a:pt x="5" y="65"/>
                      </a:lnTo>
                      <a:lnTo>
                        <a:pt x="0" y="67"/>
                      </a:lnTo>
                      <a:lnTo>
                        <a:pt x="6" y="54"/>
                      </a:lnTo>
                      <a:lnTo>
                        <a:pt x="13" y="43"/>
                      </a:lnTo>
                      <a:lnTo>
                        <a:pt x="25" y="29"/>
                      </a:lnTo>
                      <a:lnTo>
                        <a:pt x="34" y="17"/>
                      </a:lnTo>
                      <a:lnTo>
                        <a:pt x="45" y="7"/>
                      </a:lnTo>
                      <a:lnTo>
                        <a:pt x="56" y="0"/>
                      </a:lnTo>
                      <a:lnTo>
                        <a:pt x="59" y="6"/>
                      </a:lnTo>
                      <a:lnTo>
                        <a:pt x="64" y="10"/>
                      </a:lnTo>
                      <a:lnTo>
                        <a:pt x="54" y="17"/>
                      </a:lnTo>
                      <a:lnTo>
                        <a:pt x="48" y="24"/>
                      </a:lnTo>
                      <a:lnTo>
                        <a:pt x="42" y="32"/>
                      </a:lnTo>
                      <a:lnTo>
                        <a:pt x="38" y="38"/>
                      </a:lnTo>
                      <a:lnTo>
                        <a:pt x="35" y="46"/>
                      </a:lnTo>
                      <a:lnTo>
                        <a:pt x="33" y="53"/>
                      </a:lnTo>
                      <a:lnTo>
                        <a:pt x="38" y="50"/>
                      </a:lnTo>
                      <a:lnTo>
                        <a:pt x="44" y="47"/>
                      </a:lnTo>
                      <a:lnTo>
                        <a:pt x="47" y="52"/>
                      </a:lnTo>
                      <a:lnTo>
                        <a:pt x="53" y="40"/>
                      </a:lnTo>
                      <a:lnTo>
                        <a:pt x="60" y="30"/>
                      </a:lnTo>
                      <a:lnTo>
                        <a:pt x="71" y="17"/>
                      </a:lnTo>
                      <a:lnTo>
                        <a:pt x="81" y="5"/>
                      </a:lnTo>
                      <a:lnTo>
                        <a:pt x="71" y="21"/>
                      </a:lnTo>
                      <a:lnTo>
                        <a:pt x="66" y="32"/>
                      </a:lnTo>
                      <a:lnTo>
                        <a:pt x="60" y="43"/>
                      </a:lnTo>
                      <a:lnTo>
                        <a:pt x="54" y="56"/>
                      </a:lnTo>
                      <a:lnTo>
                        <a:pt x="47" y="73"/>
                      </a:lnTo>
                      <a:lnTo>
                        <a:pt x="53" y="65"/>
                      </a:lnTo>
                      <a:lnTo>
                        <a:pt x="60" y="61"/>
                      </a:lnTo>
                      <a:lnTo>
                        <a:pt x="58" y="68"/>
                      </a:lnTo>
                      <a:lnTo>
                        <a:pt x="60" y="74"/>
                      </a:lnTo>
                      <a:lnTo>
                        <a:pt x="63" y="78"/>
                      </a:lnTo>
                      <a:lnTo>
                        <a:pt x="66" y="63"/>
                      </a:lnTo>
                      <a:lnTo>
                        <a:pt x="69" y="49"/>
                      </a:lnTo>
                      <a:lnTo>
                        <a:pt x="75" y="37"/>
                      </a:lnTo>
                      <a:lnTo>
                        <a:pt x="81" y="26"/>
                      </a:lnTo>
                      <a:lnTo>
                        <a:pt x="88" y="18"/>
                      </a:lnTo>
                      <a:lnTo>
                        <a:pt x="96" y="8"/>
                      </a:lnTo>
                      <a:lnTo>
                        <a:pt x="108" y="0"/>
                      </a:lnTo>
                      <a:lnTo>
                        <a:pt x="100" y="12"/>
                      </a:lnTo>
                      <a:lnTo>
                        <a:pt x="94" y="20"/>
                      </a:lnTo>
                      <a:lnTo>
                        <a:pt x="88" y="29"/>
                      </a:lnTo>
                      <a:lnTo>
                        <a:pt x="81" y="41"/>
                      </a:lnTo>
                      <a:lnTo>
                        <a:pt x="76" y="54"/>
                      </a:lnTo>
                      <a:lnTo>
                        <a:pt x="73" y="70"/>
                      </a:lnTo>
                      <a:lnTo>
                        <a:pt x="71" y="95"/>
                      </a:lnTo>
                      <a:lnTo>
                        <a:pt x="77" y="78"/>
                      </a:lnTo>
                      <a:lnTo>
                        <a:pt x="84" y="56"/>
                      </a:lnTo>
                      <a:lnTo>
                        <a:pt x="83" y="70"/>
                      </a:lnTo>
                      <a:lnTo>
                        <a:pt x="84" y="83"/>
                      </a:lnTo>
                      <a:lnTo>
                        <a:pt x="86" y="92"/>
                      </a:lnTo>
                      <a:lnTo>
                        <a:pt x="88" y="101"/>
                      </a:lnTo>
                      <a:lnTo>
                        <a:pt x="91" y="91"/>
                      </a:lnTo>
                      <a:lnTo>
                        <a:pt x="94" y="83"/>
                      </a:lnTo>
                      <a:lnTo>
                        <a:pt x="98" y="73"/>
                      </a:lnTo>
                      <a:lnTo>
                        <a:pt x="96" y="68"/>
                      </a:lnTo>
                      <a:lnTo>
                        <a:pt x="95" y="62"/>
                      </a:lnTo>
                      <a:lnTo>
                        <a:pt x="96" y="56"/>
                      </a:lnTo>
                      <a:lnTo>
                        <a:pt x="98" y="62"/>
                      </a:lnTo>
                      <a:lnTo>
                        <a:pt x="99" y="66"/>
                      </a:lnTo>
                      <a:lnTo>
                        <a:pt x="103" y="71"/>
                      </a:lnTo>
                      <a:lnTo>
                        <a:pt x="110" y="67"/>
                      </a:lnTo>
                      <a:lnTo>
                        <a:pt x="117" y="62"/>
                      </a:lnTo>
                      <a:lnTo>
                        <a:pt x="124" y="59"/>
                      </a:lnTo>
                      <a:lnTo>
                        <a:pt x="131" y="57"/>
                      </a:lnTo>
                      <a:lnTo>
                        <a:pt x="139" y="55"/>
                      </a:lnTo>
                      <a:lnTo>
                        <a:pt x="147" y="56"/>
                      </a:lnTo>
                    </a:path>
                  </a:pathLst>
                </a:custGeom>
                <a:solidFill>
                  <a:srgbClr val="806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562932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5602320" y="6060960"/>
            <a:ext cx="133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041680" y="1644480"/>
            <a:ext cx="841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174960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1736640" y="6060960"/>
            <a:ext cx="130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7480" y="5737320"/>
            <a:ext cx="1311480" cy="0"/>
          </a:xfrm>
          <a:prstGeom prst="line">
            <a:avLst/>
          </a:prstGeom>
          <a:ln w="2556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4022280" y="5767560"/>
            <a:ext cx="381240" cy="91800"/>
          </a:xfrm>
          <a:prstGeom prst="line">
            <a:avLst/>
          </a:prstGeom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62240" y="5889600"/>
            <a:ext cx="1413000" cy="0"/>
          </a:xfrm>
          <a:prstGeom prst="line">
            <a:avLst/>
          </a:prstGeom>
          <a:ln w="255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6040" y="5403960"/>
            <a:ext cx="5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58640" y="59072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E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38360" y="4095720"/>
            <a:ext cx="730080" cy="487440"/>
            <a:chOff x="738360" y="4095720"/>
            <a:chExt cx="730080" cy="487440"/>
          </a:xfrm>
        </p:grpSpPr>
        <p:sp>
          <p:nvSpPr>
            <p:cNvPr id="980" name=""/>
            <p:cNvSpPr/>
            <p:nvPr/>
          </p:nvSpPr>
          <p:spPr>
            <a:xfrm>
              <a:off x="738360" y="4290840"/>
              <a:ext cx="73008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752400" y="4095720"/>
              <a:ext cx="3351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14560" y="4121280"/>
              <a:ext cx="3474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866880" y="3776760"/>
            <a:ext cx="46044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66880" y="3776760"/>
            <a:ext cx="457200" cy="3492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14400" y="38527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3867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387684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12960" y="3886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12960" y="38941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42840" y="393552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3680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130400" y="3933720"/>
            <a:ext cx="0" cy="2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7360" y="5148360"/>
            <a:ext cx="81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2544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82720" y="3992400"/>
            <a:ext cx="415800" cy="96840"/>
            <a:chOff x="882720" y="3992400"/>
            <a:chExt cx="415800" cy="96840"/>
          </a:xfrm>
        </p:grpSpPr>
        <p:sp>
          <p:nvSpPr>
            <p:cNvPr id="996" name=""/>
            <p:cNvSpPr/>
            <p:nvPr/>
          </p:nvSpPr>
          <p:spPr>
            <a:xfrm>
              <a:off x="88272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7308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6380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6064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60360" y="39924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7400" y="402264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74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77760" y="40435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6668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6352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636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874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77760" y="40654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6668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6352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636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874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77760" y="40892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6352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636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65080" y="3927600"/>
            <a:ext cx="455760" cy="3636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0440" y="3784680"/>
            <a:ext cx="208080" cy="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49320" y="438624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49320" y="443700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49320" y="448776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41560" y="4327920"/>
            <a:ext cx="939240" cy="134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038240" y="3049560"/>
            <a:ext cx="0" cy="6969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744320" y="559908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Deposit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795120" y="6154560"/>
            <a:ext cx="104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Clear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77680" y="6281640"/>
            <a:ext cx="119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Deb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629680" y="6294600"/>
            <a:ext cx="124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Cred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155080" y="1325880"/>
            <a:ext cx="488520" cy="128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40360" y="1741320"/>
            <a:ext cx="2717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88040" y="4422600"/>
            <a:ext cx="1558440" cy="13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63040" y="4084560"/>
            <a:ext cx="1455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Mail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E-Check line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543800" y="2300400"/>
            <a:ext cx="812880" cy="393480"/>
            <a:chOff x="7543800" y="2300400"/>
            <a:chExt cx="812880" cy="393480"/>
          </a:xfrm>
        </p:grpSpPr>
        <p:sp>
          <p:nvSpPr>
            <p:cNvPr id="1033" name=""/>
            <p:cNvSpPr/>
            <p:nvPr/>
          </p:nvSpPr>
          <p:spPr>
            <a:xfrm>
              <a:off x="7543800" y="2311560"/>
              <a:ext cx="812880" cy="3823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05720" y="2300400"/>
              <a:ext cx="687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 &amp;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 Inf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602400" y="177156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“Car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552840" y="2368440"/>
            <a:ext cx="855720" cy="1459080"/>
            <a:chOff x="3552840" y="2368440"/>
            <a:chExt cx="855720" cy="1459080"/>
          </a:xfrm>
        </p:grpSpPr>
        <p:sp>
          <p:nvSpPr>
            <p:cNvPr id="1037" name=""/>
            <p:cNvSpPr/>
            <p:nvPr/>
          </p:nvSpPr>
          <p:spPr>
            <a:xfrm flipH="1">
              <a:off x="3552840" y="2368440"/>
              <a:ext cx="403200" cy="165240"/>
            </a:xfrm>
            <a:prstGeom prst="line">
              <a:avLst/>
            </a:prstGeom>
            <a:ln w="255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95680" y="2955960"/>
              <a:ext cx="812880" cy="8143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6680" y="294336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70280" y="2935440"/>
              <a:ext cx="407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16200" y="342108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05040" y="3586320"/>
              <a:ext cx="79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13320" y="320688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08280" y="33955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95680" y="35863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592440" y="2662200"/>
              <a:ext cx="812880" cy="24120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40040" y="2666880"/>
              <a:ext cx="52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08280" y="3173400"/>
              <a:ext cx="78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7254720" y="3273480"/>
            <a:ext cx="941760" cy="1493640"/>
            <a:chOff x="7254720" y="3273480"/>
            <a:chExt cx="941760" cy="1493640"/>
          </a:xfrm>
        </p:grpSpPr>
        <p:sp>
          <p:nvSpPr>
            <p:cNvPr id="1050" name=""/>
            <p:cNvSpPr/>
            <p:nvPr/>
          </p:nvSpPr>
          <p:spPr>
            <a:xfrm>
              <a:off x="7310520" y="4113360"/>
              <a:ext cx="812880" cy="29196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10520" y="3278160"/>
              <a:ext cx="812880" cy="8222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389720" y="327348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318440" y="3776760"/>
              <a:ext cx="79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31040" y="394164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43640" y="41068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26360" y="353520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08720" y="373860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08720" y="391644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54720" y="4157640"/>
              <a:ext cx="941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or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21680" y="3559320"/>
              <a:ext cx="7952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7308720" y="4378320"/>
              <a:ext cx="817920" cy="351000"/>
              <a:chOff x="7308720" y="4378320"/>
              <a:chExt cx="817920" cy="35100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08720" y="4411800"/>
                <a:ext cx="812880" cy="15228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08720" y="4576680"/>
                <a:ext cx="812880" cy="15264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26360" y="4378320"/>
                <a:ext cx="800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rtific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7321680" y="45259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3565440" y="1515960"/>
            <a:ext cx="94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837400" y="6595920"/>
            <a:ext cx="3298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5 Financial Services Technology Consor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309600" y="6311880"/>
            <a:ext cx="434880" cy="5461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3443400" y="2622600"/>
            <a:ext cx="1139760" cy="1425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24320" y="383076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89920" y="2825640"/>
            <a:ext cx="1071360" cy="217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32680" y="478620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3000" y="2106720"/>
            <a:ext cx="55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7269120" y="2959200"/>
            <a:ext cx="912960" cy="257040"/>
            <a:chOff x="7269120" y="2959200"/>
            <a:chExt cx="912960" cy="257040"/>
          </a:xfrm>
        </p:grpSpPr>
        <p:sp>
          <p:nvSpPr>
            <p:cNvPr id="1075" name=""/>
            <p:cNvSpPr/>
            <p:nvPr/>
          </p:nvSpPr>
          <p:spPr>
            <a:xfrm>
              <a:off x="7319880" y="2959200"/>
              <a:ext cx="812880" cy="25704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69120" y="2962440"/>
              <a:ext cx="912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osit S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7532640" y="3249720"/>
            <a:ext cx="38736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8680" y="4065480"/>
            <a:ext cx="46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vertising on the Web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payments range from $10-$20/thousand “impression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¢ to 2¢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 to support low valu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ransaction processing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party agencies will place ads on small web si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Click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STC Electronic Check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heckbook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CIA, Smart Card, PIN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 and transaction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s: signing and endor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ertificates: authenticate payor, payor bank and bank accou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Online Aggregation Ac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s transfer between accounts at a central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ounts at the centra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id or postpaid consumer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ransaction overhead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server may become a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rrangement with accoun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NetBill, AOL, CyberCoin, Globe 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lobeI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Technology from GC Te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accounting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94240" y="5079960"/>
            <a:ext cx="1447560" cy="8380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35240" y="2876400"/>
            <a:ext cx="11304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197440" y="2948040"/>
            <a:ext cx="1196280" cy="553680"/>
            <a:chOff x="2197440" y="2948040"/>
            <a:chExt cx="1196280" cy="553680"/>
          </a:xfrm>
        </p:grpSpPr>
        <p:sp>
          <p:nvSpPr>
            <p:cNvPr id="1094" name=""/>
            <p:cNvSpPr/>
            <p:nvPr/>
          </p:nvSpPr>
          <p:spPr>
            <a:xfrm>
              <a:off x="2197440" y="294804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93200" y="313848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235240" y="5124600"/>
            <a:ext cx="11304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115000" y="5133960"/>
            <a:ext cx="1361160" cy="541080"/>
            <a:chOff x="2115000" y="5133960"/>
            <a:chExt cx="1361160" cy="541080"/>
          </a:xfrm>
        </p:grpSpPr>
        <p:sp>
          <p:nvSpPr>
            <p:cNvPr id="1098" name=""/>
            <p:cNvSpPr/>
            <p:nvPr/>
          </p:nvSpPr>
          <p:spPr>
            <a:xfrm>
              <a:off x="2115000" y="5133960"/>
              <a:ext cx="136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3352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5388120" y="2876400"/>
            <a:ext cx="122688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420520" y="2928960"/>
            <a:ext cx="1147680" cy="553680"/>
            <a:chOff x="5420520" y="2928960"/>
            <a:chExt cx="1147680" cy="553680"/>
          </a:xfrm>
        </p:grpSpPr>
        <p:sp>
          <p:nvSpPr>
            <p:cNvPr id="1102" name=""/>
            <p:cNvSpPr/>
            <p:nvPr/>
          </p:nvSpPr>
          <p:spPr>
            <a:xfrm>
              <a:off x="5420520" y="2928960"/>
              <a:ext cx="1147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99720" y="311940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5362560" y="5124600"/>
            <a:ext cx="127800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338440" y="5133960"/>
            <a:ext cx="1312200" cy="541080"/>
            <a:chOff x="5338440" y="5133960"/>
            <a:chExt cx="1312200" cy="541080"/>
          </a:xfrm>
        </p:grpSpPr>
        <p:sp>
          <p:nvSpPr>
            <p:cNvPr id="1106" name=""/>
            <p:cNvSpPr/>
            <p:nvPr/>
          </p:nvSpPr>
          <p:spPr>
            <a:xfrm>
              <a:off x="5338440" y="5133960"/>
              <a:ext cx="131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4184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583800" y="58960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Settl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65600" y="4070520"/>
            <a:ext cx="11304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50680" y="4111560"/>
            <a:ext cx="149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290760" y="2997360"/>
            <a:ext cx="2081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16320" y="3240000"/>
            <a:ext cx="1039680" cy="81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3290760" y="3519360"/>
            <a:ext cx="63360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87720" y="3621240"/>
            <a:ext cx="65880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2757600" y="3595680"/>
            <a:ext cx="1014480" cy="9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16320" y="314964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31360" y="266544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83560" y="316548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30520" y="348624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C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57200" y="373068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54280" y="40356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111920" y="30798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062160" y="4611600"/>
            <a:ext cx="709920" cy="50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16320" y="574056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58520" y="5407200"/>
            <a:ext cx="167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tch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02240" y="4492800"/>
            <a:ext cx="100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597000" y="3543480"/>
            <a:ext cx="248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2 Pay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4 Confi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llenge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,6  Payment Proof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5562720" y="1647720"/>
            <a:ext cx="3289320" cy="7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88440" y="14587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Bill maintains accounts for both consumers and merch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transactions clear through online accou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 accounts through credit cards or electronic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 trans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s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repu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trong crypt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for Flexible Pricing, Access Contr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lic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p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mated support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Client Requests a Price Quo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Service Provider Makes an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Client Accepts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Goods delivered encryp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Receipt acknowled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Transaction submit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 Transaction appr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Key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755640" y="1763640"/>
            <a:ext cx="3689280" cy="3862440"/>
            <a:chOff x="755640" y="1763640"/>
            <a:chExt cx="3689280" cy="3862440"/>
          </a:xfrm>
        </p:grpSpPr>
        <p:sp>
          <p:nvSpPr>
            <p:cNvPr id="1138" name=""/>
            <p:cNvSpPr/>
            <p:nvPr/>
          </p:nvSpPr>
          <p:spPr>
            <a:xfrm>
              <a:off x="231768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2080" y="1917720"/>
              <a:ext cx="1212840" cy="1860480"/>
            </a:xfrm>
            <a:custGeom>
              <a:avLst/>
              <a:gdLst>
                <a:gd name="textAreaLeft" fmla="*/ 44280 w 1212840"/>
                <a:gd name="textAreaRight" fmla="*/ 1168560 w 1212840"/>
                <a:gd name="textAreaTop" fmla="*/ 44280 h 1860480"/>
                <a:gd name="textAreaBottom" fmla="*/ 1816200 h 1860480"/>
              </a:gdLst>
              <a:ahLst/>
              <a:rect l="textAreaLeft" t="textAreaTop" r="textAreaRight" b="textAreaBottom"/>
              <a:pathLst>
                <a:path w="21600" h="33131">
                  <a:moveTo>
                    <a:pt x="2697" y="0"/>
                  </a:moveTo>
                  <a:arcTo wR="2697" hR="2697" stAng="16200000" swAng="-5400000"/>
                  <a:lnTo>
                    <a:pt x="0" y="30434"/>
                  </a:lnTo>
                  <a:arcTo wR="2697" hR="2697" stAng="10800000" swAng="-5400000"/>
                  <a:lnTo>
                    <a:pt x="18903" y="33131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5640" y="1974960"/>
              <a:ext cx="1041480" cy="1917720"/>
            </a:xfrm>
            <a:custGeom>
              <a:avLst/>
              <a:gdLst>
                <a:gd name="textAreaLeft" fmla="*/ 37800 w 1041480"/>
                <a:gd name="textAreaRight" fmla="*/ 1003680 w 1041480"/>
                <a:gd name="textAreaTop" fmla="*/ 37800 h 1917720"/>
                <a:gd name="textAreaBottom" fmla="*/ 1879920 h 1917720"/>
              </a:gdLst>
              <a:ahLst/>
              <a:rect l="textAreaLeft" t="textAreaTop" r="textAreaRight" b="textAreaBottom"/>
              <a:pathLst>
                <a:path w="21600" h="39767">
                  <a:moveTo>
                    <a:pt x="2697" y="0"/>
                  </a:moveTo>
                  <a:arcTo wR="2697" hR="2697" stAng="16200000" swAng="-5400000"/>
                  <a:lnTo>
                    <a:pt x="0" y="37070"/>
                  </a:lnTo>
                  <a:arcTo wR="2697" hR="2697" stAng="10800000" swAng="-5400000"/>
                  <a:lnTo>
                    <a:pt x="18903" y="397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5560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828440" y="2692440"/>
              <a:ext cx="1335600" cy="103320"/>
              <a:chOff x="1828440" y="2692440"/>
              <a:chExt cx="1335600" cy="103320"/>
            </a:xfrm>
          </p:grpSpPr>
          <p:sp>
            <p:nvSpPr>
              <p:cNvPr id="1143" name=""/>
              <p:cNvSpPr/>
              <p:nvPr/>
            </p:nvSpPr>
            <p:spPr>
              <a:xfrm>
                <a:off x="2982960" y="269244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1828440" y="275112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854360" y="2827440"/>
              <a:ext cx="1346040" cy="102960"/>
              <a:chOff x="1854360" y="2827440"/>
              <a:chExt cx="1346040" cy="102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1854360" y="2827440"/>
                <a:ext cx="168120" cy="10296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048040" y="288756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2017440" y="24256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7332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0964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20680" y="31194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07560" y="2652840"/>
              <a:ext cx="77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00480" y="2470320"/>
              <a:ext cx="1095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985840" y="4925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3906720" y="3796920"/>
              <a:ext cx="77760" cy="1013040"/>
              <a:chOff x="3906720" y="3796920"/>
              <a:chExt cx="77760" cy="1013040"/>
            </a:xfrm>
          </p:grpSpPr>
          <p:sp>
            <p:nvSpPr>
              <p:cNvPr id="1156" name=""/>
              <p:cNvSpPr/>
              <p:nvPr/>
            </p:nvSpPr>
            <p:spPr>
              <a:xfrm>
                <a:off x="3906720" y="458964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49" h="139">
                    <a:moveTo>
                      <a:pt x="27" y="138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48" y="0"/>
                    </a:lnTo>
                    <a:lnTo>
                      <a:pt x="27" y="1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970440" y="3796920"/>
                <a:ext cx="0" cy="80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843200" y="3386160"/>
              <a:ext cx="1333440" cy="103320"/>
              <a:chOff x="1843200" y="3386160"/>
              <a:chExt cx="1333440" cy="103320"/>
            </a:xfrm>
          </p:grpSpPr>
          <p:sp>
            <p:nvSpPr>
              <p:cNvPr id="1159" name=""/>
              <p:cNvSpPr/>
              <p:nvPr/>
            </p:nvSpPr>
            <p:spPr>
              <a:xfrm>
                <a:off x="2995560" y="338616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1843200" y="3446640"/>
                <a:ext cx="11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470400" y="3741840"/>
              <a:ext cx="79200" cy="1003320"/>
              <a:chOff x="3470400" y="3741840"/>
              <a:chExt cx="79200" cy="1003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3470400" y="3741840"/>
                <a:ext cx="79200" cy="22212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28" y="0"/>
                    </a:moveTo>
                    <a:lnTo>
                      <a:pt x="49" y="139"/>
                    </a:lnTo>
                    <a:lnTo>
                      <a:pt x="28" y="139"/>
                    </a:lnTo>
                    <a:lnTo>
                      <a:pt x="0" y="139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533760" y="3994200"/>
                <a:ext cx="144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1854360" y="3538440"/>
              <a:ext cx="1346040" cy="103320"/>
              <a:chOff x="1854360" y="3538440"/>
              <a:chExt cx="1346040" cy="103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1854360" y="353844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48040" y="359892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239832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1828440" y="2082960"/>
              <a:ext cx="1335600" cy="102960"/>
              <a:chOff x="1828440" y="2082960"/>
              <a:chExt cx="1335600" cy="102960"/>
            </a:xfrm>
          </p:grpSpPr>
          <p:sp>
            <p:nvSpPr>
              <p:cNvPr id="1169" name=""/>
              <p:cNvSpPr/>
              <p:nvPr/>
            </p:nvSpPr>
            <p:spPr>
              <a:xfrm>
                <a:off x="2982960" y="2082960"/>
                <a:ext cx="181080" cy="1029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828440" y="214164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854360" y="2217600"/>
              <a:ext cx="1346040" cy="103320"/>
              <a:chOff x="1854360" y="2217600"/>
              <a:chExt cx="1346040" cy="103320"/>
            </a:xfrm>
          </p:grpSpPr>
          <p:sp>
            <p:nvSpPr>
              <p:cNvPr id="1172" name=""/>
              <p:cNvSpPr/>
              <p:nvPr/>
            </p:nvSpPr>
            <p:spPr>
              <a:xfrm>
                <a:off x="1854360" y="221760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048040" y="227808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262728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7796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trong Service Guarante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:  money cannot be lost or created due to machine or network fail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cash coins can be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: Customer is guaranteed to be charged if and only if information goods are delivered successful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ertified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an prove what the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can prove what the merchan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iva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may elect to use pseudonyms  to remain anonymous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offer incentives for consumers to disclose useful demo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must know the identity of the parties and the amount of the transaction, but not necessarily what goods were orde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records are kept to detect fraud and resolv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Archite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To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cli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ser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ment clearing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Centr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ount administr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 si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es private ke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ential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 discou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Central - www.netbill.co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 creation and up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perwork, immediate error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al in 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-lin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iling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ocumentation, frequently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WW customer servi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 button on each web p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ransaction data in cal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replication of complaints about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work for consu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may easily grant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kinds of mon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money:  tokens which represent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 can be exchanged f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tional money:  ledger entries in Demand Deposit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is transferred between accounts upon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 a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ing required if accounts are at different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may have negative bal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edit card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2546280" y="4070520"/>
            <a:ext cx="2127240" cy="869760"/>
          </a:xfrm>
          <a:prstGeom prst="roundRect">
            <a:avLst>
              <a:gd name="adj" fmla="val 12495"/>
            </a:avLst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60680" y="1231920"/>
            <a:ext cx="1212840" cy="1860480"/>
          </a:xfrm>
          <a:custGeom>
            <a:avLst/>
            <a:gdLst>
              <a:gd name="textAreaLeft" fmla="*/ 44280 w 1212840"/>
              <a:gd name="textAreaRight" fmla="*/ 1168560 w 1212840"/>
              <a:gd name="textAreaTop" fmla="*/ 44280 h 1860480"/>
              <a:gd name="textAreaBottom" fmla="*/ 1816200 h 1860480"/>
            </a:gdLst>
            <a:ahLst/>
            <a:rect l="textAreaLeft" t="textAreaTop" r="textAreaRight" b="textAreaBottom"/>
            <a:pathLst>
              <a:path w="21600" h="33131">
                <a:moveTo>
                  <a:pt x="2699" y="0"/>
                </a:moveTo>
                <a:arcTo wR="2699" hR="2699" stAng="16200000" swAng="-5400000"/>
                <a:lnTo>
                  <a:pt x="0" y="30432"/>
                </a:lnTo>
                <a:arcTo wR="2699" hR="2699" stAng="10800000" swAng="-5400000"/>
                <a:lnTo>
                  <a:pt x="18901" y="3313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84240" y="1289160"/>
            <a:ext cx="1041480" cy="1917720"/>
          </a:xfrm>
          <a:custGeom>
            <a:avLst/>
            <a:gdLst>
              <a:gd name="textAreaLeft" fmla="*/ 37800 w 1041480"/>
              <a:gd name="textAreaRight" fmla="*/ 1003680 w 1041480"/>
              <a:gd name="textAreaTop" fmla="*/ 37800 h 1917720"/>
              <a:gd name="textAreaBottom" fmla="*/ 1879920 h 1917720"/>
            </a:gdLst>
            <a:ahLst/>
            <a:rect l="textAreaLeft" t="textAreaTop" r="textAreaRight" b="textAreaBottom"/>
            <a:pathLst>
              <a:path w="21600" h="39767">
                <a:moveTo>
                  <a:pt x="2699" y="0"/>
                </a:moveTo>
                <a:arcTo wR="2699" hR="2699" stAng="16200000" swAng="-5400000"/>
                <a:lnTo>
                  <a:pt x="0" y="37068"/>
                </a:lnTo>
                <a:arcTo wR="2699" hR="2699" stAng="10800000" swAng="-5400000"/>
                <a:lnTo>
                  <a:pt x="18901" y="3976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Pha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  Price negot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4  Goods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8 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sion of price negotiation phase permits flexible pric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“subscription” means the price i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skip steps 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90320" y="108432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061720" y="2006640"/>
            <a:ext cx="1330920" cy="103320"/>
            <a:chOff x="2061720" y="2006640"/>
            <a:chExt cx="1330920" cy="103320"/>
          </a:xfrm>
        </p:grpSpPr>
        <p:sp>
          <p:nvSpPr>
            <p:cNvPr id="1195" name=""/>
            <p:cNvSpPr/>
            <p:nvPr/>
          </p:nvSpPr>
          <p:spPr>
            <a:xfrm>
              <a:off x="3211560" y="200664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2061720" y="206532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082960" y="2141640"/>
            <a:ext cx="1352520" cy="102960"/>
            <a:chOff x="2082960" y="2141640"/>
            <a:chExt cx="1352520" cy="102960"/>
          </a:xfrm>
        </p:grpSpPr>
        <p:sp>
          <p:nvSpPr>
            <p:cNvPr id="1198" name=""/>
            <p:cNvSpPr/>
            <p:nvPr/>
          </p:nvSpPr>
          <p:spPr>
            <a:xfrm>
              <a:off x="2082960" y="2141640"/>
              <a:ext cx="168120" cy="10296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360" y="220176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2252160" y="17463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0804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844360" y="224964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255400" y="24400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142640" y="1973160"/>
            <a:ext cx="77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35200" y="1790640"/>
            <a:ext cx="1095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220920" y="4246560"/>
            <a:ext cx="1222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135320" y="3117960"/>
            <a:ext cx="77760" cy="1006200"/>
            <a:chOff x="4135320" y="3117960"/>
            <a:chExt cx="77760" cy="1006200"/>
          </a:xfrm>
        </p:grpSpPr>
        <p:sp>
          <p:nvSpPr>
            <p:cNvPr id="1208" name=""/>
            <p:cNvSpPr/>
            <p:nvPr/>
          </p:nvSpPr>
          <p:spPr>
            <a:xfrm>
              <a:off x="4135320" y="39038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27" y="138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8" y="0"/>
                  </a:lnTo>
                  <a:lnTo>
                    <a:pt x="27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99040" y="3117960"/>
              <a:ext cx="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076480" y="2700360"/>
            <a:ext cx="1328760" cy="103320"/>
            <a:chOff x="2076480" y="2700360"/>
            <a:chExt cx="1328760" cy="103320"/>
          </a:xfrm>
        </p:grpSpPr>
        <p:sp>
          <p:nvSpPr>
            <p:cNvPr id="1211" name=""/>
            <p:cNvSpPr/>
            <p:nvPr/>
          </p:nvSpPr>
          <p:spPr>
            <a:xfrm>
              <a:off x="3224160" y="270036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76480" y="2760840"/>
              <a:ext cx="11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699000" y="3056040"/>
            <a:ext cx="79200" cy="1009440"/>
            <a:chOff x="3699000" y="3056040"/>
            <a:chExt cx="79200" cy="1009440"/>
          </a:xfrm>
        </p:grpSpPr>
        <p:sp>
          <p:nvSpPr>
            <p:cNvPr id="1214" name=""/>
            <p:cNvSpPr/>
            <p:nvPr/>
          </p:nvSpPr>
          <p:spPr>
            <a:xfrm>
              <a:off x="3699000" y="3056040"/>
              <a:ext cx="79200" cy="22212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28" y="0"/>
                  </a:moveTo>
                  <a:lnTo>
                    <a:pt x="49" y="139"/>
                  </a:lnTo>
                  <a:lnTo>
                    <a:pt x="28" y="139"/>
                  </a:lnTo>
                  <a:lnTo>
                    <a:pt x="0" y="139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2360" y="3300480"/>
              <a:ext cx="144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082960" y="2852640"/>
            <a:ext cx="1352520" cy="103320"/>
            <a:chOff x="2082960" y="2852640"/>
            <a:chExt cx="1352520" cy="103320"/>
          </a:xfrm>
        </p:grpSpPr>
        <p:sp>
          <p:nvSpPr>
            <p:cNvPr id="1217" name=""/>
            <p:cNvSpPr/>
            <p:nvPr/>
          </p:nvSpPr>
          <p:spPr>
            <a:xfrm>
              <a:off x="2082960" y="285264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68360" y="291312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33400" y="29955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2061720" y="1397160"/>
            <a:ext cx="1330920" cy="102960"/>
            <a:chOff x="2061720" y="1397160"/>
            <a:chExt cx="1330920" cy="102960"/>
          </a:xfrm>
        </p:grpSpPr>
        <p:sp>
          <p:nvSpPr>
            <p:cNvPr id="1221" name=""/>
            <p:cNvSpPr/>
            <p:nvPr/>
          </p:nvSpPr>
          <p:spPr>
            <a:xfrm>
              <a:off x="3211560" y="1397160"/>
              <a:ext cx="181080" cy="10296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061720" y="145584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082960" y="1531800"/>
            <a:ext cx="1352520" cy="103320"/>
            <a:chOff x="2082960" y="1531800"/>
            <a:chExt cx="1352520" cy="103320"/>
          </a:xfrm>
        </p:grpSpPr>
        <p:sp>
          <p:nvSpPr>
            <p:cNvPr id="1224" name=""/>
            <p:cNvSpPr/>
            <p:nvPr/>
          </p:nvSpPr>
          <p:spPr>
            <a:xfrm>
              <a:off x="2082960" y="153180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68360" y="159228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862360" y="1620720"/>
            <a:ext cx="58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1268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lexible Pricing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 Po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hoice of pay per use or subscrip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 in subscriptio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to zero for remainder of subscrip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olume Disc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by discount perce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oss sell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ing an article from IEEE Transactions entitles user to one hour free subscription to IEEE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 of running goods access CGI for Transaction article is to record subscription to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a sub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 info is logged at SMS datab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23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8050680" y="65070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690080" y="4398840"/>
            <a:ext cx="2240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 a 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 flipV="1">
            <a:off x="7093080" y="4063680"/>
            <a:ext cx="311040" cy="156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147440" y="4379760"/>
            <a:ext cx="15804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 flipV="1">
            <a:off x="2368440" y="3701880"/>
            <a:ext cx="4445280" cy="219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81560" y="527544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38960" y="50277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wo Methods to Support Subscrip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ing module does lookup of user in subscription database on each goods requ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ser is a subscriber, quoted pri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lient obtains and caches a “token” (cookie, credential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presented with each request for price qu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identifies holder as 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an be calculated without databas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supports both metho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requests token from S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presents token when requesting goods to show she is a subscri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s expire and must be (invisibly) refreshe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software remembers which mercha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pt tokens and where to get th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42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60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91160" y="4398840"/>
            <a:ext cx="169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19800" y="2494080"/>
            <a:ext cx="1082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10160" y="52941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ite Licenses and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Dis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ed using same technology (“Credentials”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ential server operated by unrelated entity (e.g. CMU for goods supplied from UMD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612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6716880" y="3236760"/>
            <a:ext cx="2320560" cy="806760"/>
            <a:chOff x="6716880" y="3236760"/>
            <a:chExt cx="2320560" cy="806760"/>
          </a:xfrm>
        </p:grpSpPr>
        <p:pic>
          <p:nvPicPr>
            <p:cNvPr id="1787" name="" descr=""/>
            <p:cNvPicPr/>
            <p:nvPr/>
          </p:nvPicPr>
          <p:blipFill>
            <a:blip r:embed="rId2"/>
            <a:stretch/>
          </p:blipFill>
          <p:spPr>
            <a:xfrm>
              <a:off x="6716880" y="3325680"/>
              <a:ext cx="92052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7738920" y="3236760"/>
              <a:ext cx="12985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691520" y="4398840"/>
            <a:ext cx="219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519440" y="2494080"/>
            <a:ext cx="1298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ential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 at UMDL provides digital library content to CMU via site lice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U maintains credential database of who is a student entitled to library content under site 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arranges discount for its members when buying IEEE publications from Stanford digital libr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maintains credential database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mized protocol for zero priced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 licensed)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interaction with NetBill server:  8 steps ==&gt; 6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illing to give up certified delivery ==&gt; 2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Key Innova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of 10 reduction in transaction cos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low priced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ty and credentials in price negoti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ity and certified delive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security and privacy prote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lined consumer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credential author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lability and surviv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standa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to supply clients, servers and transac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essons Learne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versus micro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let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State versus machine port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ling goods versus selling ke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s versus Micro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information providers on the net are selling content via subscrip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budget 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intensive information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impact on producer 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require overhead of per item pay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authenticate consumer as subscription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ential for password 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igible latenc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can be sold using macropayment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dit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inancial Transaction System-Cost Stru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1280" y="1206360"/>
            <a:ext cx="61088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etting Wallets to Consumer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e exception of entering Credit Card number via SSL, payment systems require consumer to have “wallet”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resistance to downloading a wallet at point of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let bundled with brow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beginning to bundle wallet framework with browser (O/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ably requires more standardization before browser vendors will inv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 API in O/S, JVM or browser permits lightweight browser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 marketing efforts (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encourages point and click metaph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URL, retur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 requires extra steps.  How to simplif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ing web page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/wallet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streamed cont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wide variety of content imaging plug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:  Approach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multiple browsers on multiple plat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yglass Software Developer’s Interfa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depre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per A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ber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Prox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Bill, GlobeID, Milli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 Insta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ing the wal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ency iss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 Management and Multiple Machin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commerce protocol assumes consumer has a private key.  Where is this key sto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s when consumer uses multiple machin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, home,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iosk, University computer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, Mac,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card entered via SSL requires no local state, only a standard brow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off of local state, efficiency and secu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oblematic Solutions to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ocal State Probl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rt c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ime before ubiquitous readers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able credentials stored on flopp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less laptops, P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latform fil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account on each mach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access sub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Approach to Portabil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2000"/>
          </a:bodyPr>
          <a:p>
            <a:pPr marL="233640" indent="-233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bmits private key, encrypted (“locked”) by a key derived from passphrase, to NetBill central key res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Bill cannot decrypt locked private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tivate wallet, consumer types UserID and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ID used to request locked private key from Key R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te key unlocked on local machine using passphr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option in PK-INIT for Kerbero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can be strengthened against dictionary attacks by deriving two orthogonal symmetric keys from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key stored at NetBill and used to prove possession of passphrase before locked private key is down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 strong as consumer’s passphras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ditional Portability Step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ACAP for storing configuration/preferences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requires consumer to specify ACAP server at session ini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to specifying key reposi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ces can be stored encrypted under private key or passphrase for local de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age of purchased inform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lling Digital Goods versus Selling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9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assumes goods are stored at server and encypted on the fly for the purpose of secure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key for each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are up-to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Market, InterTrust, have proposed free distribution of goods in encrypted containers (“cryptolopes”). Consumer than purchases key to access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distribution completely separate from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distribution, CD-ROM dis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 acces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keys to get 300dpi JPEG versus 1200d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could become s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hen to Authenticate Consumer?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uses unique authentication for payment on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uses authentication for price setting as well as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zon.com uses authentication for marketing and after sales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uthentication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onfidence level needed for different 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ertificate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ubscribed digital goods, subscription identity need not be same as payment ident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pay for WSJ with MC or V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seudony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ational expense of multiple authentications/ cryptographic ope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versus non-repudiation (digital signatur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quotes versus non-repudiable qu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2680" y="21564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 Cos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5560" y="1261800"/>
            <a:ext cx="8115480" cy="484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1000"/>
          </a:bodyPr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spute resolution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delivery (Internet is unrel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 re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sses due to overdrawn debit (credit) account vs costs of real time ver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rd keep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cation and process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yptographic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cy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sts of availabilit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time versus deferrable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2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ssues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 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a transaction fina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course is available if goods are faulty or not delive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available to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received from consu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custo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banks to each oth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92280" y="3892680"/>
            <a:ext cx="7912080" cy="23493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568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996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5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:  Credit Card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228240" y="1552320"/>
            <a:ext cx="891396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&lt;==C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consumer to pay credit card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trusts bank to stop payment if merchandise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&lt;==&gt; Merchant’s acquirer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bank will pay on properly authoriz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 trusts merchant will not submit phony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’s Bank &lt;==&gt;Card Association&lt;==&gt;Merchant’s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Consumer’s bank to se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merchant’s bank to make good merchant’s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5000"/>
          </a:bodyPr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Ca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customer’s bank a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contingent on funds from consumer’s b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contingent on fund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makes no guarantees to customer’s bank of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will vouch for identi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ertificate author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liability will be accepted by various par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ed by national regulatory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US, financial institutions must take li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doesn’t worry about losing credit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consumer worry about losing private ke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riva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keep records of electronic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of transaction to observers (message 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ty of participants (pseudonyms, anonymous tok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s of money laundering, illicit money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bility to hold parties accou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ransaction costs:  key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st $.05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cost $25.01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rate is 0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ception cos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transaction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, accuracy are crit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mplaint handling tools are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yptography:  Basic Concep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metric cryptography:  encryption and decryption use the same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Encryption Standard (DES) uses 64 bit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ymmetric or “Public Key” cryptography:  different keys used for encryption and decry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pular algorithm is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 Digest:  fixed length function of a message for which it is computationally difficult to find another message that produces the same outpu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D =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algorithms are MD5 (16 bytes) and Secure Hash Algorithm (SHA), 2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1878120"/>
            <a:ext cx="203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, B, creates two keys S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are mathematically rela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s made widely avail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’s private ke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divulged to any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end a private message from A ==&gt; B, A encrypts it with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E(M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the recipient B has the private key which can decrypt the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D(C, 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0:11:48Z</dcterms:created>
  <dc:creator>Marvin Sirbu</dc:creator>
  <dc:description/>
  <dc:language>en-US</dc:language>
  <cp:lastModifiedBy>Marvin Sirbu</cp:lastModifiedBy>
  <cp:lastPrinted>1998-04-23T14:33:04Z</cp:lastPrinted>
  <dcterms:modified xsi:type="dcterms:W3CDTF">2000-03-16T04:31:31Z</dcterms:modified>
  <cp:revision>9</cp:revision>
  <dc:subject/>
  <dc:title>CyberPayments '97</dc:title>
</cp:coreProperties>
</file>