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A0FEC9-37A1-4CA0-AE83-AAA1091533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8B3D98-342A-45D6-9E02-EF3AFEB0BC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4D91A6-E0F0-47B7-AB13-059BABFE43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13CA4D-E225-458E-B149-5ABD89C34D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937E5B-E7E9-4BB3-A937-F70FB0D3D7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risig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yptographic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5257800"/>
          <a:ext cx="27414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57800"/>
                    <a:ext cx="2741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-Key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wants to send Bob a secure messag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uses Bob’s public key to en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uses his private key to de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is the ONLY ONE who can do thi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 is sec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Anyone could have sent it.  Was it really Al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4952880"/>
            <a:ext cx="91440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1904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47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79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0640" y="4952880"/>
            <a:ext cx="93816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1800" y="5028480"/>
            <a:ext cx="898560" cy="731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50292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360" y="525744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 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5410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32040" y="4020480"/>
            <a:ext cx="1974240" cy="493560"/>
          </a:xfrm>
          <a:prstGeom prst="wedgeRoundRectCallout">
            <a:avLst>
              <a:gd name="adj1" fmla="val -22564"/>
              <a:gd name="adj2" fmla="val 2290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 DE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 PRIVATE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83720" y="4096440"/>
            <a:ext cx="2102400" cy="493560"/>
          </a:xfrm>
          <a:prstGeom prst="wedgeRoundRectCallout">
            <a:avLst>
              <a:gd name="adj1" fmla="val -31476"/>
              <a:gd name="adj2" fmla="val 21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EN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’S PUBLIC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6560" y="35146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38440" y="3728160"/>
            <a:ext cx="1074960" cy="731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8080" y="3732840"/>
            <a:ext cx="1074600" cy="73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70280" y="3884760"/>
            <a:ext cx="66816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1240" y="3859200"/>
            <a:ext cx="66672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Authent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wants to send Bob a message M so that Bob is sure Alice is the s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uses her own private key to en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uses Alice’s public key to decrypt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is the ONLY ONE who could have sen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1: Anyone can read it!        Problem 2: Replay atta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952880"/>
            <a:ext cx="91440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1904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47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796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240" y="4952880"/>
            <a:ext cx="95256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3680" y="5028480"/>
            <a:ext cx="887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02920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0360" y="5257440"/>
            <a:ext cx="159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 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54100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2040" y="4020480"/>
            <a:ext cx="1974240" cy="493560"/>
          </a:xfrm>
          <a:prstGeom prst="wedgeRoundRectCallout">
            <a:avLst>
              <a:gd name="adj1" fmla="val -22564"/>
              <a:gd name="adj2" fmla="val 229004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B DE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’S PUBLIC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83720" y="4096440"/>
            <a:ext cx="2102400" cy="493560"/>
          </a:xfrm>
          <a:prstGeom prst="wedgeRoundRectCallout">
            <a:avLst>
              <a:gd name="adj1" fmla="val -31476"/>
              <a:gd name="adj2" fmla="val 212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ENCRYPT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 PRIVATE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0320" y="3839040"/>
            <a:ext cx="956160" cy="731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09160" y="3845520"/>
            <a:ext cx="887760" cy="731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70280" y="3946320"/>
            <a:ext cx="8539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03760" y="3959280"/>
            <a:ext cx="73044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e Signed Mess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400" y="92376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must send Bob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r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M so Bob is sure is was sent by Alice.  U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cryption and sig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200" y="2228040"/>
            <a:ext cx="8157960" cy="3785400"/>
            <a:chOff x="457200" y="2228040"/>
            <a:chExt cx="8157960" cy="3785400"/>
          </a:xfrm>
        </p:grpSpPr>
        <p:grpSp>
          <p:nvGrpSpPr>
            <p:cNvPr id="182" name=""/>
            <p:cNvGrpSpPr/>
            <p:nvPr/>
          </p:nvGrpSpPr>
          <p:grpSpPr>
            <a:xfrm>
              <a:off x="3180600" y="3046320"/>
              <a:ext cx="915120" cy="914400"/>
              <a:chOff x="3180600" y="3046320"/>
              <a:chExt cx="915120" cy="914400"/>
            </a:xfrm>
          </p:grpSpPr>
          <p:sp>
            <p:nvSpPr>
              <p:cNvPr id="183" name=""/>
              <p:cNvSpPr/>
              <p:nvPr/>
            </p:nvSpPr>
            <p:spPr>
              <a:xfrm>
                <a:off x="3181320" y="3046320"/>
                <a:ext cx="914400" cy="91440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80600" y="3121920"/>
                <a:ext cx="887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286160" y="4987800"/>
              <a:ext cx="1793880" cy="10256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59160" y="5006160"/>
              <a:ext cx="18126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ICE’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UTHENTICA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901800" y="3035160"/>
              <a:ext cx="952560" cy="914400"/>
              <a:chOff x="901800" y="3035160"/>
              <a:chExt cx="952560" cy="914400"/>
            </a:xfrm>
          </p:grpSpPr>
          <p:sp>
            <p:nvSpPr>
              <p:cNvPr id="188" name=""/>
              <p:cNvSpPr/>
              <p:nvPr/>
            </p:nvSpPr>
            <p:spPr>
              <a:xfrm>
                <a:off x="901800" y="3035160"/>
                <a:ext cx="952560" cy="9144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39240" y="3110760"/>
                <a:ext cx="887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EAR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878120" y="3529080"/>
              <a:ext cx="13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155560" y="4226760"/>
              <a:ext cx="1974240" cy="493560"/>
            </a:xfrm>
            <a:prstGeom prst="wedgeRoundRectCallout">
              <a:avLst>
                <a:gd name="adj1" fmla="val -23824"/>
                <a:gd name="adj2" fmla="val 198467"/>
                <a:gd name="adj3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 DE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444480" y="2228040"/>
              <a:ext cx="2102400" cy="493560"/>
            </a:xfrm>
            <a:prstGeom prst="wedgeRoundRectCallout">
              <a:avLst>
                <a:gd name="adj1" fmla="val -31476"/>
                <a:gd name="adj2" fmla="val 212314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 EN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R 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61480" y="2243880"/>
              <a:ext cx="2102400" cy="493560"/>
            </a:xfrm>
            <a:prstGeom prst="wedgeRoundRectCallout">
              <a:avLst>
                <a:gd name="adj1" fmla="val -31476"/>
                <a:gd name="adj2" fmla="val 21224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 EN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UBLIC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0120" y="3521160"/>
              <a:ext cx="159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679000" y="3038400"/>
              <a:ext cx="1372320" cy="914400"/>
              <a:chOff x="5679000" y="3038400"/>
              <a:chExt cx="1372320" cy="914400"/>
            </a:xfrm>
          </p:grpSpPr>
          <p:sp>
            <p:nvSpPr>
              <p:cNvPr id="196" name=""/>
              <p:cNvSpPr/>
              <p:nvPr/>
            </p:nvSpPr>
            <p:spPr>
              <a:xfrm>
                <a:off x="5695920" y="3038400"/>
                <a:ext cx="1349280" cy="91440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79000" y="3125160"/>
                <a:ext cx="1372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GNED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242840" y="4811760"/>
              <a:ext cx="1372320" cy="914400"/>
              <a:chOff x="7242840" y="4811760"/>
              <a:chExt cx="137232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7259760" y="4811760"/>
                <a:ext cx="1349280" cy="914400"/>
              </a:xfrm>
              <a:prstGeom prst="rect">
                <a:avLst/>
              </a:prstGeom>
              <a:solidFill>
                <a:srgbClr val="ff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42840" y="4898520"/>
                <a:ext cx="13723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DED AND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IGNED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rot="5400000">
              <a:off x="6993720" y="3356640"/>
              <a:ext cx="1485720" cy="136368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31" stAng="10800000" swAng="5400000"/>
                  <a:lnTo>
                    <a:pt x="15766" y="3429"/>
                  </a:lnTo>
                  <a:lnTo>
                    <a:pt x="15766" y="0"/>
                  </a:lnTo>
                  <a:lnTo>
                    <a:pt x="21600" y="6079"/>
                  </a:lnTo>
                  <a:lnTo>
                    <a:pt x="15766" y="12158"/>
                  </a:lnTo>
                  <a:lnTo>
                    <a:pt x="15766" y="8729"/>
                  </a:lnTo>
                  <a:lnTo>
                    <a:pt x="12427" y="8729"/>
                  </a:lnTo>
                  <a:arcTo wR="7127" hR="3431" stAng="16200000" swAng="-5400000"/>
                  <a:lnTo>
                    <a:pt x="5300" y="21600"/>
                  </a:lnTo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7680" y="331272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0800" y="3314520"/>
              <a:ext cx="312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6160" y="33318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3720" y="34272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33960" y="362232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59160" y="3844440"/>
              <a:ext cx="333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6040" y="4078080"/>
              <a:ext cx="235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13160" y="4352400"/>
              <a:ext cx="293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57200" y="4995720"/>
              <a:ext cx="1774440" cy="998280"/>
              <a:chOff x="457200" y="4995720"/>
              <a:chExt cx="1774440" cy="998280"/>
            </a:xfrm>
          </p:grpSpPr>
          <p:sp>
            <p:nvSpPr>
              <p:cNvPr id="211" name=""/>
              <p:cNvSpPr/>
              <p:nvPr/>
            </p:nvSpPr>
            <p:spPr>
              <a:xfrm>
                <a:off x="469800" y="4995720"/>
                <a:ext cx="1722600" cy="99828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7200" y="5005080"/>
                <a:ext cx="17744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ICE’S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LEAR TEX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DECRYPTED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UTHENTICAT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2126520" y="4304520"/>
              <a:ext cx="1974240" cy="493560"/>
            </a:xfrm>
            <a:prstGeom prst="wedgeRoundRectCallout">
              <a:avLst>
                <a:gd name="adj1" fmla="val -21888"/>
                <a:gd name="adj2" fmla="val 183305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 DECRYPTS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S PRIVATE K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067080" y="5450040"/>
              <a:ext cx="1197000" cy="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187720" y="5478480"/>
              <a:ext cx="20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433280" y="1693440"/>
            <a:ext cx="1491120" cy="1132200"/>
            <a:chOff x="7433280" y="1693440"/>
            <a:chExt cx="1491120" cy="1132200"/>
          </a:xfrm>
        </p:grpSpPr>
        <p:sp>
          <p:nvSpPr>
            <p:cNvPr id="217" name=""/>
            <p:cNvSpPr/>
            <p:nvPr/>
          </p:nvSpPr>
          <p:spPr>
            <a:xfrm>
              <a:off x="7435080" y="1693440"/>
              <a:ext cx="1277640" cy="275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39760" y="2265120"/>
              <a:ext cx="1396800" cy="275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UBL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39400" y="2550600"/>
              <a:ext cx="1372320" cy="275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B’S 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33280" y="1980720"/>
              <a:ext cx="149112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ICE’S 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537960" y="173664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K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Envelo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45368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Public-key encryption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ch s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symmetric encryption.  More than 1000 times s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ombine PKE and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KE to se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128-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ession key only for on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505320" y="4267080"/>
          <a:ext cx="189216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67080"/>
                    <a:ext cx="189216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593680" y="4206240"/>
            <a:ext cx="3249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TENTS OF SECURE MESSA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E 128-BIT SYMMETR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4525920"/>
            <a:ext cx="838440" cy="1983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720" y="4007880"/>
            <a:ext cx="3076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SE PUBLIC-KEY 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SEND A SECURE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(USE RECIPIENT’S PRIVATE KE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99960" y="5395320"/>
            <a:ext cx="446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NLY THE RECIPIENT CAN READ THE MES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IS SOLVES THE KEY EXCHANGE PROBL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 flipH="1" flipV="1" rot="10800000">
            <a:off x="2201400" y="4738320"/>
            <a:ext cx="1424880" cy="143640"/>
          </a:xfrm>
          <a:prstGeom prst="bentConnector3">
            <a:avLst>
              <a:gd name="adj1" fmla="val -202"/>
            </a:avLst>
          </a:prstGeom>
          <a:ln w="19080">
            <a:solidFill>
              <a:srgbClr val="cc00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 Digest (Hash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digest is a “fingerprint” of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shorter than the original message (e.g. 160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recover the message from the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message changes the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2800" y="4321440"/>
            <a:ext cx="63914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(VERY LO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79680" y="5304960"/>
            <a:ext cx="87624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19160" y="4662360"/>
            <a:ext cx="0" cy="61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85640" y="5049360"/>
            <a:ext cx="3763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IGEST CAN BE USED TO VERIFY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E MESSAGE HAS NOT BEEN AL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47720" y="5234040"/>
            <a:ext cx="631800" cy="1731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gle Step of SHA-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sha" descr=""/>
          <p:cNvPicPr/>
          <p:nvPr/>
        </p:nvPicPr>
        <p:blipFill>
          <a:blip r:embed="rId1"/>
          <a:stretch/>
        </p:blipFill>
        <p:spPr>
          <a:xfrm>
            <a:off x="4494240" y="1905120"/>
            <a:ext cx="3494160" cy="405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48280" y="1649160"/>
            <a:ext cx="3738960" cy="21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es on 16-word (512-bit)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s 16 words to 80 words W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 80 operations as show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for t = 0..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, d, e are special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special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640" y="5826240"/>
            <a:ext cx="37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CHNEIER, APPLIED 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75000" y="42638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ITIALLY CONS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38360" y="2313000"/>
            <a:ext cx="989280" cy="18558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479400" y="3170160"/>
            <a:ext cx="927000" cy="10638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43120" y="3924360"/>
            <a:ext cx="850680" cy="3585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392280" y="4692600"/>
            <a:ext cx="1060200" cy="8193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39880" y="4605480"/>
            <a:ext cx="865080" cy="11088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06000" y="1285560"/>
            <a:ext cx="351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80 WORDS INPUT HERE, 1 EACH 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79920" y="1558800"/>
            <a:ext cx="446040" cy="3715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25880" y="1568160"/>
            <a:ext cx="193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GIC CONS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87920" y="1749600"/>
            <a:ext cx="245880" cy="176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040" y="4734720"/>
            <a:ext cx="26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&lt;&lt; 5”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 left shift 5 b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74720" y="207468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77920" y="207756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8400" y="210132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23720" y="2088720"/>
            <a:ext cx="288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91640" y="3540240"/>
            <a:ext cx="1152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FOR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69320" y="2389320"/>
            <a:ext cx="458640" cy="112716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61400" y="4424400"/>
            <a:ext cx="446040" cy="103824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948440" y="4323960"/>
            <a:ext cx="373320" cy="44460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3240" y="2987640"/>
            <a:ext cx="334800" cy="533520"/>
          </a:xfrm>
          <a:prstGeom prst="line">
            <a:avLst/>
          </a:prstGeom>
          <a:ln w="936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984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98400" y="124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nction of both the message AND the signer’s private key (different for every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28720" y="2044800"/>
            <a:ext cx="7642080" cy="3927240"/>
            <a:chOff x="828720" y="2044800"/>
            <a:chExt cx="7642080" cy="3927240"/>
          </a:xfrm>
        </p:grpSpPr>
        <p:sp>
          <p:nvSpPr>
            <p:cNvPr id="265" name=""/>
            <p:cNvSpPr/>
            <p:nvPr/>
          </p:nvSpPr>
          <p:spPr>
            <a:xfrm>
              <a:off x="2643120" y="2044800"/>
              <a:ext cx="43513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0000" y="321768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10000" y="415440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62440" y="238572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08960" y="2513880"/>
              <a:ext cx="3746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USE SECURE HASH ALGORITHM (SH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O PRODUCE HASH (MESSAGE DIGES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89440" y="355896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9920" y="3555360"/>
              <a:ext cx="4790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NCRYPT HASH USING SIGNER’S 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123720" y="2771640"/>
              <a:ext cx="88740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200040" y="3722400"/>
              <a:ext cx="669960" cy="1382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3714120"/>
              <a:ext cx="141120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VATE 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43160" y="3860640"/>
              <a:ext cx="7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244520" y="4876200"/>
              <a:ext cx="6872400" cy="1095840"/>
              <a:chOff x="1244520" y="4876200"/>
              <a:chExt cx="6872400" cy="1095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097000" y="5419800"/>
                <a:ext cx="4351680" cy="33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SSAGE (LONG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44520" y="5419800"/>
                <a:ext cx="852480" cy="33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38840" y="4876200"/>
                <a:ext cx="441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APPEND SIGNATURE TO MESSAGE; SEND BO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743120" y="5105160"/>
                <a:ext cx="542880" cy="2318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37480" y="4876560"/>
                <a:ext cx="156960" cy="1095480"/>
              </a:xfrm>
              <a:custGeom>
                <a:avLst/>
                <a:gdLst>
                  <a:gd name="textAreaLeft" fmla="*/ 0 w 156960"/>
                  <a:gd name="textAreaRight" fmla="*/ 56520 w 156960"/>
                  <a:gd name="textAreaTop" fmla="*/ 28440 h 1095480"/>
                  <a:gd name="textAreaBottom" fmla="*/ 1067040 h 109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93000" y="5029920"/>
                <a:ext cx="1123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DIGITALLY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SIGN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0099"/>
                    </a:solidFill>
                    <a:latin typeface="Arial"/>
                  </a:rPr>
                  <a:t>MESS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ion by Digital Signa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24120" y="2714760"/>
            <a:ext cx="435132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(LO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43560" y="3992760"/>
            <a:ext cx="8524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28800" y="4008600"/>
            <a:ext cx="8524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21200" y="3057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86080" y="3307680"/>
            <a:ext cx="2094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USES S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COMPUTE H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57120" y="2341440"/>
            <a:ext cx="324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520" y="3322080"/>
            <a:ext cx="2669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DECRYPTS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IGNER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71640" y="1983240"/>
            <a:ext cx="5199120" cy="340560"/>
            <a:chOff x="2771640" y="1983240"/>
            <a:chExt cx="5199120" cy="340560"/>
          </a:xfrm>
        </p:grpSpPr>
        <p:sp>
          <p:nvSpPr>
            <p:cNvPr id="292" name=""/>
            <p:cNvSpPr/>
            <p:nvPr/>
          </p:nvSpPr>
          <p:spPr>
            <a:xfrm>
              <a:off x="3619440" y="1987920"/>
              <a:ext cx="435132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(LO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1640" y="1983240"/>
              <a:ext cx="85248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3280" y="4702320"/>
            <a:ext cx="7809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ASHES ARE EQUAL, MESSAGE IS AUTHEN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IF ANY BIT OF M OR SIG IS ALTERED, HASH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34400" y="1607760"/>
            <a:ext cx="353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CIPIENT RECEIVES SIG +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53080" y="3982680"/>
            <a:ext cx="47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984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Sign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8400" y="124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wo messages securely but allows only one party to read each.  Used in SET (Secure Electronic Transactions)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8240" y="2144880"/>
            <a:ext cx="31766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03680" y="3237120"/>
            <a:ext cx="130968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ES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09840" y="4156200"/>
            <a:ext cx="18050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248760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43480" y="2550600"/>
            <a:ext cx="1164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ASH 1 &amp;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110120" y="3592440"/>
            <a:ext cx="144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530680" y="3271680"/>
            <a:ext cx="594000" cy="109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84720" y="2149920"/>
            <a:ext cx="31766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06880" y="3229200"/>
            <a:ext cx="134604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ES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037120" y="2503440"/>
            <a:ext cx="144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40520" y="2909520"/>
            <a:ext cx="237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CATENATE DIG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2640" y="3688920"/>
            <a:ext cx="2093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ASH WITH SHA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REATE NEW 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223880" y="3742920"/>
            <a:ext cx="1569960" cy="189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92400" y="5248440"/>
            <a:ext cx="231156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L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2400" y="4699440"/>
            <a:ext cx="1596960" cy="33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9480" y="449100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22600" y="4824360"/>
            <a:ext cx="14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89360" y="4558680"/>
            <a:ext cx="277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 NEW DIG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ITH SIGNER’S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227120" y="4827600"/>
            <a:ext cx="1274760" cy="1317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08400" y="2781360"/>
            <a:ext cx="296640" cy="147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5080" y="2805120"/>
            <a:ext cx="322200" cy="122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cert" descr=""/>
          <p:cNvPicPr/>
          <p:nvPr/>
        </p:nvPicPr>
        <p:blipFill>
          <a:blip r:embed="rId1"/>
          <a:stretch/>
        </p:blipFill>
        <p:spPr>
          <a:xfrm>
            <a:off x="2965320" y="1720800"/>
            <a:ext cx="5712120" cy="3778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089760" y="5600880"/>
            <a:ext cx="28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RD &amp; BAU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E ELECTRON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C 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3920" y="4933080"/>
            <a:ext cx="2602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1.  USE CA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VERIFY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GENUINE AN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OT BEEN ALTE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4520" y="3887280"/>
            <a:ext cx="193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2.  VERIFY THAT 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NAME MATC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0520" y="3060360"/>
            <a:ext cx="1939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3.  VERIFY ID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 SEN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400" y="1555200"/>
            <a:ext cx="2474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4.  DECRYPT SEND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ESSAGE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’S PUBLIC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99320" y="1380240"/>
            <a:ext cx="2241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0.  CA AUTHENT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, DIGIT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IGNS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8440" y="2077920"/>
            <a:ext cx="691920" cy="1150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416320" y="3146040"/>
            <a:ext cx="1409400" cy="284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71960" y="2168640"/>
            <a:ext cx="1977840" cy="1373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40160" y="4235400"/>
            <a:ext cx="1285560" cy="1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960640" y="5035320"/>
            <a:ext cx="914400" cy="671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9720" y="1618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data secret from unauthoriz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e identity of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messages have not been altered in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at a party engaged in a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it impossible for him to deny (nonrepu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ital Certificate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1:  Verified email address from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Veri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2:  Verification of identity, social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number, date of bi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But fake ID = fake certific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3:  Class 2 + credit check, Dun &amp; Bradstree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not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4:  Class 3 + information about individual’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position (to determine legal auth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ified Email Certif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68200" y="1189080"/>
            <a:ext cx="659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s that the holder can read email at the specifie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prove AN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0600" y="2706480"/>
            <a:ext cx="239328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ON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11760" y="2351160"/>
            <a:ext cx="0" cy="326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05360" y="2157840"/>
            <a:ext cx="115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VERI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03760" y="3598560"/>
            <a:ext cx="2193840" cy="8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SIGN EM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RTIFICAT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20680" y="4491720"/>
            <a:ext cx="260820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hn_Doe@cmu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S CERTIF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5520" y="5386680"/>
            <a:ext cx="262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nly John Doe can get i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4760" y="3079800"/>
            <a:ext cx="1323720" cy="58248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913200" y="4122720"/>
            <a:ext cx="1225440" cy="66996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34960" y="2171880"/>
            <a:ext cx="64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Key Infrastructure (PK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processes for issuance and revocation of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verifies the identify of certification autho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Practic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Revocati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a PK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98400" y="1552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ublic/private key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uthenticate key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public keys to subscriber by digital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maintain, administer, revoke, suspend, reinstate, and renew digita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nage a public ke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vest-Shamir-Adelman (RS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as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numbers but apparently har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umber into a product of tw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p, q, it is easy to compute n = p •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p = 5453089; q = 3918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find n = 21365568058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n, hard to find two numbers p, q with p • q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uppose n = 785911234933814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What are p and q such that p • q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-wa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exploits this fact in public-key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wo large prime numbers p, q (&gt; 100 dig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 = p •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mall odd integer e that does not div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(p - 1)(q - 1).  Then x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(p-1)(q-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(mod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d = e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d • e gives remainder 1 when divided by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 is the pair (e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 is the pair (d,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(e, n) is of no help in finding d.  Still need p and q, which involves factoring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SA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crypt message M using public key (e, 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(M) = 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d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crypt message C using private key (d, 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(C) = 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d n)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P(C(M)) = C(P(M)) = (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2400" spc="-1" strike="noStrike" baseline="40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 n) = 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1 and m = (p-1)(q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516240" y="3124080"/>
            <a:ext cx="5879880" cy="3130560"/>
            <a:chOff x="516240" y="3124080"/>
            <a:chExt cx="5879880" cy="3130560"/>
          </a:xfrm>
        </p:grpSpPr>
        <p:graphicFrame>
          <p:nvGraphicFramePr>
            <p:cNvPr id="371" name=""/>
            <p:cNvGraphicFramePr/>
            <p:nvPr/>
          </p:nvGraphicFramePr>
          <p:xfrm>
            <a:off x="2413080" y="3124080"/>
            <a:ext cx="3983040" cy="3130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3080" y="3124080"/>
                      <a:ext cx="3983040" cy="31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516240" y="4115520"/>
              <a:ext cx="189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ve Invers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Finite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rse e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number e satisfies e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e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rse of 5 is 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only allow numbers from 0 to n-1 (mod n), then for special values of n, each e has a unique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018120" y="3322440"/>
            <a:ext cx="2678040" cy="944640"/>
            <a:chOff x="6018120" y="3322440"/>
            <a:chExt cx="2678040" cy="944640"/>
          </a:xfrm>
        </p:grpSpPr>
        <p:sp>
          <p:nvSpPr>
            <p:cNvPr id="377" name=""/>
            <p:cNvSpPr/>
            <p:nvPr/>
          </p:nvSpPr>
          <p:spPr>
            <a:xfrm>
              <a:off x="6689880" y="3322440"/>
              <a:ext cx="200628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6 </a:t>
              </a: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•</a:t>
              </a: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 2 =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WHEN DIVIDED BY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GIVES REMAINDER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018120" y="3809880"/>
              <a:ext cx="673200" cy="4572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79760" y="3809880"/>
            <a:ext cx="5216040" cy="1982880"/>
            <a:chOff x="3479760" y="3809880"/>
            <a:chExt cx="5216040" cy="1982880"/>
          </a:xfrm>
        </p:grpSpPr>
        <p:sp>
          <p:nvSpPr>
            <p:cNvPr id="380" name=""/>
            <p:cNvSpPr/>
            <p:nvPr/>
          </p:nvSpPr>
          <p:spPr>
            <a:xfrm>
              <a:off x="3479760" y="3809880"/>
              <a:ext cx="30492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51360" y="4191120"/>
              <a:ext cx="304920" cy="30456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18280" y="449568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36960" y="4800600"/>
              <a:ext cx="30492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03880" y="518148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5480" y="5486400"/>
              <a:ext cx="304560" cy="304920"/>
            </a:xfrm>
            <a:prstGeom prst="ellipse">
              <a:avLst/>
            </a:pr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71160" y="4421520"/>
              <a:ext cx="202464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ACH ROW EX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HE ZERO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HAS EXACTLY ON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ACH ELEMENT 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A UNIQUE INVER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079680" y="5105520"/>
              <a:ext cx="592200" cy="38088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708080" y="4876920"/>
              <a:ext cx="1901880" cy="30456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155920" y="4266720"/>
              <a:ext cx="1579320" cy="27324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ncryption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ymm" descr=""/>
          <p:cNvPicPr/>
          <p:nvPr/>
        </p:nvPicPr>
        <p:blipFill>
          <a:blip r:embed="rId1"/>
          <a:stretch/>
        </p:blipFill>
        <p:spPr>
          <a:xfrm>
            <a:off x="1749600" y="2557440"/>
            <a:ext cx="5508360" cy="1959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6160" y="1948680"/>
            <a:ext cx="144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T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E WAN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KEEP 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30800" y="1893240"/>
            <a:ext cx="142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NREAD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VERSION OF</a:t>
            </a:r>
            <a:br>
              <a:rPr sz="1400"/>
            </a:b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LA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5080" y="4723560"/>
            <a:ext cx="1379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ATA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7960" y="4760280"/>
            <a:ext cx="161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CRAMB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65160" y="5164200"/>
            <a:ext cx="2030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(TELLS HOW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CRAMBL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PARTICULAR MESS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6160" y="4448160"/>
            <a:ext cx="1329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MIGHT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ATA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73320" y="3971880"/>
            <a:ext cx="617400" cy="4716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9840" y="2690640"/>
            <a:ext cx="642960" cy="432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75080" y="3836880"/>
            <a:ext cx="433440" cy="9162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72200" y="4371840"/>
            <a:ext cx="444240" cy="3826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993000" y="2663640"/>
            <a:ext cx="617400" cy="47124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560" y="5818320"/>
            <a:ext cx="263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7600" y="1195200"/>
            <a:ext cx="3762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:  HID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AINTEXT) BY MAK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ADABLE (CIPHER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the Key in Cryptograp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4954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parameter to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cry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stays the same, but produces different results based on a given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2360" y="5486040"/>
            <a:ext cx="6773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THIS METHOD IS NOT USED IN ANY REAL CRYPTOGRAPHY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 IS AN EXAMPLE INTENDED ONLY TO ILLUSTRATE THE USE OF KEY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49000" y="2666880"/>
            <a:ext cx="7957440" cy="1221120"/>
            <a:chOff x="549000" y="2666880"/>
            <a:chExt cx="7957440" cy="1221120"/>
          </a:xfrm>
        </p:grpSpPr>
        <p:sp>
          <p:nvSpPr>
            <p:cNvPr id="75" name=""/>
            <p:cNvSpPr/>
            <p:nvPr/>
          </p:nvSpPr>
          <p:spPr>
            <a:xfrm>
              <a:off x="549000" y="3185640"/>
              <a:ext cx="7957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Courier New"/>
                </a:rPr>
                <a:t>A L G O R I T H M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B C D E F J K N P Q S T U V W X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98280" y="2666880"/>
              <a:ext cx="1621080" cy="5493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456200" y="4044600"/>
            <a:ext cx="4678200" cy="976680"/>
            <a:chOff x="1456200" y="4044600"/>
            <a:chExt cx="4678200" cy="976680"/>
          </a:xfrm>
        </p:grpSpPr>
        <p:sp>
          <p:nvSpPr>
            <p:cNvPr id="78" name=""/>
            <p:cNvSpPr/>
            <p:nvPr/>
          </p:nvSpPr>
          <p:spPr>
            <a:xfrm>
              <a:off x="3053880" y="4044600"/>
              <a:ext cx="3080520" cy="97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 O N S U L T I N 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K D Q N V B U F Q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56200" y="4329000"/>
              <a:ext cx="145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36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53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148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386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97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428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920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4343400"/>
              <a:ext cx="0" cy="320760"/>
            </a:xfrm>
            <a:prstGeom prst="line">
              <a:avLst/>
            </a:prstGeom>
            <a:ln w="648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metric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symm2" descr=""/>
          <p:cNvPicPr/>
          <p:nvPr/>
        </p:nvPicPr>
        <p:blipFill>
          <a:blip r:embed="rId1"/>
          <a:stretch/>
        </p:blipFill>
        <p:spPr>
          <a:xfrm>
            <a:off x="1046160" y="1463760"/>
            <a:ext cx="6881760" cy="385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320" y="1650240"/>
            <a:ext cx="208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99"/>
                </a:solidFill>
                <a:uFillTx/>
                <a:latin typeface="Arial"/>
              </a:rPr>
              <a:t>SAME KEY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USED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OTH ENRC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ND DE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5164920"/>
            <a:ext cx="291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NDER AND RECIPIENT M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OTH KNOW TH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99"/>
                </a:solidFill>
                <a:uFillTx/>
                <a:latin typeface="Arial"/>
              </a:rPr>
              <a:t>THIS IS A WEAK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41640" y="1719000"/>
            <a:ext cx="965160" cy="38412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16600" y="4767120"/>
            <a:ext cx="965160" cy="3844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7920" y="4892760"/>
            <a:ext cx="941400" cy="40788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86680" y="5725080"/>
            <a:ext cx="263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ncryption Standard (D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400" y="1518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key-based encryption-decryption standard.  No publ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cipher: operates on 64-bi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56-bi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“rounds” -- key for each round is a 48-bit function of the original 56-bit key.  Each key bit participates in an average of 14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symmetric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 decry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implementation in hardware: 1 giga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Encryption Standard (DE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s" descr=""/>
          <p:cNvPicPr/>
          <p:nvPr/>
        </p:nvPicPr>
        <p:blipFill>
          <a:blip r:embed="rId1"/>
          <a:stretch/>
        </p:blipFill>
        <p:spPr>
          <a:xfrm>
            <a:off x="3554280" y="1015920"/>
            <a:ext cx="3267360" cy="499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49560" y="11696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64 BITS OF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82480" y="1160280"/>
            <a:ext cx="207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PUT PERM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45480" y="5382720"/>
            <a:ext cx="184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NVERSE OF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ERMU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2360" y="1953360"/>
            <a:ext cx="16801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UBKEY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ACH IS A 48-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UNCTION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56-BI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756120" y="2139840"/>
            <a:ext cx="430200" cy="2606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36640" y="1339920"/>
            <a:ext cx="654120" cy="2109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5960" y="5000040"/>
            <a:ext cx="1975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UTPUT: 64 BIT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NCRYPTED 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261040" y="5484960"/>
            <a:ext cx="790560" cy="1857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84560" y="5299200"/>
            <a:ext cx="1116000" cy="5061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55920" y="1192320"/>
            <a:ext cx="1128600" cy="147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35360" y="1706400"/>
            <a:ext cx="718920" cy="2890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40280" y="1550520"/>
            <a:ext cx="1639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LEFT HALF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LOCK (32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640" y="2582280"/>
            <a:ext cx="2468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99"/>
                </a:solidFill>
                <a:latin typeface="Arial"/>
              </a:rPr>
              <a:t>f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IS A COMPLI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FUNCTION INVOL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VARIOUS PERM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976480" y="2395080"/>
            <a:ext cx="1782720" cy="358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684840" y="2465280"/>
            <a:ext cx="517680" cy="7304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748200" y="2898720"/>
            <a:ext cx="641160" cy="17812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0400" y="3414600"/>
            <a:ext cx="1795680" cy="116208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0120" y="5802120"/>
            <a:ext cx="379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CHNEIER, APPLIED CRYP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2187360"/>
            <a:ext cx="1931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Symbol"/>
                <a:ea typeface="Symbol"/>
              </a:rPr>
              <a:t>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EXCLUSIVE-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92480" y="2357280"/>
            <a:ext cx="882720" cy="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cking Symmetric Encry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9600" y="2214720"/>
          <a:ext cx="8596440" cy="34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2214720"/>
                    <a:ext cx="859644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26840" y="5710680"/>
            <a:ext cx="407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0-bit symmetric key = 384-bit PKE 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0400" y="1504080"/>
            <a:ext cx="4205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TIME TO CRACK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ENCRYPTION ALGORIT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-Key (Asymmetric)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k" descr=""/>
          <p:cNvPicPr/>
          <p:nvPr/>
        </p:nvPicPr>
        <p:blipFill>
          <a:blip r:embed="rId1"/>
          <a:stretch/>
        </p:blipFill>
        <p:spPr>
          <a:xfrm>
            <a:off x="1662120" y="2398680"/>
            <a:ext cx="5764320" cy="2206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20720" y="4987800"/>
            <a:ext cx="2204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1.  USERS WAN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ND PLAI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O RECIPIENT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880" y="1704960"/>
            <a:ext cx="262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2.  SENDERS USE SITE’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KEY FOR EN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08280" y="1701720"/>
            <a:ext cx="218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3.  SITE USES IT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KEY FOR DECRY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72760" y="4916520"/>
            <a:ext cx="2526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4.  ONLY WEBSIT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ECRYPT THE CIPHER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cc0099"/>
                </a:solidFill>
                <a:uFillTx/>
                <a:latin typeface="Arial"/>
              </a:rPr>
              <a:t>NO ONE ELSE KNOWS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34960" y="4305240"/>
            <a:ext cx="519120" cy="617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91120" y="2144880"/>
            <a:ext cx="519120" cy="4060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195680" y="4306680"/>
            <a:ext cx="297000" cy="53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7360" y="2160720"/>
            <a:ext cx="5936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90320" y="5805360"/>
            <a:ext cx="263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TEI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59:11Z</dcterms:modified>
  <cp:revision>0</cp:revision>
  <dc:subject/>
  <dc:title>Cryptographic Security</dc:title>
</cp:coreProperties>
</file>