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AE6772-BA00-4C12-BAB0-1ABB221AEE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23B1CD-FD24-48F7-A983-522976A9B5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EF6766-3FC2-42DB-B89D-9DFE3281CD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software.ibm.com/commerce/payment/specsheetetill.html" TargetMode="External"/><Relationship Id="rId3" Type="http://schemas.openxmlformats.org/officeDocument/2006/relationships/hyperlink" Target="http://www.software.ibm.com/commerce/payment/specsheetetill.html" TargetMode="External"/><Relationship Id="rId4" Type="http://schemas.openxmlformats.org/officeDocument/2006/relationships/hyperlink" Target="http://www.software.ibm.com/commerce/payment/specsheetetill.html" TargetMode="External"/><Relationship Id="rId5" Type="http://schemas.openxmlformats.org/officeDocument/2006/relationships/hyperlink" Target="http://www.software.ibm.com/commerce/payment/specsheetetill.html" TargetMode="External"/><Relationship Id="rId6" Type="http://schemas.openxmlformats.org/officeDocument/2006/relationships/hyperlink" Target="http://www.software.ibm.com/commerce/payment/specsheetetill.html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ntegrion.com/demo/index.htm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pass.com/" TargetMode="External"/><Relationship Id="rId2" Type="http://schemas.openxmlformats.org/officeDocument/2006/relationships/hyperlink" Target="http://www.millicent.com/home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019160"/>
            <a:ext cx="197172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1080" y="220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Payment 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9680" y="304920"/>
            <a:ext cx="1143000" cy="78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041720" y="338040"/>
            <a:ext cx="93204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3240" y="1422360"/>
            <a:ext cx="1454040" cy="733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74560" y="469800"/>
            <a:ext cx="2403720" cy="542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145280" y="930240"/>
            <a:ext cx="1335240" cy="9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38040" y="1287360"/>
            <a:ext cx="1498680" cy="91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87360" y="5462640"/>
            <a:ext cx="259092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rcRect l="55967" t="0" r="0" b="0"/>
          <a:stretch/>
        </p:blipFill>
        <p:spPr>
          <a:xfrm>
            <a:off x="3429000" y="4836960"/>
            <a:ext cx="1870200" cy="3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7467480" y="4602240"/>
            <a:ext cx="135252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5172120" y="3886200"/>
            <a:ext cx="2600280" cy="70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3003480" y="3886200"/>
            <a:ext cx="1206720" cy="32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4210200" y="5462640"/>
            <a:ext cx="398124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1066680" y="3983040"/>
            <a:ext cx="1324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L (Secure Sockets Layer)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94440" y="2428920"/>
            <a:ext cx="2230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rmAutofit fontScale="92000"/>
          </a:bodyPr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 must trust merchant with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to ordinary phon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9120" indent="-159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transaction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840" y="578160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9720" y="2508120"/>
            <a:ext cx="4403880" cy="21020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7240" y="4754520"/>
            <a:ext cx="770040" cy="49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9800" y="1616040"/>
            <a:ext cx="738000" cy="49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46320" y="2108160"/>
            <a:ext cx="4222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6160" y="2093760"/>
            <a:ext cx="210960" cy="264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6840" y="33894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1498680"/>
            <a:ext cx="140148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5040" y="1784520"/>
            <a:ext cx="38116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6680" y="158580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9720" y="1911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5520" y="2689200"/>
            <a:ext cx="925560" cy="3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2320" y="1417680"/>
            <a:ext cx="2935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Internet (telephone)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29080" y="12096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4720" y="493380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46320" y="2128680"/>
            <a:ext cx="0" cy="2595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68600" y="2100240"/>
            <a:ext cx="0" cy="2594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07080" y="4576680"/>
            <a:ext cx="1401840" cy="628560"/>
          </a:xfrm>
          <a:prstGeom prst="roundRect">
            <a:avLst>
              <a:gd name="adj" fmla="val 12486"/>
            </a:avLst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71080" y="46641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8440" y="4900680"/>
            <a:ext cx="34938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790040" y="2329920"/>
            <a:ext cx="15840" cy="2124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4888080"/>
            <a:ext cx="230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 bills 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61320" y="2894040"/>
            <a:ext cx="1018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Sockets Layer (SS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SL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1143000" y="1371240"/>
            <a:ext cx="19051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1295280"/>
            <a:ext cx="19814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857640" y="190512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371240" y="1981080"/>
            <a:ext cx="11430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19560" y="2209320"/>
            <a:ext cx="1066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523880" y="2209680"/>
            <a:ext cx="18288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553080" y="2895480"/>
            <a:ext cx="5335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62320" y="2895480"/>
            <a:ext cx="7617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9280" y="3733920"/>
            <a:ext cx="968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ha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733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09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4800240"/>
            <a:ext cx="6098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8006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0400" y="556236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41008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334120"/>
            <a:ext cx="2514600" cy="1295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77120" y="5866920"/>
            <a:ext cx="137160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21600" y="6583320"/>
            <a:ext cx="2099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Electronic Transactions (S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 doesn’t see card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Internet to reach acqui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redit card transactio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4280" y="579132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84360" y="1447920"/>
            <a:ext cx="7431120" cy="4275000"/>
            <a:chOff x="684360" y="1447920"/>
            <a:chExt cx="7431120" cy="4275000"/>
          </a:xfrm>
        </p:grpSpPr>
        <p:sp>
          <p:nvSpPr>
            <p:cNvPr id="156" name=""/>
            <p:cNvSpPr/>
            <p:nvPr/>
          </p:nvSpPr>
          <p:spPr>
            <a:xfrm>
              <a:off x="1066680" y="2514600"/>
              <a:ext cx="5141880" cy="2473200"/>
            </a:xfrm>
            <a:custGeom>
              <a:avLst/>
              <a:gdLst/>
              <a:ahLst/>
              <a:rect l="l" t="t" r="r" b="b"/>
              <a:pathLst>
                <a:path w="3299" h="1713">
                  <a:moveTo>
                    <a:pt x="3298" y="1173"/>
                  </a:moveTo>
                  <a:lnTo>
                    <a:pt x="3293" y="1099"/>
                  </a:lnTo>
                  <a:lnTo>
                    <a:pt x="3264" y="986"/>
                  </a:lnTo>
                  <a:lnTo>
                    <a:pt x="3212" y="894"/>
                  </a:lnTo>
                  <a:lnTo>
                    <a:pt x="3187" y="863"/>
                  </a:lnTo>
                  <a:lnTo>
                    <a:pt x="3157" y="837"/>
                  </a:lnTo>
                  <a:lnTo>
                    <a:pt x="3092" y="800"/>
                  </a:lnTo>
                  <a:lnTo>
                    <a:pt x="3000" y="783"/>
                  </a:lnTo>
                  <a:lnTo>
                    <a:pt x="2980" y="785"/>
                  </a:lnTo>
                  <a:lnTo>
                    <a:pt x="2877" y="815"/>
                  </a:lnTo>
                  <a:lnTo>
                    <a:pt x="2896" y="808"/>
                  </a:lnTo>
                  <a:lnTo>
                    <a:pt x="2988" y="784"/>
                  </a:lnTo>
                  <a:lnTo>
                    <a:pt x="2986" y="748"/>
                  </a:lnTo>
                  <a:lnTo>
                    <a:pt x="2970" y="721"/>
                  </a:lnTo>
                  <a:lnTo>
                    <a:pt x="2929" y="673"/>
                  </a:lnTo>
                  <a:lnTo>
                    <a:pt x="2857" y="626"/>
                  </a:lnTo>
                  <a:lnTo>
                    <a:pt x="2793" y="614"/>
                  </a:lnTo>
                  <a:lnTo>
                    <a:pt x="2748" y="621"/>
                  </a:lnTo>
                  <a:lnTo>
                    <a:pt x="2792" y="613"/>
                  </a:lnTo>
                  <a:lnTo>
                    <a:pt x="2844" y="622"/>
                  </a:lnTo>
                  <a:lnTo>
                    <a:pt x="2854" y="603"/>
                  </a:lnTo>
                  <a:lnTo>
                    <a:pt x="2866" y="539"/>
                  </a:lnTo>
                  <a:lnTo>
                    <a:pt x="2864" y="413"/>
                  </a:lnTo>
                  <a:lnTo>
                    <a:pt x="2826" y="280"/>
                  </a:lnTo>
                  <a:lnTo>
                    <a:pt x="2808" y="247"/>
                  </a:lnTo>
                  <a:lnTo>
                    <a:pt x="2789" y="216"/>
                  </a:lnTo>
                  <a:lnTo>
                    <a:pt x="2768" y="187"/>
                  </a:lnTo>
                  <a:lnTo>
                    <a:pt x="2745" y="162"/>
                  </a:lnTo>
                  <a:lnTo>
                    <a:pt x="2720" y="140"/>
                  </a:lnTo>
                  <a:lnTo>
                    <a:pt x="2636" y="97"/>
                  </a:lnTo>
                  <a:lnTo>
                    <a:pt x="2545" y="81"/>
                  </a:lnTo>
                  <a:lnTo>
                    <a:pt x="2477" y="89"/>
                  </a:lnTo>
                  <a:lnTo>
                    <a:pt x="2386" y="132"/>
                  </a:lnTo>
                  <a:lnTo>
                    <a:pt x="2358" y="154"/>
                  </a:lnTo>
                  <a:lnTo>
                    <a:pt x="2333" y="179"/>
                  </a:lnTo>
                  <a:lnTo>
                    <a:pt x="2310" y="207"/>
                  </a:lnTo>
                  <a:lnTo>
                    <a:pt x="2289" y="239"/>
                  </a:lnTo>
                  <a:lnTo>
                    <a:pt x="2271" y="274"/>
                  </a:lnTo>
                  <a:lnTo>
                    <a:pt x="2231" y="395"/>
                  </a:lnTo>
                  <a:lnTo>
                    <a:pt x="2261" y="296"/>
                  </a:lnTo>
                  <a:lnTo>
                    <a:pt x="2260" y="266"/>
                  </a:lnTo>
                  <a:lnTo>
                    <a:pt x="2217" y="224"/>
                  </a:lnTo>
                  <a:lnTo>
                    <a:pt x="2164" y="195"/>
                  </a:lnTo>
                  <a:lnTo>
                    <a:pt x="2073" y="180"/>
                  </a:lnTo>
                  <a:lnTo>
                    <a:pt x="1995" y="197"/>
                  </a:lnTo>
                  <a:lnTo>
                    <a:pt x="1922" y="246"/>
                  </a:lnTo>
                  <a:lnTo>
                    <a:pt x="1895" y="275"/>
                  </a:lnTo>
                  <a:lnTo>
                    <a:pt x="1871" y="310"/>
                  </a:lnTo>
                  <a:lnTo>
                    <a:pt x="1840" y="374"/>
                  </a:lnTo>
                  <a:lnTo>
                    <a:pt x="1899" y="273"/>
                  </a:lnTo>
                  <a:lnTo>
                    <a:pt x="1889" y="237"/>
                  </a:lnTo>
                  <a:lnTo>
                    <a:pt x="1859" y="180"/>
                  </a:lnTo>
                  <a:lnTo>
                    <a:pt x="1788" y="90"/>
                  </a:lnTo>
                  <a:lnTo>
                    <a:pt x="1703" y="36"/>
                  </a:lnTo>
                  <a:lnTo>
                    <a:pt x="1610" y="16"/>
                  </a:lnTo>
                  <a:lnTo>
                    <a:pt x="1586" y="16"/>
                  </a:lnTo>
                  <a:lnTo>
                    <a:pt x="1495" y="36"/>
                  </a:lnTo>
                  <a:lnTo>
                    <a:pt x="1410" y="88"/>
                  </a:lnTo>
                  <a:lnTo>
                    <a:pt x="1339" y="172"/>
                  </a:lnTo>
                  <a:lnTo>
                    <a:pt x="1289" y="286"/>
                  </a:lnTo>
                  <a:lnTo>
                    <a:pt x="1297" y="260"/>
                  </a:lnTo>
                  <a:lnTo>
                    <a:pt x="1348" y="158"/>
                  </a:lnTo>
                  <a:lnTo>
                    <a:pt x="1342" y="117"/>
                  </a:lnTo>
                  <a:lnTo>
                    <a:pt x="1301" y="75"/>
                  </a:lnTo>
                  <a:lnTo>
                    <a:pt x="1205" y="20"/>
                  </a:lnTo>
                  <a:lnTo>
                    <a:pt x="1100" y="0"/>
                  </a:lnTo>
                  <a:lnTo>
                    <a:pt x="968" y="27"/>
                  </a:lnTo>
                  <a:lnTo>
                    <a:pt x="871" y="89"/>
                  </a:lnTo>
                  <a:lnTo>
                    <a:pt x="792" y="189"/>
                  </a:lnTo>
                  <a:lnTo>
                    <a:pt x="740" y="326"/>
                  </a:lnTo>
                  <a:lnTo>
                    <a:pt x="722" y="499"/>
                  </a:lnTo>
                  <a:lnTo>
                    <a:pt x="722" y="476"/>
                  </a:lnTo>
                  <a:lnTo>
                    <a:pt x="733" y="359"/>
                  </a:lnTo>
                  <a:lnTo>
                    <a:pt x="694" y="358"/>
                  </a:lnTo>
                  <a:lnTo>
                    <a:pt x="641" y="382"/>
                  </a:lnTo>
                  <a:lnTo>
                    <a:pt x="590" y="420"/>
                  </a:lnTo>
                  <a:lnTo>
                    <a:pt x="566" y="443"/>
                  </a:lnTo>
                  <a:lnTo>
                    <a:pt x="544" y="469"/>
                  </a:lnTo>
                  <a:lnTo>
                    <a:pt x="523" y="498"/>
                  </a:lnTo>
                  <a:lnTo>
                    <a:pt x="504" y="529"/>
                  </a:lnTo>
                  <a:lnTo>
                    <a:pt x="488" y="563"/>
                  </a:lnTo>
                  <a:lnTo>
                    <a:pt x="475" y="599"/>
                  </a:lnTo>
                  <a:lnTo>
                    <a:pt x="460" y="658"/>
                  </a:lnTo>
                  <a:lnTo>
                    <a:pt x="456" y="785"/>
                  </a:lnTo>
                  <a:lnTo>
                    <a:pt x="457" y="682"/>
                  </a:lnTo>
                  <a:lnTo>
                    <a:pt x="434" y="675"/>
                  </a:lnTo>
                  <a:lnTo>
                    <a:pt x="401" y="693"/>
                  </a:lnTo>
                  <a:lnTo>
                    <a:pt x="334" y="753"/>
                  </a:lnTo>
                  <a:lnTo>
                    <a:pt x="292" y="819"/>
                  </a:lnTo>
                  <a:lnTo>
                    <a:pt x="263" y="911"/>
                  </a:lnTo>
                  <a:lnTo>
                    <a:pt x="291" y="822"/>
                  </a:lnTo>
                  <a:lnTo>
                    <a:pt x="251" y="823"/>
                  </a:lnTo>
                  <a:lnTo>
                    <a:pt x="223" y="830"/>
                  </a:lnTo>
                  <a:lnTo>
                    <a:pt x="143" y="874"/>
                  </a:lnTo>
                  <a:lnTo>
                    <a:pt x="75" y="943"/>
                  </a:lnTo>
                  <a:lnTo>
                    <a:pt x="56" y="970"/>
                  </a:lnTo>
                  <a:lnTo>
                    <a:pt x="25" y="1031"/>
                  </a:lnTo>
                  <a:lnTo>
                    <a:pt x="0" y="1133"/>
                  </a:lnTo>
                  <a:lnTo>
                    <a:pt x="7" y="1275"/>
                  </a:lnTo>
                  <a:lnTo>
                    <a:pt x="39" y="1373"/>
                  </a:lnTo>
                  <a:lnTo>
                    <a:pt x="91" y="1457"/>
                  </a:lnTo>
                  <a:lnTo>
                    <a:pt x="160" y="1519"/>
                  </a:lnTo>
                  <a:lnTo>
                    <a:pt x="245" y="1555"/>
                  </a:lnTo>
                  <a:lnTo>
                    <a:pt x="332" y="1556"/>
                  </a:lnTo>
                  <a:lnTo>
                    <a:pt x="408" y="1531"/>
                  </a:lnTo>
                  <a:lnTo>
                    <a:pt x="493" y="1465"/>
                  </a:lnTo>
                  <a:lnTo>
                    <a:pt x="554" y="1374"/>
                  </a:lnTo>
                  <a:lnTo>
                    <a:pt x="581" y="1294"/>
                  </a:lnTo>
                  <a:lnTo>
                    <a:pt x="573" y="1324"/>
                  </a:lnTo>
                  <a:lnTo>
                    <a:pt x="533" y="1411"/>
                  </a:lnTo>
                  <a:lnTo>
                    <a:pt x="528" y="1454"/>
                  </a:lnTo>
                  <a:lnTo>
                    <a:pt x="570" y="1549"/>
                  </a:lnTo>
                  <a:lnTo>
                    <a:pt x="634" y="1624"/>
                  </a:lnTo>
                  <a:lnTo>
                    <a:pt x="713" y="1672"/>
                  </a:lnTo>
                  <a:lnTo>
                    <a:pt x="801" y="1692"/>
                  </a:lnTo>
                  <a:lnTo>
                    <a:pt x="890" y="1679"/>
                  </a:lnTo>
                  <a:lnTo>
                    <a:pt x="973" y="1628"/>
                  </a:lnTo>
                  <a:lnTo>
                    <a:pt x="1027" y="1563"/>
                  </a:lnTo>
                  <a:lnTo>
                    <a:pt x="1082" y="1438"/>
                  </a:lnTo>
                  <a:lnTo>
                    <a:pt x="1031" y="1558"/>
                  </a:lnTo>
                  <a:lnTo>
                    <a:pt x="1055" y="1590"/>
                  </a:lnTo>
                  <a:lnTo>
                    <a:pt x="1074" y="1611"/>
                  </a:lnTo>
                  <a:lnTo>
                    <a:pt x="1148" y="1658"/>
                  </a:lnTo>
                  <a:lnTo>
                    <a:pt x="1223" y="1677"/>
                  </a:lnTo>
                  <a:lnTo>
                    <a:pt x="1321" y="1661"/>
                  </a:lnTo>
                  <a:lnTo>
                    <a:pt x="1404" y="1607"/>
                  </a:lnTo>
                  <a:lnTo>
                    <a:pt x="1482" y="1508"/>
                  </a:lnTo>
                  <a:lnTo>
                    <a:pt x="1465" y="1535"/>
                  </a:lnTo>
                  <a:lnTo>
                    <a:pt x="1382" y="1625"/>
                  </a:lnTo>
                  <a:lnTo>
                    <a:pt x="1413" y="1662"/>
                  </a:lnTo>
                  <a:lnTo>
                    <a:pt x="1440" y="1679"/>
                  </a:lnTo>
                  <a:lnTo>
                    <a:pt x="1470" y="1694"/>
                  </a:lnTo>
                  <a:lnTo>
                    <a:pt x="1573" y="1712"/>
                  </a:lnTo>
                  <a:lnTo>
                    <a:pt x="1663" y="1692"/>
                  </a:lnTo>
                  <a:lnTo>
                    <a:pt x="1748" y="1635"/>
                  </a:lnTo>
                  <a:lnTo>
                    <a:pt x="1807" y="1557"/>
                  </a:lnTo>
                  <a:lnTo>
                    <a:pt x="1862" y="1415"/>
                  </a:lnTo>
                  <a:lnTo>
                    <a:pt x="1814" y="1545"/>
                  </a:lnTo>
                  <a:lnTo>
                    <a:pt x="1825" y="1569"/>
                  </a:lnTo>
                  <a:lnTo>
                    <a:pt x="1840" y="1587"/>
                  </a:lnTo>
                  <a:lnTo>
                    <a:pt x="1916" y="1651"/>
                  </a:lnTo>
                  <a:lnTo>
                    <a:pt x="2067" y="1706"/>
                  </a:lnTo>
                  <a:lnTo>
                    <a:pt x="2237" y="1698"/>
                  </a:lnTo>
                  <a:lnTo>
                    <a:pt x="2377" y="1626"/>
                  </a:lnTo>
                  <a:lnTo>
                    <a:pt x="2404" y="1604"/>
                  </a:lnTo>
                  <a:lnTo>
                    <a:pt x="2429" y="1578"/>
                  </a:lnTo>
                  <a:lnTo>
                    <a:pt x="2453" y="1549"/>
                  </a:lnTo>
                  <a:lnTo>
                    <a:pt x="2476" y="1518"/>
                  </a:lnTo>
                  <a:lnTo>
                    <a:pt x="2498" y="1482"/>
                  </a:lnTo>
                  <a:lnTo>
                    <a:pt x="2518" y="1444"/>
                  </a:lnTo>
                  <a:lnTo>
                    <a:pt x="2537" y="1402"/>
                  </a:lnTo>
                  <a:lnTo>
                    <a:pt x="2555" y="1356"/>
                  </a:lnTo>
                  <a:lnTo>
                    <a:pt x="2570" y="1306"/>
                  </a:lnTo>
                  <a:lnTo>
                    <a:pt x="2557" y="1353"/>
                  </a:lnTo>
                  <a:lnTo>
                    <a:pt x="2496" y="1485"/>
                  </a:lnTo>
                  <a:lnTo>
                    <a:pt x="2495" y="1506"/>
                  </a:lnTo>
                  <a:lnTo>
                    <a:pt x="2528" y="1545"/>
                  </a:lnTo>
                  <a:lnTo>
                    <a:pt x="2579" y="1580"/>
                  </a:lnTo>
                  <a:lnTo>
                    <a:pt x="2677" y="1606"/>
                  </a:lnTo>
                  <a:lnTo>
                    <a:pt x="2767" y="1592"/>
                  </a:lnTo>
                  <a:lnTo>
                    <a:pt x="2835" y="1548"/>
                  </a:lnTo>
                  <a:lnTo>
                    <a:pt x="2897" y="1468"/>
                  </a:lnTo>
                  <a:lnTo>
                    <a:pt x="2944" y="1347"/>
                  </a:lnTo>
                  <a:lnTo>
                    <a:pt x="2937" y="1373"/>
                  </a:lnTo>
                  <a:lnTo>
                    <a:pt x="2885" y="1486"/>
                  </a:lnTo>
                  <a:lnTo>
                    <a:pt x="2898" y="1511"/>
                  </a:lnTo>
                  <a:lnTo>
                    <a:pt x="2941" y="1525"/>
                  </a:lnTo>
                  <a:lnTo>
                    <a:pt x="3039" y="1529"/>
                  </a:lnTo>
                  <a:lnTo>
                    <a:pt x="3128" y="1494"/>
                  </a:lnTo>
                  <a:lnTo>
                    <a:pt x="3201" y="1430"/>
                  </a:lnTo>
                  <a:lnTo>
                    <a:pt x="3225" y="1398"/>
                  </a:lnTo>
                  <a:lnTo>
                    <a:pt x="3247" y="1365"/>
                  </a:lnTo>
                  <a:lnTo>
                    <a:pt x="3265" y="1329"/>
                  </a:lnTo>
                  <a:lnTo>
                    <a:pt x="3284" y="1271"/>
                  </a:lnTo>
                  <a:lnTo>
                    <a:pt x="3298" y="1173"/>
                  </a:lnTo>
                </a:path>
              </a:pathLst>
            </a:custGeom>
            <a:gradFill rotWithShape="0">
              <a:gsLst>
                <a:gs pos="0">
                  <a:srgbClr val="438e00"/>
                </a:gs>
                <a:gs pos="100000">
                  <a:srgbClr val="3b7f00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647800" y="5140440"/>
              <a:ext cx="81756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416320" y="1447920"/>
              <a:ext cx="785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668680" y="2027160"/>
              <a:ext cx="447480" cy="31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626160" y="4013280"/>
              <a:ext cx="1489320" cy="739800"/>
              <a:chOff x="6626160" y="4013280"/>
              <a:chExt cx="1489320" cy="739800"/>
            </a:xfrm>
          </p:grpSpPr>
          <p:sp>
            <p:nvSpPr>
              <p:cNvPr id="161" name=""/>
              <p:cNvSpPr/>
              <p:nvPr/>
            </p:nvSpPr>
            <p:spPr>
              <a:xfrm>
                <a:off x="6626160" y="4013280"/>
                <a:ext cx="1489320" cy="739800"/>
              </a:xfrm>
              <a:prstGeom prst="roundRect">
                <a:avLst>
                  <a:gd name="adj" fmla="val 12486"/>
                </a:avLst>
              </a:prstGeom>
              <a:solidFill>
                <a:srgbClr val="3333cc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2280" y="4115520"/>
                <a:ext cx="14248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redit Car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cquir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84360" y="1795320"/>
              <a:ext cx="14540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c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unne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97120" y="2709720"/>
              <a:ext cx="1014480" cy="35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97160" y="5380200"/>
              <a:ext cx="131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3800" y="3645000"/>
              <a:ext cx="12999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16160" y="2062080"/>
              <a:ext cx="3234960" cy="2303280"/>
              <a:chOff x="3116160" y="2062080"/>
              <a:chExt cx="3234960" cy="2303280"/>
            </a:xfrm>
          </p:grpSpPr>
          <p:sp>
            <p:nvSpPr>
              <p:cNvPr id="168" name=""/>
              <p:cNvSpPr/>
              <p:nvPr/>
            </p:nvSpPr>
            <p:spPr>
              <a:xfrm>
                <a:off x="3116160" y="20620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40440" y="221796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64720" y="23738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89360" y="25297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13640" y="268560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38280" y="284148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62560" y="29973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86840" y="31532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92760" y="330912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17040" y="346500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41680" y="362088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5960" y="377676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0240" y="3932640"/>
                <a:ext cx="336240" cy="27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4880" y="4088520"/>
                <a:ext cx="336240" cy="276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68680" y="205092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6160" y="2016000"/>
              <a:ext cx="0" cy="305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133720"/>
              <a:ext cx="3516480" cy="2895480"/>
            </a:xfrm>
            <a:custGeom>
              <a:avLst/>
              <a:gdLst/>
              <a:ahLst/>
              <a:rect l="l" t="t" r="r" b="b"/>
              <a:pathLst>
                <a:path w="2305" h="2053">
                  <a:moveTo>
                    <a:pt x="0" y="2052"/>
                  </a:moveTo>
                  <a:lnTo>
                    <a:pt x="24" y="0"/>
                  </a:lnTo>
                  <a:lnTo>
                    <a:pt x="2304" y="16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3056040" y="1987560"/>
              <a:ext cx="3581280" cy="247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2560" y="2587680"/>
              <a:ext cx="16876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92760" y="4960800"/>
              <a:ext cx="1401840" cy="628920"/>
            </a:xfrm>
            <a:prstGeom prst="roundRect">
              <a:avLst>
                <a:gd name="adj" fmla="val 12486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0040" y="501012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ssu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562200" y="5297040"/>
              <a:ext cx="29131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5347080"/>
              <a:ext cx="2301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suer bills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61280" y="4762440"/>
              <a:ext cx="1116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8840" y="1224000"/>
            <a:ext cx="6886440" cy="4387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31080" y="5788080"/>
            <a:ext cx="594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http://www.software.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ibm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.com/commerce/payment/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specsheetetill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11360" y="136800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d reduced since all parties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ll parties to have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 to integrate with legac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: 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 is still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192800" y="32868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13536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-card-based, stored-value card (S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diary of Master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(National Westminister Bank, UK)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 chip-to-chip transf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s not in strings alone; must be on Mondex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d through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does not know transfer protocol; connects with secure device at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ing at merchants having a Mondex value transf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219720" y="399960"/>
            <a:ext cx="196560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297320" y="1876320"/>
            <a:ext cx="4491000" cy="4010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5120" y="1936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6360" y="1228680"/>
            <a:ext cx="4508640" cy="3492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390920" y="1844640"/>
            <a:ext cx="619200" cy="209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920" y="5802120"/>
            <a:ext cx="24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S: OKI, MONDEX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9560" y="2296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60240" y="1133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nd dormant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methods constantly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EC E6 level (milit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(Value Transfer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car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unique transactio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-response user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OS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 on the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96960" y="1821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dex Components (Hitach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83080" y="4246560"/>
            <a:ext cx="1643040" cy="177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41600" y="1176480"/>
            <a:ext cx="2162160" cy="2263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82560" y="1185840"/>
            <a:ext cx="2013120" cy="229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299280" y="1143000"/>
            <a:ext cx="2162160" cy="2259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239920" y="4330800"/>
            <a:ext cx="1617840" cy="165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49960" y="354528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less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06680" y="3495960"/>
            <a:ext cx="258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 Cash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1520" y="3546720"/>
            <a:ext cx="237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MCIA Reader/Wr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6600" y="4710960"/>
            <a:ext cx="116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74440" y="4638600"/>
            <a:ext cx="983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F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2720" y="5802120"/>
            <a:ext cx="154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ITAC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cash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556272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1371600" y="3809520"/>
            <a:ext cx="91440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671480" y="3804840"/>
            <a:ext cx="766800" cy="1376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814480" y="2357280"/>
            <a:ext cx="5040" cy="267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523880" y="2362320"/>
            <a:ext cx="11541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990720" y="2209320"/>
            <a:ext cx="1295280" cy="9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4648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191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33526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7432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2362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6320" y="1357200"/>
            <a:ext cx="511056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sumer buys Digicash from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nk sends Digicash bits to 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nsumer sends Digicash to merch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Merchant checks with Bank that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alid (not already sp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Bank verifies that Digicash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Parties complete transa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onsumer still has (invalid) 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transaction (checking with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ity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yment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move money over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money does not move over the Interne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s not set up for instantaneou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interaction among payment mechanism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card, bank account, payables systems,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nsaction cost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 to huge number of transactions (100 billion 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systems (SWIFT, FedWire) do not talk to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43120" y="34210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657520" y="4952880"/>
            <a:ext cx="4572000" cy="933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654280" y="1490760"/>
            <a:ext cx="4572000" cy="933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3280" y="1514520"/>
            <a:ext cx="140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draw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nting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680" y="3579840"/>
            <a:ext cx="13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000" y="5027760"/>
            <a:ext cx="117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560" y="2122560"/>
            <a:ext cx="179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BUYS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INS FROM A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16240" y="1123920"/>
            <a:ext cx="2471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SEND UN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LINDED COINS TO THE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27360" y="2500200"/>
            <a:ext cx="512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NK SIGNS COINS, SENDS THEM BACK.  ALICE UNBLINDS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525560" y="1263600"/>
            <a:ext cx="630360" cy="258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61480" y="3130560"/>
            <a:ext cx="148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PAYS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4880" y="3116160"/>
            <a:ext cx="178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64080" y="4759200"/>
            <a:ext cx="328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LICE TRANSFERS COINS TO CI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4680" y="4734000"/>
            <a:ext cx="192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VERIFIES CO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NOT SP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791320" y="3282840"/>
            <a:ext cx="482400" cy="196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60680" y="4929120"/>
            <a:ext cx="407880" cy="208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5680" y="4021200"/>
            <a:ext cx="1338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OB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86480" y="5815080"/>
            <a:ext cx="212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INDY GETS COINS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09040" y="1555920"/>
            <a:ext cx="105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WA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090920" y="1749600"/>
            <a:ext cx="67788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244600" y="212760"/>
            <a:ext cx="1335240" cy="9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Goods (e.g. musi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84920" y="1576800"/>
            <a:ext cx="379404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lient Requests Price Qu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rvice Provider Make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lient Accepts O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Goods delivered encry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Receipt 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ransaction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Transaction appr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Key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1720" y="1763640"/>
            <a:ext cx="4135680" cy="3862440"/>
            <a:chOff x="531720" y="1763640"/>
            <a:chExt cx="4135680" cy="3862440"/>
          </a:xfrm>
        </p:grpSpPr>
        <p:sp>
          <p:nvSpPr>
            <p:cNvPr id="279" name=""/>
            <p:cNvSpPr/>
            <p:nvPr/>
          </p:nvSpPr>
          <p:spPr>
            <a:xfrm>
              <a:off x="244152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5920" y="1917720"/>
              <a:ext cx="1311480" cy="1860480"/>
            </a:xfrm>
            <a:custGeom>
              <a:avLst/>
              <a:gdLst>
                <a:gd name="textAreaLeft" fmla="*/ 47880 w 1311480"/>
                <a:gd name="textAreaRight" fmla="*/ 1263600 w 1311480"/>
                <a:gd name="textAreaTop" fmla="*/ 47880 h 1860480"/>
                <a:gd name="textAreaBottom" fmla="*/ 1812600 h 1860480"/>
              </a:gdLst>
              <a:ahLst/>
              <a:rect l="textAreaLeft" t="textAreaTop" r="textAreaRight" b="textAreaBottom"/>
              <a:pathLst>
                <a:path w="21600" h="30640">
                  <a:moveTo>
                    <a:pt x="2697" y="0"/>
                  </a:moveTo>
                  <a:arcTo wR="2697" hR="2697" stAng="16200000" swAng="-5400000"/>
                  <a:lnTo>
                    <a:pt x="0" y="27943"/>
                  </a:lnTo>
                  <a:arcTo wR="2697" hR="2697" stAng="10800000" swAng="-5400000"/>
                  <a:lnTo>
                    <a:pt x="18903" y="30640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720" y="1974960"/>
              <a:ext cx="1389240" cy="1917720"/>
            </a:xfrm>
            <a:custGeom>
              <a:avLst/>
              <a:gdLst>
                <a:gd name="textAreaLeft" fmla="*/ 50760 w 1389240"/>
                <a:gd name="textAreaRight" fmla="*/ 1338480 w 1389240"/>
                <a:gd name="textAreaTop" fmla="*/ 50760 h 1917720"/>
                <a:gd name="textAreaBottom" fmla="*/ 1866960 h 1917720"/>
              </a:gdLst>
              <a:ahLst/>
              <a:rect l="textAreaLeft" t="textAreaTop" r="textAreaRight" b="textAreaBottom"/>
              <a:pathLst>
                <a:path w="21600" h="29815">
                  <a:moveTo>
                    <a:pt x="2697" y="0"/>
                  </a:moveTo>
                  <a:arcTo wR="2697" hR="2697" stAng="16200000" swAng="-5400000"/>
                  <a:lnTo>
                    <a:pt x="0" y="27118"/>
                  </a:lnTo>
                  <a:arcTo wR="2697" hR="2697" stAng="10800000" swAng="-5400000"/>
                  <a:lnTo>
                    <a:pt x="18903" y="29815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944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91960" y="24004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96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3348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44520" y="30942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080" y="2627280"/>
              <a:ext cx="1272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4680" y="2644920"/>
              <a:ext cx="1208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35240" y="4952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216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5112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0180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79640" y="367524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2880" y="2959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08080" y="23176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4320" y="214488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7560" y="2743200"/>
              <a:ext cx="136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9000" y="3460680"/>
              <a:ext cx="136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19480" y="3871800"/>
              <a:ext cx="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9160" y="3827520"/>
              <a:ext cx="0" cy="9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748920" y="5813280"/>
            <a:ext cx="2047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ARVIN SIR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dividual transactions are too small for credit card (e.g. $2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and Merchant sign up with Aggre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makes purchase.  Merchant notifies Aggreg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keeps Consumer’s account.  When amount owed is large enough (or every month), charges to Consumer’s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or sends money (less fees) to Mer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PASS, CyberCash, Glo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check is just a paper carrier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the data electronically: no paper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77960" y="2128680"/>
            <a:ext cx="7702560" cy="3812040"/>
            <a:chOff x="777960" y="2128680"/>
            <a:chExt cx="7702560" cy="381204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801720" y="2392200"/>
              <a:ext cx="76788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77960" y="2511360"/>
              <a:ext cx="1498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ENTER 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R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93720" y="5483160"/>
              <a:ext cx="2768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ENTER AUTOMATED CLEA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 (ACH) 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8880" y="2128680"/>
              <a:ext cx="2245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SECURE TRANS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CYBER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8840" y="2254320"/>
              <a:ext cx="226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CYBERSOURCE RO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 TO 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9360" y="4546440"/>
              <a:ext cx="1329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51160" y="5449680"/>
              <a:ext cx="1957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APPROVAL/DEC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4480" y="2813040"/>
              <a:ext cx="33516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2600" y="2579760"/>
              <a:ext cx="335160" cy="9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7720" y="2727360"/>
              <a:ext cx="371520" cy="84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56280" y="4149360"/>
              <a:ext cx="2840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369120" y="3989160"/>
              <a:ext cx="7048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016440" y="4136760"/>
              <a:ext cx="80316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: 1999 repeal of Glass-Steagall Act (19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anks to own “risky” ventures such as insurance companies and stock brok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the money f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on on-line banking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West on-line 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S telebanking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onic Bill Present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“present” bills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Payment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ol in the battle between banks and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Free demo, iBill on-line checks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EBP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ectronic bill presentment and pa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Gill, Logica, Netscape, PayNet, Trans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400" y="1471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yment security accomplished with P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s growing in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use of sma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purpose: EZ-Pass, house key, ATM, med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movement toward electronic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banking retains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bill presentment/payment ad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ound changes in money flow are a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money (a physical i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, traveler’s check, gift certificate, co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can be lost, it’s token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al money (account ledger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ed by orders (drafts, checks, frequent flier 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be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“clearing” and “settlement”.  No instant transfer (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a token backed by notational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he worst properties of token + no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rable Properties of Digital Mon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ly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le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ble into change  (pay for $10 item with $100 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geable, unste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(no one except parties know the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nymous (no one can identify the pay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ff-line (no need for on-line verification)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NOWN SYSTEM SATISFIES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for Electronic Pay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ney is lost or created in 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atom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and goods are exchanged atom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h or n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rty can deny its role in th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Payment Ra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70080" y="144792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9800" y="144792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520" y="144792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6680" y="151272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7880" y="151272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90880" y="151272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7600" y="3505320"/>
            <a:ext cx="8512200" cy="76176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69720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6680" y="369720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6840" y="369720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94200" y="36972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7600" y="2597040"/>
            <a:ext cx="8526240" cy="6796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400" y="273852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73852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9240" y="2563920"/>
            <a:ext cx="367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ath1"/>
                <a:ea typeface="Math1"/>
              </a:rPr>
              <a:t>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4200" y="273852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920" y="4495680"/>
            <a:ext cx="8511840" cy="6922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462456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684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6680" y="462456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94200" y="462456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9360" y="5791320"/>
            <a:ext cx="3015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IGITAL EQUIPMENT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Pay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L, SE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learing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online account for merchant and customer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Qp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payment (usually below $0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Milli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expensive ePaym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ard: $0.29 + 2% of transactio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100 charge costs the merchant $2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st conveni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allows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buy more than they can a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small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work for large amounts (too expen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9560" y="3430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dit Card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6840" y="12081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296480" y="5648400"/>
            <a:ext cx="1675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ING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8:00:03Z</dcterms:modified>
  <cp:revision>0</cp:revision>
  <dc:subject/>
  <dc:title>Electronic Payments</dc:title>
</cp:coreProperties>
</file>