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0.png" ContentType="image/png"/>
  <Override PartName="/ppt/media/image13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6960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90720" y="4057200"/>
            <a:ext cx="76960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4520" y="18284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90720" y="405720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34520" y="405720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92800" y="182844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4880" y="182844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90720" y="405720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92800" y="405720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4880" y="405720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37555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34520" y="1828440"/>
            <a:ext cx="37555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609480"/>
            <a:ext cx="73152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4520" y="1828440"/>
            <a:ext cx="37555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405720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37555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34520" y="18284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34520" y="405720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4520" y="18284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4057200"/>
            <a:ext cx="76960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91120" cy="4498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6252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ieclogo" descr=""/>
          <p:cNvPicPr/>
          <p:nvPr/>
        </p:nvPicPr>
        <p:blipFill>
          <a:blip r:embed="rId3"/>
          <a:stretch/>
        </p:blipFill>
        <p:spPr>
          <a:xfrm>
            <a:off x="0" y="0"/>
            <a:ext cx="1981080" cy="507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84440" y="6248520"/>
            <a:ext cx="154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School of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Computer Sci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43600" y="6459480"/>
            <a:ext cx="32004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ecutive Educati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0  Michael J Pocha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isri-drgn-logo" descr=""/>
          <p:cNvPicPr/>
          <p:nvPr/>
        </p:nvPicPr>
        <p:blipFill>
          <a:blip r:embed="rId4"/>
          <a:stretch/>
        </p:blipFill>
        <p:spPr>
          <a:xfrm>
            <a:off x="152280" y="5943600"/>
            <a:ext cx="717840" cy="7621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26036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" name=""/>
          <p:cNvGraphicFramePr/>
          <p:nvPr/>
        </p:nvGraphicFramePr>
        <p:xfrm>
          <a:off x="5943600" y="0"/>
          <a:ext cx="3200400" cy="54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0"/>
                    <a:ext cx="320040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Tahoma"/>
              </a:rPr>
              <a:t>Changing your Business into </a:t>
            </a:r>
            <a:br>
              <a:rPr sz="4000"/>
            </a:br>
            <a:r>
              <a:rPr b="1" lang="en-US" sz="4000" spc="-1" strike="noStrike">
                <a:solidFill>
                  <a:srgbClr val="ff0033"/>
                </a:solidFill>
                <a:latin typeface="Tahoma"/>
              </a:rPr>
              <a:t>an E-Business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5981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dnesday Sep 27 ‘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bd04924_" descr=""/>
          <p:cNvPicPr/>
          <p:nvPr/>
        </p:nvPicPr>
        <p:blipFill>
          <a:blip r:embed="rId1"/>
          <a:stretch/>
        </p:blipFill>
        <p:spPr>
          <a:xfrm>
            <a:off x="6095880" y="2438280"/>
            <a:ext cx="2525760" cy="3407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962520" y="3048120"/>
            <a:ext cx="1523880" cy="2209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457200" y="2971800"/>
            <a:ext cx="3047760" cy="2361960"/>
            <a:chOff x="457200" y="2971800"/>
            <a:chExt cx="3047760" cy="2361960"/>
          </a:xfrm>
        </p:grpSpPr>
        <p:sp>
          <p:nvSpPr>
            <p:cNvPr id="53" name="Gear"/>
            <p:cNvSpPr/>
            <p:nvPr/>
          </p:nvSpPr>
          <p:spPr>
            <a:xfrm>
              <a:off x="2147040" y="2971800"/>
              <a:ext cx="1357920" cy="10828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7200" y="3418200"/>
              <a:ext cx="1623960" cy="12949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10200" y="3895560"/>
              <a:ext cx="1804680" cy="1438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238880" y="3886200"/>
            <a:ext cx="1905120" cy="114300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33"/>
          </a:solidFill>
          <a:ln w="28440">
            <a:solidFill>
              <a:srgbClr val="f41a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3886200"/>
            <a:ext cx="2133720" cy="11430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5f5fd"/>
          </a:solidFill>
          <a:ln w="28440">
            <a:solidFill>
              <a:srgbClr val="f41a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95480" y="3886200"/>
            <a:ext cx="1905120" cy="114300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266ce"/>
          </a:solidFill>
          <a:ln w="28440">
            <a:solidFill>
              <a:srgbClr val="f41a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3886200"/>
            <a:ext cx="1905120" cy="114300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99"/>
          </a:solidFill>
          <a:ln w="28440">
            <a:solidFill>
              <a:srgbClr val="f41a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An Evolution and Revolution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way we use Technology in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47800" y="3961080"/>
            <a:ext cx="174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38600" y="3961080"/>
            <a:ext cx="170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gmt Inf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56840" y="3961080"/>
            <a:ext cx="19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94960" y="396144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Busi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0" y="2743200"/>
            <a:ext cx="3429000" cy="45972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54100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The Company: 1960’s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2057400"/>
            <a:ext cx="1371600" cy="398880"/>
          </a:xfrm>
          <a:prstGeom prst="rect">
            <a:avLst/>
          </a:prstGeom>
          <a:solidFill>
            <a:srgbClr val="af5fa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an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38480" y="1752480"/>
            <a:ext cx="1752840" cy="459720"/>
          </a:xfrm>
          <a:prstGeom prst="rect">
            <a:avLst/>
          </a:prstGeom>
          <a:solidFill>
            <a:srgbClr val="3266ce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3352680"/>
            <a:ext cx="1523880" cy="31320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velop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24480" y="3809880"/>
            <a:ext cx="1752840" cy="33732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tur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4267080"/>
            <a:ext cx="1523880" cy="33732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elive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24480" y="3352680"/>
            <a:ext cx="1752840" cy="33732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ustomer Servi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2743200"/>
            <a:ext cx="1371600" cy="398880"/>
          </a:xfrm>
          <a:prstGeom prst="rect">
            <a:avLst/>
          </a:prstGeom>
          <a:solidFill>
            <a:srgbClr val="af5fa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rke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2743200"/>
            <a:ext cx="1752840" cy="45972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5486400"/>
            <a:ext cx="1371600" cy="288360"/>
          </a:xfrm>
          <a:prstGeom prst="rect">
            <a:avLst/>
          </a:prstGeom>
          <a:solidFill>
            <a:srgbClr val="af5fa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rsonn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3657600"/>
            <a:ext cx="1371600" cy="620640"/>
          </a:xfrm>
          <a:prstGeom prst="rect">
            <a:avLst/>
          </a:prstGeom>
          <a:solidFill>
            <a:srgbClr val="af5fa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nance &amp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ct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5029200"/>
            <a:ext cx="1371600" cy="337320"/>
          </a:xfrm>
          <a:prstGeom prst="rect">
            <a:avLst/>
          </a:prstGeom>
          <a:solidFill>
            <a:srgbClr val="af5fa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dm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4267080"/>
            <a:ext cx="1371600" cy="642600"/>
          </a:xfrm>
          <a:prstGeom prst="rect">
            <a:avLst/>
          </a:prstGeom>
          <a:solidFill>
            <a:srgbClr val="f41af4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Data Process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5867280"/>
            <a:ext cx="1371600" cy="337320"/>
          </a:xfrm>
          <a:prstGeom prst="rect">
            <a:avLst/>
          </a:prstGeom>
          <a:solidFill>
            <a:srgbClr val="af5fa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eg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3809880"/>
            <a:ext cx="1523880" cy="33732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anufactur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99040" y="4799880"/>
            <a:ext cx="326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Tahoma"/>
              </a:rPr>
              <a:t>IBM  Mainfr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2362320"/>
            <a:ext cx="1066680" cy="337320"/>
          </a:xfrm>
          <a:prstGeom prst="rect">
            <a:avLst/>
          </a:prstGeom>
          <a:solidFill>
            <a:srgbClr val="3266ce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2133720" y="4648320"/>
            <a:ext cx="380880" cy="304560"/>
          </a:xfrm>
          <a:prstGeom prst="line">
            <a:avLst/>
          </a:prstGeom>
          <a:ln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3276720"/>
            <a:ext cx="1371600" cy="337320"/>
          </a:xfrm>
          <a:prstGeom prst="rect">
            <a:avLst/>
          </a:prstGeom>
          <a:solidFill>
            <a:srgbClr val="af5faf"/>
          </a:solidFill>
          <a:ln w="9360">
            <a:solidFill>
              <a:srgbClr val="00cc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Purchas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57600">
            <a:off x="7349400" y="3699360"/>
            <a:ext cx="3010680" cy="581400"/>
          </a:xfrm>
          <a:prstGeom prst="rect">
            <a:avLst/>
          </a:prstGeom>
          <a:solidFill>
            <a:srgbClr val="f9fd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Impact"/>
              </a:rPr>
              <a:t>The Custom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0" y="2743200"/>
            <a:ext cx="3429000" cy="45972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54100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The Company: 1980’s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2057400"/>
            <a:ext cx="1371600" cy="398880"/>
          </a:xfrm>
          <a:prstGeom prst="rect">
            <a:avLst/>
          </a:prstGeom>
          <a:solidFill>
            <a:srgbClr val="af5fa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rate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38480" y="1752480"/>
            <a:ext cx="1752840" cy="459720"/>
          </a:xfrm>
          <a:prstGeom prst="rect">
            <a:avLst/>
          </a:prstGeom>
          <a:solidFill>
            <a:srgbClr val="3266ce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3352680"/>
            <a:ext cx="1523880" cy="31320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velop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4495680"/>
            <a:ext cx="1752840" cy="33732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Qual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4267080"/>
            <a:ext cx="1523880" cy="33732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elive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24480" y="3352680"/>
            <a:ext cx="1752840" cy="33732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ustomer Servi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2743200"/>
            <a:ext cx="1371600" cy="398880"/>
          </a:xfrm>
          <a:prstGeom prst="rect">
            <a:avLst/>
          </a:prstGeom>
          <a:solidFill>
            <a:srgbClr val="af5fa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rke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38280" y="2743200"/>
            <a:ext cx="1752840" cy="45972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5638680"/>
            <a:ext cx="1371600" cy="288360"/>
          </a:xfrm>
          <a:prstGeom prst="rect">
            <a:avLst/>
          </a:prstGeom>
          <a:solidFill>
            <a:srgbClr val="af5fa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H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3581280"/>
            <a:ext cx="1371600" cy="434520"/>
          </a:xfrm>
          <a:prstGeom prst="rect">
            <a:avLst/>
          </a:prstGeom>
          <a:solidFill>
            <a:srgbClr val="af5fa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inance &amp; Acct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4648320"/>
            <a:ext cx="1371600" cy="337320"/>
          </a:xfrm>
          <a:prstGeom prst="rect">
            <a:avLst/>
          </a:prstGeom>
          <a:solidFill>
            <a:srgbClr val="af5fa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dm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5029200"/>
            <a:ext cx="1371600" cy="580680"/>
          </a:xfrm>
          <a:prstGeom prst="rect">
            <a:avLst/>
          </a:prstGeom>
          <a:solidFill>
            <a:srgbClr val="f41af4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Mgmt Info Syste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6019920"/>
            <a:ext cx="1371600" cy="337320"/>
          </a:xfrm>
          <a:prstGeom prst="rect">
            <a:avLst/>
          </a:prstGeom>
          <a:solidFill>
            <a:srgbClr val="af5fa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eg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809880"/>
            <a:ext cx="1523880" cy="33732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anufactur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14600" y="4800600"/>
            <a:ext cx="19810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4876920"/>
            <a:ext cx="1371600" cy="580680"/>
          </a:xfrm>
          <a:prstGeom prst="rect">
            <a:avLst/>
          </a:prstGeom>
          <a:solidFill>
            <a:srgbClr val="f41af4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Mgmt Info Syste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5181480"/>
            <a:ext cx="2438280" cy="0"/>
          </a:xfrm>
          <a:prstGeom prst="line">
            <a:avLst/>
          </a:prstGeom>
          <a:ln w="57240">
            <a:solidFill>
              <a:srgbClr val="f41a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24480" y="3809880"/>
            <a:ext cx="1752840" cy="580680"/>
          </a:xfrm>
          <a:prstGeom prst="rect">
            <a:avLst/>
          </a:prstGeom>
          <a:solidFill>
            <a:srgbClr val="f41af4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Mgmt Info Syste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867280" y="4267080"/>
            <a:ext cx="609840" cy="685800"/>
          </a:xfrm>
          <a:prstGeom prst="line">
            <a:avLst/>
          </a:prstGeom>
          <a:ln w="57240">
            <a:solidFill>
              <a:srgbClr val="f41a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4038480"/>
            <a:ext cx="1371600" cy="580680"/>
          </a:xfrm>
          <a:prstGeom prst="rect">
            <a:avLst/>
          </a:prstGeom>
          <a:solidFill>
            <a:srgbClr val="f41af4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Mgmt Info Syste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4267080"/>
            <a:ext cx="2438280" cy="914400"/>
          </a:xfrm>
          <a:prstGeom prst="line">
            <a:avLst/>
          </a:prstGeom>
          <a:ln w="57240">
            <a:solidFill>
              <a:srgbClr val="f41a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2362320"/>
            <a:ext cx="1066680" cy="337320"/>
          </a:xfrm>
          <a:prstGeom prst="rect">
            <a:avLst/>
          </a:prstGeom>
          <a:solidFill>
            <a:srgbClr val="3266ce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343400" y="2361960"/>
            <a:ext cx="0" cy="2514600"/>
          </a:xfrm>
          <a:prstGeom prst="line">
            <a:avLst/>
          </a:prstGeom>
          <a:ln w="57240">
            <a:solidFill>
              <a:srgbClr val="f41af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4343040" y="4876560"/>
            <a:ext cx="228600" cy="152280"/>
          </a:xfrm>
          <a:prstGeom prst="line">
            <a:avLst/>
          </a:prstGeom>
          <a:ln w="57240">
            <a:solidFill>
              <a:srgbClr val="f41a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38120" y="5561640"/>
            <a:ext cx="30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Tahoma"/>
              </a:rPr>
              <a:t>Minicompu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200400"/>
            <a:ext cx="1371600" cy="337320"/>
          </a:xfrm>
          <a:prstGeom prst="rect">
            <a:avLst/>
          </a:prstGeom>
          <a:solidFill>
            <a:srgbClr val="af5faf"/>
          </a:solidFill>
          <a:ln w="9360">
            <a:solidFill>
              <a:srgbClr val="00cc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Purchas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6257600">
            <a:off x="7216200" y="3713400"/>
            <a:ext cx="3010680" cy="581400"/>
          </a:xfrm>
          <a:prstGeom prst="rect">
            <a:avLst/>
          </a:prstGeom>
          <a:solidFill>
            <a:srgbClr val="f9fd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Impact"/>
              </a:rPr>
              <a:t>The Custom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 flipV="1">
            <a:off x="6553080" y="2514240"/>
            <a:ext cx="0" cy="3505320"/>
          </a:xfrm>
          <a:prstGeom prst="line">
            <a:avLst/>
          </a:prstGeom>
          <a:ln w="57240">
            <a:solidFill>
              <a:srgbClr val="f41a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447920" y="1904760"/>
            <a:ext cx="2590560" cy="685800"/>
          </a:xfrm>
          <a:prstGeom prst="line">
            <a:avLst/>
          </a:prstGeom>
          <a:ln w="57240">
            <a:solidFill>
              <a:srgbClr val="f41a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276720" y="2057040"/>
            <a:ext cx="914400" cy="685800"/>
          </a:xfrm>
          <a:prstGeom prst="line">
            <a:avLst/>
          </a:prstGeom>
          <a:ln w="57240">
            <a:solidFill>
              <a:srgbClr val="f41a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334120" y="2209320"/>
            <a:ext cx="0" cy="3886200"/>
          </a:xfrm>
          <a:prstGeom prst="line">
            <a:avLst/>
          </a:prstGeom>
          <a:ln w="57240">
            <a:solidFill>
              <a:srgbClr val="f41a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276720" y="2971440"/>
            <a:ext cx="0" cy="2971800"/>
          </a:xfrm>
          <a:prstGeom prst="line">
            <a:avLst/>
          </a:prstGeom>
          <a:ln w="57240">
            <a:solidFill>
              <a:srgbClr val="f41a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743200"/>
            <a:ext cx="3429000" cy="45972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54100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The Company: 1990’s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2590920"/>
            <a:ext cx="1371600" cy="398880"/>
          </a:xfrm>
          <a:prstGeom prst="rect">
            <a:avLst/>
          </a:prstGeom>
          <a:solidFill>
            <a:srgbClr val="af5fa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rate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38480" y="1752480"/>
            <a:ext cx="1752840" cy="459720"/>
          </a:xfrm>
          <a:prstGeom prst="rect">
            <a:avLst/>
          </a:prstGeom>
          <a:solidFill>
            <a:srgbClr val="3266ce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3352680"/>
            <a:ext cx="1523880" cy="31320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velop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3809880"/>
            <a:ext cx="1752840" cy="33732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Qual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4267080"/>
            <a:ext cx="1523880" cy="33732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elive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3352680"/>
            <a:ext cx="1752840" cy="33732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ustomer Servi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38280" y="2743200"/>
            <a:ext cx="1752840" cy="459720"/>
          </a:xfrm>
          <a:prstGeom prst="rect">
            <a:avLst/>
          </a:prstGeom>
          <a:solidFill>
            <a:srgbClr val="ff0033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k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38280" y="3809880"/>
            <a:ext cx="1447920" cy="36828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4876920"/>
            <a:ext cx="1371600" cy="288360"/>
          </a:xfrm>
          <a:prstGeom prst="rect">
            <a:avLst/>
          </a:prstGeom>
          <a:solidFill>
            <a:srgbClr val="af5fa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H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3886200"/>
            <a:ext cx="1371600" cy="477720"/>
          </a:xfrm>
          <a:prstGeom prst="rect">
            <a:avLst/>
          </a:prstGeom>
          <a:solidFill>
            <a:srgbClr val="af5fa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nance &amp; Acct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4419720"/>
            <a:ext cx="1371600" cy="337320"/>
          </a:xfrm>
          <a:prstGeom prst="rect">
            <a:avLst/>
          </a:prstGeom>
          <a:solidFill>
            <a:srgbClr val="af5fa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dm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5638680"/>
            <a:ext cx="7696080" cy="520560"/>
          </a:xfrm>
          <a:prstGeom prst="rect">
            <a:avLst/>
          </a:prstGeom>
          <a:solidFill>
            <a:srgbClr val="f41af4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formation Techn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5257800"/>
            <a:ext cx="1371600" cy="337320"/>
          </a:xfrm>
          <a:prstGeom prst="rect">
            <a:avLst/>
          </a:prstGeom>
          <a:solidFill>
            <a:srgbClr val="af5fa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eg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3809880"/>
            <a:ext cx="1523880" cy="33732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anufactur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4267080"/>
            <a:ext cx="1447920" cy="31320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 Mgm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153280" y="2514600"/>
            <a:ext cx="304920" cy="3657600"/>
          </a:xfrm>
          <a:prstGeom prst="rect">
            <a:avLst/>
          </a:prstGeom>
          <a:solidFill>
            <a:srgbClr val="f41af4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2057400"/>
            <a:ext cx="1905120" cy="459720"/>
          </a:xfrm>
          <a:prstGeom prst="rect">
            <a:avLst/>
          </a:prstGeom>
          <a:solidFill>
            <a:srgbClr val="f41af4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3048120"/>
            <a:ext cx="1219320" cy="520560"/>
          </a:xfrm>
          <a:prstGeom prst="rect">
            <a:avLst/>
          </a:prstGeom>
          <a:solidFill>
            <a:srgbClr val="3266ce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F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2362320"/>
            <a:ext cx="1066680" cy="337320"/>
          </a:xfrm>
          <a:prstGeom prst="rect">
            <a:avLst/>
          </a:prstGeom>
          <a:solidFill>
            <a:srgbClr val="3266ce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762120" y="2819160"/>
            <a:ext cx="0" cy="2971800"/>
          </a:xfrm>
          <a:prstGeom prst="line">
            <a:avLst/>
          </a:prstGeom>
          <a:ln w="57240">
            <a:solidFill>
              <a:srgbClr val="f41a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5867280" y="2057040"/>
            <a:ext cx="609840" cy="304920"/>
          </a:xfrm>
          <a:prstGeom prst="line">
            <a:avLst/>
          </a:prstGeom>
          <a:ln w="57240">
            <a:solidFill>
              <a:srgbClr val="f41a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17720" y="4952160"/>
            <a:ext cx="95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Tahoma"/>
              </a:rPr>
              <a:t>PC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69800" y="4952160"/>
            <a:ext cx="95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Tahoma"/>
              </a:rPr>
              <a:t>PC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70200" y="4952160"/>
            <a:ext cx="95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Tahoma"/>
              </a:rPr>
              <a:t>PC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146720" y="4952160"/>
            <a:ext cx="95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Tahoma"/>
              </a:rPr>
              <a:t>PC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43200" y="4876920"/>
            <a:ext cx="5410080" cy="0"/>
          </a:xfrm>
          <a:prstGeom prst="line">
            <a:avLst/>
          </a:prstGeom>
          <a:ln w="28440">
            <a:solidFill>
              <a:srgbClr val="f41a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3505320"/>
            <a:ext cx="1371600" cy="337320"/>
          </a:xfrm>
          <a:prstGeom prst="rect">
            <a:avLst/>
          </a:prstGeom>
          <a:solidFill>
            <a:srgbClr val="af5faf"/>
          </a:solidFill>
          <a:ln w="9360">
            <a:solidFill>
              <a:srgbClr val="00cc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Purchas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38280" y="3352680"/>
            <a:ext cx="1447920" cy="36828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sear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4648320"/>
            <a:ext cx="1447920" cy="36828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rand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16235400">
            <a:off x="7349760" y="3699360"/>
            <a:ext cx="3010680" cy="581400"/>
          </a:xfrm>
          <a:prstGeom prst="rect">
            <a:avLst/>
          </a:prstGeom>
          <a:solidFill>
            <a:srgbClr val="f9fd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Impact"/>
              </a:rPr>
              <a:t>The Custom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762120" y="1752480"/>
            <a:ext cx="8153280" cy="4419720"/>
          </a:xfrm>
          <a:prstGeom prst="rect">
            <a:avLst/>
          </a:prstGeom>
          <a:solidFill>
            <a:srgbClr val="f41af4">
              <a:alpha val="50000"/>
            </a:srgbClr>
          </a:solidFill>
          <a:ln w="57240">
            <a:solidFill>
              <a:srgbClr val="f41a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0" y="2743200"/>
            <a:ext cx="3429000" cy="45972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54100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The Company: 2000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2743200"/>
            <a:ext cx="1371600" cy="398880"/>
          </a:xfrm>
          <a:prstGeom prst="rect">
            <a:avLst/>
          </a:prstGeom>
          <a:solidFill>
            <a:srgbClr val="af5fa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rate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38480" y="1752480"/>
            <a:ext cx="1752840" cy="459720"/>
          </a:xfrm>
          <a:prstGeom prst="rect">
            <a:avLst/>
          </a:prstGeom>
          <a:solidFill>
            <a:srgbClr val="3266ce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3352680"/>
            <a:ext cx="1523880" cy="31320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velop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809880"/>
            <a:ext cx="1752840" cy="33732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Qual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4267080"/>
            <a:ext cx="1523880" cy="33732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Supply Cha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3352680"/>
            <a:ext cx="1752840" cy="33732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ustomer Servi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38280" y="2743200"/>
            <a:ext cx="1752840" cy="459720"/>
          </a:xfrm>
          <a:prstGeom prst="rect">
            <a:avLst/>
          </a:prstGeom>
          <a:solidFill>
            <a:srgbClr val="ff0033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k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38280" y="3352680"/>
            <a:ext cx="1447920" cy="36828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4876920"/>
            <a:ext cx="1371600" cy="288360"/>
          </a:xfrm>
          <a:prstGeom prst="rect">
            <a:avLst/>
          </a:prstGeom>
          <a:solidFill>
            <a:srgbClr val="af5fa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H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3886200"/>
            <a:ext cx="1371600" cy="477720"/>
          </a:xfrm>
          <a:prstGeom prst="rect">
            <a:avLst/>
          </a:prstGeom>
          <a:solidFill>
            <a:srgbClr val="af5fa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nance &amp; Acct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4419720"/>
            <a:ext cx="1371600" cy="337320"/>
          </a:xfrm>
          <a:prstGeom prst="rect">
            <a:avLst/>
          </a:prstGeom>
          <a:solidFill>
            <a:srgbClr val="af5fa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dm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5257800"/>
            <a:ext cx="1371600" cy="337320"/>
          </a:xfrm>
          <a:prstGeom prst="rect">
            <a:avLst/>
          </a:prstGeom>
          <a:solidFill>
            <a:srgbClr val="af5fa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eg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3809880"/>
            <a:ext cx="1523880" cy="33732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anufactur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38280" y="3809880"/>
            <a:ext cx="1447920" cy="31320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 Mgm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229600" y="2514600"/>
            <a:ext cx="685800" cy="3657600"/>
          </a:xfrm>
          <a:prstGeom prst="rect">
            <a:avLst/>
          </a:prstGeom>
          <a:solidFill>
            <a:srgbClr val="f41af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19320" y="2057400"/>
            <a:ext cx="1523880" cy="581400"/>
          </a:xfrm>
          <a:prstGeom prst="rect">
            <a:avLst/>
          </a:prstGeom>
          <a:solidFill>
            <a:srgbClr val="f41af4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56386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ology Plat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3200400"/>
            <a:ext cx="1218960" cy="307080"/>
          </a:xfrm>
          <a:prstGeom prst="rect">
            <a:avLst/>
          </a:prstGeom>
          <a:solidFill>
            <a:srgbClr val="3266ce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F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15000" y="2362320"/>
            <a:ext cx="1066680" cy="337320"/>
          </a:xfrm>
          <a:prstGeom prst="rect">
            <a:avLst/>
          </a:prstGeom>
          <a:solidFill>
            <a:srgbClr val="3266ce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3428640" y="2362320"/>
            <a:ext cx="1219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895120" y="2209680"/>
            <a:ext cx="114300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2286000"/>
            <a:ext cx="60948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05520" y="23623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285640" y="2362320"/>
            <a:ext cx="2514600" cy="3124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057040" y="2286000"/>
            <a:ext cx="2590920" cy="2514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904760" y="2286000"/>
            <a:ext cx="243828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400" y="4114800"/>
            <a:ext cx="4648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981080" y="3429000"/>
            <a:ext cx="4572000" cy="167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2285640" y="2743200"/>
            <a:ext cx="251460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980720" y="2666880"/>
            <a:ext cx="388620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2971440" y="2514600"/>
            <a:ext cx="335268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75840" y="4952160"/>
            <a:ext cx="293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Tahoma"/>
              </a:rPr>
              <a:t>Web Brow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828800" y="3429000"/>
            <a:ext cx="28954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2057040" y="2971800"/>
            <a:ext cx="42670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209680" y="2514600"/>
            <a:ext cx="3581640" cy="2819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2680" y="4038480"/>
            <a:ext cx="1371600" cy="337320"/>
          </a:xfrm>
          <a:prstGeom prst="rect">
            <a:avLst/>
          </a:prstGeom>
          <a:solidFill>
            <a:srgbClr val="af5faf"/>
          </a:solidFill>
          <a:ln w="9360">
            <a:solidFill>
              <a:srgbClr val="00cc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Procur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14600" y="4495680"/>
            <a:ext cx="1447920" cy="36828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sear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14600" y="5029200"/>
            <a:ext cx="1447920" cy="36828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rand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6235400">
            <a:off x="7349760" y="3699360"/>
            <a:ext cx="3010680" cy="581400"/>
          </a:xfrm>
          <a:prstGeom prst="rect">
            <a:avLst/>
          </a:prstGeom>
          <a:solidFill>
            <a:srgbClr val="f9fd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Impact"/>
              </a:rPr>
              <a:t>The Custom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52280" y="1447920"/>
            <a:ext cx="8991720" cy="5410080"/>
          </a:xfrm>
          <a:prstGeom prst="ellipse">
            <a:avLst/>
          </a:prstGeom>
          <a:solidFill>
            <a:srgbClr val="bbc002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2743200"/>
            <a:ext cx="3429000" cy="45972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The Company: next three years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2743200"/>
            <a:ext cx="1371600" cy="398880"/>
          </a:xfrm>
          <a:prstGeom prst="rect">
            <a:avLst/>
          </a:prstGeom>
          <a:solidFill>
            <a:srgbClr val="af5fa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rate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38480" y="1752480"/>
            <a:ext cx="1752840" cy="459720"/>
          </a:xfrm>
          <a:prstGeom prst="rect">
            <a:avLst/>
          </a:prstGeom>
          <a:solidFill>
            <a:srgbClr val="3266ce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352680"/>
            <a:ext cx="1523880" cy="31320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velop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324480" y="3809880"/>
            <a:ext cx="1752840" cy="33732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Qual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0" y="4267080"/>
            <a:ext cx="1523880" cy="33732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Supply Cha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24480" y="3352680"/>
            <a:ext cx="1752840" cy="33732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ustomer Servi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743200"/>
            <a:ext cx="1752840" cy="459720"/>
          </a:xfrm>
          <a:prstGeom prst="rect">
            <a:avLst/>
          </a:prstGeom>
          <a:solidFill>
            <a:srgbClr val="ff0033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k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438280" y="3352680"/>
            <a:ext cx="1447920" cy="36828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4876920"/>
            <a:ext cx="1371600" cy="288360"/>
          </a:xfrm>
          <a:prstGeom prst="rect">
            <a:avLst/>
          </a:prstGeom>
          <a:solidFill>
            <a:srgbClr val="af5fa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H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2120" y="3657600"/>
            <a:ext cx="1371600" cy="620640"/>
          </a:xfrm>
          <a:prstGeom prst="rect">
            <a:avLst/>
          </a:prstGeom>
          <a:solidFill>
            <a:srgbClr val="af5fa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nance &amp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ct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" y="4419720"/>
            <a:ext cx="1371600" cy="337320"/>
          </a:xfrm>
          <a:prstGeom prst="rect">
            <a:avLst/>
          </a:prstGeom>
          <a:solidFill>
            <a:srgbClr val="af5fa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dm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5257800"/>
            <a:ext cx="1371600" cy="337320"/>
          </a:xfrm>
          <a:prstGeom prst="rect">
            <a:avLst/>
          </a:prstGeom>
          <a:solidFill>
            <a:srgbClr val="af5fa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eg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3809880"/>
            <a:ext cx="1523880" cy="33732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anufactur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38280" y="3809880"/>
            <a:ext cx="1447920" cy="31320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 Mgm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19320" y="2057400"/>
            <a:ext cx="1523880" cy="581400"/>
          </a:xfrm>
          <a:prstGeom prst="rect">
            <a:avLst/>
          </a:prstGeom>
          <a:solidFill>
            <a:srgbClr val="f41af4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60958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Showcard Gothic"/>
              </a:rPr>
              <a:t>Wireless Networ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3276720"/>
            <a:ext cx="1218960" cy="307080"/>
          </a:xfrm>
          <a:prstGeom prst="rect">
            <a:avLst/>
          </a:prstGeom>
          <a:solidFill>
            <a:srgbClr val="3266ce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F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15000" y="2362320"/>
            <a:ext cx="1066680" cy="337320"/>
          </a:xfrm>
          <a:prstGeom prst="rect">
            <a:avLst/>
          </a:prstGeom>
          <a:solidFill>
            <a:srgbClr val="3266ce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8640" y="2362320"/>
            <a:ext cx="1219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895120" y="2209680"/>
            <a:ext cx="114300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34120" y="2286000"/>
            <a:ext cx="60948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23623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2285640" y="2362320"/>
            <a:ext cx="2514600" cy="3124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2057040" y="2286000"/>
            <a:ext cx="2590920" cy="2514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904760" y="2286000"/>
            <a:ext cx="243828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2057400" y="4114800"/>
            <a:ext cx="4648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1981080" y="3429000"/>
            <a:ext cx="4572000" cy="167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2285640" y="2743200"/>
            <a:ext cx="251460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980720" y="2666880"/>
            <a:ext cx="388620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2971440" y="2514600"/>
            <a:ext cx="335268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065200" y="5257080"/>
            <a:ext cx="36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ahoma"/>
              </a:rPr>
              <a:t>Handheld De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1828800" y="3429000"/>
            <a:ext cx="28954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2057040" y="2971800"/>
            <a:ext cx="42670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209680" y="2514600"/>
            <a:ext cx="3581640" cy="2819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09880" y="4952880"/>
            <a:ext cx="1371600" cy="1067040"/>
          </a:xfrm>
          <a:prstGeom prst="lightningBolt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29000" y="3962520"/>
            <a:ext cx="1371600" cy="337320"/>
          </a:xfrm>
          <a:prstGeom prst="rect">
            <a:avLst/>
          </a:prstGeom>
          <a:solidFill>
            <a:srgbClr val="af5faf"/>
          </a:solidFill>
          <a:ln w="9360">
            <a:solidFill>
              <a:srgbClr val="00cc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Procur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4495680"/>
            <a:ext cx="1447920" cy="36828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sear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14600" y="5029200"/>
            <a:ext cx="1447920" cy="36828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rand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rot="16235400">
            <a:off x="6938640" y="3699360"/>
            <a:ext cx="3010680" cy="581400"/>
          </a:xfrm>
          <a:prstGeom prst="rect">
            <a:avLst/>
          </a:prstGeom>
          <a:solidFill>
            <a:srgbClr val="f9fd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Impact"/>
              </a:rPr>
              <a:t>The Custom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What Did We Learn ?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-think your entire business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ize that Information Technology is NOT a separate function, but is now part of every workers basic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information flow the same consideration as raw material and product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impact of m-commerce,  the wireless, mobile wor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3809880"/>
            <a:ext cx="380880" cy="609840"/>
          </a:xfrm>
          <a:prstGeom prst="line">
            <a:avLst/>
          </a:prstGeom>
          <a:ln w="57240">
            <a:solidFill>
              <a:srgbClr val="fa3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343400" y="3504960"/>
            <a:ext cx="609480" cy="1143000"/>
          </a:xfrm>
          <a:prstGeom prst="line">
            <a:avLst/>
          </a:prstGeom>
          <a:ln w="76320">
            <a:solidFill>
              <a:srgbClr val="fa3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63400" y="2787480"/>
            <a:ext cx="2696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1e9c27"/>
                </a:solidFill>
                <a:latin typeface="Chiller"/>
              </a:rPr>
              <a:t>with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eacock_8%5B1%5D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781680" cy="503244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2666520"/>
            <a:ext cx="731520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What Makes an e-Business Different ? 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What is e-Business ?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Business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Business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Business Tools .. </a:t>
            </a:r>
            <a:r>
              <a:rPr b="1" i="1" lang="en-US" sz="2800" spc="-1" strike="noStrike">
                <a:solidFill>
                  <a:srgbClr val="ff0033"/>
                </a:solidFill>
                <a:latin typeface="Arial"/>
              </a:rPr>
              <a:t>That never existed before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 and Supplier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Rate of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Culture of Thinking and Speed of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Types of E-Business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rtual Storefr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Tahoma"/>
              </a:rPr>
              <a:t>Suppli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ells goods and services on-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rketplace Concent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entrates info from multiple </a:t>
            </a:r>
            <a:r>
              <a:rPr b="1" lang="en-US" sz="2000" spc="-1" strike="noStrike">
                <a:solidFill>
                  <a:srgbClr val="ff0033"/>
                </a:solidFill>
                <a:latin typeface="Tahoma"/>
              </a:rPr>
              <a:t>Supplier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earch, comparison shopping 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u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Goal of Today's Session</a:t>
            </a: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study the evolution of Information Technology and apply that to the necessary evolution of your Company’s Business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pact of eComme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e-business came to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e-business ? How does it differ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Transformation of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thod for Discrete Analysis of Your Business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ing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Types of E-Business (cont.) 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action Brok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uy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n view rate, but purpose is to complete transaction between Buyers and </a:t>
            </a:r>
            <a:r>
              <a:rPr b="0" lang="en-US" sz="2000" spc="-1" strike="noStrike">
                <a:solidFill>
                  <a:srgbClr val="ff0033"/>
                </a:solidFill>
                <a:latin typeface="Tahoma"/>
              </a:rPr>
              <a:t>Supplie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out allowing Buyer to meet Supplier di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rket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ngs </a:t>
            </a:r>
            <a:r>
              <a:rPr b="1" lang="en-US" sz="2000" spc="-1" strike="noStrike">
                <a:solidFill>
                  <a:srgbClr val="ff0033"/>
                </a:solidFill>
                <a:latin typeface="Tahoma"/>
              </a:rPr>
              <a:t>Supplie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uye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gether in Auctions, Reverse A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Types of E-Business (cont.)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Product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</a:rPr>
              <a:t>Suppli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ells and delivers software and other digital products over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nt Prov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s revenue by providing content, and is paid by "Webvertising" or Access Fees.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</a:rPr>
              <a:t>Suppli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advertise or spons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Types of E-Business (cont.)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ervice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the Internet connections and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ervice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 use of software for rental f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r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rch engines, indexes, and directories of </a:t>
            </a:r>
            <a:r>
              <a:rPr b="1" lang="en-US" sz="2000" spc="-1" strike="noStrike">
                <a:solidFill>
                  <a:srgbClr val="ff0033"/>
                </a:solidFill>
                <a:latin typeface="Tahoma"/>
              </a:rPr>
              <a:t>Supplie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 Some offer free e-mail and n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The Stages of Growth</a:t>
            </a:r>
            <a:br>
              <a:rPr sz="4000"/>
            </a:b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in an e-Business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Pres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quivalent of posting "brochureware" on the web as a placehol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Busin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 can browse its web site and place orders, but there is  not yet a true integration of customers, suppliers and partn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d Online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d the customer-facing, front-end of its web site with back-end systems linked to key suppliers and third-par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 Integrated E-Busin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mlessly integrated its partners, suppliers and customers into its online operations. The smartest players know enough to stick to core compet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 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Transforming Your Business Processes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4343400" y="3962520"/>
            <a:ext cx="1523880" cy="2209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33720" y="4495680"/>
            <a:ext cx="1828800" cy="1214640"/>
          </a:xfrm>
          <a:prstGeom prst="flowChartMultidocumen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95880" y="4267080"/>
            <a:ext cx="1219320" cy="1295640"/>
          </a:xfrm>
          <a:prstGeom prst="lightningBol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What to Do ?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00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Your Business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00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Your CUSTOMERS’S Business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00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new Processes and Tools that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00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your Strategy -&gt; Objectives -&gt; Pl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00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them into your NEW e-Business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00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e th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19320" y="28191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How Your Customers Do Business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Define How </a:t>
            </a:r>
            <a:br>
              <a:rPr sz="4000"/>
            </a:b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Your Customers Do Business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basic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ill raise their ‘satisfaction’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pid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y pay and s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hey buy and 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alesman were they used to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nformation can they provide / you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the Value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can you add Value or subtract Cos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Processes and Met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Define / Change </a:t>
            </a:r>
            <a:br>
              <a:rPr sz="4000"/>
            </a:b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How YOU Do Business</a:t>
            </a: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your Internal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your External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an e-capabilities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YOU buy and trans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003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alesman were they used to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nformation you ha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Value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Processes and Met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003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the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19320" y="28191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A Simple Example of </a:t>
            </a:r>
            <a:br>
              <a:rPr sz="4000"/>
            </a:b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e-Transformation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Mr Pochan’s qualifications</a:t>
            </a: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nct Assistant Professor of Ecommerce and Entrepreneurshi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negie Mel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 Chemical Engineering, MS Industrial Admin ( MBA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seTe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3 – 1998        C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ertical market software prov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ic payment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50 installs, 22 countries, 5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ttsburgh, London, Stockholm, Syd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yota Credit, Ford Credit, Yamaha Credit, Hyundai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red by CFS Group p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Example: Purchase Order Process</a:t>
            </a: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44193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from Product Cata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est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e P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Ven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gotiate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mit Purchase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ve and Route P.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lfill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d Inv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Invoice in 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y Supplier by Ch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Example: Purchase Order Process</a:t>
            </a: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ff"/>
                </a:solidFill>
                <a:latin typeface="Tahoma"/>
              </a:rPr>
              <a:t>(new way)</a:t>
            </a: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44193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from Product Cata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est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e P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Ven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gotiate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mit Purchase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ve and Route P.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lfill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d Inv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Invoice in 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y Supplier by Ch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1828800"/>
            <a:ext cx="5410080" cy="4191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from </a:t>
            </a: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Onl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duct Catalo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Low Price Vendor </a:t>
            </a: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via A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 your Pr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rove Purchase and </a:t>
            </a: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ePay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lfill Or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963160" y="4952880"/>
            <a:ext cx="673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e9c27"/>
                </a:solidFill>
                <a:latin typeface="Chiller"/>
              </a:rPr>
              <a:t>Less steps !!! = less ti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680" y="26668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How to Integrate Closely to Your Customer’s Business Processes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981080" y="2286000"/>
            <a:ext cx="0" cy="3733920"/>
          </a:xfrm>
          <a:prstGeom prst="line">
            <a:avLst/>
          </a:prstGeom>
          <a:ln w="57240">
            <a:solidFill>
              <a:srgbClr val="f41af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CUSTOMER Business Processes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>
            <a:off x="990720" y="2133720"/>
            <a:ext cx="2209680" cy="398880"/>
          </a:xfrm>
          <a:prstGeom prst="rect">
            <a:avLst/>
          </a:prstGeom>
          <a:solidFill>
            <a:srgbClr val="17a20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ob Order Recei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2743200"/>
            <a:ext cx="2209680" cy="398880"/>
          </a:xfrm>
          <a:prstGeom prst="rect">
            <a:avLst/>
          </a:prstGeom>
          <a:solidFill>
            <a:srgbClr val="17a20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ventory Check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90720" y="3962520"/>
            <a:ext cx="2514600" cy="398880"/>
          </a:xfrm>
          <a:prstGeom prst="rect">
            <a:avLst/>
          </a:prstGeom>
          <a:solidFill>
            <a:srgbClr val="17a20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rchase Order issu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90720" y="4495680"/>
            <a:ext cx="1981080" cy="398880"/>
          </a:xfrm>
          <a:prstGeom prst="rect">
            <a:avLst/>
          </a:prstGeom>
          <a:solidFill>
            <a:srgbClr val="17a20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ts Recei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5800" y="1676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Electrical Supply H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90720" y="3352680"/>
            <a:ext cx="1676160" cy="398880"/>
          </a:xfrm>
          <a:prstGeom prst="rect">
            <a:avLst/>
          </a:prstGeom>
          <a:solidFill>
            <a:srgbClr val="17a20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rder Plac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90720" y="5105520"/>
            <a:ext cx="1981080" cy="398880"/>
          </a:xfrm>
          <a:prstGeom prst="rect">
            <a:avLst/>
          </a:prstGeom>
          <a:solidFill>
            <a:srgbClr val="17a20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ob Order Fill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438280" y="5715000"/>
            <a:ext cx="1981440" cy="398880"/>
          </a:xfrm>
          <a:prstGeom prst="rect">
            <a:avLst/>
          </a:prstGeom>
          <a:solidFill>
            <a:srgbClr val="17a20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y Invo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971800" y="5334120"/>
            <a:ext cx="457200" cy="0"/>
          </a:xfrm>
          <a:prstGeom prst="line">
            <a:avLst/>
          </a:prstGeom>
          <a:ln w="57240">
            <a:solidFill>
              <a:srgbClr val="f41a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29000" y="5334120"/>
            <a:ext cx="0" cy="380880"/>
          </a:xfrm>
          <a:prstGeom prst="line">
            <a:avLst/>
          </a:prstGeom>
          <a:ln w="57240">
            <a:solidFill>
              <a:srgbClr val="f41af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81280" y="4191120"/>
            <a:ext cx="1067040" cy="0"/>
          </a:xfrm>
          <a:prstGeom prst="line">
            <a:avLst/>
          </a:prstGeom>
          <a:ln w="5724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419720" y="5181480"/>
            <a:ext cx="990360" cy="609840"/>
          </a:xfrm>
          <a:prstGeom prst="line">
            <a:avLst/>
          </a:prstGeom>
          <a:ln w="5724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7010280" y="2666880"/>
            <a:ext cx="0" cy="358164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YOUR Business Processes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095880" y="4038480"/>
            <a:ext cx="1981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486400" y="1676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Manufactur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95880" y="2819520"/>
            <a:ext cx="1981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ssemb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95880" y="3429000"/>
            <a:ext cx="1981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vent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95880" y="2209680"/>
            <a:ext cx="1981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w Materia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95880" y="4648320"/>
            <a:ext cx="1981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cts Receiv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95880" y="5257800"/>
            <a:ext cx="1981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hipp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7010280" y="2666880"/>
            <a:ext cx="0" cy="358164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81080" y="2286000"/>
            <a:ext cx="0" cy="3733920"/>
          </a:xfrm>
          <a:prstGeom prst="line">
            <a:avLst/>
          </a:prstGeom>
          <a:ln w="57240">
            <a:solidFill>
              <a:srgbClr val="f41af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Customer and You Interact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326" name=""/>
          <p:cNvSpPr/>
          <p:nvPr/>
        </p:nvSpPr>
        <p:spPr>
          <a:xfrm>
            <a:off x="990720" y="2133720"/>
            <a:ext cx="2209680" cy="398880"/>
          </a:xfrm>
          <a:prstGeom prst="rect">
            <a:avLst/>
          </a:prstGeom>
          <a:solidFill>
            <a:srgbClr val="17a20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ob Order Recei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90720" y="2743200"/>
            <a:ext cx="2209680" cy="398880"/>
          </a:xfrm>
          <a:prstGeom prst="rect">
            <a:avLst/>
          </a:prstGeom>
          <a:solidFill>
            <a:srgbClr val="17a20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ventory Check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90720" y="3962520"/>
            <a:ext cx="2514600" cy="398880"/>
          </a:xfrm>
          <a:prstGeom prst="rect">
            <a:avLst/>
          </a:prstGeom>
          <a:solidFill>
            <a:srgbClr val="17a20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rchase Order issu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90720" y="4495680"/>
            <a:ext cx="1981080" cy="398880"/>
          </a:xfrm>
          <a:prstGeom prst="rect">
            <a:avLst/>
          </a:prstGeom>
          <a:solidFill>
            <a:srgbClr val="17a20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ts Recei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676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Electrical Supply H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90720" y="3352680"/>
            <a:ext cx="1676160" cy="398880"/>
          </a:xfrm>
          <a:prstGeom prst="rect">
            <a:avLst/>
          </a:prstGeom>
          <a:solidFill>
            <a:srgbClr val="17a20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rder Plac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90720" y="5105520"/>
            <a:ext cx="1981080" cy="398880"/>
          </a:xfrm>
          <a:prstGeom prst="rect">
            <a:avLst/>
          </a:prstGeom>
          <a:solidFill>
            <a:srgbClr val="17a20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ob Order Fill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438280" y="5715000"/>
            <a:ext cx="1981440" cy="398880"/>
          </a:xfrm>
          <a:prstGeom prst="rect">
            <a:avLst/>
          </a:prstGeom>
          <a:solidFill>
            <a:srgbClr val="17a20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y Invo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971800" y="5334120"/>
            <a:ext cx="457200" cy="0"/>
          </a:xfrm>
          <a:prstGeom prst="line">
            <a:avLst/>
          </a:prstGeom>
          <a:ln w="57240">
            <a:solidFill>
              <a:srgbClr val="f41a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29000" y="5334120"/>
            <a:ext cx="0" cy="380880"/>
          </a:xfrm>
          <a:prstGeom prst="line">
            <a:avLst/>
          </a:prstGeom>
          <a:ln w="57240">
            <a:solidFill>
              <a:srgbClr val="f41af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5880" y="4038480"/>
            <a:ext cx="1981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86400" y="1676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Manufactur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95880" y="2819520"/>
            <a:ext cx="1981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ssemb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95880" y="3429000"/>
            <a:ext cx="1981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vent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95880" y="2209680"/>
            <a:ext cx="1981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w Materia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95880" y="4648320"/>
            <a:ext cx="1981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cts Receiv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5880" y="5257800"/>
            <a:ext cx="1981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hipp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666880" y="3581280"/>
            <a:ext cx="3276720" cy="685800"/>
          </a:xfrm>
          <a:prstGeom prst="line">
            <a:avLst/>
          </a:prstGeom>
          <a:ln w="572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581280" y="4191120"/>
            <a:ext cx="2438640" cy="533160"/>
          </a:xfrm>
          <a:prstGeom prst="line">
            <a:avLst/>
          </a:prstGeom>
          <a:ln w="572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3047760" y="4723920"/>
            <a:ext cx="2971800" cy="6858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4495680" y="4952880"/>
            <a:ext cx="1447920" cy="990720"/>
          </a:xfrm>
          <a:prstGeom prst="line">
            <a:avLst/>
          </a:prstGeom>
          <a:ln w="5724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7010280" y="2666880"/>
            <a:ext cx="0" cy="243864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81080" y="2286000"/>
            <a:ext cx="0" cy="3733920"/>
          </a:xfrm>
          <a:prstGeom prst="line">
            <a:avLst/>
          </a:prstGeom>
          <a:ln w="57240">
            <a:solidFill>
              <a:srgbClr val="f41af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The e-Transformation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990720" y="2133720"/>
            <a:ext cx="2209680" cy="398880"/>
          </a:xfrm>
          <a:prstGeom prst="rect">
            <a:avLst/>
          </a:prstGeom>
          <a:solidFill>
            <a:srgbClr val="17a20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ob Order Recei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90720" y="2743200"/>
            <a:ext cx="2209680" cy="398880"/>
          </a:xfrm>
          <a:prstGeom prst="rect">
            <a:avLst/>
          </a:prstGeom>
          <a:solidFill>
            <a:srgbClr val="17a20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ventory Check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990720" y="4495680"/>
            <a:ext cx="1981080" cy="398880"/>
          </a:xfrm>
          <a:prstGeom prst="rect">
            <a:avLst/>
          </a:prstGeom>
          <a:solidFill>
            <a:srgbClr val="17a20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ts Recei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1676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Electrical Supply H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00400" y="3276720"/>
            <a:ext cx="1676520" cy="398880"/>
          </a:xfrm>
          <a:prstGeom prst="rect">
            <a:avLst/>
          </a:prstGeom>
          <a:solidFill>
            <a:srgbClr val="17a20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rder Plac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990720" y="5105520"/>
            <a:ext cx="1981080" cy="398880"/>
          </a:xfrm>
          <a:prstGeom prst="rect">
            <a:avLst/>
          </a:prstGeom>
          <a:solidFill>
            <a:srgbClr val="17a20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ob Order Fill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62520" y="2743200"/>
            <a:ext cx="1523880" cy="39888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86400" y="1676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Manufactur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95880" y="2819520"/>
            <a:ext cx="1981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ssemb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95880" y="2209680"/>
            <a:ext cx="1981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w Materia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86200" y="4038480"/>
            <a:ext cx="1828800" cy="39888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-Pay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95880" y="4419720"/>
            <a:ext cx="1981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hipp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047760" y="4648320"/>
            <a:ext cx="2971800" cy="7596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429000" y="2286000"/>
            <a:ext cx="2209680" cy="398880"/>
          </a:xfrm>
          <a:prstGeom prst="rect">
            <a:avLst/>
          </a:prstGeom>
          <a:solidFill>
            <a:srgbClr val="17a20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mand Projec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4876920" y="3048120"/>
            <a:ext cx="1218960" cy="380880"/>
          </a:xfrm>
          <a:prstGeom prst="line">
            <a:avLst/>
          </a:prstGeom>
          <a:ln w="57240">
            <a:solidFill>
              <a:srgbClr val="fa3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495680" y="3733920"/>
            <a:ext cx="228600" cy="304560"/>
          </a:xfrm>
          <a:prstGeom prst="line">
            <a:avLst/>
          </a:prstGeom>
          <a:ln w="57240">
            <a:solidFill>
              <a:srgbClr val="fa3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715000" y="4267080"/>
            <a:ext cx="380880" cy="152640"/>
          </a:xfrm>
          <a:prstGeom prst="line">
            <a:avLst/>
          </a:prstGeom>
          <a:ln w="57240">
            <a:solidFill>
              <a:srgbClr val="fa3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5638680" y="2438280"/>
            <a:ext cx="457200" cy="76320"/>
          </a:xfrm>
          <a:prstGeom prst="line">
            <a:avLst/>
          </a:prstGeom>
          <a:ln w="57240">
            <a:solidFill>
              <a:srgbClr val="fa3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4506840" cy="45720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43000" y="2057400"/>
            <a:ext cx="73152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Discrete Element Analysis of your Business Processes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 flipV="1">
            <a:off x="6553080" y="2514240"/>
            <a:ext cx="0" cy="3505320"/>
          </a:xfrm>
          <a:prstGeom prst="line">
            <a:avLst/>
          </a:prstGeom>
          <a:ln w="57240">
            <a:solidFill>
              <a:srgbClr val="f41a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1447920" y="1904760"/>
            <a:ext cx="2590560" cy="685800"/>
          </a:xfrm>
          <a:prstGeom prst="line">
            <a:avLst/>
          </a:prstGeom>
          <a:ln w="57240">
            <a:solidFill>
              <a:srgbClr val="f41a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3276720" y="2057040"/>
            <a:ext cx="914400" cy="685800"/>
          </a:xfrm>
          <a:prstGeom prst="line">
            <a:avLst/>
          </a:prstGeom>
          <a:ln w="57240">
            <a:solidFill>
              <a:srgbClr val="f41a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5334120" y="2209320"/>
            <a:ext cx="0" cy="3886200"/>
          </a:xfrm>
          <a:prstGeom prst="line">
            <a:avLst/>
          </a:prstGeom>
          <a:ln w="57240">
            <a:solidFill>
              <a:srgbClr val="f41a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276720" y="2971440"/>
            <a:ext cx="0" cy="2971800"/>
          </a:xfrm>
          <a:prstGeom prst="line">
            <a:avLst/>
          </a:prstGeom>
          <a:ln w="57240">
            <a:solidFill>
              <a:srgbClr val="f41a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72000" y="2743200"/>
            <a:ext cx="3429000" cy="45972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54100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Map All Processes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380" name=""/>
          <p:cNvSpPr/>
          <p:nvPr/>
        </p:nvSpPr>
        <p:spPr>
          <a:xfrm>
            <a:off x="762120" y="2590920"/>
            <a:ext cx="1371600" cy="398880"/>
          </a:xfrm>
          <a:prstGeom prst="rect">
            <a:avLst/>
          </a:prstGeom>
          <a:solidFill>
            <a:srgbClr val="af5fa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rate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038480" y="1752480"/>
            <a:ext cx="1752840" cy="459720"/>
          </a:xfrm>
          <a:prstGeom prst="rect">
            <a:avLst/>
          </a:prstGeom>
          <a:solidFill>
            <a:srgbClr val="3266ce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572000" y="3352680"/>
            <a:ext cx="1523880" cy="31320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velop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324480" y="3809880"/>
            <a:ext cx="1752840" cy="33732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Qual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0" y="4267080"/>
            <a:ext cx="1523880" cy="33732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elive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324480" y="3352680"/>
            <a:ext cx="1752840" cy="33732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ustomer Servi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2743200"/>
            <a:ext cx="1752840" cy="459720"/>
          </a:xfrm>
          <a:prstGeom prst="rect">
            <a:avLst/>
          </a:prstGeom>
          <a:solidFill>
            <a:srgbClr val="ff0033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k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38280" y="3809880"/>
            <a:ext cx="1447920" cy="36828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2120" y="4876920"/>
            <a:ext cx="1371600" cy="288360"/>
          </a:xfrm>
          <a:prstGeom prst="rect">
            <a:avLst/>
          </a:prstGeom>
          <a:solidFill>
            <a:srgbClr val="af5fa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H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62120" y="3886200"/>
            <a:ext cx="1371600" cy="477720"/>
          </a:xfrm>
          <a:prstGeom prst="rect">
            <a:avLst/>
          </a:prstGeom>
          <a:solidFill>
            <a:srgbClr val="af5fa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nance &amp; Acct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62120" y="4419720"/>
            <a:ext cx="1371600" cy="337320"/>
          </a:xfrm>
          <a:prstGeom prst="rect">
            <a:avLst/>
          </a:prstGeom>
          <a:solidFill>
            <a:srgbClr val="af5fa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dm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62120" y="5638680"/>
            <a:ext cx="8001000" cy="520560"/>
          </a:xfrm>
          <a:prstGeom prst="rect">
            <a:avLst/>
          </a:prstGeom>
          <a:solidFill>
            <a:srgbClr val="f41af4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formation Techn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62120" y="5257800"/>
            <a:ext cx="1371600" cy="337320"/>
          </a:xfrm>
          <a:prstGeom prst="rect">
            <a:avLst/>
          </a:prstGeom>
          <a:solidFill>
            <a:srgbClr val="af5fa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eg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0" y="3809880"/>
            <a:ext cx="1523880" cy="33732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anufactur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438280" y="4267080"/>
            <a:ext cx="1447920" cy="31320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 Mgm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010280" y="2057400"/>
            <a:ext cx="1905120" cy="459720"/>
          </a:xfrm>
          <a:prstGeom prst="rect">
            <a:avLst/>
          </a:prstGeom>
          <a:solidFill>
            <a:srgbClr val="f41af4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38080" y="3048120"/>
            <a:ext cx="1219320" cy="520560"/>
          </a:xfrm>
          <a:prstGeom prst="rect">
            <a:avLst/>
          </a:prstGeom>
          <a:solidFill>
            <a:srgbClr val="3266ce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F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15000" y="2362320"/>
            <a:ext cx="1066680" cy="337320"/>
          </a:xfrm>
          <a:prstGeom prst="rect">
            <a:avLst/>
          </a:prstGeom>
          <a:solidFill>
            <a:srgbClr val="3266ce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762120" y="2819160"/>
            <a:ext cx="0" cy="2971800"/>
          </a:xfrm>
          <a:prstGeom prst="line">
            <a:avLst/>
          </a:prstGeom>
          <a:ln w="57240">
            <a:solidFill>
              <a:srgbClr val="f41a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5867280" y="2057040"/>
            <a:ext cx="609840" cy="304920"/>
          </a:xfrm>
          <a:prstGeom prst="line">
            <a:avLst/>
          </a:prstGeom>
          <a:ln w="57240">
            <a:solidFill>
              <a:srgbClr val="f41a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743200" y="4876920"/>
            <a:ext cx="5410080" cy="0"/>
          </a:xfrm>
          <a:prstGeom prst="line">
            <a:avLst/>
          </a:prstGeom>
          <a:ln w="28440">
            <a:solidFill>
              <a:srgbClr val="f41a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62120" y="3505320"/>
            <a:ext cx="1371600" cy="337320"/>
          </a:xfrm>
          <a:prstGeom prst="rect">
            <a:avLst/>
          </a:prstGeom>
          <a:solidFill>
            <a:srgbClr val="af5fa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rchas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438280" y="3352680"/>
            <a:ext cx="1447920" cy="36828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sear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438280" y="4648320"/>
            <a:ext cx="1447920" cy="36828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rand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rot="16165200">
            <a:off x="7216200" y="3713400"/>
            <a:ext cx="3010680" cy="581400"/>
          </a:xfrm>
          <a:prstGeom prst="rect">
            <a:avLst/>
          </a:prstGeom>
          <a:solidFill>
            <a:srgbClr val="f9fd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Impact"/>
              </a:rPr>
              <a:t>The Custom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 flipV="1">
            <a:off x="6553080" y="2514240"/>
            <a:ext cx="0" cy="3505320"/>
          </a:xfrm>
          <a:prstGeom prst="line">
            <a:avLst/>
          </a:prstGeom>
          <a:ln w="57240">
            <a:solidFill>
              <a:srgbClr val="f41a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1447920" y="1904760"/>
            <a:ext cx="2590560" cy="685800"/>
          </a:xfrm>
          <a:prstGeom prst="line">
            <a:avLst/>
          </a:prstGeom>
          <a:ln w="57240">
            <a:solidFill>
              <a:srgbClr val="f41a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3276720" y="2057040"/>
            <a:ext cx="914400" cy="685800"/>
          </a:xfrm>
          <a:prstGeom prst="line">
            <a:avLst/>
          </a:prstGeom>
          <a:ln w="57240">
            <a:solidFill>
              <a:srgbClr val="f41a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5334120" y="2209320"/>
            <a:ext cx="0" cy="3886200"/>
          </a:xfrm>
          <a:prstGeom prst="line">
            <a:avLst/>
          </a:prstGeom>
          <a:ln w="57240">
            <a:solidFill>
              <a:srgbClr val="f41a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3276720" y="2971440"/>
            <a:ext cx="0" cy="2971800"/>
          </a:xfrm>
          <a:prstGeom prst="line">
            <a:avLst/>
          </a:prstGeom>
          <a:ln w="57240">
            <a:solidFill>
              <a:srgbClr val="f41a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0" y="2743200"/>
            <a:ext cx="3429000" cy="45972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54100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Zoom In…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413" name=""/>
          <p:cNvSpPr/>
          <p:nvPr/>
        </p:nvSpPr>
        <p:spPr>
          <a:xfrm>
            <a:off x="762120" y="2590920"/>
            <a:ext cx="1371600" cy="398880"/>
          </a:xfrm>
          <a:prstGeom prst="rect">
            <a:avLst/>
          </a:prstGeom>
          <a:solidFill>
            <a:srgbClr val="af5fa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rate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38480" y="1752480"/>
            <a:ext cx="1752840" cy="459720"/>
          </a:xfrm>
          <a:prstGeom prst="rect">
            <a:avLst/>
          </a:prstGeom>
          <a:solidFill>
            <a:srgbClr val="3266ce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0" y="3352680"/>
            <a:ext cx="1523880" cy="31320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velop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324480" y="3809880"/>
            <a:ext cx="1752840" cy="33732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Qual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0" y="4267080"/>
            <a:ext cx="1523880" cy="33732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elive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324480" y="3352680"/>
            <a:ext cx="1752840" cy="33732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ustomer Servi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2743200"/>
            <a:ext cx="1752840" cy="459720"/>
          </a:xfrm>
          <a:prstGeom prst="rect">
            <a:avLst/>
          </a:prstGeom>
          <a:solidFill>
            <a:srgbClr val="ff0033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k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38280" y="3809880"/>
            <a:ext cx="1447920" cy="36828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62120" y="4876920"/>
            <a:ext cx="1371600" cy="288360"/>
          </a:xfrm>
          <a:prstGeom prst="rect">
            <a:avLst/>
          </a:prstGeom>
          <a:solidFill>
            <a:srgbClr val="af5fa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H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2120" y="3886200"/>
            <a:ext cx="1371600" cy="477720"/>
          </a:xfrm>
          <a:prstGeom prst="rect">
            <a:avLst/>
          </a:prstGeom>
          <a:solidFill>
            <a:srgbClr val="af5fa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nance &amp; Acct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2120" y="4419720"/>
            <a:ext cx="1371600" cy="337320"/>
          </a:xfrm>
          <a:prstGeom prst="rect">
            <a:avLst/>
          </a:prstGeom>
          <a:solidFill>
            <a:srgbClr val="af5fa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dm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62120" y="5638680"/>
            <a:ext cx="8001000" cy="520560"/>
          </a:xfrm>
          <a:prstGeom prst="rect">
            <a:avLst/>
          </a:prstGeom>
          <a:solidFill>
            <a:srgbClr val="f41af4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formation Techn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62120" y="5257800"/>
            <a:ext cx="1371600" cy="337320"/>
          </a:xfrm>
          <a:prstGeom prst="rect">
            <a:avLst/>
          </a:prstGeom>
          <a:solidFill>
            <a:srgbClr val="af5fa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eg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572000" y="3809880"/>
            <a:ext cx="1523880" cy="33732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anufactur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438280" y="4267080"/>
            <a:ext cx="1447920" cy="31320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 Mgm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010280" y="2057400"/>
            <a:ext cx="1905120" cy="459720"/>
          </a:xfrm>
          <a:prstGeom prst="rect">
            <a:avLst/>
          </a:prstGeom>
          <a:solidFill>
            <a:srgbClr val="f41af4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38080" y="3048120"/>
            <a:ext cx="1219320" cy="520560"/>
          </a:xfrm>
          <a:prstGeom prst="rect">
            <a:avLst/>
          </a:prstGeom>
          <a:solidFill>
            <a:srgbClr val="3266ce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F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715000" y="2362320"/>
            <a:ext cx="1066680" cy="337320"/>
          </a:xfrm>
          <a:prstGeom prst="rect">
            <a:avLst/>
          </a:prstGeom>
          <a:solidFill>
            <a:srgbClr val="3266ce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762120" y="2819160"/>
            <a:ext cx="0" cy="2971800"/>
          </a:xfrm>
          <a:prstGeom prst="line">
            <a:avLst/>
          </a:prstGeom>
          <a:ln w="57240">
            <a:solidFill>
              <a:srgbClr val="f41a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 flipV="1">
            <a:off x="5867280" y="2057040"/>
            <a:ext cx="609840" cy="304920"/>
          </a:xfrm>
          <a:prstGeom prst="line">
            <a:avLst/>
          </a:prstGeom>
          <a:ln w="57240">
            <a:solidFill>
              <a:srgbClr val="f41a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743200" y="4876920"/>
            <a:ext cx="5410080" cy="0"/>
          </a:xfrm>
          <a:prstGeom prst="line">
            <a:avLst/>
          </a:prstGeom>
          <a:ln w="28440">
            <a:solidFill>
              <a:srgbClr val="f41a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62120" y="3505320"/>
            <a:ext cx="1371600" cy="337320"/>
          </a:xfrm>
          <a:prstGeom prst="rect">
            <a:avLst/>
          </a:prstGeom>
          <a:solidFill>
            <a:srgbClr val="af5fa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rchas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438280" y="3352680"/>
            <a:ext cx="1447920" cy="36828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sear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438280" y="4648320"/>
            <a:ext cx="1447920" cy="368280"/>
          </a:xfrm>
          <a:prstGeom prst="rect">
            <a:avLst/>
          </a:prstGeom>
          <a:solidFill>
            <a:srgbClr val="d32d4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rand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4419720"/>
            <a:ext cx="1752840" cy="1143000"/>
          </a:xfrm>
          <a:prstGeom prst="ellipse">
            <a:avLst/>
          </a:prstGeom>
          <a:noFill/>
          <a:ln w="76320">
            <a:solidFill>
              <a:srgbClr val="f8fd3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rot="6541800">
            <a:off x="966600" y="2376360"/>
            <a:ext cx="2666880" cy="1676520"/>
          </a:xfrm>
          <a:prstGeom prst="rightArrow">
            <a:avLst>
              <a:gd name="adj1" fmla="val 50000"/>
              <a:gd name="adj2" fmla="val 39768"/>
            </a:avLst>
          </a:prstGeom>
          <a:solidFill>
            <a:srgbClr val="f8fd3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16165200">
            <a:off x="7216200" y="3713400"/>
            <a:ext cx="3010680" cy="581400"/>
          </a:xfrm>
          <a:prstGeom prst="rect">
            <a:avLst/>
          </a:prstGeom>
          <a:solidFill>
            <a:srgbClr val="f9fd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Impact"/>
              </a:rPr>
              <a:t>The Custom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29714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The Unique Impact of eCommerce on Business</a:t>
            </a:r>
            <a:br>
              <a:rPr sz="4000"/>
            </a:b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…</a:t>
            </a: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and Define the Process Steps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4114800" cy="1447920"/>
          </a:xfrm>
          <a:prstGeom prst="rect">
            <a:avLst/>
          </a:prstGeom>
          <a:solidFill>
            <a:srgbClr val="af5fa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00"/>
                </a:solidFill>
                <a:latin typeface="Times New Roman"/>
              </a:rPr>
              <a:t>HR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990720" y="4267080"/>
            <a:ext cx="76960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Define Process RESU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Defien ACTIONS nee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Define Systems, People and Jobs nee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Qualifications for Peo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 Compens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920" y="1676520"/>
            <a:ext cx="5715000" cy="2438280"/>
          </a:xfrm>
          <a:prstGeom prst="ellipse">
            <a:avLst/>
          </a:prstGeom>
          <a:noFill/>
          <a:ln w="76320">
            <a:solidFill>
              <a:srgbClr val="f8fd3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Discrete Elements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4656240" y="1828800"/>
          <a:ext cx="4487760" cy="47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6240" y="1828800"/>
                    <a:ext cx="4487760" cy="47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"/>
          <p:cNvSpPr/>
          <p:nvPr/>
        </p:nvSpPr>
        <p:spPr>
          <a:xfrm>
            <a:off x="990720" y="1828800"/>
            <a:ext cx="35812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usiness Process is broken down into granular detai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lement is measured for time to perform and time elap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R-RELATIONSHIPS of the elements must be def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2743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Elements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1676520" y="754200"/>
          <a:ext cx="7467480" cy="610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54200"/>
                    <a:ext cx="7467480" cy="61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From Discrete Elements </a:t>
            </a:r>
            <a:br>
              <a:rPr sz="4000"/>
            </a:b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to e-Business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>
            <a:off x="990720" y="1828800"/>
            <a:ext cx="72388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, the complete Process must 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, unbroken f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ed by a Real-Time IT infrastru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erl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existing ERP systems are only a small part of this undertaking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 But they may be the central repository for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THE CUSTOM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ould remain the focus and beneficiary of this eff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Why </a:t>
            </a:r>
            <a:br>
              <a:rPr sz="4000"/>
            </a:b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Engineer the Process Elements ?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455" name=""/>
          <p:cNvSpPr/>
          <p:nvPr/>
        </p:nvSpPr>
        <p:spPr>
          <a:xfrm>
            <a:off x="1066680" y="1905120"/>
            <a:ext cx="7086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purposes of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engineering to meet the next cha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Trans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ability for grow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er Response to Market Shif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ng the System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ing as Process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43000" y="2057400"/>
            <a:ext cx="73152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Initiating Change in Your Company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3733920" y="3276720"/>
            <a:ext cx="2171520" cy="2790360"/>
            <a:chOff x="3733920" y="3276720"/>
            <a:chExt cx="2171520" cy="2790360"/>
          </a:xfrm>
        </p:grpSpPr>
        <p:sp>
          <p:nvSpPr>
            <p:cNvPr id="459" name="Puzzle3"/>
            <p:cNvSpPr/>
            <p:nvPr/>
          </p:nvSpPr>
          <p:spPr>
            <a:xfrm>
              <a:off x="4791240" y="3276720"/>
              <a:ext cx="853560" cy="148284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Puzzle2"/>
            <p:cNvSpPr/>
            <p:nvPr/>
          </p:nvSpPr>
          <p:spPr>
            <a:xfrm>
              <a:off x="4543200" y="4357080"/>
              <a:ext cx="1362240" cy="13507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Puzzle4"/>
            <p:cNvSpPr/>
            <p:nvPr/>
          </p:nvSpPr>
          <p:spPr>
            <a:xfrm>
              <a:off x="4015800" y="4340160"/>
              <a:ext cx="821160" cy="172692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Puzzle1"/>
            <p:cNvSpPr/>
            <p:nvPr/>
          </p:nvSpPr>
          <p:spPr>
            <a:xfrm>
              <a:off x="3733920" y="3725280"/>
              <a:ext cx="1379160" cy="102924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A Fundamental Change…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90720" y="22856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mmerce is a fundamental change 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ay we proces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ay we manag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ay we work at our desk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ay we commun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ay we manage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ay we fin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ay we conduct busines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ALL aspects !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6172200" y="4110120"/>
            <a:ext cx="2743200" cy="205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Reaction to Change…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90720" y="22856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really wants change …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 a baby with a wet diap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ome change consultant in Toro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 rot="180000">
            <a:off x="761760" y="3276720"/>
            <a:ext cx="4565520" cy="1904760"/>
          </a:xfrm>
          <a:prstGeom prst="cloudCallout">
            <a:avLst>
              <a:gd name="adj1" fmla="val 64120"/>
              <a:gd name="adj2" fmla="val -30074"/>
            </a:avLst>
          </a:prstGeom>
          <a:solidFill>
            <a:srgbClr val="f8fd3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Reaction to Change…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6960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really wants change …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 a baby with a wet diap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ome change consultant in Toro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, I won’t do it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your typical employ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4724280" y="3954600"/>
            <a:ext cx="3505320" cy="290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Managing that Change…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90720" y="22856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It is not the strongest of the species that survive, nor the most intelligent, but those most responsive to change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harles Dar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5638680" y="4648320"/>
            <a:ext cx="2819520" cy="150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ahoma"/>
              </a:rPr>
              <a:t>What is ECommerce’s Impact on Me ? </a:t>
            </a:r>
            <a:endParaRPr b="0" lang="en-US" sz="36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 change      RAPID     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REAL F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Business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Business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Paradig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Rates of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4956120"/>
            <a:ext cx="3276720" cy="190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Realities of Change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90720" y="22856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’s fast-paced economy demands that businesses change or di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acking the Code of Chang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hael Beer and Nitin Noh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BR Reprint R003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Realities of Change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90720" y="22856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’s fast-paced economy demands that businesses change or di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few companies manage corporate transformations as well as they would lik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acking the Code of Chang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hael Beer and Nitin Noh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BR Reprint R003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Brutal Failure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90720" y="22856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rutal fact is that about 70% of all change initiatives fail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acking the Code of Chang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hael Beer and Nitin Noh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BR Reprint R003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Theories of Change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ory 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change based on economic value: shareholder value is the only legitimate measure of success, and change often involves heavy use of economic incentives, layoffs, downsizing, and restructu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acking the Code of Chang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hael Beer and Nitin Noh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BR Reprint R003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Theories of Change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ory 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hange based on organizational capability: the goal is to build and strengthen corporate cul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acking the Code of Chang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hael Beer and Nitin Noh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BR Reprint R003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Change without Pain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change is more effective when it hurts les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hange successfully, companies should stop changing all the tim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Without Pai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ic Abraham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R July Aug ‘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Change without Pain.. How ? 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 S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carefully paced periods of smaller, organic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large dramatic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19320" y="28191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In Conclusion…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Actions to Take</a:t>
            </a: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90360" y="2209680"/>
            <a:ext cx="74674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Company-wide methodology for analyzing Business Processes </a:t>
            </a:r>
            <a:r>
              <a:rPr b="0" i="1" lang="en-US" sz="2400" spc="-1" strike="noStrike">
                <a:solidFill>
                  <a:srgbClr val="ff0033"/>
                </a:solidFill>
                <a:latin typeface="Arial"/>
              </a:rPr>
              <a:t>in the new e-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 your Company’s processes  into your Customer’s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your Company for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ward your people for successful cha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A Fundamental Change…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22856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mmerce is a fundamental change 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ay we proces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ay we manag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ay we work at our desk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ay we commun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ay we manage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ay we interact with our 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ay we conduct busines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ALL aspects !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400800" y="3124080"/>
            <a:ext cx="2743200" cy="205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What Happened ?!?!?!?!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apid growth of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peed and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reach and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gress of Informatio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ower at the Desk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st of this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tent effects of Process Re-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Michael Hammer  HBR  May 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biquit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ility to 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anywhere, any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accepting and embracing all of the above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One MOST Powerful Thought..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22856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competition is one click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29714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ahoma"/>
              </a:rPr>
              <a:t>The Evolution of Information Technology in a Corporation</a:t>
            </a:r>
            <a:endParaRPr b="0" lang="en-US" sz="4000" spc="-1" strike="noStrike">
              <a:solidFill>
                <a:srgbClr val="ff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2 of 14    January 20 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0T19:33:23Z</dcterms:created>
  <dc:creator>Mike Pochan</dc:creator>
  <dc:description/>
  <dc:language>en-US</dc:language>
  <cp:lastModifiedBy>Valued Sony Customer</cp:lastModifiedBy>
  <dcterms:modified xsi:type="dcterms:W3CDTF">2000-09-26T17:09:54Z</dcterms:modified>
  <cp:revision>30</cp:revision>
  <dc:subject/>
  <dc:title>Goal of Today's Class </dc:title>
</cp:coreProperties>
</file>