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docx" ContentType="application/vnd.openxmlformats-officedocument.wordprocessingml.document"/>
  <Override PartName="/ppt/media/image12.png" ContentType="image/png"/>
  <Override PartName="/ppt/media/image7.wmf" ContentType="image/x-wmf"/>
  <Override PartName="/ppt/media/image9.wmf" ContentType="image/x-wmf"/>
  <Override PartName="/ppt/media/image14.png" ContentType="image/png"/>
  <Override PartName="/ppt/media/image13.png" ContentType="image/png"/>
  <Override PartName="/ppt/media/image8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94488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6761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94488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94488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67616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67616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94488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94488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94488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6761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67616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67616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94488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761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94488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761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94488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286840" y="6400800"/>
            <a:ext cx="18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685800" y="16761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9320" y="6095880"/>
            <a:ext cx="9055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>
          <a:xfrm>
            <a:off x="3657600" y="6172200"/>
            <a:ext cx="1905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1999 MICHAEL I. SHAM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6212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eb Programming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ava &amp; XM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enerating Java Byteco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794280" y="5800680"/>
            <a:ext cx="18964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URCE: W. E. CO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454680" y="1456920"/>
            <a:ext cx="8002080" cy="4259520"/>
            <a:chOff x="454680" y="1456920"/>
            <a:chExt cx="8002080" cy="4259520"/>
          </a:xfrm>
        </p:grpSpPr>
        <p:graphicFrame>
          <p:nvGraphicFramePr>
            <p:cNvPr id="102" name=""/>
            <p:cNvGraphicFramePr/>
            <p:nvPr/>
          </p:nvGraphicFramePr>
          <p:xfrm>
            <a:off x="1530360" y="1547640"/>
            <a:ext cx="6926400" cy="41688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530360" y="1547640"/>
                      <a:ext cx="6926400" cy="4168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4" name=""/>
            <p:cNvSpPr/>
            <p:nvPr/>
          </p:nvSpPr>
          <p:spPr>
            <a:xfrm>
              <a:off x="3955680" y="3879360"/>
              <a:ext cx="16297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c0099"/>
                  </a:solidFill>
                  <a:latin typeface="Arial"/>
                </a:rPr>
                <a:t>Push argument 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979440" y="4252320"/>
              <a:ext cx="16297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c0099"/>
                  </a:solidFill>
                  <a:latin typeface="Arial"/>
                </a:rPr>
                <a:t>Push argument 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966120" y="4644360"/>
              <a:ext cx="28886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c0099"/>
                  </a:solidFill>
                  <a:latin typeface="Arial"/>
                </a:rPr>
                <a:t>Integer add: push(pop() + pop()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975480" y="5065200"/>
              <a:ext cx="31172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c0099"/>
                  </a:solidFill>
                  <a:latin typeface="Arial"/>
                </a:rPr>
                <a:t>Return top of stack as type integ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920120" y="1456920"/>
              <a:ext cx="20077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c0099"/>
                  </a:solidFill>
                  <a:latin typeface="Arial"/>
                </a:rPr>
                <a:t>Returns integer valu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614480" y="2301120"/>
              <a:ext cx="268272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c0099"/>
                  </a:solidFill>
                  <a:latin typeface="Arial"/>
                </a:rPr>
                <a:t>Global func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c0099"/>
                  </a:solidFill>
                  <a:latin typeface="Arial"/>
                </a:rPr>
                <a:t>(associated with whole clas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4680" y="2170800"/>
              <a:ext cx="133704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c0099"/>
                  </a:solidFill>
                  <a:latin typeface="Arial"/>
                </a:rPr>
                <a:t>Procedur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c0099"/>
                  </a:solidFill>
                  <a:latin typeface="Arial"/>
                </a:rPr>
                <a:t>accessib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c0099"/>
                  </a:solidFill>
                  <a:latin typeface="Arial"/>
                </a:rPr>
                <a:t>by all class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flipV="1">
              <a:off x="1582920" y="2214360"/>
              <a:ext cx="520560" cy="246240"/>
            </a:xfrm>
            <a:prstGeom prst="line">
              <a:avLst/>
            </a:prstGeom>
            <a:ln w="15840">
              <a:solidFill>
                <a:srgbClr val="cc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 flipH="1">
              <a:off x="4051440" y="1674720"/>
              <a:ext cx="789120" cy="274680"/>
            </a:xfrm>
            <a:prstGeom prst="line">
              <a:avLst/>
            </a:prstGeom>
            <a:ln w="15840">
              <a:solidFill>
                <a:srgbClr val="cc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 flipV="1">
              <a:off x="3338640" y="2236680"/>
              <a:ext cx="1233360" cy="208080"/>
            </a:xfrm>
            <a:prstGeom prst="line">
              <a:avLst/>
            </a:prstGeom>
            <a:ln w="15840">
              <a:solidFill>
                <a:srgbClr val="cc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347240" y="2251080"/>
              <a:ext cx="174600" cy="630000"/>
            </a:xfrm>
            <a:custGeom>
              <a:avLst/>
              <a:gdLst>
                <a:gd name="textAreaLeft" fmla="*/ 0 w 174600"/>
                <a:gd name="textAreaRight" fmla="*/ 63000 w 174600"/>
                <a:gd name="textAreaTop" fmla="*/ 16200 h 630000"/>
                <a:gd name="textAreaBottom" fmla="*/ 613800 h 630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1908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616880" y="2315520"/>
              <a:ext cx="81612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c0099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c0099"/>
                  </a:solidFill>
                  <a:latin typeface="Arial"/>
                </a:rPr>
                <a:t>bod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pile/Interpret/JI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791320" y="1447920"/>
            <a:ext cx="24382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1447920" y="1142640"/>
            <a:ext cx="7010280" cy="1219680"/>
            <a:chOff x="1447920" y="1142640"/>
            <a:chExt cx="7010280" cy="1219680"/>
          </a:xfrm>
        </p:grpSpPr>
        <p:sp>
          <p:nvSpPr>
            <p:cNvPr id="119" name=""/>
            <p:cNvSpPr/>
            <p:nvPr/>
          </p:nvSpPr>
          <p:spPr>
            <a:xfrm>
              <a:off x="1676520" y="1523880"/>
              <a:ext cx="160020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600200" y="1604160"/>
              <a:ext cx="955800" cy="518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OUR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O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823480" y="1756800"/>
              <a:ext cx="1123920" cy="30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OMPIL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272120" y="1604160"/>
              <a:ext cx="1014120" cy="518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ACHI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O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862680" y="1680480"/>
              <a:ext cx="1014120" cy="518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ACHI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O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590920" y="18288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962520" y="182880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447920" y="1143000"/>
              <a:ext cx="4038480" cy="1219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674720" y="1218960"/>
              <a:ext cx="34372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c0099"/>
                  </a:solidFill>
                  <a:latin typeface="Arial"/>
                </a:rPr>
                <a:t>COMPILATION ON SOURCE MACHI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477120" y="1142640"/>
              <a:ext cx="179424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c0099"/>
                  </a:solidFill>
                  <a:latin typeface="Arial"/>
                </a:rPr>
                <a:t>EXECUTION 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c0099"/>
                  </a:solidFill>
                  <a:latin typeface="Arial"/>
                </a:rPr>
                <a:t>TARGET MACHI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172200" y="1143000"/>
              <a:ext cx="2286000" cy="1219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334120" y="182880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47920" y="2895120"/>
            <a:ext cx="7010280" cy="1219680"/>
            <a:chOff x="1447920" y="2895120"/>
            <a:chExt cx="7010280" cy="1219680"/>
          </a:xfrm>
        </p:grpSpPr>
        <p:sp>
          <p:nvSpPr>
            <p:cNvPr id="132" name=""/>
            <p:cNvSpPr/>
            <p:nvPr/>
          </p:nvSpPr>
          <p:spPr>
            <a:xfrm>
              <a:off x="1676520" y="3276360"/>
              <a:ext cx="160020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600200" y="3356640"/>
              <a:ext cx="955800" cy="518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OUR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O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823480" y="3509280"/>
              <a:ext cx="1123920" cy="30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OMPIL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399200" y="3356640"/>
              <a:ext cx="759600" cy="518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BYTE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O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329160" y="3432960"/>
              <a:ext cx="698760" cy="518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BYT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O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590920" y="35812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447920" y="2895480"/>
              <a:ext cx="4038480" cy="1219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674720" y="2971440"/>
              <a:ext cx="34372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c0099"/>
                  </a:solidFill>
                  <a:latin typeface="Arial"/>
                </a:rPr>
                <a:t>COMPILATION ON SOURCE MACHI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477120" y="2895120"/>
              <a:ext cx="179424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c0099"/>
                  </a:solidFill>
                  <a:latin typeface="Arial"/>
                </a:rPr>
                <a:t>INTERPRERT 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c0099"/>
                  </a:solidFill>
                  <a:latin typeface="Arial"/>
                </a:rPr>
                <a:t>TARGET MACHI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172200" y="2895480"/>
              <a:ext cx="2286000" cy="1219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385760" y="3432960"/>
              <a:ext cx="896760" cy="518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NTERP-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ET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962520" y="3581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181480" y="365760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010280" y="365760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1447920" y="4648320"/>
            <a:ext cx="7391160" cy="1294920"/>
            <a:chOff x="1447920" y="4648320"/>
            <a:chExt cx="7391160" cy="1294920"/>
          </a:xfrm>
        </p:grpSpPr>
        <p:sp>
          <p:nvSpPr>
            <p:cNvPr id="147" name=""/>
            <p:cNvSpPr/>
            <p:nvPr/>
          </p:nvSpPr>
          <p:spPr>
            <a:xfrm>
              <a:off x="1676520" y="5052960"/>
              <a:ext cx="1600200" cy="72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600200" y="5153400"/>
              <a:ext cx="955800" cy="518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OUR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O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823480" y="5310000"/>
              <a:ext cx="1123920" cy="30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OMPIL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119480" y="5153400"/>
              <a:ext cx="698760" cy="518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BYT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O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701120" y="5234400"/>
              <a:ext cx="1014120" cy="518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ACHI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O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590920" y="54576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447920" y="4648320"/>
              <a:ext cx="3657600" cy="129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674720" y="4737960"/>
              <a:ext cx="34372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c0099"/>
                  </a:solidFill>
                  <a:latin typeface="Arial"/>
                </a:rPr>
                <a:t>COMPILATION ON SOURCE MACHI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017400" y="4663080"/>
              <a:ext cx="233100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c0099"/>
                  </a:solidFill>
                  <a:latin typeface="Arial"/>
                </a:rPr>
                <a:t>MORE COMPILATION 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c0099"/>
                  </a:solidFill>
                  <a:latin typeface="Arial"/>
                </a:rPr>
                <a:t>TARGET MACHI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410080" y="4648320"/>
              <a:ext cx="3429000" cy="129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491080" y="5234400"/>
              <a:ext cx="698760" cy="518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BYT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O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404760" y="5234400"/>
              <a:ext cx="1123920" cy="518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J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OMPIL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962520" y="545760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172200" y="54576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543800" y="545760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800600" y="545760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380880" y="1523880"/>
            <a:ext cx="879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MP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4952880"/>
            <a:ext cx="1357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JUST-IN-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MP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04200" y="3352680"/>
            <a:ext cx="10490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TERPR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tSpot Dynamic Java Optimiz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791320" y="1447920"/>
            <a:ext cx="24382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62480" y="5109480"/>
            <a:ext cx="1014120" cy="51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CH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186440" y="3885840"/>
            <a:ext cx="40179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99"/>
                </a:solidFill>
                <a:latin typeface="Arial"/>
              </a:rPr>
              <a:t>COMPILE + OPTIMIZE ON TARGET MACH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352680" y="3809880"/>
            <a:ext cx="5257800" cy="213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814560" y="4423680"/>
            <a:ext cx="698760" cy="51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Y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952880" y="4500000"/>
            <a:ext cx="1449360" cy="30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TERPRE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219320" y="2529000"/>
            <a:ext cx="1600200" cy="98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143000" y="2756520"/>
            <a:ext cx="955800" cy="51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366280" y="2930040"/>
            <a:ext cx="1123920" cy="30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MPI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662280" y="2756520"/>
            <a:ext cx="698760" cy="51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Y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133720" y="3076560"/>
            <a:ext cx="22860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990720" y="1981080"/>
            <a:ext cx="3657600" cy="160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217520" y="2157120"/>
            <a:ext cx="34372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99"/>
                </a:solidFill>
                <a:latin typeface="Arial"/>
              </a:rPr>
              <a:t>COMPILATION ON SOURCE MACH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505320" y="3076560"/>
            <a:ext cx="15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980280" y="1371240"/>
            <a:ext cx="69760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dea: Just-In-Time Compilation + Run-Time Optimiz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012800" y="4347360"/>
            <a:ext cx="1204560" cy="51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AP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PTIM IZ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95680" y="4648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400800" y="4648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715000" y="48006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620120" y="4876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6324120" y="533412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038480" y="32767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885480" y="5638680"/>
            <a:ext cx="8557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EX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4572000" y="5409720"/>
            <a:ext cx="609480" cy="228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4114440" y="5028840"/>
            <a:ext cx="228600" cy="609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icoJava: Sun’s 32-bit Java Chip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1684440" y="1368360"/>
            <a:ext cx="6926040" cy="409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pplets: Mobile Internet Cod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079400" y="5824440"/>
            <a:ext cx="1725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URCE: FOURNI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applet" descr=""/>
          <p:cNvPicPr/>
          <p:nvPr/>
        </p:nvPicPr>
        <p:blipFill>
          <a:blip r:embed="rId1"/>
          <a:stretch/>
        </p:blipFill>
        <p:spPr>
          <a:xfrm>
            <a:off x="244440" y="1482840"/>
            <a:ext cx="7629480" cy="419400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4757040" y="4381920"/>
            <a:ext cx="3676680" cy="11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99"/>
                </a:solidFill>
                <a:latin typeface="Arial"/>
              </a:rPr>
              <a:t>          </a:t>
            </a:r>
            <a:r>
              <a:rPr b="1" lang="en-US" sz="1400" spc="-1" strike="noStrike">
                <a:solidFill>
                  <a:srgbClr val="cc0099"/>
                </a:solidFill>
                <a:latin typeface="Arial"/>
              </a:rPr>
              <a:t>HTML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99"/>
                </a:solidFill>
                <a:latin typeface="Arial"/>
              </a:rPr>
              <a:t>&lt;applet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99"/>
                </a:solidFill>
                <a:latin typeface="Arial"/>
              </a:rPr>
              <a:t>code=clock.cla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99"/>
                </a:solidFill>
                <a:latin typeface="Arial"/>
              </a:rPr>
              <a:t>codebase=“http://www.sun.com/classes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99"/>
                </a:solidFill>
                <a:latin typeface="Arial"/>
              </a:rPr>
              <a:t>&lt;/applet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984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굴림"/>
              </a:rPr>
              <a:t>What Applets Can’t Do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06440" y="1225080"/>
            <a:ext cx="830592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Reference specified area of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Access local fil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Execute other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Load local libr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Create or manage threads in ot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Connect to other hosts except origin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Open windo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Applets identify themselves through code sig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7163280" y="5824440"/>
            <a:ext cx="1667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URCE: POSTE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ervlet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2455920" y="2465280"/>
            <a:ext cx="3943440" cy="138132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351840" y="5813280"/>
            <a:ext cx="2531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URCE: SUN MICRO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934560" y="1562040"/>
            <a:ext cx="4443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ke applets, but run on the server si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884760" y="1954080"/>
            <a:ext cx="568080" cy="3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hat is a Java Servlet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Java Servlet 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erver-side compon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ically hosted on a web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rvlets can be used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lace traditional CGI 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ess enterprise services (RMI, CORBA, D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n HTML interface for web-based ap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899040" y="5791320"/>
            <a:ext cx="19530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URCE: CHÁD DARB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984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ervlet Integr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203640" y="2585880"/>
            <a:ext cx="1714320" cy="1133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36920" y="3165480"/>
            <a:ext cx="1036800" cy="2826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Arial"/>
              </a:rPr>
              <a:t>SERVL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6195960" y="4869000"/>
            <a:ext cx="815760" cy="637560"/>
            <a:chOff x="6195960" y="4869000"/>
            <a:chExt cx="815760" cy="637560"/>
          </a:xfrm>
        </p:grpSpPr>
        <p:sp>
          <p:nvSpPr>
            <p:cNvPr id="213" name=""/>
            <p:cNvSpPr/>
            <p:nvPr/>
          </p:nvSpPr>
          <p:spPr>
            <a:xfrm>
              <a:off x="6212520" y="4973760"/>
              <a:ext cx="799200" cy="532800"/>
            </a:xfrm>
            <a:custGeom>
              <a:avLst/>
              <a:gdLst/>
              <a:ahLst/>
              <a:rect l="l" t="t" r="r" b="b"/>
              <a:pathLst>
                <a:path w="576" h="376">
                  <a:moveTo>
                    <a:pt x="0" y="304"/>
                  </a:moveTo>
                  <a:lnTo>
                    <a:pt x="0" y="0"/>
                  </a:lnTo>
                  <a:lnTo>
                    <a:pt x="576" y="0"/>
                  </a:lnTo>
                  <a:lnTo>
                    <a:pt x="576" y="304"/>
                  </a:lnTo>
                  <a:lnTo>
                    <a:pt x="574" y="312"/>
                  </a:lnTo>
                  <a:lnTo>
                    <a:pt x="570" y="318"/>
                  </a:lnTo>
                  <a:lnTo>
                    <a:pt x="562" y="326"/>
                  </a:lnTo>
                  <a:lnTo>
                    <a:pt x="554" y="332"/>
                  </a:lnTo>
                  <a:lnTo>
                    <a:pt x="542" y="338"/>
                  </a:lnTo>
                  <a:lnTo>
                    <a:pt x="526" y="344"/>
                  </a:lnTo>
                  <a:lnTo>
                    <a:pt x="510" y="350"/>
                  </a:lnTo>
                  <a:lnTo>
                    <a:pt x="492" y="356"/>
                  </a:lnTo>
                  <a:lnTo>
                    <a:pt x="470" y="360"/>
                  </a:lnTo>
                  <a:lnTo>
                    <a:pt x="448" y="364"/>
                  </a:lnTo>
                  <a:lnTo>
                    <a:pt x="424" y="368"/>
                  </a:lnTo>
                  <a:lnTo>
                    <a:pt x="400" y="370"/>
                  </a:lnTo>
                  <a:lnTo>
                    <a:pt x="346" y="374"/>
                  </a:lnTo>
                  <a:lnTo>
                    <a:pt x="288" y="376"/>
                  </a:lnTo>
                  <a:lnTo>
                    <a:pt x="230" y="374"/>
                  </a:lnTo>
                  <a:lnTo>
                    <a:pt x="176" y="370"/>
                  </a:lnTo>
                  <a:lnTo>
                    <a:pt x="152" y="368"/>
                  </a:lnTo>
                  <a:lnTo>
                    <a:pt x="128" y="364"/>
                  </a:lnTo>
                  <a:lnTo>
                    <a:pt x="106" y="360"/>
                  </a:lnTo>
                  <a:lnTo>
                    <a:pt x="84" y="356"/>
                  </a:lnTo>
                  <a:lnTo>
                    <a:pt x="66" y="350"/>
                  </a:lnTo>
                  <a:lnTo>
                    <a:pt x="50" y="344"/>
                  </a:lnTo>
                  <a:lnTo>
                    <a:pt x="34" y="338"/>
                  </a:lnTo>
                  <a:lnTo>
                    <a:pt x="22" y="332"/>
                  </a:lnTo>
                  <a:lnTo>
                    <a:pt x="14" y="326"/>
                  </a:lnTo>
                  <a:lnTo>
                    <a:pt x="6" y="318"/>
                  </a:lnTo>
                  <a:lnTo>
                    <a:pt x="2" y="312"/>
                  </a:lnTo>
                  <a:lnTo>
                    <a:pt x="0" y="30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195960" y="4869000"/>
              <a:ext cx="804600" cy="2095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467760" y="5153760"/>
              <a:ext cx="165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612120" y="5153760"/>
              <a:ext cx="15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7269120" y="2914560"/>
            <a:ext cx="922320" cy="941400"/>
            <a:chOff x="7269120" y="2914560"/>
            <a:chExt cx="922320" cy="941400"/>
          </a:xfrm>
        </p:grpSpPr>
        <p:sp>
          <p:nvSpPr>
            <p:cNvPr id="218" name=""/>
            <p:cNvSpPr/>
            <p:nvPr/>
          </p:nvSpPr>
          <p:spPr>
            <a:xfrm>
              <a:off x="7269120" y="2914560"/>
              <a:ext cx="922320" cy="941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788240" y="3070440"/>
              <a:ext cx="261000" cy="2664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391160" y="3084480"/>
              <a:ext cx="233280" cy="237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569000" y="3419280"/>
              <a:ext cx="305280" cy="300240"/>
            </a:xfrm>
            <a:custGeom>
              <a:avLst/>
              <a:gdLst/>
              <a:ahLst/>
              <a:rect l="l" t="t" r="r" b="b"/>
              <a:pathLst>
                <a:path w="220" h="212">
                  <a:moveTo>
                    <a:pt x="110" y="0"/>
                  </a:moveTo>
                  <a:lnTo>
                    <a:pt x="220" y="212"/>
                  </a:lnTo>
                  <a:lnTo>
                    <a:pt x="0" y="212"/>
                  </a:lnTo>
                  <a:lnTo>
                    <a:pt x="11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6402240" y="1339920"/>
            <a:ext cx="600120" cy="952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6135840" y="1544760"/>
            <a:ext cx="26640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935680" y="1476360"/>
            <a:ext cx="200160" cy="135000"/>
          </a:xfrm>
          <a:prstGeom prst="ellipse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239520" y="2301840"/>
            <a:ext cx="137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ocke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022520" y="3924360"/>
            <a:ext cx="1825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stributed Objec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2668680" y="-20880"/>
            <a:ext cx="3333240" cy="3262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743" y="41"/>
                </a:moveTo>
                <a:arcTo wR="10800" hR="10800" stAng="-5099407" swAng="5099407"/>
                <a:lnTo>
                  <a:pt x="10800" y="10800"/>
                </a:lnTo>
                <a:close/>
              </a:path>
              <a:path fill="none" w="21600" h="21600">
                <a:moveTo>
                  <a:pt x="11743" y="41"/>
                </a:moveTo>
                <a:arcTo wR="10800" hR="10800" stAng="-5099407" swAng="5099407"/>
              </a:path>
            </a:pathLst>
          </a:custGeom>
          <a:noFill/>
          <a:ln cap="sq"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135160" y="3522240"/>
            <a:ext cx="4400280" cy="2581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455" y="20"/>
                </a:moveTo>
                <a:arcTo wR="10800" hR="10800" stAng="-5191295" swAng="5382615"/>
                <a:lnTo>
                  <a:pt x="10800" y="10800"/>
                </a:lnTo>
                <a:close/>
              </a:path>
              <a:path fill="none" w="21600" h="21600">
                <a:moveTo>
                  <a:pt x="11455" y="20"/>
                </a:moveTo>
                <a:arcTo wR="10800" hR="10800" stAng="-5191295" swAng="5382615"/>
              </a:path>
            </a:pathLst>
          </a:custGeom>
          <a:noFill/>
          <a:ln cap="sq"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4495680" y="3379680"/>
            <a:ext cx="2773440" cy="12960"/>
          </a:xfrm>
          <a:prstGeom prst="line">
            <a:avLst/>
          </a:prstGeom>
          <a:ln cap="sq"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373080" y="2903400"/>
            <a:ext cx="831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M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RBA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J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622400" y="4387680"/>
            <a:ext cx="1901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Java 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nectivity (JDBC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180040" y="1884240"/>
            <a:ext cx="8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1139040" y="1476360"/>
            <a:ext cx="1064160" cy="1064880"/>
            <a:chOff x="1139040" y="1476360"/>
            <a:chExt cx="1064160" cy="1064880"/>
          </a:xfrm>
        </p:grpSpPr>
        <p:sp>
          <p:nvSpPr>
            <p:cNvPr id="234" name=""/>
            <p:cNvSpPr/>
            <p:nvPr/>
          </p:nvSpPr>
          <p:spPr>
            <a:xfrm>
              <a:off x="1202760" y="1793160"/>
              <a:ext cx="1000440" cy="74808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ppl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139040" y="1476360"/>
              <a:ext cx="76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li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6" name=""/>
          <p:cNvSpPr/>
          <p:nvPr/>
        </p:nvSpPr>
        <p:spPr>
          <a:xfrm>
            <a:off x="1136520" y="3774960"/>
            <a:ext cx="1067040" cy="7477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M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rows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72440" y="344808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203560" y="2155680"/>
            <a:ext cx="1199880" cy="1087560"/>
          </a:xfrm>
          <a:prstGeom prst="line">
            <a:avLst/>
          </a:prstGeom>
          <a:ln cap="sq"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2203560" y="3448080"/>
            <a:ext cx="1199880" cy="612720"/>
          </a:xfrm>
          <a:prstGeom prst="line">
            <a:avLst/>
          </a:prstGeom>
          <a:ln cap="sq"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321720" y="223668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b Ser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602400" y="1747800"/>
            <a:ext cx="26676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602400" y="1816200"/>
            <a:ext cx="26676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602400" y="1884240"/>
            <a:ext cx="26676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6602400" y="2019240"/>
            <a:ext cx="266760" cy="136440"/>
            <a:chOff x="6602400" y="2019240"/>
            <a:chExt cx="266760" cy="136440"/>
          </a:xfrm>
        </p:grpSpPr>
        <p:sp>
          <p:nvSpPr>
            <p:cNvPr id="245" name=""/>
            <p:cNvSpPr/>
            <p:nvPr/>
          </p:nvSpPr>
          <p:spPr>
            <a:xfrm>
              <a:off x="6602400" y="201924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602400" y="208728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602400" y="215568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849240" y="5754600"/>
            <a:ext cx="19530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URCE: CHÁD DARB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dvantages of Java Servlet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tform indepen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ends Java’s model of Write-Once, Run-Anyw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use and modula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in all of the object-oriented features of Ja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vlet is loaded only once 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need to spawn new process for each client requ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997680" y="5791320"/>
            <a:ext cx="19530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URCE: CHÁD DARB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b Programming Challeng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client/server 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fload computing to cl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known client configu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rdware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rating system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owser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ecure network (Interne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pid development (e-spe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llions of us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4/365 op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Java Securit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ong typing, compile-time chec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sence of pointers (no “magic” offse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 garbage coll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 layout at run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tecode ver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ess restrictions, argument type ver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cation security mana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s, network connections, system proper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ets cannot access f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: “hostile applets”, e.g. run in zero-sized window, capture keystrok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ava 2 Security Mode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351840" y="5813280"/>
            <a:ext cx="2531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URCE: SUN MICRO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016360" y="1491480"/>
            <a:ext cx="16617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99"/>
                </a:solidFill>
                <a:latin typeface="Arial"/>
              </a:rPr>
              <a:t>Applications a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99"/>
                </a:solidFill>
                <a:latin typeface="Arial"/>
              </a:rPr>
              <a:t>identified b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99"/>
                </a:solidFill>
                <a:latin typeface="Arial"/>
              </a:rPr>
              <a:t>digital signa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435400" y="2341440"/>
            <a:ext cx="4105080" cy="325764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455760" y="2883960"/>
            <a:ext cx="158400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99"/>
                </a:solidFill>
                <a:latin typeface="Arial"/>
              </a:rPr>
              <a:t>Range o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99"/>
                </a:solidFill>
                <a:latin typeface="Arial"/>
              </a:rPr>
              <a:t>security polic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585800" y="3056040"/>
            <a:ext cx="1136880" cy="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856920" y="2147040"/>
            <a:ext cx="17409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99"/>
                </a:solidFill>
                <a:latin typeface="Arial"/>
              </a:rPr>
              <a:t>Domain = Set o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99"/>
                </a:solidFill>
                <a:latin typeface="Arial"/>
              </a:rPr>
              <a:t>classes given th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99"/>
                </a:solidFill>
                <a:latin typeface="Arial"/>
              </a:rPr>
              <a:t>same permiss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H="1">
            <a:off x="4928760" y="2638440"/>
            <a:ext cx="1955880" cy="59544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7264800" y="3887280"/>
            <a:ext cx="167868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99"/>
                </a:solidFill>
                <a:latin typeface="Arial"/>
              </a:rPr>
              <a:t>Untrusted foreig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99"/>
                </a:solidFill>
                <a:latin typeface="Arial"/>
              </a:rPr>
              <a:t>applets run 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flipH="1" flipV="1">
            <a:off x="6609960" y="3825720"/>
            <a:ext cx="693720" cy="24768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V="1">
            <a:off x="1838160" y="4592160"/>
            <a:ext cx="543240" cy="23508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33800" y="4857120"/>
            <a:ext cx="17503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99"/>
                </a:solidFill>
                <a:latin typeface="Arial"/>
              </a:rPr>
              <a:t>Security 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99"/>
                </a:solidFill>
                <a:latin typeface="Arial"/>
              </a:rPr>
              <a:t>controls access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99"/>
                </a:solidFill>
                <a:latin typeface="Arial"/>
              </a:rPr>
              <a:t>system re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451320" y="2257560"/>
            <a:ext cx="530280" cy="92844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57560" y="3693240"/>
            <a:ext cx="14025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99"/>
                </a:solidFill>
                <a:latin typeface="Arial"/>
              </a:rPr>
              <a:t>Trusted na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99"/>
                </a:solidFill>
                <a:latin typeface="Arial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99"/>
                </a:solidFill>
                <a:latin typeface="Arial"/>
              </a:rPr>
              <a:t>run 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 flipV="1">
            <a:off x="1793880" y="3780000"/>
            <a:ext cx="542880" cy="23472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912560" y="1467720"/>
            <a:ext cx="16617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99"/>
                </a:solidFill>
                <a:latin typeface="Arial"/>
              </a:rPr>
              <a:t>Every applic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99"/>
                </a:solidFill>
                <a:latin typeface="Arial"/>
              </a:rPr>
              <a:t>is subject to 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99"/>
                </a:solidFill>
                <a:latin typeface="Arial"/>
              </a:rPr>
              <a:t>security polic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H="1">
            <a:off x="5432400" y="2262240"/>
            <a:ext cx="287280" cy="19836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tegrated Development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nvironments (IDEs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application with tools for developing software in a particular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ntax-directed edi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program text, match delimiters, keyword comple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sual debugger (single-step, trace variabl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i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-Time 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rland JBuilder, Visual J++, Symantec VisualCafé, NetBeans, JavaM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802080" y="563400"/>
            <a:ext cx="765144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新細明體"/>
              </a:rPr>
              <a:t>eCommerce Data Exchange Nee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4" name=""/>
          <p:cNvGraphicFramePr/>
          <p:nvPr/>
        </p:nvGraphicFramePr>
        <p:xfrm>
          <a:off x="1562040" y="4492800"/>
          <a:ext cx="978120" cy="83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62040" y="4492800"/>
                    <a:ext cx="97812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6" name=""/>
          <p:cNvGraphicFramePr/>
          <p:nvPr/>
        </p:nvGraphicFramePr>
        <p:xfrm>
          <a:off x="6438960" y="4492800"/>
          <a:ext cx="977760" cy="83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38960" y="4492800"/>
                    <a:ext cx="97776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8" name=""/>
          <p:cNvSpPr/>
          <p:nvPr/>
        </p:nvSpPr>
        <p:spPr>
          <a:xfrm>
            <a:off x="1055520" y="2292480"/>
            <a:ext cx="1749600" cy="444240"/>
          </a:xfrm>
          <a:prstGeom prst="rect">
            <a:avLst/>
          </a:prstGeom>
          <a:solidFill>
            <a:srgbClr val="d1d1d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hip Noti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714680" y="3116160"/>
            <a:ext cx="1749240" cy="444600"/>
          </a:xfrm>
          <a:prstGeom prst="rect">
            <a:avLst/>
          </a:prstGeom>
          <a:solidFill>
            <a:srgbClr val="d1d1d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Bills of La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803920" y="3083040"/>
            <a:ext cx="2254320" cy="444240"/>
          </a:xfrm>
          <a:prstGeom prst="rect">
            <a:avLst/>
          </a:prstGeom>
          <a:solidFill>
            <a:srgbClr val="d1d1d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Electronic Pay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319800" y="2286000"/>
            <a:ext cx="2100240" cy="444600"/>
          </a:xfrm>
          <a:prstGeom prst="rect">
            <a:avLst/>
          </a:prstGeom>
          <a:solidFill>
            <a:srgbClr val="d1d1d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urchase Ord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645000" y="3828960"/>
            <a:ext cx="2019240" cy="444600"/>
          </a:xfrm>
          <a:prstGeom prst="rect">
            <a:avLst/>
          </a:prstGeom>
          <a:solidFill>
            <a:srgbClr val="d1d1d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nvoi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 flipV="1">
            <a:off x="2946240" y="4648320"/>
            <a:ext cx="155736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flipV="1">
            <a:off x="2946240" y="4876560"/>
            <a:ext cx="1354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300560" y="48769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503600" y="46483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4503600" y="4800240"/>
            <a:ext cx="149076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4300560" y="4800600"/>
            <a:ext cx="169380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382760" y="1541520"/>
            <a:ext cx="1749240" cy="444600"/>
          </a:xfrm>
          <a:prstGeom prst="rect">
            <a:avLst/>
          </a:prstGeom>
          <a:solidFill>
            <a:srgbClr val="d1d1d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RFQ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732120" y="1528920"/>
            <a:ext cx="1749600" cy="444240"/>
          </a:xfrm>
          <a:prstGeom prst="rect">
            <a:avLst/>
          </a:prstGeom>
          <a:solidFill>
            <a:srgbClr val="d1d1d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atalo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958000" y="1517760"/>
            <a:ext cx="1749240" cy="444240"/>
          </a:xfrm>
          <a:prstGeom prst="rect">
            <a:avLst/>
          </a:prstGeom>
          <a:solidFill>
            <a:srgbClr val="d1d1d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Quo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693960" y="2432160"/>
            <a:ext cx="1935360" cy="444240"/>
          </a:xfrm>
          <a:prstGeom prst="rect">
            <a:avLst/>
          </a:prstGeom>
          <a:solidFill>
            <a:srgbClr val="d1d1d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Letters of Cred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076800" y="5764320"/>
            <a:ext cx="24404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URCE: PROF. JEROME Y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969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新細明體"/>
              </a:rPr>
              <a:t>Invoice Exampl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1"/>
          <a:stretch/>
        </p:blipFill>
        <p:spPr>
          <a:xfrm>
            <a:off x="533520" y="1219320"/>
            <a:ext cx="6248160" cy="4017960"/>
          </a:xfrm>
          <a:prstGeom prst="rect">
            <a:avLst/>
          </a:prstGeom>
          <a:ln w="0">
            <a:noFill/>
          </a:ln>
        </p:spPr>
      </p:pic>
      <p:sp>
        <p:nvSpPr>
          <p:cNvPr id="296" name=""/>
          <p:cNvSpPr/>
          <p:nvPr/>
        </p:nvSpPr>
        <p:spPr>
          <a:xfrm rot="20979000">
            <a:off x="3670200" y="4951080"/>
            <a:ext cx="914400" cy="838080"/>
          </a:xfrm>
          <a:custGeom>
            <a:avLst/>
            <a:gdLst>
              <a:gd name="textAreaLeft" fmla="*/ 122400 w 914400"/>
              <a:gd name="textAreaRight" fmla="*/ 792000 w 914400"/>
              <a:gd name="textAreaTop" fmla="*/ 146520 h 838080"/>
              <a:gd name="textAreaBottom" fmla="*/ 6076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724280" y="533412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&lt;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UnitPrice&gt;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6.05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&lt;/UnitPr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98360" y="5803920"/>
            <a:ext cx="24404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URCE: PROF. JEROME Y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ata Exchange Proble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0" name=""/>
          <p:cNvGraphicFramePr/>
          <p:nvPr/>
        </p:nvGraphicFramePr>
        <p:xfrm>
          <a:off x="579600" y="2746440"/>
          <a:ext cx="8412120" cy="3105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9600" y="2746440"/>
                    <a:ext cx="8412120" cy="310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2" name=""/>
          <p:cNvSpPr/>
          <p:nvPr/>
        </p:nvSpPr>
        <p:spPr>
          <a:xfrm>
            <a:off x="7252200" y="5776920"/>
            <a:ext cx="15656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URCE: FTISO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455120" y="1728360"/>
            <a:ext cx="59990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systems and applications use diffe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ames and formats for the same informati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04560" y="161640"/>
            <a:ext cx="883908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新細明體"/>
              </a:rPr>
              <a:t>XML at a glance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1211400" y="1373040"/>
            <a:ext cx="739116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Times New Roman"/>
                <a:ea typeface="新細明體"/>
              </a:rPr>
              <a:t>Well Formed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Documen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&lt;Book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&lt;Author&gt;George Soros&lt;/Author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&lt;Title&gt;The Crisis of Global Capitalism&lt;/Titl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&lt;Year&gt;1998&lt;/Year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&lt;Publ&gt;Public Affairs&lt;/Pub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&lt;Price&gt;26.00&lt;/Pric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&lt;ISBN&gt;1-891620-27-4&lt;/ISBN&gt;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&lt;/Book&gt;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198440" y="4168800"/>
            <a:ext cx="7591680" cy="18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DTD:   </a:t>
            </a:r>
            <a:r>
              <a:rPr b="1" lang="en-US" sz="2000" spc="-1" strike="noStrike">
                <a:solidFill>
                  <a:srgbClr val="3333ff"/>
                </a:solidFill>
                <a:latin typeface="Times New Roman"/>
                <a:ea typeface="新細明體"/>
              </a:rPr>
              <a:t>Document Type Defin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&lt;?xml version="1.0"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&lt;!DOCTYPE Book [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&lt;!ELEMENT Book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(Author, Title, Year, Publ, Price, ISBN)&gt; ]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942840" y="4052880"/>
            <a:ext cx="6629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494400" y="5840280"/>
            <a:ext cx="24404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URCE: PROF. JEROME Y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ML (eXtensible Markup Language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5508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kup language identifies text components of a document, e.g. “title”, “date”, “price”, “quantity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onents are delimited by “tag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ust 1 syntactic construct:  &lt; {/}tag_name  {param = value}* {/} 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1"/>
          <a:stretch/>
        </p:blipFill>
        <p:spPr>
          <a:xfrm>
            <a:off x="1392120" y="2654280"/>
            <a:ext cx="3130560" cy="2344680"/>
          </a:xfrm>
          <a:prstGeom prst="rect">
            <a:avLst/>
          </a:prstGeom>
          <a:ln w="0">
            <a:noFill/>
          </a:ln>
        </p:spPr>
      </p:pic>
      <p:pic>
        <p:nvPicPr>
          <p:cNvPr id="312" name="" descr=""/>
          <p:cNvPicPr/>
          <p:nvPr/>
        </p:nvPicPr>
        <p:blipFill>
          <a:blip r:embed="rId2"/>
          <a:stretch/>
        </p:blipFill>
        <p:spPr>
          <a:xfrm>
            <a:off x="5688000" y="2449440"/>
            <a:ext cx="2484360" cy="109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ML Recipe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852480" y="1103040"/>
            <a:ext cx="8291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7000"/>
          </a:bodyPr>
          <a:p>
            <a:pPr indent="0">
              <a:lnSpc>
                <a:spcPct val="105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?xml version="1.0"?&gt;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Recipe&gt;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Name&gt;</a:t>
            </a:r>
            <a:r>
              <a:rPr b="1" lang="en-US" sz="1600" spc="-1" strike="noStrike">
                <a:solidFill>
                  <a:srgbClr val="cc0099"/>
                </a:solidFill>
                <a:latin typeface="Courier New"/>
              </a:rPr>
              <a:t>Apple Pi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/Name&gt;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Ingredients&gt;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Ingredient&gt;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Qty unit=pint&gt;</a:t>
            </a:r>
            <a:r>
              <a:rPr b="1" lang="en-US" sz="1600" spc="-1" strike="noStrike">
                <a:solidFill>
                  <a:srgbClr val="cc0099"/>
                </a:solidFill>
                <a:latin typeface="Courier New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/Qty&gt;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Item&gt;</a:t>
            </a:r>
            <a:r>
              <a:rPr b="1" lang="en-US" sz="1600" spc="-1" strike="noStrike">
                <a:solidFill>
                  <a:srgbClr val="cc0099"/>
                </a:solidFill>
                <a:latin typeface="Courier New"/>
              </a:rPr>
              <a:t>milk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/Item&gt;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/Ingredient&gt;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Ingredient&gt;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Qty unit=each&gt;</a:t>
            </a:r>
            <a:r>
              <a:rPr b="1" lang="en-US" sz="1600" spc="-1" strike="noStrike">
                <a:solidFill>
                  <a:srgbClr val="cc0099"/>
                </a:solidFill>
                <a:latin typeface="Courier New"/>
              </a:rPr>
              <a:t>10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/Qty&gt;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Item&gt;</a:t>
            </a:r>
            <a:r>
              <a:rPr b="1" lang="en-US" sz="1600" spc="-1" strike="noStrike">
                <a:solidFill>
                  <a:srgbClr val="cc0099"/>
                </a:solidFill>
                <a:latin typeface="Courier New"/>
              </a:rPr>
              <a:t>apple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/Item&gt;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/Ingredient&gt;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/Ingredients&gt;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Instructions&gt;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Step&gt;</a:t>
            </a:r>
            <a:r>
              <a:rPr b="1" lang="en-US" sz="1600" spc="-1" strike="noStrike">
                <a:solidFill>
                  <a:srgbClr val="cc0099"/>
                </a:solidFill>
                <a:latin typeface="Courier New"/>
              </a:rPr>
              <a:t>Peel the apple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/Step&gt;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Step&gt;</a:t>
            </a:r>
            <a:r>
              <a:rPr b="1" lang="en-US" sz="1600" spc="-1" strike="noStrike">
                <a:solidFill>
                  <a:srgbClr val="cc0099"/>
                </a:solidFill>
                <a:latin typeface="Courier New"/>
              </a:rPr>
              <a:t>Pour the milk into a 10-inch saucepan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/Step&gt;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!-- And so on... --&gt;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/Instructions&gt;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/Recip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ocument Is Now Block-Structure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33240" y="1077480"/>
            <a:ext cx="835056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7000"/>
          </a:bodyPr>
          <a:p>
            <a:pPr indent="0">
              <a:lnSpc>
                <a:spcPct val="105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?xml version="1.0"?&gt;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Recipe&gt;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Name&gt;</a:t>
            </a:r>
            <a:r>
              <a:rPr b="1" lang="en-US" sz="1600" spc="-1" strike="noStrike">
                <a:solidFill>
                  <a:srgbClr val="cc0099"/>
                </a:solidFill>
                <a:latin typeface="Courier New"/>
              </a:rPr>
              <a:t>Apple Pi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/Name&gt;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Ingredients&gt;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Ingredient&gt;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Qty unit=pint&gt;</a:t>
            </a:r>
            <a:r>
              <a:rPr b="1" lang="en-US" sz="1600" spc="-1" strike="noStrike">
                <a:solidFill>
                  <a:srgbClr val="cc0099"/>
                </a:solidFill>
                <a:latin typeface="Courier New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/Qty&gt;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Item&gt;</a:t>
            </a:r>
            <a:r>
              <a:rPr b="1" lang="en-US" sz="1600" spc="-1" strike="noStrike">
                <a:solidFill>
                  <a:srgbClr val="cc0099"/>
                </a:solidFill>
                <a:latin typeface="Courier New"/>
              </a:rPr>
              <a:t>milk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/Item&gt;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/Ingredient&gt;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Ingredient&gt;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Qty unit=each&gt;</a:t>
            </a:r>
            <a:r>
              <a:rPr b="1" lang="en-US" sz="1600" spc="-1" strike="noStrike">
                <a:solidFill>
                  <a:srgbClr val="cc0099"/>
                </a:solidFill>
                <a:latin typeface="Courier New"/>
              </a:rPr>
              <a:t>10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/Qty&gt;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Item&gt;</a:t>
            </a:r>
            <a:r>
              <a:rPr b="1" lang="en-US" sz="1600" spc="-1" strike="noStrike">
                <a:solidFill>
                  <a:srgbClr val="cc0099"/>
                </a:solidFill>
                <a:latin typeface="Courier New"/>
              </a:rPr>
              <a:t>apple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/Item&gt;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/Ingredient&gt;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/Ingredients&gt;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Instructions&gt;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Step&gt;</a:t>
            </a:r>
            <a:r>
              <a:rPr b="1" lang="en-US" sz="1600" spc="-1" strike="noStrike">
                <a:solidFill>
                  <a:srgbClr val="cc0099"/>
                </a:solidFill>
                <a:latin typeface="Courier New"/>
              </a:rPr>
              <a:t>Peel the apple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/Step&gt;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Step&gt;</a:t>
            </a:r>
            <a:r>
              <a:rPr b="1" lang="en-US" sz="1600" spc="-1" strike="noStrike">
                <a:solidFill>
                  <a:srgbClr val="cc0099"/>
                </a:solidFill>
                <a:latin typeface="Courier New"/>
              </a:rPr>
              <a:t>Pour the milk into a 10-inch saucepan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/Step&gt;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!-- And so on... --&gt;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/Instructions&gt;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/Recip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82680" y="1495440"/>
            <a:ext cx="222120" cy="4454640"/>
          </a:xfrm>
          <a:custGeom>
            <a:avLst/>
            <a:gdLst>
              <a:gd name="textAreaLeft" fmla="*/ 141840 w 222120"/>
              <a:gd name="textAreaRight" fmla="*/ 222480 w 222120"/>
              <a:gd name="textAreaTop" fmla="*/ 115920 h 4454640"/>
              <a:gd name="textAreaBottom" fmla="*/ 4338720 h 445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413000" y="2044800"/>
            <a:ext cx="161640" cy="2325600"/>
          </a:xfrm>
          <a:custGeom>
            <a:avLst/>
            <a:gdLst>
              <a:gd name="textAreaLeft" fmla="*/ 103320 w 161640"/>
              <a:gd name="textAreaRight" fmla="*/ 162000 w 161640"/>
              <a:gd name="textAreaTop" fmla="*/ 60480 h 2325600"/>
              <a:gd name="textAreaBottom" fmla="*/ 2265120 h 2325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27040" y="4570560"/>
            <a:ext cx="127080" cy="1176120"/>
          </a:xfrm>
          <a:custGeom>
            <a:avLst/>
            <a:gdLst>
              <a:gd name="textAreaLeft" fmla="*/ 81360 w 127080"/>
              <a:gd name="textAreaRight" fmla="*/ 127440 w 127080"/>
              <a:gd name="textAreaTop" fmla="*/ 30600 h 1176120"/>
              <a:gd name="textAreaBottom" fmla="*/ 1145520 h 1176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421000" y="2212920"/>
            <a:ext cx="90360" cy="914400"/>
          </a:xfrm>
          <a:custGeom>
            <a:avLst/>
            <a:gdLst>
              <a:gd name="textAreaLeft" fmla="*/ 57960 w 90360"/>
              <a:gd name="textAreaRight" fmla="*/ 90720 w 9036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374920" y="3290760"/>
            <a:ext cx="138240" cy="855720"/>
          </a:xfrm>
          <a:custGeom>
            <a:avLst/>
            <a:gdLst>
              <a:gd name="textAreaLeft" fmla="*/ 88200 w 138240"/>
              <a:gd name="textAreaRight" fmla="*/ 138600 w 138240"/>
              <a:gd name="textAreaTop" fmla="*/ 22320 h 855720"/>
              <a:gd name="textAreaBottom" fmla="*/ 833400 h 855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378240" y="2438280"/>
            <a:ext cx="114120" cy="187560"/>
          </a:xfrm>
          <a:custGeom>
            <a:avLst/>
            <a:gdLst>
              <a:gd name="textAreaLeft" fmla="*/ 73080 w 114120"/>
              <a:gd name="textAreaRight" fmla="*/ 114480 w 114120"/>
              <a:gd name="textAreaTop" fmla="*/ 4680 h 187560"/>
              <a:gd name="textAreaBottom" fmla="*/ 182880 h 187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72"/>
                </a:lnTo>
                <a:cubicBezTo>
                  <a:pt x="10800" y="9972"/>
                  <a:pt x="5400" y="10872"/>
                  <a:pt x="0" y="10872"/>
                </a:cubicBezTo>
                <a:cubicBezTo>
                  <a:pt x="5400" y="10872"/>
                  <a:pt x="10800" y="11772"/>
                  <a:pt x="10800" y="12672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382920" y="2725560"/>
            <a:ext cx="114480" cy="187560"/>
          </a:xfrm>
          <a:custGeom>
            <a:avLst/>
            <a:gdLst>
              <a:gd name="textAreaLeft" fmla="*/ 73080 w 114480"/>
              <a:gd name="textAreaRight" fmla="*/ 114840 w 114480"/>
              <a:gd name="textAreaTop" fmla="*/ 4680 h 187560"/>
              <a:gd name="textAreaBottom" fmla="*/ 182880 h 187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72"/>
                </a:lnTo>
                <a:cubicBezTo>
                  <a:pt x="10800" y="9972"/>
                  <a:pt x="5400" y="10872"/>
                  <a:pt x="0" y="10872"/>
                </a:cubicBezTo>
                <a:cubicBezTo>
                  <a:pt x="5400" y="10872"/>
                  <a:pt x="10800" y="11772"/>
                  <a:pt x="10800" y="12672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387600" y="3484440"/>
            <a:ext cx="114480" cy="187560"/>
          </a:xfrm>
          <a:custGeom>
            <a:avLst/>
            <a:gdLst>
              <a:gd name="textAreaLeft" fmla="*/ 73080 w 114480"/>
              <a:gd name="textAreaRight" fmla="*/ 114840 w 114480"/>
              <a:gd name="textAreaTop" fmla="*/ 4680 h 187560"/>
              <a:gd name="textAreaBottom" fmla="*/ 182880 h 187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72"/>
                </a:lnTo>
                <a:cubicBezTo>
                  <a:pt x="10800" y="9972"/>
                  <a:pt x="5400" y="10872"/>
                  <a:pt x="0" y="10872"/>
                </a:cubicBezTo>
                <a:cubicBezTo>
                  <a:pt x="5400" y="10872"/>
                  <a:pt x="10800" y="11772"/>
                  <a:pt x="10800" y="12672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386160" y="3720960"/>
            <a:ext cx="114120" cy="187560"/>
          </a:xfrm>
          <a:custGeom>
            <a:avLst/>
            <a:gdLst>
              <a:gd name="textAreaLeft" fmla="*/ 73080 w 114120"/>
              <a:gd name="textAreaRight" fmla="*/ 114480 w 114120"/>
              <a:gd name="textAreaTop" fmla="*/ 4680 h 187560"/>
              <a:gd name="textAreaBottom" fmla="*/ 182880 h 187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72"/>
                </a:lnTo>
                <a:cubicBezTo>
                  <a:pt x="10800" y="9972"/>
                  <a:pt x="5400" y="10872"/>
                  <a:pt x="0" y="10872"/>
                </a:cubicBezTo>
                <a:cubicBezTo>
                  <a:pt x="5400" y="10872"/>
                  <a:pt x="10800" y="11772"/>
                  <a:pt x="10800" y="12672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435400" y="4773600"/>
            <a:ext cx="114120" cy="187200"/>
          </a:xfrm>
          <a:custGeom>
            <a:avLst/>
            <a:gdLst>
              <a:gd name="textAreaLeft" fmla="*/ 73080 w 114120"/>
              <a:gd name="textAreaRight" fmla="*/ 114480 w 114120"/>
              <a:gd name="textAreaTop" fmla="*/ 4680 h 187200"/>
              <a:gd name="textAreaBottom" fmla="*/ 182520 h 187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72"/>
                </a:lnTo>
                <a:cubicBezTo>
                  <a:pt x="10800" y="9972"/>
                  <a:pt x="5400" y="10872"/>
                  <a:pt x="0" y="10872"/>
                </a:cubicBezTo>
                <a:cubicBezTo>
                  <a:pt x="5400" y="10872"/>
                  <a:pt x="10800" y="11772"/>
                  <a:pt x="10800" y="12672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433600" y="5029200"/>
            <a:ext cx="114480" cy="187200"/>
          </a:xfrm>
          <a:custGeom>
            <a:avLst/>
            <a:gdLst>
              <a:gd name="textAreaLeft" fmla="*/ 73080 w 114480"/>
              <a:gd name="textAreaRight" fmla="*/ 114840 w 114480"/>
              <a:gd name="textAreaTop" fmla="*/ 4680 h 187200"/>
              <a:gd name="textAreaBottom" fmla="*/ 182520 h 187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72"/>
                </a:lnTo>
                <a:cubicBezTo>
                  <a:pt x="10800" y="9972"/>
                  <a:pt x="5400" y="10872"/>
                  <a:pt x="0" y="10872"/>
                </a:cubicBezTo>
                <a:cubicBezTo>
                  <a:pt x="5400" y="10872"/>
                  <a:pt x="10800" y="11772"/>
                  <a:pt x="10800" y="12672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421000" y="5253120"/>
            <a:ext cx="114120" cy="187200"/>
          </a:xfrm>
          <a:custGeom>
            <a:avLst/>
            <a:gdLst>
              <a:gd name="textAreaLeft" fmla="*/ 73080 w 114120"/>
              <a:gd name="textAreaRight" fmla="*/ 114480 w 114120"/>
              <a:gd name="textAreaTop" fmla="*/ 4680 h 187200"/>
              <a:gd name="textAreaBottom" fmla="*/ 182520 h 187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72"/>
                </a:lnTo>
                <a:cubicBezTo>
                  <a:pt x="10800" y="9972"/>
                  <a:pt x="5400" y="10872"/>
                  <a:pt x="0" y="10872"/>
                </a:cubicBezTo>
                <a:cubicBezTo>
                  <a:pt x="5400" y="10872"/>
                  <a:pt x="10800" y="11772"/>
                  <a:pt x="10800" y="12672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487520" y="1711440"/>
            <a:ext cx="114120" cy="187200"/>
          </a:xfrm>
          <a:custGeom>
            <a:avLst/>
            <a:gdLst>
              <a:gd name="textAreaLeft" fmla="*/ 73080 w 114120"/>
              <a:gd name="textAreaRight" fmla="*/ 114480 w 114120"/>
              <a:gd name="textAreaTop" fmla="*/ 4680 h 187200"/>
              <a:gd name="textAreaBottom" fmla="*/ 182520 h 187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72"/>
                </a:lnTo>
                <a:cubicBezTo>
                  <a:pt x="10800" y="9972"/>
                  <a:pt x="5400" y="10872"/>
                  <a:pt x="0" y="10872"/>
                </a:cubicBezTo>
                <a:cubicBezTo>
                  <a:pt x="5400" y="10872"/>
                  <a:pt x="10800" y="11772"/>
                  <a:pt x="10800" y="12672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cript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11360" y="13489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kup for web page displ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Script (no relation to Jav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fers programmability in web p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vanced text process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y implementations, large public libra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yth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rtable, interpreted, object-oriented programming langu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cl/Tk (Tool Command Languag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nguage for building GU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735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TD (Document Type Definition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2520" y="11901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7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ML is extensible because it allows user-defined ta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!-- Sample DTD --&gt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!ELEMENT Recipe (Name, Description?, Ingredients?, Instructions?)&gt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!ELEMENT Name (#PCDATA)&gt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!ELEMENT Description (#PCDATA)&gt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!ELEMENT Ingredients (Ingredient)*&gt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!ELEMENT Ingredient (Qty, Item)&gt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!ELEMENT Qty (#PCDATA)&gt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!ATTLIST Qty unit CDATA #REQUIRED&gt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!ELEMENT Item (#PCDATA)&gt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!ATTLIST Item optional CDATA "0"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sVegetarian CDATA "true"&gt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!ELEMENT Instructions (Step)+&gt;</a:t>
            </a:r>
            <a:br>
              <a:rPr sz="2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2" name=""/>
          <p:cNvGrpSpPr/>
          <p:nvPr/>
        </p:nvGrpSpPr>
        <p:grpSpPr>
          <a:xfrm>
            <a:off x="6462000" y="1190520"/>
            <a:ext cx="2352240" cy="4272120"/>
            <a:chOff x="6462000" y="1190520"/>
            <a:chExt cx="2352240" cy="4272120"/>
          </a:xfrm>
        </p:grpSpPr>
        <p:sp>
          <p:nvSpPr>
            <p:cNvPr id="333" name=""/>
            <p:cNvSpPr/>
            <p:nvPr/>
          </p:nvSpPr>
          <p:spPr>
            <a:xfrm>
              <a:off x="6767640" y="1190520"/>
              <a:ext cx="176112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cc0099"/>
                  </a:solidFill>
                  <a:latin typeface="Arial"/>
                </a:rPr>
                <a:t>DEFINES TAG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ecip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cc0099"/>
                  </a:solidFill>
                  <a:latin typeface="Arial"/>
                </a:rPr>
                <a:t>HAVING A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ame</a:t>
              </a:r>
              <a:r>
                <a:rPr b="1" lang="en-US" sz="1200" spc="-1" strike="noStrike">
                  <a:solidFill>
                    <a:srgbClr val="cc0099"/>
                  </a:solidFill>
                  <a:latin typeface="Arial"/>
                </a:rPr>
                <a:t> AN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cc0099"/>
                  </a:solidFill>
                  <a:latin typeface="Arial"/>
                </a:rPr>
                <a:t>3 OPTIONALTAG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822000" y="2252520"/>
              <a:ext cx="19922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cc0099"/>
                  </a:solidFill>
                  <a:latin typeface="Arial"/>
                </a:rPr>
                <a:t>TAGS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ame, Descrip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cc0099"/>
                  </a:solidFill>
                  <a:latin typeface="Arial"/>
                </a:rPr>
                <a:t>CONTAIN ONL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cc0099"/>
                  </a:solidFill>
                  <a:latin typeface="Arial"/>
                </a:rPr>
                <a:t>CHARACTER 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6835320" y="3009600"/>
              <a:ext cx="188856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cc0099"/>
                  </a:solidFill>
                  <a:latin typeface="Arial"/>
                </a:rPr>
                <a:t>TAG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Ingredient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cc0099"/>
                  </a:solidFill>
                  <a:latin typeface="Arial"/>
                </a:rPr>
                <a:t>CONTAINS ZERO O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cc0099"/>
                  </a:solidFill>
                  <a:latin typeface="Arial"/>
                </a:rPr>
                <a:t>MORE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Ingredient</a:t>
              </a:r>
              <a:r>
                <a:rPr b="1" lang="en-US" sz="1200" spc="-1" strike="noStrike">
                  <a:solidFill>
                    <a:srgbClr val="cc0099"/>
                  </a:solidFill>
                  <a:latin typeface="Arial"/>
                </a:rPr>
                <a:t> TAG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6886080" y="3814560"/>
              <a:ext cx="180360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ngredient</a:t>
              </a:r>
              <a:r>
                <a:rPr b="1" lang="en-US" sz="1200" spc="-1" strike="noStrike">
                  <a:solidFill>
                    <a:srgbClr val="cc0099"/>
                  </a:solidFill>
                  <a:latin typeface="Arial"/>
                </a:rPr>
                <a:t> TAG HAS 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Qty</a:t>
              </a:r>
              <a:r>
                <a:rPr b="1" lang="en-US" sz="1200" spc="-1" strike="noStrike">
                  <a:solidFill>
                    <a:srgbClr val="cc0099"/>
                  </a:solidFill>
                  <a:latin typeface="Arial"/>
                </a:rPr>
                <a:t> TAG FOLLOWE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cc0099"/>
                  </a:solidFill>
                  <a:latin typeface="Arial"/>
                </a:rPr>
                <a:t>BY AN Item T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462000" y="4640040"/>
              <a:ext cx="2318760" cy="82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cc0099"/>
                  </a:solidFill>
                  <a:latin typeface="Arial"/>
                </a:rPr>
                <a:t>TAG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Qty</a:t>
              </a:r>
              <a:r>
                <a:rPr b="1" lang="en-US" sz="1200" spc="-1" strike="noStrike">
                  <a:solidFill>
                    <a:srgbClr val="cc0099"/>
                  </a:solidFill>
                  <a:latin typeface="Arial"/>
                </a:rPr>
                <a:t> HAS TW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cc0099"/>
                  </a:solidFill>
                  <a:latin typeface="Arial"/>
                </a:rPr>
                <a:t>POSSIBLE ATTRIBUTES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optional</a:t>
              </a:r>
              <a:r>
                <a:rPr b="1" lang="en-US" sz="1200" spc="-1" strike="noStrike">
                  <a:solidFill>
                    <a:srgbClr val="cc0099"/>
                  </a:solidFill>
                  <a:latin typeface="Arial"/>
                </a:rPr>
                <a:t> (DEFAULT VALUE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US" sz="1200" spc="-1" strike="noStrike">
                  <a:solidFill>
                    <a:srgbClr val="cc0099"/>
                  </a:solidFill>
                  <a:latin typeface="Arial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sVegetarian</a:t>
              </a:r>
              <a:r>
                <a:rPr b="1" lang="en-US" sz="1200" spc="-1" strike="noStrike">
                  <a:solidFill>
                    <a:srgbClr val="cc0099"/>
                  </a:solidFill>
                  <a:latin typeface="Arial"/>
                </a:rPr>
                <a:t> (DEFAULT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rue</a:t>
              </a:r>
              <a:r>
                <a:rPr b="1" lang="en-US" sz="1200" spc="-1" strike="noStrike">
                  <a:solidFill>
                    <a:srgbClr val="cc0099"/>
                  </a:solidFill>
                  <a:latin typeface="Arial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8" name=""/>
          <p:cNvSpPr/>
          <p:nvPr/>
        </p:nvSpPr>
        <p:spPr>
          <a:xfrm>
            <a:off x="4946760" y="5689440"/>
            <a:ext cx="37814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99"/>
                </a:solidFill>
                <a:latin typeface="Arial"/>
              </a:rPr>
              <a:t>TAG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1" lang="en-US" sz="1200" spc="-1" strike="noStrike">
                <a:solidFill>
                  <a:srgbClr val="cc0099"/>
                </a:solidFill>
                <a:latin typeface="Arial"/>
              </a:rPr>
              <a:t> HAS ONE OR MORE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Step</a:t>
            </a:r>
            <a:r>
              <a:rPr b="1" lang="en-US" sz="1200" spc="-1" strike="noStrike">
                <a:solidFill>
                  <a:srgbClr val="cc0099"/>
                </a:solidFill>
                <a:latin typeface="Arial"/>
              </a:rPr>
              <a:t> TA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85120" y="5851440"/>
            <a:ext cx="19116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URCE: JAVAWOR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 flipH="1">
            <a:off x="5184720" y="1522440"/>
            <a:ext cx="1571760" cy="39528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H="1">
            <a:off x="5398920" y="2490840"/>
            <a:ext cx="1447920" cy="30960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084640" y="2462040"/>
            <a:ext cx="185760" cy="642960"/>
          </a:xfrm>
          <a:custGeom>
            <a:avLst/>
            <a:gdLst>
              <a:gd name="textAreaLeft" fmla="*/ 0 w 185760"/>
              <a:gd name="textAreaRight" fmla="*/ 66960 w 185760"/>
              <a:gd name="textAreaTop" fmla="*/ 16560 h 642960"/>
              <a:gd name="textAreaBottom" fmla="*/ 62640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flipH="1">
            <a:off x="5609880" y="3336840"/>
            <a:ext cx="1214280" cy="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 flipH="1" flipV="1">
            <a:off x="5155920" y="3681360"/>
            <a:ext cx="1693800" cy="24768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flipH="1">
            <a:off x="4968360" y="4808520"/>
            <a:ext cx="1473480" cy="20952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flipH="1" flipV="1">
            <a:off x="4425480" y="5697000"/>
            <a:ext cx="544680" cy="14940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3255840" y="1622520"/>
            <a:ext cx="1642320" cy="275040"/>
            <a:chOff x="3255840" y="1622520"/>
            <a:chExt cx="1642320" cy="275040"/>
          </a:xfrm>
        </p:grpSpPr>
        <p:sp>
          <p:nvSpPr>
            <p:cNvPr id="348" name=""/>
            <p:cNvSpPr/>
            <p:nvPr/>
          </p:nvSpPr>
          <p:spPr>
            <a:xfrm>
              <a:off x="3562560" y="1622520"/>
              <a:ext cx="133560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cc0099"/>
                  </a:solidFill>
                  <a:latin typeface="Arial"/>
                </a:rPr>
                <a:t>XML COMME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 flipH="1" flipV="1">
              <a:off x="3255840" y="1754280"/>
              <a:ext cx="320400" cy="1440"/>
            </a:xfrm>
            <a:prstGeom prst="line">
              <a:avLst/>
            </a:prstGeom>
            <a:ln w="12600">
              <a:solidFill>
                <a:srgbClr val="cc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" descr=""/>
          <p:cNvPicPr/>
          <p:nvPr/>
        </p:nvPicPr>
        <p:blipFill>
          <a:blip r:embed="rId1"/>
          <a:stretch/>
        </p:blipFill>
        <p:spPr>
          <a:xfrm>
            <a:off x="1521000" y="2598840"/>
            <a:ext cx="5297400" cy="2525760"/>
          </a:xfrm>
          <a:prstGeom prst="rect">
            <a:avLst/>
          </a:prstGeom>
          <a:ln w="0">
            <a:noFill/>
          </a:ln>
        </p:spPr>
      </p:pic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ocument Object Model (DOM) in XM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gs defined hierarchicall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ve an object inheritance stru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entire document then becomes an object whose parts have attribu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6730200" y="5815080"/>
            <a:ext cx="19116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URCE: JAVAWOR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73200" y="22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ocument Object Model (DOM) in XM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2776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XML structured document can be treated and manipulated as an ob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M parser transforms the document into a parse tr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gram can walk the tree, performing arbitrary transform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M API then converts the new tree to another XML f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file can be printed, sent over the net or used as input to another pro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s can now exchange data without knowing formats — DTD contains everything necess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730200" y="5815080"/>
            <a:ext cx="19116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URCE: JAVAWOR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7" name="" descr=""/>
          <p:cNvPicPr/>
          <p:nvPr/>
        </p:nvPicPr>
        <p:blipFill>
          <a:blip r:embed="rId1"/>
          <a:stretch/>
        </p:blipFill>
        <p:spPr>
          <a:xfrm>
            <a:off x="1789200" y="2449440"/>
            <a:ext cx="4902120" cy="126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279360" y="507960"/>
            <a:ext cx="3238560" cy="942840"/>
          </a:xfrm>
          <a:prstGeom prst="rect">
            <a:avLst/>
          </a:prstGeom>
          <a:ln w="0">
            <a:noFill/>
          </a:ln>
        </p:spPr>
      </p:pic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885960" y="25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(Open Banking on the Internet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646200" y="2246400"/>
            <a:ext cx="8153280" cy="35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0099"/>
                </a:solidFill>
                <a:uFillTx/>
                <a:latin typeface="Times New Roman"/>
                <a:ea typeface="新細明體"/>
              </a:rPr>
              <a:t>XML catalog 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0099"/>
                </a:solidFill>
                <a:uFillTx/>
                <a:latin typeface="Times New Roman"/>
                <a:ea typeface="新細明體"/>
              </a:rPr>
              <a:t>Cellphones </a:t>
            </a:r>
            <a:r>
              <a:rPr b="0" lang="en-US" sz="2400" spc="-1" strike="noStrike" u="sng">
                <a:solidFill>
                  <a:srgbClr val="cc0099"/>
                </a:solidFill>
                <a:uFillTx/>
                <a:latin typeface="Times New Roman"/>
                <a:ea typeface="新細明體"/>
              </a:rPr>
              <a:t>’R Us requisition de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u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新細明體"/>
              </a:rPr>
              <a:t>XML Financial Implementa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658800" y="1441440"/>
            <a:ext cx="8153280" cy="41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Times New Roman"/>
                <a:ea typeface="新細明體"/>
              </a:rPr>
              <a:t>OF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- </a:t>
            </a:r>
            <a:r>
              <a:rPr b="0" lang="en-US" sz="2400" spc="-1" strike="noStrike" u="sng">
                <a:solidFill>
                  <a:srgbClr val="cc0099"/>
                </a:solidFill>
                <a:uFillTx/>
                <a:latin typeface="Times New Roman"/>
                <a:ea typeface="新細明體"/>
              </a:rPr>
              <a:t>Open Financial Ex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0099"/>
                </a:solidFill>
                <a:uFillTx/>
                <a:latin typeface="Times New Roman"/>
                <a:ea typeface="新細明體"/>
              </a:rPr>
              <a:t>Fiel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Times New Roman"/>
                <a:ea typeface="新細明體"/>
              </a:rPr>
              <a:t>FIXM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- XML grammar for FIX (Financial Information Exchange).  MSDW is a principal.  More </a:t>
            </a:r>
            <a:r>
              <a:rPr b="0" lang="en-US" sz="2400" spc="-1" strike="noStrike" u="sng">
                <a:solidFill>
                  <a:srgbClr val="cc0099"/>
                </a:solidFill>
                <a:uFillTx/>
                <a:latin typeface="Times New Roman"/>
                <a:ea typeface="新細明體"/>
              </a:rPr>
              <a:t>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Times New Roman"/>
                <a:ea typeface="新細明體"/>
              </a:rPr>
              <a:t>FINXM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- Capital markets.  </a:t>
            </a:r>
            <a:r>
              <a:rPr b="0" lang="en-US" sz="2400" spc="-1" strike="noStrike" u="sng">
                <a:solidFill>
                  <a:srgbClr val="cc0099"/>
                </a:solidFill>
                <a:uFillTx/>
                <a:latin typeface="Times New Roman"/>
                <a:ea typeface="新細明體"/>
              </a:rPr>
              <a:t>Inf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    Vendor: </a:t>
            </a:r>
            <a:r>
              <a:rPr b="0" lang="en-US" sz="2400" spc="-1" strike="noStrike" u="sng">
                <a:solidFill>
                  <a:srgbClr val="cc0099"/>
                </a:solidFill>
                <a:uFillTx/>
                <a:latin typeface="Times New Roman"/>
                <a:ea typeface="新細明體"/>
              </a:rPr>
              <a:t>Integ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Times New Roman"/>
                <a:ea typeface="新細明體"/>
              </a:rPr>
              <a:t>SWI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Times New Roman"/>
                <a:ea typeface="新細明體"/>
              </a:rPr>
              <a:t>X1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- data exchange standard for business trans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6519600" y="5803920"/>
            <a:ext cx="24404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URCE: PROF. JEROME Y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4" name="" descr=""/>
          <p:cNvPicPr/>
          <p:nvPr/>
        </p:nvPicPr>
        <p:blipFill>
          <a:blip r:embed="rId1"/>
          <a:stretch/>
        </p:blipFill>
        <p:spPr>
          <a:xfrm>
            <a:off x="6910560" y="1932120"/>
            <a:ext cx="1904760" cy="714240"/>
          </a:xfrm>
          <a:prstGeom prst="rect">
            <a:avLst/>
          </a:prstGeom>
          <a:ln w="0">
            <a:noFill/>
          </a:ln>
        </p:spPr>
      </p:pic>
      <p:pic>
        <p:nvPicPr>
          <p:cNvPr id="365" name="" descr=""/>
          <p:cNvPicPr/>
          <p:nvPr/>
        </p:nvPicPr>
        <p:blipFill>
          <a:blip r:embed="rId2"/>
          <a:stretch/>
        </p:blipFill>
        <p:spPr>
          <a:xfrm>
            <a:off x="5695920" y="1380960"/>
            <a:ext cx="695520" cy="657360"/>
          </a:xfrm>
          <a:prstGeom prst="rect">
            <a:avLst/>
          </a:prstGeom>
          <a:ln w="0">
            <a:noFill/>
          </a:ln>
        </p:spPr>
      </p:pic>
      <p:pic>
        <p:nvPicPr>
          <p:cNvPr id="366" name="" descr=""/>
          <p:cNvPicPr/>
          <p:nvPr/>
        </p:nvPicPr>
        <p:blipFill>
          <a:blip r:embed="rId3"/>
          <a:srcRect l="0" t="0" r="35496" b="12004"/>
          <a:stretch/>
        </p:blipFill>
        <p:spPr>
          <a:xfrm>
            <a:off x="5564160" y="3962520"/>
            <a:ext cx="1911240" cy="66996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4"/>
          <a:stretch/>
        </p:blipFill>
        <p:spPr>
          <a:xfrm>
            <a:off x="3733920" y="4260960"/>
            <a:ext cx="1009440" cy="514080"/>
          </a:xfrm>
          <a:prstGeom prst="rect">
            <a:avLst/>
          </a:prstGeom>
          <a:ln w="0">
            <a:noFill/>
          </a:ln>
        </p:spPr>
      </p:pic>
    </p:spTree>
  </p:cSld>
  <p:transition spd="med">
    <p:pull dir="lu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新細明體"/>
              </a:rPr>
              <a:t>XML Implementa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58800" y="1441440"/>
            <a:ext cx="8153280" cy="41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Times New Roman"/>
                <a:ea typeface="新細明體"/>
              </a:rPr>
              <a:t>HL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- health information (</a:t>
            </a:r>
            <a:r>
              <a:rPr b="0" lang="en-US" sz="2400" spc="-1" strike="noStrike" u="sng">
                <a:solidFill>
                  <a:srgbClr val="cc0099"/>
                </a:solidFill>
                <a:uFillTx/>
                <a:latin typeface="Times New Roman"/>
                <a:ea typeface="新細明體"/>
              </a:rPr>
              <a:t>Health Level 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Times New Roman"/>
                <a:ea typeface="新細明體"/>
              </a:rPr>
              <a:t>EDIFACT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新細明體"/>
              </a:rPr>
              <a:t>/SimplED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- syntax - reposit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Times New Roman"/>
                <a:ea typeface="新細明體"/>
              </a:rPr>
              <a:t>IF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- Interactive Financial Exchange formerly OFX/Gold (Open Financial Exchange</a:t>
            </a:r>
            <a:r>
              <a:rPr b="1" lang="en-US" sz="2400" spc="-1" strike="noStrike">
                <a:solidFill>
                  <a:srgbClr val="969696"/>
                </a:solidFill>
                <a:latin typeface="Times New Roman"/>
                <a:ea typeface="新細明體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) - personal banking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Times New Roman"/>
                <a:ea typeface="新細明體"/>
              </a:rPr>
              <a:t>RosettaNe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- catalogues, supply chain auto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Times New Roman"/>
                <a:ea typeface="新細明體"/>
              </a:rPr>
              <a:t>OT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- </a:t>
            </a:r>
            <a:r>
              <a:rPr b="0" lang="en-US" sz="2400" spc="-1" strike="noStrike" u="sng">
                <a:solidFill>
                  <a:srgbClr val="cc0099"/>
                </a:solidFill>
                <a:uFillTx/>
                <a:latin typeface="Times New Roman"/>
                <a:ea typeface="新細明體"/>
              </a:rPr>
              <a:t>Open Trading Protocol</a:t>
            </a:r>
            <a:r>
              <a:rPr b="1" i="1" lang="en-US" sz="2400" spc="-1" strike="noStrike">
                <a:solidFill>
                  <a:srgbClr val="969696"/>
                </a:solidFill>
                <a:latin typeface="Times New Roman"/>
                <a:ea typeface="新細明體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- buying and pay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0099"/>
                </a:solidFill>
                <a:uFillTx/>
                <a:latin typeface="Times New Roman"/>
                <a:ea typeface="新細明體"/>
              </a:rPr>
              <a:t>Financial markup standa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0099"/>
                </a:solidFill>
                <a:uFillTx/>
                <a:latin typeface="Times New Roman"/>
                <a:ea typeface="新細明體"/>
              </a:rPr>
              <a:t>XML-enabled product vendor 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新細明體"/>
              </a:rPr>
              <a:t>ECM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- Electronic Commerce Markup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0099"/>
                </a:solidFill>
                <a:uFillTx/>
                <a:latin typeface="Times New Roman"/>
                <a:ea typeface="新細明體"/>
              </a:rPr>
              <a:t>Field na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519600" y="5803920"/>
            <a:ext cx="24404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URCE: PROF. JEROME Y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u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新細明體"/>
              </a:rPr>
              <a:t>Ubiquitous XML Architectu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2" name="" descr=""/>
          <p:cNvPicPr/>
          <p:nvPr/>
        </p:nvPicPr>
        <p:blipFill>
          <a:blip r:embed="rId1"/>
          <a:stretch/>
        </p:blipFill>
        <p:spPr>
          <a:xfrm>
            <a:off x="746280" y="1092240"/>
            <a:ext cx="7205400" cy="4773600"/>
          </a:xfrm>
          <a:prstGeom prst="rect">
            <a:avLst/>
          </a:prstGeom>
          <a:ln w="0">
            <a:noFill/>
          </a:ln>
        </p:spPr>
      </p:pic>
      <p:sp>
        <p:nvSpPr>
          <p:cNvPr id="373" name=""/>
          <p:cNvSpPr/>
          <p:nvPr/>
        </p:nvSpPr>
        <p:spPr>
          <a:xfrm>
            <a:off x="6519600" y="5829120"/>
            <a:ext cx="24404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URCE: PROF. JEROME Y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u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/>
          <p:nvPr/>
        </p:nvSpPr>
        <p:spPr>
          <a:xfrm>
            <a:off x="5079960" y="966960"/>
            <a:ext cx="3429000" cy="48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  <a:ea typeface="MS Gothic"/>
              </a:rPr>
              <a:t>Glob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  <a:ea typeface="MS Gothic"/>
              </a:rPr>
              <a:t>Enterpri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2630520" y="3208320"/>
            <a:ext cx="2666880" cy="14889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Gothic"/>
              </a:rPr>
              <a:t>Enterprise Por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  <a:ea typeface="MS Gothic"/>
              </a:rPr>
              <a:t>Transaction Med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765760" y="1160640"/>
            <a:ext cx="2057400" cy="14904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  <a:ea typeface="MS Gothic"/>
              </a:rPr>
              <a:t>Custom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  <a:ea typeface="MS Gothic"/>
              </a:rPr>
              <a:t>Serv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 Narrow"/>
                <a:ea typeface="MS Gothic"/>
              </a:rPr>
              <a:t>Order Manag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 Narrow"/>
                <a:ea typeface="MS Gothic"/>
              </a:rPr>
              <a:t>Knowledge Manag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 Narrow"/>
                <a:ea typeface="MS Gothic"/>
              </a:rPr>
              <a:t>Human Call Cent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 Narrow"/>
                <a:ea typeface="MS Gothic"/>
              </a:rPr>
              <a:t>Inventory Manag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2046240" y="1112760"/>
            <a:ext cx="2000160" cy="1465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Gothic"/>
              </a:rPr>
              <a:t>Inter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Gothic"/>
              </a:rPr>
              <a:t>Exchan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  <a:ea typeface="MS Gothic"/>
              </a:rPr>
              <a:t>Catalogs. Cont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  <a:ea typeface="MS Gothic"/>
              </a:rPr>
              <a:t>News, Pric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  <a:ea typeface="MS Gothic"/>
              </a:rPr>
              <a:t>Shipping, Pay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965920" y="4567320"/>
            <a:ext cx="1657080" cy="120492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  <a:ea typeface="MS Gothic"/>
              </a:rPr>
              <a:t>Corpor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  <a:ea typeface="MS Gothic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 Narrow"/>
                <a:ea typeface="MS Gothic"/>
              </a:rPr>
              <a:t>Procurement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 Narrow"/>
                <a:ea typeface="MS Gothic"/>
              </a:rPr>
              <a:t>Human Resources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 Narrow"/>
                <a:ea typeface="MS Gothic"/>
              </a:rPr>
              <a:t>Market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75" idx="7"/>
            <a:endCxn id="376" idx="2"/>
          </p:cNvCxnSpPr>
          <p:nvPr/>
        </p:nvCxnSpPr>
        <p:spPr>
          <a:xfrm flipH="1" flipV="1" rot="5400000">
            <a:off x="4576320" y="2236320"/>
            <a:ext cx="1519920" cy="859680"/>
          </a:xfrm>
          <a:prstGeom prst="bentConnector2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80" name=""/>
          <p:cNvCxnSpPr>
            <a:stCxn id="375" idx="5"/>
            <a:endCxn id="378" idx="2"/>
          </p:cNvCxnSpPr>
          <p:nvPr/>
        </p:nvCxnSpPr>
        <p:spPr>
          <a:xfrm flipH="1" rot="16200000">
            <a:off x="5091120" y="4295160"/>
            <a:ext cx="691200" cy="1059840"/>
          </a:xfrm>
          <a:prstGeom prst="bentConnector2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81" name=""/>
          <p:cNvSpPr/>
          <p:nvPr/>
        </p:nvSpPr>
        <p:spPr>
          <a:xfrm>
            <a:off x="4078440" y="4272120"/>
            <a:ext cx="761760" cy="2840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all Ct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stCxn id="383" idx="6"/>
            <a:endCxn id="384" idx="0"/>
          </p:cNvCxnSpPr>
          <p:nvPr/>
        </p:nvCxnSpPr>
        <p:spPr>
          <a:xfrm flipV="1">
            <a:off x="2097000" y="3349440"/>
            <a:ext cx="2363040" cy="807120"/>
          </a:xfrm>
          <a:prstGeom prst="curvedConnector5">
            <a:avLst>
              <a:gd name="adj1" fmla="val 41932"/>
              <a:gd name="adj2" fmla="val 64167"/>
              <a:gd name="adj3" fmla="val 41932"/>
            </a:avLst>
          </a:prstGeom>
          <a:ln w="19080">
            <a:solidFill>
              <a:srgbClr val="00ff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85" name=""/>
          <p:cNvCxnSpPr>
            <a:stCxn id="383" idx="4"/>
            <a:endCxn id="386" idx="4"/>
          </p:cNvCxnSpPr>
          <p:nvPr/>
        </p:nvCxnSpPr>
        <p:spPr>
          <a:xfrm flipH="1" rot="16200000">
            <a:off x="2514960" y="3450960"/>
            <a:ext cx="153000" cy="2057760"/>
          </a:xfrm>
          <a:prstGeom prst="curvedConnector5">
            <a:avLst>
              <a:gd name="adj1" fmla="val 250000"/>
              <a:gd name="adj2" fmla="val 49991"/>
              <a:gd name="adj3" fmla="val 250000"/>
            </a:avLst>
          </a:prstGeom>
          <a:ln w="19080">
            <a:solidFill>
              <a:srgbClr val="00ff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4551480" y="776160"/>
            <a:ext cx="1066680" cy="49716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Gothic"/>
              </a:rPr>
              <a:t>Buy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 rot="19301400">
            <a:off x="3866760" y="1147680"/>
            <a:ext cx="820800" cy="425520"/>
          </a:xfrm>
          <a:prstGeom prst="leftRightArrow">
            <a:avLst>
              <a:gd name="adj1" fmla="val 50000"/>
              <a:gd name="adj2" fmla="val 384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X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6451560" y="4014720"/>
            <a:ext cx="1523880" cy="3542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69696"/>
                </a:solidFill>
                <a:latin typeface="Arial Narrow"/>
                <a:ea typeface="MS Gothic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Employe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 flipH="1" flipV="1">
            <a:off x="5293800" y="3949200"/>
            <a:ext cx="1157400" cy="217800"/>
          </a:xfrm>
          <a:prstGeom prst="line">
            <a:avLst/>
          </a:prstGeom>
          <a:ln w="1908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240000" y="3349800"/>
            <a:ext cx="762120" cy="2840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2" name=""/>
          <p:cNvCxnSpPr>
            <a:stCxn id="383" idx="6"/>
            <a:endCxn id="391" idx="0"/>
          </p:cNvCxnSpPr>
          <p:nvPr/>
        </p:nvCxnSpPr>
        <p:spPr>
          <a:xfrm flipV="1">
            <a:off x="2097000" y="3349440"/>
            <a:ext cx="1524960" cy="807120"/>
          </a:xfrm>
          <a:prstGeom prst="curvedConnector5">
            <a:avLst>
              <a:gd name="adj1" fmla="val 37497"/>
              <a:gd name="adj2" fmla="val 64167"/>
              <a:gd name="adj3" fmla="val 37497"/>
            </a:avLst>
          </a:prstGeom>
          <a:ln w="19080">
            <a:solidFill>
              <a:srgbClr val="00ff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93" name=""/>
          <p:cNvCxnSpPr>
            <a:stCxn id="383" idx="5"/>
            <a:endCxn id="381" idx="4"/>
          </p:cNvCxnSpPr>
          <p:nvPr/>
        </p:nvCxnSpPr>
        <p:spPr>
          <a:xfrm flipH="1" rot="16200000">
            <a:off x="3087720" y="3184560"/>
            <a:ext cx="226080" cy="2518200"/>
          </a:xfrm>
          <a:prstGeom prst="curvedConnector5">
            <a:avLst>
              <a:gd name="adj1" fmla="val 201275"/>
              <a:gd name="adj2" fmla="val 50000"/>
              <a:gd name="adj3" fmla="val 201275"/>
            </a:avLst>
          </a:prstGeom>
          <a:ln w="19080">
            <a:solidFill>
              <a:srgbClr val="00ff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94" name=""/>
          <p:cNvSpPr/>
          <p:nvPr/>
        </p:nvSpPr>
        <p:spPr>
          <a:xfrm rot="20148000">
            <a:off x="3116160" y="2525760"/>
            <a:ext cx="682560" cy="60948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X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Enterprise Portal Network Archite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1030320" y="3449520"/>
            <a:ext cx="1066680" cy="609840"/>
          </a:xfrm>
          <a:prstGeom prst="ellipse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Gothic"/>
              </a:rPr>
              <a:t>Se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7" name=""/>
          <p:cNvCxnSpPr/>
          <p:nvPr/>
        </p:nvCxnSpPr>
        <p:spPr>
          <a:xfrm flipH="1" flipV="1" rot="5400000">
            <a:off x="2541960" y="2394360"/>
            <a:ext cx="100440" cy="2057760"/>
          </a:xfrm>
          <a:prstGeom prst="curvedConnector5">
            <a:avLst>
              <a:gd name="adj1" fmla="val 507913"/>
              <a:gd name="adj2" fmla="val 49991"/>
              <a:gd name="adj3" fmla="val 507913"/>
            </a:avLst>
          </a:prstGeom>
          <a:ln w="19080">
            <a:solidFill>
              <a:srgbClr val="ff66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98" name=""/>
          <p:cNvCxnSpPr>
            <a:stCxn id="396" idx="7"/>
            <a:endCxn id="384" idx="0"/>
          </p:cNvCxnSpPr>
          <p:nvPr/>
        </p:nvCxnSpPr>
        <p:spPr>
          <a:xfrm flipH="1" flipV="1" rot="5400000">
            <a:off x="3105720" y="2184840"/>
            <a:ext cx="189360" cy="2518200"/>
          </a:xfrm>
          <a:prstGeom prst="curvedConnector5">
            <a:avLst>
              <a:gd name="adj1" fmla="val 220952"/>
              <a:gd name="adj2" fmla="val 50000"/>
              <a:gd name="adj3" fmla="val 220952"/>
            </a:avLst>
          </a:prstGeom>
          <a:ln w="19080">
            <a:solidFill>
              <a:srgbClr val="ff66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99" name=""/>
          <p:cNvCxnSpPr>
            <a:stCxn id="396" idx="6"/>
            <a:endCxn id="381" idx="4"/>
          </p:cNvCxnSpPr>
          <p:nvPr/>
        </p:nvCxnSpPr>
        <p:spPr>
          <a:xfrm>
            <a:off x="2097000" y="3754080"/>
            <a:ext cx="2363040" cy="802440"/>
          </a:xfrm>
          <a:prstGeom prst="curvedConnector5">
            <a:avLst>
              <a:gd name="adj1" fmla="val 41932"/>
              <a:gd name="adj2" fmla="val 64228"/>
              <a:gd name="adj3" fmla="val 41932"/>
            </a:avLst>
          </a:prstGeom>
          <a:ln w="19080">
            <a:solidFill>
              <a:srgbClr val="ff66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00" name=""/>
          <p:cNvCxnSpPr>
            <a:stCxn id="396" idx="6"/>
            <a:endCxn id="386" idx="4"/>
          </p:cNvCxnSpPr>
          <p:nvPr/>
        </p:nvCxnSpPr>
        <p:spPr>
          <a:xfrm>
            <a:off x="2097000" y="3754080"/>
            <a:ext cx="1524960" cy="802440"/>
          </a:xfrm>
          <a:prstGeom prst="curvedConnector5">
            <a:avLst>
              <a:gd name="adj1" fmla="val 37497"/>
              <a:gd name="adj2" fmla="val 64228"/>
              <a:gd name="adj3" fmla="val 37497"/>
            </a:avLst>
          </a:prstGeom>
          <a:ln w="19080">
            <a:solidFill>
              <a:srgbClr val="ff66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83" name=""/>
          <p:cNvSpPr/>
          <p:nvPr/>
        </p:nvSpPr>
        <p:spPr>
          <a:xfrm>
            <a:off x="1030320" y="3906720"/>
            <a:ext cx="1066680" cy="49716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Gothic"/>
              </a:rPr>
              <a:t>Buy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401760" y="784080"/>
            <a:ext cx="1066680" cy="497160"/>
          </a:xfrm>
          <a:prstGeom prst="ellipse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Gothic"/>
              </a:rPr>
              <a:t>Se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 rot="2734200">
            <a:off x="1306440" y="1172880"/>
            <a:ext cx="914400" cy="425520"/>
          </a:xfrm>
          <a:prstGeom prst="leftRightArrow">
            <a:avLst>
              <a:gd name="adj1" fmla="val 50000"/>
              <a:gd name="adj2" fmla="val 42779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X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714680" y="4921200"/>
            <a:ext cx="1466640" cy="1120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Gothic"/>
              </a:rPr>
              <a:t>Inter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Gothic"/>
              </a:rPr>
              <a:t>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MS Gothic"/>
              </a:rPr>
              <a:t>New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MS Gothic"/>
              </a:rPr>
              <a:t>Cont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 rot="19183200">
            <a:off x="3011400" y="4744800"/>
            <a:ext cx="914400" cy="425160"/>
          </a:xfrm>
          <a:prstGeom prst="leftRightArrow">
            <a:avLst>
              <a:gd name="adj1" fmla="val 50000"/>
              <a:gd name="adj2" fmla="val 42815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X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1981080" y="838080"/>
            <a:ext cx="152640" cy="228600"/>
          </a:xfrm>
          <a:prstGeom prst="ellipse">
            <a:avLst/>
          </a:prstGeom>
          <a:solidFill>
            <a:srgbClr val="00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6" name=""/>
          <p:cNvCxnSpPr>
            <a:stCxn id="377" idx="1"/>
            <a:endCxn id="405" idx="4"/>
          </p:cNvCxnSpPr>
          <p:nvPr/>
        </p:nvCxnSpPr>
        <p:spPr>
          <a:xfrm flipV="1" rot="16200000">
            <a:off x="2072520" y="1059840"/>
            <a:ext cx="251640" cy="283320"/>
          </a:xfrm>
          <a:prstGeom prst="curvedConnector5">
            <a:avLst>
              <a:gd name="adj1" fmla="val 94269"/>
              <a:gd name="adj2" fmla="val 50000"/>
              <a:gd name="adj3" fmla="val 94269"/>
            </a:avLst>
          </a:prstGeom>
          <a:ln w="19080">
            <a:solidFill>
              <a:srgbClr val="00ff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07" name=""/>
          <p:cNvSpPr/>
          <p:nvPr/>
        </p:nvSpPr>
        <p:spPr>
          <a:xfrm>
            <a:off x="1066680" y="1905120"/>
            <a:ext cx="152640" cy="228600"/>
          </a:xfrm>
          <a:prstGeom prst="ellipse">
            <a:avLst/>
          </a:prstGeom>
          <a:solidFill>
            <a:srgbClr val="ff66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8" name=""/>
          <p:cNvCxnSpPr>
            <a:stCxn id="407" idx="6"/>
            <a:endCxn id="377" idx="2"/>
          </p:cNvCxnSpPr>
          <p:nvPr/>
        </p:nvCxnSpPr>
        <p:spPr>
          <a:xfrm flipV="1">
            <a:off x="1228320" y="1846080"/>
            <a:ext cx="818280" cy="173520"/>
          </a:xfrm>
          <a:prstGeom prst="curvedConnector5">
            <a:avLst>
              <a:gd name="adj1" fmla="val 49295"/>
              <a:gd name="adj2" fmla="val 49896"/>
              <a:gd name="adj3" fmla="val 49295"/>
            </a:avLst>
          </a:prstGeom>
          <a:ln w="19080">
            <a:solidFill>
              <a:srgbClr val="ff66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4078440" y="3349800"/>
            <a:ext cx="761760" cy="2840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S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3240000" y="4272120"/>
            <a:ext cx="762120" cy="2840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K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566880" y="5778360"/>
            <a:ext cx="2481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OURCE: KEENAN VISION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d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新細明體"/>
              </a:rPr>
              <a:t>Impact of XM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Interchange mechanism between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Rapidly becoming the database language of the We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XML client/server/server transactions over htt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Permits web data reposi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XML propert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Scal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Maintain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Easy to use (spreadsheet style skill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Interoperable (exchange business compon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jor Idea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rip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pid development/debugg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nguage for the Web, no close competi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for exchanging data over the We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f-defining synt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Java Language Featur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36480" y="111420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6000"/>
          </a:bodyPr>
          <a:p>
            <a:pPr marL="294840" indent="-294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dural syntax like C+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ct-oriented (classes, inheritance, encapsul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tform independence, secu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ong  typing, no poin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lymorphism, overlo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ynamic memory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rea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499"/>
              </a:spcBef>
              <a:buClr>
                <a:srgbClr val="cc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99"/>
                </a:solidFill>
                <a:latin typeface="Arial"/>
              </a:rPr>
              <a:t>start(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cc0099"/>
                </a:solidFill>
                <a:latin typeface="Arial"/>
              </a:rPr>
              <a:t>stop(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cc0099"/>
                </a:solidFill>
                <a:latin typeface="Arial"/>
              </a:rPr>
              <a:t>destroy(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cc0099"/>
                </a:solidFill>
                <a:latin typeface="Arial"/>
              </a:rPr>
              <a:t>sleep(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cc0099"/>
                </a:solidFill>
                <a:latin typeface="Arial"/>
              </a:rPr>
              <a:t>setPriority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499"/>
              </a:spcBef>
              <a:buClr>
                <a:srgbClr val="cc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99"/>
                </a:solidFill>
                <a:latin typeface="Arial"/>
              </a:rPr>
              <a:t>synchroniz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bjects (locks object during threa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ce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499"/>
              </a:spcBef>
              <a:buClr>
                <a:srgbClr val="cc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99"/>
                </a:solidFill>
                <a:latin typeface="Arial"/>
              </a:rPr>
              <a:t>throw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generate an exception object), </a:t>
            </a:r>
            <a:r>
              <a:rPr b="0" lang="en-US" sz="2000" spc="-1" strike="noStrike">
                <a:solidFill>
                  <a:srgbClr val="cc0099"/>
                </a:solidFill>
                <a:latin typeface="Arial"/>
              </a:rPr>
              <a:t>cat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ge class library, Internet interface meth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/>
          <p:nvPr/>
        </p:nvSpPr>
        <p:spPr>
          <a:xfrm>
            <a:off x="2719440" y="1955880"/>
            <a:ext cx="17352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0" spc="-1" strike="noStrike">
                <a:solidFill>
                  <a:srgbClr val="000000"/>
                </a:solidFill>
                <a:latin typeface="Tahoma"/>
              </a:rPr>
              <a:t>Q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530600" y="2324160"/>
            <a:ext cx="17352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809880" y="2959200"/>
            <a:ext cx="17352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000000"/>
                </a:solidFill>
                <a:latin typeface="Tahoma"/>
              </a:rPr>
              <a:t>&amp;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unning Jav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11360" y="13489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pre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s knowledge of the target mach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st-In-Time 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preting bytecode is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what you can without knowing target mach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the rest later (on target machin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ynamic Compi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pret for a while, take statistics, compile portions that use CPU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Java Compil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achieves portability by compiling for the Java Virtual Machine (JV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produces bytecode for the JV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implement Java on a computer, must build an interpreter for the JVM on that compu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st be interpr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program doesn’t know what computer it will be running on, so don’t know what machine code to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ack Machin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tack is an abstract data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s can be added to the stack (pushed) only at the top and removed (popped) only at the top (LIF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sh A.  Push B.  Push A.  Push C.  Push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ccessive POPs give C, C, A, B, 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918720" y="3586320"/>
            <a:ext cx="7265160" cy="2469600"/>
            <a:chOff x="918720" y="3586320"/>
            <a:chExt cx="7265160" cy="2469600"/>
          </a:xfrm>
        </p:grpSpPr>
        <p:sp>
          <p:nvSpPr>
            <p:cNvPr id="57" name=""/>
            <p:cNvSpPr/>
            <p:nvPr/>
          </p:nvSpPr>
          <p:spPr>
            <a:xfrm>
              <a:off x="918720" y="4196160"/>
              <a:ext cx="331200" cy="335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528200" y="4577040"/>
              <a:ext cx="331200" cy="335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528200" y="4196160"/>
              <a:ext cx="331200" cy="335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214000" y="4957920"/>
              <a:ext cx="331200" cy="335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214000" y="4577040"/>
              <a:ext cx="331200" cy="335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14000" y="4196160"/>
              <a:ext cx="331200" cy="335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76120" y="5339160"/>
              <a:ext cx="331200" cy="335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976120" y="4957920"/>
              <a:ext cx="331200" cy="335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976120" y="4577040"/>
              <a:ext cx="331200" cy="335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976120" y="4196160"/>
              <a:ext cx="331200" cy="335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814200" y="5720040"/>
              <a:ext cx="331200" cy="335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814200" y="5339160"/>
              <a:ext cx="331200" cy="335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814200" y="4957920"/>
              <a:ext cx="331200" cy="335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814200" y="4577040"/>
              <a:ext cx="331200" cy="335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814200" y="4196160"/>
              <a:ext cx="331200" cy="335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576320" y="5339160"/>
              <a:ext cx="331200" cy="335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576320" y="4957920"/>
              <a:ext cx="331200" cy="335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576320" y="4577040"/>
              <a:ext cx="331200" cy="335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576320" y="4196160"/>
              <a:ext cx="331200" cy="335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033520" y="3586320"/>
              <a:ext cx="331200" cy="335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338080" y="4957920"/>
              <a:ext cx="331200" cy="335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338080" y="4577040"/>
              <a:ext cx="331200" cy="335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338080" y="4196160"/>
              <a:ext cx="331200" cy="335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5795280" y="3586320"/>
              <a:ext cx="331200" cy="335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023880" y="4577040"/>
              <a:ext cx="331200" cy="335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023880" y="4196160"/>
              <a:ext cx="331200" cy="335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481080" y="3586320"/>
              <a:ext cx="331200" cy="335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709680" y="4196160"/>
              <a:ext cx="331200" cy="335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166880" y="3586320"/>
              <a:ext cx="331200" cy="335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852680" y="3586320"/>
              <a:ext cx="331200" cy="335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271640" y="4160880"/>
              <a:ext cx="71100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EMPTY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TAC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V="1">
              <a:off x="4724280" y="39621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V="1">
              <a:off x="5486400" y="39621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V="1">
              <a:off x="6172200" y="39621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V="1">
              <a:off x="6934320" y="3962160"/>
              <a:ext cx="30456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V="1">
              <a:off x="7620120" y="3962160"/>
              <a:ext cx="30456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Java Virtual Machin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JVM is a stack mach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tains a 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rations take their data off the stack, put the result on the 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ing two numbers c = a +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SH 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A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SH 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B, A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pops two words off the stack, adds them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ts answer back on the sta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C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Java Compil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066680" y="1539720"/>
          <a:ext cx="7091640" cy="4270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539720"/>
                    <a:ext cx="7091640" cy="427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6933960" y="5715000"/>
            <a:ext cx="18964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URCE: W. E. CO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5T06:45:47Z</dcterms:created>
  <dc:creator>Michael I. Shamos</dc:creator>
  <dc:description/>
  <dc:language>en-US</dc:language>
  <cp:lastModifiedBy>Valued Gateway Client</cp:lastModifiedBy>
  <cp:lastPrinted>2000-04-10T15:05:20Z</cp:lastPrinted>
  <dcterms:modified xsi:type="dcterms:W3CDTF">2000-07-19T15:24:24Z</dcterms:modified>
  <cp:revision>30</cp:revision>
  <dc:subject/>
  <dc:title>Web Programming</dc:title>
</cp:coreProperties>
</file>