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10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1.wmf" ContentType="image/x-wmf"/>
  <Override PartName="/ppt/media/image11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5.png" ContentType="image/png"/>
  <Override PartName="/ppt/media/image37.png" ContentType="image/png"/>
  <Override PartName="/ppt/media/image40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wmf" ContentType="image/x-wmf"/>
  <Override PartName="/ppt/media/image36.wmf" ContentType="image/x-wmf"/>
  <Override PartName="/ppt/media/image34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9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231C75-8894-414C-94A5-3133EA43C3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479E83-473E-443A-ABDE-44DA41163D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A66266-F984-498A-931C-DDE3B563A7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EBEE3F-AA31-4C1B-9DBF-253B1D315DA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724CDC-1926-48C4-B971-A51D91F938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62520" y="8815320"/>
            <a:ext cx="302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8815320"/>
            <a:ext cx="3029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go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scale up/down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lenecks limit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-based backup a m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E81877-5A22-47F0-A3E9-845813C5F9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62520" y="8815320"/>
            <a:ext cx="30286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8815320"/>
            <a:ext cx="3029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’t go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n’t scale up/down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lenecks limit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-based backup a m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273A1A-39B6-4C2F-B985-F366A679CF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EC8AF80-50DD-4918-AE28-FEFBE75F36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EE9BB6-79B4-4BA7-8049-7F64800236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547BE2-A899-4FE3-8A57-F69AA525AF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804DCF-C564-4011-A163-88408F5C9D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D21DAA0-C77C-40D7-8F60-D1C2180593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3A93FE-9009-4488-89AC-020BA87BC9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1649AD-0932-4C75-A0DC-39E33C0B0F6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622408-849E-48C7-A5F3-78A1E56F33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FBB04B-BDE4-403B-8F18-F584DED64D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3710F1-A3F5-4C31-B020-DC43C995F9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92A3E9-4C15-43AE-B39D-9E9DB622EB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CFB003-72FB-4E02-9B81-D0BD2D48E6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624AA1-9816-4A54-B0E3-C708EF7F5E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F9338F-8CE4-4C54-8786-20682F16A2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image" Target="../media/image29.wmf"/><Relationship Id="rId18" Type="http://schemas.openxmlformats.org/officeDocument/2006/relationships/image" Target="../media/image30.wmf"/><Relationship Id="rId19" Type="http://schemas.openxmlformats.org/officeDocument/2006/relationships/image" Target="../media/image31.wmf"/><Relationship Id="rId20" Type="http://schemas.openxmlformats.org/officeDocument/2006/relationships/image" Target="../media/image32.wmf"/><Relationship Id="rId21" Type="http://schemas.openxmlformats.org/officeDocument/2006/relationships/image" Target="../media/image33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hyperlink" Target="http://www.javasoft.com/products/ejb/tools1.html" TargetMode="External"/><Relationship Id="rId4" Type="http://schemas.openxmlformats.org/officeDocument/2006/relationships/hyperlink" Target="http://www.javasoft.com/products/ejb/tools1.html" TargetMode="External"/><Relationship Id="rId5" Type="http://schemas.openxmlformats.org/officeDocument/2006/relationships/hyperlink" Target="http://www.javasoft.com/products/ejb/tools1.html" TargetMode="External"/><Relationship Id="rId6" Type="http://schemas.openxmlformats.org/officeDocument/2006/relationships/hyperlink" Target="http://www.javasoft.com/products/ejb/tools1.html" TargetMode="External"/><Relationship Id="rId7" Type="http://schemas.openxmlformats.org/officeDocument/2006/relationships/hyperlink" Target="http://www.javasoft.com/products/ejb/tools1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ymantec.com/domain/cafe/enterprise/pr_demo.html" TargetMode="External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Brok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31160" y="5811840"/>
            <a:ext cx="1962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5360" y="1488960"/>
            <a:ext cx="4022640" cy="4121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3160" y="5222880"/>
            <a:ext cx="29448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6080" y="1990080"/>
            <a:ext cx="2879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distributed t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ker acts as 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lig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7400" y="5800680"/>
            <a:ext cx="178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LLI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0520" y="1306440"/>
            <a:ext cx="6981840" cy="429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18760" y="1152720"/>
            <a:ext cx="20019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M-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lates 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32400" y="5800680"/>
            <a:ext cx="1328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MO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8497" r="0" b="0"/>
          <a:stretch/>
        </p:blipFill>
        <p:spPr>
          <a:xfrm>
            <a:off x="260280" y="1233360"/>
            <a:ext cx="6481800" cy="4569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AI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95640" y="1349640"/>
            <a:ext cx="28231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ll-suited for ex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parties inte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 the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1960" y="1360440"/>
            <a:ext cx="5411520" cy="457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4520" y="5800680"/>
            <a:ext cx="1608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TRI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0840" y="1728360"/>
            <a:ext cx="2224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mmo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s to leg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ERP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requests among different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inform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e for stateless nature of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IDE (Integrated Development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ssion/securit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link che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Content Cre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3200" y="14410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HTML,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ut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use may be not voice, but 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c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ver Clus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6155"/>
          <a:stretch/>
        </p:blipFill>
        <p:spPr>
          <a:xfrm>
            <a:off x="3311640" y="1968480"/>
            <a:ext cx="5497560" cy="3029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rot="5400000">
            <a:off x="5187960" y="3357720"/>
            <a:ext cx="309600" cy="3814560"/>
          </a:xfrm>
          <a:custGeom>
            <a:avLst/>
            <a:gdLst>
              <a:gd name="textAreaLeft" fmla="*/ 0 w 309600"/>
              <a:gd name="textAreaRight" fmla="*/ 111600 w 309600"/>
              <a:gd name="textAreaTop" fmla="*/ 99360 h 3814560"/>
              <a:gd name="textAreaBottom" fmla="*/ 3715200 h 38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968"/>
                </a:lnTo>
                <a:cubicBezTo>
                  <a:pt x="10800" y="9868"/>
                  <a:pt x="16200" y="10768"/>
                  <a:pt x="21600" y="10768"/>
                </a:cubicBezTo>
                <a:cubicBezTo>
                  <a:pt x="16200" y="10768"/>
                  <a:pt x="10800" y="11668"/>
                  <a:pt x="10800" y="1256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25280" y="5470920"/>
            <a:ext cx="157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360" y="2652840"/>
            <a:ext cx="2709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What is the IP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www.foo.do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DNS server gives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reverse proxy ser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 picks an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, sends request to 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Server send result to R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PS sends result to cl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8920" y="1188720"/>
            <a:ext cx="485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: Scale website service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6800" y="5840280"/>
            <a:ext cx="318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 TECHNIQUES MAGAZ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2520000">
            <a:off x="185400" y="3892680"/>
            <a:ext cx="2303280" cy="117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day’s Storage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09040" y="1035000"/>
            <a:ext cx="7756920" cy="4844520"/>
            <a:chOff x="509040" y="1035000"/>
            <a:chExt cx="7756920" cy="4844520"/>
          </a:xfrm>
        </p:grpSpPr>
        <p:sp>
          <p:nvSpPr>
            <p:cNvPr id="142" name=""/>
            <p:cNvSpPr/>
            <p:nvPr/>
          </p:nvSpPr>
          <p:spPr>
            <a:xfrm rot="2520000">
              <a:off x="597960" y="2106720"/>
              <a:ext cx="2156040" cy="1094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255440" y="2956320"/>
              <a:ext cx="750240" cy="452160"/>
              <a:chOff x="7255440" y="2956320"/>
              <a:chExt cx="750240" cy="452160"/>
            </a:xfrm>
          </p:grpSpPr>
          <p:sp>
            <p:nvSpPr>
              <p:cNvPr id="144" name=""/>
              <p:cNvSpPr/>
              <p:nvPr/>
            </p:nvSpPr>
            <p:spPr>
              <a:xfrm>
                <a:off x="7255440" y="295632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2064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1372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0644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9952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9260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285680" y="30960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7193160" y="1611360"/>
              <a:ext cx="750240" cy="452520"/>
              <a:chOff x="7193160" y="1611360"/>
              <a:chExt cx="750240" cy="452520"/>
            </a:xfrm>
          </p:grpSpPr>
          <p:sp>
            <p:nvSpPr>
              <p:cNvPr id="152" name=""/>
              <p:cNvSpPr/>
              <p:nvPr/>
            </p:nvSpPr>
            <p:spPr>
              <a:xfrm>
                <a:off x="7193160" y="1611360"/>
                <a:ext cx="750240" cy="4525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5836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5144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54452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3724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3032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223400" y="175140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7193160" y="4230360"/>
              <a:ext cx="750240" cy="452160"/>
              <a:chOff x="7193160" y="4230360"/>
              <a:chExt cx="750240" cy="452160"/>
            </a:xfrm>
          </p:grpSpPr>
          <p:sp>
            <p:nvSpPr>
              <p:cNvPr id="160" name=""/>
              <p:cNvSpPr/>
              <p:nvPr/>
            </p:nvSpPr>
            <p:spPr>
              <a:xfrm>
                <a:off x="7193160" y="423036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5836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5144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54452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3724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3032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23400" y="437004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67" name=""/>
            <p:cNvGraphicFramePr/>
            <p:nvPr/>
          </p:nvGraphicFramePr>
          <p:xfrm>
            <a:off x="4620600" y="4230360"/>
            <a:ext cx="650880" cy="80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0600" y="423036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4620600" y="1469880"/>
            <a:ext cx="650880" cy="80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20600" y="146988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1" name=""/>
            <p:cNvGraphicFramePr/>
            <p:nvPr/>
          </p:nvGraphicFramePr>
          <p:xfrm>
            <a:off x="4620600" y="2743920"/>
            <a:ext cx="650880" cy="80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20600" y="2743920"/>
                      <a:ext cx="650880" cy="80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3" name="" descr=""/>
            <p:cNvPicPr/>
            <p:nvPr/>
          </p:nvPicPr>
          <p:blipFill>
            <a:blip r:embed="rId7"/>
            <a:stretch/>
          </p:blipFill>
          <p:spPr>
            <a:xfrm>
              <a:off x="1302480" y="13309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8"/>
            <a:stretch/>
          </p:blipFill>
          <p:spPr>
            <a:xfrm>
              <a:off x="1428840" y="147240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9"/>
            <a:stretch/>
          </p:blipFill>
          <p:spPr>
            <a:xfrm>
              <a:off x="1557000" y="16142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0"/>
            <a:stretch/>
          </p:blipFill>
          <p:spPr>
            <a:xfrm>
              <a:off x="1683000" y="17557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1"/>
            <a:stretch/>
          </p:blipFill>
          <p:spPr>
            <a:xfrm>
              <a:off x="1809360" y="189720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2"/>
            <a:stretch/>
          </p:blipFill>
          <p:spPr>
            <a:xfrm>
              <a:off x="1936800" y="2039040"/>
              <a:ext cx="53496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3"/>
            <a:stretch/>
          </p:blipFill>
          <p:spPr>
            <a:xfrm>
              <a:off x="2063160" y="21805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4"/>
            <a:stretch/>
          </p:blipFill>
          <p:spPr>
            <a:xfrm>
              <a:off x="1042560" y="309780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>
              <a:off x="1168920" y="3238920"/>
              <a:ext cx="5346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tretch/>
          </p:blipFill>
          <p:spPr>
            <a:xfrm>
              <a:off x="1296720" y="338076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7"/>
            <a:stretch/>
          </p:blipFill>
          <p:spPr>
            <a:xfrm>
              <a:off x="1423080" y="35222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8"/>
            <a:stretch/>
          </p:blipFill>
          <p:spPr>
            <a:xfrm>
              <a:off x="1549080" y="3663720"/>
              <a:ext cx="53496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9"/>
            <a:stretch/>
          </p:blipFill>
          <p:spPr>
            <a:xfrm>
              <a:off x="1677240" y="380556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0"/>
            <a:stretch/>
          </p:blipFill>
          <p:spPr>
            <a:xfrm>
              <a:off x="1803600" y="3947040"/>
              <a:ext cx="53460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 flipV="1">
              <a:off x="2512080" y="2096280"/>
              <a:ext cx="2132280" cy="122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2360" y="2404440"/>
              <a:ext cx="0" cy="20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25320" y="3097800"/>
              <a:ext cx="4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25320" y="4512960"/>
              <a:ext cx="42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259360" y="4290120"/>
              <a:ext cx="1940400" cy="58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800" y="1965240"/>
              <a:ext cx="200592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76800" y="3168720"/>
              <a:ext cx="206820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40160" y="4512960"/>
              <a:ext cx="194220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7960" y="3522240"/>
              <a:ext cx="67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07360" y="1400400"/>
              <a:ext cx="12589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91280" y="10350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2800" y="1046520"/>
              <a:ext cx="107316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3960" y="1317600"/>
              <a:ext cx="960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065000" y="4867200"/>
              <a:ext cx="1014480" cy="1012320"/>
              <a:chOff x="7065000" y="4867200"/>
              <a:chExt cx="1014480" cy="1012320"/>
            </a:xfrm>
          </p:grpSpPr>
          <p:sp>
            <p:nvSpPr>
              <p:cNvPr id="201" name=""/>
              <p:cNvSpPr/>
              <p:nvPr/>
            </p:nvSpPr>
            <p:spPr>
              <a:xfrm>
                <a:off x="7075440" y="5754240"/>
                <a:ext cx="989280" cy="122040"/>
              </a:xfrm>
              <a:custGeom>
                <a:avLst/>
                <a:gdLst/>
                <a:ahLst/>
                <a:rect l="l" t="t" r="r" b="b"/>
                <a:pathLst>
                  <a:path w="749" h="83">
                    <a:moveTo>
                      <a:pt x="0" y="11"/>
                    </a:moveTo>
                    <a:lnTo>
                      <a:pt x="0" y="32"/>
                    </a:lnTo>
                    <a:lnTo>
                      <a:pt x="72" y="53"/>
                    </a:lnTo>
                    <a:lnTo>
                      <a:pt x="146" y="30"/>
                    </a:lnTo>
                    <a:lnTo>
                      <a:pt x="333" y="38"/>
                    </a:lnTo>
                    <a:lnTo>
                      <a:pt x="385" y="82"/>
                    </a:lnTo>
                    <a:lnTo>
                      <a:pt x="548" y="68"/>
                    </a:lnTo>
                    <a:lnTo>
                      <a:pt x="548" y="51"/>
                    </a:lnTo>
                    <a:lnTo>
                      <a:pt x="652" y="68"/>
                    </a:lnTo>
                    <a:lnTo>
                      <a:pt x="748" y="38"/>
                    </a:lnTo>
                    <a:lnTo>
                      <a:pt x="748" y="11"/>
                    </a:lnTo>
                    <a:lnTo>
                      <a:pt x="652" y="42"/>
                    </a:lnTo>
                    <a:lnTo>
                      <a:pt x="550" y="28"/>
                    </a:lnTo>
                    <a:lnTo>
                      <a:pt x="550" y="42"/>
                    </a:lnTo>
                    <a:lnTo>
                      <a:pt x="384" y="53"/>
                    </a:lnTo>
                    <a:lnTo>
                      <a:pt x="337" y="11"/>
                    </a:lnTo>
                    <a:lnTo>
                      <a:pt x="223" y="7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72" y="3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75440" y="5753160"/>
                <a:ext cx="991800" cy="126360"/>
              </a:xfrm>
              <a:custGeom>
                <a:avLst/>
                <a:gdLst/>
                <a:ahLst/>
                <a:rect l="l" t="t" r="r" b="b"/>
                <a:pathLst>
                  <a:path w="751" h="86">
                    <a:moveTo>
                      <a:pt x="0" y="34"/>
                    </a:move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68"/>
                    </a:lnTo>
                    <a:lnTo>
                      <a:pt x="549" y="53"/>
                    </a:lnTo>
                    <a:lnTo>
                      <a:pt x="654" y="68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70"/>
                    </a:lnTo>
                    <a:lnTo>
                      <a:pt x="549" y="53"/>
                    </a:lnTo>
                    <a:lnTo>
                      <a:pt x="654" y="70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272360" y="4928760"/>
                <a:ext cx="239040" cy="841680"/>
              </a:xfrm>
              <a:custGeom>
                <a:avLst/>
                <a:gdLst/>
                <a:ahLst/>
                <a:rect l="l" t="t" r="r" b="b"/>
                <a:pathLst>
                  <a:path w="181" h="571">
                    <a:moveTo>
                      <a:pt x="0" y="7"/>
                    </a:moveTo>
                    <a:lnTo>
                      <a:pt x="180" y="0"/>
                    </a:lnTo>
                    <a:lnTo>
                      <a:pt x="180" y="570"/>
                    </a:lnTo>
                    <a:lnTo>
                      <a:pt x="2" y="56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272360" y="4930200"/>
                <a:ext cx="239040" cy="844560"/>
              </a:xfrm>
              <a:custGeom>
                <a:avLst/>
                <a:gdLst/>
                <a:ahLst/>
                <a:rect l="l" t="t" r="r" b="b"/>
                <a:pathLst>
                  <a:path w="181" h="573">
                    <a:moveTo>
                      <a:pt x="180" y="0"/>
                    </a:move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  <a:lnTo>
                      <a:pt x="180" y="0"/>
                    </a:ln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11760" y="4928760"/>
                <a:ext cx="237600" cy="841680"/>
              </a:xfrm>
              <a:custGeom>
                <a:avLst/>
                <a:gdLst/>
                <a:ahLst/>
                <a:rect l="l" t="t" r="r" b="b"/>
                <a:pathLst>
                  <a:path w="180" h="571">
                    <a:moveTo>
                      <a:pt x="0" y="0"/>
                    </a:moveTo>
                    <a:lnTo>
                      <a:pt x="179" y="7"/>
                    </a:lnTo>
                    <a:lnTo>
                      <a:pt x="179" y="566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11760" y="4930200"/>
                <a:ext cx="243000" cy="844560"/>
              </a:xfrm>
              <a:custGeom>
                <a:avLst/>
                <a:gdLst/>
                <a:ahLst/>
                <a:rect l="l" t="t" r="r" b="b"/>
                <a:pathLst>
                  <a:path w="184" h="573">
                    <a:moveTo>
                      <a:pt x="183" y="7"/>
                    </a:move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83" y="7"/>
                    </a:ln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72360" y="4871520"/>
                <a:ext cx="239040" cy="4680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4"/>
                    </a:moveTo>
                    <a:lnTo>
                      <a:pt x="180" y="0"/>
                    </a:lnTo>
                    <a:lnTo>
                      <a:pt x="180" y="24"/>
                    </a:lnTo>
                    <a:lnTo>
                      <a:pt x="0" y="3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272360" y="4871520"/>
                <a:ext cx="239040" cy="50040"/>
              </a:xfrm>
              <a:custGeom>
                <a:avLst/>
                <a:gdLst/>
                <a:ahLst/>
                <a:rect l="l" t="t" r="r" b="b"/>
                <a:pathLst>
                  <a:path w="181" h="34">
                    <a:moveTo>
                      <a:pt x="180" y="0"/>
                    </a:move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180" y="0"/>
                    </a:ln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511760" y="4868280"/>
                <a:ext cx="237600" cy="4680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0" y="0"/>
                    </a:moveTo>
                    <a:lnTo>
                      <a:pt x="179" y="7"/>
                    </a:lnTo>
                    <a:lnTo>
                      <a:pt x="179" y="31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11760" y="4878720"/>
                <a:ext cx="243000" cy="39600"/>
              </a:xfrm>
              <a:custGeom>
                <a:avLst/>
                <a:gdLst/>
                <a:ahLst/>
                <a:rect l="l" t="t" r="r" b="b"/>
                <a:pathLst>
                  <a:path w="184" h="27">
                    <a:moveTo>
                      <a:pt x="183" y="0"/>
                    </a:moveTo>
                    <a:lnTo>
                      <a:pt x="183" y="26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511760" y="4867200"/>
                <a:ext cx="243000" cy="50040"/>
              </a:xfrm>
              <a:custGeom>
                <a:avLst/>
                <a:gdLst/>
                <a:ahLst/>
                <a:rect l="l" t="t" r="r" b="b"/>
                <a:pathLst>
                  <a:path w="184" h="34">
                    <a:moveTo>
                      <a:pt x="0" y="29"/>
                    </a:moveTo>
                    <a:lnTo>
                      <a:pt x="0" y="0"/>
                    </a:lnTo>
                    <a:lnTo>
                      <a:pt x="183" y="7"/>
                    </a:lnTo>
                    <a:lnTo>
                      <a:pt x="183" y="33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511760" y="4928760"/>
                <a:ext cx="18360" cy="8416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0" y="0"/>
                    </a:moveTo>
                    <a:lnTo>
                      <a:pt x="13" y="2"/>
                    </a:lnTo>
                    <a:lnTo>
                      <a:pt x="13" y="568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51176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2"/>
                    </a:moveTo>
                    <a:lnTo>
                      <a:pt x="14" y="570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14" y="57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1176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570"/>
                    </a:move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1760" y="486828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13" y="0"/>
                    </a:lnTo>
                    <a:lnTo>
                      <a:pt x="13" y="23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11760" y="486720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4" y="0"/>
                    </a:move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93040" y="4928760"/>
                <a:ext cx="18360" cy="8416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13" y="0"/>
                    </a:moveTo>
                    <a:lnTo>
                      <a:pt x="0" y="2"/>
                    </a:lnTo>
                    <a:lnTo>
                      <a:pt x="0" y="568"/>
                    </a:lnTo>
                    <a:lnTo>
                      <a:pt x="13" y="57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93040" y="4930200"/>
                <a:ext cx="19440" cy="8445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0" y="2"/>
                    </a:move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3040" y="4868280"/>
                <a:ext cx="18360" cy="381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3" y="25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93040" y="4867200"/>
                <a:ext cx="19440" cy="4392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0" y="0"/>
                    </a:move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089840" y="4956840"/>
                <a:ext cx="26280" cy="779400"/>
              </a:xfrm>
              <a:custGeom>
                <a:avLst/>
                <a:gdLst/>
                <a:ahLst/>
                <a:rect l="l" t="t" r="r" b="b"/>
                <a:pathLst>
                  <a:path w="20" h="529">
                    <a:moveTo>
                      <a:pt x="0" y="2"/>
                    </a:moveTo>
                    <a:lnTo>
                      <a:pt x="19" y="0"/>
                    </a:lnTo>
                    <a:lnTo>
                      <a:pt x="19" y="528"/>
                    </a:lnTo>
                    <a:lnTo>
                      <a:pt x="0" y="51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88760" y="4956840"/>
                <a:ext cx="28800" cy="785520"/>
              </a:xfrm>
              <a:custGeom>
                <a:avLst/>
                <a:gdLst/>
                <a:ahLst/>
                <a:rect l="l" t="t" r="r" b="b"/>
                <a:pathLst>
                  <a:path w="22" h="533">
                    <a:moveTo>
                      <a:pt x="21" y="0"/>
                    </a:move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17920" y="4939200"/>
                <a:ext cx="155520" cy="826920"/>
              </a:xfrm>
              <a:custGeom>
                <a:avLst/>
                <a:gdLst/>
                <a:ahLst/>
                <a:rect l="l" t="t" r="r" b="b"/>
                <a:pathLst>
                  <a:path w="118" h="561">
                    <a:moveTo>
                      <a:pt x="0" y="12"/>
                    </a:moveTo>
                    <a:lnTo>
                      <a:pt x="115" y="0"/>
                    </a:lnTo>
                    <a:lnTo>
                      <a:pt x="117" y="560"/>
                    </a:lnTo>
                    <a:lnTo>
                      <a:pt x="0" y="54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16480" y="4940640"/>
                <a:ext cx="158400" cy="829800"/>
              </a:xfrm>
              <a:custGeom>
                <a:avLst/>
                <a:gdLst/>
                <a:ahLst/>
                <a:rect l="l" t="t" r="r" b="b"/>
                <a:pathLst>
                  <a:path w="120" h="563">
                    <a:moveTo>
                      <a:pt x="117" y="0"/>
                    </a:move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53320" y="4940640"/>
                <a:ext cx="163800" cy="822600"/>
              </a:xfrm>
              <a:custGeom>
                <a:avLst/>
                <a:gdLst/>
                <a:ahLst/>
                <a:rect l="l" t="t" r="r" b="b"/>
                <a:pathLst>
                  <a:path w="124" h="558">
                    <a:moveTo>
                      <a:pt x="0" y="0"/>
                    </a:moveTo>
                    <a:lnTo>
                      <a:pt x="123" y="9"/>
                    </a:lnTo>
                    <a:lnTo>
                      <a:pt x="123" y="538"/>
                    </a:lnTo>
                    <a:lnTo>
                      <a:pt x="0" y="5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753320" y="4939200"/>
                <a:ext cx="165960" cy="826920"/>
              </a:xfrm>
              <a:custGeom>
                <a:avLst/>
                <a:gdLst/>
                <a:ahLst/>
                <a:rect l="l" t="t" r="r" b="b"/>
                <a:pathLst>
                  <a:path w="126" h="561">
                    <a:moveTo>
                      <a:pt x="125" y="9"/>
                    </a:move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18560" y="4956840"/>
                <a:ext cx="34200" cy="778320"/>
              </a:xfrm>
              <a:custGeom>
                <a:avLst/>
                <a:gdLst/>
                <a:ahLst/>
                <a:rect l="l" t="t" r="r" b="b"/>
                <a:pathLst>
                  <a:path w="26" h="528">
                    <a:moveTo>
                      <a:pt x="0" y="0"/>
                    </a:moveTo>
                    <a:lnTo>
                      <a:pt x="25" y="7"/>
                    </a:lnTo>
                    <a:lnTo>
                      <a:pt x="25" y="506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19640" y="4956840"/>
                <a:ext cx="35640" cy="779400"/>
              </a:xfrm>
              <a:custGeom>
                <a:avLst/>
                <a:gdLst/>
                <a:ahLst/>
                <a:rect l="l" t="t" r="r" b="b"/>
                <a:pathLst>
                  <a:path w="27" h="529">
                    <a:moveTo>
                      <a:pt x="26" y="7"/>
                    </a:move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89840" y="4896360"/>
                <a:ext cx="26280" cy="4248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0" y="6"/>
                    </a:moveTo>
                    <a:lnTo>
                      <a:pt x="19" y="0"/>
                    </a:lnTo>
                    <a:lnTo>
                      <a:pt x="19" y="26"/>
                    </a:lnTo>
                    <a:lnTo>
                      <a:pt x="0" y="2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088760" y="4896360"/>
                <a:ext cx="28800" cy="4680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21" y="0"/>
                    </a:move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117920" y="4878720"/>
                <a:ext cx="153000" cy="5436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0" y="11"/>
                    </a:moveTo>
                    <a:lnTo>
                      <a:pt x="115" y="0"/>
                    </a:lnTo>
                    <a:lnTo>
                      <a:pt x="115" y="27"/>
                    </a:lnTo>
                    <a:lnTo>
                      <a:pt x="0" y="3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117920" y="488016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118" h="39">
                    <a:moveTo>
                      <a:pt x="117" y="0"/>
                    </a:move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53320" y="4878720"/>
                <a:ext cx="163800" cy="46800"/>
              </a:xfrm>
              <a:custGeom>
                <a:avLst/>
                <a:gdLst/>
                <a:ahLst/>
                <a:rect l="l" t="t" r="r" b="b"/>
                <a:pathLst>
                  <a:path w="124" h="32">
                    <a:moveTo>
                      <a:pt x="0" y="0"/>
                    </a:moveTo>
                    <a:lnTo>
                      <a:pt x="123" y="8"/>
                    </a:lnTo>
                    <a:lnTo>
                      <a:pt x="123" y="31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753320" y="4880160"/>
                <a:ext cx="165960" cy="5148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125" y="9"/>
                    </a:move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18560" y="4893480"/>
                <a:ext cx="34200" cy="4680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0"/>
                    </a:moveTo>
                    <a:lnTo>
                      <a:pt x="25" y="11"/>
                    </a:lnTo>
                    <a:lnTo>
                      <a:pt x="25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919640" y="4892040"/>
                <a:ext cx="35640" cy="5004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12"/>
                    </a:move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12"/>
                    </a:ln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11760" y="4871520"/>
                <a:ext cx="1080" cy="90216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11760" y="4871520"/>
                <a:ext cx="1080" cy="90216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58360" y="4880160"/>
                <a:ext cx="1440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0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58360" y="4878720"/>
                <a:ext cx="1440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10" y="2"/>
                    </a:move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43960" y="4880160"/>
                <a:ext cx="1404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10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10" y="59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43960" y="4878720"/>
                <a:ext cx="1404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0" y="2"/>
                    </a:move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15680" y="4889160"/>
                <a:ext cx="15840" cy="846000"/>
              </a:xfrm>
              <a:custGeom>
                <a:avLst/>
                <a:gdLst/>
                <a:ahLst/>
                <a:rect l="l" t="t" r="r" b="b"/>
                <a:pathLst>
                  <a:path w="12" h="574">
                    <a:moveTo>
                      <a:pt x="0" y="0"/>
                    </a:moveTo>
                    <a:lnTo>
                      <a:pt x="11" y="4"/>
                    </a:lnTo>
                    <a:lnTo>
                      <a:pt x="8" y="569"/>
                    </a:lnTo>
                    <a:lnTo>
                      <a:pt x="0" y="5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15680" y="4889160"/>
                <a:ext cx="15840" cy="847440"/>
              </a:xfrm>
              <a:custGeom>
                <a:avLst/>
                <a:gdLst/>
                <a:ahLst/>
                <a:rect l="l" t="t" r="r" b="b"/>
                <a:pathLst>
                  <a:path w="12" h="575">
                    <a:moveTo>
                      <a:pt x="11" y="4"/>
                    </a:move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  <a:lnTo>
                      <a:pt x="11" y="4"/>
                    </a:ln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905240" y="4889160"/>
                <a:ext cx="14040" cy="847440"/>
              </a:xfrm>
              <a:custGeom>
                <a:avLst/>
                <a:gdLst/>
                <a:ahLst/>
                <a:rect l="l" t="t" r="r" b="b"/>
                <a:pathLst>
                  <a:path w="11" h="575">
                    <a:moveTo>
                      <a:pt x="10" y="0"/>
                    </a:moveTo>
                    <a:lnTo>
                      <a:pt x="0" y="2"/>
                    </a:lnTo>
                    <a:lnTo>
                      <a:pt x="0" y="574"/>
                    </a:lnTo>
                    <a:lnTo>
                      <a:pt x="10" y="57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05240" y="4889160"/>
                <a:ext cx="14040" cy="853560"/>
              </a:xfrm>
              <a:custGeom>
                <a:avLst/>
                <a:gdLst/>
                <a:ahLst/>
                <a:rect l="l" t="t" r="r" b="b"/>
                <a:pathLst>
                  <a:path w="11" h="579">
                    <a:moveTo>
                      <a:pt x="0" y="2"/>
                    </a:move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58360" y="4880160"/>
                <a:ext cx="1440" cy="883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58360" y="4880160"/>
                <a:ext cx="1440" cy="883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17480" y="4896360"/>
                <a:ext cx="1080" cy="83988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17480" y="4896360"/>
                <a:ext cx="1080" cy="83988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264440" y="4880160"/>
                <a:ext cx="12960" cy="883080"/>
              </a:xfrm>
              <a:custGeom>
                <a:avLst/>
                <a:gdLst/>
                <a:ahLst/>
                <a:rect l="l" t="t" r="r" b="b"/>
                <a:pathLst>
                  <a:path w="10" h="599">
                    <a:moveTo>
                      <a:pt x="9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9" y="59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264440" y="4878720"/>
                <a:ext cx="12960" cy="887400"/>
              </a:xfrm>
              <a:custGeom>
                <a:avLst/>
                <a:gdLst/>
                <a:ahLst/>
                <a:rect l="l" t="t" r="r" b="b"/>
                <a:pathLst>
                  <a:path w="10" h="602">
                    <a:moveTo>
                      <a:pt x="0" y="2"/>
                    </a:move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73800" y="4880160"/>
                <a:ext cx="14400" cy="883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2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6320" y="4878720"/>
                <a:ext cx="15840" cy="887400"/>
              </a:xfrm>
              <a:custGeom>
                <a:avLst/>
                <a:gdLst/>
                <a:ahLst/>
                <a:rect l="l" t="t" r="r" b="b"/>
                <a:pathLst>
                  <a:path w="12" h="602">
                    <a:moveTo>
                      <a:pt x="11" y="2"/>
                    </a:moveTo>
                    <a:lnTo>
                      <a:pt x="11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73800" y="4878720"/>
                <a:ext cx="14400" cy="88740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2" y="0"/>
                    </a:move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06040" y="4893480"/>
                <a:ext cx="14400" cy="841680"/>
              </a:xfrm>
              <a:custGeom>
                <a:avLst/>
                <a:gdLst/>
                <a:ahLst/>
                <a:rect l="l" t="t" r="r" b="b"/>
                <a:pathLst>
                  <a:path w="11" h="571">
                    <a:moveTo>
                      <a:pt x="10" y="0"/>
                    </a:moveTo>
                    <a:lnTo>
                      <a:pt x="0" y="4"/>
                    </a:lnTo>
                    <a:lnTo>
                      <a:pt x="0" y="566"/>
                    </a:lnTo>
                    <a:lnTo>
                      <a:pt x="10" y="57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06040" y="4893480"/>
                <a:ext cx="14400" cy="843120"/>
              </a:xfrm>
              <a:custGeom>
                <a:avLst/>
                <a:gdLst/>
                <a:ahLst/>
                <a:rect l="l" t="t" r="r" b="b"/>
                <a:pathLst>
                  <a:path w="11" h="572">
                    <a:moveTo>
                      <a:pt x="0" y="4"/>
                    </a:move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16480" y="4893480"/>
                <a:ext cx="15840" cy="843120"/>
              </a:xfrm>
              <a:custGeom>
                <a:avLst/>
                <a:gdLst/>
                <a:ahLst/>
                <a:rect l="l" t="t" r="r" b="b"/>
                <a:pathLst>
                  <a:path w="12" h="572">
                    <a:moveTo>
                      <a:pt x="0" y="2"/>
                    </a:moveTo>
                    <a:lnTo>
                      <a:pt x="11" y="0"/>
                    </a:lnTo>
                    <a:lnTo>
                      <a:pt x="8" y="571"/>
                    </a:lnTo>
                    <a:lnTo>
                      <a:pt x="0" y="56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16480" y="4893480"/>
                <a:ext cx="15840" cy="848880"/>
              </a:xfrm>
              <a:custGeom>
                <a:avLst/>
                <a:gdLst/>
                <a:ahLst/>
                <a:rect l="l" t="t" r="r" b="b"/>
                <a:pathLst>
                  <a:path w="12" h="576">
                    <a:moveTo>
                      <a:pt x="11" y="0"/>
                    </a:move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74880" y="4881600"/>
                <a:ext cx="1440" cy="88164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74880" y="4881600"/>
                <a:ext cx="1440" cy="88164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17920" y="4902480"/>
                <a:ext cx="1080" cy="83412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17920" y="4902480"/>
                <a:ext cx="1080" cy="83412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4903920"/>
                <a:ext cx="864000" cy="79560"/>
              </a:xfrm>
              <a:custGeom>
                <a:avLst/>
                <a:gdLst/>
                <a:ahLst/>
                <a:rect l="l" t="t" r="r" b="b"/>
                <a:pathLst>
                  <a:path w="654" h="54">
                    <a:moveTo>
                      <a:pt x="0" y="26"/>
                    </a:moveTo>
                    <a:lnTo>
                      <a:pt x="21" y="21"/>
                    </a:lnTo>
                    <a:lnTo>
                      <a:pt x="139" y="7"/>
                    </a:lnTo>
                    <a:lnTo>
                      <a:pt x="319" y="0"/>
                    </a:lnTo>
                    <a:lnTo>
                      <a:pt x="501" y="9"/>
                    </a:lnTo>
                    <a:lnTo>
                      <a:pt x="625" y="16"/>
                    </a:lnTo>
                    <a:lnTo>
                      <a:pt x="653" y="30"/>
                    </a:lnTo>
                    <a:lnTo>
                      <a:pt x="653" y="39"/>
                    </a:lnTo>
                    <a:lnTo>
                      <a:pt x="625" y="41"/>
                    </a:lnTo>
                    <a:lnTo>
                      <a:pt x="495" y="30"/>
                    </a:lnTo>
                    <a:lnTo>
                      <a:pt x="319" y="26"/>
                    </a:lnTo>
                    <a:lnTo>
                      <a:pt x="137" y="32"/>
                    </a:lnTo>
                    <a:lnTo>
                      <a:pt x="21" y="44"/>
                    </a:lnTo>
                    <a:lnTo>
                      <a:pt x="0" y="5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89840" y="4902480"/>
                <a:ext cx="865080" cy="83880"/>
              </a:xfrm>
              <a:custGeom>
                <a:avLst/>
                <a:gdLst/>
                <a:ahLst/>
                <a:rect l="l" t="t" r="r" b="b"/>
                <a:pathLst>
                  <a:path w="655" h="57">
                    <a:moveTo>
                      <a:pt x="21" y="21"/>
                    </a:move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89840" y="4943520"/>
                <a:ext cx="865080" cy="4248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9840" y="4943520"/>
                <a:ext cx="865080" cy="4248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89840" y="4903920"/>
                <a:ext cx="865080" cy="4680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89840" y="4903920"/>
                <a:ext cx="865080" cy="4680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915680" y="5074560"/>
                <a:ext cx="41040" cy="1332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56840" y="5072040"/>
                <a:ext cx="41040" cy="864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56840" y="5072040"/>
                <a:ext cx="43200" cy="864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915680" y="5077800"/>
                <a:ext cx="43560" cy="1008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04800" y="5092200"/>
                <a:ext cx="133200" cy="723960"/>
              </a:xfrm>
              <a:custGeom>
                <a:avLst/>
                <a:gdLst/>
                <a:ahLst/>
                <a:rect l="l" t="t" r="r" b="b"/>
                <a:pathLst>
                  <a:path w="101" h="49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90"/>
                    </a:lnTo>
                    <a:lnTo>
                      <a:pt x="0" y="4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804800" y="5089680"/>
                <a:ext cx="137160" cy="731160"/>
              </a:xfrm>
              <a:custGeom>
                <a:avLst/>
                <a:gdLst/>
                <a:ahLst/>
                <a:rect l="l" t="t" r="r" b="b"/>
                <a:pathLst>
                  <a:path w="104" h="496">
                    <a:moveTo>
                      <a:pt x="103" y="0"/>
                    </a:moveTo>
                    <a:lnTo>
                      <a:pt x="103" y="495"/>
                    </a:ln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804800" y="5091120"/>
                <a:ext cx="137160" cy="729720"/>
              </a:xfrm>
              <a:custGeom>
                <a:avLst/>
                <a:gdLst/>
                <a:ahLst/>
                <a:rect l="l" t="t" r="r" b="b"/>
                <a:pathLst>
                  <a:path w="104" h="495">
                    <a:moveTo>
                      <a:pt x="0" y="0"/>
                    </a:moveTo>
                    <a:lnTo>
                      <a:pt x="103" y="0"/>
                    </a:lnTo>
                    <a:lnTo>
                      <a:pt x="103" y="494"/>
                    </a:lnTo>
                    <a:lnTo>
                      <a:pt x="0" y="47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940880" y="5092200"/>
                <a:ext cx="135720" cy="723960"/>
              </a:xfrm>
              <a:custGeom>
                <a:avLst/>
                <a:gdLst/>
                <a:ahLst/>
                <a:rect l="l" t="t" r="r" b="b"/>
                <a:pathLst>
                  <a:path w="103" h="491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6"/>
                    </a:lnTo>
                    <a:lnTo>
                      <a:pt x="0" y="4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940880" y="5089680"/>
                <a:ext cx="138600" cy="731160"/>
              </a:xfrm>
              <a:custGeom>
                <a:avLst/>
                <a:gdLst/>
                <a:ahLst/>
                <a:rect l="l" t="t" r="r" b="b"/>
                <a:pathLst>
                  <a:path w="105" h="496">
                    <a:moveTo>
                      <a:pt x="104" y="0"/>
                    </a:moveTo>
                    <a:lnTo>
                      <a:pt x="104" y="461"/>
                    </a:lnTo>
                    <a:lnTo>
                      <a:pt x="0" y="49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40880" y="5091120"/>
                <a:ext cx="138600" cy="729720"/>
              </a:xfrm>
              <a:custGeom>
                <a:avLst/>
                <a:gdLst/>
                <a:ahLst/>
                <a:rect l="l" t="t" r="r" b="b"/>
                <a:pathLst>
                  <a:path w="105" h="49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60"/>
                    </a:lnTo>
                    <a:lnTo>
                      <a:pt x="0" y="49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584120" y="5085000"/>
                <a:ext cx="219240" cy="756000"/>
              </a:xfrm>
              <a:custGeom>
                <a:avLst/>
                <a:gdLst/>
                <a:ahLst/>
                <a:rect l="l" t="t" r="r" b="b"/>
                <a:pathLst>
                  <a:path w="166" h="513">
                    <a:moveTo>
                      <a:pt x="0" y="0"/>
                    </a:moveTo>
                    <a:lnTo>
                      <a:pt x="165" y="0"/>
                    </a:lnTo>
                    <a:lnTo>
                      <a:pt x="165" y="495"/>
                    </a:lnTo>
                    <a:lnTo>
                      <a:pt x="0" y="5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585560" y="5085000"/>
                <a:ext cx="221760" cy="762120"/>
              </a:xfrm>
              <a:custGeom>
                <a:avLst/>
                <a:gdLst/>
                <a:ahLst/>
                <a:rect l="l" t="t" r="r" b="b"/>
                <a:pathLst>
                  <a:path w="168" h="517">
                    <a:moveTo>
                      <a:pt x="167" y="0"/>
                    </a:move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523640" y="5085000"/>
                <a:ext cx="59040" cy="756000"/>
              </a:xfrm>
              <a:custGeom>
                <a:avLst/>
                <a:gdLst/>
                <a:ahLst/>
                <a:rect l="l" t="t" r="r" b="b"/>
                <a:pathLst>
                  <a:path w="45" h="513">
                    <a:moveTo>
                      <a:pt x="44" y="0"/>
                    </a:moveTo>
                    <a:lnTo>
                      <a:pt x="0" y="9"/>
                    </a:lnTo>
                    <a:lnTo>
                      <a:pt x="0" y="464"/>
                    </a:lnTo>
                    <a:lnTo>
                      <a:pt x="44" y="51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524720" y="5085000"/>
                <a:ext cx="61920" cy="762120"/>
              </a:xfrm>
              <a:custGeom>
                <a:avLst/>
                <a:gdLst/>
                <a:ahLst/>
                <a:rect l="l" t="t" r="r" b="b"/>
                <a:pathLst>
                  <a:path w="47" h="517">
                    <a:moveTo>
                      <a:pt x="0" y="9"/>
                    </a:move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  <a:lnTo>
                      <a:pt x="0" y="9"/>
                    </a:ln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82800" y="5195520"/>
                <a:ext cx="89640" cy="572040"/>
              </a:xfrm>
              <a:custGeom>
                <a:avLst/>
                <a:gdLst/>
                <a:ahLst/>
                <a:rect l="l" t="t" r="r" b="b"/>
                <a:pathLst>
                  <a:path w="68" h="388">
                    <a:moveTo>
                      <a:pt x="0" y="0"/>
                    </a:moveTo>
                    <a:lnTo>
                      <a:pt x="67" y="0"/>
                    </a:lnTo>
                    <a:lnTo>
                      <a:pt x="67" y="387"/>
                    </a:lnTo>
                    <a:lnTo>
                      <a:pt x="0" y="3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81720" y="5194440"/>
                <a:ext cx="92160" cy="576360"/>
              </a:xfrm>
              <a:custGeom>
                <a:avLst/>
                <a:gdLst/>
                <a:ahLst/>
                <a:rect l="l" t="t" r="r" b="b"/>
                <a:pathLst>
                  <a:path w="70" h="391">
                    <a:moveTo>
                      <a:pt x="69" y="0"/>
                    </a:moveTo>
                    <a:lnTo>
                      <a:pt x="69" y="390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390"/>
                    </a:lnTo>
                    <a:lnTo>
                      <a:pt x="0" y="38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65000" y="5194440"/>
                <a:ext cx="105480" cy="606960"/>
              </a:xfrm>
              <a:custGeom>
                <a:avLst/>
                <a:gdLst/>
                <a:ahLst/>
                <a:rect l="l" t="t" r="r" b="b"/>
                <a:pathLst>
                  <a:path w="80" h="412">
                    <a:moveTo>
                      <a:pt x="0" y="0"/>
                    </a:moveTo>
                    <a:lnTo>
                      <a:pt x="79" y="0"/>
                    </a:lnTo>
                    <a:lnTo>
                      <a:pt x="79" y="411"/>
                    </a:lnTo>
                    <a:lnTo>
                      <a:pt x="0" y="3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66440" y="5195520"/>
                <a:ext cx="108000" cy="610200"/>
              </a:xfrm>
              <a:custGeom>
                <a:avLst/>
                <a:gdLst/>
                <a:ahLst/>
                <a:rect l="l" t="t" r="r" b="b"/>
                <a:pathLst>
                  <a:path w="82" h="414">
                    <a:moveTo>
                      <a:pt x="81" y="0"/>
                    </a:move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173360" y="5194440"/>
                <a:ext cx="88200" cy="606960"/>
              </a:xfrm>
              <a:custGeom>
                <a:avLst/>
                <a:gdLst/>
                <a:ahLst/>
                <a:rect l="l" t="t" r="r" b="b"/>
                <a:pathLst>
                  <a:path w="67" h="412">
                    <a:moveTo>
                      <a:pt x="0" y="0"/>
                    </a:moveTo>
                    <a:lnTo>
                      <a:pt x="64" y="0"/>
                    </a:lnTo>
                    <a:lnTo>
                      <a:pt x="66" y="390"/>
                    </a:lnTo>
                    <a:lnTo>
                      <a:pt x="0" y="4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73360" y="5195520"/>
                <a:ext cx="91080" cy="610200"/>
              </a:xfrm>
              <a:custGeom>
                <a:avLst/>
                <a:gdLst/>
                <a:ahLst/>
                <a:rect l="l" t="t" r="r" b="b"/>
                <a:pathLst>
                  <a:path w="69" h="414">
                    <a:moveTo>
                      <a:pt x="66" y="0"/>
                    </a:move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40880" y="5176440"/>
                <a:ext cx="123840" cy="80640"/>
              </a:xfrm>
              <a:custGeom>
                <a:avLst/>
                <a:gdLst/>
                <a:ahLst/>
                <a:rect l="l" t="t" r="r" b="b"/>
                <a:pathLst>
                  <a:path w="94" h="55">
                    <a:moveTo>
                      <a:pt x="0" y="2"/>
                    </a:moveTo>
                    <a:lnTo>
                      <a:pt x="93" y="0"/>
                    </a:lnTo>
                    <a:lnTo>
                      <a:pt x="93" y="47"/>
                    </a:lnTo>
                    <a:lnTo>
                      <a:pt x="0" y="5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940880" y="5176440"/>
                <a:ext cx="126720" cy="8676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5" y="0"/>
                    </a:move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95" y="0"/>
                    </a:ln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40880" y="5281200"/>
                <a:ext cx="123840" cy="9108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0" y="7"/>
                    </a:moveTo>
                    <a:lnTo>
                      <a:pt x="93" y="0"/>
                    </a:lnTo>
                    <a:lnTo>
                      <a:pt x="93" y="52"/>
                    </a:lnTo>
                    <a:lnTo>
                      <a:pt x="0" y="61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40880" y="527976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95" y="0"/>
                    </a:move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40880" y="527976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7"/>
                    </a:moveTo>
                    <a:lnTo>
                      <a:pt x="95" y="0"/>
                    </a:ln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940880" y="5390280"/>
                <a:ext cx="123840" cy="9576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14"/>
                    </a:moveTo>
                    <a:lnTo>
                      <a:pt x="93" y="0"/>
                    </a:lnTo>
                    <a:lnTo>
                      <a:pt x="93" y="45"/>
                    </a:lnTo>
                    <a:lnTo>
                      <a:pt x="0" y="6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940880" y="5392080"/>
                <a:ext cx="126720" cy="9972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5" y="0"/>
                    </a:move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  <a:lnTo>
                      <a:pt x="95" y="0"/>
                    </a:ln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940880" y="5491800"/>
                <a:ext cx="123840" cy="11484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0" y="18"/>
                    </a:moveTo>
                    <a:lnTo>
                      <a:pt x="93" y="0"/>
                    </a:lnTo>
                    <a:lnTo>
                      <a:pt x="93" y="50"/>
                    </a:lnTo>
                    <a:lnTo>
                      <a:pt x="0" y="7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940880" y="5491800"/>
                <a:ext cx="126720" cy="1195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95" y="0"/>
                    </a:move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  <a:lnTo>
                      <a:pt x="95" y="0"/>
                    </a:ln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940880" y="516924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40880" y="516924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40880" y="5185440"/>
                <a:ext cx="126720" cy="1764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940880" y="5185440"/>
                <a:ext cx="126720" cy="1764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940880" y="51969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940880" y="51969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940880" y="52120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40880" y="52120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940880" y="522360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940880" y="522360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40880" y="52372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940880" y="52372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940880" y="52531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40880" y="525312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940880" y="52768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940880" y="5276880"/>
                <a:ext cx="126720" cy="1872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940880" y="529164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940880" y="529164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40880" y="530640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40880" y="530640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940880" y="532116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940880" y="5321160"/>
                <a:ext cx="123840" cy="1872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40880" y="533448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940880" y="533448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940880" y="5344560"/>
                <a:ext cx="123840" cy="1908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940880" y="5344560"/>
                <a:ext cx="123840" cy="1908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940880" y="535932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940880" y="5359320"/>
                <a:ext cx="123840" cy="1728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940880" y="5387400"/>
                <a:ext cx="126720" cy="219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940880" y="5387400"/>
                <a:ext cx="126720" cy="2196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40880" y="5401800"/>
                <a:ext cx="126720" cy="234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40880" y="5401800"/>
                <a:ext cx="126720" cy="2340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40880" y="54165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940880" y="5416560"/>
                <a:ext cx="126720" cy="2052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940880" y="542556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940880" y="542556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940880" y="544032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40880" y="544032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40880" y="5452200"/>
                <a:ext cx="126720" cy="29520"/>
              </a:xfrm>
              <a:custGeom>
                <a:avLst/>
                <a:gdLst/>
                <a:ahLst/>
                <a:rect l="l" t="t" r="r" b="b"/>
                <a:pathLst>
                  <a:path w="96" h="20">
                    <a:moveTo>
                      <a:pt x="95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40880" y="5456880"/>
                <a:ext cx="126720" cy="2628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40880" y="548604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940880" y="548604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940880" y="5502240"/>
                <a:ext cx="126720" cy="2808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940880" y="5502240"/>
                <a:ext cx="126720" cy="2808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940880" y="5515560"/>
                <a:ext cx="126720" cy="33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940880" y="5515560"/>
                <a:ext cx="126720" cy="33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940880" y="553032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940880" y="553032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940880" y="554508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940880" y="5545080"/>
                <a:ext cx="126720" cy="324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40880" y="5558400"/>
                <a:ext cx="126720" cy="378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940880" y="5558400"/>
                <a:ext cx="126720" cy="378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40880" y="556884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40880" y="5568840"/>
                <a:ext cx="126720" cy="4104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584120" y="5177880"/>
                <a:ext cx="201960" cy="91440"/>
              </a:xfrm>
              <a:custGeom>
                <a:avLst/>
                <a:gdLst/>
                <a:ahLst/>
                <a:rect l="l" t="t" r="r" b="b"/>
                <a:pathLst>
                  <a:path w="153" h="62">
                    <a:moveTo>
                      <a:pt x="0" y="0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84120" y="5177880"/>
                <a:ext cx="205920" cy="93960"/>
              </a:xfrm>
              <a:custGeom>
                <a:avLst/>
                <a:gdLst/>
                <a:ahLst/>
                <a:rect l="l" t="t" r="r" b="b"/>
                <a:pathLst>
                  <a:path w="156" h="64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88440" y="5298840"/>
                <a:ext cx="198000" cy="8676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2"/>
                    </a:moveTo>
                    <a:lnTo>
                      <a:pt x="149" y="0"/>
                    </a:lnTo>
                    <a:lnTo>
                      <a:pt x="149" y="54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86640" y="5298840"/>
                <a:ext cx="203400" cy="896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53" y="0"/>
                    </a:move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153" y="0"/>
                    </a:ln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84120" y="5412240"/>
                <a:ext cx="201960" cy="9396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0" y="7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84120" y="5414040"/>
                <a:ext cx="205920" cy="9720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84120" y="5531760"/>
                <a:ext cx="201960" cy="102960"/>
              </a:xfrm>
              <a:custGeom>
                <a:avLst/>
                <a:gdLst/>
                <a:ahLst/>
                <a:rect l="l" t="t" r="r" b="b"/>
                <a:pathLst>
                  <a:path w="153" h="70">
                    <a:moveTo>
                      <a:pt x="0" y="9"/>
                    </a:moveTo>
                    <a:lnTo>
                      <a:pt x="152" y="0"/>
                    </a:lnTo>
                    <a:lnTo>
                      <a:pt x="152" y="58"/>
                    </a:lnTo>
                    <a:lnTo>
                      <a:pt x="0" y="6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84120" y="5530320"/>
                <a:ext cx="205920" cy="107640"/>
              </a:xfrm>
              <a:custGeom>
                <a:avLst/>
                <a:gdLst/>
                <a:ahLst/>
                <a:rect l="l" t="t" r="r" b="b"/>
                <a:pathLst>
                  <a:path w="156" h="73">
                    <a:moveTo>
                      <a:pt x="155" y="0"/>
                    </a:move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  <a:lnTo>
                      <a:pt x="155" y="0"/>
                    </a:ln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84120" y="51750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84120" y="51750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84120" y="5192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84120" y="5207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584120" y="5207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84120" y="52545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84120" y="52941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93480" y="53031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604280" y="5281200"/>
                <a:ext cx="16596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584120" y="53121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84120" y="531216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584120" y="532548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84120" y="532548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84120" y="534024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584120" y="534024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584120" y="5354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84120" y="53546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84120" y="5369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584120" y="536940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84120" y="54122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584120" y="5412240"/>
                <a:ext cx="205920" cy="1908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584120" y="542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584120" y="542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84120" y="544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84120" y="544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84120" y="54579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584120" y="5472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84120" y="5472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84120" y="548604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584120" y="548604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84120" y="552888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84120" y="552888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584120" y="554364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584120" y="5543640"/>
                <a:ext cx="205920" cy="2016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584120" y="555840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584120" y="555840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584120" y="5571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84120" y="55717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584120" y="55893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84120" y="5589360"/>
                <a:ext cx="205920" cy="2052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84120" y="560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84120" y="560556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584120" y="562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584120" y="5620320"/>
                <a:ext cx="205920" cy="1872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586640" y="5157360"/>
                <a:ext cx="20340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586640" y="5157360"/>
                <a:ext cx="20340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43760" y="515160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943760" y="5151600"/>
                <a:ext cx="125280" cy="1872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170480" y="5285520"/>
                <a:ext cx="79200" cy="867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2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173360" y="5288760"/>
                <a:ext cx="83160" cy="8964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2" y="0"/>
                    </a:move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70480" y="5390280"/>
                <a:ext cx="79200" cy="939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6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73360" y="5394600"/>
                <a:ext cx="83160" cy="9720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170480" y="5504040"/>
                <a:ext cx="79200" cy="939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173360" y="5509440"/>
                <a:ext cx="83160" cy="9720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70480" y="5609880"/>
                <a:ext cx="83160" cy="10764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16"/>
                    </a:moveTo>
                    <a:lnTo>
                      <a:pt x="62" y="0"/>
                    </a:lnTo>
                    <a:lnTo>
                      <a:pt x="62" y="56"/>
                    </a:lnTo>
                    <a:lnTo>
                      <a:pt x="0" y="7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173360" y="5612760"/>
                <a:ext cx="85680" cy="11052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4" y="0"/>
                    </a:move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  <a:lnTo>
                      <a:pt x="64" y="0"/>
                    </a:ln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70480" y="527976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70480" y="527976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70480" y="529884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70480" y="529884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70480" y="531216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70480" y="531216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70480" y="532548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70480" y="532548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70480" y="534024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0480" y="5340240"/>
                <a:ext cx="84240" cy="2052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170480" y="53546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170480" y="53546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70480" y="536940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70480" y="536940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170480" y="539028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70480" y="5390280"/>
                <a:ext cx="84240" cy="1872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70480" y="54050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170480" y="54050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70480" y="5421240"/>
                <a:ext cx="84240" cy="1764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170480" y="5421240"/>
                <a:ext cx="84240" cy="1764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70480" y="54374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170480" y="543744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70480" y="545076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170480" y="545076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58600" y="5475960"/>
                <a:ext cx="110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170480" y="546552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170480" y="548028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70480" y="5480280"/>
                <a:ext cx="83160" cy="1872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170480" y="550404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70480" y="550404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70480" y="551880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70480" y="551880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70480" y="553464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70480" y="553464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70480" y="554940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70480" y="5549400"/>
                <a:ext cx="88560" cy="1764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70480" y="556128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70480" y="5561280"/>
                <a:ext cx="88560" cy="1872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170480" y="5577480"/>
                <a:ext cx="88560" cy="2196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170480" y="5577480"/>
                <a:ext cx="88560" cy="2196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70480" y="559080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170480" y="559080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170480" y="560988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70480" y="560988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70480" y="562644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70480" y="5626440"/>
                <a:ext cx="88560" cy="234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170480" y="5639400"/>
                <a:ext cx="88560" cy="2664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70480" y="5639400"/>
                <a:ext cx="88560" cy="2664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170480" y="565560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70480" y="5655600"/>
                <a:ext cx="88560" cy="2484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70480" y="5668920"/>
                <a:ext cx="88560" cy="2772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0480" y="5668920"/>
                <a:ext cx="88560" cy="2772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70480" y="5683680"/>
                <a:ext cx="88560" cy="2916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6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66960" y="56836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7158600" y="5698440"/>
                <a:ext cx="1159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170480" y="5698440"/>
                <a:ext cx="88560" cy="280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170480" y="5698440"/>
                <a:ext cx="88560" cy="280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3360" y="5260680"/>
                <a:ext cx="79200" cy="18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73360" y="5260680"/>
                <a:ext cx="79200" cy="1872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295040" y="5228280"/>
                <a:ext cx="658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95040" y="5275080"/>
                <a:ext cx="65880" cy="3672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05480" y="5455080"/>
                <a:ext cx="39240" cy="32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05480" y="5509440"/>
                <a:ext cx="35640" cy="24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09440" y="5459400"/>
                <a:ext cx="37080" cy="2808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09440" y="5509440"/>
                <a:ext cx="35640" cy="2808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281720" y="5195520"/>
                <a:ext cx="92160" cy="57924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81720" y="5195520"/>
                <a:ext cx="92160" cy="57924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81720" y="5195520"/>
                <a:ext cx="92160" cy="564480"/>
              </a:xfrm>
              <a:custGeom>
                <a:avLst/>
                <a:gdLst/>
                <a:ahLst/>
                <a:rect l="l" t="t" r="r" b="b"/>
                <a:pathLst>
                  <a:path w="70" h="383">
                    <a:moveTo>
                      <a:pt x="0" y="382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81720" y="5194440"/>
                <a:ext cx="92160" cy="568800"/>
              </a:xfrm>
              <a:custGeom>
                <a:avLst/>
                <a:gdLst/>
                <a:ahLst/>
                <a:rect l="l" t="t" r="r" b="b"/>
                <a:pathLst>
                  <a:path w="70" h="386">
                    <a:moveTo>
                      <a:pt x="0" y="385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80040" y="4974840"/>
                <a:ext cx="106920" cy="9108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94800" y="4987800"/>
                <a:ext cx="78840" cy="69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621200" y="4971600"/>
                <a:ext cx="106920" cy="9108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35600" y="4982040"/>
                <a:ext cx="78120" cy="7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584120" y="5225040"/>
                <a:ext cx="205920" cy="1764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584120" y="5242680"/>
                <a:ext cx="205920" cy="1764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113800" y="5292000"/>
              <a:ext cx="194076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5100840" y="4998240"/>
              <a:ext cx="0" cy="30384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7319160" y="1752840"/>
              <a:ext cx="750240" cy="452520"/>
              <a:chOff x="7319160" y="1752840"/>
              <a:chExt cx="750240" cy="452520"/>
            </a:xfrm>
          </p:grpSpPr>
          <p:sp>
            <p:nvSpPr>
              <p:cNvPr id="497" name=""/>
              <p:cNvSpPr/>
              <p:nvPr/>
            </p:nvSpPr>
            <p:spPr>
              <a:xfrm>
                <a:off x="7319160" y="1752840"/>
                <a:ext cx="750240" cy="4525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88400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7708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67016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56324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632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49400" y="1892880"/>
                <a:ext cx="71280" cy="278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445520" y="1894680"/>
              <a:ext cx="750240" cy="452160"/>
              <a:chOff x="7445520" y="1894680"/>
              <a:chExt cx="750240" cy="452160"/>
            </a:xfrm>
          </p:grpSpPr>
          <p:sp>
            <p:nvSpPr>
              <p:cNvPr id="505" name=""/>
              <p:cNvSpPr/>
              <p:nvPr/>
            </p:nvSpPr>
            <p:spPr>
              <a:xfrm>
                <a:off x="7445520" y="1894680"/>
                <a:ext cx="750240" cy="45216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1072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90380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9652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960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8268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475760" y="2034360"/>
                <a:ext cx="71280" cy="2782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"/>
          <p:cNvSpPr/>
          <p:nvPr/>
        </p:nvSpPr>
        <p:spPr>
          <a:xfrm flipH="1" flipV="1">
            <a:off x="5294160" y="2166840"/>
            <a:ext cx="1887840" cy="1296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194440" y="5106600"/>
            <a:ext cx="1803240" cy="12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322880" y="2270160"/>
            <a:ext cx="419040" cy="209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398840" y="2589120"/>
            <a:ext cx="22320" cy="1809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04280" y="2276280"/>
            <a:ext cx="83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C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75240" y="579132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 rot="2520000">
            <a:off x="198000" y="3992400"/>
            <a:ext cx="2303640" cy="1177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rage-Area Network (SAN)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43240" y="1317600"/>
            <a:ext cx="7789320" cy="4585680"/>
            <a:chOff x="543240" y="1317600"/>
            <a:chExt cx="7789320" cy="4585680"/>
          </a:xfrm>
        </p:grpSpPr>
        <p:sp>
          <p:nvSpPr>
            <p:cNvPr id="523" name=""/>
            <p:cNvSpPr/>
            <p:nvPr/>
          </p:nvSpPr>
          <p:spPr>
            <a:xfrm>
              <a:off x="5150520" y="3331080"/>
              <a:ext cx="56448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6419160" y="4596840"/>
              <a:ext cx="721800" cy="89280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6546240" y="4260960"/>
              <a:ext cx="721800" cy="3553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675480" y="3398040"/>
              <a:ext cx="657360" cy="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47680" y="2135880"/>
              <a:ext cx="721800" cy="5119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520000">
              <a:off x="611280" y="2323080"/>
              <a:ext cx="2173680" cy="103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7322760" y="3129480"/>
              <a:ext cx="756360" cy="429120"/>
              <a:chOff x="7322760" y="3129480"/>
              <a:chExt cx="756360" cy="429120"/>
            </a:xfrm>
          </p:grpSpPr>
          <p:sp>
            <p:nvSpPr>
              <p:cNvPr id="530" name=""/>
              <p:cNvSpPr/>
              <p:nvPr/>
            </p:nvSpPr>
            <p:spPr>
              <a:xfrm>
                <a:off x="7322760" y="312948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89264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78500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7664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6900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46136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353360" y="326232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259760" y="1853280"/>
              <a:ext cx="756360" cy="429480"/>
              <a:chOff x="7259760" y="1853280"/>
              <a:chExt cx="756360" cy="429480"/>
            </a:xfrm>
          </p:grpSpPr>
          <p:sp>
            <p:nvSpPr>
              <p:cNvPr id="538" name=""/>
              <p:cNvSpPr/>
              <p:nvPr/>
            </p:nvSpPr>
            <p:spPr>
              <a:xfrm>
                <a:off x="7259760" y="1853280"/>
                <a:ext cx="756360" cy="42948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82964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2164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614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05640" y="1986120"/>
                <a:ext cx="7200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98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90000" y="198612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7259760" y="4338360"/>
              <a:ext cx="756360" cy="429120"/>
              <a:chOff x="7259760" y="4338360"/>
              <a:chExt cx="756360" cy="429120"/>
            </a:xfrm>
          </p:grpSpPr>
          <p:sp>
            <p:nvSpPr>
              <p:cNvPr id="546" name=""/>
              <p:cNvSpPr/>
              <p:nvPr/>
            </p:nvSpPr>
            <p:spPr>
              <a:xfrm>
                <a:off x="7259760" y="433836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2964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72164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14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05640" y="4471200"/>
                <a:ext cx="7200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98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90000" y="447120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53" name=""/>
            <p:cNvGraphicFramePr/>
            <p:nvPr/>
          </p:nvGraphicFramePr>
          <p:xfrm>
            <a:off x="4666320" y="4338360"/>
            <a:ext cx="656280" cy="76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6320" y="433836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5" name=""/>
            <p:cNvGraphicFramePr/>
            <p:nvPr/>
          </p:nvGraphicFramePr>
          <p:xfrm>
            <a:off x="4666320" y="1719000"/>
            <a:ext cx="656280" cy="76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66320" y="171900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7" name=""/>
            <p:cNvGraphicFramePr/>
            <p:nvPr/>
          </p:nvGraphicFramePr>
          <p:xfrm>
            <a:off x="4666320" y="2927880"/>
            <a:ext cx="656280" cy="761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66320" y="2927880"/>
                      <a:ext cx="656280" cy="76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9" name="" descr=""/>
            <p:cNvPicPr/>
            <p:nvPr/>
          </p:nvPicPr>
          <p:blipFill>
            <a:blip r:embed="rId7"/>
            <a:stretch/>
          </p:blipFill>
          <p:spPr>
            <a:xfrm>
              <a:off x="1321200" y="158760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" descr=""/>
            <p:cNvPicPr/>
            <p:nvPr/>
          </p:nvPicPr>
          <p:blipFill>
            <a:blip r:embed="rId8"/>
            <a:stretch/>
          </p:blipFill>
          <p:spPr>
            <a:xfrm>
              <a:off x="1448640" y="172152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" descr=""/>
            <p:cNvPicPr/>
            <p:nvPr/>
          </p:nvPicPr>
          <p:blipFill>
            <a:blip r:embed="rId9"/>
            <a:stretch/>
          </p:blipFill>
          <p:spPr>
            <a:xfrm>
              <a:off x="1577520" y="185616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10"/>
            <a:stretch/>
          </p:blipFill>
          <p:spPr>
            <a:xfrm>
              <a:off x="1704600" y="199044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" descr=""/>
            <p:cNvPicPr/>
            <p:nvPr/>
          </p:nvPicPr>
          <p:blipFill>
            <a:blip r:embed="rId11"/>
            <a:stretch/>
          </p:blipFill>
          <p:spPr>
            <a:xfrm>
              <a:off x="1832040" y="212472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12"/>
            <a:stretch/>
          </p:blipFill>
          <p:spPr>
            <a:xfrm>
              <a:off x="1960920" y="2259000"/>
              <a:ext cx="53928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3"/>
            <a:stretch/>
          </p:blipFill>
          <p:spPr>
            <a:xfrm>
              <a:off x="2088360" y="239328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4"/>
            <a:stretch/>
          </p:blipFill>
          <p:spPr>
            <a:xfrm>
              <a:off x="1059120" y="326376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5"/>
            <a:stretch/>
          </p:blipFill>
          <p:spPr>
            <a:xfrm>
              <a:off x="1186560" y="3398040"/>
              <a:ext cx="53892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16"/>
            <a:stretch/>
          </p:blipFill>
          <p:spPr>
            <a:xfrm>
              <a:off x="1315440" y="353232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17"/>
            <a:stretch/>
          </p:blipFill>
          <p:spPr>
            <a:xfrm>
              <a:off x="1442880" y="366660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18"/>
            <a:stretch/>
          </p:blipFill>
          <p:spPr>
            <a:xfrm>
              <a:off x="1569960" y="3800880"/>
              <a:ext cx="53928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19"/>
            <a:stretch/>
          </p:blipFill>
          <p:spPr>
            <a:xfrm>
              <a:off x="1698840" y="393552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20"/>
            <a:stretch/>
          </p:blipFill>
          <p:spPr>
            <a:xfrm>
              <a:off x="1826280" y="4069440"/>
              <a:ext cx="53892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 flipV="1">
              <a:off x="2540880" y="2313360"/>
              <a:ext cx="2149560" cy="116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54480" y="2606040"/>
              <a:ext cx="0" cy="198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67800" y="3263760"/>
              <a:ext cx="4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67800" y="4606920"/>
              <a:ext cx="42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286000" y="4395240"/>
              <a:ext cx="1956240" cy="55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07920" y="3677760"/>
              <a:ext cx="67680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55400" y="1611360"/>
              <a:ext cx="82296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45280" y="1317600"/>
              <a:ext cx="10609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259400" y="1317600"/>
              <a:ext cx="107316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18520" y="1586160"/>
              <a:ext cx="960120" cy="393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i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130880" y="4942800"/>
              <a:ext cx="1022760" cy="960480"/>
              <a:chOff x="7130880" y="4942800"/>
              <a:chExt cx="1022760" cy="960480"/>
            </a:xfrm>
          </p:grpSpPr>
          <p:sp>
            <p:nvSpPr>
              <p:cNvPr id="584" name=""/>
              <p:cNvSpPr/>
              <p:nvPr/>
            </p:nvSpPr>
            <p:spPr>
              <a:xfrm>
                <a:off x="7141680" y="5784480"/>
                <a:ext cx="997200" cy="115920"/>
              </a:xfrm>
              <a:custGeom>
                <a:avLst/>
                <a:gdLst/>
                <a:ahLst/>
                <a:rect l="l" t="t" r="r" b="b"/>
                <a:pathLst>
                  <a:path w="749" h="83">
                    <a:moveTo>
                      <a:pt x="0" y="11"/>
                    </a:moveTo>
                    <a:lnTo>
                      <a:pt x="0" y="32"/>
                    </a:lnTo>
                    <a:lnTo>
                      <a:pt x="72" y="53"/>
                    </a:lnTo>
                    <a:lnTo>
                      <a:pt x="146" y="30"/>
                    </a:lnTo>
                    <a:lnTo>
                      <a:pt x="333" y="38"/>
                    </a:lnTo>
                    <a:lnTo>
                      <a:pt x="385" y="82"/>
                    </a:lnTo>
                    <a:lnTo>
                      <a:pt x="548" y="68"/>
                    </a:lnTo>
                    <a:lnTo>
                      <a:pt x="548" y="51"/>
                    </a:lnTo>
                    <a:lnTo>
                      <a:pt x="652" y="68"/>
                    </a:lnTo>
                    <a:lnTo>
                      <a:pt x="748" y="38"/>
                    </a:lnTo>
                    <a:lnTo>
                      <a:pt x="748" y="11"/>
                    </a:lnTo>
                    <a:lnTo>
                      <a:pt x="652" y="42"/>
                    </a:lnTo>
                    <a:lnTo>
                      <a:pt x="550" y="28"/>
                    </a:lnTo>
                    <a:lnTo>
                      <a:pt x="550" y="42"/>
                    </a:lnTo>
                    <a:lnTo>
                      <a:pt x="384" y="53"/>
                    </a:lnTo>
                    <a:lnTo>
                      <a:pt x="337" y="11"/>
                    </a:lnTo>
                    <a:lnTo>
                      <a:pt x="223" y="7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72" y="3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141680" y="5783400"/>
                <a:ext cx="1000080" cy="119880"/>
              </a:xfrm>
              <a:custGeom>
                <a:avLst/>
                <a:gdLst/>
                <a:ahLst/>
                <a:rect l="l" t="t" r="r" b="b"/>
                <a:pathLst>
                  <a:path w="751" h="86">
                    <a:moveTo>
                      <a:pt x="0" y="34"/>
                    </a:move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68"/>
                    </a:lnTo>
                    <a:lnTo>
                      <a:pt x="549" y="53"/>
                    </a:lnTo>
                    <a:lnTo>
                      <a:pt x="654" y="68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73" y="56"/>
                    </a:lnTo>
                    <a:lnTo>
                      <a:pt x="146" y="32"/>
                    </a:lnTo>
                    <a:lnTo>
                      <a:pt x="334" y="39"/>
                    </a:lnTo>
                    <a:lnTo>
                      <a:pt x="386" y="85"/>
                    </a:lnTo>
                    <a:lnTo>
                      <a:pt x="549" y="70"/>
                    </a:lnTo>
                    <a:lnTo>
                      <a:pt x="549" y="53"/>
                    </a:lnTo>
                    <a:lnTo>
                      <a:pt x="654" y="70"/>
                    </a:lnTo>
                    <a:lnTo>
                      <a:pt x="750" y="39"/>
                    </a:lnTo>
                    <a:lnTo>
                      <a:pt x="750" y="12"/>
                    </a:lnTo>
                    <a:lnTo>
                      <a:pt x="654" y="44"/>
                    </a:lnTo>
                    <a:lnTo>
                      <a:pt x="552" y="29"/>
                    </a:lnTo>
                    <a:lnTo>
                      <a:pt x="552" y="44"/>
                    </a:lnTo>
                    <a:lnTo>
                      <a:pt x="384" y="56"/>
                    </a:lnTo>
                    <a:lnTo>
                      <a:pt x="338" y="12"/>
                    </a:lnTo>
                    <a:lnTo>
                      <a:pt x="223" y="7"/>
                    </a:lnTo>
                    <a:lnTo>
                      <a:pt x="140" y="0"/>
                    </a:lnTo>
                    <a:lnTo>
                      <a:pt x="140" y="7"/>
                    </a:lnTo>
                    <a:lnTo>
                      <a:pt x="73" y="32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40040" y="5001480"/>
                <a:ext cx="240840" cy="798480"/>
              </a:xfrm>
              <a:custGeom>
                <a:avLst/>
                <a:gdLst/>
                <a:ahLst/>
                <a:rect l="l" t="t" r="r" b="b"/>
                <a:pathLst>
                  <a:path w="181" h="571">
                    <a:moveTo>
                      <a:pt x="0" y="7"/>
                    </a:moveTo>
                    <a:lnTo>
                      <a:pt x="180" y="0"/>
                    </a:lnTo>
                    <a:lnTo>
                      <a:pt x="180" y="570"/>
                    </a:lnTo>
                    <a:lnTo>
                      <a:pt x="2" y="56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340040" y="5002560"/>
                <a:ext cx="240840" cy="801360"/>
              </a:xfrm>
              <a:custGeom>
                <a:avLst/>
                <a:gdLst/>
                <a:ahLst/>
                <a:rect l="l" t="t" r="r" b="b"/>
                <a:pathLst>
                  <a:path w="181" h="573">
                    <a:moveTo>
                      <a:pt x="180" y="0"/>
                    </a:move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  <a:lnTo>
                      <a:pt x="180" y="0"/>
                    </a:lnTo>
                    <a:lnTo>
                      <a:pt x="180" y="572"/>
                    </a:lnTo>
                    <a:lnTo>
                      <a:pt x="2" y="570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581240" y="5001480"/>
                <a:ext cx="239760" cy="798480"/>
              </a:xfrm>
              <a:custGeom>
                <a:avLst/>
                <a:gdLst/>
                <a:ahLst/>
                <a:rect l="l" t="t" r="r" b="b"/>
                <a:pathLst>
                  <a:path w="180" h="571">
                    <a:moveTo>
                      <a:pt x="0" y="0"/>
                    </a:moveTo>
                    <a:lnTo>
                      <a:pt x="179" y="7"/>
                    </a:lnTo>
                    <a:lnTo>
                      <a:pt x="179" y="566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581240" y="5002560"/>
                <a:ext cx="244800" cy="801360"/>
              </a:xfrm>
              <a:custGeom>
                <a:avLst/>
                <a:gdLst/>
                <a:ahLst/>
                <a:rect l="l" t="t" r="r" b="b"/>
                <a:pathLst>
                  <a:path w="184" h="573">
                    <a:moveTo>
                      <a:pt x="183" y="7"/>
                    </a:move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83" y="7"/>
                    </a:lnTo>
                    <a:lnTo>
                      <a:pt x="183" y="568"/>
                    </a:ln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40040" y="4946760"/>
                <a:ext cx="240840" cy="44640"/>
              </a:xfrm>
              <a:custGeom>
                <a:avLst/>
                <a:gdLst/>
                <a:ahLst/>
                <a:rect l="l" t="t" r="r" b="b"/>
                <a:pathLst>
                  <a:path w="181" h="32">
                    <a:moveTo>
                      <a:pt x="0" y="4"/>
                    </a:moveTo>
                    <a:lnTo>
                      <a:pt x="180" y="0"/>
                    </a:lnTo>
                    <a:lnTo>
                      <a:pt x="180" y="24"/>
                    </a:lnTo>
                    <a:lnTo>
                      <a:pt x="0" y="31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340040" y="4946760"/>
                <a:ext cx="240840" cy="47520"/>
              </a:xfrm>
              <a:custGeom>
                <a:avLst/>
                <a:gdLst/>
                <a:ahLst/>
                <a:rect l="l" t="t" r="r" b="b"/>
                <a:pathLst>
                  <a:path w="181" h="34">
                    <a:moveTo>
                      <a:pt x="180" y="0"/>
                    </a:move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180" y="0"/>
                    </a:lnTo>
                    <a:lnTo>
                      <a:pt x="180" y="26"/>
                    </a:lnTo>
                    <a:lnTo>
                      <a:pt x="0" y="3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81240" y="4943880"/>
                <a:ext cx="239760" cy="44640"/>
              </a:xfrm>
              <a:custGeom>
                <a:avLst/>
                <a:gdLst/>
                <a:ahLst/>
                <a:rect l="l" t="t" r="r" b="b"/>
                <a:pathLst>
                  <a:path w="180" h="32">
                    <a:moveTo>
                      <a:pt x="0" y="0"/>
                    </a:moveTo>
                    <a:lnTo>
                      <a:pt x="179" y="7"/>
                    </a:lnTo>
                    <a:lnTo>
                      <a:pt x="179" y="31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581240" y="4953600"/>
                <a:ext cx="244800" cy="37440"/>
              </a:xfrm>
              <a:custGeom>
                <a:avLst/>
                <a:gdLst/>
                <a:ahLst/>
                <a:rect l="l" t="t" r="r" b="b"/>
                <a:pathLst>
                  <a:path w="184" h="27">
                    <a:moveTo>
                      <a:pt x="183" y="0"/>
                    </a:moveTo>
                    <a:lnTo>
                      <a:pt x="183" y="26"/>
                    </a:ln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81240" y="4942800"/>
                <a:ext cx="244800" cy="47520"/>
              </a:xfrm>
              <a:custGeom>
                <a:avLst/>
                <a:gdLst/>
                <a:ahLst/>
                <a:rect l="l" t="t" r="r" b="b"/>
                <a:pathLst>
                  <a:path w="184" h="34">
                    <a:moveTo>
                      <a:pt x="0" y="29"/>
                    </a:moveTo>
                    <a:lnTo>
                      <a:pt x="0" y="0"/>
                    </a:lnTo>
                    <a:lnTo>
                      <a:pt x="183" y="7"/>
                    </a:lnTo>
                    <a:lnTo>
                      <a:pt x="183" y="33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81240" y="5001480"/>
                <a:ext cx="18720" cy="7984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0" y="0"/>
                    </a:moveTo>
                    <a:lnTo>
                      <a:pt x="13" y="2"/>
                    </a:lnTo>
                    <a:lnTo>
                      <a:pt x="13" y="568"/>
                    </a:lnTo>
                    <a:lnTo>
                      <a:pt x="0" y="57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58124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2"/>
                    </a:moveTo>
                    <a:lnTo>
                      <a:pt x="14" y="570"/>
                    </a:lnTo>
                    <a:lnTo>
                      <a:pt x="0" y="572"/>
                    </a:lnTo>
                    <a:lnTo>
                      <a:pt x="0" y="0"/>
                    </a:lnTo>
                    <a:lnTo>
                      <a:pt x="14" y="2"/>
                    </a:lnTo>
                    <a:lnTo>
                      <a:pt x="14" y="57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58124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14" y="570"/>
                    </a:moveTo>
                    <a:lnTo>
                      <a:pt x="0" y="57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581240" y="4943880"/>
                <a:ext cx="18720" cy="36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0" y="0"/>
                    </a:moveTo>
                    <a:lnTo>
                      <a:pt x="13" y="0"/>
                    </a:lnTo>
                    <a:lnTo>
                      <a:pt x="13" y="23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581240" y="4942800"/>
                <a:ext cx="19800" cy="417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14" y="0"/>
                    </a:move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7"/>
                    </a:lnTo>
                    <a:lnTo>
                      <a:pt x="0" y="2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562520" y="5001480"/>
                <a:ext cx="18720" cy="798480"/>
              </a:xfrm>
              <a:custGeom>
                <a:avLst/>
                <a:gdLst/>
                <a:ahLst/>
                <a:rect l="l" t="t" r="r" b="b"/>
                <a:pathLst>
                  <a:path w="14" h="571">
                    <a:moveTo>
                      <a:pt x="13" y="0"/>
                    </a:moveTo>
                    <a:lnTo>
                      <a:pt x="0" y="2"/>
                    </a:lnTo>
                    <a:lnTo>
                      <a:pt x="0" y="568"/>
                    </a:lnTo>
                    <a:lnTo>
                      <a:pt x="13" y="57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62520" y="5002560"/>
                <a:ext cx="19800" cy="801360"/>
              </a:xfrm>
              <a:custGeom>
                <a:avLst/>
                <a:gdLst/>
                <a:ahLst/>
                <a:rect l="l" t="t" r="r" b="b"/>
                <a:pathLst>
                  <a:path w="15" h="573">
                    <a:moveTo>
                      <a:pt x="0" y="2"/>
                    </a:move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0" y="570"/>
                    </a:lnTo>
                    <a:lnTo>
                      <a:pt x="14" y="57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62520" y="4943880"/>
                <a:ext cx="18720" cy="3636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13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13" y="25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562520" y="4942800"/>
                <a:ext cx="19800" cy="41760"/>
              </a:xfrm>
              <a:custGeom>
                <a:avLst/>
                <a:gdLst/>
                <a:ahLst/>
                <a:rect l="l" t="t" r="r" b="b"/>
                <a:pathLst>
                  <a:path w="15" h="30">
                    <a:moveTo>
                      <a:pt x="0" y="0"/>
                    </a:move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14" y="29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156080" y="5028120"/>
                <a:ext cx="26280" cy="739440"/>
              </a:xfrm>
              <a:custGeom>
                <a:avLst/>
                <a:gdLst/>
                <a:ahLst/>
                <a:rect l="l" t="t" r="r" b="b"/>
                <a:pathLst>
                  <a:path w="20" h="529">
                    <a:moveTo>
                      <a:pt x="0" y="2"/>
                    </a:moveTo>
                    <a:lnTo>
                      <a:pt x="19" y="0"/>
                    </a:lnTo>
                    <a:lnTo>
                      <a:pt x="19" y="528"/>
                    </a:lnTo>
                    <a:lnTo>
                      <a:pt x="0" y="51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155000" y="5028120"/>
                <a:ext cx="29160" cy="745200"/>
              </a:xfrm>
              <a:custGeom>
                <a:avLst/>
                <a:gdLst/>
                <a:ahLst/>
                <a:rect l="l" t="t" r="r" b="b"/>
                <a:pathLst>
                  <a:path w="22" h="533">
                    <a:moveTo>
                      <a:pt x="21" y="0"/>
                    </a:move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  <a:lnTo>
                      <a:pt x="21" y="0"/>
                    </a:lnTo>
                    <a:lnTo>
                      <a:pt x="21" y="532"/>
                    </a:lnTo>
                    <a:lnTo>
                      <a:pt x="0" y="51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84160" y="5011200"/>
                <a:ext cx="156960" cy="784800"/>
              </a:xfrm>
              <a:custGeom>
                <a:avLst/>
                <a:gdLst/>
                <a:ahLst/>
                <a:rect l="l" t="t" r="r" b="b"/>
                <a:pathLst>
                  <a:path w="118" h="561">
                    <a:moveTo>
                      <a:pt x="0" y="12"/>
                    </a:moveTo>
                    <a:lnTo>
                      <a:pt x="115" y="0"/>
                    </a:lnTo>
                    <a:lnTo>
                      <a:pt x="117" y="560"/>
                    </a:lnTo>
                    <a:lnTo>
                      <a:pt x="0" y="54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182720" y="5012280"/>
                <a:ext cx="159480" cy="787320"/>
              </a:xfrm>
              <a:custGeom>
                <a:avLst/>
                <a:gdLst/>
                <a:ahLst/>
                <a:rect l="l" t="t" r="r" b="b"/>
                <a:pathLst>
                  <a:path w="120" h="563">
                    <a:moveTo>
                      <a:pt x="117" y="0"/>
                    </a:move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9" y="562"/>
                    </a:lnTo>
                    <a:lnTo>
                      <a:pt x="0" y="543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24960" y="5012280"/>
                <a:ext cx="165240" cy="780480"/>
              </a:xfrm>
              <a:custGeom>
                <a:avLst/>
                <a:gdLst/>
                <a:ahLst/>
                <a:rect l="l" t="t" r="r" b="b"/>
                <a:pathLst>
                  <a:path w="124" h="558">
                    <a:moveTo>
                      <a:pt x="0" y="0"/>
                    </a:moveTo>
                    <a:lnTo>
                      <a:pt x="123" y="9"/>
                    </a:lnTo>
                    <a:lnTo>
                      <a:pt x="123" y="538"/>
                    </a:lnTo>
                    <a:lnTo>
                      <a:pt x="0" y="5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824960" y="5011200"/>
                <a:ext cx="167400" cy="784800"/>
              </a:xfrm>
              <a:custGeom>
                <a:avLst/>
                <a:gdLst/>
                <a:ahLst/>
                <a:rect l="l" t="t" r="r" b="b"/>
                <a:pathLst>
                  <a:path w="126" h="561">
                    <a:moveTo>
                      <a:pt x="125" y="9"/>
                    </a:move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541"/>
                    </a:lnTo>
                    <a:lnTo>
                      <a:pt x="0" y="56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991280" y="5028120"/>
                <a:ext cx="34560" cy="738360"/>
              </a:xfrm>
              <a:custGeom>
                <a:avLst/>
                <a:gdLst/>
                <a:ahLst/>
                <a:rect l="l" t="t" r="r" b="b"/>
                <a:pathLst>
                  <a:path w="26" h="528">
                    <a:moveTo>
                      <a:pt x="0" y="0"/>
                    </a:moveTo>
                    <a:lnTo>
                      <a:pt x="25" y="7"/>
                    </a:lnTo>
                    <a:lnTo>
                      <a:pt x="25" y="506"/>
                    </a:lnTo>
                    <a:lnTo>
                      <a:pt x="0" y="5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992720" y="5028120"/>
                <a:ext cx="35640" cy="739440"/>
              </a:xfrm>
              <a:custGeom>
                <a:avLst/>
                <a:gdLst/>
                <a:ahLst/>
                <a:rect l="l" t="t" r="r" b="b"/>
                <a:pathLst>
                  <a:path w="27" h="529">
                    <a:moveTo>
                      <a:pt x="26" y="7"/>
                    </a:move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  <a:lnTo>
                      <a:pt x="26" y="7"/>
                    </a:lnTo>
                    <a:lnTo>
                      <a:pt x="26" y="507"/>
                    </a:lnTo>
                    <a:lnTo>
                      <a:pt x="0" y="5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156080" y="4970520"/>
                <a:ext cx="26280" cy="40320"/>
              </a:xfrm>
              <a:custGeom>
                <a:avLst/>
                <a:gdLst/>
                <a:ahLst/>
                <a:rect l="l" t="t" r="r" b="b"/>
                <a:pathLst>
                  <a:path w="20" h="29">
                    <a:moveTo>
                      <a:pt x="0" y="6"/>
                    </a:moveTo>
                    <a:lnTo>
                      <a:pt x="19" y="0"/>
                    </a:lnTo>
                    <a:lnTo>
                      <a:pt x="19" y="26"/>
                    </a:lnTo>
                    <a:lnTo>
                      <a:pt x="0" y="2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155000" y="4970520"/>
                <a:ext cx="29160" cy="4464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21" y="0"/>
                    </a:move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  <a:lnTo>
                      <a:pt x="21" y="0"/>
                    </a:lnTo>
                    <a:lnTo>
                      <a:pt x="21" y="29"/>
                    </a:lnTo>
                    <a:lnTo>
                      <a:pt x="0" y="3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184160" y="4953600"/>
                <a:ext cx="154080" cy="51480"/>
              </a:xfrm>
              <a:custGeom>
                <a:avLst/>
                <a:gdLst/>
                <a:ahLst/>
                <a:rect l="l" t="t" r="r" b="b"/>
                <a:pathLst>
                  <a:path w="116" h="37">
                    <a:moveTo>
                      <a:pt x="0" y="11"/>
                    </a:moveTo>
                    <a:lnTo>
                      <a:pt x="115" y="0"/>
                    </a:lnTo>
                    <a:lnTo>
                      <a:pt x="115" y="27"/>
                    </a:lnTo>
                    <a:lnTo>
                      <a:pt x="0" y="3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84160" y="4955040"/>
                <a:ext cx="156960" cy="54360"/>
              </a:xfrm>
              <a:custGeom>
                <a:avLst/>
                <a:gdLst/>
                <a:ahLst/>
                <a:rect l="l" t="t" r="r" b="b"/>
                <a:pathLst>
                  <a:path w="118" h="39">
                    <a:moveTo>
                      <a:pt x="117" y="0"/>
                    </a:move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  <a:lnTo>
                      <a:pt x="117" y="0"/>
                    </a:lnTo>
                    <a:lnTo>
                      <a:pt x="117" y="29"/>
                    </a:lnTo>
                    <a:lnTo>
                      <a:pt x="0" y="38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824960" y="4953600"/>
                <a:ext cx="165240" cy="44640"/>
              </a:xfrm>
              <a:custGeom>
                <a:avLst/>
                <a:gdLst/>
                <a:ahLst/>
                <a:rect l="l" t="t" r="r" b="b"/>
                <a:pathLst>
                  <a:path w="124" h="32">
                    <a:moveTo>
                      <a:pt x="0" y="0"/>
                    </a:moveTo>
                    <a:lnTo>
                      <a:pt x="123" y="8"/>
                    </a:lnTo>
                    <a:lnTo>
                      <a:pt x="123" y="31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24960" y="4955040"/>
                <a:ext cx="167400" cy="4896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125" y="9"/>
                    </a:move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  <a:lnTo>
                      <a:pt x="125" y="9"/>
                    </a:lnTo>
                    <a:lnTo>
                      <a:pt x="125" y="3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91280" y="4967640"/>
                <a:ext cx="34560" cy="4464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0" y="0"/>
                    </a:moveTo>
                    <a:lnTo>
                      <a:pt x="25" y="11"/>
                    </a:lnTo>
                    <a:lnTo>
                      <a:pt x="25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92720" y="4966560"/>
                <a:ext cx="35640" cy="4752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6" y="12"/>
                    </a:move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6" y="12"/>
                    </a:lnTo>
                    <a:lnTo>
                      <a:pt x="26" y="33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581240" y="4946760"/>
                <a:ext cx="1080" cy="85608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581240" y="4946760"/>
                <a:ext cx="1080" cy="856080"/>
              </a:xfrm>
              <a:custGeom>
                <a:avLst/>
                <a:gdLst/>
                <a:ahLst/>
                <a:rect l="l" t="t" r="r" b="b"/>
                <a:pathLst>
                  <a:path w="1" h="612">
                    <a:moveTo>
                      <a:pt x="0" y="0"/>
                    </a:moveTo>
                    <a:lnTo>
                      <a:pt x="0" y="6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830000" y="4955040"/>
                <a:ext cx="1476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0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830000" y="4953600"/>
                <a:ext cx="1476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10" y="2"/>
                    </a:move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815600" y="4955040"/>
                <a:ext cx="1440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10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10" y="59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815600" y="4953600"/>
                <a:ext cx="1440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0" y="2"/>
                    </a:move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10" y="60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988760" y="4963680"/>
                <a:ext cx="15840" cy="802800"/>
              </a:xfrm>
              <a:custGeom>
                <a:avLst/>
                <a:gdLst/>
                <a:ahLst/>
                <a:rect l="l" t="t" r="r" b="b"/>
                <a:pathLst>
                  <a:path w="12" h="574">
                    <a:moveTo>
                      <a:pt x="0" y="0"/>
                    </a:moveTo>
                    <a:lnTo>
                      <a:pt x="11" y="4"/>
                    </a:lnTo>
                    <a:lnTo>
                      <a:pt x="8" y="569"/>
                    </a:lnTo>
                    <a:lnTo>
                      <a:pt x="0" y="57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88760" y="4963680"/>
                <a:ext cx="15840" cy="803880"/>
              </a:xfrm>
              <a:custGeom>
                <a:avLst/>
                <a:gdLst/>
                <a:ahLst/>
                <a:rect l="l" t="t" r="r" b="b"/>
                <a:pathLst>
                  <a:path w="12" h="575">
                    <a:moveTo>
                      <a:pt x="11" y="4"/>
                    </a:move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  <a:lnTo>
                      <a:pt x="11" y="4"/>
                    </a:lnTo>
                    <a:lnTo>
                      <a:pt x="8" y="570"/>
                    </a:lnTo>
                    <a:lnTo>
                      <a:pt x="0" y="57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77960" y="4963680"/>
                <a:ext cx="14400" cy="803880"/>
              </a:xfrm>
              <a:custGeom>
                <a:avLst/>
                <a:gdLst/>
                <a:ahLst/>
                <a:rect l="l" t="t" r="r" b="b"/>
                <a:pathLst>
                  <a:path w="11" h="575">
                    <a:moveTo>
                      <a:pt x="10" y="0"/>
                    </a:moveTo>
                    <a:lnTo>
                      <a:pt x="0" y="2"/>
                    </a:lnTo>
                    <a:lnTo>
                      <a:pt x="0" y="574"/>
                    </a:lnTo>
                    <a:lnTo>
                      <a:pt x="10" y="572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977960" y="4963680"/>
                <a:ext cx="14400" cy="809640"/>
              </a:xfrm>
              <a:custGeom>
                <a:avLst/>
                <a:gdLst/>
                <a:ahLst/>
                <a:rect l="l" t="t" r="r" b="b"/>
                <a:pathLst>
                  <a:path w="11" h="579">
                    <a:moveTo>
                      <a:pt x="0" y="2"/>
                    </a:move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78"/>
                    </a:lnTo>
                    <a:lnTo>
                      <a:pt x="10" y="576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30000" y="4955040"/>
                <a:ext cx="1440" cy="838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830000" y="4955040"/>
                <a:ext cx="1440" cy="838080"/>
              </a:xfrm>
              <a:custGeom>
                <a:avLst/>
                <a:gdLst/>
                <a:ahLst/>
                <a:rect l="l" t="t" r="r" b="b"/>
                <a:pathLst>
                  <a:path w="1" h="599">
                    <a:moveTo>
                      <a:pt x="0" y="0"/>
                    </a:moveTo>
                    <a:lnTo>
                      <a:pt x="0" y="59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990200" y="4970520"/>
                <a:ext cx="1080" cy="79704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90200" y="4970520"/>
                <a:ext cx="1080" cy="797040"/>
              </a:xfrm>
              <a:custGeom>
                <a:avLst/>
                <a:gdLst/>
                <a:ahLst/>
                <a:rect l="l" t="t" r="r" b="b"/>
                <a:pathLst>
                  <a:path w="1" h="570">
                    <a:moveTo>
                      <a:pt x="0" y="0"/>
                    </a:moveTo>
                    <a:lnTo>
                      <a:pt x="0" y="5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31760" y="4955040"/>
                <a:ext cx="12960" cy="838080"/>
              </a:xfrm>
              <a:custGeom>
                <a:avLst/>
                <a:gdLst/>
                <a:ahLst/>
                <a:rect l="l" t="t" r="r" b="b"/>
                <a:pathLst>
                  <a:path w="10" h="599">
                    <a:moveTo>
                      <a:pt x="9" y="0"/>
                    </a:moveTo>
                    <a:lnTo>
                      <a:pt x="0" y="2"/>
                    </a:lnTo>
                    <a:lnTo>
                      <a:pt x="0" y="596"/>
                    </a:lnTo>
                    <a:lnTo>
                      <a:pt x="9" y="598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331760" y="4953600"/>
                <a:ext cx="12960" cy="842040"/>
              </a:xfrm>
              <a:custGeom>
                <a:avLst/>
                <a:gdLst/>
                <a:ahLst/>
                <a:rect l="l" t="t" r="r" b="b"/>
                <a:pathLst>
                  <a:path w="10" h="602">
                    <a:moveTo>
                      <a:pt x="0" y="2"/>
                    </a:move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0" y="599"/>
                    </a:lnTo>
                    <a:lnTo>
                      <a:pt x="9" y="60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41120" y="4955040"/>
                <a:ext cx="14760" cy="838080"/>
              </a:xfrm>
              <a:custGeom>
                <a:avLst/>
                <a:gdLst/>
                <a:ahLst/>
                <a:rect l="l" t="t" r="r" b="b"/>
                <a:pathLst>
                  <a:path w="11" h="599">
                    <a:moveTo>
                      <a:pt x="2" y="0"/>
                    </a:moveTo>
                    <a:lnTo>
                      <a:pt x="10" y="2"/>
                    </a:lnTo>
                    <a:lnTo>
                      <a:pt x="10" y="596"/>
                    </a:lnTo>
                    <a:lnTo>
                      <a:pt x="0" y="598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44000" y="4953600"/>
                <a:ext cx="15840" cy="842040"/>
              </a:xfrm>
              <a:custGeom>
                <a:avLst/>
                <a:gdLst/>
                <a:ahLst/>
                <a:rect l="l" t="t" r="r" b="b"/>
                <a:pathLst>
                  <a:path w="12" h="602">
                    <a:moveTo>
                      <a:pt x="11" y="2"/>
                    </a:moveTo>
                    <a:lnTo>
                      <a:pt x="11" y="599"/>
                    </a:lnTo>
                    <a:lnTo>
                      <a:pt x="0" y="6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41120" y="4953600"/>
                <a:ext cx="14760" cy="842040"/>
              </a:xfrm>
              <a:custGeom>
                <a:avLst/>
                <a:gdLst/>
                <a:ahLst/>
                <a:rect l="l" t="t" r="r" b="b"/>
                <a:pathLst>
                  <a:path w="11" h="602">
                    <a:moveTo>
                      <a:pt x="2" y="0"/>
                    </a:moveTo>
                    <a:lnTo>
                      <a:pt x="10" y="2"/>
                    </a:lnTo>
                    <a:lnTo>
                      <a:pt x="10" y="599"/>
                    </a:lnTo>
                    <a:lnTo>
                      <a:pt x="0" y="60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71920" y="4967640"/>
                <a:ext cx="14760" cy="798480"/>
              </a:xfrm>
              <a:custGeom>
                <a:avLst/>
                <a:gdLst/>
                <a:ahLst/>
                <a:rect l="l" t="t" r="r" b="b"/>
                <a:pathLst>
                  <a:path w="11" h="571">
                    <a:moveTo>
                      <a:pt x="10" y="0"/>
                    </a:moveTo>
                    <a:lnTo>
                      <a:pt x="0" y="4"/>
                    </a:lnTo>
                    <a:lnTo>
                      <a:pt x="0" y="566"/>
                    </a:lnTo>
                    <a:lnTo>
                      <a:pt x="10" y="57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71920" y="4967640"/>
                <a:ext cx="14760" cy="799920"/>
              </a:xfrm>
              <a:custGeom>
                <a:avLst/>
                <a:gdLst/>
                <a:ahLst/>
                <a:rect l="l" t="t" r="r" b="b"/>
                <a:pathLst>
                  <a:path w="11" h="572">
                    <a:moveTo>
                      <a:pt x="0" y="4"/>
                    </a:move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  <a:lnTo>
                      <a:pt x="0" y="4"/>
                    </a:lnTo>
                    <a:lnTo>
                      <a:pt x="0" y="567"/>
                    </a:lnTo>
                    <a:lnTo>
                      <a:pt x="10" y="571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82720" y="4967640"/>
                <a:ext cx="15840" cy="799920"/>
              </a:xfrm>
              <a:custGeom>
                <a:avLst/>
                <a:gdLst/>
                <a:ahLst/>
                <a:rect l="l" t="t" r="r" b="b"/>
                <a:pathLst>
                  <a:path w="12" h="572">
                    <a:moveTo>
                      <a:pt x="0" y="2"/>
                    </a:moveTo>
                    <a:lnTo>
                      <a:pt x="11" y="0"/>
                    </a:lnTo>
                    <a:lnTo>
                      <a:pt x="8" y="571"/>
                    </a:lnTo>
                    <a:lnTo>
                      <a:pt x="0" y="569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82720" y="4967640"/>
                <a:ext cx="15840" cy="805680"/>
              </a:xfrm>
              <a:custGeom>
                <a:avLst/>
                <a:gdLst/>
                <a:ahLst/>
                <a:rect l="l" t="t" r="r" b="b"/>
                <a:pathLst>
                  <a:path w="12" h="576">
                    <a:moveTo>
                      <a:pt x="11" y="0"/>
                    </a:move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  <a:lnTo>
                      <a:pt x="11" y="0"/>
                    </a:lnTo>
                    <a:lnTo>
                      <a:pt x="8" y="575"/>
                    </a:lnTo>
                    <a:lnTo>
                      <a:pt x="0" y="573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42560" y="4956480"/>
                <a:ext cx="1440" cy="83628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42560" y="4956480"/>
                <a:ext cx="1440" cy="836280"/>
              </a:xfrm>
              <a:custGeom>
                <a:avLst/>
                <a:gdLst/>
                <a:ahLst/>
                <a:rect l="l" t="t" r="r" b="b"/>
                <a:pathLst>
                  <a:path w="1" h="598">
                    <a:moveTo>
                      <a:pt x="0" y="0"/>
                    </a:moveTo>
                    <a:lnTo>
                      <a:pt x="0" y="5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84160" y="497628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4160" y="4976280"/>
                <a:ext cx="1080" cy="791280"/>
              </a:xfrm>
              <a:custGeom>
                <a:avLst/>
                <a:gdLst/>
                <a:ahLst/>
                <a:rect l="l" t="t" r="r" b="b"/>
                <a:pathLst>
                  <a:path w="1" h="566">
                    <a:moveTo>
                      <a:pt x="0" y="0"/>
                    </a:moveTo>
                    <a:lnTo>
                      <a:pt x="0" y="5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55000" y="4977360"/>
                <a:ext cx="871200" cy="75240"/>
              </a:xfrm>
              <a:custGeom>
                <a:avLst/>
                <a:gdLst/>
                <a:ahLst/>
                <a:rect l="l" t="t" r="r" b="b"/>
                <a:pathLst>
                  <a:path w="654" h="54">
                    <a:moveTo>
                      <a:pt x="0" y="26"/>
                    </a:moveTo>
                    <a:lnTo>
                      <a:pt x="21" y="21"/>
                    </a:lnTo>
                    <a:lnTo>
                      <a:pt x="139" y="7"/>
                    </a:lnTo>
                    <a:lnTo>
                      <a:pt x="319" y="0"/>
                    </a:lnTo>
                    <a:lnTo>
                      <a:pt x="501" y="9"/>
                    </a:lnTo>
                    <a:lnTo>
                      <a:pt x="625" y="16"/>
                    </a:lnTo>
                    <a:lnTo>
                      <a:pt x="653" y="30"/>
                    </a:lnTo>
                    <a:lnTo>
                      <a:pt x="653" y="39"/>
                    </a:lnTo>
                    <a:lnTo>
                      <a:pt x="625" y="41"/>
                    </a:lnTo>
                    <a:lnTo>
                      <a:pt x="495" y="30"/>
                    </a:lnTo>
                    <a:lnTo>
                      <a:pt x="319" y="26"/>
                    </a:lnTo>
                    <a:lnTo>
                      <a:pt x="137" y="32"/>
                    </a:lnTo>
                    <a:lnTo>
                      <a:pt x="21" y="44"/>
                    </a:lnTo>
                    <a:lnTo>
                      <a:pt x="0" y="53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56080" y="4976280"/>
                <a:ext cx="872280" cy="79560"/>
              </a:xfrm>
              <a:custGeom>
                <a:avLst/>
                <a:gdLst/>
                <a:ahLst/>
                <a:rect l="l" t="t" r="r" b="b"/>
                <a:pathLst>
                  <a:path w="655" h="57">
                    <a:moveTo>
                      <a:pt x="21" y="21"/>
                    </a:move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9"/>
                    </a:lnTo>
                    <a:lnTo>
                      <a:pt x="627" y="17"/>
                    </a:lnTo>
                    <a:lnTo>
                      <a:pt x="654" y="32"/>
                    </a:lnTo>
                    <a:lnTo>
                      <a:pt x="654" y="42"/>
                    </a:lnTo>
                    <a:lnTo>
                      <a:pt x="627" y="44"/>
                    </a:lnTo>
                    <a:lnTo>
                      <a:pt x="496" y="32"/>
                    </a:lnTo>
                    <a:lnTo>
                      <a:pt x="320" y="26"/>
                    </a:lnTo>
                    <a:lnTo>
                      <a:pt x="138" y="34"/>
                    </a:lnTo>
                    <a:lnTo>
                      <a:pt x="21" y="46"/>
                    </a:lnTo>
                    <a:lnTo>
                      <a:pt x="0" y="56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56080" y="5015160"/>
                <a:ext cx="872280" cy="4032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56080" y="5015160"/>
                <a:ext cx="872280" cy="40320"/>
              </a:xfrm>
              <a:custGeom>
                <a:avLst/>
                <a:gdLst/>
                <a:ahLst/>
                <a:rect l="l" t="t" r="r" b="b"/>
                <a:pathLst>
                  <a:path w="655" h="29">
                    <a:moveTo>
                      <a:pt x="654" y="26"/>
                    </a:moveTo>
                    <a:lnTo>
                      <a:pt x="627" y="16"/>
                    </a:lnTo>
                    <a:lnTo>
                      <a:pt x="496" y="4"/>
                    </a:lnTo>
                    <a:lnTo>
                      <a:pt x="320" y="0"/>
                    </a:lnTo>
                    <a:lnTo>
                      <a:pt x="138" y="7"/>
                    </a:lnTo>
                    <a:lnTo>
                      <a:pt x="21" y="19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156080" y="4977360"/>
                <a:ext cx="872280" cy="4464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56080" y="4977360"/>
                <a:ext cx="872280" cy="44640"/>
              </a:xfrm>
              <a:custGeom>
                <a:avLst/>
                <a:gdLst/>
                <a:ahLst/>
                <a:rect l="l" t="t" r="r" b="b"/>
                <a:pathLst>
                  <a:path w="655" h="32">
                    <a:moveTo>
                      <a:pt x="0" y="27"/>
                    </a:moveTo>
                    <a:lnTo>
                      <a:pt x="21" y="21"/>
                    </a:lnTo>
                    <a:lnTo>
                      <a:pt x="140" y="7"/>
                    </a:lnTo>
                    <a:lnTo>
                      <a:pt x="320" y="0"/>
                    </a:lnTo>
                    <a:lnTo>
                      <a:pt x="502" y="10"/>
                    </a:lnTo>
                    <a:lnTo>
                      <a:pt x="627" y="16"/>
                    </a:lnTo>
                    <a:lnTo>
                      <a:pt x="654" y="31"/>
                    </a:lnTo>
                  </a:path>
                </a:pathLst>
              </a:custGeom>
              <a:noFill/>
              <a:ln cap="rnd" w="1260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988760" y="5139720"/>
                <a:ext cx="41040" cy="1260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27760" y="5137200"/>
                <a:ext cx="41040" cy="7920"/>
              </a:xfrm>
              <a:prstGeom prst="rect">
                <a:avLst/>
              </a:prstGeom>
              <a:solidFill>
                <a:srgbClr val="a6a6a6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727760" y="5137200"/>
                <a:ext cx="43560" cy="792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988760" y="5142600"/>
                <a:ext cx="43920" cy="9720"/>
              </a:xfrm>
              <a:prstGeom prst="rect">
                <a:avLst/>
              </a:prstGeom>
              <a:solidFill>
                <a:srgbClr val="4c4c4c"/>
              </a:solidFill>
              <a:ln w="12600">
                <a:solidFill>
                  <a:srgbClr val="4c4c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876800" y="5156280"/>
                <a:ext cx="134280" cy="686880"/>
              </a:xfrm>
              <a:custGeom>
                <a:avLst/>
                <a:gdLst/>
                <a:ahLst/>
                <a:rect l="l" t="t" r="r" b="b"/>
                <a:pathLst>
                  <a:path w="101" h="491">
                    <a:moveTo>
                      <a:pt x="0" y="0"/>
                    </a:moveTo>
                    <a:lnTo>
                      <a:pt x="100" y="0"/>
                    </a:lnTo>
                    <a:lnTo>
                      <a:pt x="100" y="490"/>
                    </a:lnTo>
                    <a:lnTo>
                      <a:pt x="0" y="47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6800" y="5153760"/>
                <a:ext cx="138240" cy="693720"/>
              </a:xfrm>
              <a:custGeom>
                <a:avLst/>
                <a:gdLst/>
                <a:ahLst/>
                <a:rect l="l" t="t" r="r" b="b"/>
                <a:pathLst>
                  <a:path w="104" h="496">
                    <a:moveTo>
                      <a:pt x="103" y="0"/>
                    </a:moveTo>
                    <a:lnTo>
                      <a:pt x="103" y="495"/>
                    </a:lnTo>
                    <a:lnTo>
                      <a:pt x="0" y="48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876800" y="5155200"/>
                <a:ext cx="138240" cy="692280"/>
              </a:xfrm>
              <a:custGeom>
                <a:avLst/>
                <a:gdLst/>
                <a:ahLst/>
                <a:rect l="l" t="t" r="r" b="b"/>
                <a:pathLst>
                  <a:path w="104" h="495">
                    <a:moveTo>
                      <a:pt x="0" y="0"/>
                    </a:moveTo>
                    <a:lnTo>
                      <a:pt x="103" y="0"/>
                    </a:lnTo>
                    <a:lnTo>
                      <a:pt x="103" y="494"/>
                    </a:lnTo>
                    <a:lnTo>
                      <a:pt x="0" y="47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99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013960" y="5156280"/>
                <a:ext cx="136800" cy="686880"/>
              </a:xfrm>
              <a:custGeom>
                <a:avLst/>
                <a:gdLst/>
                <a:ahLst/>
                <a:rect l="l" t="t" r="r" b="b"/>
                <a:pathLst>
                  <a:path w="103" h="491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6"/>
                    </a:lnTo>
                    <a:lnTo>
                      <a:pt x="0" y="4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013960" y="5153760"/>
                <a:ext cx="139680" cy="693720"/>
              </a:xfrm>
              <a:custGeom>
                <a:avLst/>
                <a:gdLst/>
                <a:ahLst/>
                <a:rect l="l" t="t" r="r" b="b"/>
                <a:pathLst>
                  <a:path w="105" h="496">
                    <a:moveTo>
                      <a:pt x="104" y="0"/>
                    </a:moveTo>
                    <a:lnTo>
                      <a:pt x="104" y="461"/>
                    </a:lnTo>
                    <a:lnTo>
                      <a:pt x="0" y="49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013960" y="5155200"/>
                <a:ext cx="139680" cy="692280"/>
              </a:xfrm>
              <a:custGeom>
                <a:avLst/>
                <a:gdLst/>
                <a:ahLst/>
                <a:rect l="l" t="t" r="r" b="b"/>
                <a:pathLst>
                  <a:path w="105" h="495">
                    <a:moveTo>
                      <a:pt x="0" y="0"/>
                    </a:moveTo>
                    <a:lnTo>
                      <a:pt x="104" y="0"/>
                    </a:lnTo>
                    <a:lnTo>
                      <a:pt x="104" y="460"/>
                    </a:lnTo>
                    <a:lnTo>
                      <a:pt x="0" y="49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54320" y="5149440"/>
                <a:ext cx="221040" cy="717480"/>
              </a:xfrm>
              <a:custGeom>
                <a:avLst/>
                <a:gdLst/>
                <a:ahLst/>
                <a:rect l="l" t="t" r="r" b="b"/>
                <a:pathLst>
                  <a:path w="166" h="513">
                    <a:moveTo>
                      <a:pt x="0" y="0"/>
                    </a:moveTo>
                    <a:lnTo>
                      <a:pt x="165" y="0"/>
                    </a:lnTo>
                    <a:lnTo>
                      <a:pt x="165" y="495"/>
                    </a:lnTo>
                    <a:lnTo>
                      <a:pt x="0" y="5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55760" y="5149440"/>
                <a:ext cx="223560" cy="723240"/>
              </a:xfrm>
              <a:custGeom>
                <a:avLst/>
                <a:gdLst/>
                <a:ahLst/>
                <a:rect l="l" t="t" r="r" b="b"/>
                <a:pathLst>
                  <a:path w="168" h="517">
                    <a:moveTo>
                      <a:pt x="167" y="0"/>
                    </a:move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499"/>
                    </a:lnTo>
                    <a:lnTo>
                      <a:pt x="0" y="5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593120" y="5149440"/>
                <a:ext cx="59760" cy="717480"/>
              </a:xfrm>
              <a:custGeom>
                <a:avLst/>
                <a:gdLst/>
                <a:ahLst/>
                <a:rect l="l" t="t" r="r" b="b"/>
                <a:pathLst>
                  <a:path w="45" h="513">
                    <a:moveTo>
                      <a:pt x="44" y="0"/>
                    </a:moveTo>
                    <a:lnTo>
                      <a:pt x="0" y="9"/>
                    </a:lnTo>
                    <a:lnTo>
                      <a:pt x="0" y="464"/>
                    </a:lnTo>
                    <a:lnTo>
                      <a:pt x="44" y="512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594560" y="5149440"/>
                <a:ext cx="62280" cy="723240"/>
              </a:xfrm>
              <a:custGeom>
                <a:avLst/>
                <a:gdLst/>
                <a:ahLst/>
                <a:rect l="l" t="t" r="r" b="b"/>
                <a:pathLst>
                  <a:path w="47" h="517">
                    <a:moveTo>
                      <a:pt x="0" y="9"/>
                    </a:move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  <a:lnTo>
                      <a:pt x="0" y="9"/>
                    </a:lnTo>
                    <a:lnTo>
                      <a:pt x="0" y="467"/>
                    </a:lnTo>
                    <a:lnTo>
                      <a:pt x="46" y="516"/>
                    </a:ln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50480" y="5254560"/>
                <a:ext cx="90360" cy="542520"/>
              </a:xfrm>
              <a:custGeom>
                <a:avLst/>
                <a:gdLst/>
                <a:ahLst/>
                <a:rect l="l" t="t" r="r" b="b"/>
                <a:pathLst>
                  <a:path w="68" h="388">
                    <a:moveTo>
                      <a:pt x="0" y="0"/>
                    </a:moveTo>
                    <a:lnTo>
                      <a:pt x="67" y="0"/>
                    </a:lnTo>
                    <a:lnTo>
                      <a:pt x="67" y="387"/>
                    </a:lnTo>
                    <a:lnTo>
                      <a:pt x="0" y="3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49400" y="5253120"/>
                <a:ext cx="92880" cy="546840"/>
              </a:xfrm>
              <a:custGeom>
                <a:avLst/>
                <a:gdLst/>
                <a:ahLst/>
                <a:rect l="l" t="t" r="r" b="b"/>
                <a:pathLst>
                  <a:path w="70" h="391">
                    <a:moveTo>
                      <a:pt x="69" y="0"/>
                    </a:moveTo>
                    <a:lnTo>
                      <a:pt x="69" y="390"/>
                    </a:lnTo>
                    <a:lnTo>
                      <a:pt x="0" y="383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390"/>
                    </a:lnTo>
                    <a:lnTo>
                      <a:pt x="0" y="38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30880" y="5253120"/>
                <a:ext cx="106560" cy="576000"/>
              </a:xfrm>
              <a:custGeom>
                <a:avLst/>
                <a:gdLst/>
                <a:ahLst/>
                <a:rect l="l" t="t" r="r" b="b"/>
                <a:pathLst>
                  <a:path w="80" h="412">
                    <a:moveTo>
                      <a:pt x="0" y="0"/>
                    </a:moveTo>
                    <a:lnTo>
                      <a:pt x="79" y="0"/>
                    </a:lnTo>
                    <a:lnTo>
                      <a:pt x="79" y="411"/>
                    </a:lnTo>
                    <a:lnTo>
                      <a:pt x="0" y="3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32320" y="5254560"/>
                <a:ext cx="108720" cy="579240"/>
              </a:xfrm>
              <a:custGeom>
                <a:avLst/>
                <a:gdLst/>
                <a:ahLst/>
                <a:rect l="l" t="t" r="r" b="b"/>
                <a:pathLst>
                  <a:path w="82" h="414">
                    <a:moveTo>
                      <a:pt x="81" y="0"/>
                    </a:move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13"/>
                    </a:lnTo>
                    <a:lnTo>
                      <a:pt x="0" y="39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39960" y="5253120"/>
                <a:ext cx="88920" cy="576000"/>
              </a:xfrm>
              <a:custGeom>
                <a:avLst/>
                <a:gdLst/>
                <a:ahLst/>
                <a:rect l="l" t="t" r="r" b="b"/>
                <a:pathLst>
                  <a:path w="67" h="412">
                    <a:moveTo>
                      <a:pt x="0" y="0"/>
                    </a:moveTo>
                    <a:lnTo>
                      <a:pt x="64" y="0"/>
                    </a:lnTo>
                    <a:lnTo>
                      <a:pt x="66" y="390"/>
                    </a:lnTo>
                    <a:lnTo>
                      <a:pt x="0" y="4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239960" y="5254560"/>
                <a:ext cx="91800" cy="579240"/>
              </a:xfrm>
              <a:custGeom>
                <a:avLst/>
                <a:gdLst/>
                <a:ahLst/>
                <a:rect l="l" t="t" r="r" b="b"/>
                <a:pathLst>
                  <a:path w="69" h="414">
                    <a:moveTo>
                      <a:pt x="66" y="0"/>
                    </a:move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8" y="392"/>
                    </a:lnTo>
                    <a:lnTo>
                      <a:pt x="0" y="4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013960" y="5236200"/>
                <a:ext cx="124920" cy="76680"/>
              </a:xfrm>
              <a:custGeom>
                <a:avLst/>
                <a:gdLst/>
                <a:ahLst/>
                <a:rect l="l" t="t" r="r" b="b"/>
                <a:pathLst>
                  <a:path w="94" h="55">
                    <a:moveTo>
                      <a:pt x="0" y="2"/>
                    </a:moveTo>
                    <a:lnTo>
                      <a:pt x="93" y="0"/>
                    </a:lnTo>
                    <a:lnTo>
                      <a:pt x="93" y="47"/>
                    </a:lnTo>
                    <a:lnTo>
                      <a:pt x="0" y="54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013960" y="5236200"/>
                <a:ext cx="127440" cy="8244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5" y="0"/>
                    </a:move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  <a:lnTo>
                      <a:pt x="95" y="0"/>
                    </a:lnTo>
                    <a:lnTo>
                      <a:pt x="95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013960" y="5335560"/>
                <a:ext cx="124920" cy="86400"/>
              </a:xfrm>
              <a:custGeom>
                <a:avLst/>
                <a:gdLst/>
                <a:ahLst/>
                <a:rect l="l" t="t" r="r" b="b"/>
                <a:pathLst>
                  <a:path w="94" h="62">
                    <a:moveTo>
                      <a:pt x="0" y="7"/>
                    </a:moveTo>
                    <a:lnTo>
                      <a:pt x="93" y="0"/>
                    </a:lnTo>
                    <a:lnTo>
                      <a:pt x="93" y="52"/>
                    </a:lnTo>
                    <a:lnTo>
                      <a:pt x="0" y="61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013960" y="5334120"/>
                <a:ext cx="127440" cy="8964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95" y="0"/>
                    </a:move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013960" y="5334120"/>
                <a:ext cx="127440" cy="8964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7"/>
                    </a:moveTo>
                    <a:lnTo>
                      <a:pt x="95" y="0"/>
                    </a:lnTo>
                    <a:lnTo>
                      <a:pt x="95" y="53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13960" y="5439240"/>
                <a:ext cx="124920" cy="90720"/>
              </a:xfrm>
              <a:custGeom>
                <a:avLst/>
                <a:gdLst/>
                <a:ahLst/>
                <a:rect l="l" t="t" r="r" b="b"/>
                <a:pathLst>
                  <a:path w="94" h="65">
                    <a:moveTo>
                      <a:pt x="0" y="14"/>
                    </a:moveTo>
                    <a:lnTo>
                      <a:pt x="93" y="0"/>
                    </a:lnTo>
                    <a:lnTo>
                      <a:pt x="93" y="45"/>
                    </a:lnTo>
                    <a:lnTo>
                      <a:pt x="0" y="6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013960" y="5440680"/>
                <a:ext cx="127440" cy="9468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5" y="0"/>
                    </a:move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  <a:lnTo>
                      <a:pt x="95" y="0"/>
                    </a:lnTo>
                    <a:lnTo>
                      <a:pt x="95" y="48"/>
                    </a:lnTo>
                    <a:lnTo>
                      <a:pt x="0" y="67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13960" y="5535360"/>
                <a:ext cx="124920" cy="109080"/>
              </a:xfrm>
              <a:custGeom>
                <a:avLst/>
                <a:gdLst/>
                <a:ahLst/>
                <a:rect l="l" t="t" r="r" b="b"/>
                <a:pathLst>
                  <a:path w="94" h="78">
                    <a:moveTo>
                      <a:pt x="0" y="18"/>
                    </a:moveTo>
                    <a:lnTo>
                      <a:pt x="93" y="0"/>
                    </a:lnTo>
                    <a:lnTo>
                      <a:pt x="93" y="50"/>
                    </a:lnTo>
                    <a:lnTo>
                      <a:pt x="0" y="77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013960" y="5535360"/>
                <a:ext cx="127440" cy="11340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95" y="0"/>
                    </a:move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  <a:lnTo>
                      <a:pt x="95" y="0"/>
                    </a:lnTo>
                    <a:lnTo>
                      <a:pt x="95" y="53"/>
                    </a:lnTo>
                    <a:lnTo>
                      <a:pt x="0" y="8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013960" y="522936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013960" y="522936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013960" y="5244480"/>
                <a:ext cx="127440" cy="165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013960" y="5244480"/>
                <a:ext cx="127440" cy="16560"/>
              </a:xfrm>
              <a:custGeom>
                <a:avLst/>
                <a:gdLst/>
                <a:ahLst/>
                <a:rect l="l" t="t" r="r" b="b"/>
                <a:pathLst>
                  <a:path w="96" h="12">
                    <a:moveTo>
                      <a:pt x="9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13960" y="525564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13960" y="525564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13960" y="527004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13960" y="527004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013960" y="52812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013960" y="52812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013960" y="52938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013960" y="52938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9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013960" y="530892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13960" y="530892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013960" y="53316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13960" y="5331600"/>
                <a:ext cx="127440" cy="18000"/>
              </a:xfrm>
              <a:custGeom>
                <a:avLst/>
                <a:gdLst/>
                <a:ahLst/>
                <a:rect l="l" t="t" r="r" b="b"/>
                <a:pathLst>
                  <a:path w="96" h="13">
                    <a:moveTo>
                      <a:pt x="0" y="12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13960" y="534564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013960" y="534564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013960" y="535932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13960" y="535932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3960" y="537336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3960" y="5373360"/>
                <a:ext cx="124920" cy="1800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013960" y="538596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013960" y="538596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9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13960" y="5395680"/>
                <a:ext cx="124920" cy="1836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13960" y="5395680"/>
                <a:ext cx="124920" cy="18360"/>
              </a:xfrm>
              <a:custGeom>
                <a:avLst/>
                <a:gdLst/>
                <a:ahLst/>
                <a:rect l="l" t="t" r="r" b="b"/>
                <a:pathLst>
                  <a:path w="94" h="13">
                    <a:moveTo>
                      <a:pt x="9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013960" y="540972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013960" y="5409720"/>
                <a:ext cx="124920" cy="16200"/>
              </a:xfrm>
              <a:custGeom>
                <a:avLst/>
                <a:gdLst/>
                <a:ahLst/>
                <a:rect l="l" t="t" r="r" b="b"/>
                <a:pathLst>
                  <a:path w="94" h="12">
                    <a:moveTo>
                      <a:pt x="0" y="11"/>
                    </a:moveTo>
                    <a:lnTo>
                      <a:pt x="9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013960" y="5436360"/>
                <a:ext cx="127440" cy="2088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013960" y="5436360"/>
                <a:ext cx="127440" cy="20880"/>
              </a:xfrm>
              <a:custGeom>
                <a:avLst/>
                <a:gdLst/>
                <a:ahLst/>
                <a:rect l="l" t="t" r="r" b="b"/>
                <a:pathLst>
                  <a:path w="96" h="15">
                    <a:moveTo>
                      <a:pt x="0" y="14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013960" y="5450040"/>
                <a:ext cx="127440" cy="2232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13960" y="5450040"/>
                <a:ext cx="127440" cy="22320"/>
              </a:xfrm>
              <a:custGeom>
                <a:avLst/>
                <a:gdLst/>
                <a:ahLst/>
                <a:rect l="l" t="t" r="r" b="b"/>
                <a:pathLst>
                  <a:path w="96" h="16">
                    <a:moveTo>
                      <a:pt x="95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013960" y="546408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013960" y="5464080"/>
                <a:ext cx="127440" cy="19440"/>
              </a:xfrm>
              <a:custGeom>
                <a:avLst/>
                <a:gdLst/>
                <a:ahLst/>
                <a:rect l="l" t="t" r="r" b="b"/>
                <a:pathLst>
                  <a:path w="96" h="14">
                    <a:moveTo>
                      <a:pt x="9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013960" y="547272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013960" y="547272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13960" y="548676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013960" y="548676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013960" y="5497920"/>
                <a:ext cx="127440" cy="28080"/>
              </a:xfrm>
              <a:custGeom>
                <a:avLst/>
                <a:gdLst/>
                <a:ahLst/>
                <a:rect l="l" t="t" r="r" b="b"/>
                <a:pathLst>
                  <a:path w="96" h="20">
                    <a:moveTo>
                      <a:pt x="95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013960" y="5502240"/>
                <a:ext cx="127440" cy="248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5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013960" y="552996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013960" y="552996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0" y="21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013960" y="5545440"/>
                <a:ext cx="127440" cy="2664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013960" y="5545440"/>
                <a:ext cx="127440" cy="26640"/>
              </a:xfrm>
              <a:custGeom>
                <a:avLst/>
                <a:gdLst/>
                <a:ahLst/>
                <a:rect l="l" t="t" r="r" b="b"/>
                <a:pathLst>
                  <a:path w="96" h="19">
                    <a:moveTo>
                      <a:pt x="95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013960" y="5558040"/>
                <a:ext cx="127440" cy="320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013960" y="5558040"/>
                <a:ext cx="127440" cy="320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0"/>
                    </a:moveTo>
                    <a:lnTo>
                      <a:pt x="0" y="2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013960" y="557208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013960" y="557208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013960" y="558612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13960" y="5586120"/>
                <a:ext cx="127440" cy="3060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0"/>
                    </a:moveTo>
                    <a:lnTo>
                      <a:pt x="0" y="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8013960" y="559872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013960" y="5598720"/>
                <a:ext cx="127440" cy="36000"/>
              </a:xfrm>
              <a:custGeom>
                <a:avLst/>
                <a:gdLst/>
                <a:ahLst/>
                <a:rect l="l" t="t" r="r" b="b"/>
                <a:pathLst>
                  <a:path w="96" h="26">
                    <a:moveTo>
                      <a:pt x="95" y="0"/>
                    </a:moveTo>
                    <a:lnTo>
                      <a:pt x="0" y="2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013960" y="5608440"/>
                <a:ext cx="127440" cy="3888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013960" y="5608440"/>
                <a:ext cx="127440" cy="38880"/>
              </a:xfrm>
              <a:custGeom>
                <a:avLst/>
                <a:gdLst/>
                <a:ahLst/>
                <a:rect l="l" t="t" r="r" b="b"/>
                <a:pathLst>
                  <a:path w="96" h="28">
                    <a:moveTo>
                      <a:pt x="0" y="27"/>
                    </a:move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54320" y="5237640"/>
                <a:ext cx="203760" cy="86760"/>
              </a:xfrm>
              <a:custGeom>
                <a:avLst/>
                <a:gdLst/>
                <a:ahLst/>
                <a:rect l="l" t="t" r="r" b="b"/>
                <a:pathLst>
                  <a:path w="153" h="62">
                    <a:moveTo>
                      <a:pt x="0" y="0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54320" y="5237640"/>
                <a:ext cx="207720" cy="89280"/>
              </a:xfrm>
              <a:custGeom>
                <a:avLst/>
                <a:gdLst/>
                <a:ahLst/>
                <a:rect l="l" t="t" r="r" b="b"/>
                <a:pathLst>
                  <a:path w="156" h="64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58280" y="5352480"/>
                <a:ext cx="199440" cy="82440"/>
              </a:xfrm>
              <a:custGeom>
                <a:avLst/>
                <a:gdLst/>
                <a:ahLst/>
                <a:rect l="l" t="t" r="r" b="b"/>
                <a:pathLst>
                  <a:path w="150" h="59">
                    <a:moveTo>
                      <a:pt x="0" y="2"/>
                    </a:moveTo>
                    <a:lnTo>
                      <a:pt x="149" y="0"/>
                    </a:lnTo>
                    <a:lnTo>
                      <a:pt x="149" y="54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56840" y="5352480"/>
                <a:ext cx="204840" cy="8532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53" y="0"/>
                    </a:move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153" y="0"/>
                    </a:lnTo>
                    <a:lnTo>
                      <a:pt x="153" y="56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54320" y="5460120"/>
                <a:ext cx="203760" cy="8928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0" y="7"/>
                    </a:moveTo>
                    <a:lnTo>
                      <a:pt x="152" y="0"/>
                    </a:lnTo>
                    <a:lnTo>
                      <a:pt x="152" y="59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54320" y="5461560"/>
                <a:ext cx="207720" cy="9216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55" y="0"/>
                    </a:move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155" y="0"/>
                    </a:lnTo>
                    <a:lnTo>
                      <a:pt x="155" y="61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54320" y="5573160"/>
                <a:ext cx="203760" cy="97920"/>
              </a:xfrm>
              <a:custGeom>
                <a:avLst/>
                <a:gdLst/>
                <a:ahLst/>
                <a:rect l="l" t="t" r="r" b="b"/>
                <a:pathLst>
                  <a:path w="153" h="70">
                    <a:moveTo>
                      <a:pt x="0" y="9"/>
                    </a:moveTo>
                    <a:lnTo>
                      <a:pt x="152" y="0"/>
                    </a:lnTo>
                    <a:lnTo>
                      <a:pt x="152" y="58"/>
                    </a:lnTo>
                    <a:lnTo>
                      <a:pt x="0" y="6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54320" y="5572080"/>
                <a:ext cx="207720" cy="101880"/>
              </a:xfrm>
              <a:custGeom>
                <a:avLst/>
                <a:gdLst/>
                <a:ahLst/>
                <a:rect l="l" t="t" r="r" b="b"/>
                <a:pathLst>
                  <a:path w="156" h="73">
                    <a:moveTo>
                      <a:pt x="155" y="0"/>
                    </a:move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  <a:lnTo>
                      <a:pt x="155" y="0"/>
                    </a:lnTo>
                    <a:lnTo>
                      <a:pt x="155" y="60"/>
                    </a:lnTo>
                    <a:lnTo>
                      <a:pt x="0" y="72"/>
                    </a:lnTo>
                    <a:lnTo>
                      <a:pt x="0" y="9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54320" y="52347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54320" y="52347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54320" y="525168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54320" y="5265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54320" y="5265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54320" y="531036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654320" y="53481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63680" y="53564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674480" y="5335560"/>
                <a:ext cx="167400" cy="3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654320" y="5364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54320" y="53647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654320" y="53776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654320" y="53776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654320" y="53913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654320" y="539136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54320" y="540540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654320" y="540540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654320" y="541944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654320" y="541944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654320" y="54601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54320" y="5460120"/>
                <a:ext cx="207720" cy="1836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54320" y="5472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54320" y="5472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654320" y="54867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654320" y="54867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54320" y="5503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54320" y="5517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54320" y="5517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54320" y="55299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54320" y="55299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54320" y="557064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654320" y="557064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0" y="13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54320" y="558468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654320" y="5584680"/>
                <a:ext cx="207720" cy="1908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654320" y="5598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654320" y="55987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54320" y="5611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54320" y="561132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54320" y="56278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654320" y="5627880"/>
                <a:ext cx="207720" cy="19440"/>
              </a:xfrm>
              <a:custGeom>
                <a:avLst/>
                <a:gdLst/>
                <a:ahLst/>
                <a:rect l="l" t="t" r="r" b="b"/>
                <a:pathLst>
                  <a:path w="156" h="14">
                    <a:moveTo>
                      <a:pt x="155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654320" y="5643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54320" y="564336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155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54320" y="565740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654320" y="5657400"/>
                <a:ext cx="207720" cy="18000"/>
              </a:xfrm>
              <a:custGeom>
                <a:avLst/>
                <a:gdLst/>
                <a:ahLst/>
                <a:rect l="l" t="t" r="r" b="b"/>
                <a:pathLst>
                  <a:path w="156" h="13">
                    <a:moveTo>
                      <a:pt x="0" y="12"/>
                    </a:moveTo>
                    <a:lnTo>
                      <a:pt x="15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656840" y="5217840"/>
                <a:ext cx="20484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56840" y="5217840"/>
                <a:ext cx="204840" cy="1440"/>
              </a:xfrm>
              <a:custGeom>
                <a:avLst/>
                <a:gdLst/>
                <a:ahLst/>
                <a:rect l="l" t="t" r="r" b="b"/>
                <a:pathLst>
                  <a:path w="154" h="1">
                    <a:moveTo>
                      <a:pt x="0" y="0"/>
                    </a:moveTo>
                    <a:lnTo>
                      <a:pt x="153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16840" y="521244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16840" y="5212440"/>
                <a:ext cx="126360" cy="18000"/>
              </a:xfrm>
              <a:custGeom>
                <a:avLst/>
                <a:gdLst/>
                <a:ahLst/>
                <a:rect l="l" t="t" r="r" b="b"/>
                <a:pathLst>
                  <a:path w="95" h="13">
                    <a:moveTo>
                      <a:pt x="0" y="12"/>
                    </a:moveTo>
                    <a:lnTo>
                      <a:pt x="94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237440" y="5339880"/>
                <a:ext cx="79920" cy="8244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2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58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239960" y="5342760"/>
                <a:ext cx="83880" cy="8532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2" y="0"/>
                    </a:move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237440" y="5439240"/>
                <a:ext cx="79920" cy="892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6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239960" y="5443200"/>
                <a:ext cx="83880" cy="921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8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237440" y="5546880"/>
                <a:ext cx="79920" cy="892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7"/>
                    </a:moveTo>
                    <a:lnTo>
                      <a:pt x="59" y="0"/>
                    </a:lnTo>
                    <a:lnTo>
                      <a:pt x="59" y="51"/>
                    </a:lnTo>
                    <a:lnTo>
                      <a:pt x="0" y="63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239960" y="5552280"/>
                <a:ext cx="83880" cy="92160"/>
              </a:xfrm>
              <a:custGeom>
                <a:avLst/>
                <a:gdLst/>
                <a:ahLst/>
                <a:rect l="l" t="t" r="r" b="b"/>
                <a:pathLst>
                  <a:path w="63" h="66">
                    <a:moveTo>
                      <a:pt x="62" y="0"/>
                    </a:move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  <a:lnTo>
                      <a:pt x="62" y="0"/>
                    </a:lnTo>
                    <a:lnTo>
                      <a:pt x="62" y="53"/>
                    </a:lnTo>
                    <a:lnTo>
                      <a:pt x="0" y="65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237440" y="5647680"/>
                <a:ext cx="83880" cy="10188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0" y="16"/>
                    </a:moveTo>
                    <a:lnTo>
                      <a:pt x="62" y="0"/>
                    </a:lnTo>
                    <a:lnTo>
                      <a:pt x="62" y="56"/>
                    </a:lnTo>
                    <a:lnTo>
                      <a:pt x="0" y="7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39960" y="5650200"/>
                <a:ext cx="86400" cy="10476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4" y="0"/>
                    </a:move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  <a:lnTo>
                      <a:pt x="64" y="0"/>
                    </a:lnTo>
                    <a:lnTo>
                      <a:pt x="64" y="57"/>
                    </a:lnTo>
                    <a:lnTo>
                      <a:pt x="0" y="74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237440" y="53341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37440" y="533412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13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237440" y="535248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237440" y="535248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237440" y="53647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37440" y="53647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37440" y="537768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37440" y="537768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237440" y="539136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237440" y="5391360"/>
                <a:ext cx="84960" cy="1944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63" y="0"/>
                    </a:move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37440" y="540540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37440" y="540540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237440" y="541944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237440" y="541944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237440" y="543924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37440" y="5439240"/>
                <a:ext cx="84960" cy="1800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0" y="12"/>
                    </a:moveTo>
                    <a:lnTo>
                      <a:pt x="6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237440" y="54529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37440" y="545292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237440" y="5468760"/>
                <a:ext cx="84960" cy="1656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7440" y="5468760"/>
                <a:ext cx="84960" cy="16560"/>
              </a:xfrm>
              <a:custGeom>
                <a:avLst/>
                <a:gdLst/>
                <a:ahLst/>
                <a:rect l="l" t="t" r="r" b="b"/>
                <a:pathLst>
                  <a:path w="64" h="12">
                    <a:moveTo>
                      <a:pt x="63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237440" y="548388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237440" y="5483880"/>
                <a:ext cx="84960" cy="18360"/>
              </a:xfrm>
              <a:custGeom>
                <a:avLst/>
                <a:gdLst/>
                <a:ahLst/>
                <a:rect l="l" t="t" r="r" b="b"/>
                <a:pathLst>
                  <a:path w="64" h="13">
                    <a:moveTo>
                      <a:pt x="63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237440" y="549648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37440" y="549648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224840" y="5520240"/>
                <a:ext cx="111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237440" y="551052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62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237440" y="552456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237440" y="5524560"/>
                <a:ext cx="83880" cy="18000"/>
              </a:xfrm>
              <a:custGeom>
                <a:avLst/>
                <a:gdLst/>
                <a:ahLst/>
                <a:rect l="l" t="t" r="r" b="b"/>
                <a:pathLst>
                  <a:path w="63" h="13">
                    <a:moveTo>
                      <a:pt x="0" y="12"/>
                    </a:moveTo>
                    <a:lnTo>
                      <a:pt x="6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37440" y="554688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237440" y="554688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12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237440" y="556092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37440" y="556092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237440" y="557604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237440" y="557604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237440" y="559008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37440" y="5590080"/>
                <a:ext cx="89280" cy="16560"/>
              </a:xfrm>
              <a:custGeom>
                <a:avLst/>
                <a:gdLst/>
                <a:ahLst/>
                <a:rect l="l" t="t" r="r" b="b"/>
                <a:pathLst>
                  <a:path w="67" h="12">
                    <a:moveTo>
                      <a:pt x="66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237440" y="560160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237440" y="5601600"/>
                <a:ext cx="89280" cy="1800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66" y="0"/>
                    </a:move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237440" y="5616720"/>
                <a:ext cx="89280" cy="2088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37440" y="5616720"/>
                <a:ext cx="89280" cy="20880"/>
              </a:xfrm>
              <a:custGeom>
                <a:avLst/>
                <a:gdLst/>
                <a:ahLst/>
                <a:rect l="l" t="t" r="r" b="b"/>
                <a:pathLst>
                  <a:path w="67" h="15">
                    <a:moveTo>
                      <a:pt x="66" y="0"/>
                    </a:move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237440" y="562932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237440" y="562932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15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237440" y="56476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237440" y="56476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0" y="16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237440" y="566316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37440" y="5663160"/>
                <a:ext cx="89280" cy="2196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66" y="0"/>
                    </a:move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237440" y="5675400"/>
                <a:ext cx="89280" cy="2520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37440" y="5675400"/>
                <a:ext cx="89280" cy="25200"/>
              </a:xfrm>
              <a:custGeom>
                <a:avLst/>
                <a:gdLst/>
                <a:ahLst/>
                <a:rect l="l" t="t" r="r" b="b"/>
                <a:pathLst>
                  <a:path w="67" h="18">
                    <a:moveTo>
                      <a:pt x="66" y="0"/>
                    </a:moveTo>
                    <a:lnTo>
                      <a:pt x="0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237440" y="56908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237440" y="5690880"/>
                <a:ext cx="89280" cy="23760"/>
              </a:xfrm>
              <a:custGeom>
                <a:avLst/>
                <a:gdLst/>
                <a:ahLst/>
                <a:rect l="l" t="t" r="r" b="b"/>
                <a:pathLst>
                  <a:path w="67" h="17">
                    <a:moveTo>
                      <a:pt x="66" y="0"/>
                    </a:move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237440" y="570348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237440" y="5703480"/>
                <a:ext cx="89280" cy="2628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66" y="0"/>
                    </a:move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237440" y="5717520"/>
                <a:ext cx="89280" cy="27720"/>
              </a:xfrm>
              <a:custGeom>
                <a:avLst/>
                <a:gdLst/>
                <a:ahLst/>
                <a:rect l="l" t="t" r="r" b="b"/>
                <a:pathLst>
                  <a:path w="67" h="20">
                    <a:moveTo>
                      <a:pt x="66" y="0"/>
                    </a:move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34640" y="571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224840" y="5731560"/>
                <a:ext cx="117000" cy="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237440" y="5731560"/>
                <a:ext cx="89280" cy="2664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237440" y="5731560"/>
                <a:ext cx="89280" cy="26640"/>
              </a:xfrm>
              <a:custGeom>
                <a:avLst/>
                <a:gdLst/>
                <a:ahLst/>
                <a:rect l="l" t="t" r="r" b="b"/>
                <a:pathLst>
                  <a:path w="67" h="19">
                    <a:moveTo>
                      <a:pt x="0" y="18"/>
                    </a:move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239960" y="5316120"/>
                <a:ext cx="79920" cy="1800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239960" y="5316120"/>
                <a:ext cx="79920" cy="18000"/>
              </a:xfrm>
              <a:custGeom>
                <a:avLst/>
                <a:gdLst/>
                <a:ahLst/>
                <a:rect l="l" t="t" r="r" b="b"/>
                <a:pathLst>
                  <a:path w="60" h="13">
                    <a:moveTo>
                      <a:pt x="0" y="12"/>
                    </a:move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d900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62720" y="5285160"/>
                <a:ext cx="66240" cy="1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362720" y="5329800"/>
                <a:ext cx="66240" cy="345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73160" y="5500800"/>
                <a:ext cx="39600" cy="30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73160" y="5552280"/>
                <a:ext cx="35640" cy="23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377120" y="5504760"/>
                <a:ext cx="37440" cy="2664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377120" y="5552280"/>
                <a:ext cx="35640" cy="2664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49400" y="5254560"/>
                <a:ext cx="92880" cy="54972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349400" y="5254560"/>
                <a:ext cx="92880" cy="549720"/>
              </a:xfrm>
              <a:custGeom>
                <a:avLst/>
                <a:gdLst/>
                <a:ahLst/>
                <a:rect l="l" t="t" r="r" b="b"/>
                <a:pathLst>
                  <a:path w="70" h="393">
                    <a:moveTo>
                      <a:pt x="69" y="0"/>
                    </a:moveTo>
                    <a:lnTo>
                      <a:pt x="69" y="392"/>
                    </a:lnTo>
                    <a:lnTo>
                      <a:pt x="0" y="38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349400" y="5254560"/>
                <a:ext cx="92880" cy="535680"/>
              </a:xfrm>
              <a:custGeom>
                <a:avLst/>
                <a:gdLst/>
                <a:ahLst/>
                <a:rect l="l" t="t" r="r" b="b"/>
                <a:pathLst>
                  <a:path w="70" h="383">
                    <a:moveTo>
                      <a:pt x="0" y="382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349400" y="5253120"/>
                <a:ext cx="92880" cy="539640"/>
              </a:xfrm>
              <a:custGeom>
                <a:avLst/>
                <a:gdLst/>
                <a:ahLst/>
                <a:rect l="l" t="t" r="r" b="b"/>
                <a:pathLst>
                  <a:path w="70" h="386">
                    <a:moveTo>
                      <a:pt x="0" y="385"/>
                    </a:moveTo>
                    <a:lnTo>
                      <a:pt x="0" y="0"/>
                    </a:lnTo>
                    <a:lnTo>
                      <a:pt x="69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952760" y="5044680"/>
                <a:ext cx="107640" cy="8640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967520" y="5057280"/>
                <a:ext cx="79560" cy="65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91760" y="5041800"/>
                <a:ext cx="107640" cy="86400"/>
              </a:xfrm>
              <a:prstGeom prst="rect">
                <a:avLst/>
              </a:prstGeom>
              <a:solidFill>
                <a:srgbClr val="d9d9d9"/>
              </a:solidFill>
              <a:ln w="1260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706160" y="5051880"/>
                <a:ext cx="78840" cy="66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54320" y="5282280"/>
                <a:ext cx="207720" cy="1656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54320" y="5299200"/>
                <a:ext cx="207720" cy="16560"/>
              </a:xfrm>
              <a:custGeom>
                <a:avLst/>
                <a:gdLst/>
                <a:ahLst/>
                <a:rect l="l" t="t" r="r" b="b"/>
                <a:pathLst>
                  <a:path w="156" h="12">
                    <a:moveTo>
                      <a:pt x="155" y="0"/>
                    </a:move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77" name="" descr=""/>
            <p:cNvPicPr/>
            <p:nvPr/>
          </p:nvPicPr>
          <p:blipFill>
            <a:blip r:embed="rId21"/>
            <a:stretch/>
          </p:blipFill>
          <p:spPr>
            <a:xfrm>
              <a:off x="5596920" y="2122200"/>
              <a:ext cx="124452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5213160" y="2122200"/>
              <a:ext cx="704160" cy="46980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5225040" y="4462200"/>
              <a:ext cx="551160" cy="355320"/>
            </a:xfrm>
            <a:prstGeom prst="line">
              <a:avLst/>
            </a:prstGeom>
            <a:ln w="12600">
              <a:solidFill>
                <a:srgbClr val="ff5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7386840" y="1987560"/>
              <a:ext cx="756360" cy="429480"/>
              <a:chOff x="7386840" y="1987560"/>
              <a:chExt cx="756360" cy="429480"/>
            </a:xfrm>
          </p:grpSpPr>
          <p:sp>
            <p:nvSpPr>
              <p:cNvPr id="881" name=""/>
              <p:cNvSpPr/>
              <p:nvPr/>
            </p:nvSpPr>
            <p:spPr>
              <a:xfrm>
                <a:off x="7386840" y="1987560"/>
                <a:ext cx="756360" cy="42948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95636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84872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4072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63308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25440" y="2120400"/>
                <a:ext cx="7164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417080" y="2120400"/>
                <a:ext cx="72000" cy="2642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7514280" y="2122200"/>
              <a:ext cx="756360" cy="429120"/>
              <a:chOff x="7514280" y="2122200"/>
              <a:chExt cx="756360" cy="429120"/>
            </a:xfrm>
          </p:grpSpPr>
          <p:sp>
            <p:nvSpPr>
              <p:cNvPr id="889" name=""/>
              <p:cNvSpPr/>
              <p:nvPr/>
            </p:nvSpPr>
            <p:spPr>
              <a:xfrm>
                <a:off x="7514280" y="2122200"/>
                <a:ext cx="756360" cy="429120"/>
              </a:xfrm>
              <a:prstGeom prst="cube">
                <a:avLst>
                  <a:gd name="adj" fmla="val 21578"/>
                </a:avLst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08416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97652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6816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76052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5288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544880" y="2255040"/>
                <a:ext cx="71640" cy="263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6" name=""/>
          <p:cNvSpPr/>
          <p:nvPr/>
        </p:nvSpPr>
        <p:spPr>
          <a:xfrm flipH="1">
            <a:off x="6257520" y="2075040"/>
            <a:ext cx="833400" cy="5396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232680" y="2787480"/>
            <a:ext cx="0" cy="4543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208560" y="3411360"/>
            <a:ext cx="0" cy="9115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361200" y="4383000"/>
            <a:ext cx="689040" cy="7714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6365880" y="3268440"/>
            <a:ext cx="861840" cy="1260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52880" y="2590920"/>
            <a:ext cx="12182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BACKUP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784680" y="576576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N Defin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41440" y="1371600"/>
            <a:ext cx="839952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aths to each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-to-any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Addr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ructure using industry standard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ode dependencies, (can function even if one or more nodes are inoper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large block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 and 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up with no performance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334280" y="5815080"/>
            <a:ext cx="1498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UN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/Server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31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to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switching decouples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modules with well-defin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requests service; server provid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exchanged only through real-tim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lobal variables, no common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may become a client to a differ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1720" y="4284720"/>
            <a:ext cx="4192560" cy="1542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283440" y="5840280"/>
            <a:ext cx="2690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ETWORK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ffing for Web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program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architects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alance business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&amp; information archit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business objec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architects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technology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architects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siness modeling across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developers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from prefabricate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developers       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distribute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interface experts                    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uild user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22160" y="112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Be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le software components containing business logic for manipulation in a visual builder tool (e.g. Borland JBuilder, IBM Visual Age for 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once, run anywhere (W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B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ntrosp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uilder tool can analyze how a Bean works. getBeanInfo(Bean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ustom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veloper can use an app builder tool to customize the appearance and behavior of a B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nables Beans to communicate and connect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roper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operty editors to customize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spcAft>
                <a:spcPts val="499"/>
              </a:spcAft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Persis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velopers can customize Beans, store and retrieve them, with customized features intact, for fut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uy and sell Be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I specification for building scalable, distributed, component-based, multi-ti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Beans for server-side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and vendor-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Beans extend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 time (run-time)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rvices not offered by the Java Virtual 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2006640" y="1658880"/>
            <a:ext cx="4686120" cy="289548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6461280" y="582624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84080" y="4014720"/>
            <a:ext cx="1634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RVER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JB CONTAI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197440" y="4873680"/>
            <a:ext cx="2009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ONTAINER HAND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RANSACTION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LIENT CONNE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LIFE CYCLE MG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254920" y="4906800"/>
            <a:ext cx="21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ERPRIS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HANDLE BUSINESS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267080" y="4021200"/>
            <a:ext cx="1140120" cy="8524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94240" y="3483000"/>
            <a:ext cx="1039680" cy="13842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171960" y="3503520"/>
            <a:ext cx="480960" cy="12859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2441160" y="3454560"/>
            <a:ext cx="939960" cy="60624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095560" y="1353960"/>
            <a:ext cx="5200560" cy="435780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165240" y="5780160"/>
            <a:ext cx="253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 MICR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72280" y="3724200"/>
            <a:ext cx="19663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SSION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PERFORMS TASK FOR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1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S NOT PER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86360" y="2273400"/>
            <a:ext cx="23641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ITY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REPRESENTS BUSINESS</a:t>
            </a:r>
            <a:br>
              <a:rPr sz="1200"/>
            </a:b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    ENTIT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HARED BY MANY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IS PER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763960" y="5527800"/>
            <a:ext cx="1338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SSION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5040" y="4721400"/>
            <a:ext cx="1056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ON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44960" y="5332320"/>
            <a:ext cx="868320" cy="44460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848120" y="3691080"/>
            <a:ext cx="1376640" cy="33336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1672920" y="4756320"/>
            <a:ext cx="579240" cy="24588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2612880" y="3100320"/>
            <a:ext cx="998640" cy="97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770440" y="4795920"/>
            <a:ext cx="1788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SERVLET RESP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TO CART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885720" y="1630440"/>
            <a:ext cx="1846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DATABASE S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Arial"/>
              </a:rPr>
              <a:t>ENTITY BEA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51680" y="2155320"/>
            <a:ext cx="324000" cy="52092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775040" y="4989600"/>
            <a:ext cx="992520" cy="210960"/>
          </a:xfrm>
          <a:prstGeom prst="line">
            <a:avLst/>
          </a:prstGeom>
          <a:ln w="1260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JB Vend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0" name=""/>
          <p:cNvGraphicFramePr/>
          <p:nvPr/>
        </p:nvGraphicFramePr>
        <p:xfrm>
          <a:off x="343080" y="1873080"/>
          <a:ext cx="845820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873080"/>
                    <a:ext cx="845820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2" name=""/>
          <p:cNvSpPr/>
          <p:nvPr/>
        </p:nvSpPr>
        <p:spPr>
          <a:xfrm>
            <a:off x="2172600" y="496908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visit 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www.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javasoft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.com/products/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ejb</a:t>
            </a:r>
            <a:r>
              <a:rPr b="0" lang="en-US" sz="16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/tools1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22880" y="5816520"/>
            <a:ext cx="195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ÁD DAR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Server Pages (JS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1940040" y="1797120"/>
            <a:ext cx="4798800" cy="3198600"/>
          </a:xfrm>
          <a:prstGeom prst="rect">
            <a:avLst/>
          </a:prstGeom>
          <a:ln w="0">
            <a:noFill/>
          </a:ln>
        </p:spPr>
      </p:pic>
      <p:sp>
        <p:nvSpPr>
          <p:cNvPr id="956" name=""/>
          <p:cNvSpPr/>
          <p:nvPr/>
        </p:nvSpPr>
        <p:spPr>
          <a:xfrm>
            <a:off x="7624080" y="57610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SP Pag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34560" y="1787400"/>
            <a:ext cx="7648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jsp:use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=“clock” class=“calendar.JspCalenda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li&gt;Day of Month: is &lt;%=clock.getDayOfMonth)_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li&gt;Year: is &lt;%=clock.getYear()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698600" y="580068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66440" y="1528200"/>
            <a:ext cx="1951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ge invokes a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bean from a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(Similar to an appl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117960" y="1932120"/>
            <a:ext cx="1285920" cy="50472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842000" y="4906080"/>
            <a:ext cx="2381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Page invokes methods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he servlet to gene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dynami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V="1">
            <a:off x="6127920" y="4111560"/>
            <a:ext cx="507960" cy="75744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3616200" y="4506480"/>
            <a:ext cx="1175040" cy="4842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5880" y="1042560"/>
            <a:ext cx="1314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Looks like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HTML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184400" y="1542960"/>
            <a:ext cx="422280" cy="2952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Server Pages (JSP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1996920" y="1903320"/>
            <a:ext cx="6188400" cy="3657600"/>
          </a:xfrm>
          <a:prstGeom prst="rect">
            <a:avLst/>
          </a:prstGeom>
          <a:ln w="0">
            <a:noFill/>
          </a:ln>
        </p:spPr>
      </p:pic>
      <p:sp>
        <p:nvSpPr>
          <p:cNvPr id="969" name=""/>
          <p:cNvSpPr/>
          <p:nvPr/>
        </p:nvSpPr>
        <p:spPr>
          <a:xfrm>
            <a:off x="6612120" y="574344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EBREVIEW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12720" y="1627920"/>
            <a:ext cx="33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Platform-independent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of dynamic 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350200" y="1843200"/>
            <a:ext cx="1364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SP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944640" y="2394000"/>
            <a:ext cx="7313400" cy="2195640"/>
          </a:xfrm>
          <a:prstGeom prst="rect">
            <a:avLst/>
          </a:prstGeom>
          <a:ln w="0">
            <a:noFill/>
          </a:ln>
        </p:spPr>
      </p:pic>
      <p:sp>
        <p:nvSpPr>
          <p:cNvPr id="974" name=""/>
          <p:cNvSpPr/>
          <p:nvPr/>
        </p:nvSpPr>
        <p:spPr>
          <a:xfrm>
            <a:off x="6998040" y="578016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J.J. KUS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tier2" descr=""/>
          <p:cNvPicPr/>
          <p:nvPr/>
        </p:nvPicPr>
        <p:blipFill>
          <a:blip r:embed="rId1"/>
          <a:stretch/>
        </p:blipFill>
        <p:spPr>
          <a:xfrm>
            <a:off x="1128600" y="1941480"/>
            <a:ext cx="7031160" cy="288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3880" y="1593000"/>
            <a:ext cx="91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7560" y="1578600"/>
            <a:ext cx="102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90480" y="1890000"/>
            <a:ext cx="2042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processing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6400" y="2201760"/>
            <a:ext cx="247680" cy="4953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1480" y="1859040"/>
            <a:ext cx="544680" cy="322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22320" y="582912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n JSP Archit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749160" y="1643040"/>
            <a:ext cx="4505400" cy="14479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3112920" y="3367080"/>
            <a:ext cx="5143680" cy="2476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7579440" y="5784840"/>
            <a:ext cx="124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User 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ntrol over who accesses system (or where they are f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s, thieves, error-prone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ser-level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must be self-documenting (or not documented at 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help must b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attention s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termined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insey: loyalty based on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n User 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must operate reliably 24/3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“hot-sw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Applica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ver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Development 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antec VisualCaf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Bea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Designer (100+ pre-built Java Be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Class browser, modify hierarch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, incremental debug (source-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with dbAny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-and-drop database connection B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Café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" descr=""/>
          <p:cNvPicPr/>
          <p:nvPr/>
        </p:nvPicPr>
        <p:blipFill>
          <a:blip r:embed="rId2"/>
          <a:stretch/>
        </p:blipFill>
        <p:spPr>
          <a:xfrm>
            <a:off x="6889680" y="1508040"/>
            <a:ext cx="1276560" cy="14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709560" y="1541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-tiered (n-tiered)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Java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719440" y="195588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30600" y="2324160"/>
            <a:ext cx="1735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09880" y="2959200"/>
            <a:ext cx="173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Tahoma"/>
              </a:rPr>
              <a:t>&amp;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e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ier3" descr=""/>
          <p:cNvPicPr/>
          <p:nvPr/>
        </p:nvPicPr>
        <p:blipFill>
          <a:blip r:embed="rId1"/>
          <a:stretch/>
        </p:blipFill>
        <p:spPr>
          <a:xfrm>
            <a:off x="730080" y="1930320"/>
            <a:ext cx="7866360" cy="2708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98200" y="1369080"/>
            <a:ext cx="91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20280" y="1356480"/>
            <a:ext cx="102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22720" y="1332720"/>
            <a:ext cx="1198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TIER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10960" y="1715400"/>
            <a:ext cx="1876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offloads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99"/>
                </a:solidFill>
                <a:latin typeface="Arial"/>
              </a:rPr>
              <a:t>to ti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01760" y="1946160"/>
            <a:ext cx="136440" cy="4572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82960" y="1947960"/>
            <a:ext cx="446040" cy="3096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4600" y="1951200"/>
            <a:ext cx="519120" cy="358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33480" y="584028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-Ti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ntier113" descr=""/>
          <p:cNvPicPr/>
          <p:nvPr/>
        </p:nvPicPr>
        <p:blipFill>
          <a:blip r:embed="rId1"/>
          <a:stretch/>
        </p:blipFill>
        <p:spPr>
          <a:xfrm>
            <a:off x="674640" y="1252440"/>
            <a:ext cx="8012160" cy="4060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211160" y="5816520"/>
            <a:ext cx="1725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FOURN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3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84080" y="137952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laced between a network and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ff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pass through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uthorized traffic is allowed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tself is immune to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611440" y="4257720"/>
            <a:ext cx="2690640" cy="111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65400" y="3963960"/>
            <a:ext cx="1701720" cy="654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1720" y="3676680"/>
            <a:ext cx="2102040" cy="1263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46000" y="3906720"/>
            <a:ext cx="1214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10120" y="3168720"/>
            <a:ext cx="3454560" cy="2120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99680" y="3395520"/>
            <a:ext cx="132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55640" y="311292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y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29960" y="5765760"/>
            <a:ext cx="229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ADAM COLD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7480" y="1555920"/>
            <a:ext cx="7836120" cy="396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323240" y="581508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73320" y="1406520"/>
            <a:ext cx="6895800" cy="4019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ig1_HP" descr=""/>
          <p:cNvPicPr/>
          <p:nvPr/>
        </p:nvPicPr>
        <p:blipFill>
          <a:blip r:embed="rId1"/>
          <a:stretch/>
        </p:blipFill>
        <p:spPr>
          <a:xfrm>
            <a:off x="228600" y="1757520"/>
            <a:ext cx="8915400" cy="3456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2680"/>
            <a:ext cx="9144000" cy="105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Shop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52120" y="5803920"/>
            <a:ext cx="182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TER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08:07:21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7-19T15:23:45Z</dcterms:modified>
  <cp:revision>17</cp:revision>
  <dc:subject/>
  <dc:title>Lecture 4 Web Architecture</dc:title>
</cp:coreProperties>
</file>