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7.png" ContentType="image/png"/>
  <Override PartName="/ppt/media/image15.wmf" ContentType="image/x-wmf"/>
  <Override PartName="/ppt/media/image16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17.wmf" ContentType="image/x-wmf"/>
  <Override PartName="/ppt/media/image9.png" ContentType="image/png"/>
  <Override PartName="/ppt/media/image28.png" ContentType="image/png"/>
  <Override PartName="/ppt/media/image5.png" ContentType="image/png"/>
  <Override PartName="/ppt/media/image13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embeddings/oleObject1.docx" ContentType="application/vnd.openxmlformats-officedocument.wordprocessingml.document"/>
  <Override PartName="/ppt/embeddings/oleObject7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8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embeddings/oleObject9.docx" ContentType="application/vnd.openxmlformats-officedocument.wordprocessingml.document"/>
  <Override PartName="/ppt/embeddings/oleObject10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286840" y="6400800"/>
            <a:ext cx="18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9320" y="6095880"/>
            <a:ext cx="905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657600" y="617220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1999 MICHAEL I. SHA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nfo.webcrawler.com/mak/projects/robots/norobots.html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linkpopularity.com/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businessweb.com.au/add-it/pro/" TargetMode="External"/><Relationship Id="rId2" Type="http://schemas.openxmlformats.org/officeDocument/2006/relationships/hyperlink" Target="http://www.submitawebsite.com/" TargetMode="External"/><Relationship Id="rId3" Type="http://schemas.openxmlformats.org/officeDocument/2006/relationships/hyperlink" Target="http://www.higher-hits.com/" TargetMode="External"/><Relationship Id="rId4" Type="http://schemas.openxmlformats.org/officeDocument/2006/relationships/hyperlink" Target="http://www.shoptown.com/" TargetMode="External"/><Relationship Id="rId5" Type="http://schemas.openxmlformats.org/officeDocument/2006/relationships/hyperlink" Target="http://www.ioport.com/cgibin/submitall/submitallform.cgi" TargetMode="External"/><Relationship Id="rId6" Type="http://schemas.openxmlformats.org/officeDocument/2006/relationships/hyperlink" Target="http://pw1.netcom.com/~jwpj/submiss4.htm" TargetMode="External"/><Relationship Id="rId7" Type="http://schemas.openxmlformats.org/officeDocument/2006/relationships/hyperlink" Target="http://pw1.netcom.com/~jwpj/submiss4.htm" TargetMode="External"/><Relationship Id="rId8" Type="http://schemas.openxmlformats.org/officeDocument/2006/relationships/hyperlink" Target="http://www.shoptown.com/" TargetMode="External"/><Relationship Id="rId9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4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5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16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17.wmf"/><Relationship Id="rId13" Type="http://schemas.openxmlformats.org/officeDocument/2006/relationships/package" Target="../embeddings/oleObject7.docx"/><Relationship Id="rId14" Type="http://schemas.openxmlformats.org/officeDocument/2006/relationships/image" Target="../media/image18.wmf"/><Relationship Id="rId15" Type="http://schemas.openxmlformats.org/officeDocument/2006/relationships/package" Target="../embeddings/oleObject8.docx"/><Relationship Id="rId16" Type="http://schemas.openxmlformats.org/officeDocument/2006/relationships/image" Target="../media/image19.wmf"/><Relationship Id="rId17" Type="http://schemas.openxmlformats.org/officeDocument/2006/relationships/package" Target="../embeddings/oleObject9.docx"/><Relationship Id="rId18" Type="http://schemas.openxmlformats.org/officeDocument/2006/relationships/image" Target="../media/image20.wmf"/><Relationship Id="rId19" Type="http://schemas.openxmlformats.org/officeDocument/2006/relationships/package" Target="../embeddings/oleObject10.docx"/><Relationship Id="rId20" Type="http://schemas.openxmlformats.org/officeDocument/2006/relationships/image" Target="../media/image21.wmf"/><Relationship Id="rId2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arch Engi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ry Specifi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48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&amp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|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RASE “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AR ~ (within 10 wor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ic commerce” &amp; (masters | degree) &amp; !tex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-answ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offers a master’s degree in ecommer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into key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 language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vance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low-level, “word’s-eye view” of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ign language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vanced” Query Specifi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vance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ltavista, can specify terms by importance (separate from query spec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media, MP3, .PP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depth (from site’s front p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anking (Scoring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ts should be presented in some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ord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relevant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recent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opular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reliable fir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user contr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page owner contr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find out what order is u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anking (Scoring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methods of rank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ce of keywords in title of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ness of keywords to start of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 of keyword in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popularity (how many pages point to this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the page/site been review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5486400" cy="5257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132280" y="151920"/>
            <a:ext cx="5316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ogle Search Engine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5775840"/>
            <a:ext cx="1927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BRIN &amp;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2520" y="836640"/>
            <a:ext cx="3018240" cy="52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RL Server- Provides URLs to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awler is distribu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re Server - compresses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res pages for index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ository - holds pages for index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full HTML of every pa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exer - parses documents, rec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ds, positions, font size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pit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xicon - list of unique words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rrels hold results of distribution s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chors - keep information about 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und in web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RL Resolver - converts rel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RLs to absol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rter - generates Doc Ind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c Index - inverted index of all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 all documents (except 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ks - stores info about links to e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 (used for Pagera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rank - computes a rank for e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 retrie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archer - answers qu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ogle Struc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sitory (4-1 compres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 Index = ISAM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xicon has 14 million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s file has 322 million 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k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probability of hitting page A on the Web following random 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is a “damping factor” to deal with the probability that a page has no outlinks and the next page is completely rand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(T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k of i</a:t>
            </a:r>
            <a:r>
              <a:rPr b="1" lang="en-US" sz="2000" spc="-1" strike="noStrike" baseline="4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g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linke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(T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links out of pag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Arial"/>
              </a:rPr>
              <a:t>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895480" y="2895480"/>
                <a:ext cx="321624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tasearch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he engines operate differently. 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y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awling 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age policies (stop words, punctuation, fo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sh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t the same query to many engines and collect th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bot Ex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not want certain pages indexed but still viewable by browsers.  Can’t protect direc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rawlers conform to the Robot Exclusion Protocol.  Compliance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olunt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One way to enforce: fire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look for file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robots.t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highest directory level in domain.  If domain is www.ecom.cmu.edu,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robots.t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oes in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www.ecom.cmu.edu/robots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pecific document can be shielded from a crawler by adding the lin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META NAME="ROBOTS” CONTENT="NOINDEX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bots Exclusion Protoco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 of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robots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fields.  User-agent to specify a rob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llow to tell the agent what to ign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xclude all robots from a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r-agent: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allow: 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xclude one robot from two director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r-agent: WebCrawl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allow: /new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allow: /tmp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 the robots.txt 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1"/>
              </a:rPr>
              <a:t>specificatio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amdex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mpting to influence retrieval ranking by altering a web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ing words many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words not present on the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non-printing words to web pages through HTML &lt;META&gt; t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engines (Lycos) ignore META t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67120" y="3565080"/>
            <a:ext cx="57038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cture 9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arch Engin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631880" y="4133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90680" y="4646520"/>
            <a:ext cx="1855800" cy="463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158920" y="1189080"/>
            <a:ext cx="1563840" cy="544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151600" y="433440"/>
            <a:ext cx="2523960" cy="447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50880" y="515880"/>
            <a:ext cx="1077840" cy="1363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rcRect l="0" t="0" r="56001" b="0"/>
          <a:stretch/>
        </p:blipFill>
        <p:spPr>
          <a:xfrm>
            <a:off x="2146320" y="306360"/>
            <a:ext cx="2514600" cy="571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457200" y="2152800"/>
            <a:ext cx="2438280" cy="571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rcRect l="0" t="0" r="43250" b="0"/>
          <a:stretch/>
        </p:blipFill>
        <p:spPr>
          <a:xfrm>
            <a:off x="4327560" y="1320840"/>
            <a:ext cx="1746360" cy="914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3608280" y="2298600"/>
            <a:ext cx="1428840" cy="428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5965920" y="973080"/>
            <a:ext cx="1714320" cy="628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441360" y="3005280"/>
            <a:ext cx="1876320" cy="1047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6553080" y="1830240"/>
            <a:ext cx="2084400" cy="64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k Popular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pages link to this p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whole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our databa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  <a:hlinkClick r:id="rId1"/>
              </a:rPr>
              <a:t>www.linkpopularity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popularity is used for ra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links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ghted number of links in (by weight of referring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on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gistering with Search Engi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47560" y="14475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 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gines   Pr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99"/>
                </a:solidFill>
                <a:uFillTx/>
                <a:latin typeface="Arial"/>
                <a:hlinkClick r:id="rId1"/>
              </a:rPr>
              <a:t>Add-it P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9.9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99"/>
                </a:solidFill>
                <a:uFillTx/>
                <a:latin typeface="Arial"/>
                <a:hlinkClick r:id="rId2"/>
              </a:rPr>
              <a:t>Aeon, In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All 4 one Submission Mach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99"/>
                </a:solidFill>
                <a:uFillTx/>
                <a:latin typeface="Arial"/>
                <a:hlinkClick r:id="rId3"/>
              </a:rPr>
              <a:t>Higher-Hi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0</a:t>
            </a:r>
            <a:r>
              <a:rPr b="0" lang="en-US" sz="1800" spc="-1" strike="noStrike" u="sng">
                <a:solidFill>
                  <a:srgbClr val="cc0099"/>
                </a:solidFill>
                <a:uFillTx/>
                <a:latin typeface="Arial"/>
                <a:hlinkClick r:id="rId4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99"/>
                </a:solidFill>
                <a:uFillTx/>
                <a:latin typeface="Arial"/>
                <a:hlinkClick r:id="rId5"/>
              </a:rPr>
              <a:t>IOPORT Submit Serv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</a:t>
            </a:r>
            <a:r>
              <a:rPr b="0" lang="en-US" sz="1800" spc="-1" strike="noStrike" u="sng">
                <a:solidFill>
                  <a:srgbClr val="cc0099"/>
                </a:solidFill>
                <a:uFillTx/>
                <a:latin typeface="Arial"/>
                <a:hlinkClick r:id="rId6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99"/>
                </a:solidFill>
                <a:uFillTx/>
                <a:latin typeface="Arial"/>
                <a:hlinkClick r:id="rId7"/>
              </a:rPr>
              <a:t>Net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00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$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ShopTown</a:t>
            </a:r>
            <a:r>
              <a:rPr b="0" lang="en-US" sz="1800" spc="-1" strike="noStrike" u="sng">
                <a:solidFill>
                  <a:srgbClr val="cc0099"/>
                </a:solidFill>
                <a:uFillTx/>
                <a:latin typeface="Arial"/>
                <a:hlinkClick r:id="rId8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Site S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Submit Expr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0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24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Submit Sha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Submit 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60 for 2 UR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WEB-Submit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website-submission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-5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9-$129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y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king at queries as they are being sub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spy.  Spies on Metacraw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crawler Search Voy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Tiger Voy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cy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can be learned through query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Patent searches through private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arch Engine Sizes (Feb. 3, 200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98080" y="5788080"/>
            <a:ext cx="3121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SEARCHENGINEWATCH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613560" y="1987200"/>
            <a:ext cx="21020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tavis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c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S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G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o (Infosee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K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kto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y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thern L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57800" y="5373360"/>
            <a:ext cx="3303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stimated total web pages = 1 bill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33240" y="1581120"/>
            <a:ext cx="5247000" cy="36576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628680" y="4038480"/>
            <a:ext cx="22622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DED DATA FOR G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CLUDES PAGES INDE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T NOT VIS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arch Engines Disjointn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017800" y="1484280"/>
            <a:ext cx="5421240" cy="4116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823360" y="5775120"/>
            <a:ext cx="3114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SEARCHENGINESHOW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ge Counting Metho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 only URLs whose page content is index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 hyperlinks in HTML documents, even if the linked page is never retrieved or index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y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 a URL each time it is retrieved and indexed, even if it is seen more than o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arch Engine EK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5562720" cy="36576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537880" y="5715000"/>
            <a:ext cx="3121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SEARCHENGINEWATCH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7240" y="5365080"/>
            <a:ext cx="3801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ows activity of the Lycos craw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 one sample site, calafia.com,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mber of pages visited during each craw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arch Engine EKG Comparis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7260120" y="3193200"/>
            <a:ext cx="3121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SEARCHENGINEWATCH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3733920" cy="25336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572000" y="990720"/>
            <a:ext cx="3772080" cy="2457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533520" y="3505320"/>
            <a:ext cx="3809880" cy="25527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4572000" y="3581280"/>
            <a:ext cx="380052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 Spent Per Visitor (minutes)</a:t>
            </a: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y Search Engine, April 199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09200" y="5791320"/>
            <a:ext cx="1591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NIEL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30360" y="2359800"/>
            <a:ext cx="1773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tavis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c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o/I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o/Infosee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B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tb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okSm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y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S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sca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bcraw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ah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838080" y="1828800"/>
          <a:ext cx="5867640" cy="358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586764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dience Reach</a:t>
            </a: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y Search Engine, April 199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933240" y="5791320"/>
            <a:ext cx="1591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NIEL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4400" y="2207520"/>
            <a:ext cx="1773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tavis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c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o/I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o/Infosee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B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tb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okSm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y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S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sca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bcraw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ah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0" t="10870" r="0" b="0"/>
          <a:stretch/>
        </p:blipFill>
        <p:spPr>
          <a:xfrm>
            <a:off x="1143000" y="1905120"/>
            <a:ext cx="5334120" cy="33526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832680" y="5486400"/>
            <a:ext cx="290700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dience Reach = % of active surf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siting during month.  Totals exc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% because of overl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arch Engi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people find information? 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n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peop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th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: Yellow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ized: Dun &amp; Bradstreet, Martindale-Hubb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eople (ask some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FULLY SEARCHABLE IF ON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jor Idea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Web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vy technology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ophisti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ctim of “gaming” to increase vi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paradigms needed as Web gr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words are not 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bout images, music, vide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corbis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dex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5960" indent="-345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ngement of data (data structure) to permit fast sear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list is easier to sear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0099"/>
                </a:solidFill>
                <a:latin typeface="Courier New"/>
              </a:rPr>
              <a:t>sow fox pig eel yak hen ant cat dog h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0099"/>
                </a:solidFill>
                <a:latin typeface="Courier New"/>
              </a:rPr>
              <a:t>ant cat dog eel fox hen hog pig sow y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ing helps.  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s binary search.  About log</a:t>
            </a:r>
            <a:r>
              <a:rPr b="1" lang="en-US" sz="2000" spc="-1" strike="noStrike" baseline="-28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probes into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1" lang="en-US" sz="1800" spc="-1" strike="noStrike" baseline="-28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 billion) ~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s interpolation search.  About log</a:t>
            </a:r>
            <a:r>
              <a:rPr b="1" lang="en-US" sz="2000" spc="-1" strike="noStrike" baseline="-28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og</a:t>
            </a:r>
            <a:r>
              <a:rPr b="1" lang="en-US" sz="2000" spc="-1" strike="noStrike" baseline="-28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) pro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1" lang="en-US" sz="1800" spc="-1" strike="noStrike" baseline="-28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g</a:t>
            </a:r>
            <a:r>
              <a:rPr b="1" lang="en-US" sz="1800" spc="-1" strike="noStrike" baseline="-28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 billion) ~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verted Fi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5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ile is a list of words by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128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entry is the word in position 1 (first w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28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4562 is the word in position 4562 (4562</a:t>
            </a:r>
            <a:r>
              <a:rPr b="1" lang="en-US" sz="2000" spc="-1" strike="noStrike" baseline="4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28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entry is the last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verted file is a list of positions by wor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1280" indent="-268560">
              <a:spcBef>
                <a:spcPts val="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(1, 4, 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1280" indent="-268560">
              <a:spcBef>
                <a:spcPts val="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y (11, 20, 3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1280" indent="-268560">
              <a:spcBef>
                <a:spcPts val="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(2, 3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1280" indent="-268560">
              <a:spcBef>
                <a:spcPts val="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(5, 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1280" indent="-268560">
              <a:spcBef>
                <a:spcPts val="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on (9, 16, 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1280" indent="-268560">
              <a:spcBef>
                <a:spcPts val="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ons (4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1280" indent="-268560">
              <a:spcBef>
                <a:spcPts val="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d (14, 19, 24, 29, 35, 4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1280" indent="-268560">
              <a:spcBef>
                <a:spcPts val="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ds (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1280" indent="-268560">
              <a:spcBef>
                <a:spcPts val="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62 (21, 2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200" y="1149840"/>
            <a:ext cx="50796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rted Files for Multiple Docu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352680" y="4800600"/>
            <a:ext cx="5429520" cy="1131840"/>
            <a:chOff x="3352680" y="4800600"/>
            <a:chExt cx="5429520" cy="1131840"/>
          </a:xfrm>
        </p:grpSpPr>
        <p:graphicFrame>
          <p:nvGraphicFramePr>
            <p:cNvPr id="66" name=""/>
            <p:cNvGraphicFramePr/>
            <p:nvPr/>
          </p:nvGraphicFramePr>
          <p:xfrm>
            <a:off x="3352680" y="4800600"/>
            <a:ext cx="5418360" cy="4460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52680" y="4800600"/>
                      <a:ext cx="5418360" cy="44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3352680" y="5029200"/>
            <a:ext cx="5418360" cy="44460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352680" y="5029200"/>
                      <a:ext cx="541836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3352680" y="5257800"/>
            <a:ext cx="5429520" cy="457200"/>
          </p:xfrm>
          <a:graphic>
            <a:graphicData uri="http://schemas.openxmlformats.org/presentationml/2006/ole">
              <p:oleObj progId="Word.Document.12" r:id="rId5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352680" y="5257800"/>
                      <a:ext cx="542952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3352680" y="5486400"/>
            <a:ext cx="5418360" cy="446040"/>
          </p:xfrm>
          <a:graphic>
            <a:graphicData uri="http://schemas.openxmlformats.org/presentationml/2006/ole">
              <p:oleObj progId="Word.Document.12" r:id="rId7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352680" y="5486400"/>
                      <a:ext cx="5418360" cy="44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4" name=""/>
          <p:cNvGrpSpPr/>
          <p:nvPr/>
        </p:nvGrpSpPr>
        <p:grpSpPr>
          <a:xfrm>
            <a:off x="457200" y="1676520"/>
            <a:ext cx="8354880" cy="3686040"/>
            <a:chOff x="457200" y="1676520"/>
            <a:chExt cx="8354880" cy="3686040"/>
          </a:xfrm>
        </p:grpSpPr>
        <p:graphicFrame>
          <p:nvGraphicFramePr>
            <p:cNvPr id="75" name=""/>
            <p:cNvGraphicFramePr/>
            <p:nvPr/>
          </p:nvGraphicFramePr>
          <p:xfrm>
            <a:off x="457200" y="2133720"/>
            <a:ext cx="2622600" cy="3228840"/>
          </p:xfrm>
          <a:graphic>
            <a:graphicData uri="http://schemas.openxmlformats.org/presentationml/2006/ole">
              <p:oleObj progId="Word.Document.12" r:id="rId9" spid="">
                <p:embed/>
                <p:pic>
                  <p:nvPicPr>
                    <p:cNvPr id="7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57200" y="2133720"/>
                      <a:ext cx="2622600" cy="322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7" name=""/>
            <p:cNvGraphicFramePr/>
            <p:nvPr/>
          </p:nvGraphicFramePr>
          <p:xfrm>
            <a:off x="3352680" y="2362320"/>
            <a:ext cx="5459400" cy="480960"/>
          </p:xfrm>
          <a:graphic>
            <a:graphicData uri="http://schemas.openxmlformats.org/presentationml/2006/ole">
              <p:oleObj progId="Word.Document.12" r:id="rId1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52680" y="2362320"/>
                      <a:ext cx="545940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9" name=""/>
            <p:cNvGraphicFramePr/>
            <p:nvPr/>
          </p:nvGraphicFramePr>
          <p:xfrm>
            <a:off x="3352680" y="2590920"/>
            <a:ext cx="5294520" cy="446040"/>
          </p:xfrm>
          <a:graphic>
            <a:graphicData uri="http://schemas.openxmlformats.org/presentationml/2006/ole">
              <p:oleObj progId="Word.Document.12" r:id="rId13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352680" y="2590920"/>
                      <a:ext cx="5294520" cy="44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1" name=""/>
            <p:cNvGraphicFramePr/>
            <p:nvPr/>
          </p:nvGraphicFramePr>
          <p:xfrm>
            <a:off x="3352680" y="2819520"/>
            <a:ext cx="5430960" cy="457200"/>
          </p:xfrm>
          <a:graphic>
            <a:graphicData uri="http://schemas.openxmlformats.org/presentationml/2006/ole">
              <p:oleObj progId="Word.Document.12" r:id="rId15" spid="">
                <p:embed/>
                <p:pic>
                  <p:nvPicPr>
                    <p:cNvPr id="8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352680" y="2819520"/>
                      <a:ext cx="543096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3" name=""/>
            <p:cNvSpPr/>
            <p:nvPr/>
          </p:nvSpPr>
          <p:spPr>
            <a:xfrm>
              <a:off x="3428640" y="1676520"/>
              <a:ext cx="31172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OCID    OCCUR    POS 1     POS 2     . .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3352680" y="1905120"/>
              <a:ext cx="5418360" cy="1815840"/>
              <a:chOff x="3352680" y="1905120"/>
              <a:chExt cx="5418360" cy="1815840"/>
            </a:xfrm>
          </p:grpSpPr>
          <p:graphicFrame>
            <p:nvGraphicFramePr>
              <p:cNvPr id="85" name=""/>
              <p:cNvGraphicFramePr/>
              <p:nvPr/>
            </p:nvGraphicFramePr>
            <p:xfrm>
              <a:off x="3352680" y="3276720"/>
              <a:ext cx="5418360" cy="444240"/>
            </p:xfrm>
            <a:graphic>
              <a:graphicData uri="http://schemas.openxmlformats.org/presentationml/2006/ole">
                <p:oleObj progId="Word.Document.12" r:id="rId17" spid="">
                  <p:embed/>
                  <p:pic>
                    <p:nvPicPr>
                      <p:cNvPr id="86" name="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3352680" y="3276720"/>
                        <a:ext cx="5418360" cy="444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7" name=""/>
              <p:cNvSpPr/>
              <p:nvPr/>
            </p:nvSpPr>
            <p:spPr>
              <a:xfrm flipH="1">
                <a:off x="3733560" y="1905120"/>
                <a:ext cx="15228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4267080" y="1905120"/>
                <a:ext cx="15264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4876560" y="1905120"/>
                <a:ext cx="1522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5562360" y="1905120"/>
                <a:ext cx="15228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 flipV="1">
              <a:off x="2666880" y="2438280"/>
              <a:ext cx="68580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66880" y="2819520"/>
              <a:ext cx="6858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90920" y="487692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4" name=""/>
            <p:cNvGraphicFramePr/>
            <p:nvPr/>
          </p:nvGraphicFramePr>
          <p:xfrm>
            <a:off x="3352680" y="3809880"/>
            <a:ext cx="5330880" cy="420840"/>
          </p:xfrm>
          <a:graphic>
            <a:graphicData uri="http://schemas.openxmlformats.org/presentationml/2006/ole">
              <p:oleObj progId="Word.Document.12" r:id="rId19" spid="">
                <p:embed/>
                <p:pic>
                  <p:nvPicPr>
                    <p:cNvPr id="95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3352680" y="3809880"/>
                      <a:ext cx="5330880" cy="42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" name=""/>
            <p:cNvSpPr/>
            <p:nvPr/>
          </p:nvSpPr>
          <p:spPr>
            <a:xfrm>
              <a:off x="2666880" y="3124080"/>
              <a:ext cx="685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86200" y="3825360"/>
              <a:ext cx="67644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6627600" y="1447920"/>
            <a:ext cx="21312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ezebel” occ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 times in document 34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 times in document 44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 times in document 56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1676880"/>
            <a:ext cx="108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72200" y="3764520"/>
            <a:ext cx="1085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99"/>
                </a:solidFill>
                <a:latin typeface="Arial"/>
              </a:rPr>
              <a:t>WORD IND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1600200"/>
            <a:ext cx="0" cy="403848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xt Indexing Iss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alization (case fol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nctua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 words (noise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, an, and, of, the, www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ps index size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avista doesn’t use stop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t, eaten, eating, eater, eatery, e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arch Engine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awls the web to find pages.  Follows hyperlink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ver st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es data structures for fast searching of all words in the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ri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y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 lookup to find h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  million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 GB RAM, terabytes of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awlers (Spiders, Bots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ieve web pages for indexing by search eng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with an initial page P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Find URLs on P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dd them to a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done with P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ass it to an indexing program, get a page P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the queue and rep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specialized (e.g. only look for email addres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page to look at next?  (Special subjects, recenc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overloading a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eep within a site to go (drill-down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frequently to visit pag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5T06:45:47Z</dcterms:created>
  <dc:creator>Michael I. Shamos</dc:creator>
  <dc:description/>
  <dc:language>en-US</dc:language>
  <cp:lastModifiedBy>Valued Gateway Client</cp:lastModifiedBy>
  <cp:lastPrinted>1999-04-26T23:26:57Z</cp:lastPrinted>
  <dcterms:modified xsi:type="dcterms:W3CDTF">2000-07-19T15:25:06Z</dcterms:modified>
  <cp:revision>20</cp:revision>
  <dc:subject/>
  <dc:title>Search Engines</dc:title>
</cp:coreProperties>
</file>