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1.xml.rels" ContentType="application/vnd.openxmlformats-package.relationships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media/image54.wmf" ContentType="image/x-wmf"/>
  <Override PartName="/ppt/media/image51.png" ContentType="image/png"/>
  <Override PartName="/ppt/media/image49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20.png" ContentType="image/png"/>
  <Override PartName="/ppt/media/image58.wmf" ContentType="image/x-wmf"/>
  <Override PartName="/ppt/media/image21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28.wmf" ContentType="image/x-wmf"/>
  <Override PartName="/ppt/media/image30.png" ContentType="image/png"/>
  <Override PartName="/ppt/media/image25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31.png" ContentType="image/png"/>
  <Override PartName="/ppt/media/image59.wmf" ContentType="image/x-wmf"/>
  <Override PartName="/ppt/media/image67.png" ContentType="image/png"/>
  <Override PartName="/ppt/media/image24.wmf" ContentType="image/x-wmf"/>
  <Override PartName="/ppt/media/image76.png" ContentType="image/png"/>
  <Override PartName="/ppt/media/image87.png" ContentType="image/png"/>
  <Override PartName="/ppt/media/image74.wmf" ContentType="image/x-wmf"/>
  <Override PartName="/ppt/media/image84.wmf" ContentType="image/x-wmf"/>
  <Override PartName="/ppt/media/image83.wmf" ContentType="image/x-wmf"/>
  <Override PartName="/ppt/media/image70.jpeg" ContentType="image/jpeg"/>
  <Override PartName="/ppt/media/image35.png" ContentType="image/png"/>
  <Override PartName="/ppt/media/image72.png" ContentType="image/png"/>
  <Override PartName="/ppt/media/image64.wmf" ContentType="image/x-wmf"/>
  <Override PartName="/ppt/media/image79.png" ContentType="image/png"/>
  <Override PartName="/ppt/media/image78.png" ContentType="image/png"/>
  <Override PartName="/ppt/media/image77.png" ContentType="image/png"/>
  <Override PartName="/ppt/media/image88.png" ContentType="image/png"/>
  <Override PartName="/ppt/media/image73.wmf" ContentType="image/x-wmf"/>
  <Override PartName="/ppt/media/image33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57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55.wmf" ContentType="image/x-wmf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81.wmf" ContentType="image/x-wmf"/>
  <Override PartName="/ppt/media/image4.wmf" ContentType="image/x-wmf"/>
  <Override PartName="/ppt/media/image82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11.png" ContentType="image/pn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C525-D2E9-48CF-89D9-D1FBAD158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C720-0916-4631-B15B-B432DB94E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62F0-B912-450A-BC8F-49F6D5E2E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738D-7CC1-4221-8548-CB573054A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06A-5B2D-4827-9811-1F04A146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34B-11E6-402E-81E2-A4EB821F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A1E-AFCF-4D66-A79B-D13A6388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4EF-A5BD-44F6-AE46-E42857FD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5B76-9887-4034-BF5C-8E24309F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E2F5-6FE4-44BA-807F-1BEF3475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76B3-0A60-4D49-AB06-248ED71E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33C3-1419-4362-A8C7-13A302D6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74A1-7007-48A6-9E21-8D465B3A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C2D0-CD5D-46B8-BB71-8CAE93CB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DAE4-2D04-4FE8-8B90-EF3FB9A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BB8-4A73-4B6B-9E5F-A63974F9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0000-F288-47F9-8933-631976BF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0EC9-5C97-4278-8C1E-89AEACC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EA5E-CB3D-4C40-902E-008CA295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AE51-1687-4078-A8DA-C7274A31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0D18-74C7-4BE4-A47E-C94011B0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154-AB3B-4740-90EF-FBC13206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4D2-7968-4007-A04C-2CDE107A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7A9-828A-4C2D-B7EF-0E199BD9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807-14D8-4147-B350-623AC58A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386-C3C9-455F-B29C-E453233D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EB8-F80B-4CB6-9B27-FE9B48A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404-03B1-453E-8284-BD51CF9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8913-02C8-4644-83AD-D8388C8EF0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6A28-3561-4EB9-9DA0-CA0548F86D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earch.npr.org/cf/cmn/cmnps05fm.cfm?SegID=24726" TargetMode="External"/><Relationship Id="rId2" Type="http://schemas.openxmlformats.org/officeDocument/2006/relationships/hyperlink" Target="http://search.npr.org/cf/cmn/cmnps05fm.cfm?SegID=50252" TargetMode="External"/><Relationship Id="rId3" Type="http://schemas.openxmlformats.org/officeDocument/2006/relationships/hyperlink" Target="http://search.npr.org/cf/cmn/cmnps05fm.cfm?SegID=54444" TargetMode="External"/><Relationship Id="rId4" Type="http://schemas.openxmlformats.org/officeDocument/2006/relationships/hyperlink" Target="http://search.npr.org/cf/cmn/cmnps05fm.cfm?SegID=66642" TargetMode="External"/><Relationship Id="rId5" Type="http://schemas.openxmlformats.org/officeDocument/2006/relationships/hyperlink" Target="http://search.npr.org/cf/cmn/cmnps05fm.cfm?SegID=69540" TargetMode="External"/><Relationship Id="rId6" Type="http://schemas.openxmlformats.org/officeDocument/2006/relationships/hyperlink" Target="http://search.npr.org/cf/cmn/cmnps05fm.cfm?SegID=69995" TargetMode="External"/><Relationship Id="rId7" Type="http://schemas.openxmlformats.org/officeDocument/2006/relationships/hyperlink" Target="http://search.npr.org/cf/cmn/cmnps05fm.cfm?SegID=69995" TargetMode="External"/><Relationship Id="rId8" Type="http://schemas.openxmlformats.org/officeDocument/2006/relationships/hyperlink" Target="http://search.npr.org/cf/cmn/cmnps05fm.cfm?SegID=69995" TargetMode="External"/><Relationship Id="rId9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jpe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75.jpe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s.com/News/Item/0,4,37160,00.html" TargetMode="External"/><Relationship Id="rId2" Type="http://schemas.openxmlformats.org/officeDocument/2006/relationships/hyperlink" Target="http://www.news.com/News/Item/0,4,37160,00.html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veyd.com/FullArticles/articleN8.asp" TargetMode="Externa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wmf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wmf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wmf"/><Relationship Id="rId22" Type="http://schemas.openxmlformats.org/officeDocument/2006/relationships/image" Target="../media/image50.jpe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wmf"/><Relationship Id="rId27" Type="http://schemas.openxmlformats.org/officeDocument/2006/relationships/image" Target="../media/image55.wmf"/><Relationship Id="rId2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7467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 Montgome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Profess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e School of Industrial Administr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alan.montgomery@cmu.edu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9B21-66CC-4A5D-972F-33DC891B8C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P3’s Impa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 the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Downloading CD Quality Music: Morning Edition, Aug 31,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MP3: The Music industry is in an uproar, Talk of the Nation, May 19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MP3 - Music Business: Secure Digital Music Initial (SMDI), All Things Considered, July 23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MP3 Players: Morning Edition, Nov 15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MP3.com Lawsuit: Jan 2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MP3’s on Campus: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Napster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, Feb 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C1A-C7F0-43CE-AEEE-256686D904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2058840" y="1982880"/>
          <a:ext cx="682308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8840" y="1982880"/>
                    <a:ext cx="682308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C &amp; TV In the Same Room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7CE-C482-4E04-9CA4-437CBEBDA7F7}" type="slidenum">
              <a:t>100</a:t>
            </a:fld>
          </a:p>
        </p:txBody>
      </p:sp>
    </p:spTree>
  </p:cSld>
  <p:transition>
    <p:split dir="out" orient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ffline Advertising Does Impact Online Us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267080" y="1905120"/>
            <a:ext cx="14482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FBBA-A26A-480E-835D-ED1FBF6DB00A}" type="slidenum">
              <a:t>101</a:t>
            </a:fld>
          </a:p>
        </p:txBody>
      </p:sp>
    </p:spTree>
  </p:cSld>
  <p:transition>
    <p:pull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2485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7920" y="685440"/>
            <a:ext cx="76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ctoria’s Secr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-- Not a secret anymo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828800" y="236232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5486400" y="1371600"/>
            <a:ext cx="1447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hion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60680" y="6324480"/>
            <a:ext cx="22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864-1CA1-4D47-B62E-8626DC5DEBA0}" type="slidenum">
              <a:t>102</a:t>
            </a:fld>
          </a:p>
        </p:txBody>
      </p:sp>
    </p:spTree>
  </p:cSld>
  <p:transition spd="med">
    <p:blinds dir="horz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es Can Come Out of Nowhe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1905120"/>
            <a:ext cx="20574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FCD4-3CC5-4797-8948-B3DA0CA00BDC}" type="slidenum">
              <a:t>103</a:t>
            </a:fld>
          </a:p>
        </p:txBody>
      </p:sp>
    </p:spTree>
  </p:cSld>
  <p:transition>
    <p:pull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p-and-Comers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Hitting the Radar Scre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648320" y="5867280"/>
          <a:ext cx="370188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867280"/>
                    <a:ext cx="37018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010200" y="2362320"/>
          <a:ext cx="3133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0200" y="2362320"/>
                    <a:ext cx="313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2057400" y="5715000"/>
            <a:ext cx="2193840" cy="762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1523880" y="2133720"/>
            <a:ext cx="2203560" cy="7588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5791320" y="4419720"/>
            <a:ext cx="2660400" cy="1222200"/>
          </a:xfrm>
          <a:prstGeom prst="rect">
            <a:avLst/>
          </a:prstGeom>
          <a:ln w="0">
            <a:noFill/>
          </a:ln>
        </p:spPr>
      </p:pic>
      <p:pic>
        <p:nvPicPr>
          <p:cNvPr id="547" name="webmd" descr=""/>
          <p:cNvPicPr/>
          <p:nvPr/>
        </p:nvPicPr>
        <p:blipFill>
          <a:blip r:embed="rId8"/>
          <a:stretch/>
        </p:blipFill>
        <p:spPr>
          <a:xfrm>
            <a:off x="3809880" y="1752480"/>
            <a:ext cx="2133720" cy="933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1752480" y="4648320"/>
            <a:ext cx="3181320" cy="504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0"/>
          <a:stretch/>
        </p:blipFill>
        <p:spPr>
          <a:xfrm>
            <a:off x="3200400" y="3352680"/>
            <a:ext cx="365760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69D-F51D-410D-82C6-232153A24E81}" type="slidenum">
              <a:t>104</a:t>
            </a:fld>
          </a:p>
        </p:txBody>
      </p:sp>
    </p:spTree>
  </p:cSld>
  <p:transition>
    <p:dissolv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arning about E-Comme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om Media Met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C01C-A188-470F-B286-247C2D98E51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440" y="447840"/>
            <a:ext cx="7772400" cy="92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523880" y="1981080"/>
          <a:ext cx="748188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748188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1239840" y="6157800"/>
            <a:ext cx="729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 Media Metrix % Reach of Top U.S. Shopping Site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47880" y="533520"/>
            <a:ext cx="729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10 Shopping Sites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40D-ECF5-4393-A714-7CC164A5332D}" type="slidenum">
              <a:t>106</a:t>
            </a:fld>
          </a:p>
        </p:txBody>
      </p:sp>
    </p:spTree>
  </p:cSld>
  <p:transition>
    <p:blinds dir="ver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asuring Potential Buyers</a:t>
            </a:r>
            <a:br>
              <a:rPr sz="3200"/>
            </a:br>
            <a:r>
              <a:rPr b="0" lang="en-US" sz="2800" spc="-1" strike="noStrike">
                <a:solidFill>
                  <a:srgbClr val="cc0066"/>
                </a:solidFill>
                <a:latin typeface="Arial Black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436760" y="1676520"/>
          <a:ext cx="770724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76520"/>
                    <a:ext cx="770724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1" name="landsend" descr=""/>
          <p:cNvPicPr/>
          <p:nvPr/>
        </p:nvPicPr>
        <p:blipFill>
          <a:blip r:embed="rId3"/>
          <a:srcRect l="50017" t="0" r="0" b="0"/>
          <a:stretch/>
        </p:blipFill>
        <p:spPr>
          <a:xfrm>
            <a:off x="7315200" y="5334120"/>
            <a:ext cx="1676520" cy="376200"/>
          </a:xfrm>
          <a:prstGeom prst="rect">
            <a:avLst/>
          </a:prstGeom>
          <a:ln w="0">
            <a:noFill/>
          </a:ln>
        </p:spPr>
      </p:pic>
      <p:pic>
        <p:nvPicPr>
          <p:cNvPr id="562" name="gap" descr=""/>
          <p:cNvPicPr/>
          <p:nvPr/>
        </p:nvPicPr>
        <p:blipFill>
          <a:blip r:embed="rId4"/>
          <a:srcRect l="0" t="0" r="12509" b="0"/>
          <a:stretch/>
        </p:blipFill>
        <p:spPr>
          <a:xfrm>
            <a:off x="6629400" y="5334120"/>
            <a:ext cx="533520" cy="542880"/>
          </a:xfrm>
          <a:prstGeom prst="rect">
            <a:avLst/>
          </a:prstGeom>
          <a:ln w="0">
            <a:noFill/>
          </a:ln>
        </p:spPr>
      </p:pic>
      <p:pic>
        <p:nvPicPr>
          <p:cNvPr id="563" name="victoria" descr=""/>
          <p:cNvPicPr/>
          <p:nvPr/>
        </p:nvPicPr>
        <p:blipFill>
          <a:blip r:embed="rId5"/>
          <a:srcRect l="0" t="0" r="0" b="6454"/>
          <a:stretch/>
        </p:blipFill>
        <p:spPr>
          <a:xfrm>
            <a:off x="5562720" y="5410080"/>
            <a:ext cx="761760" cy="747720"/>
          </a:xfrm>
          <a:prstGeom prst="rect">
            <a:avLst/>
          </a:prstGeom>
          <a:ln w="0">
            <a:noFill/>
          </a:ln>
        </p:spPr>
      </p:pic>
      <p:pic>
        <p:nvPicPr>
          <p:cNvPr id="564" name="eddiebauer" descr=""/>
          <p:cNvPicPr/>
          <p:nvPr/>
        </p:nvPicPr>
        <p:blipFill>
          <a:blip r:embed="rId6"/>
          <a:srcRect l="2304" t="15229" r="25389" b="38428"/>
          <a:stretch/>
        </p:blipFill>
        <p:spPr>
          <a:xfrm>
            <a:off x="3886200" y="5334120"/>
            <a:ext cx="1600200" cy="271440"/>
          </a:xfrm>
          <a:prstGeom prst="rect">
            <a:avLst/>
          </a:prstGeom>
          <a:ln w="0">
            <a:noFill/>
          </a:ln>
        </p:spPr>
      </p:pic>
      <p:pic>
        <p:nvPicPr>
          <p:cNvPr id="565" name="llbean" descr=""/>
          <p:cNvPicPr/>
          <p:nvPr/>
        </p:nvPicPr>
        <p:blipFill>
          <a:blip r:embed="rId7"/>
          <a:srcRect l="0" t="0" r="69482" b="0"/>
          <a:stretch/>
        </p:blipFill>
        <p:spPr>
          <a:xfrm>
            <a:off x="2895480" y="5334120"/>
            <a:ext cx="914400" cy="318960"/>
          </a:xfrm>
          <a:prstGeom prst="rect">
            <a:avLst/>
          </a:prstGeom>
          <a:ln w="0">
            <a:noFill/>
          </a:ln>
        </p:spPr>
      </p:pic>
      <p:pic>
        <p:nvPicPr>
          <p:cNvPr id="566" name="jcrew" descr=""/>
          <p:cNvPicPr/>
          <p:nvPr/>
        </p:nvPicPr>
        <p:blipFill>
          <a:blip r:embed="rId8"/>
          <a:srcRect l="0" t="0" r="73656" b="50067"/>
          <a:stretch/>
        </p:blipFill>
        <p:spPr>
          <a:xfrm>
            <a:off x="1371600" y="5334120"/>
            <a:ext cx="1442880" cy="2667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523880" y="61722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Media Metrix, Dec.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4BA-3CBB-4581-BE0E-425A04269C9D}" type="slidenum">
              <a:t>107</a:t>
            </a:fld>
          </a:p>
        </p:txBody>
      </p:sp>
    </p:spTree>
  </p:cSld>
  <p:transition spd="med">
    <p:pull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447920" y="2381400"/>
          <a:ext cx="847728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7728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59A-DBD2-4CDE-BB5A-D6704B7474F2}" type="slidenum">
              <a:t>108</a:t>
            </a:fld>
          </a:p>
        </p:txBody>
      </p:sp>
    </p:spTree>
  </p:cSld>
  <p:transition spd="med">
    <p:pull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447920" y="2381400"/>
          <a:ext cx="849636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963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461-BEE8-44C9-82ED-CF0E4C27A22A}" type="slidenum">
              <a:t>109</a:t>
            </a:fld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will the Internet Effect Traditional Marketing Tool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The death of traditional marketing(?|!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89C2-35F7-4C4E-9DD3-9B2CA12416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B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371600" y="2476440"/>
          <a:ext cx="8001000" cy="39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76440"/>
                    <a:ext cx="80010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AB2-1A02-4374-B506-AFE75628A057}" type="slidenum">
              <a:t>110</a:t>
            </a:fld>
          </a:p>
        </p:txBody>
      </p:sp>
    </p:spTree>
  </p:cSld>
  <p:transition spd="med">
    <p:pull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22240" y="1980720"/>
            <a:ext cx="742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Type Of E-Commerce Sites Are Showing The Most And The Least Growth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F582-2FA5-43FD-88CE-6B9623FE4FBB}" type="slidenum">
              <a:t>111</a:t>
            </a:fld>
          </a:p>
        </p:txBody>
      </p:sp>
    </p:spTree>
  </p:cSld>
  <p:transition spd="med">
    <p:split dir="out" orient="vert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1368360" y="1219320"/>
          <a:ext cx="7775640" cy="59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219320"/>
                    <a:ext cx="77756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th Index for Shopping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"/>
          <p:cNvSpPr/>
          <p:nvPr/>
        </p:nvSpPr>
        <p:spPr>
          <a:xfrm>
            <a:off x="6553080" y="2362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3124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3080" y="3581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s/Music/Mov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53080" y="3886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ers/Gifts/Gr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3080" y="4267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ar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3080" y="4724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ABA-91FB-472B-8C6C-7AC413DA0A29}" type="slidenum">
              <a:t>112</a:t>
            </a:fld>
          </a:p>
        </p:txBody>
      </p:sp>
    </p:spTree>
  </p:cSld>
  <p:transition spd="med">
    <p:pull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o Are The Heavy Advertis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76520" y="1432080"/>
            <a:ext cx="6629400" cy="527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FD5-2C6F-47F6-AA07-46BF6C89F37F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westfare.com: Testing Incentiv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981080" y="479124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1981080" y="317196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981080" y="3981600"/>
            <a:ext cx="4476960" cy="5904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6692040" y="247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92040" y="4902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92040" y="4092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92040" y="3282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14680" y="640080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AdRelevance, A Media Metrix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388-7E26-4059-A894-D20ECE4C9EAF}" type="slidenum">
              <a:t>114</a:t>
            </a:fld>
          </a:p>
        </p:txBody>
      </p:sp>
    </p:spTree>
  </p:cSld>
  <p:transition>
    <p:blinds dir="horz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eral E-commerce Tren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Growing Usage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ly More Important Outside Of The U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mendous Experimentation Occur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 For Auctions, Virtually No One Has Shown That They Can Make 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y Has Hobbled B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It A Web Business Or A Distribution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E92-E1EA-4874-841E-762E73A5A2D2}" type="slidenum">
              <a:t>115</a:t>
            </a:fld>
          </a:p>
        </p:txBody>
      </p:sp>
    </p:spTree>
  </p:cSld>
  <p:transition>
    <p:blinds dir="vert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551C-72B2-431C-8E29-DCEE3480B77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appears to be alive and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lying marketing theory can be critical to understanding whether a business will succeed or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times things work (or fail) without us knowing why, but a little theory can give some key ins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nd better measures of the information content of clickstream data and customer acquisition cost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9C2-CBD8-4AE5-A3F6-357F7045ADA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aditional marketing aven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-media 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ck and mortar st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marketing/Telephone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ahoma"/>
              </a:rPr>
              <a:t>Which of these avenues are obsolete due to the Interne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ADE-FB6F-4396-9B92-45EF985BC7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Mass Media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D873-FE62-4ADB-9358-8AA76BA351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jobs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connect job seekers and employers, revenues raised through referral fees charged to employers and advertis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s revenues of $17m in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d $16m from venture capital companies earlier this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s to spend $12m on advertising (broadcast and outdoor), $1.6m for SuperBowl spot, $400k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as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19160"/>
            <a:ext cx="401328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579-D78C-444C-9CA4-C4309BB061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per Bowl Advertisers’ Reach Growth -- Career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371600"/>
          <a:ext cx="7635960" cy="42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3596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2720" y="1676520"/>
            <a:ext cx="1752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 B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5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5638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% R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4360" y="624852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34A-2C36-43E2-BE14-50D270E5FC24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azon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Poster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nues in 1Q 1999 are $294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ing during the same period is $61m, or roughly 21% of reve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775-828F-482C-98A7-8D48CD1002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Purcha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verage expenditure for advertising by most companies is 4% to 7% of rev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e: 10% is considered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’re seeing in 1999 that the dot-coms are putting 65% to 75% of their spending into offline media like network television since that’s still the best way to reach a mass audien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shad Tobaccowala, president of Starcom IP, (the interactive unit of Leo Burnett Co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0B3-AFA2-4006-B48A-6E7C29D0E9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new hi-res medi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640 x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&lt;5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9600 x 1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3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514600"/>
            <a:ext cx="281916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514600"/>
            <a:ext cx="32004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0280" y="491652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would you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72F-5496-4A8B-A540-607E377FC9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Brick and Mortar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3681-F5C2-4D53-ABF6-39D326CDCB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net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vs. Internet Market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se Study of Internet Success: hot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les behind Interne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 Insights from 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266-B1B0-49D4-9731-A06FB437DE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ap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Home delivery of groceries using on-line ordering.  Operates in Chicago, San Francisco, Boston, Long Island, Dallas, Houston, Austin, Columb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s are purchased at the local grocery stores.  Delivered to your door within the ho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ing money on grocery delivery, but they are making money on the information they collect by selling it back to CPG vend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AF8-EF7A-469A-A347-1FA3EB2EBF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l-world success doesn’t mean automatic Internet succ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’s success in their stores is due to buying power and customer-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ct 1998 they even sued Amazon.com and Drugstore.com for recruiting former Wal-mart employees in order to alledgedly steal trad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 decided to delay their redesigned web entry until after Christmas 1999, for fear they wouldn’t be able to deli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2276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82A-DCB3-4949-A383-D60B69233C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vi’s: Moving backwards from online to offline sa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i’s was offering a custom order option, so that users could order jeans to f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were outsourcing their web operations to Vicin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ed to pull out of on-line in Nov ‘99 since costs of maintaining the site exceeded its benefit plus the channel confli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it redirects purchasers to Macys and J.C.Penny Co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2920" cy="41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623-3533-4836-9771-804E319E7E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rect Marketing vs Retail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any examples of direct marketers venturing into retail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ana Republic, Eddie Bauer, The Sharper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retail stores starting direct marketing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ura Ashley, Williams-Sonoma, Bloomingdale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both can co-exist, but thought needs to be given to avert canniba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an you think of examples of online marketers moving into retail, or retailers moving into online oper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D8A-EC41-44BD-903C-A49DA3383E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elephon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EC8D-BB1A-48ED-ABD7-4D60D82C1B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d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1994 spent tens of millions of dollars on phone charges and customer-support personnel to track its packages.  Independent sources estimate the cost at $.50/ca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dex’s web site cost $50,000, and generated an average of 500,000 packages were packed online.  If half were curiosity seekers, the remainder saved the company $125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B1B-3ED5-4F5F-8280-E5BD29FBC0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hanne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1886-2CD1-4C08-8CD0-F64F6987F2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celine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Any price for an unused airline seat is worthwhile, since it generates incremental revenue.  Contract with the airlines, auto rental companies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people can save lot’s of money on airline tra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a percentage of the lowest available price, how much are consumers saving using priceline.co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415-D9EB-4853-AB26-E7B230D9BE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cities.com: Communities new Channel Intermedia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value of an online communit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a community alter retail channe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D02-C605-488A-B132-11546DAFFB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‘Community’ Respons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l’s Pentium Chip Flaw (1996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many Pentium designers does it take to screw in a light bulb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99904274017, but that's close enough for non-technical peopl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 do you get when you cross a Pentium PC with a research grant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mad scientis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's another name for the Intel Inside sticker they put on Pentium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rning label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y didn't Intel call the Pentium the 586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cause they added 486 and 100 on the first Pentium and got 585.9999836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292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p ten new Intel slogans for the Pentium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The Errata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Were Looking for a Few Good Flaw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Division Considered Harmfu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Why Do You Think They Call It *Floating* Point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We Fixed It, Reall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Redefining the PC and Mathematics As Wel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You Don't Need to Know What's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Nearly 300 Correct Opcod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It's Close Enough, We Say S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It's a FLAW, not a Bu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60199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31E-E6AE-4CB7-A674-5F0E20DC65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4292-1079-4FD9-B3B4-7FF6E6CDBC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Internet has and will continue to impac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ternet Marketing is not a new discipline, but one that has anticipated many of the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more, marketers have anticipated many of the possibilities of the Internet, see Blattberg and Deighton’s “Interactive Marketing” (199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61F-8458-4BB6-9DC3-C6D64C68C0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activ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ttberg and Deighton (Sloan Management Review 1991) discuss the differences between traditional mass marketing and interactive 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actual behavior to identify customers/pro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d prices/product offers to the 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ing the advertising message via selected binding (split ca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: Direct links with the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 force: Improved monitoring, less discretion, better data for the sales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1CE-27C8-4ACD-91D9-84DE3F910E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case study of the classic internet success sto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6763-5B6E-41D0-B0CD-9A776CFDBD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Web-based e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6 Startup Comp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CC2-2B6D-4D7A-A6F9-761D2811C5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’s it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 up for an account and access your email from anywhere using an HTML interface to your mail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e featur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ia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 web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A5B-9B4D-41A9-B5EB-1EBB30F06D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this business model work?  Why? 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his model be viable in the long-ter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0B1-B6B1-4362-898A-1C25702FBE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etitive Advanta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mover advan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ularity of th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159-FFC0-469D-A8AC-4DBCBFD588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ptions to enhanced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8A1-E5E5-4308-BD94-63A68A5F3F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ral Marketing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places a small “ad” at the bottom of every e-mail message automatically, whether the sender wanted it there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people see the “ad” they click and may themselves become subscr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signed up 12m users with a total marketing budget of $50,000; compare that to AOL and E-Trade who are spending $100 to $300 per customer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 this to Alladvantage.com, www.seeUthere.com, SDMI (after six listenings an encryption inside the song triggers a message your free time is ov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0F6-60FA-487E-9E35-5C265CEC4E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36C-EBCF-4AFD-84DB-E0ECFDEBDF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 your Internet Knowled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013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tney spear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m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k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onn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ela anders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0" y="2819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nia twai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zip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estl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ho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2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8178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nd rank the top 5 keywords searched by the major search engines according to their popular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698-B669-4F9D-AE6D-750A8081C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051-F091-4EF3-8E0D-98074DDB2D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8120" y="274284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2767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868-F4A4-41C3-AF22-6D2CF86062A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3962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0040" y="3733920"/>
            <a:ext cx="228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819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2438280"/>
            <a:ext cx="3049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876920" y="441936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867280" y="44193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62C-2793-47BD-B235-B2DF66B6814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8769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342900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23623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791320" y="380952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966-7B25-4D82-B636-851D110F329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978-9DD0-48B8-91F3-ADBF88CA783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ecasts from a Diffusion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1752480"/>
          <a:ext cx="761976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61976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3C8-FC5E-4D65-BB38-0A37CD553F4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’s About Capturing Eyeball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buys Hotmail for $385 m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il is the “killer-app” of the Internet, everybody has to have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the buyout, one-quarter of Hotmail’s 60 employees became instant milliona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 million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would double MSN’s 2 million paying subscribers, an increase its advertising revenues, but more importantly help position it to become a major por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usiness Wee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Jan 19, 19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cketmail sold out to Yahoo! in Oct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of Dec 1999 hotmail had 40m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A19-3349-4BF8-BC3D-5F141C84231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e there any principles behind Internet Marketing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-to-1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lationship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5CED-B295-42F3-AB23-897477312DE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aring Mas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to1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t manager sells one product at a time to as many customers a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quire a constant stream of new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l as many products as possible to one customer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custo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es to get a constant stream of business from current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236232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3429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43434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5715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0240" y="6232680"/>
            <a:ext cx="43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ppers and Roger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e to One 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E47-49D5-4B17-9F2B-84FBC179A90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ey Points for 1to1 System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te amongs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 with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 your product or service to meet each customer’s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E8A-9F0C-45A6-90F1-882ABFC5E3F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ding to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Searchterms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.c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B19-3061-4679-8E58-2833B4C857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formation is key to implementing a 1to1 Syst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purchase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dit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B48-3E42-4B6D-8F4E-24625FAE3BE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Cookies for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your browser’s cookie list for “DoubleClic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Click inserts ads into other people’s we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k users across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s number of exposures to 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ads to certain types of individu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remains “anonymou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16A-92C9-44FA-BEF5-316D95675B0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has DoubleClick learned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udying millions of impressions they concluded that after the fourth impression, response rates dropped from 2.7% to under 1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nner burn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90E-1FD7-477A-9853-B6F173DE042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Case Stud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ce Datek to potential online investors through banners and sponsor buttons 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ubleClick Business &amp; Finance sites (StockMaster, Big Charts, ClearStation, Individual Investor Online, Fast Company and EDGAR Online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ads with major brand DoubleClick Select Sites including U.S. News, PBS, the Dilbert Zone and Travelocit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yword banners on AltaVista during user searches for specific topics like "stock”, "online trading,” "investments," "brokerage" and "broker.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C9A-D0C7-4A2B-B906-766C7BFAE6C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line Brokerage” Banner A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were to go to each of these search engines and type in “online brokerage” what banner ads would be dis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ervice is performed by www.bannerstake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ADC-C5AF-4F67-B3D8-606A9C0BED3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3657600"/>
            <a:ext cx="817884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rates for keywords ranged as high as 15% - 19%. Through sponsorships on DoubleClick Finance sites, the Datek brand is reinforced to 550,000 potential customers every mont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the inception of their DoubleClick campaign, Datek has succeeded in establishing a loyal audience, now exceeding over 32,000 trades a da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the past two years, DoubleClick has been an integral part of Datek's online budget, helping Datek to generate in excess of $320,000 a day from online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9132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E14-BC52-4D1A-88A7-C852D66808A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s it worth i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ly 250,000 customers, 70,000 trades/day, $9.95/t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70480" y="3146400"/>
          <a:ext cx="2341440" cy="268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70480" y="3146400"/>
                    <a:ext cx="2341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939-A920-4B5F-82B8-35E1A938AFF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B451-CCE9-4E10-9459-C7C7F07206C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558880" y="1143000"/>
            <a:ext cx="4026240" cy="4572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022440" y="62485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Yorker, 5 July 1993, p. 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4C6-9CAA-40AA-962F-E0E0047C6CA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cord of an individual’s movement through time at a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s information ab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’s mach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URL vie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e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C96-4081-40B3-9E5C-AB297FBF380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Music Industry Respon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 yet another “revolution” brewing on the Internet, this time concerning the music indus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Enemy, the rap group that shot to fame with the hit “Fight the Power”, started selling a new album over the Internet today to fight what they say is the stifling power of big music companies.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Reuters, May 27, 199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lary Rosen, RIAA President and C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shington, July 13, 1999, “The SDMI specification being released today is a great example of technology partnerships that can open new markets.  This release is another important milestone for consumers, artists and the industry as a whole”.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uck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 say the more the merrier.  Success comes from the fans first - if someone is going to pirate something of mine, I just have to make sure to do nine or ten new things.  I mean, you can’t download me.” Interview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934-5C32-4545-869A-E85E52492E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lickstream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usehold ID: Female born 12Jul4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ographic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iladelphia Area, Male and Female Married (husband born: 27Sep46), 3 members in household, income: $75,000-$99,999, Graduated College, employed 35 or more hours, 1 child age 13 to 17 (daughter born: 5Jul80), own single family home, white collar, own car &amp; truck, microwave, three dogs, five cats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65280" y="3652920"/>
            <a:ext cx="842328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5:5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4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5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5: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libr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762120"/>
            <a:ext cx="685800" cy="761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1760"/>
              <a:gd name="textAreaBottom" fmla="*/ 71748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00" y="22591"/>
                </a:lnTo>
                <a:lnTo>
                  <a:pt x="20200" y="140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400" y="22591"/>
                </a:lnTo>
                <a:lnTo>
                  <a:pt x="20200" y="2259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1"/>
                </a:lnTo>
                <a:close/>
              </a:path>
              <a:path fill="darkenLess" w="21600" h="23991">
                <a:moveTo>
                  <a:pt x="5273" y="5181"/>
                </a:moveTo>
                <a:lnTo>
                  <a:pt x="12271" y="5181"/>
                </a:lnTo>
                <a:lnTo>
                  <a:pt x="16327" y="8679"/>
                </a:lnTo>
                <a:lnTo>
                  <a:pt x="16327" y="18811"/>
                </a:lnTo>
                <a:lnTo>
                  <a:pt x="5273" y="18811"/>
                </a:lnTo>
                <a:close/>
              </a:path>
              <a:path fill="darken" w="21600" h="23991">
                <a:moveTo>
                  <a:pt x="12271" y="5181"/>
                </a:moveTo>
                <a:lnTo>
                  <a:pt x="16327" y="8679"/>
                </a:lnTo>
                <a:lnTo>
                  <a:pt x="12271" y="8679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0A6-7E74-4D50-8C47-82C84CB2D08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does the provider se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"/>
          <p:cNvSpPr/>
          <p:nvPr/>
        </p:nvSpPr>
        <p:spPr>
          <a:xfrm>
            <a:off x="595440" y="2973240"/>
            <a:ext cx="84103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4640" y="2195640"/>
            <a:ext cx="568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voicenet.com would be able to 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440" y="4100400"/>
            <a:ext cx="673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at would www.weather.com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452-0786-44F8-9E65-7E5FFAEE28A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other information can the provider collec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’s watching you and what are you telling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T Privacy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nymizer Snoop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else can we find o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tr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urn this information into a ZIP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an we do with a ZIP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S/MicroVision Lifestyle 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593-1EB1-4001-A2A1-42B665E29EF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stream Example: Who is this web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196040" cy="40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FD2-C61C-4BAC-A068-A9AF5683135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much have you learned about this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ital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graphic 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ty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Com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Inco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nt or 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nd presence of child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 or truck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g or cat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52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34 years 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East South Cent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50,000-49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 household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 head living with others rel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$25,000-$2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Graduated High Sch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Children Under 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wo cars, no tru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dogs or c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5A4-936D-4EE0-849F-6D1B21CBB20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Statistical Approach to ‘Who is this person?’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520" y="2133720"/>
          <a:ext cx="818820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8820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BE3-1C44-43D3-9DCD-5774A5CC4EF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tistical Analy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4984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F19-8E63-4FFC-9B57-B9C4920EE18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773600" cy="5562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84240" y="6248520"/>
            <a:ext cx="42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moreinfo.com/au.cranlerma/fol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6AC-DED5-4218-BE27-E7348F89656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onceptual framewor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2146320" y="1841400"/>
            <a:ext cx="5765760" cy="401328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8000" y="2463840"/>
            <a:ext cx="33624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cro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ective Mass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8480" y="2205000"/>
            <a:ext cx="21434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fi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ffi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92680" y="34290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9160" y="4191120"/>
            <a:ext cx="334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9680" y="502920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7528680" y="3821400"/>
            <a:ext cx="161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686800" y="2336760"/>
            <a:ext cx="0" cy="3175200"/>
          </a:xfrm>
          <a:prstGeom prst="line">
            <a:avLst/>
          </a:prstGeom>
          <a:ln w="50760">
            <a:solidFill>
              <a:srgbClr val="9966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5680" y="6213600"/>
            <a:ext cx="629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ere should your company f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5A7-CBE4-40C3-9FA5-E556FF77AD4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cessing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Depar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 Activity Tracking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ing and Verification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Research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Arial"/>
              </a:rPr>
              <a:t>What do you do with your da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E47-830B-49E8-ACA5-DBBF694ACEA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$33b World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ing Art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 major suppliers (Record Label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 Warner (American)/ Thorn EMI (UK): ~24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yGram/Universal/MCA (Netherlands): ~16%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ny (Jap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rtelsmann/RCA (Germ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lers (for most mainstream labels, 80% of sales are generated by about 10 account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iance, Target, Anderson (WalMart), Tower, Best Buy, Trans World (Camelot, The Wall, Spec’s), Handleman, Valley Media, Musicland, Wherehouse/Blockbus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4CF-8802-4600-ACD5-1935136596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sights about the WWW from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urce: Media Metrix In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d Johnson, CE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vember 1999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2752-3DF6-4504-B94B-3346B82B0CA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llecting the Clickstre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the PC Me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: the PC Meter Comp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been collecting web data since July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ary of the NPD Group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syndicated data to more than 100 client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model organized around traditional advertising measures: reach and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911-5DBC-4B62-A61F-E67471F3C45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2080" y="12189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1. Randomly Recruit A Panel of PC and Internet User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9240" y="2362320"/>
            <a:ext cx="8087400" cy="4263840"/>
            <a:chOff x="669240" y="2362320"/>
            <a:chExt cx="8087400" cy="4263840"/>
          </a:xfrm>
        </p:grpSpPr>
        <p:sp>
          <p:nvSpPr>
            <p:cNvPr id="381" name=""/>
            <p:cNvSpPr/>
            <p:nvPr/>
          </p:nvSpPr>
          <p:spPr>
            <a:xfrm>
              <a:off x="669240" y="2362320"/>
              <a:ext cx="4896000" cy="286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 # 3244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4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IBM Desktop, Pentium 2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4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17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2:  Compaq Presario, 35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14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3:  Dell Latitude Notebo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8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Mobile/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ston, 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wn Single 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03920" y="4187880"/>
              <a:ext cx="47527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# 9083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6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Gateway, PIII 4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6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3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dison, W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nt, Multi-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A57-6A41-40AA-AEE6-1950942CA070}" type="slidenum">
              <a:t>72</a:t>
            </a:fld>
          </a:p>
        </p:txBody>
      </p:sp>
    </p:spTree>
  </p:cSld>
  <p:transition spd="med">
    <p:pull dir="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2080" y="1143000"/>
            <a:ext cx="743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2. Install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racking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 Software on 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Panelists’ Home &amp; Work PC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ETRENDS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3531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C80-E66E-48C3-B081-F557C2A3AC90}" type="slidenum">
              <a:t>73</a:t>
            </a:fld>
          </a:p>
        </p:txBody>
      </p:sp>
    </p:spTree>
  </p:cSld>
  <p:transition spd="med">
    <p:pull dir="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752480" y="2260440"/>
            <a:ext cx="7391520" cy="4589280"/>
            <a:chOff x="1752480" y="2260440"/>
            <a:chExt cx="7391520" cy="4589280"/>
          </a:xfrm>
        </p:grpSpPr>
        <p:sp>
          <p:nvSpPr>
            <p:cNvPr id="387" name=""/>
            <p:cNvSpPr/>
            <p:nvPr/>
          </p:nvSpPr>
          <p:spPr>
            <a:xfrm>
              <a:off x="1752480" y="2260440"/>
              <a:ext cx="7391520" cy="45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TIME        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WEB SITE &amp; PAGE     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TOM S., Age 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07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Login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54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Emai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53:12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Today’s Headlin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6:44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7:25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-chica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00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6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re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8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SanFrancis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4:58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5:00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15:24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/restaur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:20:45 p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crosoft word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16200" y="3178080"/>
              <a:ext cx="2995560" cy="0"/>
            </a:xfrm>
            <a:prstGeom prst="line">
              <a:avLst/>
            </a:prstGeom>
            <a:ln w="1908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38280" y="380880"/>
            <a:ext cx="79106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1039680"/>
            <a:ext cx="7543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3. Software Gathers Data On Personal “Clickstreams” As Panelists Use Their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C68-D583-4AC5-82B0-424455FA683C}" type="slidenum">
              <a:t>74</a:t>
            </a:fld>
          </a:p>
        </p:txBody>
      </p:sp>
    </p:spTree>
  </p:cSld>
  <p:transition spd="med">
    <p:pull dir="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4.  Data is Processed and Provided to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Clients Online and/or in Hard Copy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371600" y="2514600"/>
          <a:ext cx="65530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14600"/>
                    <a:ext cx="6553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850-C539-4EC5-A0D0-FF55E1CF7FAE}" type="slidenum">
              <a:t>75</a:t>
            </a:fld>
          </a:p>
        </p:txBody>
      </p:sp>
    </p:spTree>
  </p:cSld>
  <p:transition spd="med">
    <p:pull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dia Metrix Cli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Media Metrix services over 500 industry leaders across 5 se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rketers &amp; Traditional Mark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al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062-7CCB-4E85-8AF5-30A1513C0B4C}" type="slidenum">
              <a:t>76</a:t>
            </a:fld>
          </a:p>
        </p:txBody>
      </p:sp>
    </p:spTree>
  </p:cSld>
  <p:transition spd="med">
    <p:pull dir="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343400" y="4648320"/>
            <a:ext cx="1974600" cy="712440"/>
            <a:chOff x="4343400" y="4648320"/>
            <a:chExt cx="1974600" cy="712440"/>
          </a:xfrm>
        </p:grpSpPr>
        <p:sp>
          <p:nvSpPr>
            <p:cNvPr id="399" name=""/>
            <p:cNvSpPr/>
            <p:nvPr/>
          </p:nvSpPr>
          <p:spPr>
            <a:xfrm>
              <a:off x="4343400" y="4648320"/>
              <a:ext cx="1974600" cy="71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aol" descr=""/>
            <p:cNvPicPr/>
            <p:nvPr/>
          </p:nvPicPr>
          <p:blipFill>
            <a:blip r:embed="rId1"/>
            <a:srcRect l="0" t="0" r="79855" b="0"/>
            <a:stretch/>
          </p:blipFill>
          <p:spPr>
            <a:xfrm>
              <a:off x="4550760" y="4798800"/>
              <a:ext cx="1621440" cy="40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usatoday" descr=""/>
          <p:cNvPicPr/>
          <p:nvPr/>
        </p:nvPicPr>
        <p:blipFill>
          <a:blip r:embed="rId2"/>
          <a:stretch/>
        </p:blipFill>
        <p:spPr>
          <a:xfrm>
            <a:off x="3505320" y="5257800"/>
            <a:ext cx="1069920" cy="569880"/>
          </a:xfrm>
          <a:prstGeom prst="rect">
            <a:avLst/>
          </a:prstGeom>
          <a:ln w="0">
            <a:noFill/>
          </a:ln>
        </p:spPr>
      </p:pic>
      <p:pic>
        <p:nvPicPr>
          <p:cNvPr id="402" name="yahoo2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919160" cy="390600"/>
          </a:xfrm>
          <a:prstGeom prst="rect">
            <a:avLst/>
          </a:prstGeom>
          <a:ln w="0">
            <a:noFill/>
          </a:ln>
        </p:spPr>
      </p:pic>
      <p:pic>
        <p:nvPicPr>
          <p:cNvPr id="403" name="cnn_logo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924120" cy="715680"/>
          </a:xfrm>
          <a:prstGeom prst="rect">
            <a:avLst/>
          </a:prstGeom>
          <a:ln w="0">
            <a:noFill/>
          </a:ln>
        </p:spPr>
      </p:pic>
      <p:pic>
        <p:nvPicPr>
          <p:cNvPr id="404" name="infoseek" descr=""/>
          <p:cNvPicPr/>
          <p:nvPr/>
        </p:nvPicPr>
        <p:blipFill>
          <a:blip r:embed="rId5"/>
          <a:stretch/>
        </p:blipFill>
        <p:spPr>
          <a:xfrm>
            <a:off x="1676520" y="4724280"/>
            <a:ext cx="1898640" cy="527040"/>
          </a:xfrm>
          <a:prstGeom prst="rect">
            <a:avLst/>
          </a:prstGeom>
          <a:ln w="0">
            <a:noFill/>
          </a:ln>
        </p:spPr>
      </p:pic>
      <p:pic>
        <p:nvPicPr>
          <p:cNvPr id="405" name="zd" descr=""/>
          <p:cNvPicPr/>
          <p:nvPr/>
        </p:nvPicPr>
        <p:blipFill>
          <a:blip r:embed="rId6"/>
          <a:stretch/>
        </p:blipFill>
        <p:spPr>
          <a:xfrm>
            <a:off x="7924680" y="4876920"/>
            <a:ext cx="758880" cy="612720"/>
          </a:xfrm>
          <a:prstGeom prst="rect">
            <a:avLst/>
          </a:prstGeom>
          <a:ln w="0">
            <a:noFill/>
          </a:ln>
        </p:spPr>
      </p:pic>
      <p:pic>
        <p:nvPicPr>
          <p:cNvPr id="406" name="geocities" descr=""/>
          <p:cNvPicPr/>
          <p:nvPr/>
        </p:nvPicPr>
        <p:blipFill>
          <a:blip r:embed="rId7"/>
          <a:stretch/>
        </p:blipFill>
        <p:spPr>
          <a:xfrm>
            <a:off x="822960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07" name="wb" descr=""/>
          <p:cNvPicPr/>
          <p:nvPr/>
        </p:nvPicPr>
        <p:blipFill>
          <a:blip r:embed="rId8"/>
          <a:srcRect l="26279" t="0" r="21171" b="33697"/>
          <a:stretch/>
        </p:blipFill>
        <p:spPr>
          <a:xfrm>
            <a:off x="1828800" y="2895480"/>
            <a:ext cx="857160" cy="789120"/>
          </a:xfrm>
          <a:prstGeom prst="rect">
            <a:avLst/>
          </a:prstGeom>
          <a:ln w="0">
            <a:noFill/>
          </a:ln>
        </p:spPr>
      </p:pic>
      <p:pic>
        <p:nvPicPr>
          <p:cNvPr id="408" name="cnet" descr=""/>
          <p:cNvPicPr/>
          <p:nvPr/>
        </p:nvPicPr>
        <p:blipFill>
          <a:blip r:embed="rId9"/>
          <a:stretch/>
        </p:blipFill>
        <p:spPr>
          <a:xfrm>
            <a:off x="5715000" y="5867280"/>
            <a:ext cx="1028880" cy="79056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4419720" y="6019920"/>
            <a:ext cx="1425600" cy="511200"/>
            <a:chOff x="4419720" y="6019920"/>
            <a:chExt cx="1425600" cy="511200"/>
          </a:xfrm>
        </p:grpSpPr>
        <p:sp>
          <p:nvSpPr>
            <p:cNvPr id="410" name=""/>
            <p:cNvSpPr/>
            <p:nvPr/>
          </p:nvSpPr>
          <p:spPr>
            <a:xfrm>
              <a:off x="4419720" y="6019920"/>
              <a:ext cx="1403640" cy="51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1" name="wallstreetjournal" descr=""/>
            <p:cNvPicPr/>
            <p:nvPr/>
          </p:nvPicPr>
          <p:blipFill>
            <a:blip r:embed="rId10"/>
            <a:srcRect l="36371" t="0" r="0" b="0"/>
            <a:stretch/>
          </p:blipFill>
          <p:spPr>
            <a:xfrm>
              <a:off x="4463640" y="6062040"/>
              <a:ext cx="138168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"/>
          <p:cNvSpPr/>
          <p:nvPr/>
        </p:nvSpPr>
        <p:spPr>
          <a:xfrm>
            <a:off x="2895480" y="3048120"/>
            <a:ext cx="177192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30360" y="228600"/>
            <a:ext cx="761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Media Metrix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dmbb" descr=""/>
          <p:cNvPicPr/>
          <p:nvPr/>
        </p:nvPicPr>
        <p:blipFill>
          <a:blip r:embed="rId11"/>
          <a:stretch/>
        </p:blipFill>
        <p:spPr>
          <a:xfrm>
            <a:off x="1981080" y="5410080"/>
            <a:ext cx="946440" cy="34920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3352680" y="4191120"/>
            <a:ext cx="1138320" cy="452160"/>
            <a:chOff x="3352680" y="4191120"/>
            <a:chExt cx="1138320" cy="452160"/>
          </a:xfrm>
        </p:grpSpPr>
        <p:sp>
          <p:nvSpPr>
            <p:cNvPr id="416" name=""/>
            <p:cNvSpPr/>
            <p:nvPr/>
          </p:nvSpPr>
          <p:spPr>
            <a:xfrm>
              <a:off x="3352680" y="4191120"/>
              <a:ext cx="1138320" cy="452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" descr=""/>
            <p:cNvPicPr/>
            <p:nvPr/>
          </p:nvPicPr>
          <p:blipFill>
            <a:blip r:embed="rId12"/>
            <a:stretch/>
          </p:blipFill>
          <p:spPr>
            <a:xfrm>
              <a:off x="3398040" y="4237920"/>
              <a:ext cx="1001880" cy="34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netscape" descr=""/>
          <p:cNvPicPr/>
          <p:nvPr/>
        </p:nvPicPr>
        <p:blipFill>
          <a:blip r:embed="rId13"/>
          <a:stretch/>
        </p:blipFill>
        <p:spPr>
          <a:xfrm>
            <a:off x="7086600" y="27432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19" name="ibm" descr=""/>
          <p:cNvPicPr/>
          <p:nvPr/>
        </p:nvPicPr>
        <p:blipFill>
          <a:blip r:embed="rId14"/>
          <a:srcRect l="0" t="0" r="82729" b="0"/>
          <a:stretch/>
        </p:blipFill>
        <p:spPr>
          <a:xfrm>
            <a:off x="5257800" y="2057400"/>
            <a:ext cx="1279440" cy="701640"/>
          </a:xfrm>
          <a:prstGeom prst="rect">
            <a:avLst/>
          </a:prstGeom>
          <a:ln w="0">
            <a:noFill/>
          </a:ln>
        </p:spPr>
      </p:pic>
      <p:pic>
        <p:nvPicPr>
          <p:cNvPr id="420" name="mslogo" descr=""/>
          <p:cNvPicPr/>
          <p:nvPr/>
        </p:nvPicPr>
        <p:blipFill>
          <a:blip r:embed="rId15"/>
          <a:stretch/>
        </p:blipFill>
        <p:spPr>
          <a:xfrm>
            <a:off x="6576840" y="1905120"/>
            <a:ext cx="2567160" cy="917280"/>
          </a:xfrm>
          <a:prstGeom prst="rect">
            <a:avLst/>
          </a:prstGeom>
          <a:ln w="0">
            <a:noFill/>
          </a:ln>
        </p:spPr>
      </p:pic>
      <p:pic>
        <p:nvPicPr>
          <p:cNvPr id="421" name="merrill" descr=""/>
          <p:cNvPicPr/>
          <p:nvPr/>
        </p:nvPicPr>
        <p:blipFill>
          <a:blip r:embed="rId16"/>
          <a:stretch/>
        </p:blipFill>
        <p:spPr>
          <a:xfrm>
            <a:off x="4800600" y="5334120"/>
            <a:ext cx="1817640" cy="493560"/>
          </a:xfrm>
          <a:prstGeom prst="rect">
            <a:avLst/>
          </a:prstGeom>
          <a:ln w="0">
            <a:noFill/>
          </a:ln>
        </p:spPr>
      </p:pic>
      <p:pic>
        <p:nvPicPr>
          <p:cNvPr id="422" name="intuit_logo_new" descr=""/>
          <p:cNvPicPr/>
          <p:nvPr/>
        </p:nvPicPr>
        <p:blipFill>
          <a:blip r:embed="rId17"/>
          <a:stretch/>
        </p:blipFill>
        <p:spPr>
          <a:xfrm>
            <a:off x="7086600" y="3809880"/>
            <a:ext cx="1706400" cy="3747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8"/>
          <a:stretch/>
        </p:blipFill>
        <p:spPr>
          <a:xfrm>
            <a:off x="1676520" y="3809880"/>
            <a:ext cx="1361880" cy="766800"/>
          </a:xfrm>
          <a:prstGeom prst="rect">
            <a:avLst/>
          </a:prstGeom>
          <a:ln w="0">
            <a:noFill/>
          </a:ln>
        </p:spPr>
      </p:pic>
      <p:pic>
        <p:nvPicPr>
          <p:cNvPr id="424" name="amazon" descr=""/>
          <p:cNvPicPr/>
          <p:nvPr/>
        </p:nvPicPr>
        <p:blipFill>
          <a:blip r:embed="rId19"/>
          <a:stretch/>
        </p:blipFill>
        <p:spPr>
          <a:xfrm>
            <a:off x="1828800" y="1523880"/>
            <a:ext cx="1959120" cy="536760"/>
          </a:xfrm>
          <a:prstGeom prst="rect">
            <a:avLst/>
          </a:prstGeom>
          <a:ln w="0">
            <a:noFill/>
          </a:ln>
        </p:spPr>
      </p:pic>
      <p:pic>
        <p:nvPicPr>
          <p:cNvPr id="425" name="ebay" descr=""/>
          <p:cNvPicPr/>
          <p:nvPr/>
        </p:nvPicPr>
        <p:blipFill>
          <a:blip r:embed="rId20"/>
          <a:stretch/>
        </p:blipFill>
        <p:spPr>
          <a:xfrm>
            <a:off x="1828800" y="2286000"/>
            <a:ext cx="1163520" cy="423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1"/>
          <a:stretch/>
        </p:blipFill>
        <p:spPr>
          <a:xfrm>
            <a:off x="6095880" y="1523880"/>
            <a:ext cx="2793960" cy="446040"/>
          </a:xfrm>
          <a:prstGeom prst="rect">
            <a:avLst/>
          </a:prstGeom>
          <a:ln w="0">
            <a:noFill/>
          </a:ln>
        </p:spPr>
      </p:pic>
      <p:pic>
        <p:nvPicPr>
          <p:cNvPr id="427" name="y&amp;r" descr=""/>
          <p:cNvPicPr/>
          <p:nvPr/>
        </p:nvPicPr>
        <p:blipFill>
          <a:blip r:embed="rId22"/>
          <a:stretch/>
        </p:blipFill>
        <p:spPr>
          <a:xfrm>
            <a:off x="5791320" y="4343400"/>
            <a:ext cx="1892160" cy="32868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6248520" y="4724280"/>
            <a:ext cx="1699920" cy="1043640"/>
            <a:chOff x="6248520" y="4724280"/>
            <a:chExt cx="1699920" cy="1043640"/>
          </a:xfrm>
        </p:grpSpPr>
        <p:pic>
          <p:nvPicPr>
            <p:cNvPr id="429" name="quantumleap" descr=""/>
            <p:cNvPicPr/>
            <p:nvPr/>
          </p:nvPicPr>
          <p:blipFill>
            <a:blip r:embed="rId23"/>
            <a:stretch/>
          </p:blipFill>
          <p:spPr>
            <a:xfrm>
              <a:off x="6248520" y="4724280"/>
              <a:ext cx="16999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635160" y="5308920"/>
              <a:ext cx="124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Quantum Le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1" name="ABClogo_home" descr=""/>
          <p:cNvPicPr/>
          <p:nvPr/>
        </p:nvPicPr>
        <p:blipFill>
          <a:blip r:embed="rId24"/>
          <a:stretch/>
        </p:blipFill>
        <p:spPr>
          <a:xfrm>
            <a:off x="3429000" y="2133720"/>
            <a:ext cx="1542960" cy="645840"/>
          </a:xfrm>
          <a:prstGeom prst="rect">
            <a:avLst/>
          </a:prstGeom>
          <a:ln w="0">
            <a:noFill/>
          </a:ln>
        </p:spPr>
      </p:pic>
      <p:pic>
        <p:nvPicPr>
          <p:cNvPr id="432" name="cbs" descr=""/>
          <p:cNvPicPr/>
          <p:nvPr/>
        </p:nvPicPr>
        <p:blipFill>
          <a:blip r:embed="rId25"/>
          <a:stretch/>
        </p:blipFill>
        <p:spPr>
          <a:xfrm>
            <a:off x="5638680" y="3048120"/>
            <a:ext cx="1078200" cy="6476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6"/>
          <a:stretch/>
        </p:blipFill>
        <p:spPr>
          <a:xfrm>
            <a:off x="1676520" y="5943600"/>
            <a:ext cx="2654280" cy="4381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7"/>
          <a:stretch/>
        </p:blipFill>
        <p:spPr>
          <a:xfrm>
            <a:off x="6934320" y="5943600"/>
            <a:ext cx="1974600" cy="4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709-3137-4A2C-B6AF-FD5F2305A765}" type="slidenum">
              <a:t>77</a:t>
            </a:fld>
          </a:p>
        </p:txBody>
      </p:sp>
    </p:spTree>
  </p:cSld>
  <p:transition spd="med">
    <p:zoom dir="in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ent Applications &amp; Benefi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726912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Clients are Using Media Metrix Services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n, Buy &amp; Sell Digital Media Adverti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stand Consumer Behavi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in Marketplace &amp; Competitive Intellig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 Product, Marketing &amp; Advertising Strategy Develop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porate Benchmar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sis for Partnership Alliance Dec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With The Financial Commun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1200" indent="0">
              <a:spcBef>
                <a:spcPts val="96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do we learn from clickstream data about the digital landscap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p 10 Less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3517-D895-4666-B09B-45FE45A707DE}" type="slidenum">
              <a:t>79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from a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2.99₤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22520" y="2062080"/>
          <a:ext cx="7219800" cy="39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062080"/>
                    <a:ext cx="721980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968440" y="5562720"/>
            <a:ext cx="24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s: Financial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ic and M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288-9E98-4A04-B0A5-49C856EC98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rnet:  Then &amp; No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267080" y="1905120"/>
            <a:ext cx="1295640" cy="828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E169-75BE-4085-9091-79AF7F5268D8}" type="slidenum">
              <a:t>80</a:t>
            </a:fld>
          </a:p>
        </p:txBody>
      </p:sp>
    </p:spTree>
  </p:cSld>
  <p:transition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624-09F8-47D3-86D4-BD09A3D093AB}" type="slidenum">
              <a:t>81</a:t>
            </a:fld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1676520"/>
            <a:ext cx="34290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Sept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S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CROSOF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EOCITIE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GO.COM (Disney/Infoseek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CIT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HOTMAI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YCO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ASS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MAZO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NGELFIR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RIPOD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EA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E8E-5AC6-4A79-B344-84301E1DB19A}" type="slidenum">
              <a:t>82</a:t>
            </a:fld>
          </a:p>
        </p:txBody>
      </p:sp>
    </p:spTree>
  </p:cSld>
  <p:transition>
    <p:blinds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Net Has Gone “Mas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B52F-84CB-4311-9D3A-026091BEF14A}" type="slidenum">
              <a:t>83</a:t>
            </a:fld>
          </a:p>
        </p:txBody>
      </p:sp>
    </p:spTree>
  </p:cSld>
  <p:transition>
    <p:pull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220760" y="1905120"/>
          <a:ext cx="79218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905120"/>
                    <a:ext cx="79218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Share of Total User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6858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Gender Gap Has Narr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2C9-3969-43C7-A5AA-847EABC5DB0C}" type="slidenum">
              <a:t>84</a:t>
            </a:fld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ush for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E0BA-B57F-4D61-8793-4B69FB6FA4D3}" type="slidenum">
              <a:t>85</a:t>
            </a:fld>
          </a:p>
        </p:txBody>
      </p:sp>
    </p:spTree>
  </p:cSld>
  <p:transition>
    <p:pull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19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565-D920-4ED2-9059-8785DFA4AD9C}" type="slidenum">
              <a:t>86</a:t>
            </a:fld>
          </a:p>
        </p:txBody>
      </p:sp>
    </p:spTree>
  </p:cSld>
  <p:transition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me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ptember 1999 St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143240" y="2514600"/>
            <a:ext cx="3476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solidation!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5D2-477F-4920-ADE9-E41E1AB276A9}" type="slidenum">
              <a:t>87</a:t>
            </a:fld>
          </a:p>
        </p:txBody>
      </p:sp>
    </p:spTree>
  </p:cSld>
  <p:transition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ing Beyond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114800" y="1905120"/>
            <a:ext cx="221004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536F-07B0-4F33-9EB2-F3E2FF77BB3A}" type="slidenum">
              <a:t>88</a:t>
            </a:fld>
          </a:p>
        </p:txBody>
      </p:sp>
    </p:spTree>
  </p:cSld>
  <p:transition>
    <p:pull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urce of Internet Growt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15920" y="1886040"/>
          <a:ext cx="7067520" cy="38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886040"/>
                    <a:ext cx="7067520" cy="38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2423520" y="54864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68400" y="5486400"/>
            <a:ext cx="10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60400" y="548640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2120" y="237348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99 vs. 9/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5C2-24A3-452A-A9AB-E719C2B0FED4}" type="slidenum">
              <a:t>89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fitabi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ed Music (86% at EM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Releases (52%, 5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 Catalog (34%, 10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Publishing (14%, 36% return on sa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: Reproductions on record, cassette, CD, video (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: Public, Radio, TV (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: Film Soundtrack or TV commercial (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A28-1280-4233-B493-C0263E530A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ickiness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ou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9133-B427-41F5-B7B5-070B96CB6DAD}" type="slidenum">
              <a:t>90</a:t>
            </a:fld>
          </a:p>
        </p:txBody>
      </p:sp>
    </p:spTree>
  </p:cSld>
  <p:transition>
    <p:pull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*Stickiest* Si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Average Time Per Visitor Per Da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5120" y="1517400"/>
            <a:ext cx="72388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48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LYCOSCHA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6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POGO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2.1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GAMESVILL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MPLAYER. 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4 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PRIZEPOIN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6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EBAY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UPROAR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0.4 Minu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VOYEURWEB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FREERID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2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6248520"/>
            <a:ext cx="764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 WWW Audience Ratings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erage Minutes Per Month Per Person 8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AC6-5CCF-4C0D-9F2C-A8CC4B644A89}" type="slidenum">
              <a:t>91</a:t>
            </a:fld>
          </a:p>
        </p:txBody>
      </p:sp>
    </p:spTree>
  </p:cSld>
  <p:transition>
    <p:blinds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Growt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1E25-26FB-4CDC-8E9F-4E76A434CC86}" type="slidenum">
              <a:t>92</a:t>
            </a:fld>
          </a:p>
        </p:txBody>
      </p:sp>
    </p:spTree>
  </p:cSld>
  <p:transition>
    <p:pull dir="ru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523880" y="1676520"/>
          <a:ext cx="70866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7086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854360" y="5792760"/>
            <a:ext cx="235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ories   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22320" y="5462640"/>
            <a:ext cx="223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ult Content   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39240" y="5132520"/>
            <a:ext cx="83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6320" y="4800600"/>
            <a:ext cx="229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v’t                      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39680" y="4495680"/>
            <a:ext cx="281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        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54360" y="4178160"/>
            <a:ext cx="403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net Service Providers            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79560" y="38512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19240" y="3822840"/>
            <a:ext cx="388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Services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9840" y="3522600"/>
            <a:ext cx="39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pping       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47160" y="3200400"/>
            <a:ext cx="444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ercial Online Services                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45160" y="2897280"/>
            <a:ext cx="451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arch Engines                                         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4360" y="2552760"/>
            <a:ext cx="533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porate/Marketing                                      8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51840" y="2209680"/>
            <a:ext cx="54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s/Information/Entertainment                        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6960" y="5183280"/>
            <a:ext cx="403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ch by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09680" y="6524640"/>
            <a:ext cx="616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Web Report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Penetr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3349440" y="144000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% Audience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95320" y="51498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97E-E3F2-4284-A0BF-3CDDF154E12C}" type="slidenum">
              <a:t>93</a:t>
            </a:fld>
          </a:p>
        </p:txBody>
      </p:sp>
    </p:spTree>
  </p:cSld>
  <p:transition spd="slow">
    <p:blinds dir="horz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% Grow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9/98 to 9/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04880" y="1960560"/>
          <a:ext cx="726444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960560"/>
                    <a:ext cx="726444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AF4-C1CC-4ED1-A1BB-EC2457361555}" type="slidenum">
              <a:t>94</a:t>
            </a:fld>
          </a:p>
        </p:txBody>
      </p:sp>
    </p:spTree>
  </p:cSld>
  <p:transition>
    <p:blinds dir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World Is Dominated By U.S. Multi-Nation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BF29-2781-455C-9FEF-E42C1EB02CD3}" type="slidenum">
              <a:t>95</a:t>
            </a:fld>
          </a:p>
        </p:txBody>
      </p:sp>
    </p:spTree>
  </p:cSld>
  <p:transition>
    <p:pull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solidated Landscape Of Global Brands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alphabetical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2438280" y="3733920"/>
            <a:ext cx="5486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993-0CC6-4002-BFFC-69D50AEC223C}" type="slidenum">
              <a:t>96</a:t>
            </a:fld>
          </a:p>
        </p:txBody>
      </p:sp>
    </p:spTree>
  </p:cSld>
  <p:transition>
    <p:pull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rgence Wat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266720" y="1905120"/>
            <a:ext cx="16768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A0AF-9243-43D7-9E28-01146B2AC6CD}" type="slidenum">
              <a:t>97</a:t>
            </a:fld>
          </a:p>
        </p:txBody>
      </p:sp>
    </p:spTree>
  </p:cSld>
  <p:transition>
    <p:pull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219320" y="1709640"/>
          <a:ext cx="761976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09640"/>
                    <a:ext cx="761976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 flipV="1">
            <a:off x="3963960" y="2251080"/>
            <a:ext cx="0" cy="31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261120" y="2250720"/>
            <a:ext cx="0" cy="31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4000" y="1954080"/>
            <a:ext cx="15829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01000" y="3276720"/>
            <a:ext cx="16621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560" y="6372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ourly Incidence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1577880"/>
            <a:ext cx="891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1201680" indent="-2840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of Day People Use Digit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Usage by Time of Da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76D-EBFC-4894-8529-111EE371F398}" type="slidenum">
              <a:t>98</a:t>
            </a:fld>
          </a:p>
        </p:txBody>
      </p:sp>
    </p:spTree>
  </p:cSld>
  <p:transition>
    <p:randomBar dir="horz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219320" y="2133720"/>
          <a:ext cx="79246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9246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% of Household PCs With TV Tuner Capability - </a:t>
            </a:r>
            <a:r>
              <a:rPr b="0" lang="en-US" sz="2000" spc="-1" strike="noStrike">
                <a:solidFill>
                  <a:srgbClr val="cc0066"/>
                </a:solidFill>
                <a:latin typeface="Arial Black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006-3E9C-46FD-B40F-F3A8B6BFAAD3}" type="slidenum">
              <a:t>9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2T14:13:11Z</dcterms:created>
  <dc:creator>Alan Montgomery</dc:creator>
  <dc:description/>
  <dc:language>en-US</dc:language>
  <cp:lastModifiedBy>John T Grasso</cp:lastModifiedBy>
  <cp:lastPrinted>2000-03-15T12:54:50Z</cp:lastPrinted>
  <dcterms:modified xsi:type="dcterms:W3CDTF">2000-09-11T11:44:37Z</dcterms:modified>
  <cp:revision>107</cp:revision>
  <dc:subject/>
  <dc:title>Today’s Objectives</dc:title>
</cp:coreProperties>
</file>