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6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0.wmf" ContentType="image/x-wmf"/>
  <Override PartName="/ppt/media/image17.png" ContentType="image/png"/>
  <Override PartName="/ppt/media/image21.png" ContentType="image/png"/>
  <Override PartName="/ppt/media/image19.png" ContentType="image/png"/>
  <Override PartName="/ppt/media/image12.png" ContentType="image/png"/>
  <Override PartName="/ppt/media/image33.png" ContentType="image/png"/>
  <Override PartName="/ppt/media/image13.wmf" ContentType="image/x-wmf"/>
  <Override PartName="/ppt/media/image30.png" ContentType="image/png"/>
  <Override PartName="/ppt/media/image5.png" ContentType="image/png"/>
  <Override PartName="/ppt/media/image35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4.png" ContentType="image/png"/>
  <Override PartName="/ppt/media/image28.png" ContentType="image/png"/>
  <Override PartName="/ppt/media/image31.wmf" ContentType="image/x-wmf"/>
  <Override PartName="/ppt/media/image11.png" ContentType="image/png"/>
  <Override PartName="/ppt/media/image32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10.png" ContentType="image/png"/>
  <Override PartName="/ppt/media/image4.wmf" ContentType="image/x-wmf"/>
  <Override PartName="/ppt/media/image3.wmf" ContentType="image/x-wmf"/>
  <Override PartName="/ppt/media/image29.png" ContentType="image/png"/>
  <Override PartName="/ppt/media/image2.wmf" ContentType="image/x-wmf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8.png" ContentType="image/png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cc99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cc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cc9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cc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cc99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cc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D2407-3F01-47B1-84EE-3D755C38929E}" type="slidenum">
              <a:rPr b="0" lang="en-US" sz="1200" spc="-1" strike="noStrike">
                <a:solidFill>
                  <a:srgbClr val="00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3887640" y="-1440"/>
            <a:ext cx="29703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87640" y="8685360"/>
            <a:ext cx="2970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0" bIns="0" anchor="b">
            <a:noAutofit/>
          </a:bodyPr>
          <a:p>
            <a:pPr algn="r"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-14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-1440" y="-144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55600" y="690480"/>
            <a:ext cx="4557960" cy="341784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6240"/>
          </a:xfrm>
          <a:prstGeom prst="rect">
            <a:avLst/>
          </a:prstGeom>
          <a:noFill/>
          <a:ln w="0">
            <a:noFill/>
          </a:ln>
        </p:spPr>
        <p:txBody>
          <a:bodyPr lIns="80640" rIns="80640" tIns="40320" bIns="4032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oking at our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curren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revenue levels, you see that we have a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rea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business versus a web community searching for a revenue model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d...we proved this in each of the last 3 years as we grew from $5m to $21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cc"/>
                </a:solidFill>
                <a:latin typeface="Times New Roman"/>
              </a:rPr>
              <a:t>Perceived Value of the eBusiness                                                                             Copyright 2000 Scott B. Lef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leff@andrew.cmu.edu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calico.com/" TargetMode="External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wmf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image" Target="../media/image20.wmf"/><Relationship Id="rId17" Type="http://schemas.openxmlformats.org/officeDocument/2006/relationships/oleObject" Target="../embeddings/oleObject1.bin"/><Relationship Id="rId18" Type="http://schemas.openxmlformats.org/officeDocument/2006/relationships/image" Target="../media/image21.png"/><Relationship Id="rId19" Type="http://schemas.openxmlformats.org/officeDocument/2006/relationships/image" Target="../media/image22.png"/><Relationship Id="rId20" Type="http://schemas.openxmlformats.org/officeDocument/2006/relationships/image" Target="../media/image23.png"/><Relationship Id="rId21" Type="http://schemas.openxmlformats.org/officeDocument/2006/relationships/image" Target="../media/image24.png"/><Relationship Id="rId22" Type="http://schemas.openxmlformats.org/officeDocument/2006/relationships/image" Target="../media/image25.png"/><Relationship Id="rId23" Type="http://schemas.openxmlformats.org/officeDocument/2006/relationships/image" Target="../media/image26.png"/><Relationship Id="rId24" Type="http://schemas.openxmlformats.org/officeDocument/2006/relationships/image" Target="../media/image27.png"/><Relationship Id="rId25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hyperlink" Target="mailto:ldignan@zd.com" TargetMode="External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hyperlink" Target="mailto:fitz@redherring.com" TargetMode="External"/><Relationship Id="rId2" Type="http://schemas.openxmlformats.org/officeDocument/2006/relationships/hyperlink" Target="file:///C:/cgi-bin/get-company.pl%3Fsymbol=gs&amp;url=www.gs.com" TargetMode="External"/><Relationship Id="rId3" Type="http://schemas.openxmlformats.org/officeDocument/2006/relationships/hyperlink" Target="file:///C:/cgi-bin/get-quote.pl%3Fsymbol=GS" TargetMode="External"/><Relationship Id="rId4" Type="http://schemas.openxmlformats.org/officeDocument/2006/relationships/hyperlink" Target="file:///C:/cgi-bin/get-company.pl%3Fcompany=calico+commerce&amp;url=www.calicotech.com" TargetMode="External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7.png"/><Relationship Id="rId9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hyperlink" Target="http://www.mediametrix.com/" TargetMode="External"/><Relationship Id="rId2" Type="http://schemas.openxmlformats.org/officeDocument/2006/relationships/hyperlink" Target="http://www.webmergers.com/" TargetMode="External"/><Relationship Id="rId3" Type="http://schemas.openxmlformats.org/officeDocument/2006/relationships/hyperlink" Target="http://www.webmergers.com/" TargetMode="External"/><Relationship Id="rId4" Type="http://schemas.openxmlformats.org/officeDocument/2006/relationships/hyperlink" Target="http://www.webmergers.com/" TargetMode="External"/><Relationship Id="rId5" Type="http://schemas.openxmlformats.org/officeDocument/2006/relationships/hyperlink" Target="http://www.internetstocks.com/launch.asp" TargetMode="External"/><Relationship Id="rId6" Type="http://schemas.openxmlformats.org/officeDocument/2006/relationships/hyperlink" Target="http://finance.yahoo.com/" TargetMode="External"/><Relationship Id="rId7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ceived Value of the eBusi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esented b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ott B. Leff, MS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naging Director – Leff Financial Group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11 Shady Ave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ittsburgh, PA 152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412) 362-15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sleff@andrew.cmu.e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enture Funding of Internet Compan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066680" y="1227240"/>
          <a:ext cx="7010640" cy="4716360"/>
        </p:xfrm>
        <a:graphic>
          <a:graphicData uri="http://schemas.openxmlformats.org/drawingml/2006/table">
            <a:tbl>
              <a:tblPr/>
              <a:tblGrid>
                <a:gridCol w="2336760"/>
                <a:gridCol w="2337120"/>
                <a:gridCol w="23367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Time Peri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Total Venture Fund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% to Internet Compan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6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9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1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3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1-Q3 19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.7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1 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5.4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2 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.8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6303960" y="5943600"/>
            <a:ext cx="184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Venture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enture Funding of eCommerce Compan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057400" y="2057400"/>
          <a:ext cx="5181480" cy="335268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</a:tblGrid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Peri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% of Total Internet Fund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1 19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4 19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1 2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2 2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5237280" y="5410080"/>
            <a:ext cx="184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Venture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Venture Capitalist’s Perspective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lides based on remarks b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ay Katarincic, Partn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raper Triangle Ventur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ycos Ven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Traditional Funding Mode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60240" y="2044800"/>
            <a:ext cx="49658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238400" y="1860480"/>
          <a:ext cx="6610320" cy="36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8400" y="1860480"/>
                    <a:ext cx="6610320" cy="36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2457360" y="2362320"/>
            <a:ext cx="1067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r Service Lau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81560" y="2038320"/>
            <a:ext cx="1066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ollow-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r 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au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48200" y="17334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et Big Fa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067520" y="16956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ocus on Exit Strateg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71840" y="2343240"/>
            <a:ext cx="761760" cy="70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98920" y="1981080"/>
            <a:ext cx="781200" cy="739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867280" y="1619280"/>
            <a:ext cx="7621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067520" y="1523880"/>
            <a:ext cx="8380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391520" y="2970720"/>
            <a:ext cx="93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100% IR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55600" y="4342320"/>
            <a:ext cx="84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40% IR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933640" y="30672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35800" y="2235240"/>
            <a:ext cx="12600" cy="58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67280" y="22478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42000" y="27241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23960" y="5486400"/>
            <a:ext cx="1542960" cy="55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063880" y="4438440"/>
            <a:ext cx="12600" cy="102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81200" y="5600880"/>
            <a:ext cx="150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Angel Invest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19480" y="5600880"/>
            <a:ext cx="14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1st VC Rou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67200" y="5524560"/>
            <a:ext cx="1619280" cy="47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3854520" y="4527720"/>
            <a:ext cx="12600" cy="101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10080" y="5581800"/>
            <a:ext cx="1524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62400" y="5600880"/>
            <a:ext cx="14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2nd VC Rou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10120" y="5524560"/>
            <a:ext cx="1619280" cy="47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827680" y="4538160"/>
            <a:ext cx="1800" cy="98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Internet Funding Mode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0240" y="1816200"/>
            <a:ext cx="49658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282680" y="1676520"/>
          <a:ext cx="6610320" cy="3625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2680" y="1676520"/>
                    <a:ext cx="6610320" cy="36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2247840" y="2133720"/>
            <a:ext cx="1067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r Service Lau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309920" y="2617920"/>
            <a:ext cx="1067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ollow-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r 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au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606840" y="19764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et Big Fa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24480" y="16668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xit/IP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457360" y="2114640"/>
            <a:ext cx="762120" cy="70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70480" y="2581200"/>
            <a:ext cx="780840" cy="739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600360" y="1862280"/>
            <a:ext cx="7621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24480" y="1467000"/>
            <a:ext cx="8380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391520" y="2742120"/>
            <a:ext cx="93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100% IR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55600" y="4113720"/>
            <a:ext cx="84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40% IR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19520" y="28386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789520" y="2168640"/>
            <a:ext cx="0" cy="138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68640" y="2503440"/>
            <a:ext cx="12960" cy="156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42000" y="3305160"/>
            <a:ext cx="0" cy="48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23960" y="5286240"/>
            <a:ext cx="1571400" cy="46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2124000" y="4311720"/>
            <a:ext cx="0" cy="97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81200" y="5372280"/>
            <a:ext cx="150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Angel Invest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95520" y="5343480"/>
            <a:ext cx="14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1st VC Rou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343240" y="5267160"/>
            <a:ext cx="1619280" cy="47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705040" y="4730760"/>
            <a:ext cx="0" cy="52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10080" y="5353200"/>
            <a:ext cx="1524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262400" y="5343480"/>
            <a:ext cx="14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2nd VC Rou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10120" y="5267160"/>
            <a:ext cx="1619280" cy="47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113360" y="4794120"/>
            <a:ext cx="0" cy="49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60720" y="2946240"/>
            <a:ext cx="806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ind Strategic Part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16160" y="2917800"/>
            <a:ext cx="679680" cy="69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35480" y="3611520"/>
            <a:ext cx="12600" cy="519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681960" y="1619280"/>
            <a:ext cx="90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art No.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608880" y="1560600"/>
            <a:ext cx="1009440" cy="40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113600" y="1965240"/>
            <a:ext cx="0" cy="82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708000" y="4800600"/>
            <a:ext cx="40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708360" y="4305240"/>
            <a:ext cx="0" cy="49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99240" y="5343480"/>
            <a:ext cx="145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3rd VC Rou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6183360" y="474336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5320800" y="47498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816520" y="5270400"/>
            <a:ext cx="1359000" cy="470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321160" y="4304880"/>
            <a:ext cx="0" cy="44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120400" y="4749840"/>
            <a:ext cx="5842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133720" y="4305240"/>
            <a:ext cx="0" cy="4190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705040" y="4317840"/>
            <a:ext cx="0" cy="4320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vate (Angel) Investors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1809720"/>
            <a:ext cx="8153280" cy="53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private money than ever funding Internet start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all wealth genera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ansion of angel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tacular Internet retur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el Investor Pros and Cons</a:t>
            </a: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64960" y="1904760"/>
            <a:ext cx="381024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ation Agnosti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ing to take “Common” as opposed to “Preferre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nger Time Horiz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assive Inves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229280" y="1924200"/>
            <a:ext cx="4203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tential Lack of Strategic Assistance /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ability to Attract Co-Inves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ability to provide Follow-on Capi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assive Inves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enture Capitalis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847880" y="5792760"/>
            <a:ext cx="247680" cy="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8732520" y="5505120"/>
            <a:ext cx="74520" cy="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1809720"/>
            <a:ext cx="815328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venture money than ever chasing Internet de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ginnings of a rev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0 % of the Internet is “to com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tacular Internet return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$ to inv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liferation of private equity fi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ormous cash needs of Internet compan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enture Capitalist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847880" y="5792760"/>
            <a:ext cx="247680" cy="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8732520" y="5505120"/>
            <a:ext cx="74520" cy="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1809720"/>
            <a:ext cx="8153280" cy="70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rly Stage, Mid Stage, Late Stage, All St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cused vs. genera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al vs. na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ditional vs. corpora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ditional vs. incub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enture Capitalist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s and Con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23640" y="2361960"/>
            <a:ext cx="380988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ategic assista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ly can attract co-inves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 of follow-on capi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43200" y="2362320"/>
            <a:ext cx="420372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swer to a higher autho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ation antagonis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rt time horiz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 constrai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ugh when times are t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" y="1066680"/>
            <a:ext cx="8153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nture Capitalists May Promise You the 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But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g008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800100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rly Stag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C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847880" y="5792760"/>
            <a:ext cx="247680" cy="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8732520" y="5505120"/>
            <a:ext cx="74520" cy="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54160" y="1409760"/>
            <a:ext cx="8153280" cy="80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provide more than mo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the most trusted advi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8580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key management h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85800">
              <a:lnSpc>
                <a:spcPct val="6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lp with  partner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34960">
              <a:lnSpc>
                <a:spcPct val="6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isting and former portfolio compan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34960">
              <a:lnSpc>
                <a:spcPct val="6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ustry conta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85800">
              <a:lnSpc>
                <a:spcPct val="6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you free expo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85800">
              <a:lnSpc>
                <a:spcPct val="6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ist in strategic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85800">
              <a:lnSpc>
                <a:spcPct val="6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 introductions to investment ban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64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be willing to do anything for y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64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your ho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6440">
              <a:lnSpc>
                <a:spcPct val="80000"/>
              </a:lnSpc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0644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0644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064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064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tting Rea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847880" y="5792760"/>
            <a:ext cx="247680" cy="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8732520" y="5505120"/>
            <a:ext cx="74520" cy="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520" y="1600200"/>
            <a:ext cx="8153280" cy="61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something you are passionate ab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building a great 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 your market (front to back and up and dow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 your strengths and weakn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 all the potential competi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sure that your facts/stats are cor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lk to potential 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We Evalu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847880" y="5792760"/>
            <a:ext cx="247680" cy="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8732520" y="5505120"/>
            <a:ext cx="74520" cy="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3520" y="1600200"/>
            <a:ext cx="8153280" cy="66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plan/assess the 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te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ine the business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 potential 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te product/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te risk vs. rew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en Tips For Running a Compan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2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BIG market that is ripe for a category kil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Go for BIG margi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Hire super peop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 market share f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#1 in your market (invent a new category if necessar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n Tips (Cont’d.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2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. Build a suppor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. Get a custo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. Get another customer so the 1st one doesn’t own y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. Build strategic partner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. Take it public and start over ag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en Cardinal Rules Of Venture Investing</a:t>
            </a: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2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ver invest in a company that starts in 2 (or more) lo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Look for the category win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Pay up for quality, but not too far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plan = big opportunity; small plan = small opport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demand 60% gross margin (at least in the pl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ver give up the long te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spenders waste profits (cas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en Cardinal Rules (Cont’d.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2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464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. Avoid science projects (at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s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4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. Back peo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9148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ck people that you want to hang out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9148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tch out for founders with legal backgrou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9148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FOs never build the 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9148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lespeople never charge enough for the product/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9148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gineers never listen to the custo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9148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unmarried couple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4040" indent="-4640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eak these rules if it is a great d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4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ompa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calico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lico Back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1438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nded in January, 1994 by Bill Paseman and Barton O’Bri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erprise software application for complex product configuration and customer loyal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s sell for $100K to $10 mill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etes with Trilogy Development, Firepond, Selec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in San Jose, 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1371600" y="1752480"/>
          <a:ext cx="6715080" cy="448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752480"/>
                    <a:ext cx="6715080" cy="44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4031280" y="6022800"/>
            <a:ext cx="13687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ch FY 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10480" y="402264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5.9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421880" y="333684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11.9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541200" y="175248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21.4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45840" y="1757520"/>
            <a:ext cx="1242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$ Mill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losive Revenue Grow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9920000">
            <a:off x="2044800" y="2311560"/>
            <a:ext cx="4572000" cy="761760"/>
          </a:xfrm>
          <a:prstGeom prst="rightArrow">
            <a:avLst>
              <a:gd name="adj1" fmla="val 50000"/>
              <a:gd name="adj2" fmla="val 150047"/>
            </a:avLst>
          </a:prstGeom>
          <a:gradFill rotWithShape="0">
            <a:gsLst>
              <a:gs pos="0">
                <a:srgbClr val="3333cc"/>
              </a:gs>
              <a:gs pos="100000">
                <a:srgbClr val="a5a5e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ch Spending As % of Nominal Capital Equipment Spe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85800" y="1673280"/>
          <a:ext cx="7772400" cy="411804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102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8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PCs introduced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6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Commercial Interne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4796640" y="5867280"/>
            <a:ext cx="374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Morgan Stanley Dean Witter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ld Class Custom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4819680" y="2652840"/>
            <a:ext cx="1522440" cy="3744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rcRect l="23760" t="0" r="24815" b="0"/>
          <a:stretch/>
        </p:blipFill>
        <p:spPr>
          <a:xfrm>
            <a:off x="2228760" y="3871800"/>
            <a:ext cx="1393920" cy="4111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1914480" y="4603680"/>
            <a:ext cx="1228680" cy="2350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rcRect l="0" t="0" r="60685" b="7101"/>
          <a:stretch/>
        </p:blipFill>
        <p:spPr>
          <a:xfrm>
            <a:off x="1170000" y="2813040"/>
            <a:ext cx="1376280" cy="2858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5"/>
          <a:stretch/>
        </p:blipFill>
        <p:spPr>
          <a:xfrm>
            <a:off x="6910560" y="2779560"/>
            <a:ext cx="1180800" cy="3225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6"/>
          <a:stretch/>
        </p:blipFill>
        <p:spPr>
          <a:xfrm>
            <a:off x="3828960" y="4176720"/>
            <a:ext cx="1546200" cy="3510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7"/>
          <a:srcRect l="20393" t="2030" r="26442" b="64273"/>
          <a:stretch/>
        </p:blipFill>
        <p:spPr>
          <a:xfrm>
            <a:off x="4896000" y="3262320"/>
            <a:ext cx="1447560" cy="6858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8"/>
          <a:stretch/>
        </p:blipFill>
        <p:spPr>
          <a:xfrm>
            <a:off x="2762280" y="2424240"/>
            <a:ext cx="1509840" cy="3981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9"/>
          <a:stretch/>
        </p:blipFill>
        <p:spPr>
          <a:xfrm>
            <a:off x="4591080" y="5014800"/>
            <a:ext cx="701640" cy="4096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10"/>
          <a:srcRect l="84" t="0" r="0" b="56128"/>
          <a:stretch/>
        </p:blipFill>
        <p:spPr>
          <a:xfrm>
            <a:off x="1390680" y="1890720"/>
            <a:ext cx="1289160" cy="414360"/>
          </a:xfrm>
          <a:prstGeom prst="rect">
            <a:avLst/>
          </a:prstGeom>
          <a:ln w="0">
            <a:noFill/>
          </a:ln>
        </p:spPr>
      </p:pic>
      <p:pic>
        <p:nvPicPr>
          <p:cNvPr id="221" name="gatewaylogo" descr=""/>
          <p:cNvPicPr/>
          <p:nvPr/>
        </p:nvPicPr>
        <p:blipFill>
          <a:blip r:embed="rId11"/>
          <a:stretch/>
        </p:blipFill>
        <p:spPr>
          <a:xfrm>
            <a:off x="4971960" y="5548320"/>
            <a:ext cx="1495440" cy="450720"/>
          </a:xfrm>
          <a:prstGeom prst="rect">
            <a:avLst/>
          </a:prstGeom>
          <a:ln w="0">
            <a:noFill/>
          </a:ln>
        </p:spPr>
      </p:pic>
      <p:pic>
        <p:nvPicPr>
          <p:cNvPr id="222" name="uswest" descr=""/>
          <p:cNvPicPr/>
          <p:nvPr/>
        </p:nvPicPr>
        <p:blipFill>
          <a:blip r:embed="rId12"/>
          <a:stretch/>
        </p:blipFill>
        <p:spPr>
          <a:xfrm>
            <a:off x="3067200" y="3110040"/>
            <a:ext cx="1295280" cy="419040"/>
          </a:xfrm>
          <a:prstGeom prst="rect">
            <a:avLst/>
          </a:prstGeom>
          <a:ln w="0">
            <a:noFill/>
          </a:ln>
        </p:spPr>
      </p:pic>
      <p:pic>
        <p:nvPicPr>
          <p:cNvPr id="223" name="tlxn_logo" descr=""/>
          <p:cNvPicPr/>
          <p:nvPr/>
        </p:nvPicPr>
        <p:blipFill>
          <a:blip r:embed="rId13"/>
          <a:stretch/>
        </p:blipFill>
        <p:spPr>
          <a:xfrm>
            <a:off x="3448080" y="4786200"/>
            <a:ext cx="961920" cy="3430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14"/>
          <a:stretch/>
        </p:blipFill>
        <p:spPr>
          <a:xfrm>
            <a:off x="5330880" y="4591080"/>
            <a:ext cx="1181160" cy="3016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15"/>
          <a:stretch/>
        </p:blipFill>
        <p:spPr>
          <a:xfrm>
            <a:off x="6702480" y="3554280"/>
            <a:ext cx="646200" cy="26856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16"/>
          <a:stretch/>
        </p:blipFill>
        <p:spPr>
          <a:xfrm>
            <a:off x="3286080" y="5484960"/>
            <a:ext cx="1144800" cy="29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7" name=""/>
          <p:cNvGraphicFramePr/>
          <p:nvPr/>
        </p:nvGraphicFramePr>
        <p:xfrm>
          <a:off x="7048440" y="4638600"/>
          <a:ext cx="936720" cy="4698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048440" y="4638600"/>
                    <a:ext cx="93672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9" name="Zurn" descr=""/>
          <p:cNvPicPr/>
          <p:nvPr/>
        </p:nvPicPr>
        <p:blipFill>
          <a:blip r:embed="rId19"/>
          <a:stretch/>
        </p:blipFill>
        <p:spPr>
          <a:xfrm>
            <a:off x="857160" y="3719520"/>
            <a:ext cx="1228680" cy="351000"/>
          </a:xfrm>
          <a:prstGeom prst="rect">
            <a:avLst/>
          </a:prstGeom>
          <a:ln w="0">
            <a:noFill/>
          </a:ln>
        </p:spPr>
      </p:pic>
      <p:pic>
        <p:nvPicPr>
          <p:cNvPr id="230" name="nortel" descr=""/>
          <p:cNvPicPr/>
          <p:nvPr/>
        </p:nvPicPr>
        <p:blipFill>
          <a:blip r:embed="rId20"/>
          <a:srcRect l="0" t="0" r="38768" b="0"/>
          <a:stretch/>
        </p:blipFill>
        <p:spPr>
          <a:xfrm>
            <a:off x="6877080" y="1967040"/>
            <a:ext cx="1441440" cy="476280"/>
          </a:xfrm>
          <a:prstGeom prst="rect">
            <a:avLst/>
          </a:prstGeom>
          <a:ln w="0">
            <a:noFill/>
          </a:ln>
        </p:spPr>
      </p:pic>
      <p:pic>
        <p:nvPicPr>
          <p:cNvPr id="231" name="Kodak" descr=""/>
          <p:cNvPicPr/>
          <p:nvPr/>
        </p:nvPicPr>
        <p:blipFill>
          <a:blip r:embed="rId21"/>
          <a:stretch/>
        </p:blipFill>
        <p:spPr>
          <a:xfrm>
            <a:off x="4057560" y="1890720"/>
            <a:ext cx="1095480" cy="43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2"/>
          <a:srcRect l="0" t="0" r="15091" b="0"/>
          <a:stretch/>
        </p:blipFill>
        <p:spPr>
          <a:xfrm>
            <a:off x="1314360" y="5243400"/>
            <a:ext cx="1220760" cy="3924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3"/>
          <a:srcRect l="52298" t="3826" r="1902" b="32130"/>
          <a:stretch/>
        </p:blipFill>
        <p:spPr>
          <a:xfrm>
            <a:off x="7257960" y="3871800"/>
            <a:ext cx="838440" cy="533520"/>
          </a:xfrm>
          <a:prstGeom prst="rect">
            <a:avLst/>
          </a:prstGeom>
          <a:ln w="0">
            <a:noFill/>
          </a:ln>
        </p:spPr>
      </p:pic>
      <p:pic>
        <p:nvPicPr>
          <p:cNvPr id="234" name="logo" descr=""/>
          <p:cNvPicPr/>
          <p:nvPr/>
        </p:nvPicPr>
        <p:blipFill>
          <a:blip r:embed="rId24"/>
          <a:srcRect l="2109" t="2223" r="358" b="10784"/>
          <a:stretch/>
        </p:blipFill>
        <p:spPr>
          <a:xfrm>
            <a:off x="6877080" y="5319720"/>
            <a:ext cx="1181160" cy="37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7080" y="3581280"/>
            <a:ext cx="6812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“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Software that facilitates e-commerce is just about the hottest stuff on the market, and that’s Calico’s forte.” </a:t>
            </a:r>
            <a:r>
              <a:rPr b="1" i="1" lang="en-US" sz="1800" spc="-1" strike="noStrike">
                <a:solidFill>
                  <a:srgbClr val="808080"/>
                </a:solidFill>
                <a:latin typeface="Times New Roman"/>
              </a:rPr>
              <a:t>October 4, 1999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“Calico Gets Serious About e-com Follow-up--It's time to manage the electronic commerce process after a sale has been made.” </a:t>
            </a:r>
            <a:r>
              <a:rPr b="1" i="1" lang="en-US" sz="1800" spc="-1" strike="noStrike">
                <a:solidFill>
                  <a:srgbClr val="808080"/>
                </a:solidFill>
                <a:latin typeface="Times New Roman"/>
              </a:rPr>
              <a:t>June 28, 1999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“Calico has its roots in sales effectiveness tools…[and] is blurring the lines between traditional sales force automation, customer relationship management, and E-commerce tools as companies try to conduct business over the Web.” </a:t>
            </a:r>
            <a:r>
              <a:rPr b="1" i="1" lang="en-US" sz="1800" spc="-1" strike="noStrike">
                <a:solidFill>
                  <a:srgbClr val="808080"/>
                </a:solidFill>
                <a:latin typeface="Times New Roman"/>
              </a:rPr>
              <a:t>June 21, 1999</a:t>
            </a: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 </a:t>
            </a:r>
            <a:br>
              <a:rPr sz="1800"/>
            </a:br>
            <a:br>
              <a:rPr sz="32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500040" y="4959360"/>
          <a:ext cx="1571760" cy="50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4959360"/>
                    <a:ext cx="157176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500040" y="1600200"/>
          <a:ext cx="1219320" cy="33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040" y="1600200"/>
                    <a:ext cx="121932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500040" y="3048120"/>
          <a:ext cx="1000080" cy="323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0040" y="3048120"/>
                    <a:ext cx="1000080" cy="32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"/>
          <p:cNvSpPr/>
          <p:nvPr/>
        </p:nvSpPr>
        <p:spPr>
          <a:xfrm>
            <a:off x="1798560" y="165240"/>
            <a:ext cx="720108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lico in the N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ing Money from V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rrevocable decision for liquidity ev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buy the plan, the people are expend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C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started with list of 10 in rank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ed presenting at bottom of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ation was ironed out by #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meetings with primary VCs over 3 mon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 all want in simultaneous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94 (bad old days compared to toda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 peo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0K revenue (cas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000K book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0 million post money valuation ($4 million bought 40% of the compan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field jumped first and accepted our valuation, Kleiner followed, Sequoia wanted in but was too l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unds of Financ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ce per Sh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600200" y="2286000"/>
          <a:ext cx="6097680" cy="40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286000"/>
                    <a:ext cx="6097680" cy="40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C P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09120" y="1657080"/>
            <a:ext cx="729612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Cs have liquidity and preferential righ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ferred st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VCs had a 4X return on their investment as a preference if company was so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ect Time to Sell Compa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not know in adv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ither too early or too l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o early is better than too l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rule applies to stock options post-IPO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yout Off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386480" cy="40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an expressed interest in purchasing Calico in October 199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discussed $80 million as bottom of r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purchased our competitor Antalys instead for $18 mill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abandoned the Antalys software 6 months lat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yout Off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386480" cy="40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metric Technology expressed interest in purchasing Calico in April 199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fer was to be between $110 and $130 mill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anted to take offer, but were in process of changing CE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fer was dropped due to internal Calico issues and reluctance of new CEO to sell 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 split price of $6.00 per sh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/20 Hindsig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7720" y="1885680"/>
            <a:ext cx="729612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ck price from Baan would have been equivalent to $4.50, but most likely in Baan stock with restri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ck price from Parametric would be equivalent to $6.00, but most likely in PTC stock with restri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chnology Stocks as % 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&amp;P 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685800" y="1676520"/>
          <a:ext cx="7772400" cy="411480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S&amp;P 500 Market C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S&amp;P Tech Stocks Market C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% of S&amp;P 500 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/29/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2.3 Trill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90 Bill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/4/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2.6 Trill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4.0 Trill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4720320" y="5867280"/>
            <a:ext cx="374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Morgan Stanley Dean Witter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52280" y="76320"/>
            <a:ext cx="8839440" cy="61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57200" y="76320"/>
            <a:ext cx="82296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PO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tched market crash in 1997 with horr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rly 1998 saw blockbuster Web 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B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gnet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c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ided to go public at the end of 1Q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ablished “IPO metrics” to judge readiness to be a public comp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/No Go Metric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p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ok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en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n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loyments &amp; Re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ct Sta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ner Sta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ipelin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4 Pipelin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5x bookings goal - $28.3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1 Pip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x bookings goal (tentative $12.2M) - $36.6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oking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4 Plan - $11.3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en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c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l Plan - $5.0M for Q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 $2.9M for 2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ult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l Plan - $2.5M for Q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 55% - $1.4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en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l Plan - $0.6M for Q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 - 66% - $0.4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l Plan $8.1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 $4.7M as of 2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9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9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ens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rter target $9.2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incremental reps to plan ($200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and lead generation ($100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issions ($100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rget top 10 hi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ecast at 2/26 within 1% of revised pl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vestment Banker Beauty Cont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386480" cy="40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stment Banks pitch to be lead underwri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d on amount of success in similar off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ue Chip VCs help with blue chip underwri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top tier list for lead underwri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ldman Sac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gan Stan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rill Ly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bertson Stephen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mbrecht and Qu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l S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ldman Sachs as L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rrill Lync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&amp;Q as “third han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tCom Man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2057400"/>
            <a:ext cx="19051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8800" y="228600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tCom Ma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57600" y="2057400"/>
            <a:ext cx="18288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57600" y="2286000"/>
            <a:ext cx="18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vy Invest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553080" y="2057400"/>
            <a:ext cx="19051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90920" y="2514600"/>
            <a:ext cx="10666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86400" y="2514600"/>
            <a:ext cx="10666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33160" y="2286000"/>
            <a:ext cx="13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ising Pr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553080" y="3429000"/>
            <a:ext cx="19051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" name=""/>
          <p:cNvCxnSpPr>
            <a:stCxn id="60" idx="3"/>
            <a:endCxn id="64" idx="3"/>
          </p:cNvCxnSpPr>
          <p:nvPr/>
        </p:nvCxnSpPr>
        <p:spPr>
          <a:xfrm>
            <a:off x="8458200" y="2476440"/>
            <a:ext cx="2160" cy="1372320"/>
          </a:xfrm>
          <a:prstGeom prst="bentConnector3">
            <a:avLst>
              <a:gd name="adj1" fmla="val 14400000"/>
            </a:avLst>
          </a:prstGeom>
          <a:ln w="2844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6662880" y="3672000"/>
            <a:ext cx="17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y New IP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57600" y="3429000"/>
            <a:ext cx="18288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486040" y="3809880"/>
            <a:ext cx="10666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51000" y="3505320"/>
            <a:ext cx="13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wer Iss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a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2120" y="3429000"/>
            <a:ext cx="18288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590560" y="3809880"/>
            <a:ext cx="10666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143000" y="3427560"/>
            <a:ext cx="106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Incre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and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5720" y="4876920"/>
            <a:ext cx="86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lso led to venture capital stage investments in the equity markets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ven greater investor ri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1 Writ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-4 week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ueling all night s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ts of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d News - missed 1 metric in Q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38080" y="2057040"/>
            <a:ext cx="767736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ftware revenue recognition requires well documented proc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s alignment between sales, contracts, product marketing, and engine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 feature in contract cannot be verified as being part of release via document paper tr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revenue for entire transaction is delay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happened to Calico in Q1 with a large d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ay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6770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-motivating to employ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one is going public - why not us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lk on the street - “what happened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ion of turned down job offers at companies that subsequently went publ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mart Mo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37720" y="1657080"/>
            <a:ext cx="729612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PO was rescheduled for Q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erson Consulting invested $4 million at IPO pr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l Computer invested $20 million at IPO pr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umb mo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7372440" cy="45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ersen Consulting investment was described as part of the IPO, not private placement (per advice of Gray, Cary, Ware and Friedenric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olated SEC rules requiring all IPO investors to receive copy of prospectus prior to inve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used 2 week delay to revise S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 too busy to meet to approve revised S1 for 3 d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adsh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O and CFO go on 3 week whirlwind t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0 presen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York presentations postponed because of hurric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-4 hours of sleep per n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ll oversubscribed by institutional inves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es, trains, and car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sitive press during quiet peri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 won’t allow Company to discuss off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, other people can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914400" y="2057400"/>
            <a:ext cx="7467480" cy="21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IPOs THIS WEEK....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 Actually, this should be the first real week of activity. Couple of big Goldman deals coming down. Here's a Goldman insider's take on some of this week's offering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"Calico is our big one. Should be real strong. Has staying power. It's the plumbing for B2B and B2C on the Internet. Dell is an investor. Cisco is a custome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438280" y="457200"/>
            <a:ext cx="426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Fortune Arti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D Intera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62120" y="1295280"/>
            <a:ext cx="7543800" cy="43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THE DAY AHEAD: Calico's clientele + commerce focus = a hot IPO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By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Larry Dign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If an initial public offering is judged by the customers and partners a company keeps Calico Commerce Inc. shouldn't have any problem attracting Wall Street's interes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Calico Commerce, which makes e-commerce software for corporations, will offer 3.93 million shares this week with a price range of $12 to $14. Calico is tentatively scheduled to price Monday night for trading Tuesda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d Her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57200" y="1219320"/>
            <a:ext cx="8534520" cy="48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Calico Commerce follows successful IPO patter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By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John E. Fitzgibbon Jr.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Redherring.com 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ptember 23, 1999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With a new-issue market exploding like popcorn, it comes as no surprise that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Goldman Sachs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 (NYSE: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GS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) may have another sizzling initial public offering on its hands. This time it's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Calico Commerc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With a Redherring.com rating of Red Hot, IPO experts think the deal's opening-day price action will land it in the Hall of Fame, a list of companies whose stock doubles or more on its first day of trading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hen all is said and done, 30% of Internet IPOs will be trading above issue price, 70% below issue price.”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Morgan Stanley Dean Wit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iends and Fami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29612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ployees could allocate 300 shares to family mem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ecutives could allocate 10,000 shares to business colleagues and fami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es are at IPO price with no lockup peri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st like giving out free mon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lly, the Big 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657080"/>
            <a:ext cx="706752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e delays made the date unpredic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false 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re not sure until day before I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al phone calls from friends and family get tiring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p IPOs in Hi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220760" y="1143000"/>
            <a:ext cx="6581520" cy="47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808080"/>
                </a:solidFill>
                <a:uFillTx/>
                <a:latin typeface="Arial Narrow"/>
              </a:rPr>
              <a:t>Rank </a:t>
            </a:r>
            <a:r>
              <a:rPr b="1" lang="en-US" sz="2400" spc="-1" strike="noStrike" u="sng">
                <a:solidFill>
                  <a:srgbClr val="808080"/>
                </a:solidFill>
                <a:uFillTx/>
                <a:latin typeface="Arial Narrow"/>
              </a:rPr>
              <a:t>	</a:t>
            </a:r>
            <a:r>
              <a:rPr b="1" lang="en-US" sz="2400" spc="-1" strike="noStrike" u="sng">
                <a:solidFill>
                  <a:srgbClr val="808080"/>
                </a:solidFill>
                <a:uFillTx/>
                <a:latin typeface="Arial Narrow"/>
              </a:rPr>
              <a:t>Company</a:t>
            </a:r>
            <a:r>
              <a:rPr b="1" lang="en-US" sz="2400" spc="-1" strike="noStrike" u="sng">
                <a:solidFill>
                  <a:srgbClr val="808080"/>
                </a:solidFill>
                <a:uFillTx/>
                <a:latin typeface="Arial Narrow"/>
              </a:rPr>
              <a:t>	</a:t>
            </a:r>
            <a:r>
              <a:rPr b="1" lang="en-US" sz="2400" spc="-1" strike="noStrike" u="sng">
                <a:solidFill>
                  <a:srgbClr val="808080"/>
                </a:solidFill>
                <a:uFillTx/>
                <a:latin typeface="Arial Narrow"/>
              </a:rPr>
              <a:t>	</a:t>
            </a:r>
            <a:r>
              <a:rPr b="1" lang="en-US" sz="2400" spc="-1" strike="noStrike" u="sng">
                <a:solidFill>
                  <a:srgbClr val="808080"/>
                </a:solidFill>
                <a:uFillTx/>
                <a:latin typeface="Arial Narrow"/>
              </a:rPr>
              <a:t>Offer</a:t>
            </a:r>
            <a:r>
              <a:rPr b="1" lang="en-US" sz="2400" spc="-1" strike="noStrike" u="sng">
                <a:solidFill>
                  <a:srgbClr val="808080"/>
                </a:solidFill>
                <a:uFillTx/>
                <a:latin typeface="Arial Narrow"/>
              </a:rPr>
              <a:t>	</a:t>
            </a:r>
            <a:r>
              <a:rPr b="1" lang="en-US" sz="2400" spc="-1" strike="noStrike" u="sng">
                <a:solidFill>
                  <a:srgbClr val="808080"/>
                </a:solidFill>
                <a:uFillTx/>
                <a:latin typeface="Arial Narrow"/>
              </a:rPr>
              <a:t>Close</a:t>
            </a:r>
            <a:r>
              <a:rPr b="1" lang="en-US" sz="2400" spc="-1" strike="noStrike" u="sng">
                <a:solidFill>
                  <a:srgbClr val="808080"/>
                </a:solidFill>
                <a:uFillTx/>
                <a:latin typeface="Arial Narrow"/>
              </a:rPr>
              <a:t>	</a:t>
            </a:r>
            <a:r>
              <a:rPr b="1" lang="en-US" sz="2400" spc="-1" strike="noStrike" u="sng">
                <a:solidFill>
                  <a:srgbClr val="808080"/>
                </a:solidFill>
                <a:uFillTx/>
                <a:latin typeface="Arial Narrow"/>
              </a:rPr>
              <a:t>% Gain</a:t>
            </a:r>
            <a:r>
              <a:rPr b="1" lang="en-US" sz="2400" spc="-1" strike="noStrike" u="sng">
                <a:solidFill>
                  <a:srgbClr val="808080"/>
                </a:solidFill>
                <a:uFillTx/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1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theglobe.com 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$9.00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63 1/2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605.56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2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Foundry Networks 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25.00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156 1/4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525.00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3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MarketWatch.com 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17.00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97 1/2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473.53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4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Ask Jeeves 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14.00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64 15/16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363.84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5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Priceline.com 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16.00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69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331.25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 Narrow"/>
              </a:rPr>
              <a:t>6</a:t>
            </a:r>
            <a:r>
              <a:rPr b="1" lang="en-US" sz="2400" spc="-1" strike="noStrike">
                <a:solidFill>
                  <a:srgbClr val="80808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808080"/>
                </a:solidFill>
                <a:latin typeface="Arial Narrow"/>
              </a:rPr>
              <a:t>Calico Commerce</a:t>
            </a:r>
            <a:r>
              <a:rPr b="1" lang="en-US" sz="2400" spc="-1" strike="noStrike">
                <a:solidFill>
                  <a:srgbClr val="80808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808080"/>
                </a:solidFill>
                <a:latin typeface="Arial Narrow"/>
              </a:rPr>
              <a:t>14.00</a:t>
            </a:r>
            <a:r>
              <a:rPr b="1" lang="en-US" sz="2400" spc="-1" strike="noStrike">
                <a:solidFill>
                  <a:srgbClr val="80808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808080"/>
                </a:solidFill>
                <a:latin typeface="Arial Narrow"/>
              </a:rPr>
              <a:t>56</a:t>
            </a:r>
            <a:r>
              <a:rPr b="1" lang="en-US" sz="2400" spc="-1" strike="noStrike">
                <a:solidFill>
                  <a:srgbClr val="80808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808080"/>
                </a:solidFill>
                <a:latin typeface="Arial Narrow"/>
              </a:rPr>
              <a:t>300.00</a:t>
            </a:r>
            <a:r>
              <a:rPr b="1" lang="en-US" sz="2400" spc="-1" strike="noStrike">
                <a:solidFill>
                  <a:srgbClr val="808080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7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Alteon Websystems 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19.00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74 15/16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294.41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8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Healtheon 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8.00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31 3/8 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292.19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9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Ariba 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23.00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90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291.30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10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eToys 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20.00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76 9/16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282.81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30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Marimba 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20.00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60 7/8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204.38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284560" y="3200040"/>
            <a:ext cx="66132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“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Calico Commerce provides advanced e-commerce software to companies involved in the selling of complex products. Equipped with industry leading clients Dell, Gateway, Cisco and Nortel, it has already established a strong foothold in the computer hardware and networking markets, and now looks to penetrate additional markets.” </a:t>
            </a:r>
            <a:r>
              <a:rPr b="1" i="1" lang="en-US" sz="1800" spc="-1" strike="noStrike">
                <a:solidFill>
                  <a:srgbClr val="808080"/>
                </a:solidFill>
                <a:latin typeface="Times New Roman"/>
              </a:rPr>
              <a:t>October 4, 1999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“Not only has the company a great growth rate, but the magnitude of its revenue growth is impressive. Calico has something that customers are buying.”  </a:t>
            </a:r>
            <a:r>
              <a:rPr b="1" i="1" lang="en-US" sz="1800" spc="-1" strike="noStrike">
                <a:solidFill>
                  <a:srgbClr val="808080"/>
                </a:solidFill>
                <a:latin typeface="Times New Roman"/>
              </a:rPr>
              <a:t>September 23, 1999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 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“Shares of Calico Commerce Inc. quadrupled from their initial-public-offering level on their first day of trading, the latest sign of investors’ appetite for companies that make the building blocks for other businesses’ Internet-commerce ambitions.”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October 8, 1999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250920" y="1523880"/>
          <a:ext cx="1728720" cy="44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523880"/>
                    <a:ext cx="172872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439560" y="3352680"/>
          <a:ext cx="1295640" cy="24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9560" y="3352680"/>
                    <a:ext cx="1295640" cy="2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1" name=""/>
          <p:cNvGraphicFramePr/>
          <p:nvPr/>
        </p:nvGraphicFramePr>
        <p:xfrm>
          <a:off x="689040" y="3657600"/>
          <a:ext cx="842760" cy="843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9040" y="3657600"/>
                    <a:ext cx="842760" cy="8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3" name=""/>
          <p:cNvGraphicFramePr/>
          <p:nvPr/>
        </p:nvGraphicFramePr>
        <p:xfrm>
          <a:off x="366840" y="4800600"/>
          <a:ext cx="1817640" cy="503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6840" y="4800600"/>
                    <a:ext cx="181764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"/>
          <p:cNvSpPr/>
          <p:nvPr/>
        </p:nvSpPr>
        <p:spPr>
          <a:xfrm>
            <a:off x="3881520" y="243000"/>
            <a:ext cx="467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alico IPO Coverag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03680" y="328680"/>
            <a:ext cx="355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st-IPO Pr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st IP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38080" y="1657080"/>
            <a:ext cx="722016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at sense of relief at having completed successful public offer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0 lockup period for employee stock s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der to hire new employ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oking Ba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440" y="1657080"/>
            <a:ext cx="729612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PO Pricing - underpriced IPOs garner great publicity - this branding and recognition cannot be bou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secondary offering at higher pr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customers are worth 100X other customers in terms of credibility (Dell, Cisc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announce plans to public internally until all IPO metrics have been m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ue chip investors lead to blue chip ban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-552600" y="17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1143000" y="1757520"/>
            <a:ext cx="6553080" cy="3255840"/>
            <a:chOff x="1143000" y="1757520"/>
            <a:chExt cx="6553080" cy="3255840"/>
          </a:xfrm>
        </p:grpSpPr>
        <p:grpSp>
          <p:nvGrpSpPr>
            <p:cNvPr id="323" name=""/>
            <p:cNvGrpSpPr/>
            <p:nvPr/>
          </p:nvGrpSpPr>
          <p:grpSpPr>
            <a:xfrm>
              <a:off x="1145880" y="1762200"/>
              <a:ext cx="6546960" cy="3246480"/>
              <a:chOff x="1145880" y="1762200"/>
              <a:chExt cx="6546960" cy="3246480"/>
            </a:xfrm>
          </p:grpSpPr>
          <p:sp>
            <p:nvSpPr>
              <p:cNvPr id="324" name=""/>
              <p:cNvSpPr/>
              <p:nvPr/>
            </p:nvSpPr>
            <p:spPr>
              <a:xfrm>
                <a:off x="1145880" y="1762200"/>
                <a:ext cx="6546960" cy="324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5" name=""/>
              <p:cNvGrpSpPr/>
              <p:nvPr/>
            </p:nvGrpSpPr>
            <p:grpSpPr>
              <a:xfrm>
                <a:off x="1145880" y="1762200"/>
                <a:ext cx="6546960" cy="3246480"/>
                <a:chOff x="1145880" y="1762200"/>
                <a:chExt cx="6546960" cy="324648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1145880" y="1762200"/>
                  <a:ext cx="6546960" cy="3246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US" sz="207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                                                                          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1145880" y="1762200"/>
                  <a:ext cx="6546960" cy="324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8" name=""/>
            <p:cNvSpPr/>
            <p:nvPr/>
          </p:nvSpPr>
          <p:spPr>
            <a:xfrm>
              <a:off x="1143000" y="1757520"/>
              <a:ext cx="6553080" cy="32558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9" name="clic" descr="Chart"/>
          <p:cNvPicPr/>
          <p:nvPr/>
        </p:nvPicPr>
        <p:blipFill>
          <a:blip r:embed="rId1"/>
          <a:stretch/>
        </p:blipFill>
        <p:spPr>
          <a:xfrm>
            <a:off x="1386000" y="1808280"/>
            <a:ext cx="5851440" cy="329220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l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et IPO Perform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9 since 8/95 (Netscap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 value of $779 billion as of 6/1/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4 of these are up 1000% as of 6/1/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of 3/9/00, 52 exceeded 100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9% are trading above first-day close; 71% be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394240" y="551016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338440" y="5802480"/>
            <a:ext cx="30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Morgan Stanley Dean Wit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6" name=""/>
          <p:cNvGraphicFramePr/>
          <p:nvPr/>
        </p:nvGraphicFramePr>
        <p:xfrm>
          <a:off x="533520" y="876240"/>
          <a:ext cx="8076960" cy="5219640"/>
        </p:xfrm>
        <a:graphic>
          <a:graphicData uri="http://schemas.openxmlformats.org/drawingml/2006/table">
            <a:tbl>
              <a:tblPr/>
              <a:tblGrid>
                <a:gridCol w="2286000"/>
                <a:gridCol w="1447560"/>
                <a:gridCol w="990720"/>
                <a:gridCol w="1219320"/>
                <a:gridCol w="1143000"/>
                <a:gridCol w="99036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Sec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Market C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($B as of 6/1/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# of Compan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#1 Compan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#2 Compan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#1 + #2 as % of 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rt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ahoo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rastruc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ip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riSig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rastructure Servi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od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Ser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tw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ib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B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er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B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azon.co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ulting &amp; App Servi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pi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chFir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ancial Servi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u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terhou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rtical Port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M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N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-sector Compan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MG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C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t Mrktg. &amp; Ad Servi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uble-Cli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g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2B Commer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rtical-N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Marke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7" name=""/>
          <p:cNvSpPr/>
          <p:nvPr/>
        </p:nvSpPr>
        <p:spPr>
          <a:xfrm>
            <a:off x="2209680" y="0"/>
            <a:ext cx="518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et Sector Val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96360" y="6507000"/>
            <a:ext cx="262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Morgan Stanley Dean Wi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OL Time Warn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ed market cap: $219B (8/2/00); $235.5B (9/27/00)  Why?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5 million subscribers + 161 Internet registrees +350 weekly TV viewers + 200 weekly magazine readers = 831 million consumer touchpoint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L average member’s daily u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quarter 1995: 12 min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quarter 2000: 64 min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cted $45-50B free cash flow from 2001-2005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90% of Internet stocks are overvalued, and 10% are dramatically undervalued.”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Motley Fools…</a:t>
            </a:r>
            <a:br>
              <a:rPr sz="4400"/>
            </a:br>
            <a:br>
              <a:rPr sz="4400"/>
            </a:br>
            <a:r>
              <a:rPr b="0" lang="en-US" sz="4400" spc="-1" strike="noStrike" u="sng">
                <a:solidFill>
                  <a:srgbClr val="3333cc"/>
                </a:solidFill>
                <a:uFillTx/>
                <a:latin typeface="Times New Roman"/>
              </a:rPr>
              <a:t>Which are which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aho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 cap: $70B (8/2/00); $56.3B (9/27/00)  Why?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45 million unique worldwide u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1 in Korea, Japan, UK, and in top 3 in France, Germany, and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0% of users outside US, but only 14% of revenu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reat upside potent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0% Y/Y revenue growth and 38% marg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fitabl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azon.c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et cap: $10.8B (8/2/00); $14.1B (9/27/00)  Why?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$1.6 B 1999 sales = 5% of total online ret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ing sales per customer ($1210 with decreasing acquisition cost ($1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cted 2000 operating losses of $305 million… Is this a company to bet on for the futu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B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et cap: $12.8B (8/1/00); $19B (9/27/00)  Why?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3% gross marg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ra-dominant player in 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fitable!  (barely!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et Company Success Factors (per Morgan Stanley Dean Witte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market opportun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od technology/service w/ significant value pro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eat management/BOD/part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ding and sustainable (and renewable) market position w/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over advant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and leader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ane customer foc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sible product line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ccess Factors (Cont’d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nuity-like business w/sustainable operating leverage and high barriers to en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-cost infrastructure and development eff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ong moment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pidly growing customer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r, broad distribution pl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portunity to increase customer touch po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exibility to extend across me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ch and market sh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ickiness and customer loyal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pres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elling strategic partner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It Worth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mediametrix.com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ww.webmergers.com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Wingdings"/>
                <a:ea typeface="Wingdings"/>
                <a:hlinkClick r:id="rId2"/>
              </a:rPr>
              <a:t>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Or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www.internet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tocks.com/launch.asp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Wingdings"/>
                <a:ea typeface="Wingdings"/>
                <a:hlinkClick r:id="rId5"/>
              </a:rPr>
              <a:t>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http://finance.yahoo.com/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0" y="4343400"/>
            <a:ext cx="2057400" cy="190512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800600" y="762120"/>
            <a:ext cx="379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00cc"/>
                </a:solidFill>
                <a:latin typeface="Poster Bodoni"/>
              </a:rPr>
              <a:t>THINK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43400" y="152280"/>
            <a:ext cx="4419720" cy="2743200"/>
          </a:xfrm>
          <a:prstGeom prst="cloudCallout">
            <a:avLst>
              <a:gd name="adj1" fmla="val -49032"/>
              <a:gd name="adj2" fmla="val 4982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66880" y="35812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2438280" y="2971800"/>
            <a:ext cx="1828800" cy="137160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C’s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s are smart; insights for enterprise investment deci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IPO Case S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1 2000 Venture Fu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$17.8 bill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040 ro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$41 million median premoney val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$12 million median amount rai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8T23:40:15Z</dcterms:created>
  <dc:creator>sleff</dc:creator>
  <dc:description/>
  <dc:language>en-US</dc:language>
  <cp:lastModifiedBy>sleff</cp:lastModifiedBy>
  <dcterms:modified xsi:type="dcterms:W3CDTF">2000-09-28T02:47:08Z</dcterms:modified>
  <cp:revision>66</cp:revision>
  <dc:subject/>
  <dc:title>IPOs, etc.</dc:title>
</cp:coreProperties>
</file>