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Times New Roman"/>
              </a:rPr>
              <a:t>Strategy for the eBusiness                                                                                   Copyright 2000 Scott B. Le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the e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tt B. Leff, M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ing Director – Leff Financial Group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11 Shady Av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ttsburgh, PA 15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12) 362-15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eff@andrew.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tition from Rival Fi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customers and supp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ewable Advant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mover advantage is of limited value without sustainable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ng beyond the notion of sustainable advantage to the notion of renewable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at firms in terms of their timeframes/life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7240" y="594360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tainability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38080" y="1393920"/>
          <a:ext cx="7772400" cy="46260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pol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us, varied barr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profits, limited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k market lock-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n market fa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 staircase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led grow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ble, long-run pri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th economies limi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ization valu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igopolistic: a few                             dominant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le-driven barriers to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ble; based on cost and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in &amp; hold market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 seg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nd loyal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ies of scale-dri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mwork orie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urpri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namic rival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 destruction and value-ad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stable, changing barr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ck competitor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novation and de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erse information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ck ramp up/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launch price; quick dr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epreneurial; risk-ta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 learning/forg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492200" y="914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9400" y="9000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6120" y="9144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80680" y="9144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00" y="499752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0" y="339732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00" y="179712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724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cing as a Function of Renew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cycle companies: Prices tend to slowly creep up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cycle companies: Prices tend to slowly creep down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cycle companies: Prices tend to start high and drop quick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cing Examples – Slow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066680"/>
          <a:ext cx="7772400" cy="45514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change/y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spital Room, per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0-19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l Applia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-19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tai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0-1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ege Tu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op 20 private, U.S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-1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cing Examples – Standard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5238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change/y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enger C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2-19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ic Lam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-19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7)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Produ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3-19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8)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iler Chick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6-1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8)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cing Examples – Fas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21932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change/y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wave Ov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2-19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.6)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 PBX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5-19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.9)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 Wristwat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3-1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.6)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ly P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0-1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9.9)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5560920" y="594360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/AMD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176688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511956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176688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76688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176688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590920" y="3366720"/>
            <a:ext cx="685800" cy="7621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3138480"/>
            <a:ext cx="533520" cy="8380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477120" y="3138120"/>
            <a:ext cx="457200" cy="7621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367080"/>
            <a:ext cx="838080" cy="5335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138480"/>
            <a:ext cx="990360" cy="6094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2681280"/>
            <a:ext cx="11430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224080"/>
            <a:ext cx="18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2224080"/>
            <a:ext cx="18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0120" y="18288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19560" y="51814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295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0840" y="1143000"/>
            <a:ext cx="37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l – Temporary first-mover adva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565308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5360" y="5486400"/>
            <a:ext cx="35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D – Temporary follower adva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4508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BU vs. Core Compet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Motors 1920 SBU (Strategic Business Unit) vi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Motors 1970 Core Competencies vi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66688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266688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666880"/>
            <a:ext cx="1524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266688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66688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240" y="272880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vro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83640" y="2743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nti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41720" y="27432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s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21360" y="274320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5880" y="27432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dill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800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800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4800600"/>
            <a:ext cx="1524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00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4520" y="48625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g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55400" y="487692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ive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960" y="48769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2240" y="487692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80520" y="4876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w Cycle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Microsoft, Disney, McKins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long-term lock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t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ircase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intellectual capital with sustainable marke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depend on a single individual – the key “artis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496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on’t be fooled by the recent drop in Internet-related stock prices.  E-business is here to stay… unless non-U.S. companies fight back, the e-battle will be over before it’s begun.  And the stakes are high – no less than the future economic prosperity of your nations.”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John E. Carroll III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 2000 ZEFER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Ti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critical mas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chnology taking off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owth of a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s/members benefit from additional subscribers/members – e.g., eBay, Ama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positive externalities where one person’s benefit is enhanced by actions of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y who has no official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externalities, e.g., 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 Ti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9051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4864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9160" y="2832120"/>
            <a:ext cx="116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32520" y="56246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 Sh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308320"/>
            <a:ext cx="3181320" cy="3178080"/>
          </a:xfrm>
          <a:custGeom>
            <a:avLst/>
            <a:gdLst/>
            <a:ahLst/>
            <a:rect l="l" t="t" r="r" b="b"/>
            <a:pathLst>
              <a:path w="2004" h="2002">
                <a:moveTo>
                  <a:pt x="0" y="2002"/>
                </a:moveTo>
                <a:cubicBezTo>
                  <a:pt x="243" y="1860"/>
                  <a:pt x="1123" y="1486"/>
                  <a:pt x="1457" y="1152"/>
                </a:cubicBezTo>
                <a:cubicBezTo>
                  <a:pt x="1791" y="818"/>
                  <a:pt x="1890" y="240"/>
                  <a:pt x="2004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2400480"/>
            <a:ext cx="4191120" cy="3085920"/>
          </a:xfrm>
          <a:custGeom>
            <a:avLst/>
            <a:gdLst/>
            <a:ahLst/>
            <a:rect l="l" t="t" r="r" b="b"/>
            <a:pathLst>
              <a:path w="2640" h="1944">
                <a:moveTo>
                  <a:pt x="0" y="1944"/>
                </a:moveTo>
                <a:cubicBezTo>
                  <a:pt x="432" y="1780"/>
                  <a:pt x="864" y="1616"/>
                  <a:pt x="1152" y="1320"/>
                </a:cubicBezTo>
                <a:cubicBezTo>
                  <a:pt x="1440" y="1024"/>
                  <a:pt x="1568" y="336"/>
                  <a:pt x="1728" y="168"/>
                </a:cubicBezTo>
                <a:cubicBezTo>
                  <a:pt x="1888" y="0"/>
                  <a:pt x="1960" y="16"/>
                  <a:pt x="2112" y="312"/>
                </a:cubicBezTo>
                <a:cubicBezTo>
                  <a:pt x="2264" y="608"/>
                  <a:pt x="2552" y="1672"/>
                  <a:pt x="2640" y="19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8800" y="228600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”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242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36640" y="4405320"/>
            <a:ext cx="170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mic Lock-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 Ow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791320" y="4952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ircase Strategy Simplif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/>
          <p:nvPr/>
        </p:nvCxnSpPr>
        <p:spPr>
          <a:xfrm flipV="1">
            <a:off x="1143000" y="4509720"/>
            <a:ext cx="5029920" cy="381600"/>
          </a:xfrm>
          <a:prstGeom prst="bentConnector3">
            <a:avLst>
              <a:gd name="adj1" fmla="val 1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 flipV="1">
            <a:off x="1523880" y="4128840"/>
            <a:ext cx="5029920" cy="381600"/>
          </a:xfrm>
          <a:prstGeom prst="bentConnector3">
            <a:avLst>
              <a:gd name="adj1" fmla="val 1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/>
          <p:nvPr/>
        </p:nvCxnSpPr>
        <p:spPr>
          <a:xfrm flipV="1">
            <a:off x="762120" y="4890240"/>
            <a:ext cx="5029920" cy="381960"/>
          </a:xfrm>
          <a:prstGeom prst="bentConnector3">
            <a:avLst>
              <a:gd name="adj1" fmla="val 1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"/>
          <p:cNvCxnSpPr/>
          <p:nvPr/>
        </p:nvCxnSpPr>
        <p:spPr>
          <a:xfrm flipV="1">
            <a:off x="1905120" y="3747240"/>
            <a:ext cx="5029920" cy="381960"/>
          </a:xfrm>
          <a:prstGeom prst="bentConnector3">
            <a:avLst>
              <a:gd name="adj1" fmla="val 1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"/>
          <p:cNvCxnSpPr/>
          <p:nvPr/>
        </p:nvCxnSpPr>
        <p:spPr>
          <a:xfrm flipV="1">
            <a:off x="2362320" y="3366720"/>
            <a:ext cx="5029920" cy="381600"/>
          </a:xfrm>
          <a:prstGeom prst="bentConnector3">
            <a:avLst>
              <a:gd name="adj1" fmla="val 1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/>
          <p:nvPr/>
        </p:nvCxnSpPr>
        <p:spPr>
          <a:xfrm flipV="1">
            <a:off x="2819520" y="2985840"/>
            <a:ext cx="5029920" cy="381600"/>
          </a:xfrm>
          <a:prstGeom prst="bentConnector3">
            <a:avLst>
              <a:gd name="adj1" fmla="val 1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/>
          <p:nvPr/>
        </p:nvCxnSpPr>
        <p:spPr>
          <a:xfrm flipV="1">
            <a:off x="3276720" y="2604240"/>
            <a:ext cx="5029920" cy="381960"/>
          </a:xfrm>
          <a:prstGeom prst="bentConnector3">
            <a:avLst>
              <a:gd name="adj1" fmla="val 1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/>
          <p:nvPr/>
        </p:nvCxnSpPr>
        <p:spPr>
          <a:xfrm flipV="1">
            <a:off x="3809880" y="2223720"/>
            <a:ext cx="5029920" cy="381600"/>
          </a:xfrm>
          <a:prstGeom prst="bentConnector3">
            <a:avLst>
              <a:gd name="adj1" fmla="val 15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901800" y="495288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-bit MS-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37480" y="4572000"/>
            <a:ext cx="42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 3.0 – a new GUI with a MAC-like l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1960" y="4114800"/>
            <a:ext cx="46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 95 – moves Microsoft in office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75200" y="373392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s for Windows 95 – Word, PowerPoint, Exc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37800" y="3352680"/>
            <a:ext cx="559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 NT (released to office environment before Windows 9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89960" y="3048120"/>
            <a:ext cx="17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soft Explo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25280" y="2590920"/>
            <a:ext cx="43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 98 – further browser function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51600" y="220968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2200" y="1295280"/>
            <a:ext cx="792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soft’s staircase strategy maintains slow-cycle advantage and extends “monopoly”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achieving backward lock-in, continually raising customer switching-costs, and encourag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ccessive product upgr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85800" y="2361960"/>
            <a:ext cx="236232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3747960"/>
            <a:ext cx="0" cy="2057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367080"/>
            <a:ext cx="0" cy="2438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4640" y="54687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45160" y="54864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85400" y="548640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(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hieving the Stair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ndle the apps for one pri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value over single app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GUI makes (theoretically) easy import/export among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users of competitors’ products to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ty developers to write for cross-platform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ar before release, MS require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ty developers who wanted to write for NT or 95 to make systems compatible with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leverageable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-cycle companies have key assets that they can draw sustained and renewable value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 –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ir – Pittsburgh h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ney – Mickey Mouse, “classic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724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w Cycl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ly evolving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le product suppor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direct price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able throughout product lif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/constrained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economies of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Cycle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AT&amp;T, Ford, Wal-Mart, McDona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 to suc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tery of economies of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ma-6 (zero defects)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Cycle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Compaq, Sony, Amazon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 comes from attractive idea that can be easily copied once 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brand loy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isolating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lsar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oom of the unknowing fast cycle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2 – Hamilton Watch introduces first digital wristw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-filled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made production of 100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production: $100; sales price: $2,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s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724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milto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se price and limit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volume and slowly drop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wo lines (dual brand) at high/low pric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ense/joint venture of technology with others (problem is, technology isn’t propriet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We’re Going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ic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newable Advantag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ing the hybrid view to eComm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4 years, plastic digital watches were available for $19.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ilton continued to pour money into Pulsar strategy as high-end 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76, Hamilton Watch files for bankruptcy – because of the Pul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4508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id Hamilton Collap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lsar Effect – the tendency of a fast cycle product to draw a company into ultimately disastrous inve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cycle company in a fast cycl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rder Your Dar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cycle decision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-Making in Interne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al-tim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multiple, simultaneous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have a fall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dis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functional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decisive – someone must be able to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0920" y="6019920"/>
            <a:ext cx="23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Jeffrey R.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Decision-Making in Interne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willing to f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t your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k good outside ad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ood sound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er’s Min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pscott’s 5 Business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ora model – like the ancient Greek marketplace, self-organizing with low integration of value.  Example: eB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model – hierarchical with low integration of value.  Example: E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chain model – hierarchical with high value integration.  Example: Dell Computers – the web members manufacture, the customer designs, and Dell assem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Business Webs, Cont’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e model – non-hierarchical with high value integration (self-running).  Examples: Linux;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ve network model – Internet-based, cuts across all four other models.  Examples: old economy – utilities and road systems; new economy – Enron (enters new markets, acquires companies, divests others, builds partner networks, redefines mar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4 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4 Ps Reengine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eds added-value, customization: Dell, Free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r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duced costs, bots, exchanges (e.g., auctions) that shift control, global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re media, greater noise, targ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s of the M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ore’s Law – Computing power roughly doubles every 18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calfe’s Law – The value of a network is proportional to the square of the number of its members/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t’s no longer eCommerce vs. Commerce… 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Commerce is Commer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Implications of the Laws of the M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ore’s La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cal advantage is very hard to sus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other differentiators such as quality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patents (U.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zon’s one-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one step ahead is two step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isdom of outsou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bility/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Implications of the Laws of the M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calfe’s La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just for B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a vertical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ving for ti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driven by market-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… eyeballs, alone, are no longer en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Supply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3124080"/>
            <a:ext cx="4343400" cy="486000"/>
          </a:xfrm>
          <a:custGeom>
            <a:avLst/>
            <a:gdLst>
              <a:gd name="textAreaLeft" fmla="*/ 678600 w 4343400"/>
              <a:gd name="textAreaRight" fmla="*/ 3800520 w 43434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3520" y="31240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440" y="2562120"/>
            <a:ext cx="167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26240" y="31240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mmerce Value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2590560" y="3124080"/>
            <a:ext cx="4343400" cy="533520"/>
          </a:xfrm>
          <a:custGeom>
            <a:avLst/>
            <a:gdLst>
              <a:gd name="textAreaLeft" fmla="*/ 678600 w 4343400"/>
              <a:gd name="textAreaRight" fmla="*/ 3800520 w 4343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13520" y="31240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440" y="2562120"/>
            <a:ext cx="16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25160" y="31240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Technology as a Tool of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3124080"/>
            <a:ext cx="4343400" cy="486000"/>
          </a:xfrm>
          <a:custGeom>
            <a:avLst/>
            <a:gdLst>
              <a:gd name="textAreaLeft" fmla="*/ 678600 w 4343400"/>
              <a:gd name="textAreaRight" fmla="*/ 3800520 w 43434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27160" y="289548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80400" y="29718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Technology as a Partner in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496040" cy="486000"/>
          </a:xfrm>
          <a:prstGeom prst="leftRightArrow">
            <a:avLst>
              <a:gd name="adj1" fmla="val 50000"/>
              <a:gd name="adj2" fmla="val 184165"/>
            </a:avLst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289548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80400" y="29718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mmerce as a Radical Change A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change in major ways very 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s, societies and governments change much more grad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IT changes can be disrup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s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kill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xpected i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mmerce strategy must be cross-functional and involve all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Your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bs02064_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908160" cy="38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arting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1: Is it bit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2: What can we gain from e-ing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Your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r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awar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er’s Competitiv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438280"/>
            <a:ext cx="14475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w Ent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5812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ppli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3581280"/>
            <a:ext cx="14475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valry Am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isting Compet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35812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stomers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724280"/>
            <a:ext cx="14475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stit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95680" y="4266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3341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Your Level of e-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tage: Pa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stage: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stage: Dyna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stage: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the Internet Add Value for the Custo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pers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q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 gratif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the Internet Add Value for the Enterpri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market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ware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titive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455840" y="781200"/>
          <a:ext cx="623232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781200"/>
                    <a:ext cx="6232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2362320" y="1873080"/>
            <a:ext cx="44193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18730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33210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99640" y="1415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41760" y="5073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160" y="22860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d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e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30240" y="507348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d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e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16240" y="507348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e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160" y="373392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e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225432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63000" y="374652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25432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22840" y="366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86440" y="374652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Competitive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Competitive Advantage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ing – more than just banner 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Obstacles Outside U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Internet access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lower access levels (not Korea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languages, currencies, cul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ernmental restr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Advantages Over U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wireless pene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mart card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ernmen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labor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 Locally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domestic presence, work out bugs, then exp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hoo! – first in U.S., then series of roll-out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calize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partners are another option, e.g., A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telsmann: Germany, Cisneros Group: Latin America, Royal Bank of Canada, Mitsui &amp; Nikkei: Japan, Chin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 Keys to a Successful eBusiness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at Internet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natic devotion to C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hrough both ends of the binocu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ck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ce,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-house vs. outsource (remember Internet spe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yeballs vs. pro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Entrants: 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cost 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channel access/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erplays of existing firms to new ent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 Keys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it good en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ies for monopo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cks &amp; Mortar, Clicks &amp; Mortar, or Clicks &amp;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you prepared for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ustry by industry, sector by sector, new business models are obliterating the old ones.  Companies that change accordingly have a chance at success.  Those that don’t are basically toast, and the punishment will be very, very swift.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on Tapsco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4343400"/>
            <a:ext cx="2057400" cy="1905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76212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cc"/>
                </a:solidFill>
                <a:latin typeface="Poster Bodoni"/>
              </a:rPr>
              <a:t>THIN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152280"/>
            <a:ext cx="4419720" cy="2743200"/>
          </a:xfrm>
          <a:prstGeom prst="cloudCallout">
            <a:avLst>
              <a:gd name="adj1" fmla="val -49032"/>
              <a:gd name="adj2" fmla="val 49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438280" y="2971800"/>
            <a:ext cx="1828800" cy="1371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stitutes: 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new ent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stomers’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ly and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as seller competition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with threat of buyer backward-integration into seller’s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with lack of differentiation of seller’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s as seller adds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ve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iers’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9T00:37:49Z</dcterms:created>
  <dc:creator>sleff</dc:creator>
  <dc:description/>
  <dc:language>en-US</dc:language>
  <cp:lastModifiedBy>John T. Grasso</cp:lastModifiedBy>
  <dcterms:modified xsi:type="dcterms:W3CDTF">2000-08-01T20:44:21Z</dcterms:modified>
  <cp:revision>65</cp:revision>
  <dc:subject/>
  <dc:title>Tapscott’s 5 Business Webs</dc:title>
</cp:coreProperties>
</file>