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8129588" cy="6099175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652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1144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2196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652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31144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6640" y="806040"/>
            <a:ext cx="64882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652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11440" y="155844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2196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652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11440" y="3629160"/>
            <a:ext cx="208980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26640" y="806040"/>
            <a:ext cx="648828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48360" y="362916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48360" y="1558440"/>
            <a:ext cx="316764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21960" y="3629160"/>
            <a:ext cx="6491160" cy="18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92240" indent="-291960">
              <a:spcAft>
                <a:spcPts val="751"/>
              </a:spcAft>
              <a:buClr>
                <a:srgbClr val="ffffff"/>
              </a:buClr>
              <a:buFont typeface="Symbol" charset="2"/>
              <a:buChar char="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03040"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5280" y="5851440"/>
            <a:ext cx="16606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© 2000 Anthony J. Lattanz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53000" y="5840280"/>
            <a:ext cx="682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Version 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680" y="4680"/>
            <a:ext cx="8116920" cy="608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5837400"/>
            <a:ext cx="304776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Risk Management  - page </a:t>
            </a:r>
            <a:fld id="{AB91A48B-6B57-4AFA-8E2A-99686DD2503C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2960" y="608040"/>
            <a:ext cx="7215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53000" y="5840280"/>
            <a:ext cx="6822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Version 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8116920" cy="608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56320" y="5791320"/>
            <a:ext cx="213012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Risk Management  - page </a:t>
            </a:r>
            <a:fld id="{9CA16B80-217D-46CA-8A5D-322B283199CA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2960" y="608040"/>
            <a:ext cx="7215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2320" y="3922560"/>
            <a:ext cx="65023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 of Computer Sci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00 Anthony J. Lattan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43000"/>
            <a:ext cx="7315560" cy="10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06440" y="1426680"/>
            <a:ext cx="7315560" cy="35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414360" algn="ctr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0028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"/>
              <a:tabLst>
                <a:tab algn="l" pos="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62576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257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257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7640" y="712800"/>
            <a:ext cx="650232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sk Manage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838080"/>
            <a:ext cx="65674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and Software Life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600200"/>
            <a:ext cx="642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is developed in 5 general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(gathering and analys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66760" indent="-16524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, maintain, decom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ftware Life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phase has unique ri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Lifecycle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general schools of thou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bang”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duct is delivered all at o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yclical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duct is developed and possibly delivered in inc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ater Fal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Bang” development is usually associated with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liest definition of a software development model (MILSTD 216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had some influence on the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72760" indent="-1872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ow code, compiler, debug cy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ed the way that other engineering disciplines built th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8640" indent="-172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 popular tod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ater Fal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4440" y="1447920"/>
          <a:ext cx="6093000" cy="334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447920"/>
                    <a:ext cx="60930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914400" y="4724280"/>
            <a:ext cx="67816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at are the strengths and weaknesses of  this mode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yclical Model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umerous cyclical model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ir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pid application development (RA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prescribes building and delivering the system in “inch-stones” rather than “mile-stone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rs iteratively build more function into the syst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piral Mod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105520"/>
            <a:ext cx="708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at are the strengths and weaknesses of  this mode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962520" y="1371600"/>
            <a:ext cx="0" cy="3733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276720"/>
            <a:ext cx="50292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5000" y="1873080"/>
            <a:ext cx="4111200" cy="2317680"/>
            <a:chOff x="765000" y="1873080"/>
            <a:chExt cx="4111200" cy="2317680"/>
          </a:xfrm>
        </p:grpSpPr>
        <p:sp>
          <p:nvSpPr>
            <p:cNvPr id="144" name=""/>
            <p:cNvSpPr/>
            <p:nvPr/>
          </p:nvSpPr>
          <p:spPr>
            <a:xfrm flipH="1">
              <a:off x="304812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5000" y="1873080"/>
              <a:ext cx="246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termine objectives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ve, constra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48480" y="1873080"/>
            <a:ext cx="3881880" cy="2317680"/>
            <a:chOff x="3048480" y="1873080"/>
            <a:chExt cx="3881880" cy="2317680"/>
          </a:xfrm>
        </p:grpSpPr>
        <p:sp>
          <p:nvSpPr>
            <p:cNvPr id="147" name=""/>
            <p:cNvSpPr/>
            <p:nvPr/>
          </p:nvSpPr>
          <p:spPr>
            <a:xfrm>
              <a:off x="304848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85120" y="1873080"/>
              <a:ext cx="21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dentify and resol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ociated risk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048480" y="2362680"/>
            <a:ext cx="3786480" cy="2166120"/>
            <a:chOff x="3048480" y="2362680"/>
            <a:chExt cx="3786480" cy="2166120"/>
          </a:xfrm>
        </p:grpSpPr>
        <p:sp>
          <p:nvSpPr>
            <p:cNvPr id="150" name=""/>
            <p:cNvSpPr/>
            <p:nvPr/>
          </p:nvSpPr>
          <p:spPr>
            <a:xfrm rot="5400000">
              <a:off x="3048480" y="236232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4200" y="3886200"/>
              <a:ext cx="203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velop and verif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71480" y="2362680"/>
            <a:ext cx="4333320" cy="2242440"/>
            <a:chOff x="771480" y="2362680"/>
            <a:chExt cx="4333320" cy="2242440"/>
          </a:xfrm>
        </p:grpSpPr>
        <p:sp>
          <p:nvSpPr>
            <p:cNvPr id="153" name=""/>
            <p:cNvSpPr/>
            <p:nvPr/>
          </p:nvSpPr>
          <p:spPr>
            <a:xfrm rot="10800000">
              <a:off x="2819520" y="23626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1480" y="3962520"/>
              <a:ext cx="257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valuate and valid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uct, plan next cy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Development Risk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 inherent part of softwar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Experie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often ignored or at best dealt with in an ad-hoc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are not identified proactiv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ed to become problems before any action is tak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re Do Risks Come From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the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know that we don’t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.things we don’t know that we don’t k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even things we don’t want to know... (maybe they will just go aw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615000" y="3733920"/>
            <a:ext cx="151452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cope of Contro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those risk elements that we can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orig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risk elements we cannot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orig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 since they effect us, we are obligated to plan for th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“real-world” project typically has bo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0">
              <a:spcAft>
                <a:spcPts val="751"/>
              </a:spcAft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urces of System Development Ris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787040"/>
            <a:ext cx="670572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areas of system development are potential sources of softwar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09560" y="2805120"/>
            <a:ext cx="160884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127480"/>
            <a:ext cx="1600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91240" y="3556080"/>
            <a:ext cx="162396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365720"/>
            <a:ext cx="160020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9160" y="3556080"/>
            <a:ext cx="164772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365720"/>
            <a:ext cx="162396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6520" y="3784680"/>
            <a:ext cx="3048120" cy="1295280"/>
            <a:chOff x="2666520" y="3784680"/>
            <a:chExt cx="3048120" cy="1295280"/>
          </a:xfrm>
        </p:grpSpPr>
        <p:sp>
          <p:nvSpPr>
            <p:cNvPr id="171" name=""/>
            <p:cNvSpPr/>
            <p:nvPr/>
          </p:nvSpPr>
          <p:spPr>
            <a:xfrm>
              <a:off x="2666880" y="3784680"/>
              <a:ext cx="3047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190760" y="378468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666520" y="378468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666520" y="3251160"/>
            <a:ext cx="3048120" cy="1295280"/>
            <a:chOff x="2666520" y="3251160"/>
            <a:chExt cx="3048120" cy="1295280"/>
          </a:xfrm>
        </p:grpSpPr>
        <p:sp>
          <p:nvSpPr>
            <p:cNvPr id="175" name=""/>
            <p:cNvSpPr/>
            <p:nvPr/>
          </p:nvSpPr>
          <p:spPr>
            <a:xfrm>
              <a:off x="4190760" y="325116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6880" y="4546440"/>
              <a:ext cx="3047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666520" y="3251160"/>
              <a:ext cx="152388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90920" y="3174840"/>
            <a:ext cx="3200400" cy="1981440"/>
            <a:chOff x="2590920" y="3174840"/>
            <a:chExt cx="3200400" cy="1981440"/>
          </a:xfrm>
        </p:grpSpPr>
        <p:sp>
          <p:nvSpPr>
            <p:cNvPr id="179" name=""/>
            <p:cNvSpPr/>
            <p:nvPr/>
          </p:nvSpPr>
          <p:spPr>
            <a:xfrm flipH="1">
              <a:off x="2666520" y="3174840"/>
              <a:ext cx="6858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29200" y="3174840"/>
              <a:ext cx="60948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4775040"/>
              <a:ext cx="76212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029200" y="4774680"/>
              <a:ext cx="6858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91320" y="401328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590920" y="4013280"/>
              <a:ext cx="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3251160"/>
            <a:ext cx="0" cy="1828800"/>
            <a:chOff x="4191120" y="3251160"/>
            <a:chExt cx="0" cy="1828800"/>
          </a:xfrm>
        </p:grpSpPr>
        <p:sp>
          <p:nvSpPr>
            <p:cNvPr id="186" name=""/>
            <p:cNvSpPr/>
            <p:nvPr/>
          </p:nvSpPr>
          <p:spPr>
            <a:xfrm>
              <a:off x="4191120" y="325116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4394160"/>
              <a:ext cx="0" cy="68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124080" y="3936960"/>
            <a:ext cx="2133720" cy="3988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oday’s Agend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isk anywa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we deal with risk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isk managemen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 we do when our system fail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we identify system failures before they occu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we mitigate system failures proactivel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649116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ood New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isk can be mana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0880" indent="-1242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ves continuous set of activities to identify, confront, and resolv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438280" y="3200400"/>
            <a:ext cx="3276360" cy="2590560"/>
            <a:chOff x="2438280" y="3200400"/>
            <a:chExt cx="3276360" cy="2590560"/>
          </a:xfrm>
        </p:grpSpPr>
        <p:sp>
          <p:nvSpPr>
            <p:cNvPr id="192" name=""/>
            <p:cNvSpPr/>
            <p:nvPr/>
          </p:nvSpPr>
          <p:spPr>
            <a:xfrm>
              <a:off x="2438280" y="4435200"/>
              <a:ext cx="2988360" cy="1355760"/>
            </a:xfrm>
            <a:custGeom>
              <a:avLst/>
              <a:gdLst/>
              <a:ahLst/>
              <a:rect l="l" t="t" r="r" b="b"/>
              <a:pathLst>
                <a:path w="1554" h="851">
                  <a:moveTo>
                    <a:pt x="42" y="0"/>
                  </a:moveTo>
                  <a:lnTo>
                    <a:pt x="57" y="15"/>
                  </a:lnTo>
                  <a:lnTo>
                    <a:pt x="75" y="40"/>
                  </a:lnTo>
                  <a:lnTo>
                    <a:pt x="96" y="64"/>
                  </a:lnTo>
                  <a:lnTo>
                    <a:pt x="117" y="91"/>
                  </a:lnTo>
                  <a:lnTo>
                    <a:pt x="135" y="118"/>
                  </a:lnTo>
                  <a:lnTo>
                    <a:pt x="156" y="145"/>
                  </a:lnTo>
                  <a:lnTo>
                    <a:pt x="174" y="169"/>
                  </a:lnTo>
                  <a:lnTo>
                    <a:pt x="189" y="190"/>
                  </a:lnTo>
                  <a:lnTo>
                    <a:pt x="201" y="208"/>
                  </a:lnTo>
                  <a:lnTo>
                    <a:pt x="216" y="221"/>
                  </a:lnTo>
                  <a:lnTo>
                    <a:pt x="228" y="233"/>
                  </a:lnTo>
                  <a:lnTo>
                    <a:pt x="243" y="242"/>
                  </a:lnTo>
                  <a:lnTo>
                    <a:pt x="255" y="251"/>
                  </a:lnTo>
                  <a:lnTo>
                    <a:pt x="267" y="257"/>
                  </a:lnTo>
                  <a:lnTo>
                    <a:pt x="277" y="263"/>
                  </a:lnTo>
                  <a:lnTo>
                    <a:pt x="289" y="269"/>
                  </a:lnTo>
                  <a:lnTo>
                    <a:pt x="307" y="278"/>
                  </a:lnTo>
                  <a:lnTo>
                    <a:pt x="325" y="281"/>
                  </a:lnTo>
                  <a:lnTo>
                    <a:pt x="343" y="290"/>
                  </a:lnTo>
                  <a:lnTo>
                    <a:pt x="361" y="308"/>
                  </a:lnTo>
                  <a:lnTo>
                    <a:pt x="373" y="329"/>
                  </a:lnTo>
                  <a:lnTo>
                    <a:pt x="376" y="335"/>
                  </a:lnTo>
                  <a:lnTo>
                    <a:pt x="385" y="341"/>
                  </a:lnTo>
                  <a:lnTo>
                    <a:pt x="406" y="347"/>
                  </a:lnTo>
                  <a:lnTo>
                    <a:pt x="424" y="353"/>
                  </a:lnTo>
                  <a:lnTo>
                    <a:pt x="442" y="359"/>
                  </a:lnTo>
                  <a:lnTo>
                    <a:pt x="463" y="368"/>
                  </a:lnTo>
                  <a:lnTo>
                    <a:pt x="481" y="380"/>
                  </a:lnTo>
                  <a:lnTo>
                    <a:pt x="499" y="392"/>
                  </a:lnTo>
                  <a:lnTo>
                    <a:pt x="511" y="405"/>
                  </a:lnTo>
                  <a:lnTo>
                    <a:pt x="520" y="417"/>
                  </a:lnTo>
                  <a:lnTo>
                    <a:pt x="523" y="429"/>
                  </a:lnTo>
                  <a:lnTo>
                    <a:pt x="514" y="444"/>
                  </a:lnTo>
                  <a:lnTo>
                    <a:pt x="496" y="447"/>
                  </a:lnTo>
                  <a:lnTo>
                    <a:pt x="475" y="447"/>
                  </a:lnTo>
                  <a:lnTo>
                    <a:pt x="451" y="447"/>
                  </a:lnTo>
                  <a:lnTo>
                    <a:pt x="436" y="450"/>
                  </a:lnTo>
                  <a:lnTo>
                    <a:pt x="418" y="456"/>
                  </a:lnTo>
                  <a:lnTo>
                    <a:pt x="397" y="459"/>
                  </a:lnTo>
                  <a:lnTo>
                    <a:pt x="373" y="462"/>
                  </a:lnTo>
                  <a:lnTo>
                    <a:pt x="346" y="465"/>
                  </a:lnTo>
                  <a:lnTo>
                    <a:pt x="319" y="465"/>
                  </a:lnTo>
                  <a:lnTo>
                    <a:pt x="292" y="465"/>
                  </a:lnTo>
                  <a:lnTo>
                    <a:pt x="267" y="459"/>
                  </a:lnTo>
                  <a:lnTo>
                    <a:pt x="289" y="480"/>
                  </a:lnTo>
                  <a:lnTo>
                    <a:pt x="322" y="504"/>
                  </a:lnTo>
                  <a:lnTo>
                    <a:pt x="364" y="528"/>
                  </a:lnTo>
                  <a:lnTo>
                    <a:pt x="412" y="552"/>
                  </a:lnTo>
                  <a:lnTo>
                    <a:pt x="460" y="576"/>
                  </a:lnTo>
                  <a:lnTo>
                    <a:pt x="514" y="598"/>
                  </a:lnTo>
                  <a:lnTo>
                    <a:pt x="562" y="613"/>
                  </a:lnTo>
                  <a:lnTo>
                    <a:pt x="607" y="622"/>
                  </a:lnTo>
                  <a:lnTo>
                    <a:pt x="628" y="619"/>
                  </a:lnTo>
                  <a:lnTo>
                    <a:pt x="658" y="619"/>
                  </a:lnTo>
                  <a:lnTo>
                    <a:pt x="688" y="625"/>
                  </a:lnTo>
                  <a:lnTo>
                    <a:pt x="724" y="634"/>
                  </a:lnTo>
                  <a:lnTo>
                    <a:pt x="760" y="643"/>
                  </a:lnTo>
                  <a:lnTo>
                    <a:pt x="790" y="652"/>
                  </a:lnTo>
                  <a:lnTo>
                    <a:pt x="817" y="661"/>
                  </a:lnTo>
                  <a:lnTo>
                    <a:pt x="835" y="667"/>
                  </a:lnTo>
                  <a:lnTo>
                    <a:pt x="850" y="667"/>
                  </a:lnTo>
                  <a:lnTo>
                    <a:pt x="866" y="670"/>
                  </a:lnTo>
                  <a:lnTo>
                    <a:pt x="884" y="667"/>
                  </a:lnTo>
                  <a:lnTo>
                    <a:pt x="902" y="667"/>
                  </a:lnTo>
                  <a:lnTo>
                    <a:pt x="920" y="664"/>
                  </a:lnTo>
                  <a:lnTo>
                    <a:pt x="935" y="664"/>
                  </a:lnTo>
                  <a:lnTo>
                    <a:pt x="950" y="664"/>
                  </a:lnTo>
                  <a:lnTo>
                    <a:pt x="965" y="664"/>
                  </a:lnTo>
                  <a:lnTo>
                    <a:pt x="977" y="664"/>
                  </a:lnTo>
                  <a:lnTo>
                    <a:pt x="992" y="661"/>
                  </a:lnTo>
                  <a:lnTo>
                    <a:pt x="1004" y="661"/>
                  </a:lnTo>
                  <a:lnTo>
                    <a:pt x="1022" y="658"/>
                  </a:lnTo>
                  <a:lnTo>
                    <a:pt x="1037" y="655"/>
                  </a:lnTo>
                  <a:lnTo>
                    <a:pt x="1052" y="652"/>
                  </a:lnTo>
                  <a:lnTo>
                    <a:pt x="1070" y="652"/>
                  </a:lnTo>
                  <a:lnTo>
                    <a:pt x="1085" y="649"/>
                  </a:lnTo>
                  <a:lnTo>
                    <a:pt x="1097" y="649"/>
                  </a:lnTo>
                  <a:lnTo>
                    <a:pt x="1109" y="649"/>
                  </a:lnTo>
                  <a:lnTo>
                    <a:pt x="1121" y="649"/>
                  </a:lnTo>
                  <a:lnTo>
                    <a:pt x="1130" y="649"/>
                  </a:lnTo>
                  <a:lnTo>
                    <a:pt x="1142" y="646"/>
                  </a:lnTo>
                  <a:lnTo>
                    <a:pt x="1157" y="643"/>
                  </a:lnTo>
                  <a:lnTo>
                    <a:pt x="1175" y="634"/>
                  </a:lnTo>
                  <a:lnTo>
                    <a:pt x="1196" y="622"/>
                  </a:lnTo>
                  <a:lnTo>
                    <a:pt x="1223" y="607"/>
                  </a:lnTo>
                  <a:lnTo>
                    <a:pt x="1247" y="595"/>
                  </a:lnTo>
                  <a:lnTo>
                    <a:pt x="1274" y="586"/>
                  </a:lnTo>
                  <a:lnTo>
                    <a:pt x="1301" y="579"/>
                  </a:lnTo>
                  <a:lnTo>
                    <a:pt x="1322" y="570"/>
                  </a:lnTo>
                  <a:lnTo>
                    <a:pt x="1343" y="558"/>
                  </a:lnTo>
                  <a:lnTo>
                    <a:pt x="1358" y="546"/>
                  </a:lnTo>
                  <a:lnTo>
                    <a:pt x="1370" y="528"/>
                  </a:lnTo>
                  <a:lnTo>
                    <a:pt x="1379" y="510"/>
                  </a:lnTo>
                  <a:lnTo>
                    <a:pt x="1391" y="489"/>
                  </a:lnTo>
                  <a:lnTo>
                    <a:pt x="1406" y="471"/>
                  </a:lnTo>
                  <a:lnTo>
                    <a:pt x="1421" y="453"/>
                  </a:lnTo>
                  <a:lnTo>
                    <a:pt x="1437" y="438"/>
                  </a:lnTo>
                  <a:lnTo>
                    <a:pt x="1452" y="426"/>
                  </a:lnTo>
                  <a:lnTo>
                    <a:pt x="1467" y="414"/>
                  </a:lnTo>
                  <a:lnTo>
                    <a:pt x="1482" y="408"/>
                  </a:lnTo>
                  <a:lnTo>
                    <a:pt x="1500" y="377"/>
                  </a:lnTo>
                  <a:lnTo>
                    <a:pt x="1521" y="341"/>
                  </a:lnTo>
                  <a:lnTo>
                    <a:pt x="1536" y="305"/>
                  </a:lnTo>
                  <a:lnTo>
                    <a:pt x="1548" y="278"/>
                  </a:lnTo>
                  <a:lnTo>
                    <a:pt x="1554" y="293"/>
                  </a:lnTo>
                  <a:lnTo>
                    <a:pt x="1554" y="326"/>
                  </a:lnTo>
                  <a:lnTo>
                    <a:pt x="1539" y="371"/>
                  </a:lnTo>
                  <a:lnTo>
                    <a:pt x="1506" y="414"/>
                  </a:lnTo>
                  <a:lnTo>
                    <a:pt x="1500" y="426"/>
                  </a:lnTo>
                  <a:lnTo>
                    <a:pt x="1494" y="444"/>
                  </a:lnTo>
                  <a:lnTo>
                    <a:pt x="1485" y="465"/>
                  </a:lnTo>
                  <a:lnTo>
                    <a:pt x="1476" y="486"/>
                  </a:lnTo>
                  <a:lnTo>
                    <a:pt x="1461" y="507"/>
                  </a:lnTo>
                  <a:lnTo>
                    <a:pt x="1446" y="528"/>
                  </a:lnTo>
                  <a:lnTo>
                    <a:pt x="1427" y="543"/>
                  </a:lnTo>
                  <a:lnTo>
                    <a:pt x="1406" y="555"/>
                  </a:lnTo>
                  <a:lnTo>
                    <a:pt x="1394" y="570"/>
                  </a:lnTo>
                  <a:lnTo>
                    <a:pt x="1382" y="586"/>
                  </a:lnTo>
                  <a:lnTo>
                    <a:pt x="1367" y="601"/>
                  </a:lnTo>
                  <a:lnTo>
                    <a:pt x="1352" y="616"/>
                  </a:lnTo>
                  <a:lnTo>
                    <a:pt x="1337" y="631"/>
                  </a:lnTo>
                  <a:lnTo>
                    <a:pt x="1325" y="646"/>
                  </a:lnTo>
                  <a:lnTo>
                    <a:pt x="1310" y="658"/>
                  </a:lnTo>
                  <a:lnTo>
                    <a:pt x="1298" y="667"/>
                  </a:lnTo>
                  <a:lnTo>
                    <a:pt x="1286" y="676"/>
                  </a:lnTo>
                  <a:lnTo>
                    <a:pt x="1274" y="691"/>
                  </a:lnTo>
                  <a:lnTo>
                    <a:pt x="1259" y="706"/>
                  </a:lnTo>
                  <a:lnTo>
                    <a:pt x="1244" y="721"/>
                  </a:lnTo>
                  <a:lnTo>
                    <a:pt x="1223" y="739"/>
                  </a:lnTo>
                  <a:lnTo>
                    <a:pt x="1196" y="757"/>
                  </a:lnTo>
                  <a:lnTo>
                    <a:pt x="1163" y="773"/>
                  </a:lnTo>
                  <a:lnTo>
                    <a:pt x="1121" y="788"/>
                  </a:lnTo>
                  <a:lnTo>
                    <a:pt x="1145" y="794"/>
                  </a:lnTo>
                  <a:lnTo>
                    <a:pt x="1127" y="800"/>
                  </a:lnTo>
                  <a:lnTo>
                    <a:pt x="1109" y="806"/>
                  </a:lnTo>
                  <a:lnTo>
                    <a:pt x="1091" y="812"/>
                  </a:lnTo>
                  <a:lnTo>
                    <a:pt x="1073" y="815"/>
                  </a:lnTo>
                  <a:lnTo>
                    <a:pt x="1052" y="821"/>
                  </a:lnTo>
                  <a:lnTo>
                    <a:pt x="1028" y="824"/>
                  </a:lnTo>
                  <a:lnTo>
                    <a:pt x="1004" y="827"/>
                  </a:lnTo>
                  <a:lnTo>
                    <a:pt x="977" y="833"/>
                  </a:lnTo>
                  <a:lnTo>
                    <a:pt x="947" y="836"/>
                  </a:lnTo>
                  <a:lnTo>
                    <a:pt x="923" y="839"/>
                  </a:lnTo>
                  <a:lnTo>
                    <a:pt x="899" y="839"/>
                  </a:lnTo>
                  <a:lnTo>
                    <a:pt x="881" y="839"/>
                  </a:lnTo>
                  <a:lnTo>
                    <a:pt x="860" y="839"/>
                  </a:lnTo>
                  <a:lnTo>
                    <a:pt x="841" y="839"/>
                  </a:lnTo>
                  <a:lnTo>
                    <a:pt x="826" y="842"/>
                  </a:lnTo>
                  <a:lnTo>
                    <a:pt x="808" y="845"/>
                  </a:lnTo>
                  <a:lnTo>
                    <a:pt x="790" y="848"/>
                  </a:lnTo>
                  <a:lnTo>
                    <a:pt x="769" y="851"/>
                  </a:lnTo>
                  <a:lnTo>
                    <a:pt x="748" y="851"/>
                  </a:lnTo>
                  <a:lnTo>
                    <a:pt x="727" y="851"/>
                  </a:lnTo>
                  <a:lnTo>
                    <a:pt x="706" y="848"/>
                  </a:lnTo>
                  <a:lnTo>
                    <a:pt x="685" y="845"/>
                  </a:lnTo>
                  <a:lnTo>
                    <a:pt x="661" y="842"/>
                  </a:lnTo>
                  <a:lnTo>
                    <a:pt x="637" y="836"/>
                  </a:lnTo>
                  <a:lnTo>
                    <a:pt x="610" y="830"/>
                  </a:lnTo>
                  <a:lnTo>
                    <a:pt x="580" y="824"/>
                  </a:lnTo>
                  <a:lnTo>
                    <a:pt x="547" y="815"/>
                  </a:lnTo>
                  <a:lnTo>
                    <a:pt x="514" y="803"/>
                  </a:lnTo>
                  <a:lnTo>
                    <a:pt x="478" y="788"/>
                  </a:lnTo>
                  <a:lnTo>
                    <a:pt x="442" y="767"/>
                  </a:lnTo>
                  <a:lnTo>
                    <a:pt x="409" y="745"/>
                  </a:lnTo>
                  <a:lnTo>
                    <a:pt x="379" y="715"/>
                  </a:lnTo>
                  <a:lnTo>
                    <a:pt x="349" y="715"/>
                  </a:lnTo>
                  <a:lnTo>
                    <a:pt x="325" y="694"/>
                  </a:lnTo>
                  <a:lnTo>
                    <a:pt x="298" y="667"/>
                  </a:lnTo>
                  <a:lnTo>
                    <a:pt x="270" y="637"/>
                  </a:lnTo>
                  <a:lnTo>
                    <a:pt x="240" y="601"/>
                  </a:lnTo>
                  <a:lnTo>
                    <a:pt x="213" y="564"/>
                  </a:lnTo>
                  <a:lnTo>
                    <a:pt x="189" y="525"/>
                  </a:lnTo>
                  <a:lnTo>
                    <a:pt x="168" y="489"/>
                  </a:lnTo>
                  <a:lnTo>
                    <a:pt x="153" y="453"/>
                  </a:lnTo>
                  <a:lnTo>
                    <a:pt x="138" y="435"/>
                  </a:lnTo>
                  <a:lnTo>
                    <a:pt x="117" y="432"/>
                  </a:lnTo>
                  <a:lnTo>
                    <a:pt x="96" y="444"/>
                  </a:lnTo>
                  <a:lnTo>
                    <a:pt x="87" y="477"/>
                  </a:lnTo>
                  <a:lnTo>
                    <a:pt x="84" y="516"/>
                  </a:lnTo>
                  <a:lnTo>
                    <a:pt x="75" y="558"/>
                  </a:lnTo>
                  <a:lnTo>
                    <a:pt x="60" y="598"/>
                  </a:lnTo>
                  <a:lnTo>
                    <a:pt x="36" y="625"/>
                  </a:lnTo>
                  <a:lnTo>
                    <a:pt x="21" y="631"/>
                  </a:lnTo>
                  <a:lnTo>
                    <a:pt x="24" y="616"/>
                  </a:lnTo>
                  <a:lnTo>
                    <a:pt x="33" y="592"/>
                  </a:lnTo>
                  <a:lnTo>
                    <a:pt x="45" y="564"/>
                  </a:lnTo>
                  <a:lnTo>
                    <a:pt x="45" y="543"/>
                  </a:lnTo>
                  <a:lnTo>
                    <a:pt x="39" y="525"/>
                  </a:lnTo>
                  <a:lnTo>
                    <a:pt x="33" y="507"/>
                  </a:lnTo>
                  <a:lnTo>
                    <a:pt x="36" y="486"/>
                  </a:lnTo>
                  <a:lnTo>
                    <a:pt x="42" y="459"/>
                  </a:lnTo>
                  <a:lnTo>
                    <a:pt x="39" y="429"/>
                  </a:lnTo>
                  <a:lnTo>
                    <a:pt x="33" y="398"/>
                  </a:lnTo>
                  <a:lnTo>
                    <a:pt x="27" y="374"/>
                  </a:lnTo>
                  <a:lnTo>
                    <a:pt x="18" y="353"/>
                  </a:lnTo>
                  <a:lnTo>
                    <a:pt x="6" y="329"/>
                  </a:lnTo>
                  <a:lnTo>
                    <a:pt x="0" y="302"/>
                  </a:lnTo>
                  <a:lnTo>
                    <a:pt x="3" y="275"/>
                  </a:lnTo>
                  <a:lnTo>
                    <a:pt x="12" y="233"/>
                  </a:lnTo>
                  <a:lnTo>
                    <a:pt x="15" y="163"/>
                  </a:lnTo>
                  <a:lnTo>
                    <a:pt x="24" y="8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5040" y="3200400"/>
              <a:ext cx="3189600" cy="1451520"/>
            </a:xfrm>
            <a:custGeom>
              <a:avLst/>
              <a:gdLst/>
              <a:ahLst/>
              <a:rect l="l" t="t" r="r" b="b"/>
              <a:pathLst>
                <a:path w="1659" h="911">
                  <a:moveTo>
                    <a:pt x="0" y="718"/>
                  </a:moveTo>
                  <a:lnTo>
                    <a:pt x="18" y="691"/>
                  </a:lnTo>
                  <a:lnTo>
                    <a:pt x="36" y="664"/>
                  </a:lnTo>
                  <a:lnTo>
                    <a:pt x="48" y="628"/>
                  </a:lnTo>
                  <a:lnTo>
                    <a:pt x="54" y="582"/>
                  </a:lnTo>
                  <a:lnTo>
                    <a:pt x="69" y="561"/>
                  </a:lnTo>
                  <a:lnTo>
                    <a:pt x="87" y="537"/>
                  </a:lnTo>
                  <a:lnTo>
                    <a:pt x="102" y="513"/>
                  </a:lnTo>
                  <a:lnTo>
                    <a:pt x="117" y="486"/>
                  </a:lnTo>
                  <a:lnTo>
                    <a:pt x="132" y="459"/>
                  </a:lnTo>
                  <a:lnTo>
                    <a:pt x="147" y="431"/>
                  </a:lnTo>
                  <a:lnTo>
                    <a:pt x="162" y="410"/>
                  </a:lnTo>
                  <a:lnTo>
                    <a:pt x="174" y="389"/>
                  </a:lnTo>
                  <a:lnTo>
                    <a:pt x="189" y="371"/>
                  </a:lnTo>
                  <a:lnTo>
                    <a:pt x="204" y="356"/>
                  </a:lnTo>
                  <a:lnTo>
                    <a:pt x="222" y="344"/>
                  </a:lnTo>
                  <a:lnTo>
                    <a:pt x="244" y="329"/>
                  </a:lnTo>
                  <a:lnTo>
                    <a:pt x="262" y="320"/>
                  </a:lnTo>
                  <a:lnTo>
                    <a:pt x="280" y="311"/>
                  </a:lnTo>
                  <a:lnTo>
                    <a:pt x="298" y="305"/>
                  </a:lnTo>
                  <a:lnTo>
                    <a:pt x="313" y="299"/>
                  </a:lnTo>
                  <a:lnTo>
                    <a:pt x="340" y="284"/>
                  </a:lnTo>
                  <a:lnTo>
                    <a:pt x="367" y="263"/>
                  </a:lnTo>
                  <a:lnTo>
                    <a:pt x="385" y="247"/>
                  </a:lnTo>
                  <a:lnTo>
                    <a:pt x="394" y="238"/>
                  </a:lnTo>
                  <a:lnTo>
                    <a:pt x="433" y="226"/>
                  </a:lnTo>
                  <a:lnTo>
                    <a:pt x="481" y="217"/>
                  </a:lnTo>
                  <a:lnTo>
                    <a:pt x="535" y="205"/>
                  </a:lnTo>
                  <a:lnTo>
                    <a:pt x="592" y="196"/>
                  </a:lnTo>
                  <a:lnTo>
                    <a:pt x="652" y="190"/>
                  </a:lnTo>
                  <a:lnTo>
                    <a:pt x="709" y="184"/>
                  </a:lnTo>
                  <a:lnTo>
                    <a:pt x="760" y="184"/>
                  </a:lnTo>
                  <a:lnTo>
                    <a:pt x="805" y="184"/>
                  </a:lnTo>
                  <a:lnTo>
                    <a:pt x="827" y="196"/>
                  </a:lnTo>
                  <a:lnTo>
                    <a:pt x="848" y="205"/>
                  </a:lnTo>
                  <a:lnTo>
                    <a:pt x="875" y="217"/>
                  </a:lnTo>
                  <a:lnTo>
                    <a:pt x="905" y="229"/>
                  </a:lnTo>
                  <a:lnTo>
                    <a:pt x="941" y="238"/>
                  </a:lnTo>
                  <a:lnTo>
                    <a:pt x="977" y="247"/>
                  </a:lnTo>
                  <a:lnTo>
                    <a:pt x="1019" y="250"/>
                  </a:lnTo>
                  <a:lnTo>
                    <a:pt x="1064" y="253"/>
                  </a:lnTo>
                  <a:lnTo>
                    <a:pt x="1097" y="269"/>
                  </a:lnTo>
                  <a:lnTo>
                    <a:pt x="1145" y="296"/>
                  </a:lnTo>
                  <a:lnTo>
                    <a:pt x="1205" y="332"/>
                  </a:lnTo>
                  <a:lnTo>
                    <a:pt x="1268" y="377"/>
                  </a:lnTo>
                  <a:lnTo>
                    <a:pt x="1331" y="431"/>
                  </a:lnTo>
                  <a:lnTo>
                    <a:pt x="1392" y="492"/>
                  </a:lnTo>
                  <a:lnTo>
                    <a:pt x="1446" y="558"/>
                  </a:lnTo>
                  <a:lnTo>
                    <a:pt x="1488" y="628"/>
                  </a:lnTo>
                  <a:lnTo>
                    <a:pt x="1476" y="625"/>
                  </a:lnTo>
                  <a:lnTo>
                    <a:pt x="1464" y="621"/>
                  </a:lnTo>
                  <a:lnTo>
                    <a:pt x="1455" y="618"/>
                  </a:lnTo>
                  <a:lnTo>
                    <a:pt x="1443" y="615"/>
                  </a:lnTo>
                  <a:lnTo>
                    <a:pt x="1431" y="615"/>
                  </a:lnTo>
                  <a:lnTo>
                    <a:pt x="1419" y="615"/>
                  </a:lnTo>
                  <a:lnTo>
                    <a:pt x="1404" y="615"/>
                  </a:lnTo>
                  <a:lnTo>
                    <a:pt x="1386" y="615"/>
                  </a:lnTo>
                  <a:lnTo>
                    <a:pt x="1367" y="612"/>
                  </a:lnTo>
                  <a:lnTo>
                    <a:pt x="1346" y="609"/>
                  </a:lnTo>
                  <a:lnTo>
                    <a:pt x="1325" y="606"/>
                  </a:lnTo>
                  <a:lnTo>
                    <a:pt x="1304" y="603"/>
                  </a:lnTo>
                  <a:lnTo>
                    <a:pt x="1283" y="600"/>
                  </a:lnTo>
                  <a:lnTo>
                    <a:pt x="1262" y="597"/>
                  </a:lnTo>
                  <a:lnTo>
                    <a:pt x="1244" y="597"/>
                  </a:lnTo>
                  <a:lnTo>
                    <a:pt x="1226" y="597"/>
                  </a:lnTo>
                  <a:lnTo>
                    <a:pt x="1208" y="597"/>
                  </a:lnTo>
                  <a:lnTo>
                    <a:pt x="1190" y="597"/>
                  </a:lnTo>
                  <a:lnTo>
                    <a:pt x="1172" y="594"/>
                  </a:lnTo>
                  <a:lnTo>
                    <a:pt x="1154" y="591"/>
                  </a:lnTo>
                  <a:lnTo>
                    <a:pt x="1136" y="591"/>
                  </a:lnTo>
                  <a:lnTo>
                    <a:pt x="1124" y="588"/>
                  </a:lnTo>
                  <a:lnTo>
                    <a:pt x="1115" y="588"/>
                  </a:lnTo>
                  <a:lnTo>
                    <a:pt x="1112" y="588"/>
                  </a:lnTo>
                  <a:lnTo>
                    <a:pt x="1127" y="606"/>
                  </a:lnTo>
                  <a:lnTo>
                    <a:pt x="1148" y="628"/>
                  </a:lnTo>
                  <a:lnTo>
                    <a:pt x="1169" y="649"/>
                  </a:lnTo>
                  <a:lnTo>
                    <a:pt x="1187" y="676"/>
                  </a:lnTo>
                  <a:lnTo>
                    <a:pt x="1199" y="691"/>
                  </a:lnTo>
                  <a:lnTo>
                    <a:pt x="1214" y="703"/>
                  </a:lnTo>
                  <a:lnTo>
                    <a:pt x="1232" y="715"/>
                  </a:lnTo>
                  <a:lnTo>
                    <a:pt x="1253" y="727"/>
                  </a:lnTo>
                  <a:lnTo>
                    <a:pt x="1274" y="739"/>
                  </a:lnTo>
                  <a:lnTo>
                    <a:pt x="1295" y="748"/>
                  </a:lnTo>
                  <a:lnTo>
                    <a:pt x="1313" y="754"/>
                  </a:lnTo>
                  <a:lnTo>
                    <a:pt x="1328" y="757"/>
                  </a:lnTo>
                  <a:lnTo>
                    <a:pt x="1352" y="763"/>
                  </a:lnTo>
                  <a:lnTo>
                    <a:pt x="1376" y="772"/>
                  </a:lnTo>
                  <a:lnTo>
                    <a:pt x="1398" y="784"/>
                  </a:lnTo>
                  <a:lnTo>
                    <a:pt x="1416" y="802"/>
                  </a:lnTo>
                  <a:lnTo>
                    <a:pt x="1428" y="815"/>
                  </a:lnTo>
                  <a:lnTo>
                    <a:pt x="1440" y="824"/>
                  </a:lnTo>
                  <a:lnTo>
                    <a:pt x="1458" y="833"/>
                  </a:lnTo>
                  <a:lnTo>
                    <a:pt x="1473" y="842"/>
                  </a:lnTo>
                  <a:lnTo>
                    <a:pt x="1491" y="851"/>
                  </a:lnTo>
                  <a:lnTo>
                    <a:pt x="1509" y="860"/>
                  </a:lnTo>
                  <a:lnTo>
                    <a:pt x="1524" y="869"/>
                  </a:lnTo>
                  <a:lnTo>
                    <a:pt x="1536" y="875"/>
                  </a:lnTo>
                  <a:lnTo>
                    <a:pt x="1548" y="881"/>
                  </a:lnTo>
                  <a:lnTo>
                    <a:pt x="1560" y="887"/>
                  </a:lnTo>
                  <a:lnTo>
                    <a:pt x="1575" y="893"/>
                  </a:lnTo>
                  <a:lnTo>
                    <a:pt x="1590" y="899"/>
                  </a:lnTo>
                  <a:lnTo>
                    <a:pt x="1605" y="905"/>
                  </a:lnTo>
                  <a:lnTo>
                    <a:pt x="1617" y="908"/>
                  </a:lnTo>
                  <a:lnTo>
                    <a:pt x="1623" y="911"/>
                  </a:lnTo>
                  <a:lnTo>
                    <a:pt x="1626" y="911"/>
                  </a:lnTo>
                  <a:lnTo>
                    <a:pt x="1644" y="863"/>
                  </a:lnTo>
                  <a:lnTo>
                    <a:pt x="1656" y="805"/>
                  </a:lnTo>
                  <a:lnTo>
                    <a:pt x="1659" y="754"/>
                  </a:lnTo>
                  <a:lnTo>
                    <a:pt x="1653" y="724"/>
                  </a:lnTo>
                  <a:lnTo>
                    <a:pt x="1650" y="694"/>
                  </a:lnTo>
                  <a:lnTo>
                    <a:pt x="1650" y="667"/>
                  </a:lnTo>
                  <a:lnTo>
                    <a:pt x="1647" y="643"/>
                  </a:lnTo>
                  <a:lnTo>
                    <a:pt x="1644" y="618"/>
                  </a:lnTo>
                  <a:lnTo>
                    <a:pt x="1638" y="597"/>
                  </a:lnTo>
                  <a:lnTo>
                    <a:pt x="1638" y="585"/>
                  </a:lnTo>
                  <a:lnTo>
                    <a:pt x="1644" y="573"/>
                  </a:lnTo>
                  <a:lnTo>
                    <a:pt x="1650" y="561"/>
                  </a:lnTo>
                  <a:lnTo>
                    <a:pt x="1653" y="546"/>
                  </a:lnTo>
                  <a:lnTo>
                    <a:pt x="1653" y="525"/>
                  </a:lnTo>
                  <a:lnTo>
                    <a:pt x="1647" y="501"/>
                  </a:lnTo>
                  <a:lnTo>
                    <a:pt x="1647" y="468"/>
                  </a:lnTo>
                  <a:lnTo>
                    <a:pt x="1647" y="444"/>
                  </a:lnTo>
                  <a:lnTo>
                    <a:pt x="1644" y="437"/>
                  </a:lnTo>
                  <a:lnTo>
                    <a:pt x="1638" y="447"/>
                  </a:lnTo>
                  <a:lnTo>
                    <a:pt x="1632" y="468"/>
                  </a:lnTo>
                  <a:lnTo>
                    <a:pt x="1623" y="492"/>
                  </a:lnTo>
                  <a:lnTo>
                    <a:pt x="1614" y="516"/>
                  </a:lnTo>
                  <a:lnTo>
                    <a:pt x="1605" y="540"/>
                  </a:lnTo>
                  <a:lnTo>
                    <a:pt x="1599" y="564"/>
                  </a:lnTo>
                  <a:lnTo>
                    <a:pt x="1590" y="582"/>
                  </a:lnTo>
                  <a:lnTo>
                    <a:pt x="1575" y="594"/>
                  </a:lnTo>
                  <a:lnTo>
                    <a:pt x="1560" y="621"/>
                  </a:lnTo>
                  <a:lnTo>
                    <a:pt x="1545" y="673"/>
                  </a:lnTo>
                  <a:lnTo>
                    <a:pt x="1536" y="606"/>
                  </a:lnTo>
                  <a:lnTo>
                    <a:pt x="1521" y="552"/>
                  </a:lnTo>
                  <a:lnTo>
                    <a:pt x="1503" y="504"/>
                  </a:lnTo>
                  <a:lnTo>
                    <a:pt x="1488" y="459"/>
                  </a:lnTo>
                  <a:lnTo>
                    <a:pt x="1479" y="434"/>
                  </a:lnTo>
                  <a:lnTo>
                    <a:pt x="1470" y="404"/>
                  </a:lnTo>
                  <a:lnTo>
                    <a:pt x="1458" y="374"/>
                  </a:lnTo>
                  <a:lnTo>
                    <a:pt x="1443" y="341"/>
                  </a:lnTo>
                  <a:lnTo>
                    <a:pt x="1428" y="311"/>
                  </a:lnTo>
                  <a:lnTo>
                    <a:pt x="1407" y="278"/>
                  </a:lnTo>
                  <a:lnTo>
                    <a:pt x="1382" y="250"/>
                  </a:lnTo>
                  <a:lnTo>
                    <a:pt x="1358" y="223"/>
                  </a:lnTo>
                  <a:lnTo>
                    <a:pt x="1334" y="202"/>
                  </a:lnTo>
                  <a:lnTo>
                    <a:pt x="1313" y="187"/>
                  </a:lnTo>
                  <a:lnTo>
                    <a:pt x="1292" y="172"/>
                  </a:lnTo>
                  <a:lnTo>
                    <a:pt x="1274" y="163"/>
                  </a:lnTo>
                  <a:lnTo>
                    <a:pt x="1256" y="151"/>
                  </a:lnTo>
                  <a:lnTo>
                    <a:pt x="1238" y="142"/>
                  </a:lnTo>
                  <a:lnTo>
                    <a:pt x="1217" y="127"/>
                  </a:lnTo>
                  <a:lnTo>
                    <a:pt x="1196" y="112"/>
                  </a:lnTo>
                  <a:lnTo>
                    <a:pt x="1172" y="94"/>
                  </a:lnTo>
                  <a:lnTo>
                    <a:pt x="1142" y="79"/>
                  </a:lnTo>
                  <a:lnTo>
                    <a:pt x="1115" y="66"/>
                  </a:lnTo>
                  <a:lnTo>
                    <a:pt x="1085" y="54"/>
                  </a:lnTo>
                  <a:lnTo>
                    <a:pt x="1055" y="45"/>
                  </a:lnTo>
                  <a:lnTo>
                    <a:pt x="1028" y="36"/>
                  </a:lnTo>
                  <a:lnTo>
                    <a:pt x="1001" y="30"/>
                  </a:lnTo>
                  <a:lnTo>
                    <a:pt x="980" y="27"/>
                  </a:lnTo>
                  <a:lnTo>
                    <a:pt x="962" y="24"/>
                  </a:lnTo>
                  <a:lnTo>
                    <a:pt x="947" y="18"/>
                  </a:lnTo>
                  <a:lnTo>
                    <a:pt x="929" y="12"/>
                  </a:lnTo>
                  <a:lnTo>
                    <a:pt x="911" y="6"/>
                  </a:lnTo>
                  <a:lnTo>
                    <a:pt x="893" y="3"/>
                  </a:lnTo>
                  <a:lnTo>
                    <a:pt x="869" y="0"/>
                  </a:lnTo>
                  <a:lnTo>
                    <a:pt x="842" y="3"/>
                  </a:lnTo>
                  <a:lnTo>
                    <a:pt x="805" y="12"/>
                  </a:lnTo>
                  <a:lnTo>
                    <a:pt x="781" y="9"/>
                  </a:lnTo>
                  <a:lnTo>
                    <a:pt x="760" y="9"/>
                  </a:lnTo>
                  <a:lnTo>
                    <a:pt x="742" y="6"/>
                  </a:lnTo>
                  <a:lnTo>
                    <a:pt x="727" y="6"/>
                  </a:lnTo>
                  <a:lnTo>
                    <a:pt x="712" y="6"/>
                  </a:lnTo>
                  <a:lnTo>
                    <a:pt x="697" y="6"/>
                  </a:lnTo>
                  <a:lnTo>
                    <a:pt x="679" y="9"/>
                  </a:lnTo>
                  <a:lnTo>
                    <a:pt x="661" y="15"/>
                  </a:lnTo>
                  <a:lnTo>
                    <a:pt x="640" y="18"/>
                  </a:lnTo>
                  <a:lnTo>
                    <a:pt x="613" y="18"/>
                  </a:lnTo>
                  <a:lnTo>
                    <a:pt x="583" y="21"/>
                  </a:lnTo>
                  <a:lnTo>
                    <a:pt x="550" y="21"/>
                  </a:lnTo>
                  <a:lnTo>
                    <a:pt x="517" y="24"/>
                  </a:lnTo>
                  <a:lnTo>
                    <a:pt x="487" y="33"/>
                  </a:lnTo>
                  <a:lnTo>
                    <a:pt x="457" y="45"/>
                  </a:lnTo>
                  <a:lnTo>
                    <a:pt x="433" y="63"/>
                  </a:lnTo>
                  <a:lnTo>
                    <a:pt x="451" y="79"/>
                  </a:lnTo>
                  <a:lnTo>
                    <a:pt x="436" y="85"/>
                  </a:lnTo>
                  <a:lnTo>
                    <a:pt x="418" y="94"/>
                  </a:lnTo>
                  <a:lnTo>
                    <a:pt x="403" y="100"/>
                  </a:lnTo>
                  <a:lnTo>
                    <a:pt x="385" y="109"/>
                  </a:lnTo>
                  <a:lnTo>
                    <a:pt x="370" y="118"/>
                  </a:lnTo>
                  <a:lnTo>
                    <a:pt x="352" y="130"/>
                  </a:lnTo>
                  <a:lnTo>
                    <a:pt x="334" y="148"/>
                  </a:lnTo>
                  <a:lnTo>
                    <a:pt x="316" y="166"/>
                  </a:lnTo>
                  <a:lnTo>
                    <a:pt x="298" y="187"/>
                  </a:lnTo>
                  <a:lnTo>
                    <a:pt x="280" y="205"/>
                  </a:lnTo>
                  <a:lnTo>
                    <a:pt x="262" y="220"/>
                  </a:lnTo>
                  <a:lnTo>
                    <a:pt x="244" y="235"/>
                  </a:lnTo>
                  <a:lnTo>
                    <a:pt x="222" y="247"/>
                  </a:lnTo>
                  <a:lnTo>
                    <a:pt x="204" y="260"/>
                  </a:lnTo>
                  <a:lnTo>
                    <a:pt x="186" y="272"/>
                  </a:lnTo>
                  <a:lnTo>
                    <a:pt x="168" y="287"/>
                  </a:lnTo>
                  <a:lnTo>
                    <a:pt x="147" y="314"/>
                  </a:lnTo>
                  <a:lnTo>
                    <a:pt x="144" y="332"/>
                  </a:lnTo>
                  <a:lnTo>
                    <a:pt x="144" y="350"/>
                  </a:lnTo>
                  <a:lnTo>
                    <a:pt x="138" y="371"/>
                  </a:lnTo>
                  <a:lnTo>
                    <a:pt x="114" y="401"/>
                  </a:lnTo>
                  <a:lnTo>
                    <a:pt x="90" y="437"/>
                  </a:lnTo>
                  <a:lnTo>
                    <a:pt x="66" y="474"/>
                  </a:lnTo>
                  <a:lnTo>
                    <a:pt x="57" y="507"/>
                  </a:lnTo>
                  <a:lnTo>
                    <a:pt x="45" y="543"/>
                  </a:lnTo>
                  <a:lnTo>
                    <a:pt x="24" y="594"/>
                  </a:lnTo>
                  <a:lnTo>
                    <a:pt x="3" y="655"/>
                  </a:lnTo>
                  <a:lnTo>
                    <a:pt x="0" y="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410440" y="3200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2666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4520" y="53341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920" y="53341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4600" y="33526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76720" y="3505320"/>
            <a:ext cx="1320840" cy="1922760"/>
            <a:chOff x="3276720" y="3505320"/>
            <a:chExt cx="1320840" cy="1922760"/>
          </a:xfrm>
        </p:grpSpPr>
        <p:sp>
          <p:nvSpPr>
            <p:cNvPr id="200" name=""/>
            <p:cNvSpPr/>
            <p:nvPr/>
          </p:nvSpPr>
          <p:spPr>
            <a:xfrm>
              <a:off x="3506040" y="5029200"/>
              <a:ext cx="86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isk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3276720" y="3505320"/>
              <a:ext cx="1320840" cy="157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dentify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fore risks can be managed, they must be identified before they become a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alyz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alysis is the conversion of risk data into decision-making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n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veloping and documenting risk mitigation strategies that will be enacted given the presence of 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Managemen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ck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uous monitoring of stated risk triggers to see if any have occurr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trol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ually reviewing risk plans for relevance and modifying them as appropriate to serve the interest of the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4160" y="4267080"/>
            <a:ext cx="10861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4200" y="4267080"/>
            <a:ext cx="1441800" cy="398880"/>
            <a:chOff x="844200" y="4267080"/>
            <a:chExt cx="1441800" cy="398880"/>
          </a:xfrm>
        </p:grpSpPr>
        <p:sp>
          <p:nvSpPr>
            <p:cNvPr id="208" name=""/>
            <p:cNvSpPr/>
            <p:nvPr/>
          </p:nvSpPr>
          <p:spPr>
            <a:xfrm>
              <a:off x="844200" y="4267080"/>
              <a:ext cx="1086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dentif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10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362320" y="4267080"/>
            <a:ext cx="1523880" cy="398880"/>
            <a:chOff x="2362320" y="4267080"/>
            <a:chExt cx="1523880" cy="398880"/>
          </a:xfrm>
        </p:grpSpPr>
        <p:sp>
          <p:nvSpPr>
            <p:cNvPr id="211" name=""/>
            <p:cNvSpPr/>
            <p:nvPr/>
          </p:nvSpPr>
          <p:spPr>
            <a:xfrm>
              <a:off x="2362320" y="4267080"/>
              <a:ext cx="121896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812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70440" y="4267080"/>
            <a:ext cx="1058760" cy="398880"/>
            <a:chOff x="3970440" y="4267080"/>
            <a:chExt cx="1058760" cy="398880"/>
          </a:xfrm>
        </p:grpSpPr>
        <p:sp>
          <p:nvSpPr>
            <p:cNvPr id="214" name=""/>
            <p:cNvSpPr/>
            <p:nvPr/>
          </p:nvSpPr>
          <p:spPr>
            <a:xfrm>
              <a:off x="3970440" y="4267080"/>
              <a:ext cx="717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44197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112360" y="4267080"/>
            <a:ext cx="1212120" cy="398880"/>
            <a:chOff x="5112360" y="4267080"/>
            <a:chExt cx="1212120" cy="398880"/>
          </a:xfrm>
        </p:grpSpPr>
        <p:sp>
          <p:nvSpPr>
            <p:cNvPr id="217" name=""/>
            <p:cNvSpPr/>
            <p:nvPr/>
          </p:nvSpPr>
          <p:spPr>
            <a:xfrm>
              <a:off x="5112360" y="4267080"/>
              <a:ext cx="8604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c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19920" y="44197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4723920"/>
            <a:ext cx="5486400" cy="305280"/>
            <a:chOff x="1447920" y="4723920"/>
            <a:chExt cx="5486400" cy="305280"/>
          </a:xfrm>
        </p:grpSpPr>
        <p:sp>
          <p:nvSpPr>
            <p:cNvPr id="220" name=""/>
            <p:cNvSpPr/>
            <p:nvPr/>
          </p:nvSpPr>
          <p:spPr>
            <a:xfrm>
              <a:off x="6934320" y="47242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447920" y="5029200"/>
              <a:ext cx="5486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447920" y="472392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n is Risk Addressed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the beginning of a project various risk factors will become evid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elici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ments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early as possible we need to identify, document, and manage risks through the development lifecy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risks will surface through the remaining ph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Risk Evaluation (SRE) 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RE method was developed at the SEI to help organizations manage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96480" y="2590920"/>
            <a:ext cx="161028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ac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8120" y="4419720"/>
            <a:ext cx="2890080" cy="474840"/>
            <a:chOff x="4038120" y="4419720"/>
            <a:chExt cx="2890080" cy="474840"/>
          </a:xfrm>
        </p:grpSpPr>
        <p:sp>
          <p:nvSpPr>
            <p:cNvPr id="229" name=""/>
            <p:cNvSpPr/>
            <p:nvPr/>
          </p:nvSpPr>
          <p:spPr>
            <a:xfrm>
              <a:off x="4403520" y="4495680"/>
              <a:ext cx="252468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tigation Plan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 rot="16200000">
              <a:off x="4037760" y="4419360"/>
              <a:ext cx="380880" cy="38124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676520" y="3048120"/>
            <a:ext cx="2150280" cy="779760"/>
            <a:chOff x="1676520" y="3048120"/>
            <a:chExt cx="2150280" cy="779760"/>
          </a:xfrm>
        </p:grpSpPr>
        <p:sp>
          <p:nvSpPr>
            <p:cNvPr id="232" name=""/>
            <p:cNvSpPr/>
            <p:nvPr/>
          </p:nvSpPr>
          <p:spPr>
            <a:xfrm>
              <a:off x="2062800" y="3124080"/>
              <a:ext cx="1764000" cy="703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dentif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 rot="16200000">
              <a:off x="1676520" y="3048120"/>
              <a:ext cx="380880" cy="38088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240 h 380880"/>
                <a:gd name="textAreaBottom" fmla="*/ 3265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819520" y="3886200"/>
            <a:ext cx="2305800" cy="475200"/>
            <a:chOff x="2819520" y="3886200"/>
            <a:chExt cx="2305800" cy="475200"/>
          </a:xfrm>
        </p:grpSpPr>
        <p:sp>
          <p:nvSpPr>
            <p:cNvPr id="235" name=""/>
            <p:cNvSpPr/>
            <p:nvPr/>
          </p:nvSpPr>
          <p:spPr>
            <a:xfrm>
              <a:off x="3205800" y="3962520"/>
              <a:ext cx="19195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im Re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 rot="16200000">
              <a:off x="2819520" y="3886200"/>
              <a:ext cx="380880" cy="380880"/>
            </a:xfrm>
            <a:custGeom>
              <a:avLst/>
              <a:gdLst>
                <a:gd name="textAreaLeft" fmla="*/ 127080 w 380880"/>
                <a:gd name="textAreaRight" fmla="*/ 326520 w 380880"/>
                <a:gd name="textAreaTop" fmla="*/ 219240 h 380880"/>
                <a:gd name="textAreaBottom" fmla="*/ 3265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181120" y="4952160"/>
            <a:ext cx="2030760" cy="475920"/>
            <a:chOff x="5181120" y="4952160"/>
            <a:chExt cx="2030760" cy="475920"/>
          </a:xfrm>
        </p:grpSpPr>
        <p:sp>
          <p:nvSpPr>
            <p:cNvPr id="238" name=""/>
            <p:cNvSpPr/>
            <p:nvPr/>
          </p:nvSpPr>
          <p:spPr>
            <a:xfrm>
              <a:off x="5546880" y="5029200"/>
              <a:ext cx="1665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l Re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 rot="16200000">
              <a:off x="5180760" y="4951800"/>
              <a:ext cx="381240" cy="381240"/>
            </a:xfrm>
            <a:custGeom>
              <a:avLst/>
              <a:gdLst>
                <a:gd name="textAreaLeft" fmla="*/ 126720 w 381240"/>
                <a:gd name="textAreaRight" fmla="*/ 326160 w 38124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ract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2208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ing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 stakeholder expec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ng sponsorship from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eeing upon deliver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sched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ract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 (continue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tain a “picture of succes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ill you be successfu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make you successfu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you measure succes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, schedule for SRE, and vision of suc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523880"/>
            <a:ext cx="6491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Taxonomy Based Questionn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5102280" cy="3657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66680" y="2895480"/>
            <a:ext cx="108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26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1 or More 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hour brainstorming sess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cit risks within the project and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probability and imp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 risk statem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057400" y="4267080"/>
            <a:ext cx="4190760" cy="685800"/>
            <a:chOff x="2057400" y="4267080"/>
            <a:chExt cx="4190760" cy="685800"/>
          </a:xfrm>
        </p:grpSpPr>
        <p:sp>
          <p:nvSpPr>
            <p:cNvPr id="251" name=""/>
            <p:cNvSpPr/>
            <p:nvPr/>
          </p:nvSpPr>
          <p:spPr>
            <a:xfrm>
              <a:off x="2216880" y="4419720"/>
              <a:ext cx="1368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73920" y="4419720"/>
              <a:ext cx="1851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7600" y="464832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57400" y="4267080"/>
              <a:ext cx="419076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57560" y="5029200"/>
            <a:ext cx="35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imulation of the system’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has been don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5240" y="502920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may not meet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 requirement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54100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dentification and Analysis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fac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et of risk statements, pick top ~5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 participant evaluation for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tes from interview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over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Quality of Statemen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Number of Risk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1128600" cy="798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 flipH="1" rot="10800000">
            <a:off x="3962520" y="4800240"/>
            <a:ext cx="133344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4572000" y="4267080"/>
            <a:ext cx="1981080" cy="380880"/>
            <a:chOff x="4572000" y="4267080"/>
            <a:chExt cx="1981080" cy="380880"/>
          </a:xfrm>
        </p:grpSpPr>
        <p:sp>
          <p:nvSpPr>
            <p:cNvPr id="263" name=""/>
            <p:cNvSpPr/>
            <p:nvPr/>
          </p:nvSpPr>
          <p:spPr>
            <a:xfrm>
              <a:off x="4653720" y="4343040"/>
              <a:ext cx="657720" cy="21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46960" y="4343040"/>
              <a:ext cx="848160" cy="21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3760" y="4419360"/>
              <a:ext cx="264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0" y="4267080"/>
              <a:ext cx="19810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at is Risk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1960" y="152352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ters 9th defines risk a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: possibility of loss or injury - peril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: a dangerous element or fa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312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uncertain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isk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Problem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risk is a problem who time has not yet co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uld I get my umbrella when it is raining or in anticipation of rai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rim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s the basis of the S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s the major risks facing the 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stat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s data as garnered from SRE and project stakehol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also include a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Interim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6491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Outl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946080" y="1828800"/>
            <a:ext cx="6434640" cy="3660120"/>
            <a:chOff x="946080" y="1828800"/>
            <a:chExt cx="6434640" cy="3660120"/>
          </a:xfrm>
        </p:grpSpPr>
        <p:sp>
          <p:nvSpPr>
            <p:cNvPr id="272" name=""/>
            <p:cNvSpPr/>
            <p:nvPr/>
          </p:nvSpPr>
          <p:spPr>
            <a:xfrm>
              <a:off x="955080" y="1828800"/>
              <a:ext cx="2553480" cy="366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ecutive Summ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rodu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E Process Over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clus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end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7080" y="1828800"/>
              <a:ext cx="3833640" cy="3660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mary of findings and risk are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ar term recommenda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urpose and layout of this re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lains the SRE process briefly 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context for the read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E objectives, SRE team, oth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levant ro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esentation of project risks and ris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xt step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 requi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46080" y="2438280"/>
              <a:ext cx="6400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46080" y="281952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46080" y="350532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46080" y="4038480"/>
              <a:ext cx="6400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46080" y="4648320"/>
              <a:ext cx="640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46080" y="5029200"/>
              <a:ext cx="640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isk Exposure Matrix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90360" y="2406960"/>
            <a:ext cx="6492240" cy="3231720"/>
            <a:chOff x="990360" y="2406960"/>
            <a:chExt cx="6492240" cy="3231720"/>
          </a:xfrm>
        </p:grpSpPr>
        <p:sp>
          <p:nvSpPr>
            <p:cNvPr id="282" name=""/>
            <p:cNvSpPr/>
            <p:nvPr/>
          </p:nvSpPr>
          <p:spPr>
            <a:xfrm>
              <a:off x="1142280" y="382428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tastrophi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484800">
              <a:off x="6031800" y="32058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504600">
              <a:off x="4068360" y="300816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456000">
              <a:off x="4749120" y="296316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ched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508200">
              <a:off x="3340440" y="2986920"/>
              <a:ext cx="16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Hard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492000">
              <a:off x="5411520" y="3117960"/>
              <a:ext cx="162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90720" y="37339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9112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7692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3868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800" y="3747960"/>
              <a:ext cx="0" cy="18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2920" y="2604960"/>
              <a:ext cx="0" cy="303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2604960"/>
              <a:ext cx="0" cy="303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90720" y="2590920"/>
              <a:ext cx="0" cy="30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4265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ri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360" y="47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gin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3720" y="5180040"/>
              <a:ext cx="13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egligi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360" y="33526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mpa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90720" y="56386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259092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9080" y="265104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990360" y="2590560"/>
              <a:ext cx="2514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51814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47242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90720" y="4267080"/>
              <a:ext cx="617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912600" y="129528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Identify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2240" y="1676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Estimate Proba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09880" y="1295280"/>
            <a:ext cx="1757880" cy="1008720"/>
            <a:chOff x="3809880" y="1295280"/>
            <a:chExt cx="1757880" cy="1008720"/>
          </a:xfrm>
        </p:grpSpPr>
        <p:sp>
          <p:nvSpPr>
            <p:cNvPr id="310" name=""/>
            <p:cNvSpPr/>
            <p:nvPr/>
          </p:nvSpPr>
          <p:spPr>
            <a:xfrm>
              <a:off x="3809880" y="1371600"/>
              <a:ext cx="304920" cy="838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741"/>
                  </a:lnTo>
                  <a:cubicBezTo>
                    <a:pt x="10800" y="12641"/>
                    <a:pt x="5400" y="13541"/>
                    <a:pt x="0" y="13541"/>
                  </a:cubicBezTo>
                  <a:cubicBezTo>
                    <a:pt x="5400" y="13541"/>
                    <a:pt x="10800" y="14441"/>
                    <a:pt x="10800" y="1534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4440" y="1295280"/>
              <a:ext cx="1453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 - Hig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2 - Medi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 - Low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345640" y="990720"/>
            <a:ext cx="256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Enter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ility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388620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21337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315200" y="2133720"/>
            <a:ext cx="0" cy="19047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723920" y="40384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3680" y="21178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Matr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op Ten Lis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nice to include a “short list” of the most critical program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Rank   Risk    Consequences    Triggers    Mitigation    PO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909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805120"/>
            <a:ext cx="0" cy="252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2805120"/>
            <a:ext cx="0" cy="24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186000"/>
            <a:ext cx="5943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2805120"/>
            <a:ext cx="5943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4444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56840" y="3338640"/>
            <a:ext cx="44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8744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8272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276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25720" y="33386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4444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8744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8272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9276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25720" y="379584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. .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itigation Plann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trigger is evidence that your exposure to a risk condition has increa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data collection strategies for monitoring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itigation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Mitigation Planning Phas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are assigned to “owner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RE team works with risk own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find ways to identify various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various strategies to handle triggering situations as soon as they appe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429000" y="4264200"/>
            <a:ext cx="4190760" cy="685800"/>
            <a:chOff x="3429000" y="4264200"/>
            <a:chExt cx="4190760" cy="685800"/>
          </a:xfrm>
        </p:grpSpPr>
        <p:sp>
          <p:nvSpPr>
            <p:cNvPr id="344" name=""/>
            <p:cNvSpPr/>
            <p:nvPr/>
          </p:nvSpPr>
          <p:spPr>
            <a:xfrm>
              <a:off x="3588480" y="4416840"/>
              <a:ext cx="136800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d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45520" y="4416840"/>
              <a:ext cx="185112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sequ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4645440"/>
              <a:ext cx="609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9000" y="4264200"/>
              <a:ext cx="4190760" cy="685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83600" y="4187880"/>
            <a:ext cx="1674000" cy="978120"/>
            <a:chOff x="1983600" y="4187880"/>
            <a:chExt cx="1674000" cy="978120"/>
          </a:xfrm>
        </p:grpSpPr>
        <p:sp>
          <p:nvSpPr>
            <p:cNvPr id="349" name=""/>
            <p:cNvSpPr/>
            <p:nvPr/>
          </p:nvSpPr>
          <p:spPr>
            <a:xfrm>
              <a:off x="2517120" y="479772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83600" y="44928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17120" y="41878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3352680" y="4797360"/>
              <a:ext cx="3049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5480" y="4645080"/>
              <a:ext cx="762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76720" y="4340520"/>
              <a:ext cx="3045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57200" y="4087800"/>
            <a:ext cx="1584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nal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inement of Interim Report that includ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trigg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own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mitigation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includes a pres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ailure - not an Op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21960" y="1447560"/>
            <a:ext cx="649116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re unavoid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7880" indent="-14076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happens when something fail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27880" indent="-14076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gracefully will your system fai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, Hardware, and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tempting to use software to replace hard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costs for SW is higher than for HW while reproduction costs for SW are almost ze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dware obeys certain physical laws that make some unsafe behaviors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software becomes more complex, the possibility of failure incre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rrectness, Reliability,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rrectnes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s 2 broad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al construction err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s in meeting spec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the measure of the rate of failure of a system, including its software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the degree in which system functions do not lead to an accident causing loss of life, limb, or proper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at is Risk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Risk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measure of the probability and severity of adverse effects inherent in the development of a software system that does not meet the intended functions and performance requirements, the result of which may be: decreased quality, increased cost, delays, loss of market share, or catastrophic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software development a risky endeavo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Reliability and Safet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ant Point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eliability does not always imply saf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afe system may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 systems “fail saf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unsafe system may be reli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8800" y="3716280"/>
            <a:ext cx="4495320" cy="1922040"/>
            <a:chOff x="1828800" y="3716280"/>
            <a:chExt cx="4495320" cy="192204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4369680" y="4224600"/>
              <a:ext cx="1954440" cy="14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1828800" y="3716280"/>
              <a:ext cx="1544400" cy="123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3066480" y="4924440"/>
              <a:ext cx="1302840" cy="508320"/>
              <a:chOff x="3066480" y="4924440"/>
              <a:chExt cx="1302840" cy="508320"/>
            </a:xfrm>
          </p:grpSpPr>
          <p:sp>
            <p:nvSpPr>
              <p:cNvPr id="370" name=""/>
              <p:cNvSpPr/>
              <p:nvPr/>
            </p:nvSpPr>
            <p:spPr>
              <a:xfrm flipH="1">
                <a:off x="3066480" y="5432760"/>
                <a:ext cx="13028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3066840" y="4924440"/>
                <a:ext cx="0" cy="5083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Modes Effects Analysi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urpose of a FME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cipate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failures are det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egorize and prioritize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e or gracefully handle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the effect on the system and the impact to system function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6640" indent="-1832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 that the failure does not cause unacceptable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 must detect failures and ensure they are handled in a satisfactory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4800600"/>
            <a:ext cx="1295640" cy="60948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590920" y="4952880"/>
            <a:ext cx="2590560" cy="381240"/>
            <a:chOff x="2590920" y="4952880"/>
            <a:chExt cx="2590560" cy="381240"/>
          </a:xfrm>
        </p:grpSpPr>
        <p:sp>
          <p:nvSpPr>
            <p:cNvPr id="378" name=""/>
            <p:cNvSpPr/>
            <p:nvPr/>
          </p:nvSpPr>
          <p:spPr>
            <a:xfrm>
              <a:off x="2590920" y="5105520"/>
              <a:ext cx="1447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38480" y="4952880"/>
              <a:ext cx="1143000" cy="381240"/>
            </a:xfrm>
            <a:prstGeom prst="flowChartAlternateProcess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ailu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0720" y="2514600"/>
            <a:ext cx="1904760" cy="2286000"/>
            <a:chOff x="990720" y="2514600"/>
            <a:chExt cx="1904760" cy="2286000"/>
          </a:xfrm>
        </p:grpSpPr>
        <p:sp>
          <p:nvSpPr>
            <p:cNvPr id="381" name=""/>
            <p:cNvSpPr/>
            <p:nvPr/>
          </p:nvSpPr>
          <p:spPr>
            <a:xfrm rot="5400000">
              <a:off x="1447200" y="4190760"/>
              <a:ext cx="990720" cy="228600"/>
            </a:xfrm>
            <a:prstGeom prst="rightArrow">
              <a:avLst>
                <a:gd name="adj1" fmla="val 50000"/>
                <a:gd name="adj2" fmla="val 108346"/>
              </a:avLst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990720" y="2514600"/>
              <a:ext cx="1904760" cy="1523520"/>
              <a:chOff x="990720" y="2514600"/>
              <a:chExt cx="1904760" cy="152352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2895480"/>
                <a:ext cx="1904760" cy="114264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1142640" y="3047760"/>
                <a:ext cx="1577880" cy="779400"/>
                <a:chOff x="1142640" y="3047760"/>
                <a:chExt cx="1577880" cy="77940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1142640" y="3047760"/>
                  <a:ext cx="1577880" cy="398880"/>
                </a:xfrm>
                <a:prstGeom prst="rect">
                  <a:avLst/>
                </a:prstGeom>
                <a:solidFill>
                  <a:srgbClr val="33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Softwar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42640" y="3428280"/>
                  <a:ext cx="1577880" cy="398880"/>
                </a:xfrm>
                <a:prstGeom prst="rect">
                  <a:avLst/>
                </a:prstGeom>
                <a:solidFill>
                  <a:srgbClr val="33cc3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Hardwar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1447920" y="2514600"/>
                <a:ext cx="1086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ystem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3657600" y="2743200"/>
            <a:ext cx="1676520" cy="2209680"/>
            <a:chOff x="3657600" y="2743200"/>
            <a:chExt cx="1676520" cy="2209680"/>
          </a:xfrm>
        </p:grpSpPr>
        <p:sp>
          <p:nvSpPr>
            <p:cNvPr id="389" name=""/>
            <p:cNvSpPr/>
            <p:nvPr/>
          </p:nvSpPr>
          <p:spPr>
            <a:xfrm>
              <a:off x="3657600" y="2743200"/>
              <a:ext cx="1676520" cy="16765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16000" y="3809880"/>
              <a:ext cx="1342080" cy="398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0400" y="2819520"/>
              <a:ext cx="1523520" cy="703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led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ehavi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572000" y="4191120"/>
              <a:ext cx="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5720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714640" y="3708360"/>
            <a:ext cx="1371960" cy="1015920"/>
            <a:chOff x="5714640" y="3708360"/>
            <a:chExt cx="1371960" cy="1015920"/>
          </a:xfrm>
        </p:grpSpPr>
        <p:sp>
          <p:nvSpPr>
            <p:cNvPr id="395" name=""/>
            <p:cNvSpPr/>
            <p:nvPr/>
          </p:nvSpPr>
          <p:spPr>
            <a:xfrm>
              <a:off x="5715000" y="3708360"/>
              <a:ext cx="1371600" cy="1015920"/>
            </a:xfrm>
            <a:custGeom>
              <a:avLst/>
              <a:gdLst/>
              <a:ahLst/>
              <a:rect l="l" t="t" r="r" b="b"/>
              <a:pathLst>
                <a:path w="1048" h="712">
                  <a:moveTo>
                    <a:pt x="360" y="640"/>
                  </a:moveTo>
                  <a:cubicBezTo>
                    <a:pt x="312" y="648"/>
                    <a:pt x="176" y="664"/>
                    <a:pt x="120" y="640"/>
                  </a:cubicBezTo>
                  <a:cubicBezTo>
                    <a:pt x="64" y="616"/>
                    <a:pt x="40" y="544"/>
                    <a:pt x="24" y="496"/>
                  </a:cubicBezTo>
                  <a:cubicBezTo>
                    <a:pt x="8" y="448"/>
                    <a:pt x="0" y="400"/>
                    <a:pt x="24" y="352"/>
                  </a:cubicBezTo>
                  <a:cubicBezTo>
                    <a:pt x="48" y="304"/>
                    <a:pt x="168" y="248"/>
                    <a:pt x="168" y="208"/>
                  </a:cubicBezTo>
                  <a:cubicBezTo>
                    <a:pt x="168" y="168"/>
                    <a:pt x="32" y="144"/>
                    <a:pt x="24" y="112"/>
                  </a:cubicBezTo>
                  <a:cubicBezTo>
                    <a:pt x="16" y="80"/>
                    <a:pt x="72" y="24"/>
                    <a:pt x="120" y="16"/>
                  </a:cubicBezTo>
                  <a:cubicBezTo>
                    <a:pt x="168" y="8"/>
                    <a:pt x="232" y="56"/>
                    <a:pt x="312" y="64"/>
                  </a:cubicBezTo>
                  <a:cubicBezTo>
                    <a:pt x="392" y="72"/>
                    <a:pt x="536" y="72"/>
                    <a:pt x="600" y="64"/>
                  </a:cubicBezTo>
                  <a:cubicBezTo>
                    <a:pt x="664" y="56"/>
                    <a:pt x="672" y="0"/>
                    <a:pt x="696" y="16"/>
                  </a:cubicBezTo>
                  <a:cubicBezTo>
                    <a:pt x="720" y="32"/>
                    <a:pt x="696" y="128"/>
                    <a:pt x="744" y="160"/>
                  </a:cubicBezTo>
                  <a:cubicBezTo>
                    <a:pt x="792" y="192"/>
                    <a:pt x="936" y="184"/>
                    <a:pt x="984" y="208"/>
                  </a:cubicBezTo>
                  <a:cubicBezTo>
                    <a:pt x="1032" y="232"/>
                    <a:pt x="1048" y="256"/>
                    <a:pt x="1032" y="304"/>
                  </a:cubicBezTo>
                  <a:cubicBezTo>
                    <a:pt x="1016" y="352"/>
                    <a:pt x="904" y="448"/>
                    <a:pt x="888" y="496"/>
                  </a:cubicBezTo>
                  <a:cubicBezTo>
                    <a:pt x="872" y="544"/>
                    <a:pt x="952" y="560"/>
                    <a:pt x="936" y="592"/>
                  </a:cubicBezTo>
                  <a:cubicBezTo>
                    <a:pt x="920" y="624"/>
                    <a:pt x="840" y="672"/>
                    <a:pt x="792" y="688"/>
                  </a:cubicBezTo>
                  <a:cubicBezTo>
                    <a:pt x="744" y="704"/>
                    <a:pt x="696" y="712"/>
                    <a:pt x="648" y="688"/>
                  </a:cubicBezTo>
                  <a:cubicBezTo>
                    <a:pt x="600" y="664"/>
                    <a:pt x="544" y="560"/>
                    <a:pt x="504" y="544"/>
                  </a:cubicBezTo>
                  <a:cubicBezTo>
                    <a:pt x="464" y="528"/>
                    <a:pt x="432" y="576"/>
                    <a:pt x="408" y="592"/>
                  </a:cubicBezTo>
                  <a:cubicBezTo>
                    <a:pt x="384" y="608"/>
                    <a:pt x="408" y="632"/>
                    <a:pt x="360" y="640"/>
                  </a:cubicBezTo>
                  <a:close/>
                </a:path>
              </a:pathLst>
            </a:custGeom>
            <a:solidFill>
              <a:srgbClr val="3399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14640" y="3809880"/>
              <a:ext cx="12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tec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410080" y="2819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ontroll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400800" y="44953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400800" y="35053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181120" y="51814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9633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any years there has been a number of standards that try to define processes in Failure Mode and Effects Analysis (FME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iginated with hardwar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en applied to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ly enjoying popularity in systems engineering discip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11714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Standard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Defence (UK) MOD 00-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urement of safety critical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Defence (UK) MOD 00-5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, evaluate, and minimize ri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1629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, evaluate, and minimize ris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-STD-882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contracted developers of safety critical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Standard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 00-3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fety critical SW for airborn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Energy Commission IEC-88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ar power plant saf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E Recommended Practic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ly developed by US Automak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onsored by US Council for Automotive Research (USCAR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guidance in FMEA 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Broad Appro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tuational/Scenario Based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a failure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system elements contributing to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situations contributing to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Broad Approaches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1684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 centr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ition system into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component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2880" indent="-1684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 centr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60520" indent="-18324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 system function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those units where software intersects functi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FMEA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Broad Approaches 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Module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a software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y module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inspections serve this purpose 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FMEA analysis based on those modules and their associated fail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When do you do a FMEA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1218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1828800"/>
            <a:ext cx="533160" cy="3505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9413600">
            <a:off x="5946120" y="175176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men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9508400">
            <a:off x="6326640" y="28951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9664400">
            <a:off x="6325920" y="38095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9658400">
            <a:off x="6019920" y="4571640"/>
            <a:ext cx="14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fic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lid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45520" y="1828800"/>
            <a:ext cx="364932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vent/remove fault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risks to the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274320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designs adequatel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 potential fa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464832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the system behaves predictably in fault 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3657600"/>
            <a:ext cx="3810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 that the code  adequatel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ress identified fa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18288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27432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46483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447920" y="236232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327672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26708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1580760" y="1771560"/>
            <a:ext cx="304920" cy="266760"/>
          </a:xfrm>
          <a:custGeom>
            <a:avLst/>
            <a:gdLst>
              <a:gd name="textAreaLeft" fmla="*/ 101520 w 304920"/>
              <a:gd name="textAreaRight" fmla="*/ 261360 w 304920"/>
              <a:gd name="textAreaTop" fmla="*/ 153720 h 266760"/>
              <a:gd name="textAreaBottom" fmla="*/ 22860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88560" y="2133720"/>
            <a:ext cx="36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Bd BT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oftware Crisis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819520"/>
            <a:ext cx="7715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860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1995 the US spent more than $250 billion for software development on 175,000 project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costs for a large company 2.3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for a medium company is 1.3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Schoolbook"/>
              </a:rPr>
              <a:t>average annual for a small company is $434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371600"/>
            <a:ext cx="7026120" cy="19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arge Company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&gt; $5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dium Company:  $200 - $5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mall Company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$100 - $200 million in re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4960" y="5408640"/>
            <a:ext cx="5421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Chaos: The Dollar Drain of IT Project Failures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, Application Development Trends, January 199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general goal is to develop a list of potential failures as early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FMEA strate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pe and planning of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identif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lution of undetected faults and fault handling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927000" y="806400"/>
            <a:ext cx="64882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lect FMEA Strateg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22320" y="1558800"/>
            <a:ext cx="64911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decide upon a strategy for performing the overall FM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guidelines and completion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rror detection can lead to state explo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fault thresh hold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99880" indent="-1854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the analysis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615960" indent="-2016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W, SW, system, mix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Plann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essentially planning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term pl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meetings will you need to meet your goals and completion criter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ill you partition the mee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FMEAs will be dependent upon other FMEA effo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will be the produ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utes, action items, documen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Planning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gine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those involved with the unit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sures buy 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MEA facilit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s FMEA on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atory materials (designs, etc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Identific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Identification Guid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the dom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operational scenarios (operational scenario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knowledge of the system’s internal function and structur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ults can be derived from an analysis of previous system failures 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t proa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ailure Identification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ed brainstor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al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isciplined techniques have evol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int Application Design (JA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phi Techn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zard and Operabil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basic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duc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380988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429000"/>
            <a:ext cx="1143000" cy="380880"/>
          </a:xfrm>
          <a:prstGeom prst="flowChartAlternateProcess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2680" y="4151160"/>
            <a:ext cx="1733760" cy="12747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 flipH="1">
            <a:off x="2971440" y="3657600"/>
            <a:ext cx="6094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724280" y="3657600"/>
            <a:ext cx="5335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97440" y="3429000"/>
            <a:ext cx="1651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D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di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occur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07320" y="3200400"/>
            <a:ext cx="2364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will happ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 that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lure has occur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600200" y="4419720"/>
            <a:ext cx="1028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638680" y="4419720"/>
            <a:ext cx="1028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a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d as a means of visualizing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d on hardware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utilizes a consistent terminology and documentation techniq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219320" y="4191120"/>
            <a:ext cx="457200" cy="685800"/>
            <a:chOff x="1219320" y="4191120"/>
            <a:chExt cx="457200" cy="685800"/>
          </a:xfrm>
        </p:grpSpPr>
        <p:sp>
          <p:nvSpPr>
            <p:cNvPr id="461" name=""/>
            <p:cNvSpPr/>
            <p:nvPr/>
          </p:nvSpPr>
          <p:spPr>
            <a:xfrm>
              <a:off x="1219320" y="4191120"/>
              <a:ext cx="457200" cy="25236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12"/>
                  </a:moveTo>
                  <a:cubicBezTo>
                    <a:pt x="8" y="72"/>
                    <a:pt x="16" y="32"/>
                    <a:pt x="48" y="16"/>
                  </a:cubicBezTo>
                  <a:cubicBezTo>
                    <a:pt x="80" y="0"/>
                    <a:pt x="160" y="0"/>
                    <a:pt x="192" y="16"/>
                  </a:cubicBezTo>
                  <a:cubicBezTo>
                    <a:pt x="224" y="32"/>
                    <a:pt x="232" y="72"/>
                    <a:pt x="240" y="11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19320" y="4443480"/>
              <a:ext cx="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76520" y="4443480"/>
              <a:ext cx="0" cy="43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19320" y="4876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286000" y="4191120"/>
            <a:ext cx="457200" cy="685800"/>
            <a:chOff x="2286000" y="4191120"/>
            <a:chExt cx="457200" cy="685800"/>
          </a:xfrm>
        </p:grpSpPr>
        <p:grpSp>
          <p:nvGrpSpPr>
            <p:cNvPr id="466" name=""/>
            <p:cNvGrpSpPr/>
            <p:nvPr/>
          </p:nvGrpSpPr>
          <p:grpSpPr>
            <a:xfrm>
              <a:off x="2286000" y="4191120"/>
              <a:ext cx="456840" cy="380880"/>
              <a:chOff x="2286000" y="4191120"/>
              <a:chExt cx="456840" cy="380880"/>
            </a:xfrm>
          </p:grpSpPr>
          <p:sp>
            <p:nvSpPr>
              <p:cNvPr id="467" name=""/>
              <p:cNvSpPr/>
              <p:nvPr/>
            </p:nvSpPr>
            <p:spPr>
              <a:xfrm>
                <a:off x="2286000" y="419112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0" y="240"/>
                    </a:moveTo>
                    <a:cubicBezTo>
                      <a:pt x="12" y="208"/>
                      <a:pt x="24" y="176"/>
                      <a:pt x="48" y="144"/>
                    </a:cubicBezTo>
                    <a:cubicBezTo>
                      <a:pt x="72" y="112"/>
                      <a:pt x="112" y="72"/>
                      <a:pt x="144" y="48"/>
                    </a:cubicBezTo>
                    <a:cubicBezTo>
                      <a:pt x="176" y="24"/>
                      <a:pt x="208" y="12"/>
                      <a:pt x="240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514600" y="4191120"/>
                <a:ext cx="228240" cy="380880"/>
              </a:xfrm>
              <a:custGeom>
                <a:avLst/>
                <a:gdLst/>
                <a:ahLst/>
                <a:rect l="l" t="t" r="r" b="b"/>
                <a:pathLst>
                  <a:path w="240" h="240">
                    <a:moveTo>
                      <a:pt x="0" y="240"/>
                    </a:moveTo>
                    <a:cubicBezTo>
                      <a:pt x="12" y="208"/>
                      <a:pt x="24" y="176"/>
                      <a:pt x="48" y="144"/>
                    </a:cubicBezTo>
                    <a:cubicBezTo>
                      <a:pt x="72" y="112"/>
                      <a:pt x="112" y="72"/>
                      <a:pt x="144" y="48"/>
                    </a:cubicBezTo>
                    <a:cubicBezTo>
                      <a:pt x="176" y="24"/>
                      <a:pt x="208" y="12"/>
                      <a:pt x="240" y="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2286000" y="4572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43200" y="4572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0" y="478800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3352680" y="4191120"/>
            <a:ext cx="685800" cy="6094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4114800"/>
            <a:ext cx="762120" cy="76212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72200" y="4191120"/>
            <a:ext cx="990720" cy="609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5160" y="4876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7440" y="4876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25880" y="4876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4840" y="487692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velop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42320" y="487692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1960" y="1558800"/>
            <a:ext cx="649116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G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Failure occurs if all input events occ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 G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Failure occurs if any input events occ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rminal 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Basic failure event needing no further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Analysi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eating Fault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developed Ev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failure event that may have a root cause but is not developed any fur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mediate Even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 event that occurs because of another, or a series of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asic elements of a fault tree are gates and ev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gest part of a FMEA exerc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oftware Crisis?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.1% of projects in all categories were canceled before comple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: $81 bill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2.7% will overrun their initial estimates by 189%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spcBef>
                <a:spcPts val="1199"/>
              </a:spcBef>
              <a:spcAft>
                <a:spcPts val="751"/>
              </a:spcAft>
              <a:buClr>
                <a:srgbClr val="ffffff"/>
              </a:buClr>
              <a:buSzPct val="120000"/>
              <a:buFont typeface="Century Schoolbook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.2% will complete on time and and within their budg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5840" y="5027760"/>
            <a:ext cx="5421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Chaos: The Dollar Drain of IT Project Failures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, Application Development Trends, January 199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 Fault Tre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38120" y="3352680"/>
            <a:ext cx="3429000" cy="1676520"/>
            <a:chOff x="438120" y="3352680"/>
            <a:chExt cx="3429000" cy="1676520"/>
          </a:xfrm>
        </p:grpSpPr>
        <p:sp>
          <p:nvSpPr>
            <p:cNvPr id="486" name=""/>
            <p:cNvSpPr/>
            <p:nvPr/>
          </p:nvSpPr>
          <p:spPr>
            <a:xfrm>
              <a:off x="2942640" y="3886200"/>
              <a:ext cx="8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ri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lee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8880" y="3657600"/>
              <a:ext cx="12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scu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 Vi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38120" y="3352680"/>
              <a:ext cx="3429000" cy="1676520"/>
              <a:chOff x="438120" y="3352680"/>
              <a:chExt cx="3429000" cy="1676520"/>
            </a:xfrm>
          </p:grpSpPr>
          <p:sp>
            <p:nvSpPr>
              <p:cNvPr id="489" name=""/>
              <p:cNvSpPr/>
              <p:nvPr/>
            </p:nvSpPr>
            <p:spPr>
              <a:xfrm>
                <a:off x="2876400" y="3733920"/>
                <a:ext cx="990720" cy="9144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38120" y="3352680"/>
                <a:ext cx="1676520" cy="1676520"/>
              </a:xfrm>
              <a:prstGeom prst="flowChartDecision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114640" y="2971440"/>
            <a:ext cx="761760" cy="1219680"/>
            <a:chOff x="2114640" y="2971440"/>
            <a:chExt cx="761760" cy="1219680"/>
          </a:xfrm>
        </p:grpSpPr>
        <p:sp>
          <p:nvSpPr>
            <p:cNvPr id="492" name=""/>
            <p:cNvSpPr/>
            <p:nvPr/>
          </p:nvSpPr>
          <p:spPr>
            <a:xfrm>
              <a:off x="226692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49480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6692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2412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66920" y="372096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2495520" y="29714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4640" y="4191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1920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71840" y="4191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184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57640" y="1752480"/>
            <a:ext cx="2209680" cy="990720"/>
            <a:chOff x="3257640" y="1752480"/>
            <a:chExt cx="2209680" cy="990720"/>
          </a:xfrm>
        </p:grpSpPr>
        <p:sp>
          <p:nvSpPr>
            <p:cNvPr id="503" name=""/>
            <p:cNvSpPr/>
            <p:nvPr/>
          </p:nvSpPr>
          <p:spPr>
            <a:xfrm>
              <a:off x="3867120" y="190512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095000" y="190512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7120" y="2286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24320" y="22860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67120" y="250200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095720" y="175248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57640" y="274320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019400" y="2514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72040" y="2743200"/>
              <a:ext cx="129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72040" y="2514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1742760" y="2286000"/>
            <a:ext cx="4826880" cy="642600"/>
            <a:chOff x="1742760" y="2286000"/>
            <a:chExt cx="4826880" cy="642600"/>
          </a:xfrm>
        </p:grpSpPr>
        <p:sp>
          <p:nvSpPr>
            <p:cNvPr id="514" name=""/>
            <p:cNvSpPr/>
            <p:nvPr/>
          </p:nvSpPr>
          <p:spPr>
            <a:xfrm>
              <a:off x="1742760" y="2286000"/>
              <a:ext cx="149904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river Didn’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e Ob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475960" y="2286000"/>
              <a:ext cx="109368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r Fail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Brak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324320" y="3505320"/>
            <a:ext cx="3363480" cy="1371600"/>
            <a:chOff x="4324320" y="3505320"/>
            <a:chExt cx="3363480" cy="1371600"/>
          </a:xfrm>
        </p:grpSpPr>
        <p:sp>
          <p:nvSpPr>
            <p:cNvPr id="517" name=""/>
            <p:cNvSpPr/>
            <p:nvPr/>
          </p:nvSpPr>
          <p:spPr>
            <a:xfrm>
              <a:off x="6466320" y="3841920"/>
              <a:ext cx="1221480" cy="642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effe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9120" y="3809880"/>
              <a:ext cx="113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fe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324320" y="3505320"/>
              <a:ext cx="1371600" cy="1371600"/>
            </a:xfrm>
            <a:prstGeom prst="flowChartDecision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695920" y="2971440"/>
            <a:ext cx="762120" cy="1219680"/>
            <a:chOff x="5695920" y="2971440"/>
            <a:chExt cx="762120" cy="1219680"/>
          </a:xfrm>
        </p:grpSpPr>
        <p:sp>
          <p:nvSpPr>
            <p:cNvPr id="521" name=""/>
            <p:cNvSpPr/>
            <p:nvPr/>
          </p:nvSpPr>
          <p:spPr>
            <a:xfrm>
              <a:off x="584820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076080" y="3124080"/>
              <a:ext cx="228600" cy="381240"/>
            </a:xfrm>
            <a:custGeom>
              <a:avLst/>
              <a:gdLst/>
              <a:ahLst/>
              <a:rect l="l" t="t" r="r" b="b"/>
              <a:pathLst>
                <a:path w="240" h="240">
                  <a:moveTo>
                    <a:pt x="0" y="240"/>
                  </a:moveTo>
                  <a:cubicBezTo>
                    <a:pt x="12" y="208"/>
                    <a:pt x="24" y="176"/>
                    <a:pt x="48" y="144"/>
                  </a:cubicBezTo>
                  <a:cubicBezTo>
                    <a:pt x="72" y="112"/>
                    <a:pt x="112" y="72"/>
                    <a:pt x="144" y="48"/>
                  </a:cubicBezTo>
                  <a:cubicBezTo>
                    <a:pt x="176" y="24"/>
                    <a:pt x="208" y="12"/>
                    <a:pt x="240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482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05400" y="35053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48200" y="3720960"/>
              <a:ext cx="457200" cy="8892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0" y="56"/>
                  </a:moveTo>
                  <a:cubicBezTo>
                    <a:pt x="12" y="36"/>
                    <a:pt x="24" y="16"/>
                    <a:pt x="48" y="8"/>
                  </a:cubicBezTo>
                  <a:cubicBezTo>
                    <a:pt x="72" y="0"/>
                    <a:pt x="112" y="8"/>
                    <a:pt x="144" y="8"/>
                  </a:cubicBezTo>
                  <a:cubicBezTo>
                    <a:pt x="176" y="8"/>
                    <a:pt x="216" y="0"/>
                    <a:pt x="240" y="8"/>
                  </a:cubicBezTo>
                  <a:cubicBezTo>
                    <a:pt x="264" y="16"/>
                    <a:pt x="276" y="36"/>
                    <a:pt x="288" y="5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076800" y="29714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9592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084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53120" y="4191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53120" y="37339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562200" y="4419720"/>
            <a:ext cx="3581640" cy="1600200"/>
            <a:chOff x="3562200" y="4419720"/>
            <a:chExt cx="3581640" cy="1600200"/>
          </a:xfrm>
        </p:grpSpPr>
        <p:sp>
          <p:nvSpPr>
            <p:cNvPr id="532" name=""/>
            <p:cNvSpPr/>
            <p:nvPr/>
          </p:nvSpPr>
          <p:spPr>
            <a:xfrm rot="5400000">
              <a:off x="6633360" y="5053680"/>
              <a:ext cx="457200" cy="25272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0" y="112"/>
                  </a:moveTo>
                  <a:cubicBezTo>
                    <a:pt x="8" y="72"/>
                    <a:pt x="16" y="32"/>
                    <a:pt x="48" y="16"/>
                  </a:cubicBezTo>
                  <a:cubicBezTo>
                    <a:pt x="80" y="0"/>
                    <a:pt x="160" y="0"/>
                    <a:pt x="192" y="16"/>
                  </a:cubicBezTo>
                  <a:cubicBezTo>
                    <a:pt x="224" y="32"/>
                    <a:pt x="232" y="72"/>
                    <a:pt x="240" y="112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302160" y="4951440"/>
              <a:ext cx="43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302160" y="5408640"/>
              <a:ext cx="433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03960" y="49514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7000" y="4692600"/>
              <a:ext cx="89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k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a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62200" y="4419720"/>
              <a:ext cx="1143000" cy="1143000"/>
            </a:xfrm>
            <a:prstGeom prst="flowChartDecision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744800" y="5257800"/>
              <a:ext cx="6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a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52920" y="5105520"/>
              <a:ext cx="990720" cy="9144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05200" y="502920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00840" y="52578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00840" y="52578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43640" y="5562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43840" y="449568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991200" y="518148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18160" y="50292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afety Critical Software:Status Repor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nd Annotated Bibliography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lace and Ka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65920" y="1371600"/>
            <a:ext cx="1729080" cy="36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 Hit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22273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ity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failure is given a criticality ran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torial comment: I prefer simple, low number ratings (i.e. 1-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approaches with respect to the fault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p level intermediate event rank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inal event ran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FMEA Proces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age and Effects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failure occurs, what is the effect to the system and what damage will it s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re the non-system losses in terms of life, limb, proper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cost of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fault 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analyze top level intermediate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Tabl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ting it all together in a FMEA T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MEA table provides a tabular listing of the possible system failures and includes thei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, effects, severity, probability of occurrence, probability of detection, corrective/handling a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0">
              <a:spcAft>
                <a:spcPts val="751"/>
              </a:spcAft>
              <a:buNone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e the example table on page 20 of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“Safety Critical Software:Status Report and Annotated Bibliography” ~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ce and Ka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Example FMEA Tabl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78487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SA Mars Microprobe SW FMEA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performed a system level fault table which provided a fault analysis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faults involved HW, SW, and/or bo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this analysis it was determined that there were 3 critical software compon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munications, impact, and water det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PL’s findings from the Mars Microprobe Software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ication of sequence and fault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rification of software error variables during an anomalous ev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mmendation of test ca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cation of software faults that could be avoided altogeth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PL’s findings from the Mars Microprobe Software FMEA (continu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dri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iteration and refocusing on emerging software failure issues as the software is built and tes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d a relationship between risk and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merging philosophy is to take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ystems appro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ing complimentary and redundant HW and SW safety techniq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ceful degradation, proactive failure detection, and fail safe as a system engineering iss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xample is the Boeing 777 aircraf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y-by-wire avionics with minimal mechanical backup should the primary automated system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MEA in Practic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the emergence and importance of transaction based system, concerns ar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 princi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action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ct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ceful degra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6640" y="808200"/>
            <a:ext cx="648828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ymptoms of the Crisi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828800"/>
            <a:ext cx="300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VELOPMENT COST OVERR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72160" y="1752480"/>
            <a:ext cx="191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AILED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971800"/>
            <a:ext cx="29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CHEDULE OVERRU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51400" y="2955960"/>
            <a:ext cx="2552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STL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840" y="4038480"/>
            <a:ext cx="7924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ON SOFTWARE SCHEDULES, WE’VE GOT A PERFECT RECORD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  </a:t>
            </a:r>
            <a:r>
              <a:rPr b="1" lang="en-US" sz="1800" spc="-1" strike="noStrike">
                <a:solidFill>
                  <a:srgbClr val="fde3ba"/>
                </a:solidFill>
                <a:latin typeface="Book Antiqua"/>
              </a:rPr>
              <a:t>WE’VE NEVER MADE ONE ON TIME YET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876920"/>
            <a:ext cx="5333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GENERAL BERNARD P. RANDOL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COMMANDER, AIR FORCE SYSTEMS COMM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AIR FORCE ASSOCIATION SYMPOSIUM, JANUARY 198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76720" y="1600200"/>
          <a:ext cx="1834920" cy="14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183492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143000" y="2438280"/>
            <a:ext cx="1905120" cy="381240"/>
          </a:xfrm>
          <a:prstGeom prst="rightArrow">
            <a:avLst>
              <a:gd name="adj1" fmla="val 50000"/>
              <a:gd name="adj2" fmla="val 124929"/>
            </a:avLst>
          </a:prstGeom>
          <a:gradFill rotWithShape="0">
            <a:gsLst>
              <a:gs pos="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4120" y="2438280"/>
            <a:ext cx="1752480" cy="381240"/>
          </a:xfrm>
          <a:prstGeom prst="rightArrow">
            <a:avLst>
              <a:gd name="adj1" fmla="val 50000"/>
              <a:gd name="adj2" fmla="val 114920"/>
            </a:avLst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00400" y="3124080"/>
            <a:ext cx="16765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urier New"/>
              </a:rPr>
              <a:t>SOFTWARE</a:t>
            </a:r>
            <a:endParaRPr b="0" lang="en-US" sz="2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urier New"/>
              </a:rPr>
              <a:t>CRISIS</a:t>
            </a:r>
            <a:endParaRPr b="0" lang="en-US" sz="2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urier New"/>
              <a:ea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All that having been said..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and opportunity go hand-in-han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greatest rewards go to those that assume the greatest ris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only failure is not taking a chance to fai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isk is essential to progres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249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essential to balance the negative consequences of risk against the potential benefits in a deliberate and disciplined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is an inherent part of software develop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ignored or at best dealt with in an ad-hoc 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can be manag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nd FM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 overlooked in many web based systems, risk management is getting more attention with the emergence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icious pranksters (virus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information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commer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15960" indent="-20160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warf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are a part of re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 can be identified, but the system may or may not handle all failure m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ilure Mode Effects Analysis is a disciplined method for identifying system fail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in developing mitigating strateg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define graceful degrad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90880" indent="-1796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in system t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General Software Project Risk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649116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risks fall into 3 very broad categ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matic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, schedu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,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Enviro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, work environment, logist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7640" indent="-17784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tional Ris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591120" indent="-193320"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gracefully does a system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6640" y="806040"/>
            <a:ext cx="648828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oftware Project Ris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1960" y="1558440"/>
            <a:ext cx="64911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eed to formally manage risk increases with system complex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2437920"/>
            <a:ext cx="1440" cy="304812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105520"/>
            <a:ext cx="43434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2666880"/>
            <a:ext cx="3429000" cy="2133720"/>
          </a:xfrm>
          <a:custGeom>
            <a:avLst/>
            <a:gdLst/>
            <a:ahLst/>
            <a:rect l="l" t="t" r="r" b="b"/>
            <a:pathLst>
              <a:path w="2832" h="1632">
                <a:moveTo>
                  <a:pt x="0" y="1632"/>
                </a:moveTo>
                <a:cubicBezTo>
                  <a:pt x="176" y="1624"/>
                  <a:pt x="352" y="1616"/>
                  <a:pt x="528" y="1584"/>
                </a:cubicBezTo>
                <a:cubicBezTo>
                  <a:pt x="704" y="1552"/>
                  <a:pt x="888" y="1504"/>
                  <a:pt x="1056" y="1440"/>
                </a:cubicBezTo>
                <a:cubicBezTo>
                  <a:pt x="1224" y="1376"/>
                  <a:pt x="1384" y="1288"/>
                  <a:pt x="1536" y="1200"/>
                </a:cubicBezTo>
                <a:cubicBezTo>
                  <a:pt x="1688" y="1112"/>
                  <a:pt x="1824" y="1024"/>
                  <a:pt x="1968" y="912"/>
                </a:cubicBezTo>
                <a:cubicBezTo>
                  <a:pt x="2112" y="800"/>
                  <a:pt x="2256" y="680"/>
                  <a:pt x="2400" y="528"/>
                </a:cubicBezTo>
                <a:cubicBezTo>
                  <a:pt x="2544" y="376"/>
                  <a:pt x="2760" y="88"/>
                  <a:pt x="2832" y="0"/>
                </a:cubicBezTo>
              </a:path>
            </a:pathLst>
          </a:custGeom>
          <a:noFill/>
          <a:ln w="19080">
            <a:solidFill>
              <a:srgbClr val="ffff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0360" y="518148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9160" y="3733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000" y="228600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l ris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21040" y="3048120"/>
            <a:ext cx="28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porate expert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t knowledg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dgement, exper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440" y="426708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ble individu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47920" y="44956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447560" y="358128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47560" y="2819520"/>
            <a:ext cx="41907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20:28:42Z</dcterms:created>
  <dc:creator>jtomal</dc:creator>
  <dc:description/>
  <dc:language>en-US</dc:language>
  <cp:lastModifiedBy>Anthony J Lattanze</cp:lastModifiedBy>
  <cp:lastPrinted>1998-05-19T19:59:09Z</cp:lastPrinted>
  <dcterms:modified xsi:type="dcterms:W3CDTF">2000-09-22T19:44:12Z</dcterms:modified>
  <cp:revision>106</cp:revision>
  <dc:subject/>
  <dc:title>Cover Slide Example</dc:title>
</cp:coreProperties>
</file>