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3009600" cy="4554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3931920" y="-1800"/>
            <a:ext cx="3009960" cy="4554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-1440" y="8624880"/>
            <a:ext cx="300960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3931920" y="8624880"/>
            <a:ext cx="3009960" cy="45576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fld id="{4BBE2F99-7678-417A-9C26-99DE2085C3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34640" y="8645400"/>
            <a:ext cx="1271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AFA04C-AD39-4BA8-8BB6-E6CC58FE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Img"/>
          </p:nvPr>
        </p:nvSpPr>
        <p:spPr>
          <a:xfrm>
            <a:off x="1207800" y="687240"/>
            <a:ext cx="4522680" cy="339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bf2"/>
                </a:solidFill>
                <a:latin typeface="NewCenturySchlbk"/>
              </a:rPr>
              <a:t>Click to move the slide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body"/>
          </p:nvPr>
        </p:nvSpPr>
        <p:spPr>
          <a:xfrm>
            <a:off x="926640" y="4311360"/>
            <a:ext cx="5086440" cy="408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ldImg"/>
          </p:nvPr>
        </p:nvSpPr>
        <p:spPr>
          <a:xfrm>
            <a:off x="1301760" y="757080"/>
            <a:ext cx="4335480" cy="3251520"/>
          </a:xfrm>
          <a:prstGeom prst="rect">
            <a:avLst/>
          </a:prstGeom>
          <a:ln w="0">
            <a:noFill/>
          </a:ln>
        </p:spPr>
      </p:sp>
      <p:sp>
        <p:nvSpPr>
          <p:cNvPr id="1909" name=""/>
          <p:cNvSpPr/>
          <p:nvPr/>
        </p:nvSpPr>
        <p:spPr>
          <a:xfrm>
            <a:off x="1587600" y="4938840"/>
            <a:ext cx="4079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3760" bIns="2376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oes the SEI exist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70D-A0A0-44B2-A409-481A8C15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49E-5E48-4E24-8F63-DD97BE85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0BC-944C-4F27-B9F1-21AB29C99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6204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0968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6204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0968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747-4065-42D6-8788-881B72EED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0C0-9A4F-41A5-AA7F-1EEA61A8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6204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809680" y="167616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6204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809680" y="3944880"/>
            <a:ext cx="23306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6EE-DA08-46E3-AC69-555ECDC1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2A4-8BFF-4D1F-ABE5-F46C68A1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37C-C290-4998-B55E-926B370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320" y="761760"/>
            <a:ext cx="71629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40B2-F404-4932-8AF1-FF94F6AB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B60-E0F8-40A9-8131-A8DD79A9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23840" y="394488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27E-4E4A-4D52-A4B1-9DF43F4A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3840" y="1676160"/>
            <a:ext cx="3532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944880"/>
            <a:ext cx="72388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6928-84B7-4689-A364-759A504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E8EA-D90E-4B6A-BFEB-E11DEC065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bf2"/>
                </a:solidFill>
                <a:latin typeface="NewCenturySchlbk"/>
              </a:rPr>
              <a:t>Click to edit the title text format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4480" indent="-11448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19044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87320" indent="-2538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17360" y="237960"/>
            <a:ext cx="1559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abbb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18800" y="366840"/>
            <a:ext cx="33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bbb"/>
                </a:solidFill>
                <a:latin typeface="Arial"/>
              </a:rPr>
              <a:t>Center for Information Systems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647640"/>
            <a:ext cx="7975800" cy="0"/>
          </a:xfrm>
          <a:prstGeom prst="line">
            <a:avLst/>
          </a:prstGeom>
          <a:ln w="12600">
            <a:solidFill>
              <a:srgbClr val="04a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79600" y="6581880"/>
            <a:ext cx="2507040" cy="275040"/>
            <a:chOff x="579600" y="6581880"/>
            <a:chExt cx="2507040" cy="275040"/>
          </a:xfrm>
        </p:grpSpPr>
        <p:sp>
          <p:nvSpPr>
            <p:cNvPr id="9" name=""/>
            <p:cNvSpPr/>
            <p:nvPr/>
          </p:nvSpPr>
          <p:spPr>
            <a:xfrm>
              <a:off x="650520" y="6581880"/>
              <a:ext cx="243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8 Carnegie Mellon Univer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" name=""/>
            <p:cNvGraphicFramePr/>
            <p:nvPr/>
          </p:nvGraphicFramePr>
          <p:xfrm>
            <a:off x="579600" y="6627960"/>
            <a:ext cx="198360" cy="131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600" y="6627960"/>
                      <a:ext cx="19836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" name=""/>
          <p:cNvSpPr/>
          <p:nvPr/>
        </p:nvSpPr>
        <p:spPr>
          <a:xfrm>
            <a:off x="60120" y="122400"/>
            <a:ext cx="113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abbb"/>
                </a:solidFill>
                <a:latin typeface="Arial"/>
              </a:rPr>
              <a:t>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17960" y="3122640"/>
            <a:ext cx="512460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0bf2"/>
                </a:solidFill>
                <a:latin typeface="NewCenturySchlbk"/>
              </a:rPr>
              <a:t>Click to edit the title text format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51" name=""/>
          <p:cNvSpPr/>
          <p:nvPr/>
        </p:nvSpPr>
        <p:spPr>
          <a:xfrm>
            <a:off x="1017360" y="237960"/>
            <a:ext cx="15595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abbb"/>
                </a:solidFill>
                <a:latin typeface="Arial"/>
              </a:rPr>
              <a:t>Carnegie Mellon Univers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18800" y="366840"/>
            <a:ext cx="3391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abbb"/>
                </a:solidFill>
                <a:latin typeface="Arial"/>
              </a:rPr>
              <a:t>Center for Information Systems Engin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647640"/>
            <a:ext cx="7975800" cy="0"/>
          </a:xfrm>
          <a:prstGeom prst="line">
            <a:avLst/>
          </a:prstGeom>
          <a:ln w="12600">
            <a:solidFill>
              <a:srgbClr val="04ab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79600" y="6581880"/>
            <a:ext cx="2507040" cy="275040"/>
            <a:chOff x="579600" y="6581880"/>
            <a:chExt cx="2507040" cy="275040"/>
          </a:xfrm>
        </p:grpSpPr>
        <p:sp>
          <p:nvSpPr>
            <p:cNvPr id="55" name=""/>
            <p:cNvSpPr/>
            <p:nvPr/>
          </p:nvSpPr>
          <p:spPr>
            <a:xfrm>
              <a:off x="650520" y="6581880"/>
              <a:ext cx="243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8 Carnegie Mellon Univers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6" name=""/>
            <p:cNvGraphicFramePr/>
            <p:nvPr/>
          </p:nvGraphicFramePr>
          <p:xfrm>
            <a:off x="579600" y="6627960"/>
            <a:ext cx="198360" cy="13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600" y="6627960"/>
                      <a:ext cx="198360" cy="13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8" name=""/>
          <p:cNvSpPr/>
          <p:nvPr/>
        </p:nvSpPr>
        <p:spPr>
          <a:xfrm>
            <a:off x="60120" y="122400"/>
            <a:ext cx="1134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abbb"/>
                </a:solidFill>
                <a:latin typeface="Arial"/>
              </a:rPr>
              <a:t>C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5720" y="4846680"/>
            <a:ext cx="3027240" cy="136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er for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 Systems Engine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rnegie Mell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ttsburgh, Pennsylva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Division of Carnegie Mell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arch Insti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3520" algn="ctr"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6.wmf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9.wmf"/><Relationship Id="rId17" Type="http://schemas.openxmlformats.org/officeDocument/2006/relationships/image" Target="../media/image7.wmf"/><Relationship Id="rId18" Type="http://schemas.openxmlformats.org/officeDocument/2006/relationships/image" Target="../media/image7.wmf"/><Relationship Id="rId19" Type="http://schemas.openxmlformats.org/officeDocument/2006/relationships/image" Target="../media/image7.wmf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36b8"/>
                </a:solidFill>
                <a:latin typeface="NewCenturySchlbk"/>
              </a:rPr>
              <a:t>Carnegie Mellon's Capability Maturity Model</a:t>
            </a:r>
            <a:endParaRPr b="0" lang="en-US" sz="44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160" y="2895480"/>
            <a:ext cx="29718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ward B. Gebau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/>
          <p:nvPr/>
        </p:nvSpPr>
        <p:spPr>
          <a:xfrm flipV="1">
            <a:off x="7340760" y="1663200"/>
            <a:ext cx="0" cy="39639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5310360" y="1638000"/>
            <a:ext cx="0" cy="396540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32080" y="2633760"/>
            <a:ext cx="87480" cy="871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Intangible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357" name=""/>
          <p:cNvSpPr/>
          <p:nvPr/>
        </p:nvSpPr>
        <p:spPr>
          <a:xfrm>
            <a:off x="2954160" y="5280120"/>
            <a:ext cx="21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668680" y="515304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668680" y="423864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2668680" y="333864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2668680" y="243828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2548080" y="1523880"/>
            <a:ext cx="763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347600" y="3281400"/>
            <a:ext cx="151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aff morale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46880" y="1494000"/>
            <a:ext cx="149508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ustomer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isfaction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32749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35916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44664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53232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6180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7018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7893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87504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9592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04640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132440" y="525636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21812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30200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8948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7516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6084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6465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473220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818240" y="525636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90212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9896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07528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1609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24520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3323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41800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50224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58972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6754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76108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45320" y="525636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93244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1812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10380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18804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27552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36120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4450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5325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1824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703920" y="525636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78816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687564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96132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04700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130880" y="525636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18360" y="525636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304040" y="525636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32749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35916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344664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53232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6180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7018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7893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87504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9592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04640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132440" y="48132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21812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30200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38948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47516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56084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465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73220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818240" y="48132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90212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9896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07528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1609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24520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53323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1800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50224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58972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6754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76108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5845320" y="48132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93244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01812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10380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8804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627552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36120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4450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5325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61824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703920" y="48132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78816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87564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96132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04700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130880" y="48132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7218360" y="48132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304040" y="48132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2749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35916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44664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53232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180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018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7893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87504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9592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4640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32440" y="43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1812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0200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38948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47516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56084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6465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73220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818240" y="43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90212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49896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07528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1609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4520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323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41800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50224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58972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6754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76108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845320" y="43560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93244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01812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10380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18804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627552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636120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450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5325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61824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703920" y="43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78816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87564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96132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04700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130880" y="43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18360" y="43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304040" y="43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2749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35916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44664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53232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6180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7018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7893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87504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592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04640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132440" y="38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21812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30200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38948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47516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56084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6465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73220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818240" y="38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90212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9896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07528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1609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24520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323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41800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50224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58972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6754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76108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845320" y="38988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93244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01812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10380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18804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27552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636120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4450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325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61824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03920" y="38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78816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87564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96132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04700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130880" y="38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218360" y="38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304040" y="38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32749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35916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44664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3232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6180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7018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7893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87504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9592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04640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132440" y="34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21812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30200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438948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447516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56084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6465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73220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818240" y="34560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90212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9896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07528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1609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24520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3323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1800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50224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58972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6754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76108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845320" y="34560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93244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601812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10380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18804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27552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6120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4450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5325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61824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703920" y="34560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78816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87564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96132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704700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7130880" y="34560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218360" y="34560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304040" y="34560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2749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35916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44664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53232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6180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7018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7893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87504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9592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04640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132440" y="29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21812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30200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38948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47516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56084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6465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473220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818240" y="29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0212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9896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07528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1609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24520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3323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41800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50224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58972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6754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76108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845320" y="29988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93244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01812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10380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18804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27552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36120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4450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5325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61824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703920" y="29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78816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87564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96132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04700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130880" y="29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218360" y="29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304040" y="29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32749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35916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44664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53232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6180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37018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7893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387504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9592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04640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32440" y="25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421812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30200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38948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47516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56084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6465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73220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818240" y="25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90212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9896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07528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1609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24520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3323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41800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50224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58972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6754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576108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5845320" y="25416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93244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01812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10380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18804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27552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36120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4450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5325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61824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703920" y="25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78816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7564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96132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704700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7130880" y="25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218360" y="25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304040" y="25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2749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335916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44664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53232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36180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7018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37893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387504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39592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04640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32440" y="20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21812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30200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38948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7516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56084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6465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73220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818240" y="20988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90212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9896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07528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1609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524520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323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41800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550224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558972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56754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76108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845320" y="20988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93244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01812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610380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18804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627552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36120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4450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65325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61824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703920" y="20988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78816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87564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96132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704700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7130880" y="20988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7218360" y="20988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304040" y="20988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2749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5916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344664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353232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36180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37018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37893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387504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39592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04640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132440" y="16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421812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30200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38948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47516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56084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6465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73220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818240" y="164160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90212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9896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07528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1609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24520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3323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41800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50224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58972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6754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76108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845320" y="164160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93244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601812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10380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18804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27552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6120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4450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65325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61824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703920" y="164160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8816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87564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96132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04700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130880" y="164160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18360" y="1641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04040" y="164160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 flipV="1">
            <a:off x="3282840" y="163368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3216240" y="562752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3216240" y="525636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16240" y="48132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3216240" y="43560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216240" y="38988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3216240" y="34560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216240" y="29988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3216240" y="25416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3216240" y="20988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3216240" y="164160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274920" y="5627520"/>
            <a:ext cx="405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3282840" y="556272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5311800" y="55623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 flipV="1">
            <a:off x="7338960" y="55623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274920" y="3448080"/>
            <a:ext cx="4057920" cy="1673280"/>
          </a:xfrm>
          <a:custGeom>
            <a:avLst/>
            <a:gdLst/>
            <a:ahLst/>
            <a:rect l="l" t="t" r="r" b="b"/>
            <a:pathLst>
              <a:path w="2638" h="1088">
                <a:moveTo>
                  <a:pt x="0" y="1087"/>
                </a:moveTo>
                <a:lnTo>
                  <a:pt x="1319" y="288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274920" y="1633680"/>
            <a:ext cx="4057920" cy="1401480"/>
          </a:xfrm>
          <a:custGeom>
            <a:avLst/>
            <a:gdLst/>
            <a:ahLst/>
            <a:rect l="l" t="t" r="r" b="b"/>
            <a:pathLst>
              <a:path w="2638" h="911">
                <a:moveTo>
                  <a:pt x="0" y="678"/>
                </a:moveTo>
                <a:lnTo>
                  <a:pt x="1319" y="910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238560" y="5083200"/>
            <a:ext cx="58680" cy="58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267160" y="3854520"/>
            <a:ext cx="59040" cy="58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7294680" y="3411360"/>
            <a:ext cx="60120" cy="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7288200" y="1590840"/>
            <a:ext cx="88920" cy="87120"/>
          </a:xfrm>
          <a:custGeom>
            <a:avLst/>
            <a:gdLst/>
            <a:ahLst/>
            <a:rect l="l" t="t" r="r" b="b"/>
            <a:pathLst>
              <a:path w="57" h="56">
                <a:moveTo>
                  <a:pt x="28" y="55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5261040" y="2990880"/>
            <a:ext cx="85680" cy="87120"/>
          </a:xfrm>
          <a:custGeom>
            <a:avLst/>
            <a:gdLst/>
            <a:ahLst/>
            <a:rect l="l" t="t" r="r" b="b"/>
            <a:pathLst>
              <a:path w="56" h="57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88200" y="1590840"/>
            <a:ext cx="88920" cy="87120"/>
          </a:xfrm>
          <a:custGeom>
            <a:avLst/>
            <a:gdLst/>
            <a:ahLst/>
            <a:rect l="l" t="t" r="r" b="b"/>
            <a:pathLst>
              <a:path w="57" h="56">
                <a:moveTo>
                  <a:pt x="28" y="0"/>
                </a:moveTo>
                <a:lnTo>
                  <a:pt x="56" y="55"/>
                </a:lnTo>
                <a:lnTo>
                  <a:pt x="0" y="55"/>
                </a:lnTo>
                <a:lnTo>
                  <a:pt x="2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0" name=""/>
          <p:cNvGrpSpPr/>
          <p:nvPr/>
        </p:nvGrpSpPr>
        <p:grpSpPr>
          <a:xfrm>
            <a:off x="3174840" y="5290920"/>
            <a:ext cx="214560" cy="313920"/>
            <a:chOff x="3174840" y="5290920"/>
            <a:chExt cx="214560" cy="313920"/>
          </a:xfrm>
        </p:grpSpPr>
        <p:sp>
          <p:nvSpPr>
            <p:cNvPr id="1821" name=""/>
            <p:cNvSpPr/>
            <p:nvPr/>
          </p:nvSpPr>
          <p:spPr>
            <a:xfrm flipV="1">
              <a:off x="3174840" y="5290920"/>
              <a:ext cx="2145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V="1">
              <a:off x="3174840" y="5405040"/>
              <a:ext cx="2145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3" name=""/>
          <p:cNvSpPr/>
          <p:nvPr/>
        </p:nvSpPr>
        <p:spPr>
          <a:xfrm>
            <a:off x="3282840" y="5413320"/>
            <a:ext cx="0" cy="8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138320" y="1486080"/>
            <a:ext cx="129996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 Reporting “Excellent” or “G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238560" y="263988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222720" y="5083200"/>
            <a:ext cx="7452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5267160" y="301140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5267160" y="3840120"/>
            <a:ext cx="7308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280280" y="1596960"/>
            <a:ext cx="7452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280280" y="3411360"/>
            <a:ext cx="7452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787840" y="617688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360240" y="5662440"/>
            <a:ext cx="772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392080" y="5662440"/>
            <a:ext cx="1365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7439400" y="5662440"/>
            <a:ext cx="100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3122640" y="5646600"/>
            <a:ext cx="430200" cy="282600"/>
            <a:chOff x="3122640" y="5646600"/>
            <a:chExt cx="430200" cy="282600"/>
          </a:xfrm>
        </p:grpSpPr>
        <p:sp>
          <p:nvSpPr>
            <p:cNvPr id="1836" name=""/>
            <p:cNvSpPr/>
            <p:nvPr/>
          </p:nvSpPr>
          <p:spPr>
            <a:xfrm>
              <a:off x="3134520" y="5646600"/>
              <a:ext cx="282600" cy="28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122640" y="5707800"/>
              <a:ext cx="43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7209000" y="5665680"/>
            <a:ext cx="461880" cy="286560"/>
            <a:chOff x="7209000" y="5665680"/>
            <a:chExt cx="461880" cy="286560"/>
          </a:xfrm>
        </p:grpSpPr>
        <p:sp>
          <p:nvSpPr>
            <p:cNvPr id="1839" name=""/>
            <p:cNvSpPr/>
            <p:nvPr/>
          </p:nvSpPr>
          <p:spPr>
            <a:xfrm>
              <a:off x="7209000" y="5665680"/>
              <a:ext cx="282960" cy="28260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209000" y="5733000"/>
              <a:ext cx="46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5165640" y="5659560"/>
            <a:ext cx="461880" cy="305280"/>
            <a:chOff x="5165640" y="5659560"/>
            <a:chExt cx="461880" cy="305280"/>
          </a:xfrm>
        </p:grpSpPr>
        <p:sp>
          <p:nvSpPr>
            <p:cNvPr id="1842" name=""/>
            <p:cNvSpPr/>
            <p:nvPr/>
          </p:nvSpPr>
          <p:spPr>
            <a:xfrm>
              <a:off x="5165640" y="5659560"/>
              <a:ext cx="282960" cy="28296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65640" y="5745600"/>
              <a:ext cx="46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F76-0B77-4563-9949-D89873304A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066320" y="10299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Results of Software Process Improvement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845" name=""/>
          <p:cNvSpPr/>
          <p:nvPr/>
        </p:nvSpPr>
        <p:spPr>
          <a:xfrm>
            <a:off x="1096920" y="6194520"/>
            <a:ext cx="5587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 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Benefits of CMM-Based Software Process Improvement:  Initial Result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1397160" y="2147760"/>
            <a:ext cx="6424560" cy="48132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1433520" y="2197080"/>
            <a:ext cx="1623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Categ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91120" y="2763720"/>
            <a:ext cx="3630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$490-2004      $1375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%-67%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35%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5%-23%          19% 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%-94%          39%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spcAft>
                <a:spcPts val="1162"/>
              </a:spcAft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.0-8.8:1           5.0:1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5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41800" y="2222640"/>
            <a:ext cx="38638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Range          Median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Data p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409760" y="2751120"/>
            <a:ext cx="271944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st of SPI per software engine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ain in productivity 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er 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duction in time to market per 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duction in post-release defects per y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usiness value ratio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benefit/cos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41800" y="2147760"/>
            <a:ext cx="0" cy="337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445000" y="2160720"/>
            <a:ext cx="0" cy="334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6713640" y="2147760"/>
            <a:ext cx="0" cy="336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403280" y="2166840"/>
            <a:ext cx="6411960" cy="333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397160" y="3219480"/>
            <a:ext cx="64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397160" y="3798720"/>
            <a:ext cx="64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1397160" y="4314960"/>
            <a:ext cx="639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384200" y="4844880"/>
            <a:ext cx="6448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397160" y="2641680"/>
            <a:ext cx="64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603-FCC2-4E56-AA32-9ECB5CFF0F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0" name=""/>
          <p:cNvGrpSpPr/>
          <p:nvPr/>
        </p:nvGrpSpPr>
        <p:grpSpPr>
          <a:xfrm>
            <a:off x="4116600" y="5168880"/>
            <a:ext cx="3661920" cy="492120"/>
            <a:chOff x="4116600" y="5168880"/>
            <a:chExt cx="3661920" cy="492120"/>
          </a:xfrm>
        </p:grpSpPr>
        <p:sp>
          <p:nvSpPr>
            <p:cNvPr id="1861" name=""/>
            <p:cNvSpPr/>
            <p:nvPr/>
          </p:nvSpPr>
          <p:spPr>
            <a:xfrm>
              <a:off x="428472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116600" y="5322240"/>
              <a:ext cx="2815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4496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61412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7804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94496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68828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1098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2758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44212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60520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4996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77116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9360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10056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26652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00984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4314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59592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76080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692820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6670080" y="5322240"/>
              <a:ext cx="40212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09164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5616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422480" y="5168880"/>
              <a:ext cx="0" cy="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587000" y="51688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56160" y="5322240"/>
              <a:ext cx="52236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9080"/>
                  <a:tab algn="l" pos="1838160"/>
                  <a:tab algn="l" pos="2757600"/>
                  <a:tab algn="l" pos="3676680"/>
                  <a:tab algn="l" pos="4595760"/>
                  <a:tab algn="l" pos="5514840"/>
                  <a:tab algn="l" pos="6434280"/>
                  <a:tab algn="l" pos="7353360"/>
                  <a:tab algn="l" pos="8272440"/>
                  <a:tab algn="l" pos="9191520"/>
                  <a:tab algn="l" pos="1011096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Appraisal Worthwhile?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889" name=""/>
          <p:cNvSpPr/>
          <p:nvPr/>
        </p:nvSpPr>
        <p:spPr>
          <a:xfrm>
            <a:off x="4297320" y="1790640"/>
            <a:ext cx="3327480" cy="337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282920" y="2519280"/>
            <a:ext cx="3027600" cy="412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282920" y="1890720"/>
            <a:ext cx="3189600" cy="420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301880" y="252900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22560" y="193212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8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197720" y="2575080"/>
            <a:ext cx="3049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ly identified strength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197000" y="1976400"/>
            <a:ext cx="3050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urately identified proble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284720" y="1549440"/>
            <a:ext cx="3301920" cy="3633840"/>
          </a:xfrm>
          <a:custGeom>
            <a:avLst/>
            <a:gdLst/>
            <a:ahLst/>
            <a:rect l="l" t="t" r="r" b="b"/>
            <a:pathLst>
              <a:path w="2147" h="2361">
                <a:moveTo>
                  <a:pt x="2146" y="2360"/>
                </a:moveTo>
                <a:lnTo>
                  <a:pt x="0" y="236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598280" y="5602320"/>
            <a:ext cx="2674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% agree or strongly agre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079640" y="4363920"/>
            <a:ext cx="311148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100000"/>
              </a:lnSpc>
              <a:spcBef>
                <a:spcPts val="1276"/>
              </a:spcBef>
              <a:buClr>
                <a:srgbClr val="000000"/>
              </a:buClr>
              <a:buFont typeface="Arial"/>
              <a:buChar char=" 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assessment was well 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orth the money and effort we spent; it had a major positive effect on the organization.”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281480" y="4557600"/>
            <a:ext cx="2462400" cy="4190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6759000" y="457668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281480" y="3168720"/>
            <a:ext cx="2849400" cy="4176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121160" y="320184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1166040" y="3262320"/>
            <a:ext cx="2665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MM – valuable roadma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4281480" y="3840120"/>
            <a:ext cx="2979720" cy="432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248960" y="3844800"/>
            <a:ext cx="77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1175400" y="3908520"/>
            <a:ext cx="2426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I based on apprais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1097640" y="632952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AFAF-1F96-4C35-AA74-8254EAB435D5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23DB-DAE1-494C-8E58-CA0EF2F2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8520" y="1020600"/>
            <a:ext cx="8088120" cy="73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200" spc="-1" strike="noStrike">
                <a:solidFill>
                  <a:srgbClr val="290bf2"/>
                </a:solidFill>
                <a:latin typeface="NewCenturySchlbk"/>
              </a:rPr>
              <a:t>Carnegie Mellon's </a:t>
            </a:r>
            <a:br>
              <a:rPr sz="3200"/>
            </a:br>
            <a:r>
              <a:rPr b="1" lang="en-US" sz="3200" spc="-1" strike="noStrike">
                <a:solidFill>
                  <a:srgbClr val="290bf2"/>
                </a:solidFill>
                <a:latin typeface="NewCenturySchlbk"/>
              </a:rPr>
              <a:t>Software Engineering Institute (SEI)</a:t>
            </a:r>
            <a:endParaRPr b="0" lang="en-US" sz="32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2406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7360" indent="-11736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ly funded research and development center established in 198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act awarded to Carnegie Mell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1998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4th renewal for 5 years 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1998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vide leadership in advancing the state of the practice of software engineering to improve the quality of systems that depend on softwa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233960" y="2031840"/>
            <a:ext cx="4897080" cy="4242240"/>
            <a:chOff x="4233960" y="2031840"/>
            <a:chExt cx="4897080" cy="4242240"/>
          </a:xfrm>
        </p:grpSpPr>
        <p:sp>
          <p:nvSpPr>
            <p:cNvPr id="112" name=""/>
            <p:cNvSpPr/>
            <p:nvPr/>
          </p:nvSpPr>
          <p:spPr>
            <a:xfrm>
              <a:off x="7823880" y="2105640"/>
              <a:ext cx="270360" cy="2707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808400" y="2031840"/>
              <a:ext cx="132264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ptimizi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41160" y="2961000"/>
              <a:ext cx="270360" cy="270720"/>
            </a:xfrm>
            <a:prstGeom prst="ellipse">
              <a:avLst/>
            </a:prstGeom>
            <a:solidFill>
              <a:srgbClr val="00ae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919200" y="2874960"/>
              <a:ext cx="124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anag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23880" y="3854160"/>
              <a:ext cx="270720" cy="27072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05880" y="3774240"/>
              <a:ext cx="124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efine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56280" y="4734360"/>
              <a:ext cx="270720" cy="2707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45840" y="5627160"/>
              <a:ext cx="270360" cy="270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33960" y="5547240"/>
              <a:ext cx="124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Initi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32160" y="4647960"/>
              <a:ext cx="153828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epeatab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19928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What Is the CMM?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process management and quality improvement to software development and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mmunity-developed gu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el for apprai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el for organization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736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EAD-4B2E-4C32-ACBC-D3F0A104D4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EA32-EC53-4DF8-885A-2974DE656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18760" y="5630760"/>
            <a:ext cx="1486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predictable a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orly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20920" y="4753080"/>
            <a:ext cx="16365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repeat previously mastered ta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20920" y="3857760"/>
            <a:ext cx="188424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characterized, fairly well underst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20920" y="2982960"/>
            <a:ext cx="151452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measure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contro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7040" y="2111400"/>
            <a:ext cx="1482840" cy="6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cus on proc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38320" y="5626080"/>
            <a:ext cx="282600" cy="284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38320" y="5713560"/>
            <a:ext cx="1230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50920" y="4789440"/>
            <a:ext cx="282600" cy="282600"/>
          </a:xfrm>
          <a:prstGeom prst="ellipse">
            <a:avLst/>
          </a:prstGeom>
          <a:solidFill>
            <a:srgbClr val="bd01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38320" y="4857840"/>
            <a:ext cx="1230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5360" y="3878280"/>
            <a:ext cx="284400" cy="282600"/>
          </a:xfrm>
          <a:prstGeom prst="ellipse">
            <a:avLst/>
          </a:prstGeom>
          <a:solidFill>
            <a:srgbClr val="3365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4560" y="3946680"/>
            <a:ext cx="1236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38320" y="3016080"/>
            <a:ext cx="282600" cy="284400"/>
          </a:xfrm>
          <a:prstGeom prst="ellipse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25360" y="309096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4440" y="2098800"/>
            <a:ext cx="282600" cy="284040"/>
          </a:xfrm>
          <a:prstGeom prst="ellipse">
            <a:avLst/>
          </a:prstGeom>
          <a:solidFill>
            <a:srgbClr val="fe9b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38320" y="217980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85920" y="2006640"/>
            <a:ext cx="5859360" cy="87120"/>
          </a:xfrm>
          <a:custGeom>
            <a:avLst/>
            <a:gdLst/>
            <a:ahLst/>
            <a:rect l="l" t="t" r="r" b="b"/>
            <a:pathLst>
              <a:path w="3809" h="57">
                <a:moveTo>
                  <a:pt x="0" y="56"/>
                </a:moveTo>
                <a:lnTo>
                  <a:pt x="0" y="0"/>
                </a:lnTo>
                <a:lnTo>
                  <a:pt x="380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5920" y="2894040"/>
            <a:ext cx="4986360" cy="100080"/>
          </a:xfrm>
          <a:custGeom>
            <a:avLst/>
            <a:gdLst/>
            <a:ahLst/>
            <a:rect l="l" t="t" r="r" b="b"/>
            <a:pathLst>
              <a:path w="3241" h="65">
                <a:moveTo>
                  <a:pt x="0" y="64"/>
                </a:moveTo>
                <a:lnTo>
                  <a:pt x="0" y="0"/>
                </a:lnTo>
                <a:lnTo>
                  <a:pt x="32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85920" y="3767040"/>
            <a:ext cx="4062240" cy="63720"/>
          </a:xfrm>
          <a:custGeom>
            <a:avLst/>
            <a:gdLst/>
            <a:ahLst/>
            <a:rect l="l" t="t" r="r" b="b"/>
            <a:pathLst>
              <a:path w="2641" h="41">
                <a:moveTo>
                  <a:pt x="0" y="40"/>
                </a:moveTo>
                <a:lnTo>
                  <a:pt x="0" y="0"/>
                </a:lnTo>
                <a:lnTo>
                  <a:pt x="264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8520" y="4703760"/>
            <a:ext cx="3127320" cy="74520"/>
          </a:xfrm>
          <a:custGeom>
            <a:avLst/>
            <a:gdLst/>
            <a:ahLst/>
            <a:rect l="l" t="t" r="r" b="b"/>
            <a:pathLst>
              <a:path w="2033" h="49">
                <a:moveTo>
                  <a:pt x="0" y="48"/>
                </a:moveTo>
                <a:lnTo>
                  <a:pt x="0" y="0"/>
                </a:lnTo>
                <a:lnTo>
                  <a:pt x="20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8520" y="5540400"/>
            <a:ext cx="2290680" cy="100080"/>
          </a:xfrm>
          <a:custGeom>
            <a:avLst/>
            <a:gdLst/>
            <a:ahLst/>
            <a:rect l="l" t="t" r="r" b="b"/>
            <a:pathLst>
              <a:path w="1489" h="65">
                <a:moveTo>
                  <a:pt x="0" y="64"/>
                </a:moveTo>
                <a:lnTo>
                  <a:pt x="0" y="0"/>
                </a:lnTo>
                <a:lnTo>
                  <a:pt x="148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0960" y="1760400"/>
            <a:ext cx="1341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56520" y="2658960"/>
            <a:ext cx="1242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57960" y="3533760"/>
            <a:ext cx="1242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86040" y="5330880"/>
            <a:ext cx="12430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457880"/>
            <a:ext cx="1538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The Maturity Level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52" name=""/>
          <p:cNvSpPr/>
          <p:nvPr/>
        </p:nvSpPr>
        <p:spPr>
          <a:xfrm>
            <a:off x="1052640" y="1446120"/>
            <a:ext cx="4086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spired by Crosby’s maturity gr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Evolution of Process Capability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154" name=""/>
          <p:cNvSpPr/>
          <p:nvPr/>
        </p:nvSpPr>
        <p:spPr>
          <a:xfrm>
            <a:off x="1406160" y="5403960"/>
            <a:ext cx="65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97880" y="4610160"/>
            <a:ext cx="1174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04000" y="3860640"/>
            <a:ext cx="854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60400" y="5381640"/>
            <a:ext cx="2358000" cy="531720"/>
            <a:chOff x="2660400" y="5381640"/>
            <a:chExt cx="2358000" cy="531720"/>
          </a:xfrm>
        </p:grpSpPr>
        <p:sp>
          <p:nvSpPr>
            <p:cNvPr id="158" name=""/>
            <p:cNvSpPr/>
            <p:nvPr/>
          </p:nvSpPr>
          <p:spPr>
            <a:xfrm>
              <a:off x="2660400" y="5381640"/>
              <a:ext cx="2358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cess is informal an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77320" y="5563080"/>
              <a:ext cx="140112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unpredic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658240" y="4608360"/>
            <a:ext cx="2525760" cy="639000"/>
            <a:chOff x="2658240" y="4608360"/>
            <a:chExt cx="2525760" cy="639000"/>
          </a:xfrm>
        </p:grpSpPr>
        <p:sp>
          <p:nvSpPr>
            <p:cNvPr id="161" name=""/>
            <p:cNvSpPr/>
            <p:nvPr/>
          </p:nvSpPr>
          <p:spPr>
            <a:xfrm>
              <a:off x="2667600" y="4608360"/>
              <a:ext cx="20764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ject management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72280" y="4766760"/>
              <a:ext cx="16876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ystem in place;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58240" y="4946760"/>
              <a:ext cx="25257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erformance is repea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660760" y="3840120"/>
            <a:ext cx="2530440" cy="640440"/>
            <a:chOff x="2660760" y="3840120"/>
            <a:chExt cx="2530440" cy="640440"/>
          </a:xfrm>
        </p:grpSpPr>
        <p:sp>
          <p:nvSpPr>
            <p:cNvPr id="165" name=""/>
            <p:cNvSpPr/>
            <p:nvPr/>
          </p:nvSpPr>
          <p:spPr>
            <a:xfrm>
              <a:off x="2660760" y="3840120"/>
              <a:ext cx="25304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ftware engineering and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62560" y="4010760"/>
              <a:ext cx="23749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nagement processe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66160" y="4179960"/>
              <a:ext cx="219204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360" rIns="72360" tIns="36000" bIns="36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efined and integrat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658960" y="3132000"/>
            <a:ext cx="2441880" cy="472680"/>
            <a:chOff x="2658960" y="3132000"/>
            <a:chExt cx="2441880" cy="472680"/>
          </a:xfrm>
        </p:grpSpPr>
        <p:sp>
          <p:nvSpPr>
            <p:cNvPr id="169" name=""/>
            <p:cNvSpPr/>
            <p:nvPr/>
          </p:nvSpPr>
          <p:spPr>
            <a:xfrm>
              <a:off x="2658960" y="3132000"/>
              <a:ext cx="2441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duct and process ar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60040" y="3301200"/>
              <a:ext cx="23580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quantitatively controll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6076800" y="5783400"/>
            <a:ext cx="1252800" cy="64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99320" y="5622840"/>
            <a:ext cx="1414440" cy="217440"/>
          </a:xfrm>
          <a:custGeom>
            <a:avLst/>
            <a:gdLst/>
            <a:ahLst/>
            <a:rect l="l" t="t" r="r" b="b"/>
            <a:pathLst>
              <a:path w="919" h="141">
                <a:moveTo>
                  <a:pt x="0" y="140"/>
                </a:moveTo>
                <a:lnTo>
                  <a:pt x="18" y="134"/>
                </a:lnTo>
                <a:lnTo>
                  <a:pt x="60" y="122"/>
                </a:lnTo>
                <a:lnTo>
                  <a:pt x="96" y="111"/>
                </a:lnTo>
                <a:lnTo>
                  <a:pt x="126" y="99"/>
                </a:lnTo>
                <a:lnTo>
                  <a:pt x="162" y="87"/>
                </a:lnTo>
                <a:lnTo>
                  <a:pt x="181" y="81"/>
                </a:lnTo>
                <a:lnTo>
                  <a:pt x="198" y="70"/>
                </a:lnTo>
                <a:lnTo>
                  <a:pt x="210" y="64"/>
                </a:lnTo>
                <a:lnTo>
                  <a:pt x="216" y="58"/>
                </a:lnTo>
                <a:lnTo>
                  <a:pt x="240" y="47"/>
                </a:lnTo>
                <a:lnTo>
                  <a:pt x="276" y="29"/>
                </a:lnTo>
                <a:lnTo>
                  <a:pt x="300" y="18"/>
                </a:lnTo>
                <a:lnTo>
                  <a:pt x="325" y="11"/>
                </a:lnTo>
                <a:lnTo>
                  <a:pt x="366" y="5"/>
                </a:lnTo>
                <a:lnTo>
                  <a:pt x="391" y="0"/>
                </a:lnTo>
                <a:lnTo>
                  <a:pt x="408" y="0"/>
                </a:lnTo>
                <a:lnTo>
                  <a:pt x="450" y="0"/>
                </a:lnTo>
                <a:lnTo>
                  <a:pt x="469" y="0"/>
                </a:lnTo>
                <a:lnTo>
                  <a:pt x="492" y="5"/>
                </a:lnTo>
                <a:lnTo>
                  <a:pt x="535" y="11"/>
                </a:lnTo>
                <a:lnTo>
                  <a:pt x="552" y="18"/>
                </a:lnTo>
                <a:lnTo>
                  <a:pt x="564" y="23"/>
                </a:lnTo>
                <a:lnTo>
                  <a:pt x="588" y="29"/>
                </a:lnTo>
                <a:lnTo>
                  <a:pt x="618" y="41"/>
                </a:lnTo>
                <a:lnTo>
                  <a:pt x="654" y="58"/>
                </a:lnTo>
                <a:lnTo>
                  <a:pt x="672" y="64"/>
                </a:lnTo>
                <a:lnTo>
                  <a:pt x="684" y="70"/>
                </a:lnTo>
                <a:lnTo>
                  <a:pt x="702" y="76"/>
                </a:lnTo>
                <a:lnTo>
                  <a:pt x="726" y="81"/>
                </a:lnTo>
                <a:lnTo>
                  <a:pt x="750" y="87"/>
                </a:lnTo>
                <a:lnTo>
                  <a:pt x="786" y="93"/>
                </a:lnTo>
                <a:lnTo>
                  <a:pt x="816" y="93"/>
                </a:lnTo>
                <a:lnTo>
                  <a:pt x="858" y="99"/>
                </a:lnTo>
                <a:lnTo>
                  <a:pt x="894" y="99"/>
                </a:lnTo>
                <a:lnTo>
                  <a:pt x="918" y="99"/>
                </a:lnTo>
                <a:lnTo>
                  <a:pt x="0" y="14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99320" y="5613480"/>
            <a:ext cx="1425240" cy="237960"/>
          </a:xfrm>
          <a:custGeom>
            <a:avLst/>
            <a:gdLst/>
            <a:ahLst/>
            <a:rect l="l" t="t" r="r" b="b"/>
            <a:pathLst>
              <a:path w="926" h="155">
                <a:moveTo>
                  <a:pt x="0" y="154"/>
                </a:moveTo>
                <a:lnTo>
                  <a:pt x="182" y="98"/>
                </a:lnTo>
                <a:lnTo>
                  <a:pt x="261" y="44"/>
                </a:lnTo>
                <a:lnTo>
                  <a:pt x="351" y="12"/>
                </a:lnTo>
                <a:lnTo>
                  <a:pt x="435" y="0"/>
                </a:lnTo>
                <a:lnTo>
                  <a:pt x="514" y="12"/>
                </a:lnTo>
                <a:lnTo>
                  <a:pt x="599" y="37"/>
                </a:lnTo>
                <a:lnTo>
                  <a:pt x="750" y="110"/>
                </a:lnTo>
                <a:lnTo>
                  <a:pt x="925" y="1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99320" y="5622840"/>
            <a:ext cx="1425240" cy="228600"/>
          </a:xfrm>
          <a:custGeom>
            <a:avLst/>
            <a:gdLst/>
            <a:ahLst/>
            <a:rect l="l" t="t" r="r" b="b"/>
            <a:pathLst>
              <a:path w="926" h="148">
                <a:moveTo>
                  <a:pt x="0" y="147"/>
                </a:moveTo>
                <a:lnTo>
                  <a:pt x="18" y="141"/>
                </a:lnTo>
                <a:lnTo>
                  <a:pt x="61" y="129"/>
                </a:lnTo>
                <a:lnTo>
                  <a:pt x="97" y="116"/>
                </a:lnTo>
                <a:lnTo>
                  <a:pt x="127" y="104"/>
                </a:lnTo>
                <a:lnTo>
                  <a:pt x="164" y="92"/>
                </a:lnTo>
                <a:lnTo>
                  <a:pt x="182" y="85"/>
                </a:lnTo>
                <a:lnTo>
                  <a:pt x="200" y="73"/>
                </a:lnTo>
                <a:lnTo>
                  <a:pt x="212" y="67"/>
                </a:lnTo>
                <a:lnTo>
                  <a:pt x="218" y="61"/>
                </a:lnTo>
                <a:lnTo>
                  <a:pt x="242" y="49"/>
                </a:lnTo>
                <a:lnTo>
                  <a:pt x="278" y="31"/>
                </a:lnTo>
                <a:lnTo>
                  <a:pt x="302" y="18"/>
                </a:lnTo>
                <a:lnTo>
                  <a:pt x="327" y="12"/>
                </a:lnTo>
                <a:lnTo>
                  <a:pt x="369" y="6"/>
                </a:lnTo>
                <a:lnTo>
                  <a:pt x="394" y="0"/>
                </a:lnTo>
                <a:lnTo>
                  <a:pt x="411" y="0"/>
                </a:lnTo>
                <a:lnTo>
                  <a:pt x="454" y="0"/>
                </a:lnTo>
                <a:lnTo>
                  <a:pt x="472" y="0"/>
                </a:lnTo>
                <a:lnTo>
                  <a:pt x="496" y="6"/>
                </a:lnTo>
                <a:lnTo>
                  <a:pt x="539" y="12"/>
                </a:lnTo>
                <a:lnTo>
                  <a:pt x="556" y="18"/>
                </a:lnTo>
                <a:lnTo>
                  <a:pt x="568" y="24"/>
                </a:lnTo>
                <a:lnTo>
                  <a:pt x="592" y="31"/>
                </a:lnTo>
                <a:lnTo>
                  <a:pt x="623" y="43"/>
                </a:lnTo>
                <a:lnTo>
                  <a:pt x="659" y="61"/>
                </a:lnTo>
                <a:lnTo>
                  <a:pt x="677" y="67"/>
                </a:lnTo>
                <a:lnTo>
                  <a:pt x="689" y="73"/>
                </a:lnTo>
                <a:lnTo>
                  <a:pt x="708" y="80"/>
                </a:lnTo>
                <a:lnTo>
                  <a:pt x="732" y="85"/>
                </a:lnTo>
                <a:lnTo>
                  <a:pt x="756" y="92"/>
                </a:lnTo>
                <a:lnTo>
                  <a:pt x="792" y="98"/>
                </a:lnTo>
                <a:lnTo>
                  <a:pt x="822" y="98"/>
                </a:lnTo>
                <a:lnTo>
                  <a:pt x="865" y="104"/>
                </a:lnTo>
                <a:lnTo>
                  <a:pt x="901" y="104"/>
                </a:lnTo>
                <a:lnTo>
                  <a:pt x="925" y="10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89560" y="5398920"/>
            <a:ext cx="0" cy="44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9560" y="5850000"/>
            <a:ext cx="1933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4800" y="5595840"/>
            <a:ext cx="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2960" y="583092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235560" y="5529240"/>
            <a:ext cx="9216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235560" y="5529240"/>
            <a:ext cx="287640" cy="357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43520" y="5094360"/>
            <a:ext cx="1497240" cy="38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42000" y="4811760"/>
            <a:ext cx="1590840" cy="311040"/>
          </a:xfrm>
          <a:custGeom>
            <a:avLst/>
            <a:gdLst/>
            <a:ahLst/>
            <a:rect l="l" t="t" r="r" b="b"/>
            <a:pathLst>
              <a:path w="1034" h="203">
                <a:moveTo>
                  <a:pt x="0" y="202"/>
                </a:moveTo>
                <a:lnTo>
                  <a:pt x="25" y="190"/>
                </a:lnTo>
                <a:lnTo>
                  <a:pt x="60" y="172"/>
                </a:lnTo>
                <a:lnTo>
                  <a:pt x="84" y="161"/>
                </a:lnTo>
                <a:lnTo>
                  <a:pt x="108" y="143"/>
                </a:lnTo>
                <a:lnTo>
                  <a:pt x="132" y="131"/>
                </a:lnTo>
                <a:lnTo>
                  <a:pt x="157" y="113"/>
                </a:lnTo>
                <a:lnTo>
                  <a:pt x="174" y="101"/>
                </a:lnTo>
                <a:lnTo>
                  <a:pt x="181" y="95"/>
                </a:lnTo>
                <a:lnTo>
                  <a:pt x="186" y="90"/>
                </a:lnTo>
                <a:lnTo>
                  <a:pt x="205" y="72"/>
                </a:lnTo>
                <a:lnTo>
                  <a:pt x="240" y="42"/>
                </a:lnTo>
                <a:lnTo>
                  <a:pt x="259" y="30"/>
                </a:lnTo>
                <a:lnTo>
                  <a:pt x="271" y="24"/>
                </a:lnTo>
                <a:lnTo>
                  <a:pt x="294" y="12"/>
                </a:lnTo>
                <a:lnTo>
                  <a:pt x="313" y="6"/>
                </a:lnTo>
                <a:lnTo>
                  <a:pt x="330" y="0"/>
                </a:lnTo>
                <a:lnTo>
                  <a:pt x="337" y="0"/>
                </a:lnTo>
                <a:lnTo>
                  <a:pt x="349" y="0"/>
                </a:lnTo>
                <a:lnTo>
                  <a:pt x="384" y="0"/>
                </a:lnTo>
                <a:lnTo>
                  <a:pt x="403" y="0"/>
                </a:lnTo>
                <a:lnTo>
                  <a:pt x="420" y="6"/>
                </a:lnTo>
                <a:lnTo>
                  <a:pt x="457" y="24"/>
                </a:lnTo>
                <a:lnTo>
                  <a:pt x="469" y="36"/>
                </a:lnTo>
                <a:lnTo>
                  <a:pt x="474" y="42"/>
                </a:lnTo>
                <a:lnTo>
                  <a:pt x="498" y="60"/>
                </a:lnTo>
                <a:lnTo>
                  <a:pt x="523" y="77"/>
                </a:lnTo>
                <a:lnTo>
                  <a:pt x="552" y="95"/>
                </a:lnTo>
                <a:lnTo>
                  <a:pt x="571" y="107"/>
                </a:lnTo>
                <a:lnTo>
                  <a:pt x="577" y="113"/>
                </a:lnTo>
                <a:lnTo>
                  <a:pt x="583" y="113"/>
                </a:lnTo>
                <a:lnTo>
                  <a:pt x="594" y="119"/>
                </a:lnTo>
                <a:lnTo>
                  <a:pt x="613" y="125"/>
                </a:lnTo>
                <a:lnTo>
                  <a:pt x="630" y="131"/>
                </a:lnTo>
                <a:lnTo>
                  <a:pt x="655" y="136"/>
                </a:lnTo>
                <a:lnTo>
                  <a:pt x="679" y="143"/>
                </a:lnTo>
                <a:lnTo>
                  <a:pt x="708" y="149"/>
                </a:lnTo>
                <a:lnTo>
                  <a:pt x="733" y="149"/>
                </a:lnTo>
                <a:lnTo>
                  <a:pt x="762" y="154"/>
                </a:lnTo>
                <a:lnTo>
                  <a:pt x="805" y="161"/>
                </a:lnTo>
                <a:lnTo>
                  <a:pt x="835" y="161"/>
                </a:lnTo>
                <a:lnTo>
                  <a:pt x="871" y="167"/>
                </a:lnTo>
                <a:lnTo>
                  <a:pt x="918" y="172"/>
                </a:lnTo>
                <a:lnTo>
                  <a:pt x="961" y="172"/>
                </a:lnTo>
                <a:lnTo>
                  <a:pt x="1009" y="179"/>
                </a:lnTo>
                <a:lnTo>
                  <a:pt x="1033" y="179"/>
                </a:lnTo>
                <a:lnTo>
                  <a:pt x="0" y="202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42000" y="4803840"/>
            <a:ext cx="1601640" cy="330120"/>
          </a:xfrm>
          <a:custGeom>
            <a:avLst/>
            <a:gdLst/>
            <a:ahLst/>
            <a:rect l="l" t="t" r="r" b="b"/>
            <a:pathLst>
              <a:path w="1041" h="215">
                <a:moveTo>
                  <a:pt x="0" y="214"/>
                </a:moveTo>
                <a:lnTo>
                  <a:pt x="158" y="134"/>
                </a:lnTo>
                <a:lnTo>
                  <a:pt x="218" y="61"/>
                </a:lnTo>
                <a:lnTo>
                  <a:pt x="303" y="12"/>
                </a:lnTo>
                <a:lnTo>
                  <a:pt x="369" y="0"/>
                </a:lnTo>
                <a:lnTo>
                  <a:pt x="441" y="19"/>
                </a:lnTo>
                <a:lnTo>
                  <a:pt x="502" y="68"/>
                </a:lnTo>
                <a:lnTo>
                  <a:pt x="641" y="165"/>
                </a:lnTo>
                <a:lnTo>
                  <a:pt x="1040" y="19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42000" y="4811760"/>
            <a:ext cx="1601640" cy="322200"/>
          </a:xfrm>
          <a:custGeom>
            <a:avLst/>
            <a:gdLst/>
            <a:ahLst/>
            <a:rect l="l" t="t" r="r" b="b"/>
            <a:pathLst>
              <a:path w="1041" h="210">
                <a:moveTo>
                  <a:pt x="0" y="209"/>
                </a:moveTo>
                <a:lnTo>
                  <a:pt x="25" y="197"/>
                </a:lnTo>
                <a:lnTo>
                  <a:pt x="61" y="178"/>
                </a:lnTo>
                <a:lnTo>
                  <a:pt x="85" y="166"/>
                </a:lnTo>
                <a:lnTo>
                  <a:pt x="109" y="148"/>
                </a:lnTo>
                <a:lnTo>
                  <a:pt x="133" y="136"/>
                </a:lnTo>
                <a:lnTo>
                  <a:pt x="158" y="117"/>
                </a:lnTo>
                <a:lnTo>
                  <a:pt x="175" y="105"/>
                </a:lnTo>
                <a:lnTo>
                  <a:pt x="182" y="98"/>
                </a:lnTo>
                <a:lnTo>
                  <a:pt x="187" y="93"/>
                </a:lnTo>
                <a:lnTo>
                  <a:pt x="206" y="74"/>
                </a:lnTo>
                <a:lnTo>
                  <a:pt x="242" y="44"/>
                </a:lnTo>
                <a:lnTo>
                  <a:pt x="260" y="31"/>
                </a:lnTo>
                <a:lnTo>
                  <a:pt x="272" y="25"/>
                </a:lnTo>
                <a:lnTo>
                  <a:pt x="296" y="13"/>
                </a:lnTo>
                <a:lnTo>
                  <a:pt x="315" y="6"/>
                </a:lnTo>
                <a:lnTo>
                  <a:pt x="333" y="0"/>
                </a:lnTo>
                <a:lnTo>
                  <a:pt x="339" y="0"/>
                </a:lnTo>
                <a:lnTo>
                  <a:pt x="351" y="0"/>
                </a:lnTo>
                <a:lnTo>
                  <a:pt x="387" y="0"/>
                </a:lnTo>
                <a:lnTo>
                  <a:pt x="405" y="0"/>
                </a:lnTo>
                <a:lnTo>
                  <a:pt x="423" y="6"/>
                </a:lnTo>
                <a:lnTo>
                  <a:pt x="460" y="25"/>
                </a:lnTo>
                <a:lnTo>
                  <a:pt x="472" y="37"/>
                </a:lnTo>
                <a:lnTo>
                  <a:pt x="478" y="44"/>
                </a:lnTo>
                <a:lnTo>
                  <a:pt x="502" y="62"/>
                </a:lnTo>
                <a:lnTo>
                  <a:pt x="526" y="80"/>
                </a:lnTo>
                <a:lnTo>
                  <a:pt x="556" y="98"/>
                </a:lnTo>
                <a:lnTo>
                  <a:pt x="574" y="111"/>
                </a:lnTo>
                <a:lnTo>
                  <a:pt x="581" y="117"/>
                </a:lnTo>
                <a:lnTo>
                  <a:pt x="587" y="117"/>
                </a:lnTo>
                <a:lnTo>
                  <a:pt x="599" y="123"/>
                </a:lnTo>
                <a:lnTo>
                  <a:pt x="617" y="129"/>
                </a:lnTo>
                <a:lnTo>
                  <a:pt x="635" y="136"/>
                </a:lnTo>
                <a:lnTo>
                  <a:pt x="659" y="141"/>
                </a:lnTo>
                <a:lnTo>
                  <a:pt x="683" y="148"/>
                </a:lnTo>
                <a:lnTo>
                  <a:pt x="713" y="154"/>
                </a:lnTo>
                <a:lnTo>
                  <a:pt x="738" y="154"/>
                </a:lnTo>
                <a:lnTo>
                  <a:pt x="768" y="160"/>
                </a:lnTo>
                <a:lnTo>
                  <a:pt x="810" y="166"/>
                </a:lnTo>
                <a:lnTo>
                  <a:pt x="840" y="166"/>
                </a:lnTo>
                <a:lnTo>
                  <a:pt x="877" y="173"/>
                </a:lnTo>
                <a:lnTo>
                  <a:pt x="925" y="178"/>
                </a:lnTo>
                <a:lnTo>
                  <a:pt x="967" y="178"/>
                </a:lnTo>
                <a:lnTo>
                  <a:pt x="1016" y="185"/>
                </a:lnTo>
                <a:lnTo>
                  <a:pt x="1040" y="18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97480" y="4597560"/>
            <a:ext cx="0" cy="52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96040" y="5132520"/>
            <a:ext cx="193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76960" y="483084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24120" y="511488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10440" y="4710240"/>
            <a:ext cx="91800" cy="43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319800" y="4700520"/>
            <a:ext cx="285840" cy="449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797440" y="3587760"/>
            <a:ext cx="1219320" cy="1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61080" y="3138480"/>
            <a:ext cx="1246320" cy="469800"/>
          </a:xfrm>
          <a:custGeom>
            <a:avLst/>
            <a:gdLst/>
            <a:ahLst/>
            <a:rect l="l" t="t" r="r" b="b"/>
            <a:pathLst>
              <a:path w="810" h="306">
                <a:moveTo>
                  <a:pt x="0" y="305"/>
                </a:moveTo>
                <a:lnTo>
                  <a:pt x="12" y="287"/>
                </a:lnTo>
                <a:lnTo>
                  <a:pt x="30" y="270"/>
                </a:lnTo>
                <a:lnTo>
                  <a:pt x="48" y="245"/>
                </a:lnTo>
                <a:lnTo>
                  <a:pt x="66" y="215"/>
                </a:lnTo>
                <a:lnTo>
                  <a:pt x="78" y="197"/>
                </a:lnTo>
                <a:lnTo>
                  <a:pt x="90" y="179"/>
                </a:lnTo>
                <a:lnTo>
                  <a:pt x="96" y="162"/>
                </a:lnTo>
                <a:lnTo>
                  <a:pt x="102" y="149"/>
                </a:lnTo>
                <a:lnTo>
                  <a:pt x="102" y="144"/>
                </a:lnTo>
                <a:lnTo>
                  <a:pt x="114" y="119"/>
                </a:lnTo>
                <a:lnTo>
                  <a:pt x="126" y="78"/>
                </a:lnTo>
                <a:lnTo>
                  <a:pt x="132" y="54"/>
                </a:lnTo>
                <a:lnTo>
                  <a:pt x="138" y="42"/>
                </a:lnTo>
                <a:lnTo>
                  <a:pt x="144" y="24"/>
                </a:lnTo>
                <a:lnTo>
                  <a:pt x="150" y="12"/>
                </a:lnTo>
                <a:lnTo>
                  <a:pt x="162" y="6"/>
                </a:lnTo>
                <a:lnTo>
                  <a:pt x="174" y="0"/>
                </a:lnTo>
                <a:lnTo>
                  <a:pt x="180" y="0"/>
                </a:lnTo>
                <a:lnTo>
                  <a:pt x="192" y="6"/>
                </a:lnTo>
                <a:lnTo>
                  <a:pt x="198" y="12"/>
                </a:lnTo>
                <a:lnTo>
                  <a:pt x="203" y="24"/>
                </a:lnTo>
                <a:lnTo>
                  <a:pt x="210" y="42"/>
                </a:lnTo>
                <a:lnTo>
                  <a:pt x="222" y="78"/>
                </a:lnTo>
                <a:lnTo>
                  <a:pt x="222" y="90"/>
                </a:lnTo>
                <a:lnTo>
                  <a:pt x="228" y="108"/>
                </a:lnTo>
                <a:lnTo>
                  <a:pt x="234" y="138"/>
                </a:lnTo>
                <a:lnTo>
                  <a:pt x="246" y="167"/>
                </a:lnTo>
                <a:lnTo>
                  <a:pt x="264" y="192"/>
                </a:lnTo>
                <a:lnTo>
                  <a:pt x="269" y="204"/>
                </a:lnTo>
                <a:lnTo>
                  <a:pt x="282" y="215"/>
                </a:lnTo>
                <a:lnTo>
                  <a:pt x="294" y="222"/>
                </a:lnTo>
                <a:lnTo>
                  <a:pt x="312" y="227"/>
                </a:lnTo>
                <a:lnTo>
                  <a:pt x="330" y="233"/>
                </a:lnTo>
                <a:lnTo>
                  <a:pt x="354" y="240"/>
                </a:lnTo>
                <a:lnTo>
                  <a:pt x="377" y="245"/>
                </a:lnTo>
                <a:lnTo>
                  <a:pt x="408" y="252"/>
                </a:lnTo>
                <a:lnTo>
                  <a:pt x="438" y="252"/>
                </a:lnTo>
                <a:lnTo>
                  <a:pt x="474" y="257"/>
                </a:lnTo>
                <a:lnTo>
                  <a:pt x="516" y="263"/>
                </a:lnTo>
                <a:lnTo>
                  <a:pt x="563" y="270"/>
                </a:lnTo>
                <a:lnTo>
                  <a:pt x="611" y="275"/>
                </a:lnTo>
                <a:lnTo>
                  <a:pt x="660" y="275"/>
                </a:lnTo>
                <a:lnTo>
                  <a:pt x="714" y="281"/>
                </a:lnTo>
                <a:lnTo>
                  <a:pt x="779" y="287"/>
                </a:lnTo>
                <a:lnTo>
                  <a:pt x="809" y="287"/>
                </a:lnTo>
                <a:lnTo>
                  <a:pt x="0" y="305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61080" y="3129120"/>
            <a:ext cx="1257120" cy="488880"/>
          </a:xfrm>
          <a:custGeom>
            <a:avLst/>
            <a:gdLst/>
            <a:ahLst/>
            <a:rect l="l" t="t" r="r" b="b"/>
            <a:pathLst>
              <a:path w="817" h="318">
                <a:moveTo>
                  <a:pt x="0" y="317"/>
                </a:moveTo>
                <a:lnTo>
                  <a:pt x="91" y="202"/>
                </a:lnTo>
                <a:lnTo>
                  <a:pt x="121" y="110"/>
                </a:lnTo>
                <a:lnTo>
                  <a:pt x="145" y="18"/>
                </a:lnTo>
                <a:lnTo>
                  <a:pt x="181" y="0"/>
                </a:lnTo>
                <a:lnTo>
                  <a:pt x="212" y="30"/>
                </a:lnTo>
                <a:lnTo>
                  <a:pt x="236" y="165"/>
                </a:lnTo>
                <a:lnTo>
                  <a:pt x="309" y="268"/>
                </a:lnTo>
                <a:lnTo>
                  <a:pt x="816" y="29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1080" y="3138480"/>
            <a:ext cx="1257120" cy="479520"/>
          </a:xfrm>
          <a:custGeom>
            <a:avLst/>
            <a:gdLst/>
            <a:ahLst/>
            <a:rect l="l" t="t" r="r" b="b"/>
            <a:pathLst>
              <a:path w="817" h="312">
                <a:moveTo>
                  <a:pt x="0" y="311"/>
                </a:moveTo>
                <a:lnTo>
                  <a:pt x="12" y="293"/>
                </a:lnTo>
                <a:lnTo>
                  <a:pt x="30" y="275"/>
                </a:lnTo>
                <a:lnTo>
                  <a:pt x="48" y="250"/>
                </a:lnTo>
                <a:lnTo>
                  <a:pt x="67" y="220"/>
                </a:lnTo>
                <a:lnTo>
                  <a:pt x="79" y="201"/>
                </a:lnTo>
                <a:lnTo>
                  <a:pt x="91" y="183"/>
                </a:lnTo>
                <a:lnTo>
                  <a:pt x="97" y="165"/>
                </a:lnTo>
                <a:lnTo>
                  <a:pt x="103" y="152"/>
                </a:lnTo>
                <a:lnTo>
                  <a:pt x="103" y="147"/>
                </a:lnTo>
                <a:lnTo>
                  <a:pt x="115" y="122"/>
                </a:lnTo>
                <a:lnTo>
                  <a:pt x="127" y="79"/>
                </a:lnTo>
                <a:lnTo>
                  <a:pt x="133" y="55"/>
                </a:lnTo>
                <a:lnTo>
                  <a:pt x="139" y="42"/>
                </a:lnTo>
                <a:lnTo>
                  <a:pt x="145" y="24"/>
                </a:lnTo>
                <a:lnTo>
                  <a:pt x="151" y="12"/>
                </a:lnTo>
                <a:lnTo>
                  <a:pt x="164" y="6"/>
                </a:lnTo>
                <a:lnTo>
                  <a:pt x="176" y="0"/>
                </a:lnTo>
                <a:lnTo>
                  <a:pt x="181" y="0"/>
                </a:lnTo>
                <a:lnTo>
                  <a:pt x="193" y="6"/>
                </a:lnTo>
                <a:lnTo>
                  <a:pt x="200" y="12"/>
                </a:lnTo>
                <a:lnTo>
                  <a:pt x="205" y="24"/>
                </a:lnTo>
                <a:lnTo>
                  <a:pt x="212" y="42"/>
                </a:lnTo>
                <a:lnTo>
                  <a:pt x="224" y="79"/>
                </a:lnTo>
                <a:lnTo>
                  <a:pt x="224" y="91"/>
                </a:lnTo>
                <a:lnTo>
                  <a:pt x="230" y="110"/>
                </a:lnTo>
                <a:lnTo>
                  <a:pt x="236" y="140"/>
                </a:lnTo>
                <a:lnTo>
                  <a:pt x="248" y="171"/>
                </a:lnTo>
                <a:lnTo>
                  <a:pt x="266" y="196"/>
                </a:lnTo>
                <a:lnTo>
                  <a:pt x="272" y="208"/>
                </a:lnTo>
                <a:lnTo>
                  <a:pt x="285" y="220"/>
                </a:lnTo>
                <a:lnTo>
                  <a:pt x="297" y="226"/>
                </a:lnTo>
                <a:lnTo>
                  <a:pt x="314" y="232"/>
                </a:lnTo>
                <a:lnTo>
                  <a:pt x="333" y="238"/>
                </a:lnTo>
                <a:lnTo>
                  <a:pt x="357" y="244"/>
                </a:lnTo>
                <a:lnTo>
                  <a:pt x="381" y="250"/>
                </a:lnTo>
                <a:lnTo>
                  <a:pt x="411" y="256"/>
                </a:lnTo>
                <a:lnTo>
                  <a:pt x="442" y="256"/>
                </a:lnTo>
                <a:lnTo>
                  <a:pt x="478" y="262"/>
                </a:lnTo>
                <a:lnTo>
                  <a:pt x="520" y="269"/>
                </a:lnTo>
                <a:lnTo>
                  <a:pt x="568" y="275"/>
                </a:lnTo>
                <a:lnTo>
                  <a:pt x="616" y="281"/>
                </a:lnTo>
                <a:lnTo>
                  <a:pt x="665" y="281"/>
                </a:lnTo>
                <a:lnTo>
                  <a:pt x="720" y="287"/>
                </a:lnTo>
                <a:lnTo>
                  <a:pt x="786" y="293"/>
                </a:lnTo>
                <a:lnTo>
                  <a:pt x="816" y="2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08640" y="302580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07200" y="361800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35760" y="3232080"/>
            <a:ext cx="0" cy="4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33120" y="359892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7960" y="3174840"/>
            <a:ext cx="9072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6087960" y="3174840"/>
            <a:ext cx="285840" cy="432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399680" y="2349360"/>
            <a:ext cx="113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660040" y="2354400"/>
            <a:ext cx="2411280" cy="472680"/>
            <a:chOff x="2660040" y="2354400"/>
            <a:chExt cx="2411280" cy="472680"/>
          </a:xfrm>
        </p:grpSpPr>
        <p:sp>
          <p:nvSpPr>
            <p:cNvPr id="203" name=""/>
            <p:cNvSpPr/>
            <p:nvPr/>
          </p:nvSpPr>
          <p:spPr>
            <a:xfrm>
              <a:off x="2660040" y="2354400"/>
              <a:ext cx="24112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rocess improvement i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73000" y="2523600"/>
              <a:ext cx="16038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institutionaliz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761080" y="2774880"/>
            <a:ext cx="957240" cy="255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22920" y="2322360"/>
            <a:ext cx="987480" cy="473400"/>
          </a:xfrm>
          <a:custGeom>
            <a:avLst/>
            <a:gdLst/>
            <a:ahLst/>
            <a:rect l="l" t="t" r="r" b="b"/>
            <a:pathLst>
              <a:path w="642" h="307">
                <a:moveTo>
                  <a:pt x="0" y="306"/>
                </a:moveTo>
                <a:lnTo>
                  <a:pt x="6" y="293"/>
                </a:lnTo>
                <a:lnTo>
                  <a:pt x="24" y="258"/>
                </a:lnTo>
                <a:lnTo>
                  <a:pt x="37" y="234"/>
                </a:lnTo>
                <a:lnTo>
                  <a:pt x="48" y="210"/>
                </a:lnTo>
                <a:lnTo>
                  <a:pt x="54" y="198"/>
                </a:lnTo>
                <a:lnTo>
                  <a:pt x="60" y="180"/>
                </a:lnTo>
                <a:lnTo>
                  <a:pt x="66" y="162"/>
                </a:lnTo>
                <a:lnTo>
                  <a:pt x="72" y="144"/>
                </a:lnTo>
                <a:lnTo>
                  <a:pt x="72" y="138"/>
                </a:lnTo>
                <a:lnTo>
                  <a:pt x="72" y="126"/>
                </a:lnTo>
                <a:lnTo>
                  <a:pt x="78" y="96"/>
                </a:lnTo>
                <a:lnTo>
                  <a:pt x="84" y="72"/>
                </a:lnTo>
                <a:lnTo>
                  <a:pt x="90" y="54"/>
                </a:lnTo>
                <a:lnTo>
                  <a:pt x="90" y="48"/>
                </a:lnTo>
                <a:lnTo>
                  <a:pt x="90" y="42"/>
                </a:lnTo>
                <a:lnTo>
                  <a:pt x="96" y="24"/>
                </a:lnTo>
                <a:lnTo>
                  <a:pt x="102" y="13"/>
                </a:lnTo>
                <a:lnTo>
                  <a:pt x="108" y="0"/>
                </a:lnTo>
                <a:lnTo>
                  <a:pt x="120" y="0"/>
                </a:lnTo>
                <a:lnTo>
                  <a:pt x="126" y="6"/>
                </a:lnTo>
                <a:lnTo>
                  <a:pt x="126" y="13"/>
                </a:lnTo>
                <a:lnTo>
                  <a:pt x="132" y="24"/>
                </a:lnTo>
                <a:lnTo>
                  <a:pt x="132" y="30"/>
                </a:lnTo>
                <a:lnTo>
                  <a:pt x="132" y="42"/>
                </a:lnTo>
                <a:lnTo>
                  <a:pt x="138" y="66"/>
                </a:lnTo>
                <a:lnTo>
                  <a:pt x="138" y="78"/>
                </a:lnTo>
                <a:lnTo>
                  <a:pt x="144" y="102"/>
                </a:lnTo>
                <a:lnTo>
                  <a:pt x="144" y="108"/>
                </a:lnTo>
                <a:lnTo>
                  <a:pt x="144" y="126"/>
                </a:lnTo>
                <a:lnTo>
                  <a:pt x="150" y="162"/>
                </a:lnTo>
                <a:lnTo>
                  <a:pt x="156" y="192"/>
                </a:lnTo>
                <a:lnTo>
                  <a:pt x="168" y="222"/>
                </a:lnTo>
                <a:lnTo>
                  <a:pt x="174" y="228"/>
                </a:lnTo>
                <a:lnTo>
                  <a:pt x="180" y="234"/>
                </a:lnTo>
                <a:lnTo>
                  <a:pt x="186" y="240"/>
                </a:lnTo>
                <a:lnTo>
                  <a:pt x="210" y="245"/>
                </a:lnTo>
                <a:lnTo>
                  <a:pt x="222" y="252"/>
                </a:lnTo>
                <a:lnTo>
                  <a:pt x="234" y="252"/>
                </a:lnTo>
                <a:lnTo>
                  <a:pt x="258" y="258"/>
                </a:lnTo>
                <a:lnTo>
                  <a:pt x="294" y="264"/>
                </a:lnTo>
                <a:lnTo>
                  <a:pt x="312" y="264"/>
                </a:lnTo>
                <a:lnTo>
                  <a:pt x="353" y="270"/>
                </a:lnTo>
                <a:lnTo>
                  <a:pt x="384" y="270"/>
                </a:lnTo>
                <a:lnTo>
                  <a:pt x="426" y="276"/>
                </a:lnTo>
                <a:lnTo>
                  <a:pt x="468" y="282"/>
                </a:lnTo>
                <a:lnTo>
                  <a:pt x="516" y="282"/>
                </a:lnTo>
                <a:lnTo>
                  <a:pt x="558" y="282"/>
                </a:lnTo>
                <a:lnTo>
                  <a:pt x="617" y="288"/>
                </a:lnTo>
                <a:lnTo>
                  <a:pt x="641" y="288"/>
                </a:lnTo>
                <a:lnTo>
                  <a:pt x="0" y="306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2920" y="2313000"/>
            <a:ext cx="996840" cy="490680"/>
          </a:xfrm>
          <a:custGeom>
            <a:avLst/>
            <a:gdLst/>
            <a:ahLst/>
            <a:rect l="l" t="t" r="r" b="b"/>
            <a:pathLst>
              <a:path w="648" h="319">
                <a:moveTo>
                  <a:pt x="0" y="318"/>
                </a:moveTo>
                <a:lnTo>
                  <a:pt x="67" y="195"/>
                </a:lnTo>
                <a:lnTo>
                  <a:pt x="79" y="92"/>
                </a:lnTo>
                <a:lnTo>
                  <a:pt x="97" y="18"/>
                </a:lnTo>
                <a:lnTo>
                  <a:pt x="115" y="0"/>
                </a:lnTo>
                <a:lnTo>
                  <a:pt x="133" y="31"/>
                </a:lnTo>
                <a:lnTo>
                  <a:pt x="152" y="202"/>
                </a:lnTo>
                <a:lnTo>
                  <a:pt x="200" y="281"/>
                </a:lnTo>
                <a:lnTo>
                  <a:pt x="647" y="3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2920" y="2322360"/>
            <a:ext cx="996840" cy="481320"/>
          </a:xfrm>
          <a:custGeom>
            <a:avLst/>
            <a:gdLst/>
            <a:ahLst/>
            <a:rect l="l" t="t" r="r" b="b"/>
            <a:pathLst>
              <a:path w="648" h="313">
                <a:moveTo>
                  <a:pt x="0" y="312"/>
                </a:moveTo>
                <a:lnTo>
                  <a:pt x="6" y="299"/>
                </a:lnTo>
                <a:lnTo>
                  <a:pt x="24" y="263"/>
                </a:lnTo>
                <a:lnTo>
                  <a:pt x="37" y="238"/>
                </a:lnTo>
                <a:lnTo>
                  <a:pt x="49" y="214"/>
                </a:lnTo>
                <a:lnTo>
                  <a:pt x="55" y="202"/>
                </a:lnTo>
                <a:lnTo>
                  <a:pt x="61" y="184"/>
                </a:lnTo>
                <a:lnTo>
                  <a:pt x="67" y="165"/>
                </a:lnTo>
                <a:lnTo>
                  <a:pt x="73" y="147"/>
                </a:lnTo>
                <a:lnTo>
                  <a:pt x="73" y="140"/>
                </a:lnTo>
                <a:lnTo>
                  <a:pt x="73" y="128"/>
                </a:lnTo>
                <a:lnTo>
                  <a:pt x="79" y="98"/>
                </a:lnTo>
                <a:lnTo>
                  <a:pt x="85" y="74"/>
                </a:lnTo>
                <a:lnTo>
                  <a:pt x="91" y="55"/>
                </a:lnTo>
                <a:lnTo>
                  <a:pt x="91" y="49"/>
                </a:lnTo>
                <a:lnTo>
                  <a:pt x="91" y="43"/>
                </a:lnTo>
                <a:lnTo>
                  <a:pt x="97" y="25"/>
                </a:lnTo>
                <a:lnTo>
                  <a:pt x="103" y="13"/>
                </a:lnTo>
                <a:lnTo>
                  <a:pt x="109" y="0"/>
                </a:lnTo>
                <a:lnTo>
                  <a:pt x="121" y="0"/>
                </a:lnTo>
                <a:lnTo>
                  <a:pt x="127" y="6"/>
                </a:lnTo>
                <a:lnTo>
                  <a:pt x="127" y="13"/>
                </a:lnTo>
                <a:lnTo>
                  <a:pt x="133" y="25"/>
                </a:lnTo>
                <a:lnTo>
                  <a:pt x="133" y="30"/>
                </a:lnTo>
                <a:lnTo>
                  <a:pt x="133" y="43"/>
                </a:lnTo>
                <a:lnTo>
                  <a:pt x="140" y="67"/>
                </a:lnTo>
                <a:lnTo>
                  <a:pt x="140" y="79"/>
                </a:lnTo>
                <a:lnTo>
                  <a:pt x="145" y="104"/>
                </a:lnTo>
                <a:lnTo>
                  <a:pt x="145" y="110"/>
                </a:lnTo>
                <a:lnTo>
                  <a:pt x="145" y="128"/>
                </a:lnTo>
                <a:lnTo>
                  <a:pt x="152" y="165"/>
                </a:lnTo>
                <a:lnTo>
                  <a:pt x="157" y="196"/>
                </a:lnTo>
                <a:lnTo>
                  <a:pt x="170" y="226"/>
                </a:lnTo>
                <a:lnTo>
                  <a:pt x="176" y="233"/>
                </a:lnTo>
                <a:lnTo>
                  <a:pt x="182" y="238"/>
                </a:lnTo>
                <a:lnTo>
                  <a:pt x="188" y="245"/>
                </a:lnTo>
                <a:lnTo>
                  <a:pt x="212" y="250"/>
                </a:lnTo>
                <a:lnTo>
                  <a:pt x="224" y="257"/>
                </a:lnTo>
                <a:lnTo>
                  <a:pt x="236" y="257"/>
                </a:lnTo>
                <a:lnTo>
                  <a:pt x="261" y="263"/>
                </a:lnTo>
                <a:lnTo>
                  <a:pt x="297" y="269"/>
                </a:lnTo>
                <a:lnTo>
                  <a:pt x="315" y="269"/>
                </a:lnTo>
                <a:lnTo>
                  <a:pt x="357" y="275"/>
                </a:lnTo>
                <a:lnTo>
                  <a:pt x="387" y="275"/>
                </a:lnTo>
                <a:lnTo>
                  <a:pt x="430" y="282"/>
                </a:lnTo>
                <a:lnTo>
                  <a:pt x="472" y="287"/>
                </a:lnTo>
                <a:lnTo>
                  <a:pt x="520" y="287"/>
                </a:lnTo>
                <a:lnTo>
                  <a:pt x="563" y="287"/>
                </a:lnTo>
                <a:lnTo>
                  <a:pt x="623" y="294"/>
                </a:lnTo>
                <a:lnTo>
                  <a:pt x="647" y="29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07200" y="2239920"/>
            <a:ext cx="0" cy="54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96040" y="2801880"/>
            <a:ext cx="1954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05440" y="244620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2"/>
          <a:stretch/>
        </p:blipFill>
        <p:spPr>
          <a:xfrm>
            <a:off x="5288040" y="2266920"/>
            <a:ext cx="285840" cy="496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76600" y="277344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54760" y="2379600"/>
            <a:ext cx="936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3"/>
          <a:stretch/>
        </p:blipFill>
        <p:spPr>
          <a:xfrm>
            <a:off x="5954760" y="2368440"/>
            <a:ext cx="287280" cy="432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61080" y="4349880"/>
            <a:ext cx="1404720" cy="284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22920" y="3983040"/>
            <a:ext cx="1433520" cy="396720"/>
          </a:xfrm>
          <a:custGeom>
            <a:avLst/>
            <a:gdLst/>
            <a:ahLst/>
            <a:rect l="l" t="t" r="r" b="b"/>
            <a:pathLst>
              <a:path w="932" h="258">
                <a:moveTo>
                  <a:pt x="0" y="257"/>
                </a:moveTo>
                <a:lnTo>
                  <a:pt x="12" y="244"/>
                </a:lnTo>
                <a:lnTo>
                  <a:pt x="37" y="215"/>
                </a:lnTo>
                <a:lnTo>
                  <a:pt x="54" y="203"/>
                </a:lnTo>
                <a:lnTo>
                  <a:pt x="72" y="179"/>
                </a:lnTo>
                <a:lnTo>
                  <a:pt x="91" y="161"/>
                </a:lnTo>
                <a:lnTo>
                  <a:pt x="103" y="150"/>
                </a:lnTo>
                <a:lnTo>
                  <a:pt x="115" y="132"/>
                </a:lnTo>
                <a:lnTo>
                  <a:pt x="127" y="114"/>
                </a:lnTo>
                <a:lnTo>
                  <a:pt x="132" y="102"/>
                </a:lnTo>
                <a:lnTo>
                  <a:pt x="144" y="78"/>
                </a:lnTo>
                <a:lnTo>
                  <a:pt x="157" y="60"/>
                </a:lnTo>
                <a:lnTo>
                  <a:pt x="169" y="42"/>
                </a:lnTo>
                <a:lnTo>
                  <a:pt x="174" y="36"/>
                </a:lnTo>
                <a:lnTo>
                  <a:pt x="181" y="30"/>
                </a:lnTo>
                <a:lnTo>
                  <a:pt x="193" y="18"/>
                </a:lnTo>
                <a:lnTo>
                  <a:pt x="210" y="6"/>
                </a:lnTo>
                <a:lnTo>
                  <a:pt x="222" y="0"/>
                </a:lnTo>
                <a:lnTo>
                  <a:pt x="229" y="0"/>
                </a:lnTo>
                <a:lnTo>
                  <a:pt x="241" y="0"/>
                </a:lnTo>
                <a:lnTo>
                  <a:pt x="264" y="0"/>
                </a:lnTo>
                <a:lnTo>
                  <a:pt x="276" y="0"/>
                </a:lnTo>
                <a:lnTo>
                  <a:pt x="283" y="6"/>
                </a:lnTo>
                <a:lnTo>
                  <a:pt x="295" y="12"/>
                </a:lnTo>
                <a:lnTo>
                  <a:pt x="307" y="30"/>
                </a:lnTo>
                <a:lnTo>
                  <a:pt x="319" y="54"/>
                </a:lnTo>
                <a:lnTo>
                  <a:pt x="325" y="66"/>
                </a:lnTo>
                <a:lnTo>
                  <a:pt x="331" y="78"/>
                </a:lnTo>
                <a:lnTo>
                  <a:pt x="342" y="102"/>
                </a:lnTo>
                <a:lnTo>
                  <a:pt x="361" y="125"/>
                </a:lnTo>
                <a:lnTo>
                  <a:pt x="379" y="150"/>
                </a:lnTo>
                <a:lnTo>
                  <a:pt x="391" y="161"/>
                </a:lnTo>
                <a:lnTo>
                  <a:pt x="397" y="167"/>
                </a:lnTo>
                <a:lnTo>
                  <a:pt x="403" y="167"/>
                </a:lnTo>
                <a:lnTo>
                  <a:pt x="415" y="173"/>
                </a:lnTo>
                <a:lnTo>
                  <a:pt x="427" y="179"/>
                </a:lnTo>
                <a:lnTo>
                  <a:pt x="451" y="185"/>
                </a:lnTo>
                <a:lnTo>
                  <a:pt x="475" y="191"/>
                </a:lnTo>
                <a:lnTo>
                  <a:pt x="505" y="197"/>
                </a:lnTo>
                <a:lnTo>
                  <a:pt x="535" y="203"/>
                </a:lnTo>
                <a:lnTo>
                  <a:pt x="565" y="203"/>
                </a:lnTo>
                <a:lnTo>
                  <a:pt x="601" y="209"/>
                </a:lnTo>
                <a:lnTo>
                  <a:pt x="649" y="215"/>
                </a:lnTo>
                <a:lnTo>
                  <a:pt x="685" y="215"/>
                </a:lnTo>
                <a:lnTo>
                  <a:pt x="733" y="221"/>
                </a:lnTo>
                <a:lnTo>
                  <a:pt x="793" y="227"/>
                </a:lnTo>
                <a:lnTo>
                  <a:pt x="841" y="227"/>
                </a:lnTo>
                <a:lnTo>
                  <a:pt x="902" y="233"/>
                </a:lnTo>
                <a:lnTo>
                  <a:pt x="931" y="233"/>
                </a:lnTo>
                <a:lnTo>
                  <a:pt x="0" y="257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22920" y="3975120"/>
            <a:ext cx="1444680" cy="415800"/>
          </a:xfrm>
          <a:custGeom>
            <a:avLst/>
            <a:gdLst/>
            <a:ahLst/>
            <a:rect l="l" t="t" r="r" b="b"/>
            <a:pathLst>
              <a:path w="939" h="270">
                <a:moveTo>
                  <a:pt x="0" y="269"/>
                </a:moveTo>
                <a:lnTo>
                  <a:pt x="104" y="165"/>
                </a:lnTo>
                <a:lnTo>
                  <a:pt x="152" y="73"/>
                </a:lnTo>
                <a:lnTo>
                  <a:pt x="206" y="12"/>
                </a:lnTo>
                <a:lnTo>
                  <a:pt x="254" y="0"/>
                </a:lnTo>
                <a:lnTo>
                  <a:pt x="303" y="18"/>
                </a:lnTo>
                <a:lnTo>
                  <a:pt x="351" y="128"/>
                </a:lnTo>
                <a:lnTo>
                  <a:pt x="442" y="220"/>
                </a:lnTo>
                <a:lnTo>
                  <a:pt x="938" y="24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22920" y="3983040"/>
            <a:ext cx="1444680" cy="407880"/>
          </a:xfrm>
          <a:custGeom>
            <a:avLst/>
            <a:gdLst/>
            <a:ahLst/>
            <a:rect l="l" t="t" r="r" b="b"/>
            <a:pathLst>
              <a:path w="939" h="265">
                <a:moveTo>
                  <a:pt x="0" y="264"/>
                </a:moveTo>
                <a:lnTo>
                  <a:pt x="12" y="251"/>
                </a:lnTo>
                <a:lnTo>
                  <a:pt x="37" y="221"/>
                </a:lnTo>
                <a:lnTo>
                  <a:pt x="55" y="208"/>
                </a:lnTo>
                <a:lnTo>
                  <a:pt x="73" y="184"/>
                </a:lnTo>
                <a:lnTo>
                  <a:pt x="91" y="166"/>
                </a:lnTo>
                <a:lnTo>
                  <a:pt x="104" y="154"/>
                </a:lnTo>
                <a:lnTo>
                  <a:pt x="116" y="135"/>
                </a:lnTo>
                <a:lnTo>
                  <a:pt x="128" y="117"/>
                </a:lnTo>
                <a:lnTo>
                  <a:pt x="133" y="105"/>
                </a:lnTo>
                <a:lnTo>
                  <a:pt x="145" y="80"/>
                </a:lnTo>
                <a:lnTo>
                  <a:pt x="158" y="61"/>
                </a:lnTo>
                <a:lnTo>
                  <a:pt x="170" y="43"/>
                </a:lnTo>
                <a:lnTo>
                  <a:pt x="176" y="37"/>
                </a:lnTo>
                <a:lnTo>
                  <a:pt x="182" y="31"/>
                </a:lnTo>
                <a:lnTo>
                  <a:pt x="194" y="19"/>
                </a:lnTo>
                <a:lnTo>
                  <a:pt x="212" y="6"/>
                </a:lnTo>
                <a:lnTo>
                  <a:pt x="224" y="0"/>
                </a:lnTo>
                <a:lnTo>
                  <a:pt x="230" y="0"/>
                </a:lnTo>
                <a:lnTo>
                  <a:pt x="242" y="0"/>
                </a:lnTo>
                <a:lnTo>
                  <a:pt x="266" y="0"/>
                </a:lnTo>
                <a:lnTo>
                  <a:pt x="278" y="0"/>
                </a:lnTo>
                <a:lnTo>
                  <a:pt x="285" y="6"/>
                </a:lnTo>
                <a:lnTo>
                  <a:pt x="297" y="12"/>
                </a:lnTo>
                <a:lnTo>
                  <a:pt x="309" y="31"/>
                </a:lnTo>
                <a:lnTo>
                  <a:pt x="321" y="56"/>
                </a:lnTo>
                <a:lnTo>
                  <a:pt x="327" y="68"/>
                </a:lnTo>
                <a:lnTo>
                  <a:pt x="333" y="80"/>
                </a:lnTo>
                <a:lnTo>
                  <a:pt x="345" y="105"/>
                </a:lnTo>
                <a:lnTo>
                  <a:pt x="363" y="129"/>
                </a:lnTo>
                <a:lnTo>
                  <a:pt x="382" y="154"/>
                </a:lnTo>
                <a:lnTo>
                  <a:pt x="394" y="166"/>
                </a:lnTo>
                <a:lnTo>
                  <a:pt x="400" y="171"/>
                </a:lnTo>
                <a:lnTo>
                  <a:pt x="406" y="171"/>
                </a:lnTo>
                <a:lnTo>
                  <a:pt x="418" y="178"/>
                </a:lnTo>
                <a:lnTo>
                  <a:pt x="430" y="184"/>
                </a:lnTo>
                <a:lnTo>
                  <a:pt x="454" y="190"/>
                </a:lnTo>
                <a:lnTo>
                  <a:pt x="478" y="196"/>
                </a:lnTo>
                <a:lnTo>
                  <a:pt x="509" y="202"/>
                </a:lnTo>
                <a:lnTo>
                  <a:pt x="539" y="208"/>
                </a:lnTo>
                <a:lnTo>
                  <a:pt x="569" y="208"/>
                </a:lnTo>
                <a:lnTo>
                  <a:pt x="606" y="215"/>
                </a:lnTo>
                <a:lnTo>
                  <a:pt x="654" y="221"/>
                </a:lnTo>
                <a:lnTo>
                  <a:pt x="690" y="221"/>
                </a:lnTo>
                <a:lnTo>
                  <a:pt x="739" y="227"/>
                </a:lnTo>
                <a:lnTo>
                  <a:pt x="799" y="233"/>
                </a:lnTo>
                <a:lnTo>
                  <a:pt x="847" y="233"/>
                </a:lnTo>
                <a:lnTo>
                  <a:pt x="908" y="239"/>
                </a:lnTo>
                <a:lnTo>
                  <a:pt x="938" y="2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07200" y="3795840"/>
            <a:ext cx="0" cy="581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07200" y="4389480"/>
            <a:ext cx="1942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0280" y="402120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2040" y="4368960"/>
            <a:ext cx="6469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ime/$/..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59600" y="3956040"/>
            <a:ext cx="936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6159600" y="3956040"/>
            <a:ext cx="287280" cy="4316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06880" y="1905120"/>
            <a:ext cx="644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55720" y="1905120"/>
            <a:ext cx="233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 Characterist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46280" y="1905120"/>
            <a:ext cx="224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dicted Perform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54280" y="1932120"/>
            <a:ext cx="0" cy="40557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68880" y="1920960"/>
            <a:ext cx="0" cy="40669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992240" y="3323520"/>
            <a:ext cx="88920" cy="108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1840" y="3143160"/>
            <a:ext cx="98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ag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7"/>
          <a:stretch/>
        </p:blipFill>
        <p:spPr>
          <a:xfrm>
            <a:off x="5256360" y="5372280"/>
            <a:ext cx="287280" cy="4982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8"/>
          <a:stretch/>
        </p:blipFill>
        <p:spPr>
          <a:xfrm>
            <a:off x="5288040" y="3092400"/>
            <a:ext cx="285840" cy="495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9"/>
          <a:stretch/>
        </p:blipFill>
        <p:spPr>
          <a:xfrm>
            <a:off x="5256360" y="3860640"/>
            <a:ext cx="287280" cy="498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0"/>
          <a:stretch/>
        </p:blipFill>
        <p:spPr>
          <a:xfrm>
            <a:off x="5256360" y="4613400"/>
            <a:ext cx="287280" cy="496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88960" y="2197080"/>
            <a:ext cx="6301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76360" y="3009960"/>
            <a:ext cx="63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88960" y="3773520"/>
            <a:ext cx="630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476360" y="4562640"/>
            <a:ext cx="630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88960" y="5324400"/>
            <a:ext cx="630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108080" y="5405400"/>
            <a:ext cx="1230480" cy="282240"/>
            <a:chOff x="1108080" y="5405400"/>
            <a:chExt cx="1230480" cy="282240"/>
          </a:xfrm>
        </p:grpSpPr>
        <p:sp>
          <p:nvSpPr>
            <p:cNvPr id="243" name=""/>
            <p:cNvSpPr/>
            <p:nvPr/>
          </p:nvSpPr>
          <p:spPr>
            <a:xfrm>
              <a:off x="1119960" y="5405400"/>
              <a:ext cx="28296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08080" y="5466600"/>
              <a:ext cx="1230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119240" y="4629240"/>
            <a:ext cx="284040" cy="28404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08080" y="4691160"/>
            <a:ext cx="1230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19240" y="3848040"/>
            <a:ext cx="284040" cy="282600"/>
          </a:xfrm>
          <a:prstGeom prst="ellipse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08080" y="3914640"/>
            <a:ext cx="1236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14560" y="3133800"/>
            <a:ext cx="282600" cy="28260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01600" y="320688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4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4440" y="2344680"/>
            <a:ext cx="282600" cy="2844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31840" y="241920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592-7753-4E05-ACC2-11DE4D6E022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332400" y="3503520"/>
            <a:ext cx="2227320" cy="17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78640" y="3736800"/>
            <a:ext cx="503280" cy="5050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Maturity Level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7360" indent="0">
              <a:lnSpc>
                <a:spcPct val="85000"/>
              </a:lnSpc>
              <a:spcBef>
                <a:spcPts val="2551"/>
              </a:spcBef>
              <a:buNone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7360" indent="-117360">
              <a:lnSpc>
                <a:spcPct val="85000"/>
              </a:lnSpc>
              <a:spcBef>
                <a:spcPts val="2551"/>
              </a:spcBef>
              <a:buClr>
                <a:srgbClr val="000000"/>
              </a:buClr>
              <a:buFont typeface="Arial"/>
              <a:buChar char=" 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13000" y="4619520"/>
            <a:ext cx="87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15160" y="4805280"/>
            <a:ext cx="78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00040" y="3672000"/>
            <a:ext cx="872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93200" y="3857760"/>
            <a:ext cx="12978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75520" y="5408640"/>
            <a:ext cx="1092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430400" y="5408640"/>
            <a:ext cx="12096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32400" y="3503520"/>
            <a:ext cx="2227320" cy="1760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19800" y="4389480"/>
            <a:ext cx="2227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39040" y="3490920"/>
            <a:ext cx="0" cy="1784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10680" y="368604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734240" y="3736800"/>
            <a:ext cx="504720" cy="50508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79960" y="369900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89800" y="4573440"/>
            <a:ext cx="504720" cy="5050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35520" y="453564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759800" y="4586400"/>
            <a:ext cx="504720" cy="50472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92560" y="4535640"/>
            <a:ext cx="42624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6440" y="3102120"/>
            <a:ext cx="2919240" cy="2469960"/>
          </a:xfrm>
          <a:custGeom>
            <a:avLst/>
            <a:gdLst/>
            <a:ahLst/>
            <a:rect l="l" t="t" r="r" b="b"/>
            <a:pathLst>
              <a:path w="1898" h="1604">
                <a:moveTo>
                  <a:pt x="0" y="122"/>
                </a:moveTo>
                <a:lnTo>
                  <a:pt x="14" y="128"/>
                </a:lnTo>
                <a:lnTo>
                  <a:pt x="55" y="141"/>
                </a:lnTo>
                <a:lnTo>
                  <a:pt x="97" y="147"/>
                </a:lnTo>
                <a:lnTo>
                  <a:pt x="138" y="154"/>
                </a:lnTo>
                <a:lnTo>
                  <a:pt x="159" y="154"/>
                </a:lnTo>
                <a:lnTo>
                  <a:pt x="180" y="154"/>
                </a:lnTo>
                <a:lnTo>
                  <a:pt x="214" y="154"/>
                </a:lnTo>
                <a:lnTo>
                  <a:pt x="248" y="147"/>
                </a:lnTo>
                <a:lnTo>
                  <a:pt x="269" y="147"/>
                </a:lnTo>
                <a:lnTo>
                  <a:pt x="283" y="141"/>
                </a:lnTo>
                <a:lnTo>
                  <a:pt x="311" y="134"/>
                </a:lnTo>
                <a:lnTo>
                  <a:pt x="359" y="122"/>
                </a:lnTo>
                <a:lnTo>
                  <a:pt x="386" y="115"/>
                </a:lnTo>
                <a:lnTo>
                  <a:pt x="400" y="109"/>
                </a:lnTo>
                <a:lnTo>
                  <a:pt x="428" y="102"/>
                </a:lnTo>
                <a:lnTo>
                  <a:pt x="455" y="102"/>
                </a:lnTo>
                <a:lnTo>
                  <a:pt x="476" y="109"/>
                </a:lnTo>
                <a:lnTo>
                  <a:pt x="483" y="109"/>
                </a:lnTo>
                <a:lnTo>
                  <a:pt x="497" y="115"/>
                </a:lnTo>
                <a:lnTo>
                  <a:pt x="517" y="122"/>
                </a:lnTo>
                <a:lnTo>
                  <a:pt x="538" y="128"/>
                </a:lnTo>
                <a:lnTo>
                  <a:pt x="559" y="134"/>
                </a:lnTo>
                <a:lnTo>
                  <a:pt x="572" y="134"/>
                </a:lnTo>
                <a:lnTo>
                  <a:pt x="586" y="134"/>
                </a:lnTo>
                <a:lnTo>
                  <a:pt x="628" y="141"/>
                </a:lnTo>
                <a:lnTo>
                  <a:pt x="676" y="141"/>
                </a:lnTo>
                <a:lnTo>
                  <a:pt x="724" y="141"/>
                </a:lnTo>
                <a:lnTo>
                  <a:pt x="752" y="141"/>
                </a:lnTo>
                <a:lnTo>
                  <a:pt x="786" y="141"/>
                </a:lnTo>
                <a:lnTo>
                  <a:pt x="849" y="134"/>
                </a:lnTo>
                <a:lnTo>
                  <a:pt x="904" y="128"/>
                </a:lnTo>
                <a:lnTo>
                  <a:pt x="959" y="115"/>
                </a:lnTo>
                <a:lnTo>
                  <a:pt x="986" y="109"/>
                </a:lnTo>
                <a:lnTo>
                  <a:pt x="1007" y="102"/>
                </a:lnTo>
                <a:lnTo>
                  <a:pt x="1055" y="83"/>
                </a:lnTo>
                <a:lnTo>
                  <a:pt x="1097" y="70"/>
                </a:lnTo>
                <a:lnTo>
                  <a:pt x="1124" y="64"/>
                </a:lnTo>
                <a:lnTo>
                  <a:pt x="1138" y="57"/>
                </a:lnTo>
                <a:lnTo>
                  <a:pt x="1166" y="51"/>
                </a:lnTo>
                <a:lnTo>
                  <a:pt x="1207" y="32"/>
                </a:lnTo>
                <a:lnTo>
                  <a:pt x="1228" y="19"/>
                </a:lnTo>
                <a:lnTo>
                  <a:pt x="1242" y="12"/>
                </a:lnTo>
                <a:lnTo>
                  <a:pt x="1255" y="7"/>
                </a:lnTo>
                <a:lnTo>
                  <a:pt x="1269" y="0"/>
                </a:lnTo>
                <a:lnTo>
                  <a:pt x="1276" y="0"/>
                </a:lnTo>
                <a:lnTo>
                  <a:pt x="1283" y="0"/>
                </a:lnTo>
                <a:lnTo>
                  <a:pt x="1290" y="0"/>
                </a:lnTo>
                <a:lnTo>
                  <a:pt x="1304" y="7"/>
                </a:lnTo>
                <a:lnTo>
                  <a:pt x="1325" y="19"/>
                </a:lnTo>
                <a:lnTo>
                  <a:pt x="1345" y="32"/>
                </a:lnTo>
                <a:lnTo>
                  <a:pt x="1366" y="45"/>
                </a:lnTo>
                <a:lnTo>
                  <a:pt x="1387" y="57"/>
                </a:lnTo>
                <a:lnTo>
                  <a:pt x="1414" y="77"/>
                </a:lnTo>
                <a:lnTo>
                  <a:pt x="1435" y="89"/>
                </a:lnTo>
                <a:lnTo>
                  <a:pt x="1448" y="102"/>
                </a:lnTo>
                <a:lnTo>
                  <a:pt x="1455" y="102"/>
                </a:lnTo>
                <a:lnTo>
                  <a:pt x="1469" y="109"/>
                </a:lnTo>
                <a:lnTo>
                  <a:pt x="1483" y="109"/>
                </a:lnTo>
                <a:lnTo>
                  <a:pt x="1497" y="109"/>
                </a:lnTo>
                <a:lnTo>
                  <a:pt x="1503" y="109"/>
                </a:lnTo>
                <a:lnTo>
                  <a:pt x="1511" y="102"/>
                </a:lnTo>
                <a:lnTo>
                  <a:pt x="1524" y="96"/>
                </a:lnTo>
                <a:lnTo>
                  <a:pt x="1545" y="89"/>
                </a:lnTo>
                <a:lnTo>
                  <a:pt x="1566" y="83"/>
                </a:lnTo>
                <a:lnTo>
                  <a:pt x="1580" y="77"/>
                </a:lnTo>
                <a:lnTo>
                  <a:pt x="1600" y="70"/>
                </a:lnTo>
                <a:lnTo>
                  <a:pt x="1607" y="70"/>
                </a:lnTo>
                <a:lnTo>
                  <a:pt x="1628" y="70"/>
                </a:lnTo>
                <a:lnTo>
                  <a:pt x="1649" y="64"/>
                </a:lnTo>
                <a:lnTo>
                  <a:pt x="1669" y="64"/>
                </a:lnTo>
                <a:lnTo>
                  <a:pt x="1697" y="64"/>
                </a:lnTo>
                <a:lnTo>
                  <a:pt x="1717" y="64"/>
                </a:lnTo>
                <a:lnTo>
                  <a:pt x="1732" y="64"/>
                </a:lnTo>
                <a:lnTo>
                  <a:pt x="1745" y="64"/>
                </a:lnTo>
                <a:lnTo>
                  <a:pt x="1766" y="64"/>
                </a:lnTo>
                <a:lnTo>
                  <a:pt x="1787" y="70"/>
                </a:lnTo>
                <a:lnTo>
                  <a:pt x="1800" y="70"/>
                </a:lnTo>
                <a:lnTo>
                  <a:pt x="1821" y="77"/>
                </a:lnTo>
                <a:lnTo>
                  <a:pt x="1828" y="83"/>
                </a:lnTo>
                <a:lnTo>
                  <a:pt x="1835" y="89"/>
                </a:lnTo>
                <a:lnTo>
                  <a:pt x="1835" y="96"/>
                </a:lnTo>
                <a:lnTo>
                  <a:pt x="1835" y="102"/>
                </a:lnTo>
                <a:lnTo>
                  <a:pt x="1835" y="122"/>
                </a:lnTo>
                <a:lnTo>
                  <a:pt x="1835" y="160"/>
                </a:lnTo>
                <a:lnTo>
                  <a:pt x="1828" y="179"/>
                </a:lnTo>
                <a:lnTo>
                  <a:pt x="1828" y="192"/>
                </a:lnTo>
                <a:lnTo>
                  <a:pt x="1828" y="205"/>
                </a:lnTo>
                <a:lnTo>
                  <a:pt x="1828" y="218"/>
                </a:lnTo>
                <a:lnTo>
                  <a:pt x="1835" y="237"/>
                </a:lnTo>
                <a:lnTo>
                  <a:pt x="1842" y="250"/>
                </a:lnTo>
                <a:lnTo>
                  <a:pt x="1856" y="276"/>
                </a:lnTo>
                <a:lnTo>
                  <a:pt x="1863" y="288"/>
                </a:lnTo>
                <a:lnTo>
                  <a:pt x="1869" y="295"/>
                </a:lnTo>
                <a:lnTo>
                  <a:pt x="1876" y="314"/>
                </a:lnTo>
                <a:lnTo>
                  <a:pt x="1883" y="333"/>
                </a:lnTo>
                <a:lnTo>
                  <a:pt x="1890" y="353"/>
                </a:lnTo>
                <a:lnTo>
                  <a:pt x="1890" y="365"/>
                </a:lnTo>
                <a:lnTo>
                  <a:pt x="1897" y="378"/>
                </a:lnTo>
                <a:lnTo>
                  <a:pt x="1897" y="404"/>
                </a:lnTo>
                <a:lnTo>
                  <a:pt x="1897" y="423"/>
                </a:lnTo>
                <a:lnTo>
                  <a:pt x="1897" y="436"/>
                </a:lnTo>
                <a:lnTo>
                  <a:pt x="1890" y="449"/>
                </a:lnTo>
                <a:lnTo>
                  <a:pt x="1883" y="468"/>
                </a:lnTo>
                <a:lnTo>
                  <a:pt x="1869" y="494"/>
                </a:lnTo>
                <a:lnTo>
                  <a:pt x="1863" y="507"/>
                </a:lnTo>
                <a:lnTo>
                  <a:pt x="1863" y="513"/>
                </a:lnTo>
                <a:lnTo>
                  <a:pt x="1848" y="532"/>
                </a:lnTo>
                <a:lnTo>
                  <a:pt x="1835" y="545"/>
                </a:lnTo>
                <a:lnTo>
                  <a:pt x="1814" y="564"/>
                </a:lnTo>
                <a:lnTo>
                  <a:pt x="1808" y="571"/>
                </a:lnTo>
                <a:lnTo>
                  <a:pt x="1787" y="584"/>
                </a:lnTo>
                <a:lnTo>
                  <a:pt x="1752" y="609"/>
                </a:lnTo>
                <a:lnTo>
                  <a:pt x="1738" y="622"/>
                </a:lnTo>
                <a:lnTo>
                  <a:pt x="1732" y="628"/>
                </a:lnTo>
                <a:lnTo>
                  <a:pt x="1711" y="641"/>
                </a:lnTo>
                <a:lnTo>
                  <a:pt x="1711" y="648"/>
                </a:lnTo>
                <a:lnTo>
                  <a:pt x="1697" y="661"/>
                </a:lnTo>
                <a:lnTo>
                  <a:pt x="1697" y="667"/>
                </a:lnTo>
                <a:lnTo>
                  <a:pt x="1697" y="680"/>
                </a:lnTo>
                <a:lnTo>
                  <a:pt x="1704" y="686"/>
                </a:lnTo>
                <a:lnTo>
                  <a:pt x="1711" y="693"/>
                </a:lnTo>
                <a:lnTo>
                  <a:pt x="1717" y="699"/>
                </a:lnTo>
                <a:lnTo>
                  <a:pt x="1732" y="725"/>
                </a:lnTo>
                <a:lnTo>
                  <a:pt x="1738" y="738"/>
                </a:lnTo>
                <a:lnTo>
                  <a:pt x="1745" y="757"/>
                </a:lnTo>
                <a:lnTo>
                  <a:pt x="1752" y="770"/>
                </a:lnTo>
                <a:lnTo>
                  <a:pt x="1766" y="802"/>
                </a:lnTo>
                <a:lnTo>
                  <a:pt x="1773" y="827"/>
                </a:lnTo>
                <a:lnTo>
                  <a:pt x="1780" y="846"/>
                </a:lnTo>
                <a:lnTo>
                  <a:pt x="1780" y="853"/>
                </a:lnTo>
                <a:lnTo>
                  <a:pt x="1780" y="859"/>
                </a:lnTo>
                <a:lnTo>
                  <a:pt x="1780" y="872"/>
                </a:lnTo>
                <a:lnTo>
                  <a:pt x="1780" y="885"/>
                </a:lnTo>
                <a:lnTo>
                  <a:pt x="1780" y="897"/>
                </a:lnTo>
                <a:lnTo>
                  <a:pt x="1780" y="917"/>
                </a:lnTo>
                <a:lnTo>
                  <a:pt x="1780" y="936"/>
                </a:lnTo>
                <a:lnTo>
                  <a:pt x="1780" y="955"/>
                </a:lnTo>
                <a:lnTo>
                  <a:pt x="1780" y="981"/>
                </a:lnTo>
                <a:lnTo>
                  <a:pt x="1780" y="994"/>
                </a:lnTo>
                <a:lnTo>
                  <a:pt x="1780" y="1007"/>
                </a:lnTo>
                <a:lnTo>
                  <a:pt x="1780" y="1026"/>
                </a:lnTo>
                <a:lnTo>
                  <a:pt x="1780" y="1051"/>
                </a:lnTo>
                <a:lnTo>
                  <a:pt x="1780" y="1071"/>
                </a:lnTo>
                <a:lnTo>
                  <a:pt x="1787" y="1090"/>
                </a:lnTo>
                <a:lnTo>
                  <a:pt x="1787" y="1103"/>
                </a:lnTo>
                <a:lnTo>
                  <a:pt x="1787" y="1109"/>
                </a:lnTo>
                <a:lnTo>
                  <a:pt x="1793" y="1122"/>
                </a:lnTo>
                <a:lnTo>
                  <a:pt x="1793" y="1128"/>
                </a:lnTo>
                <a:lnTo>
                  <a:pt x="1793" y="1148"/>
                </a:lnTo>
                <a:lnTo>
                  <a:pt x="1787" y="1161"/>
                </a:lnTo>
                <a:lnTo>
                  <a:pt x="1780" y="1173"/>
                </a:lnTo>
                <a:lnTo>
                  <a:pt x="1773" y="1180"/>
                </a:lnTo>
                <a:lnTo>
                  <a:pt x="1766" y="1193"/>
                </a:lnTo>
                <a:lnTo>
                  <a:pt x="1759" y="1205"/>
                </a:lnTo>
                <a:lnTo>
                  <a:pt x="1752" y="1231"/>
                </a:lnTo>
                <a:lnTo>
                  <a:pt x="1759" y="1250"/>
                </a:lnTo>
                <a:lnTo>
                  <a:pt x="1759" y="1257"/>
                </a:lnTo>
                <a:lnTo>
                  <a:pt x="1766" y="1276"/>
                </a:lnTo>
                <a:lnTo>
                  <a:pt x="1780" y="1308"/>
                </a:lnTo>
                <a:lnTo>
                  <a:pt x="1787" y="1327"/>
                </a:lnTo>
                <a:lnTo>
                  <a:pt x="1787" y="1334"/>
                </a:lnTo>
                <a:lnTo>
                  <a:pt x="1787" y="1359"/>
                </a:lnTo>
                <a:lnTo>
                  <a:pt x="1780" y="1379"/>
                </a:lnTo>
                <a:lnTo>
                  <a:pt x="1773" y="1398"/>
                </a:lnTo>
                <a:lnTo>
                  <a:pt x="1766" y="1411"/>
                </a:lnTo>
                <a:lnTo>
                  <a:pt x="1759" y="1424"/>
                </a:lnTo>
                <a:lnTo>
                  <a:pt x="1745" y="1456"/>
                </a:lnTo>
                <a:lnTo>
                  <a:pt x="1738" y="1488"/>
                </a:lnTo>
                <a:lnTo>
                  <a:pt x="1745" y="1520"/>
                </a:lnTo>
                <a:lnTo>
                  <a:pt x="1745" y="1533"/>
                </a:lnTo>
                <a:lnTo>
                  <a:pt x="1745" y="1539"/>
                </a:lnTo>
                <a:lnTo>
                  <a:pt x="1752" y="1558"/>
                </a:lnTo>
                <a:lnTo>
                  <a:pt x="1752" y="1571"/>
                </a:lnTo>
                <a:lnTo>
                  <a:pt x="1745" y="1578"/>
                </a:lnTo>
                <a:lnTo>
                  <a:pt x="1745" y="1590"/>
                </a:lnTo>
                <a:lnTo>
                  <a:pt x="1738" y="1596"/>
                </a:lnTo>
                <a:lnTo>
                  <a:pt x="1732" y="1596"/>
                </a:lnTo>
                <a:lnTo>
                  <a:pt x="1725" y="1596"/>
                </a:lnTo>
                <a:lnTo>
                  <a:pt x="1717" y="1596"/>
                </a:lnTo>
                <a:lnTo>
                  <a:pt x="1697" y="1596"/>
                </a:lnTo>
                <a:lnTo>
                  <a:pt x="1669" y="1596"/>
                </a:lnTo>
                <a:lnTo>
                  <a:pt x="1635" y="1590"/>
                </a:lnTo>
                <a:lnTo>
                  <a:pt x="1614" y="1590"/>
                </a:lnTo>
                <a:lnTo>
                  <a:pt x="1594" y="1590"/>
                </a:lnTo>
                <a:lnTo>
                  <a:pt x="1559" y="1590"/>
                </a:lnTo>
                <a:lnTo>
                  <a:pt x="1524" y="1590"/>
                </a:lnTo>
                <a:lnTo>
                  <a:pt x="1497" y="1590"/>
                </a:lnTo>
                <a:lnTo>
                  <a:pt x="1490" y="1590"/>
                </a:lnTo>
                <a:lnTo>
                  <a:pt x="1483" y="1590"/>
                </a:lnTo>
                <a:lnTo>
                  <a:pt x="1476" y="1590"/>
                </a:lnTo>
                <a:lnTo>
                  <a:pt x="1455" y="1590"/>
                </a:lnTo>
                <a:lnTo>
                  <a:pt x="1435" y="1590"/>
                </a:lnTo>
                <a:lnTo>
                  <a:pt x="1414" y="1590"/>
                </a:lnTo>
                <a:lnTo>
                  <a:pt x="1387" y="1590"/>
                </a:lnTo>
                <a:lnTo>
                  <a:pt x="1352" y="1590"/>
                </a:lnTo>
                <a:lnTo>
                  <a:pt x="1317" y="1590"/>
                </a:lnTo>
                <a:lnTo>
                  <a:pt x="1297" y="1590"/>
                </a:lnTo>
                <a:lnTo>
                  <a:pt x="1255" y="1590"/>
                </a:lnTo>
                <a:lnTo>
                  <a:pt x="1179" y="1590"/>
                </a:lnTo>
                <a:lnTo>
                  <a:pt x="1111" y="1590"/>
                </a:lnTo>
                <a:lnTo>
                  <a:pt x="1048" y="1590"/>
                </a:lnTo>
                <a:lnTo>
                  <a:pt x="1014" y="1590"/>
                </a:lnTo>
                <a:lnTo>
                  <a:pt x="1000" y="1590"/>
                </a:lnTo>
                <a:lnTo>
                  <a:pt x="973" y="1590"/>
                </a:lnTo>
                <a:lnTo>
                  <a:pt x="938" y="1584"/>
                </a:lnTo>
                <a:lnTo>
                  <a:pt x="910" y="1584"/>
                </a:lnTo>
                <a:lnTo>
                  <a:pt x="890" y="1584"/>
                </a:lnTo>
                <a:lnTo>
                  <a:pt x="869" y="1584"/>
                </a:lnTo>
                <a:lnTo>
                  <a:pt x="849" y="1584"/>
                </a:lnTo>
                <a:lnTo>
                  <a:pt x="834" y="1584"/>
                </a:lnTo>
                <a:lnTo>
                  <a:pt x="828" y="1584"/>
                </a:lnTo>
                <a:lnTo>
                  <a:pt x="814" y="1584"/>
                </a:lnTo>
                <a:lnTo>
                  <a:pt x="779" y="1584"/>
                </a:lnTo>
                <a:lnTo>
                  <a:pt x="745" y="1584"/>
                </a:lnTo>
                <a:lnTo>
                  <a:pt x="697" y="1584"/>
                </a:lnTo>
                <a:lnTo>
                  <a:pt x="676" y="1584"/>
                </a:lnTo>
                <a:lnTo>
                  <a:pt x="655" y="1584"/>
                </a:lnTo>
                <a:lnTo>
                  <a:pt x="621" y="1590"/>
                </a:lnTo>
                <a:lnTo>
                  <a:pt x="593" y="1590"/>
                </a:lnTo>
                <a:lnTo>
                  <a:pt x="572" y="1596"/>
                </a:lnTo>
                <a:lnTo>
                  <a:pt x="565" y="1596"/>
                </a:lnTo>
                <a:lnTo>
                  <a:pt x="559" y="1596"/>
                </a:lnTo>
                <a:lnTo>
                  <a:pt x="538" y="1603"/>
                </a:lnTo>
                <a:lnTo>
                  <a:pt x="517" y="1603"/>
                </a:lnTo>
                <a:lnTo>
                  <a:pt x="476" y="1596"/>
                </a:lnTo>
                <a:lnTo>
                  <a:pt x="462" y="1596"/>
                </a:lnTo>
                <a:lnTo>
                  <a:pt x="449" y="1596"/>
                </a:lnTo>
                <a:lnTo>
                  <a:pt x="400" y="1590"/>
                </a:lnTo>
                <a:lnTo>
                  <a:pt x="345" y="1584"/>
                </a:lnTo>
                <a:lnTo>
                  <a:pt x="296" y="1584"/>
                </a:lnTo>
                <a:lnTo>
                  <a:pt x="262" y="1584"/>
                </a:lnTo>
                <a:lnTo>
                  <a:pt x="248" y="1584"/>
                </a:lnTo>
                <a:lnTo>
                  <a:pt x="220" y="1584"/>
                </a:lnTo>
                <a:lnTo>
                  <a:pt x="193" y="1584"/>
                </a:lnTo>
                <a:lnTo>
                  <a:pt x="165" y="1584"/>
                </a:lnTo>
                <a:lnTo>
                  <a:pt x="145" y="1584"/>
                </a:lnTo>
                <a:lnTo>
                  <a:pt x="124" y="1584"/>
                </a:lnTo>
                <a:lnTo>
                  <a:pt x="97" y="1578"/>
                </a:lnTo>
                <a:lnTo>
                  <a:pt x="83" y="1578"/>
                </a:lnTo>
                <a:lnTo>
                  <a:pt x="76" y="1578"/>
                </a:lnTo>
                <a:lnTo>
                  <a:pt x="69" y="1578"/>
                </a:lnTo>
                <a:lnTo>
                  <a:pt x="62" y="1578"/>
                </a:lnTo>
                <a:lnTo>
                  <a:pt x="41" y="1571"/>
                </a:lnTo>
                <a:lnTo>
                  <a:pt x="34" y="1565"/>
                </a:lnTo>
                <a:lnTo>
                  <a:pt x="34" y="1558"/>
                </a:lnTo>
                <a:lnTo>
                  <a:pt x="27" y="1552"/>
                </a:lnTo>
                <a:lnTo>
                  <a:pt x="21" y="1533"/>
                </a:lnTo>
                <a:lnTo>
                  <a:pt x="21" y="1520"/>
                </a:lnTo>
                <a:lnTo>
                  <a:pt x="21" y="1513"/>
                </a:lnTo>
                <a:lnTo>
                  <a:pt x="21" y="1488"/>
                </a:lnTo>
                <a:lnTo>
                  <a:pt x="21" y="1430"/>
                </a:lnTo>
                <a:lnTo>
                  <a:pt x="14" y="1398"/>
                </a:lnTo>
                <a:lnTo>
                  <a:pt x="14" y="1385"/>
                </a:lnTo>
                <a:lnTo>
                  <a:pt x="14" y="1359"/>
                </a:lnTo>
                <a:lnTo>
                  <a:pt x="14" y="1327"/>
                </a:lnTo>
                <a:lnTo>
                  <a:pt x="14" y="1295"/>
                </a:lnTo>
                <a:lnTo>
                  <a:pt x="14" y="1276"/>
                </a:lnTo>
                <a:lnTo>
                  <a:pt x="14" y="1263"/>
                </a:lnTo>
                <a:lnTo>
                  <a:pt x="14" y="1238"/>
                </a:lnTo>
                <a:lnTo>
                  <a:pt x="14" y="1212"/>
                </a:lnTo>
                <a:lnTo>
                  <a:pt x="7" y="1186"/>
                </a:lnTo>
                <a:lnTo>
                  <a:pt x="7" y="1180"/>
                </a:lnTo>
                <a:lnTo>
                  <a:pt x="7" y="1167"/>
                </a:lnTo>
                <a:lnTo>
                  <a:pt x="0" y="1128"/>
                </a:lnTo>
                <a:lnTo>
                  <a:pt x="0" y="1109"/>
                </a:lnTo>
                <a:lnTo>
                  <a:pt x="0" y="1090"/>
                </a:lnTo>
                <a:lnTo>
                  <a:pt x="7" y="1032"/>
                </a:lnTo>
                <a:lnTo>
                  <a:pt x="7" y="1007"/>
                </a:lnTo>
                <a:lnTo>
                  <a:pt x="14" y="974"/>
                </a:lnTo>
                <a:lnTo>
                  <a:pt x="14" y="910"/>
                </a:lnTo>
                <a:lnTo>
                  <a:pt x="14" y="878"/>
                </a:lnTo>
                <a:lnTo>
                  <a:pt x="14" y="865"/>
                </a:lnTo>
                <a:lnTo>
                  <a:pt x="14" y="833"/>
                </a:lnTo>
                <a:lnTo>
                  <a:pt x="14" y="802"/>
                </a:lnTo>
                <a:lnTo>
                  <a:pt x="7" y="763"/>
                </a:lnTo>
                <a:lnTo>
                  <a:pt x="7" y="743"/>
                </a:lnTo>
                <a:lnTo>
                  <a:pt x="7" y="705"/>
                </a:lnTo>
                <a:lnTo>
                  <a:pt x="7" y="616"/>
                </a:lnTo>
                <a:lnTo>
                  <a:pt x="7" y="571"/>
                </a:lnTo>
                <a:lnTo>
                  <a:pt x="7" y="551"/>
                </a:lnTo>
                <a:lnTo>
                  <a:pt x="7" y="507"/>
                </a:lnTo>
                <a:lnTo>
                  <a:pt x="7" y="455"/>
                </a:lnTo>
                <a:lnTo>
                  <a:pt x="0" y="397"/>
                </a:lnTo>
                <a:lnTo>
                  <a:pt x="0" y="372"/>
                </a:lnTo>
                <a:lnTo>
                  <a:pt x="0" y="359"/>
                </a:lnTo>
                <a:lnTo>
                  <a:pt x="0" y="333"/>
                </a:lnTo>
                <a:lnTo>
                  <a:pt x="0" y="308"/>
                </a:lnTo>
                <a:lnTo>
                  <a:pt x="0" y="282"/>
                </a:lnTo>
                <a:lnTo>
                  <a:pt x="0" y="263"/>
                </a:lnTo>
                <a:lnTo>
                  <a:pt x="0" y="237"/>
                </a:lnTo>
                <a:lnTo>
                  <a:pt x="0" y="224"/>
                </a:lnTo>
                <a:lnTo>
                  <a:pt x="0" y="205"/>
                </a:lnTo>
                <a:lnTo>
                  <a:pt x="0" y="199"/>
                </a:lnTo>
                <a:lnTo>
                  <a:pt x="0" y="186"/>
                </a:lnTo>
                <a:lnTo>
                  <a:pt x="0" y="160"/>
                </a:lnTo>
                <a:lnTo>
                  <a:pt x="0" y="141"/>
                </a:lnTo>
                <a:lnTo>
                  <a:pt x="0" y="128"/>
                </a:lnTo>
                <a:lnTo>
                  <a:pt x="0" y="122"/>
                </a:lnTo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5560" y="3824280"/>
            <a:ext cx="2685960" cy="1747800"/>
          </a:xfrm>
          <a:custGeom>
            <a:avLst/>
            <a:gdLst/>
            <a:ahLst/>
            <a:rect l="l" t="t" r="r" b="b"/>
            <a:pathLst>
              <a:path w="1746" h="1135">
                <a:moveTo>
                  <a:pt x="14" y="32"/>
                </a:moveTo>
                <a:lnTo>
                  <a:pt x="27" y="32"/>
                </a:lnTo>
                <a:lnTo>
                  <a:pt x="55" y="25"/>
                </a:lnTo>
                <a:lnTo>
                  <a:pt x="76" y="19"/>
                </a:lnTo>
                <a:lnTo>
                  <a:pt x="89" y="19"/>
                </a:lnTo>
                <a:lnTo>
                  <a:pt x="97" y="12"/>
                </a:lnTo>
                <a:lnTo>
                  <a:pt x="110" y="12"/>
                </a:lnTo>
                <a:lnTo>
                  <a:pt x="158" y="6"/>
                </a:lnTo>
                <a:lnTo>
                  <a:pt x="179" y="6"/>
                </a:lnTo>
                <a:lnTo>
                  <a:pt x="207" y="6"/>
                </a:lnTo>
                <a:lnTo>
                  <a:pt x="241" y="6"/>
                </a:lnTo>
                <a:lnTo>
                  <a:pt x="262" y="0"/>
                </a:lnTo>
                <a:lnTo>
                  <a:pt x="283" y="0"/>
                </a:lnTo>
                <a:lnTo>
                  <a:pt x="331" y="0"/>
                </a:lnTo>
                <a:lnTo>
                  <a:pt x="358" y="0"/>
                </a:lnTo>
                <a:lnTo>
                  <a:pt x="393" y="6"/>
                </a:lnTo>
                <a:lnTo>
                  <a:pt x="448" y="6"/>
                </a:lnTo>
                <a:lnTo>
                  <a:pt x="476" y="0"/>
                </a:lnTo>
                <a:lnTo>
                  <a:pt x="503" y="0"/>
                </a:lnTo>
                <a:lnTo>
                  <a:pt x="545" y="6"/>
                </a:lnTo>
                <a:lnTo>
                  <a:pt x="558" y="6"/>
                </a:lnTo>
                <a:lnTo>
                  <a:pt x="572" y="12"/>
                </a:lnTo>
                <a:lnTo>
                  <a:pt x="586" y="12"/>
                </a:lnTo>
                <a:lnTo>
                  <a:pt x="607" y="12"/>
                </a:lnTo>
                <a:lnTo>
                  <a:pt x="635" y="12"/>
                </a:lnTo>
                <a:lnTo>
                  <a:pt x="641" y="12"/>
                </a:lnTo>
                <a:lnTo>
                  <a:pt x="669" y="12"/>
                </a:lnTo>
                <a:lnTo>
                  <a:pt x="724" y="12"/>
                </a:lnTo>
                <a:lnTo>
                  <a:pt x="745" y="12"/>
                </a:lnTo>
                <a:lnTo>
                  <a:pt x="772" y="12"/>
                </a:lnTo>
                <a:lnTo>
                  <a:pt x="814" y="19"/>
                </a:lnTo>
                <a:lnTo>
                  <a:pt x="834" y="25"/>
                </a:lnTo>
                <a:lnTo>
                  <a:pt x="848" y="32"/>
                </a:lnTo>
                <a:lnTo>
                  <a:pt x="862" y="32"/>
                </a:lnTo>
                <a:lnTo>
                  <a:pt x="889" y="38"/>
                </a:lnTo>
                <a:lnTo>
                  <a:pt x="896" y="38"/>
                </a:lnTo>
                <a:lnTo>
                  <a:pt x="903" y="38"/>
                </a:lnTo>
                <a:lnTo>
                  <a:pt x="917" y="44"/>
                </a:lnTo>
                <a:lnTo>
                  <a:pt x="938" y="51"/>
                </a:lnTo>
                <a:lnTo>
                  <a:pt x="952" y="57"/>
                </a:lnTo>
                <a:lnTo>
                  <a:pt x="965" y="64"/>
                </a:lnTo>
                <a:lnTo>
                  <a:pt x="993" y="77"/>
                </a:lnTo>
                <a:lnTo>
                  <a:pt x="1007" y="83"/>
                </a:lnTo>
                <a:lnTo>
                  <a:pt x="1020" y="89"/>
                </a:lnTo>
                <a:lnTo>
                  <a:pt x="1035" y="89"/>
                </a:lnTo>
                <a:lnTo>
                  <a:pt x="1048" y="89"/>
                </a:lnTo>
                <a:lnTo>
                  <a:pt x="1062" y="89"/>
                </a:lnTo>
                <a:lnTo>
                  <a:pt x="1075" y="83"/>
                </a:lnTo>
                <a:lnTo>
                  <a:pt x="1083" y="83"/>
                </a:lnTo>
                <a:lnTo>
                  <a:pt x="1103" y="77"/>
                </a:lnTo>
                <a:lnTo>
                  <a:pt x="1117" y="77"/>
                </a:lnTo>
                <a:lnTo>
                  <a:pt x="1131" y="77"/>
                </a:lnTo>
                <a:lnTo>
                  <a:pt x="1138" y="77"/>
                </a:lnTo>
                <a:lnTo>
                  <a:pt x="1152" y="77"/>
                </a:lnTo>
                <a:lnTo>
                  <a:pt x="1166" y="70"/>
                </a:lnTo>
                <a:lnTo>
                  <a:pt x="1172" y="70"/>
                </a:lnTo>
                <a:lnTo>
                  <a:pt x="1193" y="64"/>
                </a:lnTo>
                <a:lnTo>
                  <a:pt x="1200" y="64"/>
                </a:lnTo>
                <a:lnTo>
                  <a:pt x="1214" y="64"/>
                </a:lnTo>
                <a:lnTo>
                  <a:pt x="1241" y="64"/>
                </a:lnTo>
                <a:lnTo>
                  <a:pt x="1255" y="57"/>
                </a:lnTo>
                <a:lnTo>
                  <a:pt x="1269" y="57"/>
                </a:lnTo>
                <a:lnTo>
                  <a:pt x="1304" y="57"/>
                </a:lnTo>
                <a:lnTo>
                  <a:pt x="1317" y="57"/>
                </a:lnTo>
                <a:lnTo>
                  <a:pt x="1331" y="64"/>
                </a:lnTo>
                <a:lnTo>
                  <a:pt x="1359" y="70"/>
                </a:lnTo>
                <a:lnTo>
                  <a:pt x="1372" y="70"/>
                </a:lnTo>
                <a:lnTo>
                  <a:pt x="1386" y="70"/>
                </a:lnTo>
                <a:lnTo>
                  <a:pt x="1414" y="64"/>
                </a:lnTo>
                <a:lnTo>
                  <a:pt x="1421" y="64"/>
                </a:lnTo>
                <a:lnTo>
                  <a:pt x="1435" y="64"/>
                </a:lnTo>
                <a:lnTo>
                  <a:pt x="1462" y="70"/>
                </a:lnTo>
                <a:lnTo>
                  <a:pt x="1476" y="70"/>
                </a:lnTo>
                <a:lnTo>
                  <a:pt x="1483" y="70"/>
                </a:lnTo>
                <a:lnTo>
                  <a:pt x="1503" y="77"/>
                </a:lnTo>
                <a:lnTo>
                  <a:pt x="1524" y="77"/>
                </a:lnTo>
                <a:lnTo>
                  <a:pt x="1545" y="77"/>
                </a:lnTo>
                <a:lnTo>
                  <a:pt x="1558" y="77"/>
                </a:lnTo>
                <a:lnTo>
                  <a:pt x="1573" y="77"/>
                </a:lnTo>
                <a:lnTo>
                  <a:pt x="1600" y="83"/>
                </a:lnTo>
                <a:lnTo>
                  <a:pt x="1613" y="89"/>
                </a:lnTo>
                <a:lnTo>
                  <a:pt x="1628" y="109"/>
                </a:lnTo>
                <a:lnTo>
                  <a:pt x="1628" y="115"/>
                </a:lnTo>
                <a:lnTo>
                  <a:pt x="1628" y="121"/>
                </a:lnTo>
                <a:lnTo>
                  <a:pt x="1628" y="134"/>
                </a:lnTo>
                <a:lnTo>
                  <a:pt x="1634" y="147"/>
                </a:lnTo>
                <a:lnTo>
                  <a:pt x="1641" y="166"/>
                </a:lnTo>
                <a:lnTo>
                  <a:pt x="1648" y="173"/>
                </a:lnTo>
                <a:lnTo>
                  <a:pt x="1655" y="186"/>
                </a:lnTo>
                <a:lnTo>
                  <a:pt x="1669" y="211"/>
                </a:lnTo>
                <a:lnTo>
                  <a:pt x="1669" y="224"/>
                </a:lnTo>
                <a:lnTo>
                  <a:pt x="1676" y="237"/>
                </a:lnTo>
                <a:lnTo>
                  <a:pt x="1696" y="263"/>
                </a:lnTo>
                <a:lnTo>
                  <a:pt x="1704" y="275"/>
                </a:lnTo>
                <a:lnTo>
                  <a:pt x="1710" y="282"/>
                </a:lnTo>
                <a:lnTo>
                  <a:pt x="1710" y="295"/>
                </a:lnTo>
                <a:lnTo>
                  <a:pt x="1717" y="320"/>
                </a:lnTo>
                <a:lnTo>
                  <a:pt x="1724" y="352"/>
                </a:lnTo>
                <a:lnTo>
                  <a:pt x="1724" y="365"/>
                </a:lnTo>
                <a:lnTo>
                  <a:pt x="1724" y="385"/>
                </a:lnTo>
                <a:lnTo>
                  <a:pt x="1724" y="403"/>
                </a:lnTo>
                <a:lnTo>
                  <a:pt x="1724" y="429"/>
                </a:lnTo>
                <a:lnTo>
                  <a:pt x="1731" y="448"/>
                </a:lnTo>
                <a:lnTo>
                  <a:pt x="1731" y="455"/>
                </a:lnTo>
                <a:lnTo>
                  <a:pt x="1738" y="474"/>
                </a:lnTo>
                <a:lnTo>
                  <a:pt x="1738" y="493"/>
                </a:lnTo>
                <a:lnTo>
                  <a:pt x="1738" y="506"/>
                </a:lnTo>
                <a:lnTo>
                  <a:pt x="1738" y="519"/>
                </a:lnTo>
                <a:lnTo>
                  <a:pt x="1738" y="544"/>
                </a:lnTo>
                <a:lnTo>
                  <a:pt x="1745" y="583"/>
                </a:lnTo>
                <a:lnTo>
                  <a:pt x="1745" y="596"/>
                </a:lnTo>
                <a:lnTo>
                  <a:pt x="1745" y="602"/>
                </a:lnTo>
                <a:lnTo>
                  <a:pt x="1745" y="621"/>
                </a:lnTo>
                <a:lnTo>
                  <a:pt x="1745" y="641"/>
                </a:lnTo>
                <a:lnTo>
                  <a:pt x="1745" y="660"/>
                </a:lnTo>
                <a:lnTo>
                  <a:pt x="1738" y="673"/>
                </a:lnTo>
                <a:lnTo>
                  <a:pt x="1738" y="692"/>
                </a:lnTo>
                <a:lnTo>
                  <a:pt x="1731" y="736"/>
                </a:lnTo>
                <a:lnTo>
                  <a:pt x="1724" y="763"/>
                </a:lnTo>
                <a:lnTo>
                  <a:pt x="1724" y="775"/>
                </a:lnTo>
                <a:lnTo>
                  <a:pt x="1717" y="801"/>
                </a:lnTo>
                <a:lnTo>
                  <a:pt x="1717" y="833"/>
                </a:lnTo>
                <a:lnTo>
                  <a:pt x="1717" y="871"/>
                </a:lnTo>
                <a:lnTo>
                  <a:pt x="1717" y="884"/>
                </a:lnTo>
                <a:lnTo>
                  <a:pt x="1717" y="903"/>
                </a:lnTo>
                <a:lnTo>
                  <a:pt x="1717" y="935"/>
                </a:lnTo>
                <a:lnTo>
                  <a:pt x="1717" y="961"/>
                </a:lnTo>
                <a:lnTo>
                  <a:pt x="1717" y="987"/>
                </a:lnTo>
                <a:lnTo>
                  <a:pt x="1717" y="1000"/>
                </a:lnTo>
                <a:lnTo>
                  <a:pt x="1724" y="1025"/>
                </a:lnTo>
                <a:lnTo>
                  <a:pt x="1724" y="1070"/>
                </a:lnTo>
                <a:lnTo>
                  <a:pt x="1724" y="1089"/>
                </a:lnTo>
                <a:lnTo>
                  <a:pt x="1717" y="1109"/>
                </a:lnTo>
                <a:lnTo>
                  <a:pt x="1704" y="1121"/>
                </a:lnTo>
                <a:lnTo>
                  <a:pt x="1696" y="1127"/>
                </a:lnTo>
                <a:lnTo>
                  <a:pt x="1689" y="1127"/>
                </a:lnTo>
                <a:lnTo>
                  <a:pt x="1669" y="1134"/>
                </a:lnTo>
                <a:lnTo>
                  <a:pt x="1655" y="1134"/>
                </a:lnTo>
                <a:lnTo>
                  <a:pt x="1648" y="1134"/>
                </a:lnTo>
                <a:lnTo>
                  <a:pt x="1641" y="1134"/>
                </a:lnTo>
                <a:lnTo>
                  <a:pt x="1621" y="1134"/>
                </a:lnTo>
                <a:lnTo>
                  <a:pt x="1600" y="1134"/>
                </a:lnTo>
                <a:lnTo>
                  <a:pt x="1573" y="1134"/>
                </a:lnTo>
                <a:lnTo>
                  <a:pt x="1545" y="1134"/>
                </a:lnTo>
                <a:lnTo>
                  <a:pt x="1510" y="1134"/>
                </a:lnTo>
                <a:lnTo>
                  <a:pt x="1469" y="1127"/>
                </a:lnTo>
                <a:lnTo>
                  <a:pt x="1435" y="1127"/>
                </a:lnTo>
                <a:lnTo>
                  <a:pt x="1414" y="1127"/>
                </a:lnTo>
                <a:lnTo>
                  <a:pt x="1372" y="1127"/>
                </a:lnTo>
                <a:lnTo>
                  <a:pt x="1289" y="1127"/>
                </a:lnTo>
                <a:lnTo>
                  <a:pt x="1214" y="1127"/>
                </a:lnTo>
                <a:lnTo>
                  <a:pt x="1152" y="1127"/>
                </a:lnTo>
                <a:lnTo>
                  <a:pt x="1117" y="1127"/>
                </a:lnTo>
                <a:lnTo>
                  <a:pt x="1055" y="1127"/>
                </a:lnTo>
                <a:lnTo>
                  <a:pt x="931" y="1127"/>
                </a:lnTo>
                <a:lnTo>
                  <a:pt x="869" y="1127"/>
                </a:lnTo>
                <a:lnTo>
                  <a:pt x="855" y="1127"/>
                </a:lnTo>
                <a:lnTo>
                  <a:pt x="821" y="1127"/>
                </a:lnTo>
                <a:lnTo>
                  <a:pt x="779" y="1127"/>
                </a:lnTo>
                <a:lnTo>
                  <a:pt x="738" y="1127"/>
                </a:lnTo>
                <a:lnTo>
                  <a:pt x="690" y="1127"/>
                </a:lnTo>
                <a:lnTo>
                  <a:pt x="641" y="1127"/>
                </a:lnTo>
                <a:lnTo>
                  <a:pt x="586" y="1127"/>
                </a:lnTo>
                <a:lnTo>
                  <a:pt x="531" y="1127"/>
                </a:lnTo>
                <a:lnTo>
                  <a:pt x="497" y="1127"/>
                </a:lnTo>
                <a:lnTo>
                  <a:pt x="469" y="1127"/>
                </a:lnTo>
                <a:lnTo>
                  <a:pt x="406" y="1127"/>
                </a:lnTo>
                <a:lnTo>
                  <a:pt x="358" y="1127"/>
                </a:lnTo>
                <a:lnTo>
                  <a:pt x="310" y="1127"/>
                </a:lnTo>
                <a:lnTo>
                  <a:pt x="269" y="1127"/>
                </a:lnTo>
                <a:lnTo>
                  <a:pt x="228" y="1127"/>
                </a:lnTo>
                <a:lnTo>
                  <a:pt x="200" y="1127"/>
                </a:lnTo>
                <a:lnTo>
                  <a:pt x="172" y="1127"/>
                </a:lnTo>
                <a:lnTo>
                  <a:pt x="158" y="1127"/>
                </a:lnTo>
                <a:lnTo>
                  <a:pt x="145" y="1127"/>
                </a:lnTo>
                <a:lnTo>
                  <a:pt x="124" y="1127"/>
                </a:lnTo>
                <a:lnTo>
                  <a:pt x="110" y="1127"/>
                </a:lnTo>
                <a:lnTo>
                  <a:pt x="89" y="1127"/>
                </a:lnTo>
                <a:lnTo>
                  <a:pt x="76" y="1127"/>
                </a:lnTo>
                <a:lnTo>
                  <a:pt x="62" y="1127"/>
                </a:lnTo>
                <a:lnTo>
                  <a:pt x="55" y="1127"/>
                </a:lnTo>
                <a:lnTo>
                  <a:pt x="48" y="1127"/>
                </a:lnTo>
                <a:lnTo>
                  <a:pt x="41" y="1127"/>
                </a:lnTo>
                <a:lnTo>
                  <a:pt x="34" y="1127"/>
                </a:lnTo>
                <a:lnTo>
                  <a:pt x="21" y="1121"/>
                </a:lnTo>
                <a:lnTo>
                  <a:pt x="14" y="1115"/>
                </a:lnTo>
                <a:lnTo>
                  <a:pt x="7" y="1096"/>
                </a:lnTo>
                <a:lnTo>
                  <a:pt x="7" y="1089"/>
                </a:lnTo>
                <a:lnTo>
                  <a:pt x="7" y="1077"/>
                </a:lnTo>
                <a:lnTo>
                  <a:pt x="7" y="1070"/>
                </a:lnTo>
                <a:lnTo>
                  <a:pt x="7" y="1057"/>
                </a:lnTo>
                <a:lnTo>
                  <a:pt x="0" y="1025"/>
                </a:lnTo>
                <a:lnTo>
                  <a:pt x="0" y="987"/>
                </a:lnTo>
                <a:lnTo>
                  <a:pt x="0" y="948"/>
                </a:lnTo>
                <a:lnTo>
                  <a:pt x="0" y="923"/>
                </a:lnTo>
                <a:lnTo>
                  <a:pt x="0" y="878"/>
                </a:lnTo>
                <a:lnTo>
                  <a:pt x="7" y="781"/>
                </a:lnTo>
                <a:lnTo>
                  <a:pt x="7" y="731"/>
                </a:lnTo>
                <a:lnTo>
                  <a:pt x="7" y="705"/>
                </a:lnTo>
                <a:lnTo>
                  <a:pt x="14" y="660"/>
                </a:lnTo>
                <a:lnTo>
                  <a:pt x="14" y="621"/>
                </a:lnTo>
                <a:lnTo>
                  <a:pt x="14" y="589"/>
                </a:lnTo>
                <a:lnTo>
                  <a:pt x="14" y="577"/>
                </a:lnTo>
                <a:lnTo>
                  <a:pt x="14" y="551"/>
                </a:lnTo>
                <a:lnTo>
                  <a:pt x="14" y="493"/>
                </a:lnTo>
                <a:lnTo>
                  <a:pt x="7" y="461"/>
                </a:lnTo>
                <a:lnTo>
                  <a:pt x="7" y="448"/>
                </a:lnTo>
                <a:lnTo>
                  <a:pt x="7" y="410"/>
                </a:lnTo>
                <a:lnTo>
                  <a:pt x="7" y="371"/>
                </a:lnTo>
                <a:lnTo>
                  <a:pt x="7" y="333"/>
                </a:lnTo>
                <a:lnTo>
                  <a:pt x="7" y="314"/>
                </a:lnTo>
                <a:lnTo>
                  <a:pt x="7" y="295"/>
                </a:lnTo>
                <a:lnTo>
                  <a:pt x="14" y="250"/>
                </a:lnTo>
                <a:lnTo>
                  <a:pt x="14" y="211"/>
                </a:lnTo>
                <a:lnTo>
                  <a:pt x="14" y="186"/>
                </a:lnTo>
                <a:lnTo>
                  <a:pt x="14" y="166"/>
                </a:lnTo>
                <a:lnTo>
                  <a:pt x="14" y="134"/>
                </a:lnTo>
                <a:lnTo>
                  <a:pt x="14" y="70"/>
                </a:lnTo>
                <a:lnTo>
                  <a:pt x="14" y="32"/>
                </a:lnTo>
              </a:path>
            </a:pathLst>
          </a:cu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5560" y="3854520"/>
            <a:ext cx="1962360" cy="1727280"/>
          </a:xfrm>
          <a:custGeom>
            <a:avLst/>
            <a:gdLst/>
            <a:ahLst/>
            <a:rect l="l" t="t" r="r" b="b"/>
            <a:pathLst>
              <a:path w="1275" h="1123">
                <a:moveTo>
                  <a:pt x="14" y="32"/>
                </a:moveTo>
                <a:lnTo>
                  <a:pt x="41" y="32"/>
                </a:lnTo>
                <a:lnTo>
                  <a:pt x="89" y="32"/>
                </a:lnTo>
                <a:lnTo>
                  <a:pt x="131" y="32"/>
                </a:lnTo>
                <a:lnTo>
                  <a:pt x="165" y="32"/>
                </a:lnTo>
                <a:lnTo>
                  <a:pt x="199" y="25"/>
                </a:lnTo>
                <a:lnTo>
                  <a:pt x="227" y="25"/>
                </a:lnTo>
                <a:lnTo>
                  <a:pt x="234" y="25"/>
                </a:lnTo>
                <a:lnTo>
                  <a:pt x="254" y="20"/>
                </a:lnTo>
                <a:lnTo>
                  <a:pt x="269" y="13"/>
                </a:lnTo>
                <a:lnTo>
                  <a:pt x="289" y="7"/>
                </a:lnTo>
                <a:lnTo>
                  <a:pt x="317" y="0"/>
                </a:lnTo>
                <a:lnTo>
                  <a:pt x="330" y="0"/>
                </a:lnTo>
                <a:lnTo>
                  <a:pt x="344" y="0"/>
                </a:lnTo>
                <a:lnTo>
                  <a:pt x="379" y="0"/>
                </a:lnTo>
                <a:lnTo>
                  <a:pt x="420" y="0"/>
                </a:lnTo>
                <a:lnTo>
                  <a:pt x="454" y="7"/>
                </a:lnTo>
                <a:lnTo>
                  <a:pt x="475" y="7"/>
                </a:lnTo>
                <a:lnTo>
                  <a:pt x="496" y="13"/>
                </a:lnTo>
                <a:lnTo>
                  <a:pt x="530" y="20"/>
                </a:lnTo>
                <a:lnTo>
                  <a:pt x="565" y="25"/>
                </a:lnTo>
                <a:lnTo>
                  <a:pt x="585" y="25"/>
                </a:lnTo>
                <a:lnTo>
                  <a:pt x="599" y="25"/>
                </a:lnTo>
                <a:lnTo>
                  <a:pt x="620" y="25"/>
                </a:lnTo>
                <a:lnTo>
                  <a:pt x="668" y="25"/>
                </a:lnTo>
                <a:lnTo>
                  <a:pt x="695" y="20"/>
                </a:lnTo>
                <a:lnTo>
                  <a:pt x="709" y="20"/>
                </a:lnTo>
                <a:lnTo>
                  <a:pt x="737" y="25"/>
                </a:lnTo>
                <a:lnTo>
                  <a:pt x="757" y="32"/>
                </a:lnTo>
                <a:lnTo>
                  <a:pt x="778" y="38"/>
                </a:lnTo>
                <a:lnTo>
                  <a:pt x="785" y="45"/>
                </a:lnTo>
                <a:lnTo>
                  <a:pt x="792" y="51"/>
                </a:lnTo>
                <a:lnTo>
                  <a:pt x="812" y="64"/>
                </a:lnTo>
                <a:lnTo>
                  <a:pt x="826" y="70"/>
                </a:lnTo>
                <a:lnTo>
                  <a:pt x="840" y="70"/>
                </a:lnTo>
                <a:lnTo>
                  <a:pt x="847" y="70"/>
                </a:lnTo>
                <a:lnTo>
                  <a:pt x="861" y="77"/>
                </a:lnTo>
                <a:lnTo>
                  <a:pt x="882" y="83"/>
                </a:lnTo>
                <a:lnTo>
                  <a:pt x="888" y="90"/>
                </a:lnTo>
                <a:lnTo>
                  <a:pt x="902" y="96"/>
                </a:lnTo>
                <a:lnTo>
                  <a:pt x="923" y="102"/>
                </a:lnTo>
                <a:lnTo>
                  <a:pt x="937" y="109"/>
                </a:lnTo>
                <a:lnTo>
                  <a:pt x="950" y="115"/>
                </a:lnTo>
                <a:lnTo>
                  <a:pt x="978" y="135"/>
                </a:lnTo>
                <a:lnTo>
                  <a:pt x="992" y="147"/>
                </a:lnTo>
                <a:lnTo>
                  <a:pt x="998" y="154"/>
                </a:lnTo>
                <a:lnTo>
                  <a:pt x="1012" y="173"/>
                </a:lnTo>
                <a:lnTo>
                  <a:pt x="1019" y="186"/>
                </a:lnTo>
                <a:lnTo>
                  <a:pt x="1019" y="199"/>
                </a:lnTo>
                <a:lnTo>
                  <a:pt x="1019" y="205"/>
                </a:lnTo>
                <a:lnTo>
                  <a:pt x="1019" y="212"/>
                </a:lnTo>
                <a:lnTo>
                  <a:pt x="1019" y="237"/>
                </a:lnTo>
                <a:lnTo>
                  <a:pt x="1019" y="250"/>
                </a:lnTo>
                <a:lnTo>
                  <a:pt x="1012" y="269"/>
                </a:lnTo>
                <a:lnTo>
                  <a:pt x="1005" y="282"/>
                </a:lnTo>
                <a:lnTo>
                  <a:pt x="1005" y="289"/>
                </a:lnTo>
                <a:lnTo>
                  <a:pt x="998" y="308"/>
                </a:lnTo>
                <a:lnTo>
                  <a:pt x="992" y="321"/>
                </a:lnTo>
                <a:lnTo>
                  <a:pt x="985" y="340"/>
                </a:lnTo>
                <a:lnTo>
                  <a:pt x="985" y="346"/>
                </a:lnTo>
                <a:lnTo>
                  <a:pt x="971" y="359"/>
                </a:lnTo>
                <a:lnTo>
                  <a:pt x="964" y="366"/>
                </a:lnTo>
                <a:lnTo>
                  <a:pt x="957" y="372"/>
                </a:lnTo>
                <a:lnTo>
                  <a:pt x="957" y="378"/>
                </a:lnTo>
                <a:lnTo>
                  <a:pt x="964" y="391"/>
                </a:lnTo>
                <a:lnTo>
                  <a:pt x="971" y="398"/>
                </a:lnTo>
                <a:lnTo>
                  <a:pt x="985" y="404"/>
                </a:lnTo>
                <a:lnTo>
                  <a:pt x="992" y="410"/>
                </a:lnTo>
                <a:lnTo>
                  <a:pt x="998" y="417"/>
                </a:lnTo>
                <a:lnTo>
                  <a:pt x="1012" y="423"/>
                </a:lnTo>
                <a:lnTo>
                  <a:pt x="1019" y="430"/>
                </a:lnTo>
                <a:lnTo>
                  <a:pt x="1026" y="443"/>
                </a:lnTo>
                <a:lnTo>
                  <a:pt x="1026" y="436"/>
                </a:lnTo>
                <a:lnTo>
                  <a:pt x="1019" y="443"/>
                </a:lnTo>
                <a:lnTo>
                  <a:pt x="1012" y="449"/>
                </a:lnTo>
                <a:lnTo>
                  <a:pt x="1012" y="455"/>
                </a:lnTo>
                <a:lnTo>
                  <a:pt x="1019" y="462"/>
                </a:lnTo>
                <a:lnTo>
                  <a:pt x="1033" y="468"/>
                </a:lnTo>
                <a:lnTo>
                  <a:pt x="1026" y="468"/>
                </a:lnTo>
                <a:lnTo>
                  <a:pt x="1026" y="481"/>
                </a:lnTo>
                <a:lnTo>
                  <a:pt x="1026" y="487"/>
                </a:lnTo>
                <a:lnTo>
                  <a:pt x="1019" y="507"/>
                </a:lnTo>
                <a:lnTo>
                  <a:pt x="1019" y="520"/>
                </a:lnTo>
                <a:lnTo>
                  <a:pt x="1019" y="525"/>
                </a:lnTo>
                <a:lnTo>
                  <a:pt x="1026" y="532"/>
                </a:lnTo>
                <a:lnTo>
                  <a:pt x="1047" y="545"/>
                </a:lnTo>
                <a:lnTo>
                  <a:pt x="1060" y="552"/>
                </a:lnTo>
                <a:lnTo>
                  <a:pt x="1067" y="552"/>
                </a:lnTo>
                <a:lnTo>
                  <a:pt x="1088" y="558"/>
                </a:lnTo>
                <a:lnTo>
                  <a:pt x="1115" y="564"/>
                </a:lnTo>
                <a:lnTo>
                  <a:pt x="1123" y="564"/>
                </a:lnTo>
                <a:lnTo>
                  <a:pt x="1130" y="570"/>
                </a:lnTo>
                <a:lnTo>
                  <a:pt x="1143" y="577"/>
                </a:lnTo>
                <a:lnTo>
                  <a:pt x="1157" y="590"/>
                </a:lnTo>
                <a:lnTo>
                  <a:pt x="1164" y="597"/>
                </a:lnTo>
                <a:lnTo>
                  <a:pt x="1170" y="609"/>
                </a:lnTo>
                <a:lnTo>
                  <a:pt x="1178" y="622"/>
                </a:lnTo>
                <a:lnTo>
                  <a:pt x="1191" y="641"/>
                </a:lnTo>
                <a:lnTo>
                  <a:pt x="1205" y="654"/>
                </a:lnTo>
                <a:lnTo>
                  <a:pt x="1212" y="660"/>
                </a:lnTo>
                <a:lnTo>
                  <a:pt x="1226" y="667"/>
                </a:lnTo>
                <a:lnTo>
                  <a:pt x="1240" y="673"/>
                </a:lnTo>
                <a:lnTo>
                  <a:pt x="1253" y="686"/>
                </a:lnTo>
                <a:lnTo>
                  <a:pt x="1260" y="699"/>
                </a:lnTo>
                <a:lnTo>
                  <a:pt x="1267" y="718"/>
                </a:lnTo>
                <a:lnTo>
                  <a:pt x="1267" y="724"/>
                </a:lnTo>
                <a:lnTo>
                  <a:pt x="1267" y="731"/>
                </a:lnTo>
                <a:lnTo>
                  <a:pt x="1267" y="750"/>
                </a:lnTo>
                <a:lnTo>
                  <a:pt x="1267" y="769"/>
                </a:lnTo>
                <a:lnTo>
                  <a:pt x="1267" y="789"/>
                </a:lnTo>
                <a:lnTo>
                  <a:pt x="1260" y="801"/>
                </a:lnTo>
                <a:lnTo>
                  <a:pt x="1260" y="808"/>
                </a:lnTo>
                <a:lnTo>
                  <a:pt x="1260" y="827"/>
                </a:lnTo>
                <a:lnTo>
                  <a:pt x="1260" y="846"/>
                </a:lnTo>
                <a:lnTo>
                  <a:pt x="1267" y="859"/>
                </a:lnTo>
                <a:lnTo>
                  <a:pt x="1274" y="872"/>
                </a:lnTo>
                <a:lnTo>
                  <a:pt x="1274" y="898"/>
                </a:lnTo>
                <a:lnTo>
                  <a:pt x="1274" y="910"/>
                </a:lnTo>
                <a:lnTo>
                  <a:pt x="1274" y="917"/>
                </a:lnTo>
                <a:lnTo>
                  <a:pt x="1267" y="943"/>
                </a:lnTo>
                <a:lnTo>
                  <a:pt x="1267" y="949"/>
                </a:lnTo>
                <a:lnTo>
                  <a:pt x="1260" y="968"/>
                </a:lnTo>
                <a:lnTo>
                  <a:pt x="1253" y="987"/>
                </a:lnTo>
                <a:lnTo>
                  <a:pt x="1253" y="1007"/>
                </a:lnTo>
                <a:lnTo>
                  <a:pt x="1253" y="1020"/>
                </a:lnTo>
                <a:lnTo>
                  <a:pt x="1253" y="1032"/>
                </a:lnTo>
                <a:lnTo>
                  <a:pt x="1253" y="1045"/>
                </a:lnTo>
                <a:lnTo>
                  <a:pt x="1253" y="1058"/>
                </a:lnTo>
                <a:lnTo>
                  <a:pt x="1246" y="1077"/>
                </a:lnTo>
                <a:lnTo>
                  <a:pt x="1246" y="1084"/>
                </a:lnTo>
                <a:lnTo>
                  <a:pt x="1240" y="1090"/>
                </a:lnTo>
                <a:lnTo>
                  <a:pt x="1226" y="1102"/>
                </a:lnTo>
                <a:lnTo>
                  <a:pt x="1212" y="1109"/>
                </a:lnTo>
                <a:lnTo>
                  <a:pt x="1191" y="1109"/>
                </a:lnTo>
                <a:lnTo>
                  <a:pt x="1178" y="1109"/>
                </a:lnTo>
                <a:lnTo>
                  <a:pt x="1157" y="1109"/>
                </a:lnTo>
                <a:lnTo>
                  <a:pt x="1095" y="1115"/>
                </a:lnTo>
                <a:lnTo>
                  <a:pt x="1067" y="1115"/>
                </a:lnTo>
                <a:lnTo>
                  <a:pt x="1054" y="1115"/>
                </a:lnTo>
                <a:lnTo>
                  <a:pt x="1019" y="1122"/>
                </a:lnTo>
                <a:lnTo>
                  <a:pt x="992" y="1122"/>
                </a:lnTo>
                <a:lnTo>
                  <a:pt x="950" y="1115"/>
                </a:lnTo>
                <a:lnTo>
                  <a:pt x="937" y="1115"/>
                </a:lnTo>
                <a:lnTo>
                  <a:pt x="923" y="1115"/>
                </a:lnTo>
                <a:lnTo>
                  <a:pt x="888" y="1115"/>
                </a:lnTo>
                <a:lnTo>
                  <a:pt x="861" y="1115"/>
                </a:lnTo>
                <a:lnTo>
                  <a:pt x="833" y="1115"/>
                </a:lnTo>
                <a:lnTo>
                  <a:pt x="820" y="1115"/>
                </a:lnTo>
                <a:lnTo>
                  <a:pt x="799" y="1115"/>
                </a:lnTo>
                <a:lnTo>
                  <a:pt x="750" y="1115"/>
                </a:lnTo>
                <a:lnTo>
                  <a:pt x="730" y="1115"/>
                </a:lnTo>
                <a:lnTo>
                  <a:pt x="723" y="1115"/>
                </a:lnTo>
                <a:lnTo>
                  <a:pt x="702" y="1122"/>
                </a:lnTo>
                <a:lnTo>
                  <a:pt x="689" y="1122"/>
                </a:lnTo>
                <a:lnTo>
                  <a:pt x="682" y="1122"/>
                </a:lnTo>
                <a:lnTo>
                  <a:pt x="675" y="1122"/>
                </a:lnTo>
                <a:lnTo>
                  <a:pt x="668" y="1122"/>
                </a:lnTo>
                <a:lnTo>
                  <a:pt x="647" y="1122"/>
                </a:lnTo>
                <a:lnTo>
                  <a:pt x="640" y="1115"/>
                </a:lnTo>
                <a:lnTo>
                  <a:pt x="627" y="1109"/>
                </a:lnTo>
                <a:lnTo>
                  <a:pt x="599" y="1102"/>
                </a:lnTo>
                <a:lnTo>
                  <a:pt x="578" y="1102"/>
                </a:lnTo>
                <a:lnTo>
                  <a:pt x="565" y="1102"/>
                </a:lnTo>
                <a:lnTo>
                  <a:pt x="537" y="1102"/>
                </a:lnTo>
                <a:lnTo>
                  <a:pt x="468" y="1109"/>
                </a:lnTo>
                <a:lnTo>
                  <a:pt x="441" y="1109"/>
                </a:lnTo>
                <a:lnTo>
                  <a:pt x="427" y="1109"/>
                </a:lnTo>
                <a:lnTo>
                  <a:pt x="399" y="1115"/>
                </a:lnTo>
                <a:lnTo>
                  <a:pt x="379" y="1115"/>
                </a:lnTo>
                <a:lnTo>
                  <a:pt x="358" y="1115"/>
                </a:lnTo>
                <a:lnTo>
                  <a:pt x="351" y="1115"/>
                </a:lnTo>
                <a:lnTo>
                  <a:pt x="344" y="1115"/>
                </a:lnTo>
                <a:lnTo>
                  <a:pt x="324" y="1115"/>
                </a:lnTo>
                <a:lnTo>
                  <a:pt x="303" y="1115"/>
                </a:lnTo>
                <a:lnTo>
                  <a:pt x="269" y="1109"/>
                </a:lnTo>
                <a:lnTo>
                  <a:pt x="254" y="1109"/>
                </a:lnTo>
                <a:lnTo>
                  <a:pt x="241" y="1109"/>
                </a:lnTo>
                <a:lnTo>
                  <a:pt x="213" y="1109"/>
                </a:lnTo>
                <a:lnTo>
                  <a:pt x="179" y="1109"/>
                </a:lnTo>
                <a:lnTo>
                  <a:pt x="137" y="1109"/>
                </a:lnTo>
                <a:lnTo>
                  <a:pt x="117" y="1109"/>
                </a:lnTo>
                <a:lnTo>
                  <a:pt x="110" y="1109"/>
                </a:lnTo>
                <a:lnTo>
                  <a:pt x="89" y="1109"/>
                </a:lnTo>
                <a:lnTo>
                  <a:pt x="76" y="1109"/>
                </a:lnTo>
                <a:lnTo>
                  <a:pt x="55" y="1102"/>
                </a:lnTo>
                <a:lnTo>
                  <a:pt x="41" y="1102"/>
                </a:lnTo>
                <a:lnTo>
                  <a:pt x="27" y="1097"/>
                </a:lnTo>
                <a:lnTo>
                  <a:pt x="27" y="1090"/>
                </a:lnTo>
                <a:lnTo>
                  <a:pt x="21" y="1077"/>
                </a:lnTo>
                <a:lnTo>
                  <a:pt x="21" y="1071"/>
                </a:lnTo>
                <a:lnTo>
                  <a:pt x="21" y="1058"/>
                </a:lnTo>
                <a:lnTo>
                  <a:pt x="14" y="1039"/>
                </a:lnTo>
                <a:lnTo>
                  <a:pt x="14" y="1020"/>
                </a:lnTo>
                <a:lnTo>
                  <a:pt x="14" y="1000"/>
                </a:lnTo>
                <a:lnTo>
                  <a:pt x="14" y="981"/>
                </a:lnTo>
                <a:lnTo>
                  <a:pt x="14" y="968"/>
                </a:lnTo>
                <a:lnTo>
                  <a:pt x="14" y="943"/>
                </a:lnTo>
                <a:lnTo>
                  <a:pt x="14" y="891"/>
                </a:lnTo>
                <a:lnTo>
                  <a:pt x="14" y="840"/>
                </a:lnTo>
                <a:lnTo>
                  <a:pt x="14" y="801"/>
                </a:lnTo>
                <a:lnTo>
                  <a:pt x="7" y="782"/>
                </a:lnTo>
                <a:lnTo>
                  <a:pt x="7" y="763"/>
                </a:lnTo>
                <a:lnTo>
                  <a:pt x="0" y="724"/>
                </a:lnTo>
                <a:lnTo>
                  <a:pt x="0" y="699"/>
                </a:lnTo>
                <a:lnTo>
                  <a:pt x="0" y="679"/>
                </a:lnTo>
                <a:lnTo>
                  <a:pt x="0" y="667"/>
                </a:lnTo>
                <a:lnTo>
                  <a:pt x="0" y="660"/>
                </a:lnTo>
                <a:lnTo>
                  <a:pt x="7" y="628"/>
                </a:lnTo>
                <a:lnTo>
                  <a:pt x="7" y="609"/>
                </a:lnTo>
                <a:lnTo>
                  <a:pt x="14" y="570"/>
                </a:lnTo>
                <a:lnTo>
                  <a:pt x="14" y="552"/>
                </a:lnTo>
                <a:lnTo>
                  <a:pt x="21" y="513"/>
                </a:lnTo>
                <a:lnTo>
                  <a:pt x="21" y="449"/>
                </a:lnTo>
                <a:lnTo>
                  <a:pt x="21" y="417"/>
                </a:lnTo>
                <a:lnTo>
                  <a:pt x="21" y="385"/>
                </a:lnTo>
                <a:lnTo>
                  <a:pt x="21" y="327"/>
                </a:lnTo>
                <a:lnTo>
                  <a:pt x="14" y="301"/>
                </a:lnTo>
                <a:lnTo>
                  <a:pt x="14" y="276"/>
                </a:lnTo>
                <a:lnTo>
                  <a:pt x="21" y="224"/>
                </a:lnTo>
                <a:lnTo>
                  <a:pt x="21" y="199"/>
                </a:lnTo>
                <a:lnTo>
                  <a:pt x="21" y="179"/>
                </a:lnTo>
                <a:lnTo>
                  <a:pt x="21" y="167"/>
                </a:lnTo>
                <a:lnTo>
                  <a:pt x="27" y="141"/>
                </a:lnTo>
                <a:lnTo>
                  <a:pt x="27" y="128"/>
                </a:lnTo>
                <a:lnTo>
                  <a:pt x="21" y="96"/>
                </a:lnTo>
                <a:lnTo>
                  <a:pt x="21" y="70"/>
                </a:lnTo>
                <a:lnTo>
                  <a:pt x="21" y="45"/>
                </a:lnTo>
                <a:lnTo>
                  <a:pt x="21" y="32"/>
                </a:lnTo>
                <a:lnTo>
                  <a:pt x="14" y="32"/>
                </a:lnTo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35280" y="4487760"/>
            <a:ext cx="1857240" cy="1084320"/>
          </a:xfrm>
          <a:custGeom>
            <a:avLst/>
            <a:gdLst/>
            <a:ahLst/>
            <a:rect l="l" t="t" r="r" b="b"/>
            <a:pathLst>
              <a:path w="1207" h="704">
                <a:moveTo>
                  <a:pt x="7" y="0"/>
                </a:moveTo>
                <a:lnTo>
                  <a:pt x="28" y="0"/>
                </a:lnTo>
                <a:lnTo>
                  <a:pt x="69" y="0"/>
                </a:lnTo>
                <a:lnTo>
                  <a:pt x="111" y="0"/>
                </a:lnTo>
                <a:lnTo>
                  <a:pt x="145" y="0"/>
                </a:lnTo>
                <a:lnTo>
                  <a:pt x="179" y="0"/>
                </a:lnTo>
                <a:lnTo>
                  <a:pt x="214" y="0"/>
                </a:lnTo>
                <a:lnTo>
                  <a:pt x="242" y="0"/>
                </a:lnTo>
                <a:lnTo>
                  <a:pt x="269" y="0"/>
                </a:lnTo>
                <a:lnTo>
                  <a:pt x="290" y="0"/>
                </a:lnTo>
                <a:lnTo>
                  <a:pt x="317" y="0"/>
                </a:lnTo>
                <a:lnTo>
                  <a:pt x="331" y="0"/>
                </a:lnTo>
                <a:lnTo>
                  <a:pt x="345" y="0"/>
                </a:lnTo>
                <a:lnTo>
                  <a:pt x="359" y="0"/>
                </a:lnTo>
                <a:lnTo>
                  <a:pt x="372" y="0"/>
                </a:lnTo>
                <a:lnTo>
                  <a:pt x="379" y="0"/>
                </a:lnTo>
                <a:lnTo>
                  <a:pt x="386" y="0"/>
                </a:lnTo>
                <a:lnTo>
                  <a:pt x="393" y="0"/>
                </a:lnTo>
                <a:lnTo>
                  <a:pt x="400" y="0"/>
                </a:lnTo>
                <a:lnTo>
                  <a:pt x="414" y="6"/>
                </a:lnTo>
                <a:lnTo>
                  <a:pt x="420" y="13"/>
                </a:lnTo>
                <a:lnTo>
                  <a:pt x="427" y="19"/>
                </a:lnTo>
                <a:lnTo>
                  <a:pt x="427" y="26"/>
                </a:lnTo>
                <a:lnTo>
                  <a:pt x="441" y="32"/>
                </a:lnTo>
                <a:lnTo>
                  <a:pt x="462" y="45"/>
                </a:lnTo>
                <a:lnTo>
                  <a:pt x="469" y="45"/>
                </a:lnTo>
                <a:lnTo>
                  <a:pt x="490" y="51"/>
                </a:lnTo>
                <a:lnTo>
                  <a:pt x="531" y="58"/>
                </a:lnTo>
                <a:lnTo>
                  <a:pt x="545" y="58"/>
                </a:lnTo>
                <a:lnTo>
                  <a:pt x="565" y="64"/>
                </a:lnTo>
                <a:lnTo>
                  <a:pt x="593" y="64"/>
                </a:lnTo>
                <a:lnTo>
                  <a:pt x="613" y="58"/>
                </a:lnTo>
                <a:lnTo>
                  <a:pt x="620" y="58"/>
                </a:lnTo>
                <a:lnTo>
                  <a:pt x="648" y="51"/>
                </a:lnTo>
                <a:lnTo>
                  <a:pt x="662" y="45"/>
                </a:lnTo>
                <a:lnTo>
                  <a:pt x="668" y="45"/>
                </a:lnTo>
                <a:lnTo>
                  <a:pt x="676" y="38"/>
                </a:lnTo>
                <a:lnTo>
                  <a:pt x="683" y="38"/>
                </a:lnTo>
                <a:lnTo>
                  <a:pt x="696" y="38"/>
                </a:lnTo>
                <a:lnTo>
                  <a:pt x="717" y="38"/>
                </a:lnTo>
                <a:lnTo>
                  <a:pt x="738" y="45"/>
                </a:lnTo>
                <a:lnTo>
                  <a:pt x="744" y="45"/>
                </a:lnTo>
                <a:lnTo>
                  <a:pt x="765" y="51"/>
                </a:lnTo>
                <a:lnTo>
                  <a:pt x="806" y="71"/>
                </a:lnTo>
                <a:lnTo>
                  <a:pt x="827" y="77"/>
                </a:lnTo>
                <a:lnTo>
                  <a:pt x="855" y="90"/>
                </a:lnTo>
                <a:lnTo>
                  <a:pt x="896" y="115"/>
                </a:lnTo>
                <a:lnTo>
                  <a:pt x="910" y="128"/>
                </a:lnTo>
                <a:lnTo>
                  <a:pt x="916" y="134"/>
                </a:lnTo>
                <a:lnTo>
                  <a:pt x="937" y="153"/>
                </a:lnTo>
                <a:lnTo>
                  <a:pt x="951" y="166"/>
                </a:lnTo>
                <a:lnTo>
                  <a:pt x="965" y="179"/>
                </a:lnTo>
                <a:lnTo>
                  <a:pt x="972" y="186"/>
                </a:lnTo>
                <a:lnTo>
                  <a:pt x="979" y="192"/>
                </a:lnTo>
                <a:lnTo>
                  <a:pt x="992" y="205"/>
                </a:lnTo>
                <a:lnTo>
                  <a:pt x="1020" y="218"/>
                </a:lnTo>
                <a:lnTo>
                  <a:pt x="1027" y="218"/>
                </a:lnTo>
                <a:lnTo>
                  <a:pt x="1041" y="224"/>
                </a:lnTo>
                <a:lnTo>
                  <a:pt x="1068" y="230"/>
                </a:lnTo>
                <a:lnTo>
                  <a:pt x="1089" y="243"/>
                </a:lnTo>
                <a:lnTo>
                  <a:pt x="1103" y="256"/>
                </a:lnTo>
                <a:lnTo>
                  <a:pt x="1103" y="262"/>
                </a:lnTo>
                <a:lnTo>
                  <a:pt x="1109" y="275"/>
                </a:lnTo>
                <a:lnTo>
                  <a:pt x="1117" y="288"/>
                </a:lnTo>
                <a:lnTo>
                  <a:pt x="1124" y="307"/>
                </a:lnTo>
                <a:lnTo>
                  <a:pt x="1124" y="320"/>
                </a:lnTo>
                <a:lnTo>
                  <a:pt x="1124" y="326"/>
                </a:lnTo>
                <a:lnTo>
                  <a:pt x="1124" y="333"/>
                </a:lnTo>
                <a:lnTo>
                  <a:pt x="1130" y="352"/>
                </a:lnTo>
                <a:lnTo>
                  <a:pt x="1137" y="371"/>
                </a:lnTo>
                <a:lnTo>
                  <a:pt x="1144" y="390"/>
                </a:lnTo>
                <a:lnTo>
                  <a:pt x="1151" y="396"/>
                </a:lnTo>
                <a:lnTo>
                  <a:pt x="1158" y="403"/>
                </a:lnTo>
                <a:lnTo>
                  <a:pt x="1172" y="422"/>
                </a:lnTo>
                <a:lnTo>
                  <a:pt x="1185" y="448"/>
                </a:lnTo>
                <a:lnTo>
                  <a:pt x="1192" y="460"/>
                </a:lnTo>
                <a:lnTo>
                  <a:pt x="1192" y="467"/>
                </a:lnTo>
                <a:lnTo>
                  <a:pt x="1192" y="473"/>
                </a:lnTo>
                <a:lnTo>
                  <a:pt x="1199" y="498"/>
                </a:lnTo>
                <a:lnTo>
                  <a:pt x="1199" y="524"/>
                </a:lnTo>
                <a:lnTo>
                  <a:pt x="1199" y="556"/>
                </a:lnTo>
                <a:lnTo>
                  <a:pt x="1199" y="569"/>
                </a:lnTo>
                <a:lnTo>
                  <a:pt x="1199" y="575"/>
                </a:lnTo>
                <a:lnTo>
                  <a:pt x="1199" y="588"/>
                </a:lnTo>
                <a:lnTo>
                  <a:pt x="1199" y="607"/>
                </a:lnTo>
                <a:lnTo>
                  <a:pt x="1199" y="613"/>
                </a:lnTo>
                <a:lnTo>
                  <a:pt x="1199" y="626"/>
                </a:lnTo>
                <a:lnTo>
                  <a:pt x="1199" y="639"/>
                </a:lnTo>
                <a:lnTo>
                  <a:pt x="1199" y="646"/>
                </a:lnTo>
                <a:lnTo>
                  <a:pt x="1199" y="652"/>
                </a:lnTo>
                <a:lnTo>
                  <a:pt x="1206" y="665"/>
                </a:lnTo>
                <a:lnTo>
                  <a:pt x="1206" y="678"/>
                </a:lnTo>
                <a:lnTo>
                  <a:pt x="1206" y="684"/>
                </a:lnTo>
                <a:lnTo>
                  <a:pt x="1206" y="690"/>
                </a:lnTo>
                <a:lnTo>
                  <a:pt x="1192" y="697"/>
                </a:lnTo>
                <a:lnTo>
                  <a:pt x="1179" y="697"/>
                </a:lnTo>
                <a:lnTo>
                  <a:pt x="1151" y="703"/>
                </a:lnTo>
                <a:lnTo>
                  <a:pt x="1130" y="703"/>
                </a:lnTo>
                <a:lnTo>
                  <a:pt x="1109" y="703"/>
                </a:lnTo>
                <a:lnTo>
                  <a:pt x="1096" y="703"/>
                </a:lnTo>
                <a:lnTo>
                  <a:pt x="1041" y="703"/>
                </a:lnTo>
                <a:lnTo>
                  <a:pt x="924" y="703"/>
                </a:lnTo>
                <a:lnTo>
                  <a:pt x="861" y="697"/>
                </a:lnTo>
                <a:lnTo>
                  <a:pt x="834" y="697"/>
                </a:lnTo>
                <a:lnTo>
                  <a:pt x="786" y="697"/>
                </a:lnTo>
                <a:lnTo>
                  <a:pt x="744" y="697"/>
                </a:lnTo>
                <a:lnTo>
                  <a:pt x="710" y="697"/>
                </a:lnTo>
                <a:lnTo>
                  <a:pt x="696" y="697"/>
                </a:lnTo>
                <a:lnTo>
                  <a:pt x="689" y="697"/>
                </a:lnTo>
                <a:lnTo>
                  <a:pt x="676" y="697"/>
                </a:lnTo>
                <a:lnTo>
                  <a:pt x="641" y="703"/>
                </a:lnTo>
                <a:lnTo>
                  <a:pt x="613" y="703"/>
                </a:lnTo>
                <a:lnTo>
                  <a:pt x="586" y="703"/>
                </a:lnTo>
                <a:lnTo>
                  <a:pt x="545" y="703"/>
                </a:lnTo>
                <a:lnTo>
                  <a:pt x="503" y="703"/>
                </a:lnTo>
                <a:lnTo>
                  <a:pt x="462" y="703"/>
                </a:lnTo>
                <a:lnTo>
                  <a:pt x="435" y="703"/>
                </a:lnTo>
                <a:lnTo>
                  <a:pt x="407" y="703"/>
                </a:lnTo>
                <a:lnTo>
                  <a:pt x="365" y="703"/>
                </a:lnTo>
                <a:lnTo>
                  <a:pt x="324" y="703"/>
                </a:lnTo>
                <a:lnTo>
                  <a:pt x="283" y="703"/>
                </a:lnTo>
                <a:lnTo>
                  <a:pt x="242" y="703"/>
                </a:lnTo>
                <a:lnTo>
                  <a:pt x="207" y="703"/>
                </a:lnTo>
                <a:lnTo>
                  <a:pt x="172" y="697"/>
                </a:lnTo>
                <a:lnTo>
                  <a:pt x="138" y="697"/>
                </a:lnTo>
                <a:lnTo>
                  <a:pt x="131" y="697"/>
                </a:lnTo>
                <a:lnTo>
                  <a:pt x="124" y="697"/>
                </a:lnTo>
                <a:lnTo>
                  <a:pt x="104" y="697"/>
                </a:lnTo>
                <a:lnTo>
                  <a:pt x="76" y="690"/>
                </a:lnTo>
                <a:lnTo>
                  <a:pt x="62" y="690"/>
                </a:lnTo>
                <a:lnTo>
                  <a:pt x="49" y="690"/>
                </a:lnTo>
                <a:lnTo>
                  <a:pt x="41" y="690"/>
                </a:lnTo>
                <a:lnTo>
                  <a:pt x="28" y="684"/>
                </a:lnTo>
                <a:lnTo>
                  <a:pt x="21" y="684"/>
                </a:lnTo>
                <a:lnTo>
                  <a:pt x="14" y="684"/>
                </a:lnTo>
                <a:lnTo>
                  <a:pt x="7" y="665"/>
                </a:lnTo>
                <a:lnTo>
                  <a:pt x="7" y="652"/>
                </a:lnTo>
                <a:lnTo>
                  <a:pt x="7" y="639"/>
                </a:lnTo>
                <a:lnTo>
                  <a:pt x="7" y="626"/>
                </a:lnTo>
                <a:lnTo>
                  <a:pt x="7" y="601"/>
                </a:lnTo>
                <a:lnTo>
                  <a:pt x="7" y="569"/>
                </a:lnTo>
                <a:lnTo>
                  <a:pt x="0" y="531"/>
                </a:lnTo>
                <a:lnTo>
                  <a:pt x="0" y="511"/>
                </a:lnTo>
                <a:lnTo>
                  <a:pt x="0" y="492"/>
                </a:lnTo>
                <a:lnTo>
                  <a:pt x="0" y="454"/>
                </a:lnTo>
                <a:lnTo>
                  <a:pt x="0" y="422"/>
                </a:lnTo>
                <a:lnTo>
                  <a:pt x="7" y="390"/>
                </a:lnTo>
                <a:lnTo>
                  <a:pt x="7" y="383"/>
                </a:lnTo>
                <a:lnTo>
                  <a:pt x="7" y="364"/>
                </a:lnTo>
                <a:lnTo>
                  <a:pt x="7" y="313"/>
                </a:lnTo>
                <a:lnTo>
                  <a:pt x="7" y="288"/>
                </a:lnTo>
                <a:lnTo>
                  <a:pt x="7" y="281"/>
                </a:lnTo>
                <a:lnTo>
                  <a:pt x="7" y="268"/>
                </a:lnTo>
                <a:lnTo>
                  <a:pt x="7" y="249"/>
                </a:lnTo>
                <a:lnTo>
                  <a:pt x="7" y="230"/>
                </a:lnTo>
                <a:lnTo>
                  <a:pt x="7" y="211"/>
                </a:lnTo>
                <a:lnTo>
                  <a:pt x="7" y="186"/>
                </a:lnTo>
                <a:lnTo>
                  <a:pt x="0" y="153"/>
                </a:lnTo>
                <a:lnTo>
                  <a:pt x="0" y="128"/>
                </a:lnTo>
                <a:lnTo>
                  <a:pt x="0" y="115"/>
                </a:lnTo>
                <a:lnTo>
                  <a:pt x="0" y="103"/>
                </a:lnTo>
                <a:lnTo>
                  <a:pt x="0" y="77"/>
                </a:lnTo>
                <a:lnTo>
                  <a:pt x="0" y="58"/>
                </a:lnTo>
                <a:lnTo>
                  <a:pt x="0" y="38"/>
                </a:lnTo>
                <a:lnTo>
                  <a:pt x="0" y="26"/>
                </a:lnTo>
                <a:lnTo>
                  <a:pt x="0" y="13"/>
                </a:lnTo>
                <a:lnTo>
                  <a:pt x="7" y="0"/>
                </a:lnTo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824120" y="4997520"/>
            <a:ext cx="1643040" cy="587160"/>
          </a:xfrm>
          <a:custGeom>
            <a:avLst/>
            <a:gdLst/>
            <a:ahLst/>
            <a:rect l="l" t="t" r="r" b="b"/>
            <a:pathLst>
              <a:path w="1068" h="382">
                <a:moveTo>
                  <a:pt x="7" y="0"/>
                </a:moveTo>
                <a:lnTo>
                  <a:pt x="21" y="6"/>
                </a:lnTo>
                <a:lnTo>
                  <a:pt x="49" y="13"/>
                </a:lnTo>
                <a:lnTo>
                  <a:pt x="69" y="19"/>
                </a:lnTo>
                <a:lnTo>
                  <a:pt x="83" y="19"/>
                </a:lnTo>
                <a:lnTo>
                  <a:pt x="90" y="19"/>
                </a:lnTo>
                <a:lnTo>
                  <a:pt x="96" y="19"/>
                </a:lnTo>
                <a:lnTo>
                  <a:pt x="131" y="13"/>
                </a:lnTo>
                <a:lnTo>
                  <a:pt x="145" y="13"/>
                </a:lnTo>
                <a:lnTo>
                  <a:pt x="166" y="13"/>
                </a:lnTo>
                <a:lnTo>
                  <a:pt x="214" y="19"/>
                </a:lnTo>
                <a:lnTo>
                  <a:pt x="234" y="25"/>
                </a:lnTo>
                <a:lnTo>
                  <a:pt x="248" y="32"/>
                </a:lnTo>
                <a:lnTo>
                  <a:pt x="262" y="38"/>
                </a:lnTo>
                <a:lnTo>
                  <a:pt x="283" y="45"/>
                </a:lnTo>
                <a:lnTo>
                  <a:pt x="303" y="57"/>
                </a:lnTo>
                <a:lnTo>
                  <a:pt x="310" y="57"/>
                </a:lnTo>
                <a:lnTo>
                  <a:pt x="324" y="70"/>
                </a:lnTo>
                <a:lnTo>
                  <a:pt x="358" y="83"/>
                </a:lnTo>
                <a:lnTo>
                  <a:pt x="372" y="83"/>
                </a:lnTo>
                <a:lnTo>
                  <a:pt x="393" y="89"/>
                </a:lnTo>
                <a:lnTo>
                  <a:pt x="420" y="95"/>
                </a:lnTo>
                <a:lnTo>
                  <a:pt x="427" y="95"/>
                </a:lnTo>
                <a:lnTo>
                  <a:pt x="434" y="95"/>
                </a:lnTo>
                <a:lnTo>
                  <a:pt x="455" y="101"/>
                </a:lnTo>
                <a:lnTo>
                  <a:pt x="475" y="101"/>
                </a:lnTo>
                <a:lnTo>
                  <a:pt x="496" y="101"/>
                </a:lnTo>
                <a:lnTo>
                  <a:pt x="510" y="101"/>
                </a:lnTo>
                <a:lnTo>
                  <a:pt x="523" y="101"/>
                </a:lnTo>
                <a:lnTo>
                  <a:pt x="551" y="101"/>
                </a:lnTo>
                <a:lnTo>
                  <a:pt x="578" y="108"/>
                </a:lnTo>
                <a:lnTo>
                  <a:pt x="599" y="114"/>
                </a:lnTo>
                <a:lnTo>
                  <a:pt x="613" y="121"/>
                </a:lnTo>
                <a:lnTo>
                  <a:pt x="633" y="133"/>
                </a:lnTo>
                <a:lnTo>
                  <a:pt x="675" y="146"/>
                </a:lnTo>
                <a:lnTo>
                  <a:pt x="696" y="146"/>
                </a:lnTo>
                <a:lnTo>
                  <a:pt x="709" y="146"/>
                </a:lnTo>
                <a:lnTo>
                  <a:pt x="737" y="146"/>
                </a:lnTo>
                <a:lnTo>
                  <a:pt x="764" y="140"/>
                </a:lnTo>
                <a:lnTo>
                  <a:pt x="785" y="133"/>
                </a:lnTo>
                <a:lnTo>
                  <a:pt x="792" y="127"/>
                </a:lnTo>
                <a:lnTo>
                  <a:pt x="806" y="121"/>
                </a:lnTo>
                <a:lnTo>
                  <a:pt x="826" y="121"/>
                </a:lnTo>
                <a:lnTo>
                  <a:pt x="847" y="121"/>
                </a:lnTo>
                <a:lnTo>
                  <a:pt x="868" y="127"/>
                </a:lnTo>
                <a:lnTo>
                  <a:pt x="875" y="133"/>
                </a:lnTo>
                <a:lnTo>
                  <a:pt x="895" y="146"/>
                </a:lnTo>
                <a:lnTo>
                  <a:pt x="930" y="165"/>
                </a:lnTo>
                <a:lnTo>
                  <a:pt x="950" y="171"/>
                </a:lnTo>
                <a:lnTo>
                  <a:pt x="971" y="184"/>
                </a:lnTo>
                <a:lnTo>
                  <a:pt x="998" y="197"/>
                </a:lnTo>
                <a:lnTo>
                  <a:pt x="1005" y="197"/>
                </a:lnTo>
                <a:lnTo>
                  <a:pt x="1012" y="203"/>
                </a:lnTo>
                <a:lnTo>
                  <a:pt x="1026" y="209"/>
                </a:lnTo>
                <a:lnTo>
                  <a:pt x="1026" y="216"/>
                </a:lnTo>
                <a:lnTo>
                  <a:pt x="1040" y="235"/>
                </a:lnTo>
                <a:lnTo>
                  <a:pt x="1040" y="241"/>
                </a:lnTo>
                <a:lnTo>
                  <a:pt x="1047" y="260"/>
                </a:lnTo>
                <a:lnTo>
                  <a:pt x="1053" y="298"/>
                </a:lnTo>
                <a:lnTo>
                  <a:pt x="1053" y="311"/>
                </a:lnTo>
                <a:lnTo>
                  <a:pt x="1053" y="318"/>
                </a:lnTo>
                <a:lnTo>
                  <a:pt x="1060" y="336"/>
                </a:lnTo>
                <a:lnTo>
                  <a:pt x="1060" y="343"/>
                </a:lnTo>
                <a:lnTo>
                  <a:pt x="1067" y="356"/>
                </a:lnTo>
                <a:lnTo>
                  <a:pt x="1060" y="362"/>
                </a:lnTo>
                <a:lnTo>
                  <a:pt x="1053" y="362"/>
                </a:lnTo>
                <a:lnTo>
                  <a:pt x="1040" y="362"/>
                </a:lnTo>
                <a:lnTo>
                  <a:pt x="1026" y="362"/>
                </a:lnTo>
                <a:lnTo>
                  <a:pt x="1012" y="362"/>
                </a:lnTo>
                <a:lnTo>
                  <a:pt x="985" y="368"/>
                </a:lnTo>
                <a:lnTo>
                  <a:pt x="964" y="368"/>
                </a:lnTo>
                <a:lnTo>
                  <a:pt x="943" y="368"/>
                </a:lnTo>
                <a:lnTo>
                  <a:pt x="916" y="368"/>
                </a:lnTo>
                <a:lnTo>
                  <a:pt x="895" y="368"/>
                </a:lnTo>
                <a:lnTo>
                  <a:pt x="861" y="368"/>
                </a:lnTo>
                <a:lnTo>
                  <a:pt x="833" y="368"/>
                </a:lnTo>
                <a:lnTo>
                  <a:pt x="806" y="368"/>
                </a:lnTo>
                <a:lnTo>
                  <a:pt x="785" y="368"/>
                </a:lnTo>
                <a:lnTo>
                  <a:pt x="751" y="368"/>
                </a:lnTo>
                <a:lnTo>
                  <a:pt x="688" y="368"/>
                </a:lnTo>
                <a:lnTo>
                  <a:pt x="627" y="368"/>
                </a:lnTo>
                <a:lnTo>
                  <a:pt x="565" y="375"/>
                </a:lnTo>
                <a:lnTo>
                  <a:pt x="531" y="375"/>
                </a:lnTo>
                <a:lnTo>
                  <a:pt x="482" y="368"/>
                </a:lnTo>
                <a:lnTo>
                  <a:pt x="448" y="368"/>
                </a:lnTo>
                <a:lnTo>
                  <a:pt x="420" y="368"/>
                </a:lnTo>
                <a:lnTo>
                  <a:pt x="413" y="368"/>
                </a:lnTo>
                <a:lnTo>
                  <a:pt x="372" y="368"/>
                </a:lnTo>
                <a:lnTo>
                  <a:pt x="283" y="375"/>
                </a:lnTo>
                <a:lnTo>
                  <a:pt x="234" y="375"/>
                </a:lnTo>
                <a:lnTo>
                  <a:pt x="214" y="375"/>
                </a:lnTo>
                <a:lnTo>
                  <a:pt x="166" y="381"/>
                </a:lnTo>
                <a:lnTo>
                  <a:pt x="138" y="381"/>
                </a:lnTo>
                <a:lnTo>
                  <a:pt x="96" y="375"/>
                </a:lnTo>
                <a:lnTo>
                  <a:pt x="83" y="375"/>
                </a:lnTo>
                <a:lnTo>
                  <a:pt x="69" y="375"/>
                </a:lnTo>
                <a:lnTo>
                  <a:pt x="49" y="375"/>
                </a:lnTo>
                <a:lnTo>
                  <a:pt x="34" y="368"/>
                </a:lnTo>
                <a:lnTo>
                  <a:pt x="21" y="362"/>
                </a:lnTo>
                <a:lnTo>
                  <a:pt x="14" y="356"/>
                </a:lnTo>
                <a:lnTo>
                  <a:pt x="14" y="349"/>
                </a:lnTo>
                <a:lnTo>
                  <a:pt x="7" y="330"/>
                </a:lnTo>
                <a:lnTo>
                  <a:pt x="7" y="318"/>
                </a:lnTo>
                <a:lnTo>
                  <a:pt x="7" y="305"/>
                </a:lnTo>
                <a:lnTo>
                  <a:pt x="7" y="285"/>
                </a:lnTo>
                <a:lnTo>
                  <a:pt x="7" y="260"/>
                </a:lnTo>
                <a:lnTo>
                  <a:pt x="7" y="241"/>
                </a:lnTo>
                <a:lnTo>
                  <a:pt x="7" y="229"/>
                </a:lnTo>
                <a:lnTo>
                  <a:pt x="7" y="216"/>
                </a:lnTo>
                <a:lnTo>
                  <a:pt x="7" y="197"/>
                </a:lnTo>
                <a:lnTo>
                  <a:pt x="7" y="178"/>
                </a:lnTo>
                <a:lnTo>
                  <a:pt x="7" y="159"/>
                </a:lnTo>
                <a:lnTo>
                  <a:pt x="7" y="140"/>
                </a:lnTo>
                <a:lnTo>
                  <a:pt x="7" y="127"/>
                </a:lnTo>
                <a:lnTo>
                  <a:pt x="0" y="108"/>
                </a:lnTo>
                <a:lnTo>
                  <a:pt x="0" y="95"/>
                </a:lnTo>
                <a:lnTo>
                  <a:pt x="0" y="89"/>
                </a:lnTo>
                <a:lnTo>
                  <a:pt x="0" y="70"/>
                </a:lnTo>
                <a:lnTo>
                  <a:pt x="0" y="45"/>
                </a:lnTo>
                <a:lnTo>
                  <a:pt x="7" y="19"/>
                </a:lnTo>
                <a:lnTo>
                  <a:pt x="7" y="6"/>
                </a:lnTo>
                <a:lnTo>
                  <a:pt x="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4680" y="3770280"/>
            <a:ext cx="1809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4680" y="4675320"/>
            <a:ext cx="1809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17880" y="5600880"/>
            <a:ext cx="1809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51400" y="5600880"/>
            <a:ext cx="18079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62480" y="3392640"/>
            <a:ext cx="156960" cy="1569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98760" y="3286080"/>
            <a:ext cx="17416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  Optimiz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614760" y="4591080"/>
            <a:ext cx="155520" cy="15552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52840" y="4495680"/>
            <a:ext cx="1440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  Manag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68560" y="3921120"/>
            <a:ext cx="155520" cy="15732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19240" y="3822840"/>
            <a:ext cx="14288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  Defi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43000" y="4765680"/>
            <a:ext cx="155520" cy="15552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3040" y="5200560"/>
            <a:ext cx="153720" cy="157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54360" y="5102280"/>
            <a:ext cx="12427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 Ini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78200" y="4668840"/>
            <a:ext cx="18586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 Repea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30400" y="5324400"/>
            <a:ext cx="119376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ust do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21240" y="3530520"/>
            <a:ext cx="14763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tinuously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proving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43280" y="4729320"/>
            <a:ext cx="1193760" cy="3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tatistical “control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33480" y="3016080"/>
            <a:ext cx="0" cy="2579760"/>
          </a:xfrm>
          <a:prstGeom prst="line">
            <a:avLst/>
          </a:prstGeom>
          <a:ln w="7632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12960" y="5572080"/>
            <a:ext cx="30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58960" y="4216320"/>
            <a:ext cx="295596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300" spc="-1" strike="noStrike">
                <a:solidFill>
                  <a:srgbClr val="919191"/>
                </a:solidFill>
                <a:latin typeface="Arial"/>
              </a:rPr>
              <a:t>...........................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20920" y="3252960"/>
            <a:ext cx="2858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3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2300" spc="-1" strike="noStrike">
                <a:solidFill>
                  <a:srgbClr val="919191"/>
                </a:solidFill>
                <a:latin typeface="Arial"/>
              </a:rPr>
              <a:t>..................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11480" y="4051440"/>
            <a:ext cx="21049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Organizational asse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2160" y="4898880"/>
            <a:ext cx="21178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ject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FA51-F96E-4285-9C28-B57D35C785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The CMM’s Key Process Areas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02" name=""/>
          <p:cNvSpPr/>
          <p:nvPr/>
        </p:nvSpPr>
        <p:spPr>
          <a:xfrm>
            <a:off x="7839000" y="1835280"/>
            <a:ext cx="1046160" cy="441936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000000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19840" y="2724120"/>
            <a:ext cx="12654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80320" y="1936800"/>
            <a:ext cx="1204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854840" y="5888160"/>
            <a:ext cx="8478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97920" y="5727600"/>
            <a:ext cx="9334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20600" y="1476360"/>
            <a:ext cx="6807240" cy="3268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35160" y="1835280"/>
            <a:ext cx="6588000" cy="44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20600" y="1812960"/>
            <a:ext cx="6810480" cy="444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544120" y="5892840"/>
            <a:ext cx="2966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Competent people and hero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00480" y="1852560"/>
            <a:ext cx="3218040" cy="8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ect Preven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y Chang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 Chang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9840" y="244440"/>
            <a:ext cx="3122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602800" y="1820880"/>
            <a:ext cx="12888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Continuou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605680" y="2009880"/>
            <a:ext cx="965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99920" y="2198520"/>
            <a:ext cx="13770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improv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577960" y="2570040"/>
            <a:ext cx="1343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duct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572560" y="2759040"/>
            <a:ext cx="15814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79040" y="3114720"/>
            <a:ext cx="1333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Engineering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72920" y="3303720"/>
            <a:ext cx="15706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es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74720" y="3494160"/>
            <a:ext cx="15264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organizationa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85880" y="3683160"/>
            <a:ext cx="888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84800" y="4613400"/>
            <a:ext cx="8802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jec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880" y="4803840"/>
            <a:ext cx="1409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managemen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580480" y="4992840"/>
            <a:ext cx="11257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02280" y="2570040"/>
            <a:ext cx="33004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Quantitative Process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09840" y="2759040"/>
            <a:ext cx="29055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Quality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205160" y="3122640"/>
            <a:ext cx="2756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ganization Process Foc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99760" y="3311640"/>
            <a:ext cx="307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ganization Process Defin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22440" y="3502080"/>
            <a:ext cx="17672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raining Progr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97960" y="3691080"/>
            <a:ext cx="3181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ated Software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04440" y="3879720"/>
            <a:ext cx="2911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Product Engineer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13800" y="4068720"/>
            <a:ext cx="236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group Coordin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226400" y="4259160"/>
            <a:ext cx="14122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er Re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06240" y="4560840"/>
            <a:ext cx="2671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quirements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09480" y="4773600"/>
            <a:ext cx="2543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Project Plann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88960" y="4975200"/>
            <a:ext cx="3670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Project Tracking &amp; Oversigh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95440" y="5189400"/>
            <a:ext cx="33706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Subcontract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2200" y="5354640"/>
            <a:ext cx="2716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93640" y="5567400"/>
            <a:ext cx="35060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08200" y="1479600"/>
            <a:ext cx="0" cy="477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89320" y="1479600"/>
            <a:ext cx="0" cy="437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15920" y="2489040"/>
            <a:ext cx="6834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11240" y="4557600"/>
            <a:ext cx="6826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22400" y="5851440"/>
            <a:ext cx="681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15920" y="3095640"/>
            <a:ext cx="6821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3560" y="1487520"/>
            <a:ext cx="6685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656440" y="1487520"/>
            <a:ext cx="7401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17040" y="1487520"/>
            <a:ext cx="19119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ey Process Are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455480" y="5896080"/>
            <a:ext cx="654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11560" y="2004840"/>
            <a:ext cx="1139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ptimiz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57400" y="5897520"/>
            <a:ext cx="1230120" cy="282240"/>
            <a:chOff x="1157400" y="5897520"/>
            <a:chExt cx="1230120" cy="282240"/>
          </a:xfrm>
        </p:grpSpPr>
        <p:sp>
          <p:nvSpPr>
            <p:cNvPr id="352" name=""/>
            <p:cNvSpPr/>
            <p:nvPr/>
          </p:nvSpPr>
          <p:spPr>
            <a:xfrm>
              <a:off x="1169280" y="5897520"/>
              <a:ext cx="28296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57400" y="5958720"/>
              <a:ext cx="1230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156320" y="4621320"/>
            <a:ext cx="1449720" cy="303480"/>
            <a:chOff x="1156320" y="4621320"/>
            <a:chExt cx="1449720" cy="303480"/>
          </a:xfrm>
        </p:grpSpPr>
        <p:sp>
          <p:nvSpPr>
            <p:cNvPr id="355" name=""/>
            <p:cNvSpPr/>
            <p:nvPr/>
          </p:nvSpPr>
          <p:spPr>
            <a:xfrm>
              <a:off x="1436760" y="4621320"/>
              <a:ext cx="11692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epeata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56320" y="4641480"/>
              <a:ext cx="283320" cy="28260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080" bIns="37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4680" y="4702680"/>
              <a:ext cx="2700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144440" y="3206880"/>
            <a:ext cx="1236960" cy="286920"/>
            <a:chOff x="1144440" y="3206880"/>
            <a:chExt cx="1236960" cy="286920"/>
          </a:xfrm>
        </p:grpSpPr>
        <p:sp>
          <p:nvSpPr>
            <p:cNvPr id="359" name=""/>
            <p:cNvSpPr/>
            <p:nvPr/>
          </p:nvSpPr>
          <p:spPr>
            <a:xfrm>
              <a:off x="1156320" y="3206880"/>
              <a:ext cx="283320" cy="28404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44440" y="3274560"/>
              <a:ext cx="1236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150200" y="2641680"/>
            <a:ext cx="1266840" cy="312840"/>
            <a:chOff x="1150200" y="2641680"/>
            <a:chExt cx="1266840" cy="312840"/>
          </a:xfrm>
        </p:grpSpPr>
        <p:sp>
          <p:nvSpPr>
            <p:cNvPr id="362" name=""/>
            <p:cNvSpPr/>
            <p:nvPr/>
          </p:nvSpPr>
          <p:spPr>
            <a:xfrm>
              <a:off x="1441440" y="2651040"/>
              <a:ext cx="975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nage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50200" y="2641680"/>
              <a:ext cx="283320" cy="28296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080" bIns="370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35760" y="2715480"/>
              <a:ext cx="448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520" rIns="74520" tIns="37440" bIns="374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4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157400" y="2000160"/>
            <a:ext cx="282600" cy="284400"/>
          </a:xfrm>
          <a:prstGeom prst="ellipse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31840" y="2075040"/>
            <a:ext cx="12430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spAutoFit/>
          </a:bodyPr>
          <a:p>
            <a:pPr>
              <a:lnSpc>
                <a:spcPct val="50000"/>
              </a:lnSpc>
              <a:spcBef>
                <a:spcPts val="1063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5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0720" y="3197160"/>
            <a:ext cx="854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802640" y="2295000"/>
            <a:ext cx="1114200" cy="3427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A39-0578-4AD3-BCC5-3B57665493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 flipV="1">
            <a:off x="4830840" y="1668240"/>
            <a:ext cx="0" cy="40021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861240" y="1655280"/>
            <a:ext cx="0" cy="400212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55800" y="4386240"/>
            <a:ext cx="7308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26160" y="3656160"/>
            <a:ext cx="7272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Predictability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374" name=""/>
          <p:cNvSpPr/>
          <p:nvPr/>
        </p:nvSpPr>
        <p:spPr>
          <a:xfrm>
            <a:off x="2471400" y="5370480"/>
            <a:ext cx="21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6560" y="5815080"/>
            <a:ext cx="772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21200" y="5815080"/>
            <a:ext cx="1365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41520" y="5802480"/>
            <a:ext cx="100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15920" y="1677960"/>
            <a:ext cx="1312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 Reporting “Excellent” or “G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181240" y="52401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81240" y="43257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81240" y="34257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81240" y="252576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55560" y="2379600"/>
            <a:ext cx="179676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bility 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et schedule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937560" y="3000240"/>
            <a:ext cx="1496520" cy="5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bility to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eet budg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7925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764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6244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56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352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1948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051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926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76520" y="354492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622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4968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3536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196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0528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924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784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16232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4980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3548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41972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054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925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6782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6244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356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1984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10552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192640" y="354492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2783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625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4824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357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62140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0564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9132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8784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62680" y="354492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483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358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2152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30540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91440" y="354492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7856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642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4848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734160" y="354492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21640" y="354492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2800440" y="1665000"/>
            <a:ext cx="0" cy="405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33840" y="5716440"/>
            <a:ext cx="11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2733840" y="5345280"/>
            <a:ext cx="4114440" cy="0"/>
            <a:chOff x="2733840" y="5345280"/>
            <a:chExt cx="4114440" cy="0"/>
          </a:xfrm>
        </p:grpSpPr>
        <p:sp>
          <p:nvSpPr>
            <p:cNvPr id="436" name=""/>
            <p:cNvSpPr/>
            <p:nvPr/>
          </p:nvSpPr>
          <p:spPr>
            <a:xfrm>
              <a:off x="27921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87676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628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884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3524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1984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058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9192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4765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629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489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350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196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0564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920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7808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6268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4908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3512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4197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0576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918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782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280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84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3488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94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058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919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779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6256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486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5346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6210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70564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792040" y="5345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7808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623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4872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3476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2080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30540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9144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47784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63880" y="534528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484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4880" y="534528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20920" y="534528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33840" y="534528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33840" y="4902120"/>
            <a:ext cx="4114440" cy="0"/>
            <a:chOff x="2733840" y="4902120"/>
            <a:chExt cx="4114440" cy="0"/>
          </a:xfrm>
        </p:grpSpPr>
        <p:sp>
          <p:nvSpPr>
            <p:cNvPr id="486" name=""/>
            <p:cNvSpPr/>
            <p:nvPr/>
          </p:nvSpPr>
          <p:spPr>
            <a:xfrm>
              <a:off x="27921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7676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628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884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3524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1984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058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9192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765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629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489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350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8196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90564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920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7808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6268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4908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3512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197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0576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918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782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6280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8484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3488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94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058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919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779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6256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486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346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210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564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92040" y="4902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7808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623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4872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3476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2080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30540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9144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47784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63880" y="49021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484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34880" y="49021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20920" y="49021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33840" y="49021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2733840" y="4444920"/>
            <a:ext cx="4114440" cy="0"/>
            <a:chOff x="2733840" y="4444920"/>
            <a:chExt cx="4114440" cy="0"/>
          </a:xfrm>
        </p:grpSpPr>
        <p:sp>
          <p:nvSpPr>
            <p:cNvPr id="536" name=""/>
            <p:cNvSpPr/>
            <p:nvPr/>
          </p:nvSpPr>
          <p:spPr>
            <a:xfrm>
              <a:off x="27921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87676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628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04884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13524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21984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3058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9192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765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629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489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350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196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0564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20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07808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16268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4908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3512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197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0576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918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782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6280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484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3488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194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058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919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779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6256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486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346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210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70564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92040" y="4444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808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623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04872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3476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2080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30540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9144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7784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63880" y="44449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484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34880" y="44449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20920" y="44449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33840" y="44449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733840" y="3987720"/>
            <a:ext cx="4114440" cy="0"/>
            <a:chOff x="2733840" y="3987720"/>
            <a:chExt cx="4114440" cy="0"/>
          </a:xfrm>
        </p:grpSpPr>
        <p:sp>
          <p:nvSpPr>
            <p:cNvPr id="586" name=""/>
            <p:cNvSpPr/>
            <p:nvPr/>
          </p:nvSpPr>
          <p:spPr>
            <a:xfrm>
              <a:off x="27921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87676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628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884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3524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1984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3058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39192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765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629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489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350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196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0564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920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7808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16268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24908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3512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4197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50576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18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6782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76280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84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93488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0194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058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1919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2779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6256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4486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346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210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0564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92040" y="39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7808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623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4872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3476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080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0540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39144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7784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63880" y="39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6484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34880" y="39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20920" y="39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733840" y="39877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733840" y="3544920"/>
            <a:ext cx="11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2733840" y="3087720"/>
            <a:ext cx="4114440" cy="0"/>
            <a:chOff x="2733840" y="3087720"/>
            <a:chExt cx="4114440" cy="0"/>
          </a:xfrm>
        </p:grpSpPr>
        <p:sp>
          <p:nvSpPr>
            <p:cNvPr id="637" name=""/>
            <p:cNvSpPr/>
            <p:nvPr/>
          </p:nvSpPr>
          <p:spPr>
            <a:xfrm>
              <a:off x="27921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7676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628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04884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3524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1984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3058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39192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765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629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489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350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8196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90564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9920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7808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16268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4908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3512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4197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0576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918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6782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6280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484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3488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94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058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919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2779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6256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486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346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210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70564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792040" y="30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7808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623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04872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13476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22080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0540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9144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7784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563880" y="30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6484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34880" y="30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20920" y="30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3840" y="30877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733840" y="2630520"/>
            <a:ext cx="4114440" cy="0"/>
            <a:chOff x="2733840" y="2630520"/>
            <a:chExt cx="4114440" cy="0"/>
          </a:xfrm>
        </p:grpSpPr>
        <p:sp>
          <p:nvSpPr>
            <p:cNvPr id="687" name=""/>
            <p:cNvSpPr/>
            <p:nvPr/>
          </p:nvSpPr>
          <p:spPr>
            <a:xfrm>
              <a:off x="27921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7676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628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4884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13524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21984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058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39192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4765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629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6489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350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196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90564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9920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7808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16268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24908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33512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4197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50576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918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782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6280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484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93488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0194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1058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1919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779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36256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486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346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210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0564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2040" y="26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87808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9623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04872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13476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2080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0540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39144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47784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63880" y="26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484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734880" y="26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20920" y="26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33840" y="26305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2733840" y="2187720"/>
            <a:ext cx="4114440" cy="0"/>
            <a:chOff x="2733840" y="2187720"/>
            <a:chExt cx="4114440" cy="0"/>
          </a:xfrm>
        </p:grpSpPr>
        <p:sp>
          <p:nvSpPr>
            <p:cNvPr id="737" name=""/>
            <p:cNvSpPr/>
            <p:nvPr/>
          </p:nvSpPr>
          <p:spPr>
            <a:xfrm>
              <a:off x="27921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87676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9628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4884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3524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1984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058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39192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765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629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489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350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196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90564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920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7808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6268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4908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33512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4197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0576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918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6782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76280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8484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3488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0194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58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919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779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36256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486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346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210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0564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792040" y="2187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87808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9623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04872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3476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2080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0540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9144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7784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63880" y="21877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484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34880" y="21877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20920" y="21877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733840" y="21877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/>
          <p:cNvSpPr/>
          <p:nvPr/>
        </p:nvSpPr>
        <p:spPr>
          <a:xfrm>
            <a:off x="2792520" y="5716440"/>
            <a:ext cx="405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2800440" y="5651640"/>
            <a:ext cx="0" cy="5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829040" y="5651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6856560" y="565128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819520" y="2590920"/>
            <a:ext cx="4057560" cy="1815840"/>
          </a:xfrm>
          <a:custGeom>
            <a:avLst/>
            <a:gdLst/>
            <a:ahLst/>
            <a:rect l="l" t="t" r="r" b="b"/>
            <a:pathLst>
              <a:path w="2638" h="1180">
                <a:moveTo>
                  <a:pt x="0" y="1179"/>
                </a:moveTo>
                <a:lnTo>
                  <a:pt x="1319" y="706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792520" y="3206880"/>
            <a:ext cx="4057560" cy="1189080"/>
          </a:xfrm>
          <a:custGeom>
            <a:avLst/>
            <a:gdLst/>
            <a:ahLst/>
            <a:rect l="l" t="t" r="r" b="b"/>
            <a:pathLst>
              <a:path w="2638" h="772">
                <a:moveTo>
                  <a:pt x="0" y="771"/>
                </a:moveTo>
                <a:lnTo>
                  <a:pt x="1319" y="325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805440" y="2579760"/>
            <a:ext cx="87480" cy="871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56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805440" y="3164040"/>
            <a:ext cx="87480" cy="8892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692440" y="5378400"/>
            <a:ext cx="214200" cy="315720"/>
            <a:chOff x="2692440" y="5378400"/>
            <a:chExt cx="214200" cy="315720"/>
          </a:xfrm>
        </p:grpSpPr>
        <p:sp>
          <p:nvSpPr>
            <p:cNvPr id="795" name=""/>
            <p:cNvSpPr/>
            <p:nvPr/>
          </p:nvSpPr>
          <p:spPr>
            <a:xfrm flipV="1">
              <a:off x="2692440" y="5378400"/>
              <a:ext cx="2142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692440" y="5493960"/>
              <a:ext cx="2142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"/>
          <p:cNvSpPr/>
          <p:nvPr/>
        </p:nvSpPr>
        <p:spPr>
          <a:xfrm>
            <a:off x="2800440" y="549756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11920" y="258588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19680" y="3670200"/>
            <a:ext cx="74520" cy="7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11920" y="3186000"/>
            <a:ext cx="73080" cy="7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2733840" y="1730520"/>
            <a:ext cx="4114440" cy="0"/>
            <a:chOff x="2733840" y="1730520"/>
            <a:chExt cx="4114440" cy="0"/>
          </a:xfrm>
        </p:grpSpPr>
        <p:sp>
          <p:nvSpPr>
            <p:cNvPr id="802" name=""/>
            <p:cNvSpPr/>
            <p:nvPr/>
          </p:nvSpPr>
          <p:spPr>
            <a:xfrm>
              <a:off x="27921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87676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9628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04884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3524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1984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3058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39192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4765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5629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6489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7350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196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0564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920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07808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16268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4908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3512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197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0576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918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782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6280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484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93488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194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058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1919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779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36256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486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346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210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0564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792040" y="173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7808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9623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04872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13476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2080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30540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39144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7784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63880" y="1730520"/>
              <a:ext cx="2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484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34880" y="1730520"/>
              <a:ext cx="2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820920" y="1730520"/>
              <a:ext cx="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33840" y="1730520"/>
              <a:ext cx="1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2074680" y="1684440"/>
            <a:ext cx="763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68760" y="4400640"/>
            <a:ext cx="7452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586960" y="619128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2652840" y="5799240"/>
            <a:ext cx="430200" cy="282240"/>
            <a:chOff x="2652840" y="5799240"/>
            <a:chExt cx="430200" cy="282240"/>
          </a:xfrm>
        </p:grpSpPr>
        <p:sp>
          <p:nvSpPr>
            <p:cNvPr id="855" name=""/>
            <p:cNvSpPr/>
            <p:nvPr/>
          </p:nvSpPr>
          <p:spPr>
            <a:xfrm>
              <a:off x="2665080" y="5799240"/>
              <a:ext cx="282240" cy="28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652840" y="5860440"/>
              <a:ext cx="43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700680" y="5805360"/>
            <a:ext cx="462240" cy="286920"/>
            <a:chOff x="6700680" y="5805360"/>
            <a:chExt cx="462240" cy="286920"/>
          </a:xfrm>
        </p:grpSpPr>
        <p:sp>
          <p:nvSpPr>
            <p:cNvPr id="858" name=""/>
            <p:cNvSpPr/>
            <p:nvPr/>
          </p:nvSpPr>
          <p:spPr>
            <a:xfrm>
              <a:off x="6700680" y="5805360"/>
              <a:ext cx="283320" cy="28260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00680" y="5873040"/>
              <a:ext cx="462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4683240" y="5811840"/>
            <a:ext cx="460440" cy="305280"/>
            <a:chOff x="4683240" y="5811840"/>
            <a:chExt cx="460440" cy="305280"/>
          </a:xfrm>
        </p:grpSpPr>
        <p:sp>
          <p:nvSpPr>
            <p:cNvPr id="861" name=""/>
            <p:cNvSpPr/>
            <p:nvPr/>
          </p:nvSpPr>
          <p:spPr>
            <a:xfrm>
              <a:off x="4683240" y="5811840"/>
              <a:ext cx="282600" cy="28368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683240" y="5897880"/>
              <a:ext cx="460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C62C-C5D0-4F83-8886-49320518A42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 flipV="1">
            <a:off x="6946920" y="1790640"/>
            <a:ext cx="0" cy="39657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4916520" y="1766520"/>
            <a:ext cx="0" cy="396396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n-US" sz="3600" spc="-1" strike="noStrike">
                <a:solidFill>
                  <a:srgbClr val="290bf2"/>
                </a:solidFill>
                <a:latin typeface="NewCenturySchlbk"/>
              </a:rPr>
              <a:t>Performance</a:t>
            </a:r>
            <a:endParaRPr b="0" lang="en-US" sz="3600" spc="-1" strike="noStrike">
              <a:solidFill>
                <a:srgbClr val="290bf2"/>
              </a:solidFill>
              <a:latin typeface="NewCenturySchlbk"/>
            </a:endParaRPr>
          </a:p>
        </p:txBody>
      </p:sp>
      <p:sp>
        <p:nvSpPr>
          <p:cNvPr id="866" name=""/>
          <p:cNvSpPr/>
          <p:nvPr/>
        </p:nvSpPr>
        <p:spPr>
          <a:xfrm>
            <a:off x="2560320" y="5432400"/>
            <a:ext cx="210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270160" y="53053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270160" y="43909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70160" y="34909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270160" y="2590920"/>
            <a:ext cx="642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148480" y="1676520"/>
            <a:ext cx="763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69240" y="2190600"/>
            <a:ext cx="1531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ivity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972840" y="1589040"/>
            <a:ext cx="18561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roduct quality*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8814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96532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5280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3848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241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3084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9552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481560" y="54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56544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65292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73860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82428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0852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9564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08132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16736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5124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33872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42440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08640" y="54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957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6814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76712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85136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93884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02452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1084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94440" y="54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2815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3672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5148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53896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6246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71032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7942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88168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96736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0516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13728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224760" y="54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31044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39432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81800" y="54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567480" y="54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65316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737400" y="54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824520" y="54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10560" y="54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814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96532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05280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13848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241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3084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39552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81560" y="49658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6544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5292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73860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82428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0852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99564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8132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16736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25124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33872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42440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08640" y="49658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957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814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6712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5136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3884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2452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1084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94440" y="49658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2815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3672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45148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53896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56246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71032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57942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88168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96736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516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613728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6224760" y="49658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631044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9432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481800" y="49658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567480" y="49658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65316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737400" y="49658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24520" y="49658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910560" y="49658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8814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96532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05280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13848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2241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3084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39552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481560" y="45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56544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5292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73860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2428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0852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99564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08132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16736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25124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33872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42440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08640" y="45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957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6814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76712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85136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3884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502452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084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194440" y="45086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52815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3672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45148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53896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6246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71032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7942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88168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96736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0516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13728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24760" y="45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31044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39432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81800" y="45086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67480" y="45086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65316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737400" y="45086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824520" y="45086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910560" y="45086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8814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96532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5280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13848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2241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3084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39552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481560" y="40514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56544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65292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73860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2428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0852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9564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8132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16736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25124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3872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42440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508640" y="40514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957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6814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76712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85136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93884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02452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51084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94440" y="405144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2815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3672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45148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53896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6246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71032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942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8168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96736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0516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13728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224760" y="40514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31044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39432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81800" y="405144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567480" y="405144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65316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737400" y="405144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824520" y="405144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910560" y="405144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8814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6532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05280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13848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241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3084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39552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481560" y="36082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56544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65292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73860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82428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90852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99564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08132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16736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5124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33872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2440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08640" y="36082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5957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814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76712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85136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3884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02452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1084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94440" y="36082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2815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3672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5148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53896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6246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71032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7942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88168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96736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0516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3728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224760" y="36082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31044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39432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81800" y="36082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567480" y="36082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65316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737400" y="36082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24520" y="36082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910560" y="36082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8814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96532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5280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13848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241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3084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39552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1560" y="31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56544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65292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73860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82428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90852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9564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08132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16736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5124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33872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440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31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957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814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76712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85136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93884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02452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1084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194440" y="31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2815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3672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45148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53896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6246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1032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7942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88168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96736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0516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13728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224760" y="31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1044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9432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481800" y="31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567480" y="31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65316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737400" y="31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824520" y="31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910560" y="31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28814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296532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5280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3848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2241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3084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39552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481560" y="26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56544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65292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73860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2428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90852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99564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08132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16736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25124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33872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42440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08640" y="26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5957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6814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76712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85136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93884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02452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51084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94440" y="26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815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672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45148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3896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6246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71032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7942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88168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6736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0516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3728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760" y="26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31044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39432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81800" y="26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567480" y="26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65316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737400" y="26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24520" y="26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910560" y="26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8814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96532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05280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3848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241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3084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39552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481560" y="22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56544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65292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73860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82428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90852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9564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08132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16736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425124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33872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42440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508640" y="22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5957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6814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6712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5136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493884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02452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084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94440" y="22510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2815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3672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45148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3896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6246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71032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57942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588168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596736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0516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13728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224760" y="22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31044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39432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481800" y="22510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567480" y="22510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65316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37400" y="22510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24520" y="22510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910560" y="22510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8814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96532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05280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13848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241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084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39552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481560" y="17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56544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65292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3860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82428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390852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99564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08132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6736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25124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33872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42440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508640" y="17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5957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6814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76712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5136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93884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02452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084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194440" y="1793880"/>
            <a:ext cx="2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2815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3672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45148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53896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6246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71032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7942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88168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6736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60516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3728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224760" y="17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1044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9432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481800" y="179388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567480" y="1793880"/>
            <a:ext cx="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5316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37400" y="1793880"/>
            <a:ext cx="3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24520" y="179388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910560" y="1793880"/>
            <a:ext cx="2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2889360" y="1785960"/>
            <a:ext cx="0" cy="400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2822400" y="578016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822400" y="5408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822400" y="49658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822400" y="45086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2822400" y="405144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2822400" y="36082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2822400" y="31510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822400" y="26938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822400" y="22510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2822400" y="1793880"/>
            <a:ext cx="11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2881440" y="5780160"/>
            <a:ext cx="40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2889360" y="5714640"/>
            <a:ext cx="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4917960" y="5715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6945480" y="57150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881440" y="2371680"/>
            <a:ext cx="4057560" cy="1501920"/>
          </a:xfrm>
          <a:custGeom>
            <a:avLst/>
            <a:gdLst/>
            <a:ahLst/>
            <a:rect l="l" t="t" r="r" b="b"/>
            <a:pathLst>
              <a:path w="2638" h="976">
                <a:moveTo>
                  <a:pt x="0" y="975"/>
                </a:moveTo>
                <a:lnTo>
                  <a:pt x="1319" y="585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881440" y="1785960"/>
            <a:ext cx="4057560" cy="1087560"/>
          </a:xfrm>
          <a:custGeom>
            <a:avLst/>
            <a:gdLst/>
            <a:ahLst/>
            <a:rect l="l" t="t" r="r" b="b"/>
            <a:pathLst>
              <a:path w="2638" h="707">
                <a:moveTo>
                  <a:pt x="0" y="706"/>
                </a:moveTo>
                <a:lnTo>
                  <a:pt x="1319" y="325"/>
                </a:lnTo>
                <a:lnTo>
                  <a:pt x="2637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2844720" y="3835440"/>
            <a:ext cx="58680" cy="5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73680" y="3235320"/>
            <a:ext cx="58680" cy="5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900840" y="2335320"/>
            <a:ext cx="60480" cy="6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838600" y="2828880"/>
            <a:ext cx="87120" cy="87480"/>
          </a:xfrm>
          <a:custGeom>
            <a:avLst/>
            <a:gdLst/>
            <a:ahLst/>
            <a:rect l="l" t="t" r="r" b="b"/>
            <a:pathLst>
              <a:path w="57" h="57">
                <a:moveTo>
                  <a:pt x="28" y="56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67200" y="2243160"/>
            <a:ext cx="85680" cy="87120"/>
          </a:xfrm>
          <a:custGeom>
            <a:avLst/>
            <a:gdLst/>
            <a:ahLst/>
            <a:rect l="l" t="t" r="r" b="b"/>
            <a:pathLst>
              <a:path w="56" h="57">
                <a:moveTo>
                  <a:pt x="28" y="56"/>
                </a:moveTo>
                <a:lnTo>
                  <a:pt x="55" y="28"/>
                </a:lnTo>
                <a:lnTo>
                  <a:pt x="28" y="0"/>
                </a:lnTo>
                <a:lnTo>
                  <a:pt x="0" y="28"/>
                </a:lnTo>
                <a:lnTo>
                  <a:pt x="2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894360" y="1743120"/>
            <a:ext cx="87480" cy="87120"/>
          </a:xfrm>
          <a:custGeom>
            <a:avLst/>
            <a:gdLst/>
            <a:ahLst/>
            <a:rect l="l" t="t" r="r" b="b"/>
            <a:pathLst>
              <a:path w="57" h="56">
                <a:moveTo>
                  <a:pt x="28" y="55"/>
                </a:moveTo>
                <a:lnTo>
                  <a:pt x="56" y="28"/>
                </a:lnTo>
                <a:lnTo>
                  <a:pt x="28" y="0"/>
                </a:lnTo>
                <a:lnTo>
                  <a:pt x="0" y="28"/>
                </a:lnTo>
                <a:lnTo>
                  <a:pt x="28" y="55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2781360" y="5443200"/>
            <a:ext cx="214200" cy="313920"/>
            <a:chOff x="2781360" y="5443200"/>
            <a:chExt cx="214200" cy="313920"/>
          </a:xfrm>
        </p:grpSpPr>
        <p:sp>
          <p:nvSpPr>
            <p:cNvPr id="1330" name=""/>
            <p:cNvSpPr/>
            <p:nvPr/>
          </p:nvSpPr>
          <p:spPr>
            <a:xfrm flipV="1">
              <a:off x="2781360" y="5443200"/>
              <a:ext cx="2142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2781360" y="5557320"/>
              <a:ext cx="21420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2889360" y="5565600"/>
            <a:ext cx="0" cy="8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065240" y="1674720"/>
            <a:ext cx="12207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orting “Excellent”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 “G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900840" y="2320920"/>
            <a:ext cx="74520" cy="7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2844720" y="2835360"/>
            <a:ext cx="73080" cy="7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844720" y="3821040"/>
            <a:ext cx="7308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873680" y="2247840"/>
            <a:ext cx="71280" cy="74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857840" y="3220920"/>
            <a:ext cx="74520" cy="73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900840" y="1749600"/>
            <a:ext cx="74520" cy="72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307600" y="6329520"/>
            <a:ext cx="5965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4640" bIns="44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What Happens After the Appraisal?  A Survey of Process Improvement Effort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985480" y="5875200"/>
            <a:ext cx="7725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iti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010120" y="5875200"/>
            <a:ext cx="1365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peat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031160" y="5864400"/>
            <a:ext cx="100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200" bIns="522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fin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2741760" y="5861160"/>
            <a:ext cx="430200" cy="282600"/>
            <a:chOff x="2741760" y="5861160"/>
            <a:chExt cx="430200" cy="282600"/>
          </a:xfrm>
        </p:grpSpPr>
        <p:sp>
          <p:nvSpPr>
            <p:cNvPr id="1345" name=""/>
            <p:cNvSpPr/>
            <p:nvPr/>
          </p:nvSpPr>
          <p:spPr>
            <a:xfrm>
              <a:off x="2753640" y="5861160"/>
              <a:ext cx="282600" cy="282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1760" y="5922720"/>
              <a:ext cx="430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1 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6789600" y="5867280"/>
            <a:ext cx="462240" cy="286560"/>
            <a:chOff x="6789600" y="5867280"/>
            <a:chExt cx="462240" cy="286560"/>
          </a:xfrm>
        </p:grpSpPr>
        <p:sp>
          <p:nvSpPr>
            <p:cNvPr id="1348" name=""/>
            <p:cNvSpPr/>
            <p:nvPr/>
          </p:nvSpPr>
          <p:spPr>
            <a:xfrm>
              <a:off x="6789600" y="5867280"/>
              <a:ext cx="283320" cy="282600"/>
            </a:xfrm>
            <a:prstGeom prst="ellipse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789600" y="5934600"/>
              <a:ext cx="462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4772160" y="5873760"/>
            <a:ext cx="461880" cy="304560"/>
            <a:chOff x="4772160" y="5873760"/>
            <a:chExt cx="461880" cy="304560"/>
          </a:xfrm>
        </p:grpSpPr>
        <p:sp>
          <p:nvSpPr>
            <p:cNvPr id="1351" name=""/>
            <p:cNvSpPr/>
            <p:nvPr/>
          </p:nvSpPr>
          <p:spPr>
            <a:xfrm>
              <a:off x="4772160" y="5873760"/>
              <a:ext cx="282960" cy="281520"/>
            </a:xfrm>
            <a:prstGeom prst="ellipse">
              <a:avLst/>
            </a:pr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44280" bIns="4428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772160" y="5959080"/>
              <a:ext cx="461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t">
              <a:spAutoFit/>
            </a:bodyPr>
            <a:p>
              <a:pPr>
                <a:lnSpc>
                  <a:spcPct val="50000"/>
                </a:lnSpc>
                <a:spcBef>
                  <a:spcPts val="1063"/>
                </a:spcBef>
                <a:tabLst>
                  <a:tab algn="l" pos="0"/>
                  <a:tab algn="l" pos="885960"/>
                  <a:tab algn="l" pos="1771560"/>
                  <a:tab algn="l" pos="2657520"/>
                  <a:tab algn="l" pos="3543480"/>
                  <a:tab algn="l" pos="4429080"/>
                  <a:tab algn="l" pos="5315040"/>
                  <a:tab algn="l" pos="6200640"/>
                  <a:tab algn="l" pos="7086600"/>
                  <a:tab algn="l" pos="7972560"/>
                  <a:tab algn="l" pos="8858160"/>
                  <a:tab algn="l" pos="9744120"/>
                  <a:tab algn="l" pos="1063008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EEC6-C16D-416C-946D-9D1200A7F4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hn T Grasso</cp:lastModifiedBy>
  <cp:lastPrinted>2000-04-24T17:57:52Z</cp:lastPrinted>
  <dcterms:modified xsi:type="dcterms:W3CDTF">2000-09-13T22:59:27Z</dcterms:modified>
  <cp:revision>66</cp:revision>
  <dc:subject/>
  <dc:title>Status of Emerging Opportunities</dc:title>
</cp:coreProperties>
</file>