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35B6-CBF4-4DFF-9892-D3FA11ED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D2DF-5186-4BC9-A1A4-798966D7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BA26-40FB-46CD-BA1C-225F5055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391A-703F-48D0-A957-1FFB3783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2A68-2559-443E-B6C5-B9F45A59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FED9-CA71-46F8-BC99-ABF772EE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308B-84EB-4190-988C-CE044DC7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7647-F637-447C-AFB1-E41C4825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7F0A-D590-4C40-B21D-E78A0846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F243-9F17-4816-9099-0AF428DC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2B77-6B9D-48F1-B56A-39F68E50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FFF-CF9A-410A-9478-92BDDC3C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7325-2A9F-4FEB-A02A-80FB8307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D662-C542-457D-B08B-D17AFE8D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86448-6A12-42C7-8306-2DCF59E1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7203-2823-48FE-BAE2-1F53ED78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7342-8EA4-4CB8-B119-5D73C828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F42F-8582-4B8B-AE17-41BECA92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32F-5F18-4ED6-B38A-84597B4B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D48C-FED7-4C43-ABFF-AA3D9F2A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2C7F-1945-4CB8-B1BB-66E71C90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41B9-752E-44C4-8046-C0B89432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C8D-359E-440C-8684-434FA278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224-74B2-4D89-BC30-AEE3694E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62D8-71D5-4063-8D6F-DE8E0C239EAE}" type="datetime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8237-01AB-41AE-B1C8-925C3383206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6E37-006F-44A3-B360-7EF0D09459C5}" type="datetime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E8B1-7704-4596-A735-3B951428A24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wC emm@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John Grass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rnegie Mellon Universit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51B6683-97C7-4C56-8277-8A5075B16FD8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MM Stru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2743200"/>
            <a:ext cx="7086600" cy="313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29479-06CD-4399-BF82-71D4E0AE2B9D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9 eBusiness “Domains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Business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Business Process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and Competenc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and Technolog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y and Oper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g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76BF9-9569-4A48-BFE1-B566C7A5508A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omain Example: Leg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8305560" cy="33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591E8-4696-4AC3-86A7-95D868704C8D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ood Practice Statement” Examp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7543800" cy="280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1A42B-2BAC-40C2-A88B-5FB0E0A1F962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 of a G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7543800" cy="30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30352-96A6-4DD0-8A39-BB738AB1718F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PS stated as a Question at Level 5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8153280" cy="273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F2854-6616-4D72-AACE-819CA719581F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PS coded for May, Should, … Mu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8153280" cy="244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13ACB-76AF-4986-AA69-09C17469BD66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aging the Data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-- MS Access, Excel, Wor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6934320" cy="339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2EBC0-22E2-409E-BF5A-DAEF7380FB4E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rformance Repor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708660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EE08B-CE4D-4FA9-9248-B7820668CD7F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 Action Planning.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2666880"/>
            <a:ext cx="7467840" cy="381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E20FE-279C-48AE-8FCD-7280381EFADD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oal and Objectiv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7940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wC’s goal:  To create a framework for its eBusiness consul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s only starting with eComme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s already using eComme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od: Use the framework and concepts from Carnegie Mellon’s CM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C760F-1583-425A-8337-C2AFA5A49EEF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es as eBusin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09760" y="2514600"/>
            <a:ext cx="7719840" cy="314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96F1D-1285-43C6-BA03-DCD3BF5795D2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pply Chain “Business Processes”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8381880" cy="311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A55E9-AA7E-46C1-A3DB-078D95B8E5EF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stomer Process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8481960" cy="314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0A755-8908-4DDF-98F3-EC7A54FC5029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r Overall Performanc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stomer-Facing + Supply Chain ite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8405640" cy="311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BD28C-2988-40BD-BC83-36079DE2EA5B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MM vs EM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35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MM Levels of “Maturity” of software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MM applies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Improv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iteria: KP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Leve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y Process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95320" y="1904760"/>
            <a:ext cx="404676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M Levels of “Maturity” of eCommerce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M applie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Traditional Process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 eBusiness Doma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th “Supply Chain GPS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iteria: GP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Process, Domain, Level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Practice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6BD925-056A-49B0-B6DA-8F214D2EE00B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MM Levels vs EMM Lev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0035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it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Repea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Mana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Optim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38120" y="1904760"/>
            <a:ext cx="449604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Online “Presenc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 Online “Busines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Integrated Online Bus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dvanced Online Bus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Full eBusines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95280" y="4724280"/>
            <a:ext cx="4772160" cy="1771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572A3-D1CF-42BA-A401-24CD6B21B98C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MM Structu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Structure%20of%20the%20CMM" descr=""/>
          <p:cNvPicPr/>
          <p:nvPr/>
        </p:nvPicPr>
        <p:blipFill>
          <a:blip r:embed="rId1"/>
          <a:stretch/>
        </p:blipFill>
        <p:spPr>
          <a:xfrm>
            <a:off x="3886200" y="990720"/>
            <a:ext cx="4886280" cy="565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1EACA-9A72-46CD-9255-8A86BC247C7A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5T22:22:25Z</dcterms:created>
  <dc:creator>John Grasso</dc:creator>
  <dc:description/>
  <dc:language>en-US</dc:language>
  <cp:lastModifiedBy>John T Grasso</cp:lastModifiedBy>
  <cp:lastPrinted>2000-04-27T14:19:37Z</cp:lastPrinted>
  <dcterms:modified xsi:type="dcterms:W3CDTF">2000-09-13T20:08:46Z</dcterms:modified>
  <cp:revision>8</cp:revision>
  <dc:subject/>
  <dc:title>PwC emm@</dc:title>
</cp:coreProperties>
</file>