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086-36E3-43A5-AD6C-F6B1DFD8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279-DC18-4010-B1AF-5C9CDDB7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0C1-8B5F-4E83-8908-5E3436C61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34F1-C085-49D0-BDA8-FE570502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F857-45D4-4680-99A3-BF632E27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3383-63A0-4D25-82A4-FA660339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E34-F37A-4994-8097-8AA02F72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10C-13FE-489B-8212-9EE2C66D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D36B-B290-49E4-A96B-B314EFFC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37D-07EE-4360-BB36-0C4F0906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3E4-798E-435E-9347-32E27D40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617-8970-4258-AF8F-A327AEC0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286840" y="6400800"/>
            <a:ext cx="18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9320" y="6095880"/>
            <a:ext cx="905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DF2F143D-817E-4043-8329-B0E24F7185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eCommerce at Carnegie Mellon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T. Grasso, Ph.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Why Isn’t Electronic Commer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“Commerce”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ichael I. Shamos, J.D., Ph.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-Director, Institute for e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Differenti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ter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connection between buyer and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ranny of sale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t pricing (everything at au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listic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r between supplier and manufa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by supply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E4B4-AEDB-4E0C-BAFA-982B48A384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intermedi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on intermed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 on access to information not available to the public.  Example: trave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surv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ise intermed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value through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auction house (authentication, valuation, rest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BB5B-D962-4F2C-AFA5-34801275B6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st Mover Wi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mover is sacrif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 expended on mista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busi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mover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azon.com, Dell, Schw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takes inexpensive to 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B51-6055-46F6-93AA-AE739AAD3B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eCommerce is different from 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rnegie Mellon is doing abou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B87C-3E86-4559-B3ED-EED4A5CFF2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chnology and Commer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00 B.C.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ransportation of goods by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rs remote from consu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40 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Communications (telegrap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uyers and se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60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Newspaper advertising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o, T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 bu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Universal credit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-of-purchase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9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L OF THE ABOVE +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615-0EC3-4AD4-B12B-CCC84B78B4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ing Commerce Technology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0 -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ation of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10 (land: 5 mp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 m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100 (air: 5 mp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00 m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peed improvement (speed of l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vasive telephone, 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(delay starting mes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s: small improvement, speed of 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advertising: no improvement: 1-7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ernet: instant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1B8-6BED-4956-B992-40F295BC62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roving Commerce Technology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40 -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orage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5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0: 1 filing cabinet: 50,000 pages =  1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: 1 filing cabinet of DVD = 50,000,000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f 30,0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speech:                      30 bits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gabit Internet:  1,000,000,000 bits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talk: 0.001 sec. Including 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U.S. phone traffic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8CA-5FCC-47FF-B679-07A772DB4D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lectronic Marketpl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14560" y="1451880"/>
            <a:ext cx="1033920" cy="7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204720"/>
            <a:ext cx="142740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GOT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14920" y="4271400"/>
            <a:ext cx="105372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82680" y="3738240"/>
            <a:ext cx="6591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14560" y="4804920"/>
            <a:ext cx="1074960" cy="30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2560" y="53078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T-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7880" y="2442240"/>
            <a:ext cx="1203120" cy="51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GO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4038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505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57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65040" y="1814400"/>
            <a:ext cx="1456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EARCH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4920" y="2666880"/>
            <a:ext cx="1355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HOPPING B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8960" y="3124080"/>
            <a:ext cx="1294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GGR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360" y="2209680"/>
            <a:ext cx="160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CAT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91960" y="3719520"/>
            <a:ext cx="1835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AUTOMATED A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5960" y="4724280"/>
            <a:ext cx="1759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SHIPMENT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5181480"/>
            <a:ext cx="1261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ON-LINE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000" y="5715000"/>
            <a:ext cx="1922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INTERNET TELEPH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5480" y="2438280"/>
            <a:ext cx="224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CUSTOMER P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2880" y="2971800"/>
            <a:ext cx="2184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BARGAINING STRATE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70760" y="3505320"/>
            <a:ext cx="177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PRICE SENSITIV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1680" y="4038480"/>
            <a:ext cx="265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CREDIT/PAYMENT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57480" y="5167440"/>
            <a:ext cx="239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ON-LINE PROBLEM 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85920" y="5700600"/>
            <a:ext cx="2964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FOLLOW-ON SALES OPPORT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1040" y="1142640"/>
            <a:ext cx="221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TECHNOLOGIES US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0240" y="1142640"/>
            <a:ext cx="2545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66"/>
                </a:solidFill>
                <a:latin typeface="Arial"/>
              </a:rPr>
              <a:t>INFORMATION GATHER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19200" y="1828800"/>
            <a:ext cx="1887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BROWSING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37200" y="4572000"/>
            <a:ext cx="2219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66"/>
                </a:solidFill>
                <a:latin typeface="Arial"/>
              </a:rPr>
              <a:t>DELIVERY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0560" y="4191120"/>
            <a:ext cx="1855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Arial"/>
              </a:rPr>
              <a:t>E-PAYMENT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743200" y="1676160"/>
            <a:ext cx="99072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743200" y="2057040"/>
            <a:ext cx="99072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819520"/>
            <a:ext cx="76212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3276720"/>
            <a:ext cx="91440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48120" y="3505320"/>
            <a:ext cx="457200" cy="30456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4343400"/>
            <a:ext cx="83844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9520" y="4876920"/>
            <a:ext cx="838080" cy="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5334120"/>
            <a:ext cx="99036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95480" y="5714640"/>
            <a:ext cx="685800" cy="15228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438280"/>
            <a:ext cx="838080" cy="228600"/>
          </a:xfrm>
          <a:prstGeom prst="line">
            <a:avLst/>
          </a:prstGeom>
          <a:ln w="1260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752480"/>
            <a:ext cx="990720" cy="22860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5638680"/>
            <a:ext cx="762120" cy="15264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29200" y="5333760"/>
            <a:ext cx="762120" cy="15228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29200" y="4723920"/>
            <a:ext cx="990720" cy="22860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029200" y="4190760"/>
            <a:ext cx="762120" cy="15228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429000"/>
            <a:ext cx="1066680" cy="22860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05520" y="3124080"/>
            <a:ext cx="838080" cy="15264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105520" y="2590560"/>
            <a:ext cx="761760" cy="152280"/>
          </a:xfrm>
          <a:prstGeom prst="line">
            <a:avLst/>
          </a:prstGeom>
          <a:ln w="1260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90DD-3991-4CD6-8E14-886B50A9F5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tail Purchase v. Intern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, shopp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s in 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n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alogs received, products in cat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499"/>
              </a:spcAft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R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6600" y="3429360"/>
            <a:ext cx="223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PUSH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13520" y="1829160"/>
            <a:ext cx="2198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PULL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800600" y="1981080"/>
            <a:ext cx="1295280" cy="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29000" y="2133720"/>
            <a:ext cx="2666880" cy="83808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724280" y="3581280"/>
            <a:ext cx="1371600" cy="30492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1120" y="4878360"/>
            <a:ext cx="18295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COMB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PUSH AND P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09880" y="4952520"/>
            <a:ext cx="2286000" cy="304920"/>
          </a:xfrm>
          <a:prstGeom prst="line">
            <a:avLst/>
          </a:prstGeom>
          <a:ln w="1908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65C2-C2A0-443A-B46A-ECAA4ED658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lectronic Supply Cha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9960" y="5853240"/>
            <a:ext cx="288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A. BIFFI, PF. CAMMUS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9400" y="1600200"/>
            <a:ext cx="8789760" cy="4088880"/>
            <a:chOff x="149400" y="1600200"/>
            <a:chExt cx="8789760" cy="4088880"/>
          </a:xfrm>
        </p:grpSpPr>
        <p:grpSp>
          <p:nvGrpSpPr>
            <p:cNvPr id="116" name=""/>
            <p:cNvGrpSpPr/>
            <p:nvPr/>
          </p:nvGrpSpPr>
          <p:grpSpPr>
            <a:xfrm>
              <a:off x="533520" y="1905120"/>
              <a:ext cx="8405640" cy="2493720"/>
              <a:chOff x="533520" y="1905120"/>
              <a:chExt cx="8405640" cy="2493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3640" y="2301840"/>
                <a:ext cx="7678800" cy="990000"/>
              </a:xfrm>
              <a:custGeom>
                <a:avLst/>
                <a:gdLst/>
                <a:ahLst/>
                <a:rect l="l" t="t" r="r" b="b"/>
                <a:pathLst>
                  <a:path w="4905" h="632">
                    <a:moveTo>
                      <a:pt x="8" y="543"/>
                    </a:moveTo>
                    <a:lnTo>
                      <a:pt x="567" y="452"/>
                    </a:lnTo>
                    <a:lnTo>
                      <a:pt x="1066" y="426"/>
                    </a:lnTo>
                    <a:lnTo>
                      <a:pt x="1530" y="387"/>
                    </a:lnTo>
                    <a:lnTo>
                      <a:pt x="1899" y="335"/>
                    </a:lnTo>
                    <a:lnTo>
                      <a:pt x="2193" y="266"/>
                    </a:lnTo>
                    <a:lnTo>
                      <a:pt x="2342" y="201"/>
                    </a:lnTo>
                    <a:lnTo>
                      <a:pt x="2390" y="148"/>
                    </a:lnTo>
                    <a:lnTo>
                      <a:pt x="2404" y="70"/>
                    </a:lnTo>
                    <a:lnTo>
                      <a:pt x="2342" y="70"/>
                    </a:lnTo>
                    <a:lnTo>
                      <a:pt x="2453" y="0"/>
                    </a:lnTo>
                    <a:lnTo>
                      <a:pt x="2562" y="69"/>
                    </a:lnTo>
                    <a:lnTo>
                      <a:pt x="2494" y="69"/>
                    </a:lnTo>
                    <a:lnTo>
                      <a:pt x="2513" y="148"/>
                    </a:lnTo>
                    <a:lnTo>
                      <a:pt x="2602" y="218"/>
                    </a:lnTo>
                    <a:lnTo>
                      <a:pt x="2814" y="296"/>
                    </a:lnTo>
                    <a:lnTo>
                      <a:pt x="2985" y="331"/>
                    </a:lnTo>
                    <a:lnTo>
                      <a:pt x="3285" y="379"/>
                    </a:lnTo>
                    <a:lnTo>
                      <a:pt x="3600" y="409"/>
                    </a:lnTo>
                    <a:lnTo>
                      <a:pt x="4084" y="444"/>
                    </a:lnTo>
                    <a:lnTo>
                      <a:pt x="4570" y="461"/>
                    </a:lnTo>
                    <a:lnTo>
                      <a:pt x="4904" y="527"/>
                    </a:lnTo>
                    <a:lnTo>
                      <a:pt x="4884" y="631"/>
                    </a:lnTo>
                    <a:lnTo>
                      <a:pt x="0" y="631"/>
                    </a:lnTo>
                    <a:lnTo>
                      <a:pt x="8" y="543"/>
                    </a:lnTo>
                  </a:path>
                </a:pathLst>
              </a:custGeom>
              <a:gradFill rotWithShape="0">
                <a:gsLst>
                  <a:gs pos="0">
                    <a:srgbClr val="4b4b4b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15880" y="3528720"/>
                <a:ext cx="13813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560" bIns="345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507960"/>
                    <a:tab algn="l" pos="1015920"/>
                    <a:tab algn="l" pos="1523880"/>
                    <a:tab algn="l" pos="2031840"/>
                    <a:tab algn="l" pos="2540160"/>
                    <a:tab algn="l" pos="3048120"/>
                    <a:tab algn="l" pos="3556080"/>
                    <a:tab algn="l" pos="4064040"/>
                    <a:tab algn="l" pos="4572000"/>
                    <a:tab algn="l" pos="5079960"/>
                    <a:tab algn="l" pos="5587920"/>
                    <a:tab algn="l" pos="6095880"/>
                    <a:tab algn="l" pos="6603840"/>
                    <a:tab algn="l" pos="7112160"/>
                    <a:tab algn="l" pos="7620120"/>
                    <a:tab algn="l" pos="8128080"/>
                    <a:tab algn="l" pos="8636040"/>
                    <a:tab algn="l" pos="9144000"/>
                    <a:tab algn="l" pos="9651960"/>
                    <a:tab algn="l" pos="1015992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uppli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3740040" y="1905120"/>
                <a:ext cx="1382760" cy="356760"/>
                <a:chOff x="3740040" y="1905120"/>
                <a:chExt cx="1382760" cy="3567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740040" y="1939320"/>
                  <a:ext cx="138276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560" bIns="3456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507960"/>
                      <a:tab algn="l" pos="1015920"/>
                      <a:tab algn="l" pos="1523880"/>
                      <a:tab algn="l" pos="2031840"/>
                      <a:tab algn="l" pos="2540160"/>
                      <a:tab algn="l" pos="3048120"/>
                      <a:tab algn="l" pos="3556080"/>
                      <a:tab algn="l" pos="4064040"/>
                      <a:tab algn="l" pos="4572000"/>
                      <a:tab algn="l" pos="5079960"/>
                      <a:tab algn="l" pos="5587920"/>
                      <a:tab algn="l" pos="6095880"/>
                      <a:tab algn="l" pos="6603840"/>
                      <a:tab algn="l" pos="7112160"/>
                      <a:tab algn="l" pos="7620120"/>
                      <a:tab algn="l" pos="8128080"/>
                      <a:tab algn="l" pos="8636040"/>
                      <a:tab algn="l" pos="9144000"/>
                      <a:tab algn="l" pos="9651960"/>
                      <a:tab algn="l" pos="1015992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Pla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05560" y="1905120"/>
                  <a:ext cx="1251360" cy="3567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8760" rIns="68760" tIns="34200" bIns="342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 flipV="1">
                <a:off x="7858080" y="2344680"/>
                <a:ext cx="0" cy="172512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935080" y="2293200"/>
                <a:ext cx="0" cy="172548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6188040" y="2344680"/>
                <a:ext cx="0" cy="172512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1203120" y="2275920"/>
                <a:ext cx="0" cy="1726920"/>
              </a:xfrm>
              <a:prstGeom prst="line">
                <a:avLst/>
              </a:prstGeom>
              <a:ln w="1260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397560" y="3528720"/>
                <a:ext cx="13813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560" bIns="345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507960"/>
                    <a:tab algn="l" pos="1015920"/>
                    <a:tab algn="l" pos="1523880"/>
                    <a:tab algn="l" pos="2031840"/>
                    <a:tab algn="l" pos="2540160"/>
                    <a:tab algn="l" pos="3048120"/>
                    <a:tab algn="l" pos="3556080"/>
                    <a:tab algn="l" pos="4064040"/>
                    <a:tab algn="l" pos="4572000"/>
                    <a:tab algn="l" pos="5079960"/>
                    <a:tab algn="l" pos="5587920"/>
                    <a:tab algn="l" pos="6095880"/>
                    <a:tab algn="l" pos="6603840"/>
                    <a:tab algn="l" pos="7112160"/>
                    <a:tab algn="l" pos="7620120"/>
                    <a:tab algn="l" pos="8128080"/>
                    <a:tab algn="l" pos="8636040"/>
                    <a:tab algn="l" pos="9144000"/>
                    <a:tab algn="l" pos="9651960"/>
                    <a:tab algn="l" pos="1015992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810560" y="3528720"/>
                <a:ext cx="1128600" cy="49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560" bIns="345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507960"/>
                    <a:tab algn="l" pos="1015920"/>
                    <a:tab algn="l" pos="1523880"/>
                    <a:tab algn="l" pos="2031840"/>
                    <a:tab algn="l" pos="2540160"/>
                    <a:tab algn="l" pos="3048120"/>
                    <a:tab algn="l" pos="3556080"/>
                    <a:tab algn="l" pos="4064040"/>
                    <a:tab algn="l" pos="4572000"/>
                    <a:tab algn="l" pos="5079960"/>
                    <a:tab algn="l" pos="5587920"/>
                    <a:tab algn="l" pos="6095880"/>
                    <a:tab algn="l" pos="6603840"/>
                    <a:tab algn="l" pos="7112160"/>
                    <a:tab algn="l" pos="7620120"/>
                    <a:tab algn="l" pos="8128080"/>
                    <a:tab algn="l" pos="8636040"/>
                    <a:tab algn="l" pos="9144000"/>
                    <a:tab algn="l" pos="9651960"/>
                    <a:tab algn="l" pos="1015992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ustomer’s</a:t>
                </a:r>
                <a:br>
                  <a:rPr sz="1400"/>
                </a:b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Custom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92280" y="3309840"/>
                <a:ext cx="31680" cy="313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2504880" y="3286080"/>
                <a:ext cx="42840" cy="36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866960" y="3193920"/>
                <a:ext cx="493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Arial"/>
                  </a:rPr>
                  <a:t>Mak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5011560" y="2997000"/>
                <a:ext cx="1246320" cy="506160"/>
                <a:chOff x="5011560" y="2997000"/>
                <a:chExt cx="1246320" cy="50616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5011560" y="2997000"/>
                  <a:ext cx="1246320" cy="506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200" rIns="34200" tIns="16920" bIns="169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19280" y="3136320"/>
                  <a:ext cx="82692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560" rIns="34560" tIns="17280" bIns="172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127080"/>
                      <a:tab algn="l" pos="254160"/>
                      <a:tab algn="l" pos="380880"/>
                      <a:tab algn="l" pos="507960"/>
                      <a:tab algn="l" pos="635040"/>
                      <a:tab algn="l" pos="762120"/>
                      <a:tab algn="l" pos="888840"/>
                      <a:tab algn="l" pos="1015920"/>
                      <a:tab algn="l" pos="1143000"/>
                      <a:tab algn="l" pos="1270080"/>
                      <a:tab algn="l" pos="1397160"/>
                      <a:tab algn="l" pos="1523880"/>
                      <a:tab algn="l" pos="1650960"/>
                      <a:tab algn="l" pos="1778040"/>
                      <a:tab algn="l" pos="1905120"/>
                      <a:tab algn="l" pos="2031840"/>
                      <a:tab algn="l" pos="2158920"/>
                      <a:tab algn="l" pos="2286000"/>
                      <a:tab algn="l" pos="2413080"/>
                      <a:tab algn="l" pos="254016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Deliv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7772400" y="3103200"/>
                <a:ext cx="73980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2830320" y="2997000"/>
                <a:ext cx="1249560" cy="506160"/>
                <a:chOff x="2830320" y="2997000"/>
                <a:chExt cx="1249560" cy="5061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830320" y="2997000"/>
                  <a:ext cx="1249560" cy="506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200" rIns="34200" tIns="16920" bIns="169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4520" y="3136320"/>
                  <a:ext cx="82188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560" rIns="34560" tIns="17280" bIns="172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127080"/>
                      <a:tab algn="l" pos="254160"/>
                      <a:tab algn="l" pos="380880"/>
                      <a:tab algn="l" pos="507960"/>
                      <a:tab algn="l" pos="635040"/>
                      <a:tab algn="l" pos="762120"/>
                      <a:tab algn="l" pos="888840"/>
                      <a:tab algn="l" pos="1015920"/>
                      <a:tab algn="l" pos="1143000"/>
                      <a:tab algn="l" pos="1270080"/>
                      <a:tab algn="l" pos="1397160"/>
                      <a:tab algn="l" pos="1523880"/>
                      <a:tab algn="l" pos="1650960"/>
                      <a:tab algn="l" pos="1778040"/>
                      <a:tab algn="l" pos="1905120"/>
                      <a:tab algn="l" pos="2031840"/>
                      <a:tab algn="l" pos="2158920"/>
                      <a:tab algn="l" pos="2286000"/>
                      <a:tab algn="l" pos="2413080"/>
                      <a:tab algn="l" pos="254016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Sourc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929040" y="2997000"/>
                <a:ext cx="1252440" cy="506160"/>
                <a:chOff x="3929040" y="2997000"/>
                <a:chExt cx="1252440" cy="5061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929040" y="2997000"/>
                  <a:ext cx="1252440" cy="5061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200" rIns="34200" tIns="16920" bIns="1692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141440" y="3136320"/>
                  <a:ext cx="825120" cy="24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4560" rIns="34560" tIns="17280" bIns="172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127080"/>
                      <a:tab algn="l" pos="254160"/>
                      <a:tab algn="l" pos="380880"/>
                      <a:tab algn="l" pos="507960"/>
                      <a:tab algn="l" pos="635040"/>
                      <a:tab algn="l" pos="762120"/>
                      <a:tab algn="l" pos="888840"/>
                      <a:tab algn="l" pos="1015920"/>
                      <a:tab algn="l" pos="1143000"/>
                      <a:tab algn="l" pos="1270080"/>
                      <a:tab algn="l" pos="1397160"/>
                      <a:tab algn="l" pos="1523880"/>
                      <a:tab algn="l" pos="1650960"/>
                      <a:tab algn="l" pos="1778040"/>
                      <a:tab algn="l" pos="1905120"/>
                      <a:tab algn="l" pos="2031840"/>
                      <a:tab algn="l" pos="2158920"/>
                      <a:tab algn="l" pos="2286000"/>
                      <a:tab algn="l" pos="2413080"/>
                      <a:tab algn="l" pos="254016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Mak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1727280" y="3103200"/>
                <a:ext cx="73656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331040" y="3180960"/>
                <a:ext cx="4921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Arial"/>
                  </a:rPr>
                  <a:t>Deliv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194600" y="3103200"/>
                <a:ext cx="73980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630840" y="3103200"/>
                <a:ext cx="73980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781680" y="3180960"/>
                <a:ext cx="493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Arial"/>
                  </a:rPr>
                  <a:t>Mak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08560" y="3180960"/>
                <a:ext cx="493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9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16760" y="3103200"/>
                <a:ext cx="73656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3520" y="3103200"/>
                <a:ext cx="73944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6720" y="3193920"/>
                <a:ext cx="493560" cy="1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Arial"/>
                  </a:rPr>
                  <a:t>Deli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10640" y="3180960"/>
                <a:ext cx="493560" cy="17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0520" rIns="20520" tIns="10800" bIns="10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46080"/>
                    <a:tab algn="l" pos="92160"/>
                    <a:tab algn="l" pos="138240"/>
                    <a:tab algn="l" pos="184320"/>
                    <a:tab algn="l" pos="230040"/>
                    <a:tab algn="l" pos="276120"/>
                    <a:tab algn="l" pos="322200"/>
                    <a:tab algn="l" pos="368280"/>
                    <a:tab algn="l" pos="414360"/>
                    <a:tab algn="l" pos="460440"/>
                    <a:tab algn="l" pos="506520"/>
                    <a:tab algn="l" pos="552600"/>
                    <a:tab algn="l" pos="598320"/>
                    <a:tab algn="l" pos="644400"/>
                    <a:tab algn="l" pos="690480"/>
                    <a:tab algn="l" pos="736560"/>
                    <a:tab algn="l" pos="782640"/>
                    <a:tab algn="l" pos="828720"/>
                    <a:tab algn="l" pos="874800"/>
                    <a:tab algn="l" pos="920880"/>
                  </a:tabLst>
                </a:pPr>
                <a:r>
                  <a:rPr b="1" lang="it-IT" sz="1000" spc="-1" strike="noStrike">
                    <a:solidFill>
                      <a:srgbClr val="000000"/>
                    </a:solidFill>
                    <a:latin typeface="Arial"/>
                  </a:rPr>
                  <a:t>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2292480" y="3103200"/>
                <a:ext cx="736560" cy="293400"/>
                <a:chOff x="2292480" y="3103200"/>
                <a:chExt cx="736560" cy="293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292480" y="3103200"/>
                  <a:ext cx="736560" cy="293400"/>
                </a:xfrm>
                <a:prstGeom prst="ellipse">
                  <a:avLst/>
                </a:prstGeom>
                <a:noFill/>
                <a:ln w="2556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160" rIns="20160" tIns="10800" bIns="10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415600" y="3181320"/>
                  <a:ext cx="49284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0520" rIns="20520" tIns="10800" bIns="10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46080"/>
                      <a:tab algn="l" pos="92160"/>
                      <a:tab algn="l" pos="138240"/>
                      <a:tab algn="l" pos="184320"/>
                      <a:tab algn="l" pos="230040"/>
                      <a:tab algn="l" pos="276120"/>
                      <a:tab algn="l" pos="322200"/>
                      <a:tab algn="l" pos="368280"/>
                      <a:tab algn="l" pos="414360"/>
                      <a:tab algn="l" pos="460440"/>
                      <a:tab algn="l" pos="506520"/>
                      <a:tab algn="l" pos="552600"/>
                      <a:tab algn="l" pos="598320"/>
                      <a:tab algn="l" pos="644400"/>
                      <a:tab algn="l" pos="690480"/>
                      <a:tab algn="l" pos="736560"/>
                      <a:tab algn="l" pos="782640"/>
                      <a:tab algn="l" pos="828720"/>
                      <a:tab algn="l" pos="874800"/>
                      <a:tab algn="l" pos="920880"/>
                    </a:tabLst>
                  </a:pPr>
                  <a:r>
                    <a:rPr b="1" lang="it-IT" sz="900" spc="-1" strike="noStrike">
                      <a:solidFill>
                        <a:srgbClr val="000000"/>
                      </a:solidFill>
                      <a:latin typeface="Arial"/>
                    </a:rPr>
                    <a:t>Delive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398600" y="3884400"/>
                <a:ext cx="147960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280" rIns="89280" tIns="43920" bIns="4392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(internal or external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75240" y="3884400"/>
                <a:ext cx="14781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9280" rIns="89280" tIns="43920" bIns="4392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0" lang="it-IT" sz="1400" spc="-1" strike="noStrike">
                    <a:solidFill>
                      <a:srgbClr val="000000"/>
                    </a:solidFill>
                    <a:latin typeface="Arial"/>
                  </a:rPr>
                  <a:t>(internal or external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27320" y="3676320"/>
                <a:ext cx="29066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560" bIns="3456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507960"/>
                    <a:tab algn="l" pos="1015920"/>
                    <a:tab algn="l" pos="1523880"/>
                    <a:tab algn="l" pos="2031840"/>
                    <a:tab algn="l" pos="2540160"/>
                    <a:tab algn="l" pos="3048120"/>
                    <a:tab algn="l" pos="3556080"/>
                    <a:tab algn="l" pos="4064040"/>
                    <a:tab algn="l" pos="4572000"/>
                    <a:tab algn="l" pos="5079960"/>
                    <a:tab algn="l" pos="5587920"/>
                    <a:tab algn="l" pos="6095880"/>
                    <a:tab algn="l" pos="6603840"/>
                    <a:tab algn="l" pos="7112160"/>
                    <a:tab algn="l" pos="7620120"/>
                    <a:tab algn="l" pos="8128080"/>
                    <a:tab algn="l" pos="8636040"/>
                    <a:tab algn="l" pos="9144000"/>
                    <a:tab algn="l" pos="9651960"/>
                    <a:tab algn="l" pos="1015992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Your Compan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123920" y="3103200"/>
                <a:ext cx="738000" cy="293400"/>
              </a:xfrm>
              <a:prstGeom prst="ellipse">
                <a:avLst/>
              </a:prstGeom>
              <a:noFill/>
              <a:ln w="2556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2444040" y="4648320"/>
              <a:ext cx="4275720" cy="1040760"/>
              <a:chOff x="2444040" y="4648320"/>
              <a:chExt cx="4275720" cy="1040760"/>
            </a:xfrm>
          </p:grpSpPr>
          <p:sp>
            <p:nvSpPr>
              <p:cNvPr id="159" name=""/>
              <p:cNvSpPr/>
              <p:nvPr/>
            </p:nvSpPr>
            <p:spPr>
              <a:xfrm>
                <a:off x="2444040" y="4648320"/>
                <a:ext cx="4275720" cy="33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9280" rIns="89280" tIns="43920" bIns="439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01800"/>
                    <a:tab algn="l" pos="1803240"/>
                    <a:tab algn="l" pos="2705040"/>
                    <a:tab algn="l" pos="3606840"/>
                    <a:tab algn="l" pos="4508640"/>
                    <a:tab algn="l" pos="5410080"/>
                    <a:tab algn="l" pos="6311880"/>
                    <a:tab algn="l" pos="7213680"/>
                    <a:tab algn="l" pos="8115480"/>
                    <a:tab algn="l" pos="9016920"/>
                    <a:tab algn="l" pos="9918720"/>
                    <a:tab algn="l" pos="1082052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Supply Chain Operations Reference Mode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563640" y="4984560"/>
                <a:ext cx="1976400" cy="456840"/>
              </a:xfrm>
              <a:prstGeom prst="rightArrow">
                <a:avLst>
                  <a:gd name="adj1" fmla="val 75000"/>
                  <a:gd name="adj2" fmla="val 127744"/>
                </a:avLst>
              </a:prstGeom>
              <a:gradFill rotWithShape="0">
                <a:gsLst>
                  <a:gs pos="0">
                    <a:srgbClr val="919191"/>
                  </a:gs>
                  <a:gs pos="50000">
                    <a:srgbClr val="fefefe"/>
                  </a:gs>
                  <a:gs pos="100000">
                    <a:srgbClr val="919191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200" rIns="2520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733560" y="5105160"/>
                <a:ext cx="1154160" cy="23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11880" bIns="118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844880" y="5316120"/>
                <a:ext cx="1052280" cy="372960"/>
              </a:xfrm>
              <a:custGeom>
                <a:avLst/>
                <a:gdLst/>
                <a:ahLst/>
                <a:rect l="l" t="t" r="r" b="b"/>
                <a:pathLst>
                  <a:path w="377" h="181">
                    <a:moveTo>
                      <a:pt x="188" y="0"/>
                    </a:moveTo>
                    <a:lnTo>
                      <a:pt x="188" y="23"/>
                    </a:lnTo>
                    <a:lnTo>
                      <a:pt x="0" y="23"/>
                    </a:lnTo>
                    <a:lnTo>
                      <a:pt x="0" y="158"/>
                    </a:lnTo>
                    <a:lnTo>
                      <a:pt x="188" y="158"/>
                    </a:lnTo>
                    <a:lnTo>
                      <a:pt x="188" y="180"/>
                    </a:lnTo>
                    <a:lnTo>
                      <a:pt x="376" y="90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200" rIns="2520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170240" y="5319360"/>
                <a:ext cx="761760" cy="365040"/>
              </a:xfrm>
              <a:custGeom>
                <a:avLst/>
                <a:gdLst/>
                <a:ahLst/>
                <a:rect l="l" t="t" r="r" b="b"/>
                <a:pathLst>
                  <a:path w="387" h="177">
                    <a:moveTo>
                      <a:pt x="193" y="0"/>
                    </a:moveTo>
                    <a:lnTo>
                      <a:pt x="193" y="22"/>
                    </a:lnTo>
                    <a:lnTo>
                      <a:pt x="0" y="22"/>
                    </a:lnTo>
                    <a:lnTo>
                      <a:pt x="0" y="154"/>
                    </a:lnTo>
                    <a:lnTo>
                      <a:pt x="193" y="154"/>
                    </a:lnTo>
                    <a:lnTo>
                      <a:pt x="193" y="176"/>
                    </a:lnTo>
                    <a:lnTo>
                      <a:pt x="386" y="88"/>
                    </a:lnTo>
                    <a:lnTo>
                      <a:pt x="193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200" rIns="2520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306600" y="5316120"/>
                <a:ext cx="977760" cy="363240"/>
              </a:xfrm>
              <a:custGeom>
                <a:avLst/>
                <a:gdLst/>
                <a:ahLst/>
                <a:rect l="l" t="t" r="r" b="b"/>
                <a:pathLst>
                  <a:path w="411" h="177">
                    <a:moveTo>
                      <a:pt x="205" y="0"/>
                    </a:moveTo>
                    <a:lnTo>
                      <a:pt x="205" y="22"/>
                    </a:lnTo>
                    <a:lnTo>
                      <a:pt x="0" y="22"/>
                    </a:lnTo>
                    <a:lnTo>
                      <a:pt x="0" y="154"/>
                    </a:lnTo>
                    <a:lnTo>
                      <a:pt x="205" y="154"/>
                    </a:lnTo>
                    <a:lnTo>
                      <a:pt x="205" y="176"/>
                    </a:lnTo>
                    <a:lnTo>
                      <a:pt x="410" y="88"/>
                    </a:lnTo>
                    <a:lnTo>
                      <a:pt x="205" y="0"/>
                    </a:lnTo>
                  </a:path>
                </a:pathLst>
              </a:custGeom>
              <a:solidFill>
                <a:srgbClr val="969696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200" rIns="25200" tIns="11880" bIns="118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306600" y="5403600"/>
                <a:ext cx="772920" cy="2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11880" bIns="118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"/>
                  </a:rPr>
                  <a:t>Sour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267080" y="5410080"/>
                <a:ext cx="506160" cy="2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11880" bIns="118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"/>
                  </a:rPr>
                  <a:t>Mak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892400" y="5410080"/>
                <a:ext cx="776160" cy="2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25560" rIns="25560" tIns="11880" bIns="118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71280"/>
                    <a:tab algn="l" pos="142920"/>
                    <a:tab algn="l" pos="214200"/>
                    <a:tab algn="l" pos="285840"/>
                    <a:tab algn="l" pos="357120"/>
                    <a:tab algn="l" pos="428760"/>
                    <a:tab algn="l" pos="500040"/>
                    <a:tab algn="l" pos="571680"/>
                    <a:tab algn="l" pos="642960"/>
                    <a:tab algn="l" pos="714240"/>
                    <a:tab algn="l" pos="785880"/>
                    <a:tab algn="l" pos="857160"/>
                    <a:tab algn="l" pos="928800"/>
                    <a:tab algn="l" pos="1000080"/>
                    <a:tab algn="l" pos="1071720"/>
                    <a:tab algn="l" pos="1143000"/>
                    <a:tab algn="l" pos="1214280"/>
                    <a:tab algn="l" pos="1285920"/>
                    <a:tab algn="l" pos="1357200"/>
                    <a:tab algn="l" pos="1428840"/>
                  </a:tabLst>
                </a:pPr>
                <a:r>
                  <a:rPr b="1" lang="it-IT" sz="1200" spc="-1" strike="noStrike">
                    <a:solidFill>
                      <a:srgbClr val="ffffff"/>
                    </a:solidFill>
                    <a:latin typeface="Arial"/>
                  </a:rPr>
                  <a:t>Deli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149400" y="3504600"/>
              <a:ext cx="1047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uppliers’</a:t>
              </a:r>
              <a:br>
                <a:rPr sz="1400"/>
              </a:br>
              <a:r>
                <a:rPr b="1" lang="it-IT" sz="14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98760" y="1600200"/>
              <a:ext cx="1716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MPANY BOUNDAR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248160" y="19051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86600" y="1905120"/>
              <a:ext cx="685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18240" y="3123720"/>
              <a:ext cx="5738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9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8C40-175D-4E7D-B55B-E851288F29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commerce Differentia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tability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engineering business to be 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bandwidth two-way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ustomer receives immediate at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nta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re/select/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usion of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transaction generates captive information (about people, ha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negie Mell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9C3-2EF8-4073-98BD-9942AD4FCF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01T20:54:13Z</dcterms:created>
  <dc:creator>Geoff Holdridge</dc:creator>
  <dc:description/>
  <dc:language>en-US</dc:language>
  <cp:lastModifiedBy>John Grasso</cp:lastModifiedBy>
  <cp:lastPrinted>2000-06-04T20:13:35Z</cp:lastPrinted>
  <dcterms:modified xsi:type="dcterms:W3CDTF">2000-06-04T20:29:11Z</dcterms:modified>
  <cp:revision>0</cp:revision>
  <dc:subject/>
  <dc:title>No Slide Title</dc:title>
</cp:coreProperties>
</file>