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733400" y="642960"/>
            <a:ext cx="298944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Click to move the slide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49000" y="2995200"/>
            <a:ext cx="5575320" cy="6234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6640" y="2727360"/>
            <a:ext cx="6753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17680" y="279360"/>
            <a:ext cx="11566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DS: DASSS-U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ide </a:t>
            </a:r>
            <a:fld id="{96874773-E655-4AC5-9A66-B94925477C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1320" y="9252000"/>
            <a:ext cx="1804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74960" y="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74960" y="9329760"/>
            <a:ext cx="28879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932976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28875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92080" y="747720"/>
            <a:ext cx="4880160" cy="3660840"/>
          </a:xfrm>
          <a:prstGeom prst="rect">
            <a:avLst/>
          </a:prstGeom>
          <a:ln w="0">
            <a:noFill/>
          </a:ln>
        </p:spPr>
      </p:sp>
      <p:sp>
        <p:nvSpPr>
          <p:cNvPr id="109" name=""/>
          <p:cNvSpPr/>
          <p:nvPr/>
        </p:nvSpPr>
        <p:spPr>
          <a:xfrm>
            <a:off x="1482840" y="1919160"/>
            <a:ext cx="1358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658680" y="3132000"/>
            <a:ext cx="1249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32320" y="1919160"/>
            <a:ext cx="1358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8840" y="3193920"/>
            <a:ext cx="1249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26520" y="1285920"/>
            <a:ext cx="1643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56720" y="1366920"/>
            <a:ext cx="16430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5240" y="3246480"/>
            <a:ext cx="95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70120" y="3346560"/>
            <a:ext cx="95868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9CC6-D4D8-4786-939C-127F1D0F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480" y="3957480"/>
            <a:ext cx="822780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AE36-3FFF-4EF0-B1F6-7C10AD9CA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448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080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C9A11-FB7A-4D0E-8CE7-40121A558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6560" y="12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8640" y="12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480" y="39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6560" y="39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8640" y="3957480"/>
            <a:ext cx="264924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F22B1-7553-4F2C-9321-A17B475C02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ED8DB-C0F6-4D6A-BABA-546E3286C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432B-561F-4F30-AB92-A14FBCDD1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DE3A-64B6-434D-B6EB-3A208E85C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133A-E5D8-4D2B-B517-C6AC352E3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4440" y="472680"/>
            <a:ext cx="8226360" cy="39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32C4-EDFB-4C4D-8CF8-59948A688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48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DD0F-F12E-442A-9763-B7B3C9B21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0800" y="39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CBD57-21AC-4F94-B980-253A2B81C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0800" y="1257480"/>
            <a:ext cx="401508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4480" y="3957480"/>
            <a:ext cx="8227800" cy="24652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AA731-E93D-408E-836B-240C7E939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10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109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457360" indent="-214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457360" indent="-214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457360" indent="-214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»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597720"/>
            <a:ext cx="91314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114120" tIns="54360" bIns="5436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876920"/>
                <a:tab algn="r" pos="9428040"/>
                <a:tab algn="l" pos="10086840"/>
              </a:tabLst>
            </a:pP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.</a:t>
            </a: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100" spc="-1" strike="noStrike">
                <a:solidFill>
                  <a:srgbClr val="919191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920" y="7920"/>
            <a:ext cx="9107640" cy="682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Click to edit the title text format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56680" y="6171840"/>
            <a:ext cx="6000840" cy="51444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4000" bIns="54000" anchor="t">
            <a:noAutofit/>
          </a:bodyPr>
          <a:lstStyle>
            <a:lvl1pPr indent="0" algn="ct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2000 John Grasso, Carnegie Mel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857640" y="6171840"/>
            <a:ext cx="2143080" cy="514440"/>
          </a:xfrm>
          <a:prstGeom prst="rect">
            <a:avLst/>
          </a:prstGeom>
          <a:noFill/>
          <a:ln w="0">
            <a:noFill/>
          </a:ln>
        </p:spPr>
        <p:txBody>
          <a:bodyPr lIns="107640" rIns="10764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1077840"/>
                <a:tab algn="l" pos="2155680"/>
                <a:tab algn="l" pos="3233880"/>
                <a:tab algn="l" pos="4311720"/>
                <a:tab algn="l" pos="5389560"/>
                <a:tab algn="l" pos="6467400"/>
                <a:tab algn="l" pos="7545240"/>
                <a:tab algn="l" pos="8623440"/>
                <a:tab algn="l" pos="9701280"/>
                <a:tab algn="l" pos="107791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5023E39-A550-4A04-8C60-DD98972204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ampus%20faded" descr=""/>
          <p:cNvPicPr/>
          <p:nvPr/>
        </p:nvPicPr>
        <p:blipFill>
          <a:blip r:embed="rId1">
            <a:lum contrast="12000"/>
          </a:blip>
          <a:srcRect l="6061" t="0" r="6061" b="8333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51040" y="1600200"/>
            <a:ext cx="647856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5100" spc="-1" strike="noStrike">
                <a:solidFill>
                  <a:srgbClr val="000000"/>
                </a:solidFill>
                <a:latin typeface="Times New Roman"/>
              </a:rPr>
              <a:t>The Case of FreeMarkets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08280" y="4336920"/>
            <a:ext cx="604188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John T. Grasso, Ph.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412) 268-1695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9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rasso@cmu.ed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ordmark" descr=""/>
          <p:cNvPicPr/>
          <p:nvPr/>
        </p:nvPicPr>
        <p:blipFill>
          <a:blip r:embed="rId2"/>
          <a:stretch/>
        </p:blipFill>
        <p:spPr>
          <a:xfrm>
            <a:off x="79200" y="0"/>
            <a:ext cx="3502080" cy="56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57FBF-C335-4563-9216-ACEBA263FA0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5. Post-Auction Service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es, case-by-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“client need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inclu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tion of quot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and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ance for “award” deci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stance for award contr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69B0-7FE2-4FF0-8B6F-6C11CAB479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E-Steel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“reputable users” -- requires registration and scree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ed User can post offers to buy and s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user can control access to information that the user has pos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81B36-73A0-434F-8DFF-9BB65EE9E4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New Intermediary: GMA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 fontScale="96000"/>
          </a:bodyPr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bers of Grocery Mfrs of America (PwC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 food, beverage, consumer product mf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“new, open, transparent supply chain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rocurement, then for other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576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alog purchases, bidding, quotes, sourcing, auctions of raw materials, packaging supplies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576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.   Collaborative planning, demand management, flow management, order fulfillment, customer service, new product commercialization, relationship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EB7B5-0FBA-48A1-BE1D-8CCAAE56E7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FreeMarkets: Applies to what?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general, three c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Marketplaces controlled by s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eks many buyers, e.g., Cisc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s selling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Marketplaces controlled by buy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 Japan Airlines, buying consum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Marketplaces operated by neutral 3rd par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Markets wants to be seen as "neutral" (compared to General Motor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D3C2-5AD0-42B2-A401-46340D06A2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eMarketplace Opportunitie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3750" t="7681" r="7499" b="1920"/>
          <a:stretch/>
        </p:blipFill>
        <p:spPr>
          <a:xfrm>
            <a:off x="782640" y="1295280"/>
            <a:ext cx="7302600" cy="4673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7520" y="6022800"/>
            <a:ext cx="3672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cKinsey Quarterly, 1998, number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5DA50-1BED-43A3-80D6-85C32A2C68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Choose Correct eMarketplace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0" t="13442" r="5999" b="10561"/>
          <a:stretch/>
        </p:blipFill>
        <p:spPr>
          <a:xfrm>
            <a:off x="647640" y="1600200"/>
            <a:ext cx="7734240" cy="39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11F0C-AD3B-4480-A048-5E85EDA95E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B2B at FreeMarkets: </a:t>
            </a:r>
            <a:br>
              <a:rPr sz="4200"/>
            </a:b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Is it High Tech ?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85680" y="1752480"/>
          <a:ext cx="6937560" cy="4613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752480"/>
                    <a:ext cx="6937560" cy="46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09444-679F-4B68-803D-C3F84C9DBA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119240" y="1243080"/>
          <a:ext cx="6622920" cy="47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243080"/>
                    <a:ext cx="662292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844560" y="5943600"/>
            <a:ext cx="63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Tridas Mukhopadhyay, Ramayya Krishnan, Carnegie Mell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Use the eCommerce Value Grid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705B-7162-464B-801B-E7808E52C7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475160" y="312408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1600" y="3957480"/>
            <a:ext cx="236520" cy="5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000840"/>
            <a:ext cx="58561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444600" indent="-444600">
              <a:lnSpc>
                <a:spcPct val="10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dapted From: Michael Porter, "Competitive Strategy", Free Press, New York, 198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560" y="3427560"/>
            <a:ext cx="2849760" cy="114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petitive Rival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67200" y="2367720"/>
            <a:ext cx="281304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reat of New Ent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4806360"/>
            <a:ext cx="285264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reat of Substit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587040"/>
            <a:ext cx="175284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upplier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3587040"/>
            <a:ext cx="1517760" cy="75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Buyer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473720" y="4572000"/>
            <a:ext cx="28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962520"/>
            <a:ext cx="236520" cy="4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Advantage: Is it sustainable?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20" y="1590840"/>
            <a:ext cx="298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Force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AB7BF-1117-42EC-BBAA-30B3B55DC7E8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Glen Meakem, Chair &amp; CEO 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o FreeMar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ultant with McKinsey &amp; Company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cused on industrial sourcing and commodities tra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r in General Electric’s Corporate Business Development Gro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6E6A-8BEE-43E1-9DFC-5B1D00DCE6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Meakem's Proposal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To GE…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 a startup for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 declined the o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o McKinne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 with Meakem and create own start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cKinney accep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esigned FreeMarkets to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owledge of supply marke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rcing expertis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twork technology for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nciples of economics and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AC9B5-B8BD-4BE6-B708-77ADDC3E33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“</a:t>
            </a: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Market Engineering”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 Ph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Buyer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Buyer &amp; Opportun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(for each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“Total Cost RFQ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Supplier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, Screen an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Auction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 Online C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Post-Bid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and Awar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274176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CE4A-FC8A-43A1-B7BD-7E4B3B5B1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1. Find Buyer &amp; Opportunity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Large Buy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e Proc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procu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of the purch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iers:  Incumbents, … global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 for “true market pric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ct Procu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ize Agreement with Buy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s, fees,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ed annual, or variable by volume or savings (“performance-based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0998-D6B6-4A18-8486-BC211C704B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1a. Analyze Procurement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 fontScale="96000"/>
          </a:bodyPr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ms to be procu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include raw commodities, parts, supplies, services… a broad ran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st involve sufficient $$$ to attract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tems “Spec-ready”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y special requirements of the purchase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liers:  Incumbents, … global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“competitive” mark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38080" indent="-18576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, three or more viable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3320" indent="-1933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portunities for “true market pric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720" indent="-19944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 historical, reservation, likely bi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A892-8EFD-44B3-8E4E-49250DABF5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2. Prepare Total Cost RFQ 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ehensive RFQ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elements of total co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y requirements: quantities, timing, shipping, finance, risks, etc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minate ambiguity to create “level playing fiel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non-incumbents to particip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2BDE4-4C62-4313-8F1F-D731F0A53F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3. Suppliers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incumbents and oth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RFI for new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scree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3000" indent="-193680">
              <a:lnSpc>
                <a:spcPct val="90000"/>
              </a:lnSpc>
              <a:spcBef>
                <a:spcPts val="349"/>
              </a:spcBef>
              <a:buClr>
                <a:srgbClr val="232323"/>
              </a:buClr>
              <a:buSzPct val="125000"/>
              <a:buFont typeface="Arial"/>
              <a:buChar char="-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tain buyer approva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RFQ with suppli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e as nee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buyer, finalize the “type of CBE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, procurements, a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invited suppliers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4680" indent="-208080">
              <a:lnSpc>
                <a:spcPct val="90000"/>
              </a:lnSpc>
              <a:spcBef>
                <a:spcPts val="524"/>
              </a:spcBef>
              <a:buClr>
                <a:srgbClr val="232323"/>
              </a:buClr>
              <a:buFont typeface="Arial"/>
              <a:buChar char="•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training and support for C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9C919-954A-4FE2-9DED-83D02B76B3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4440" y="472680"/>
            <a:ext cx="8226360" cy="855720"/>
          </a:xfrm>
          <a:prstGeom prst="rect">
            <a:avLst/>
          </a:prstGeom>
          <a:noFill/>
          <a:ln w="0">
            <a:noFill/>
          </a:ln>
        </p:spPr>
        <p:txBody>
          <a:bodyPr lIns="117720" rIns="117720" tIns="65520" bIns="6552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7760"/>
                <a:tab algn="l" pos="2495520"/>
                <a:tab algn="l" pos="3743280"/>
                <a:tab algn="l" pos="4991040"/>
                <a:tab algn="l" pos="6238800"/>
                <a:tab algn="l" pos="7486560"/>
                <a:tab algn="l" pos="8734320"/>
                <a:tab algn="l" pos="9982080"/>
              </a:tabLst>
            </a:pPr>
            <a:r>
              <a:rPr b="1" lang="en-US" sz="4200" spc="-1" strike="noStrike">
                <a:solidFill>
                  <a:srgbClr val="232323"/>
                </a:solidFill>
                <a:latin typeface="Times New Roman"/>
              </a:rPr>
              <a:t>4. Online CBE</a:t>
            </a:r>
            <a:endParaRPr b="1" lang="en-US" sz="4200" spc="-1" strike="noStrike">
              <a:solidFill>
                <a:srgbClr val="23232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4480" y="1257480"/>
            <a:ext cx="8227800" cy="5168880"/>
          </a:xfrm>
          <a:prstGeom prst="rect">
            <a:avLst/>
          </a:prstGeom>
          <a:noFill/>
          <a:ln w="0">
            <a:noFill/>
          </a:ln>
        </p:spPr>
        <p:txBody>
          <a:bodyPr lIns="114120" rIns="114120" tIns="54360" bIns="54360" anchor="t">
            <a:normAutofit/>
          </a:bodyPr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pare for online Competitive Bidding Ev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network and software servi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special assist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1600" indent="-201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 "/>
              <a:tabLst>
                <a:tab algn="l" pos="1120680"/>
                <a:tab algn="l" pos="2241720"/>
                <a:tab algn="l" pos="3362400"/>
                <a:tab algn="l" pos="4483080"/>
                <a:tab algn="l" pos="5603760"/>
                <a:tab algn="l" pos="6724800"/>
                <a:tab algn="l" pos="7845480"/>
                <a:tab algn="l" pos="8966160"/>
                <a:tab algn="l" pos="10086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 CB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DADAE-57B2-4EE7-A81B-8637CB0233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04:55:53Z</dcterms:created>
  <dc:creator>John T. Grasso</dc:creator>
  <dc:description/>
  <dc:language>en-US</dc:language>
  <cp:lastModifiedBy>John Grasso</cp:lastModifiedBy>
  <cp:lastPrinted>2000-04-27T13:05:27Z</cp:lastPrinted>
  <dcterms:modified xsi:type="dcterms:W3CDTF">2000-09-28T11:35:04Z</dcterms:modified>
  <cp:revision>16</cp:revision>
  <dc:subject/>
  <dc:title>No Slide Title</dc:title>
</cp:coreProperties>
</file>