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8129588" cy="6094413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7280" y="619200"/>
            <a:ext cx="4125960" cy="30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"/>
          <p:cNvSpPr/>
          <p:nvPr/>
        </p:nvSpPr>
        <p:spPr>
          <a:xfrm>
            <a:off x="6215400" y="279360"/>
            <a:ext cx="79632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5563AA-BA04-428E-9B48-178CB90499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80" y="8623440"/>
            <a:ext cx="697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6960" y="8677440"/>
            <a:ext cx="14086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ving the Survivability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Networked Systems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67320" y="8685360"/>
            <a:ext cx="1991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Software Engineering Institute is a federally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unded research and development center sponsored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y the U.S. Department of Defense and managed by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rnegie Mellon University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32720" y="8720280"/>
            <a:ext cx="633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421911-C8A9-4E61-8067-CCCB24DE3F1D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7960" y="8897760"/>
            <a:ext cx="4791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CD3D37-A319-44BC-B6F2-8370FC4C3567}" type="datetime10">
              <a:rPr b="1" i="1" lang="en-US" sz="900" spc="-1" strike="noStrike">
                <a:solidFill>
                  <a:srgbClr val="000000"/>
                </a:solidFill>
                <a:latin typeface="Arial"/>
              </a:rPr>
              <a:t>10: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99480" y="4408200"/>
            <a:ext cx="559548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29280" cy="417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part of the picture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23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29280" cy="417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part of the picture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90200" y="3980520"/>
            <a:ext cx="690876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0200" y="398052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30440" y="398052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6240" y="209988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62280" y="209988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90200" y="398052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6240" y="398052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62280" y="3980520"/>
            <a:ext cx="222444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63640" y="818640"/>
            <a:ext cx="683568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90200" y="398052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30440" y="398052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30440" y="2099880"/>
            <a:ext cx="337140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90200" y="3980520"/>
            <a:ext cx="6908760" cy="1717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30480" y="2863800"/>
            <a:ext cx="141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"/>
          <p:cNvSpPr/>
          <p:nvPr/>
        </p:nvSpPr>
        <p:spPr>
          <a:xfrm>
            <a:off x="-47160" y="5749920"/>
            <a:ext cx="6883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661F000-1081-4379-BF5F-7BACAF7069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719280"/>
            <a:ext cx="7119720" cy="0"/>
          </a:xfrm>
          <a:prstGeom prst="line">
            <a:avLst/>
          </a:prstGeom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22200" indent="-1364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84360" indent="-1364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84360" indent="-1364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84360" indent="-1364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8720" y="5740560"/>
            <a:ext cx="221004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algn="just">
              <a:lnSpc>
                <a:spcPct val="133000"/>
              </a:lnSpc>
              <a:spcBef>
                <a:spcPts val="587"/>
              </a:spcBef>
              <a:tabLst>
                <a:tab algn="l" pos="0"/>
                <a:tab algn="l" pos="387360"/>
                <a:tab algn="l" pos="646200"/>
                <a:tab algn="l" pos="1033560"/>
                <a:tab algn="l" pos="1420920"/>
                <a:tab algn="l" pos="180828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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photoshop2" descr=""/>
          <p:cNvPicPr/>
          <p:nvPr/>
        </p:nvPicPr>
        <p:blipFill>
          <a:blip r:embed="rId2"/>
          <a:stretch/>
        </p:blipFill>
        <p:spPr>
          <a:xfrm>
            <a:off x="190440" y="304920"/>
            <a:ext cx="2895840" cy="41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90920" y="3341520"/>
            <a:ext cx="3713400" cy="2730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6520" y="953640"/>
            <a:ext cx="6769080" cy="2497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CERT Coordination Center and Survivable Systems Initiativ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360" y="3540240"/>
            <a:ext cx="6885000" cy="1257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36360" bIns="36360" anchor="t">
            <a:normAutofit fontScale="59000"/>
          </a:bodyPr>
          <a:p>
            <a:pPr marL="67320" indent="-6732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7320" indent="-67320">
              <a:lnSpc>
                <a:spcPct val="85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 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work is sponsored by th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.S. Department of Defen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7320"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63640" y="819000"/>
            <a:ext cx="6835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itiativ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70680" y="1295280"/>
            <a:ext cx="1422360" cy="1422360"/>
          </a:xfrm>
          <a:prstGeom prst="ellipse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a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9000" y="2463840"/>
            <a:ext cx="320760" cy="422280"/>
            <a:chOff x="3789000" y="2463840"/>
            <a:chExt cx="320760" cy="422280"/>
          </a:xfrm>
        </p:grpSpPr>
        <p:sp>
          <p:nvSpPr>
            <p:cNvPr id="81" name=""/>
            <p:cNvSpPr/>
            <p:nvPr/>
          </p:nvSpPr>
          <p:spPr>
            <a:xfrm rot="10800000">
              <a:off x="3789000" y="2706840"/>
              <a:ext cx="320760" cy="179280"/>
            </a:xfrm>
            <a:prstGeom prst="triangle">
              <a:avLst>
                <a:gd name="adj" fmla="val 49995"/>
              </a:avLst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65680" y="2463840"/>
              <a:ext cx="160200" cy="236520"/>
            </a:xfrm>
            <a:prstGeom prst="rect">
              <a:avLst/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796920" y="3954600"/>
            <a:ext cx="320760" cy="421920"/>
            <a:chOff x="3796920" y="3954600"/>
            <a:chExt cx="320760" cy="421920"/>
          </a:xfrm>
        </p:grpSpPr>
        <p:sp>
          <p:nvSpPr>
            <p:cNvPr id="84" name=""/>
            <p:cNvSpPr/>
            <p:nvPr/>
          </p:nvSpPr>
          <p:spPr>
            <a:xfrm rot="10800000">
              <a:off x="3796920" y="4196880"/>
              <a:ext cx="320760" cy="179640"/>
            </a:xfrm>
            <a:prstGeom prst="triangle">
              <a:avLst>
                <a:gd name="adj" fmla="val 49995"/>
              </a:avLst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73600" y="3954600"/>
              <a:ext cx="160200" cy="236520"/>
            </a:xfrm>
            <a:prstGeom prst="rect">
              <a:avLst/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403360" y="4724280"/>
            <a:ext cx="422280" cy="320760"/>
            <a:chOff x="2403360" y="4724280"/>
            <a:chExt cx="422280" cy="320760"/>
          </a:xfrm>
        </p:grpSpPr>
        <p:sp>
          <p:nvSpPr>
            <p:cNvPr id="87" name=""/>
            <p:cNvSpPr/>
            <p:nvPr/>
          </p:nvSpPr>
          <p:spPr>
            <a:xfrm rot="5400000">
              <a:off x="2576160" y="4795560"/>
              <a:ext cx="320760" cy="177840"/>
            </a:xfrm>
            <a:prstGeom prst="triangle">
              <a:avLst>
                <a:gd name="adj" fmla="val 49995"/>
              </a:avLst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03360" y="4808520"/>
              <a:ext cx="236520" cy="160200"/>
            </a:xfrm>
            <a:prstGeom prst="rect">
              <a:avLst/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82800" y="4414680"/>
            <a:ext cx="1401480" cy="1035360"/>
          </a:xfrm>
          <a:prstGeom prst="rect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arc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73080" y="2978280"/>
            <a:ext cx="1401840" cy="1035000"/>
          </a:xfrm>
          <a:prstGeom prst="rect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log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4414680"/>
            <a:ext cx="2141280" cy="1022400"/>
          </a:xfrm>
          <a:prstGeom prst="rect">
            <a:avLst/>
          </a:prstGeom>
          <a:solidFill>
            <a:srgbClr val="20da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vivabl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979720"/>
            <a:ext cx="2141640" cy="1022400"/>
          </a:xfrm>
          <a:prstGeom prst="rect">
            <a:avLst/>
          </a:prstGeom>
          <a:solidFill>
            <a:srgbClr val="20da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viv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519200"/>
            <a:ext cx="2141640" cy="1022400"/>
          </a:xfrm>
          <a:prstGeom prst="rect">
            <a:avLst/>
          </a:prstGeom>
          <a:solidFill>
            <a:srgbClr val="20da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105520" y="1362240"/>
            <a:ext cx="888840" cy="4243320"/>
            <a:chOff x="5105520" y="1362240"/>
            <a:chExt cx="888840" cy="4243320"/>
          </a:xfrm>
        </p:grpSpPr>
        <p:sp>
          <p:nvSpPr>
            <p:cNvPr id="95" name=""/>
            <p:cNvSpPr/>
            <p:nvPr/>
          </p:nvSpPr>
          <p:spPr>
            <a:xfrm>
              <a:off x="5106960" y="1362240"/>
              <a:ext cx="879480" cy="1346040"/>
            </a:xfrm>
            <a:prstGeom prst="rightArrow">
              <a:avLst>
                <a:gd name="adj1" fmla="val 75000"/>
                <a:gd name="adj2" fmla="val 51565"/>
              </a:avLst>
            </a:pr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  <a:effectLst>
              <a:outerShdw dist="0" dir="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14880" y="2819520"/>
              <a:ext cx="879480" cy="1346040"/>
            </a:xfrm>
            <a:prstGeom prst="rightArrow">
              <a:avLst>
                <a:gd name="adj1" fmla="val 75000"/>
                <a:gd name="adj2" fmla="val 51565"/>
              </a:avLst>
            </a:pr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  <a:effectLst>
              <a:outerShdw dist="0" dir="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4259160"/>
              <a:ext cx="879480" cy="1346400"/>
            </a:xfrm>
            <a:prstGeom prst="rightArrow">
              <a:avLst>
                <a:gd name="adj1" fmla="val 75000"/>
                <a:gd name="adj2" fmla="val 51565"/>
              </a:avLst>
            </a:pr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  <a:effectLst>
              <a:outerShdw dist="0" dir="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403360" y="3294000"/>
            <a:ext cx="422280" cy="320760"/>
            <a:chOff x="2403360" y="3294000"/>
            <a:chExt cx="422280" cy="320760"/>
          </a:xfrm>
        </p:grpSpPr>
        <p:sp>
          <p:nvSpPr>
            <p:cNvPr id="99" name=""/>
            <p:cNvSpPr/>
            <p:nvPr/>
          </p:nvSpPr>
          <p:spPr>
            <a:xfrm rot="5400000">
              <a:off x="2576160" y="3365280"/>
              <a:ext cx="320760" cy="177840"/>
            </a:xfrm>
            <a:prstGeom prst="triangle">
              <a:avLst>
                <a:gd name="adj" fmla="val 49995"/>
              </a:avLst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03360" y="3378240"/>
              <a:ext cx="236520" cy="160200"/>
            </a:xfrm>
            <a:prstGeom prst="rect">
              <a:avLst/>
            </a:prstGeom>
            <a:solidFill>
              <a:srgbClr val="20d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070680" y="2778120"/>
            <a:ext cx="1422360" cy="1422360"/>
          </a:xfrm>
          <a:prstGeom prst="ellipse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60960" y="4243320"/>
            <a:ext cx="1422360" cy="1422360"/>
          </a:xfrm>
          <a:prstGeom prst="ellipse">
            <a:avLst/>
          </a:prstGeom>
          <a:solidFill>
            <a:srgbClr val="20d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8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55520" y="1538280"/>
            <a:ext cx="6473880" cy="1836720"/>
          </a:xfrm>
          <a:prstGeom prst="ellips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0040" y="1554120"/>
            <a:ext cx="5784840" cy="127944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28880" y="1544760"/>
            <a:ext cx="4694040" cy="790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5760" y="1533600"/>
            <a:ext cx="3535200" cy="38556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7000" y="808200"/>
            <a:ext cx="6488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/CC Field of 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83320" y="2839680"/>
            <a:ext cx="44251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Information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0720" y="2361600"/>
            <a:ext cx="395424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Information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92920" y="1947600"/>
            <a:ext cx="207216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deral Ag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05360" y="1568160"/>
            <a:ext cx="65016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28880" y="4038480"/>
            <a:ext cx="683712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vulnerabilities identified/wee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rned DoD of vulnerability used i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ar Sunrise 2 months befo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acks 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d 30 other special warn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349"/>
              </a:spcAft>
              <a:buClr>
                <a:srgbClr val="000000"/>
              </a:buClr>
              <a:buFont typeface="Arial"/>
              <a:buChar char=" "/>
              <a:tabLst>
                <a:tab algn="l" pos="320184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5 incidents processed/wee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ed penetrations into 1400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deral systems that were no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ed by system ope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0200" y="3669480"/>
            <a:ext cx="912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12680" y="3948120"/>
            <a:ext cx="67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8040" y="3669480"/>
            <a:ext cx="979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12680" y="4865760"/>
            <a:ext cx="6748560" cy="0"/>
          </a:xfrm>
          <a:prstGeom prst="line">
            <a:avLst/>
          </a:prstGeom>
          <a:ln cap="rnd" w="28440">
            <a:solidFill>
              <a:srgbClr val="c0fef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2680" y="3684600"/>
            <a:ext cx="67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/CC Work Product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0560" y="1580760"/>
            <a:ext cx="337824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Repor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iso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-t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ulnerability 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Response Team cour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21080" y="1580760"/>
            <a:ext cx="337824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Re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Ale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ulnerability Cat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Tea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-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Tea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e Team Cour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il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 Analysis Cent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9020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-up in January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ed on collecting and analyzing information assurance data in order to find higher leverage solutions to IA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ber-Security Cens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uder tools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7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y and malicious cod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 Analysis Cent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2000"/>
          </a:bodyPr>
          <a:p>
            <a:pPr marL="82800" indent="-828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ver the underlying causes and trends of unusual or new types of incid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ze routine incidents and allow for rapid recognition and handling of these incid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key detectable characteristics that uniquely characterize the essential elements of incidents and vulner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near-real-time access to incident and vulnerability analysis results, containment strategies, and recovery techn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RT Analysis Center/In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57360"/>
            <a:ext cx="1677960" cy="9493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/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3"/>
            <a:endCxn id="128" idx="1"/>
          </p:cNvCxnSpPr>
          <p:nvPr/>
        </p:nvCxnSpPr>
        <p:spPr>
          <a:xfrm>
            <a:off x="2516040" y="2031480"/>
            <a:ext cx="388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774720" y="3522600"/>
            <a:ext cx="1805040" cy="1760760"/>
          </a:xfrm>
          <a:prstGeom prst="flowChartMultidocumen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/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3400" y="1625760"/>
            <a:ext cx="2063880" cy="812520"/>
          </a:xfrm>
          <a:prstGeom prst="flowChartMagneticDrum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8000" y="1490760"/>
            <a:ext cx="2259000" cy="10159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4"/>
            <a:endCxn id="130" idx="1"/>
          </p:cNvCxnSpPr>
          <p:nvPr/>
        </p:nvCxnSpPr>
        <p:spPr>
          <a:xfrm flipV="1">
            <a:off x="4967280" y="1998360"/>
            <a:ext cx="45144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838600" y="3386160"/>
            <a:ext cx="2322360" cy="1490760"/>
          </a:xfrm>
          <a:prstGeom prst="flowChartMultidocumen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54640" y="3589200"/>
            <a:ext cx="2644920" cy="949320"/>
          </a:xfrm>
          <a:prstGeom prst="flowChartInputOutpu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b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120" y="1150920"/>
            <a:ext cx="20952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lec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0600" y="1084320"/>
            <a:ext cx="17218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aly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26" idx="2"/>
            <a:endCxn id="133" idx="1"/>
          </p:cNvCxnSpPr>
          <p:nvPr/>
        </p:nvCxnSpPr>
        <p:spPr>
          <a:xfrm flipH="1" rot="16200000">
            <a:off x="3636000" y="547920"/>
            <a:ext cx="1083240" cy="4999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0" idx="2"/>
            <a:endCxn id="133" idx="0"/>
          </p:cNvCxnSpPr>
          <p:nvPr/>
        </p:nvCxnSpPr>
        <p:spPr>
          <a:xfrm>
            <a:off x="6548400" y="2506320"/>
            <a:ext cx="394560" cy="1083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0" idx="2"/>
            <a:endCxn id="132" idx="3"/>
          </p:cNvCxnSpPr>
          <p:nvPr/>
        </p:nvCxnSpPr>
        <p:spPr>
          <a:xfrm flipH="1">
            <a:off x="5160600" y="2506680"/>
            <a:ext cx="1388160" cy="162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6" idx="2"/>
            <a:endCxn id="129" idx="0"/>
          </p:cNvCxnSpPr>
          <p:nvPr/>
        </p:nvCxnSpPr>
        <p:spPr>
          <a:xfrm>
            <a:off x="1677600" y="2506680"/>
            <a:ext cx="1080" cy="1016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 Analysis Center: Data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ident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 of the intru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ulnerabilities used during the incid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s, intruder files, other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y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ndor specific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ack scripts (sometime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onomy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rent CERT vulnerability report catalog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5520" y="880920"/>
            <a:ext cx="7256520" cy="473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CERT Analysis Center: Product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RT Adviso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 commun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istics of current activ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reports under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tailed trend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act of intruder activ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ve access to sanitized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ther intelligence products based on CERT and open sour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157720" y="4840200"/>
            <a:ext cx="1835280" cy="82548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1440" y="1214280"/>
            <a:ext cx="7586640" cy="4518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84600" y="4497480"/>
            <a:ext cx="1587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oritized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ulnerabilities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Threat Pai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760320"/>
            <a:ext cx="7201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5080" y="1993680"/>
            <a:ext cx="126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1520" y="1963440"/>
            <a:ext cx="25138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of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 Incid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11480" y="2719440"/>
            <a:ext cx="1790640" cy="76824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7560" y="2776680"/>
            <a:ext cx="1697040" cy="531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f-Assessment or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Party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9920" y="3855960"/>
            <a:ext cx="1790640" cy="768600"/>
          </a:xfrm>
          <a:prstGeom prst="ellipse">
            <a:avLst/>
          </a:prstGeom>
          <a:solidFill>
            <a:srgbClr val="458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02120" y="3981600"/>
            <a:ext cx="1152720" cy="652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z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Priorit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440" y="3855960"/>
            <a:ext cx="1790640" cy="768600"/>
          </a:xfrm>
          <a:prstGeom prst="ellips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14640" y="4125960"/>
            <a:ext cx="1152360" cy="226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ti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91000" y="1857240"/>
            <a:ext cx="928440" cy="6429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4360" y="1882800"/>
            <a:ext cx="933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14840" y="3375000"/>
            <a:ext cx="376200" cy="520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3432240"/>
            <a:ext cx="938160" cy="1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ulner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27640" y="4890960"/>
            <a:ext cx="1155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et Value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reat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593880" y="4229280"/>
            <a:ext cx="95076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040200" y="3357360"/>
            <a:ext cx="336240" cy="507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38320" y="3443400"/>
            <a:ext cx="938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tig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09600" y="4840200"/>
            <a:ext cx="1835280" cy="82548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74760" y="4859280"/>
            <a:ext cx="1809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ganization Impro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8280" y="2490840"/>
            <a:ext cx="276120" cy="239760"/>
          </a:xfrm>
          <a:prstGeom prst="downArrow">
            <a:avLst>
              <a:gd name="adj1" fmla="val 49426"/>
              <a:gd name="adj2" fmla="val 54306"/>
            </a:avLst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5338440" y="4613400"/>
            <a:ext cx="276120" cy="239760"/>
          </a:xfrm>
          <a:prstGeom prst="downArrow">
            <a:avLst>
              <a:gd name="adj1" fmla="val 49426"/>
              <a:gd name="adj2" fmla="val 54306"/>
            </a:avLst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2562120" y="4600440"/>
            <a:ext cx="276480" cy="239760"/>
          </a:xfrm>
          <a:prstGeom prst="downArrow">
            <a:avLst>
              <a:gd name="adj1" fmla="val 49426"/>
              <a:gd name="adj2" fmla="val 54306"/>
            </a:avLst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685800"/>
            <a:ext cx="6835680" cy="69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Management Work Product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90200" y="19047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evaluation method and 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practices guidelines and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managemen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cour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and understanding for manag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and understanding for technical sta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dministration for technical sta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Coordination Cent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75200" y="4368960"/>
            <a:ext cx="2229120" cy="1703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6960" y="14554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90000"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I established, with DARPA sponsorship, the Computer Emergency Response Team Coordination Center in 198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100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RT/CC’s mission is to respond to security emergencies on the Internet, serve as a focal point for reporting security vulnerabilities,  serve as a model to help others establish incident respon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s, and raise awareness o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iss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74880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Technolog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0200" y="19047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survivability risks for your system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services must surv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soft-spots produce ris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mitigating strate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hanges can improve surviv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8600" indent="-5256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changes have the highest payo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762120"/>
            <a:ext cx="6835680" cy="69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Technolog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0200" y="19810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t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single points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ieve survivability through emergent propert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system-wide properti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er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local actions and distributed cooper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use autonomous distributed agents to insure emergence of desired global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63640" y="74880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rvivable Network Technolog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0200" y="196200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le Network Sim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stakeholders to visualize the effects of specific cyber-attacks, accidents, and failures on a given system or infrastructure, including cascade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survivability of large, complex systems of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 emulation testbed for mission-critical applications and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5040" y="20574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44520" y="3428640"/>
            <a:ext cx="5639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marL="90360" indent="0" algn="ctr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146320"/>
            <a:ext cx="8115480" cy="3936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tworks Are Indispensab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 Busines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ed systems allow organizations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 electronic comme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better customer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e with part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communications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internal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needed information rapid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115480" cy="4800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90200" y="1409400"/>
            <a:ext cx="6908760" cy="4290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rush to benefit from using networks, organizations often overlook significant security issu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gineering practices and technology used by system providers are often not sufficient to prevent the fielding of systems vulnerable to at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nd system operators do not always follow best practices that would prevent such attacks or minimize dam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280040" y="1765440"/>
            <a:ext cx="3835440" cy="4317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Risk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0200" y="1531800"/>
            <a:ext cx="6908760" cy="3826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93000"/>
          </a:bodyPr>
          <a:p>
            <a:pPr marL="83880" indent="-838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computer networks revolutioniz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ay you do business, the ris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networks introdu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fatal to a busin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5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ttac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o lo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e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299280" y="3314880"/>
            <a:ext cx="1816200" cy="2768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63640" y="819000"/>
            <a:ext cx="6835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447920"/>
            <a:ext cx="635796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90360" indent="-90360">
              <a:lnSpc>
                <a:spcPct val="85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amage from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technology bank robb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intellectual property - $2M in on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ve compromise of operational systems - 15,000 hour recovery operation in on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records tamp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98600" indent="-525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ing results of diagnostic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98600" indent="-525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omising the integrity of CAT sca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ortion - demanding payments to avoid operation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978440" y="1803240"/>
            <a:ext cx="3137040" cy="42357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360" y="846000"/>
            <a:ext cx="7564320" cy="671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rain on System Administrator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1440" y="1599840"/>
            <a:ext cx="7043760" cy="38545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continued movement to complex,client-server and heterogeneous configurations with distributed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little evidence of security improvements in most products; new vulnerabilities are found routin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hensive security solutions are lacking; current tools address only parts of the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683320" y="3676680"/>
            <a:ext cx="2432160" cy="2362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71680" y="819000"/>
            <a:ext cx="7277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rain on System Administ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9560" y="1778040"/>
            <a:ext cx="702792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ing for ease of use has not been matched by engineering for ease of secure adminis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 of use and increased utility are driving a dramatic explosion i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dministration and security administration are more difficult than a decade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growing gap brings increased vuln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ctivity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0200" y="1642680"/>
            <a:ext cx="6908760" cy="4057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1988, the CERT/CC has responded to over 18,000 security incidents that have affected over 220,000 Internet sites; has worked over 1200 reported vulnerabilities, and has issued 255 advisories and bulletins.  In addition, the CERT/CC has helped foster the creation of over 80 other incident response te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100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4359240" y="1004760"/>
          <a:ext cx="2809800" cy="173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9240" y="1004760"/>
                    <a:ext cx="28098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359240" y="3659040"/>
          <a:ext cx="2892600" cy="168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9240" y="3659040"/>
                    <a:ext cx="289260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05040" y="952560"/>
            <a:ext cx="2919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ternet Grow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1988-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03240" y="3557520"/>
            <a:ext cx="6488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BS and MS Degre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 Computer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formation Scienc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1988-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72840" y="2531520"/>
            <a:ext cx="52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51080" y="2512440"/>
            <a:ext cx="52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63320" y="2296440"/>
            <a:ext cx="266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6120" y="942120"/>
            <a:ext cx="9489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2840" y="3455280"/>
            <a:ext cx="6501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440" y="4977720"/>
            <a:ext cx="266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72840" y="5171400"/>
            <a:ext cx="52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1160" y="5152320"/>
            <a:ext cx="52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79760" y="1027080"/>
            <a:ext cx="2719440" cy="1685880"/>
          </a:xfrm>
          <a:custGeom>
            <a:avLst/>
            <a:gdLst/>
            <a:ahLst/>
            <a:rect l="l" t="t" r="r" b="b"/>
            <a:pathLst>
              <a:path w="1713" h="1062">
                <a:moveTo>
                  <a:pt x="0" y="1062"/>
                </a:moveTo>
                <a:lnTo>
                  <a:pt x="97" y="1049"/>
                </a:lnTo>
                <a:lnTo>
                  <a:pt x="189" y="1053"/>
                </a:lnTo>
                <a:lnTo>
                  <a:pt x="324" y="1041"/>
                </a:lnTo>
                <a:lnTo>
                  <a:pt x="399" y="1050"/>
                </a:lnTo>
                <a:lnTo>
                  <a:pt x="444" y="1041"/>
                </a:lnTo>
                <a:lnTo>
                  <a:pt x="625" y="1035"/>
                </a:lnTo>
                <a:lnTo>
                  <a:pt x="780" y="1023"/>
                </a:lnTo>
                <a:lnTo>
                  <a:pt x="870" y="1005"/>
                </a:lnTo>
                <a:lnTo>
                  <a:pt x="945" y="1002"/>
                </a:lnTo>
                <a:lnTo>
                  <a:pt x="987" y="978"/>
                </a:lnTo>
                <a:lnTo>
                  <a:pt x="1044" y="970"/>
                </a:lnTo>
                <a:lnTo>
                  <a:pt x="1095" y="941"/>
                </a:lnTo>
                <a:lnTo>
                  <a:pt x="1107" y="870"/>
                </a:lnTo>
                <a:lnTo>
                  <a:pt x="1203" y="819"/>
                </a:lnTo>
                <a:lnTo>
                  <a:pt x="1287" y="648"/>
                </a:lnTo>
                <a:lnTo>
                  <a:pt x="1391" y="565"/>
                </a:lnTo>
                <a:lnTo>
                  <a:pt x="1449" y="428"/>
                </a:lnTo>
                <a:lnTo>
                  <a:pt x="1550" y="283"/>
                </a:lnTo>
                <a:lnTo>
                  <a:pt x="1644" y="231"/>
                </a:lnTo>
                <a:lnTo>
                  <a:pt x="1713" y="0"/>
                </a:ln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56160" y="3911760"/>
            <a:ext cx="2471760" cy="352440"/>
          </a:xfrm>
          <a:custGeom>
            <a:avLst/>
            <a:gdLst/>
            <a:ahLst/>
            <a:rect l="l" t="t" r="r" b="b"/>
            <a:pathLst>
              <a:path w="1557" h="222">
                <a:moveTo>
                  <a:pt x="0" y="0"/>
                </a:moveTo>
                <a:lnTo>
                  <a:pt x="222" y="78"/>
                </a:lnTo>
                <a:lnTo>
                  <a:pt x="441" y="138"/>
                </a:lnTo>
                <a:lnTo>
                  <a:pt x="660" y="201"/>
                </a:lnTo>
                <a:lnTo>
                  <a:pt x="888" y="222"/>
                </a:lnTo>
                <a:lnTo>
                  <a:pt x="1107" y="207"/>
                </a:lnTo>
                <a:lnTo>
                  <a:pt x="1335" y="192"/>
                </a:lnTo>
                <a:lnTo>
                  <a:pt x="1557" y="195"/>
                </a:ln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7640" y="3236760"/>
            <a:ext cx="6702480" cy="0"/>
          </a:xfrm>
          <a:prstGeom prst="line">
            <a:avLst/>
          </a:prstGeom>
          <a:ln cap="rnd" w="28440">
            <a:solidFill>
              <a:srgbClr val="9191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28760" y="5602320"/>
            <a:ext cx="64548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Digest of Education Statistics 1997, US Office of Educational Research and Improvement,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ashington DC, publisher: US Superintendent of Document, 19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160" y="3021480"/>
            <a:ext cx="6842160" cy="2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Internet Domain Survey by Network Wizards, WWW.ww.com/z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400" y="992160"/>
            <a:ext cx="0" cy="175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2743200"/>
            <a:ext cx="28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3659040"/>
            <a:ext cx="0" cy="175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5410080"/>
            <a:ext cx="28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27000" y="808200"/>
            <a:ext cx="6488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Yesterday’s Solutions Won’t Work in Today’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22320" y="2127240"/>
            <a:ext cx="64911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highly distribut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 peri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entral administrativ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global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 components (COTS,  Jav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rusted ins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-scale coordinated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480" y="5554800"/>
            <a:ext cx="169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76680" y="5554800"/>
            <a:ext cx="2574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63640" y="819000"/>
            <a:ext cx="6835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re Sophisticated Intru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0560" y="1542960"/>
            <a:ext cx="690876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uder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technical knowledge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ining leverage through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iting network interconnections and moving easily through th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oming more skilled at masking thei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09480" y="3981600"/>
            <a:ext cx="689616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92160" y="2409840"/>
            <a:ext cx="5085000" cy="2535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2200" y="766800"/>
            <a:ext cx="786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ttack Sophistication vs. Intruder Technical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82680" y="2243160"/>
            <a:ext cx="0" cy="31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82680" y="5391000"/>
            <a:ext cx="588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4080" y="2131920"/>
            <a:ext cx="6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4080" y="5079960"/>
            <a:ext cx="64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0456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4908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4292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6520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60840" y="5459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79560" y="2031480"/>
            <a:ext cx="5232600" cy="268956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4645080"/>
            <a:ext cx="10152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63840" y="4325760"/>
            <a:ext cx="101520" cy="101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41680" y="4238640"/>
            <a:ext cx="10152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06560" y="4149720"/>
            <a:ext cx="10188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40160" y="3832200"/>
            <a:ext cx="10152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70280" y="3666960"/>
            <a:ext cx="104760" cy="101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2120" y="3538440"/>
            <a:ext cx="101520" cy="103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30720" y="3424320"/>
            <a:ext cx="10008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57880" y="3311640"/>
            <a:ext cx="101520" cy="99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73520" y="3209760"/>
            <a:ext cx="101520" cy="101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66960" y="4753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02160" y="5035680"/>
            <a:ext cx="160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word gu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43974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61320" y="4781520"/>
            <a:ext cx="1667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f-replicat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92440" y="428292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37720" y="4514760"/>
            <a:ext cx="156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word cra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82520" y="4248000"/>
            <a:ext cx="249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iting known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57680" y="42069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90920" y="371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2560" y="3600360"/>
            <a:ext cx="1344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abling au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440" y="34830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72800" y="3371760"/>
            <a:ext cx="99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do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052880" y="3559320"/>
            <a:ext cx="0" cy="660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98160" y="3828960"/>
            <a:ext cx="887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jac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81480" y="283536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10000" y="2724120"/>
            <a:ext cx="87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ee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08640" y="25560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3720" y="2444760"/>
            <a:ext cx="73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if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4280" y="22636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35120" y="21668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cket sp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32240" y="2917800"/>
            <a:ext cx="10188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83360" y="3000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23600" y="3105000"/>
            <a:ext cx="45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4560" y="2778120"/>
            <a:ext cx="10152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75320" y="282240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22040" y="2979720"/>
            <a:ext cx="1981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ed probes/s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69160" y="2548080"/>
            <a:ext cx="10152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2371680"/>
            <a:ext cx="10188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27840" y="2235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67320" y="237024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18880" y="2166840"/>
            <a:ext cx="1380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67320" y="2641680"/>
            <a:ext cx="1071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 att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36400" y="1625760"/>
            <a:ext cx="79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23160" y="4876920"/>
            <a:ext cx="1219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9000" y="2709720"/>
            <a:ext cx="99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63de8"/>
                </a:solidFill>
                <a:latin typeface="Arial"/>
              </a:rPr>
              <a:t>Intr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63de8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7000" y="4199040"/>
            <a:ext cx="1233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11760" y="1803240"/>
            <a:ext cx="0" cy="474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8520" y="1693800"/>
            <a:ext cx="1828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alth” / advanced scanning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70720" y="2235240"/>
            <a:ext cx="10152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08280" y="3760920"/>
            <a:ext cx="10476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57600" y="386064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68720" y="399564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g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40400" y="3335400"/>
            <a:ext cx="0" cy="428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44640" y="3578400"/>
            <a:ext cx="215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mgmt. diagno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0560" y="3270240"/>
            <a:ext cx="101520" cy="100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38160" y="819000"/>
            <a:ext cx="6486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Vulnerability Exploit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77680" y="3371760"/>
            <a:ext cx="1082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vanc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u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v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uln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9960" y="2403360"/>
            <a:ext cx="1419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ude Exploi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 Distrib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65040" y="1581120"/>
            <a:ext cx="1370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vice Intruder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rud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it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83320" y="1581120"/>
            <a:ext cx="140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nning/Exploi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 Develo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3680" y="2408400"/>
            <a:ext cx="144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despread Us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Automated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nning/Exploi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18560" y="2413080"/>
            <a:ext cx="1472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uders Beg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ing New Type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Explo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090880" y="4711680"/>
            <a:ext cx="0" cy="50184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463840" y="4620960"/>
            <a:ext cx="0" cy="5922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824200" y="4440240"/>
            <a:ext cx="0" cy="77328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186000" y="4054320"/>
            <a:ext cx="0" cy="11592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992840" y="3409920"/>
            <a:ext cx="0" cy="18036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52640" y="5213520"/>
            <a:ext cx="6457680" cy="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3454560"/>
            <a:ext cx="5526000" cy="1598400"/>
          </a:xfrm>
          <a:custGeom>
            <a:avLst/>
            <a:gdLst/>
            <a:ahLst/>
            <a:rect l="l" t="t" r="r" b="b"/>
            <a:pathLst>
              <a:path w="3915" h="1129">
                <a:moveTo>
                  <a:pt x="0" y="1094"/>
                </a:moveTo>
                <a:lnTo>
                  <a:pt x="7" y="1128"/>
                </a:lnTo>
                <a:lnTo>
                  <a:pt x="48" y="1117"/>
                </a:lnTo>
                <a:lnTo>
                  <a:pt x="71" y="1112"/>
                </a:lnTo>
                <a:lnTo>
                  <a:pt x="80" y="1110"/>
                </a:lnTo>
                <a:lnTo>
                  <a:pt x="74" y="1112"/>
                </a:lnTo>
                <a:lnTo>
                  <a:pt x="97" y="1103"/>
                </a:lnTo>
                <a:lnTo>
                  <a:pt x="91" y="1086"/>
                </a:lnTo>
                <a:lnTo>
                  <a:pt x="96" y="1103"/>
                </a:lnTo>
                <a:lnTo>
                  <a:pt x="119" y="1100"/>
                </a:lnTo>
                <a:lnTo>
                  <a:pt x="120" y="1097"/>
                </a:lnTo>
                <a:lnTo>
                  <a:pt x="119" y="1100"/>
                </a:lnTo>
                <a:lnTo>
                  <a:pt x="142" y="1094"/>
                </a:lnTo>
                <a:lnTo>
                  <a:pt x="166" y="1089"/>
                </a:lnTo>
                <a:lnTo>
                  <a:pt x="162" y="1070"/>
                </a:lnTo>
                <a:lnTo>
                  <a:pt x="166" y="1089"/>
                </a:lnTo>
                <a:lnTo>
                  <a:pt x="189" y="1084"/>
                </a:lnTo>
                <a:lnTo>
                  <a:pt x="214" y="1080"/>
                </a:lnTo>
                <a:lnTo>
                  <a:pt x="215" y="1079"/>
                </a:lnTo>
                <a:lnTo>
                  <a:pt x="214" y="1080"/>
                </a:lnTo>
                <a:lnTo>
                  <a:pt x="238" y="1074"/>
                </a:lnTo>
                <a:lnTo>
                  <a:pt x="235" y="1057"/>
                </a:lnTo>
                <a:lnTo>
                  <a:pt x="238" y="1074"/>
                </a:lnTo>
                <a:lnTo>
                  <a:pt x="262" y="1070"/>
                </a:lnTo>
                <a:lnTo>
                  <a:pt x="264" y="1069"/>
                </a:lnTo>
                <a:lnTo>
                  <a:pt x="262" y="1070"/>
                </a:lnTo>
                <a:lnTo>
                  <a:pt x="285" y="1064"/>
                </a:lnTo>
                <a:lnTo>
                  <a:pt x="281" y="1047"/>
                </a:lnTo>
                <a:lnTo>
                  <a:pt x="285" y="1064"/>
                </a:lnTo>
                <a:lnTo>
                  <a:pt x="310" y="1061"/>
                </a:lnTo>
                <a:lnTo>
                  <a:pt x="334" y="1057"/>
                </a:lnTo>
                <a:lnTo>
                  <a:pt x="337" y="1054"/>
                </a:lnTo>
                <a:lnTo>
                  <a:pt x="334" y="1057"/>
                </a:lnTo>
                <a:lnTo>
                  <a:pt x="359" y="1051"/>
                </a:lnTo>
                <a:lnTo>
                  <a:pt x="354" y="1033"/>
                </a:lnTo>
                <a:lnTo>
                  <a:pt x="359" y="1051"/>
                </a:lnTo>
                <a:lnTo>
                  <a:pt x="382" y="1047"/>
                </a:lnTo>
                <a:lnTo>
                  <a:pt x="383" y="1046"/>
                </a:lnTo>
                <a:lnTo>
                  <a:pt x="382" y="1047"/>
                </a:lnTo>
                <a:lnTo>
                  <a:pt x="405" y="1041"/>
                </a:lnTo>
                <a:lnTo>
                  <a:pt x="431" y="1036"/>
                </a:lnTo>
                <a:lnTo>
                  <a:pt x="426" y="1018"/>
                </a:lnTo>
                <a:lnTo>
                  <a:pt x="431" y="1036"/>
                </a:lnTo>
                <a:lnTo>
                  <a:pt x="455" y="1031"/>
                </a:lnTo>
                <a:lnTo>
                  <a:pt x="456" y="1030"/>
                </a:lnTo>
                <a:lnTo>
                  <a:pt x="455" y="1031"/>
                </a:lnTo>
                <a:lnTo>
                  <a:pt x="478" y="1025"/>
                </a:lnTo>
                <a:lnTo>
                  <a:pt x="501" y="1020"/>
                </a:lnTo>
                <a:lnTo>
                  <a:pt x="525" y="1014"/>
                </a:lnTo>
                <a:lnTo>
                  <a:pt x="548" y="1008"/>
                </a:lnTo>
                <a:lnTo>
                  <a:pt x="557" y="1005"/>
                </a:lnTo>
                <a:lnTo>
                  <a:pt x="550" y="1008"/>
                </a:lnTo>
                <a:lnTo>
                  <a:pt x="574" y="1000"/>
                </a:lnTo>
                <a:lnTo>
                  <a:pt x="596" y="992"/>
                </a:lnTo>
                <a:lnTo>
                  <a:pt x="619" y="984"/>
                </a:lnTo>
                <a:lnTo>
                  <a:pt x="640" y="977"/>
                </a:lnTo>
                <a:lnTo>
                  <a:pt x="649" y="972"/>
                </a:lnTo>
                <a:lnTo>
                  <a:pt x="643" y="977"/>
                </a:lnTo>
                <a:lnTo>
                  <a:pt x="666" y="967"/>
                </a:lnTo>
                <a:lnTo>
                  <a:pt x="639" y="977"/>
                </a:lnTo>
                <a:lnTo>
                  <a:pt x="666" y="965"/>
                </a:lnTo>
                <a:lnTo>
                  <a:pt x="688" y="955"/>
                </a:lnTo>
                <a:lnTo>
                  <a:pt x="709" y="945"/>
                </a:lnTo>
                <a:lnTo>
                  <a:pt x="731" y="935"/>
                </a:lnTo>
                <a:lnTo>
                  <a:pt x="731" y="935"/>
                </a:lnTo>
                <a:lnTo>
                  <a:pt x="732" y="935"/>
                </a:lnTo>
                <a:lnTo>
                  <a:pt x="752" y="923"/>
                </a:lnTo>
                <a:lnTo>
                  <a:pt x="742" y="908"/>
                </a:lnTo>
                <a:lnTo>
                  <a:pt x="751" y="923"/>
                </a:lnTo>
                <a:lnTo>
                  <a:pt x="773" y="912"/>
                </a:lnTo>
                <a:lnTo>
                  <a:pt x="774" y="911"/>
                </a:lnTo>
                <a:lnTo>
                  <a:pt x="774" y="912"/>
                </a:lnTo>
                <a:lnTo>
                  <a:pt x="794" y="898"/>
                </a:lnTo>
                <a:lnTo>
                  <a:pt x="784" y="883"/>
                </a:lnTo>
                <a:lnTo>
                  <a:pt x="794" y="898"/>
                </a:lnTo>
                <a:lnTo>
                  <a:pt x="816" y="885"/>
                </a:lnTo>
                <a:lnTo>
                  <a:pt x="826" y="876"/>
                </a:lnTo>
                <a:lnTo>
                  <a:pt x="816" y="885"/>
                </a:lnTo>
                <a:lnTo>
                  <a:pt x="834" y="870"/>
                </a:lnTo>
                <a:lnTo>
                  <a:pt x="833" y="870"/>
                </a:lnTo>
                <a:lnTo>
                  <a:pt x="837" y="869"/>
                </a:lnTo>
                <a:lnTo>
                  <a:pt x="857" y="853"/>
                </a:lnTo>
                <a:lnTo>
                  <a:pt x="854" y="856"/>
                </a:lnTo>
                <a:lnTo>
                  <a:pt x="857" y="853"/>
                </a:lnTo>
                <a:lnTo>
                  <a:pt x="872" y="840"/>
                </a:lnTo>
                <a:lnTo>
                  <a:pt x="887" y="826"/>
                </a:lnTo>
                <a:lnTo>
                  <a:pt x="896" y="819"/>
                </a:lnTo>
                <a:lnTo>
                  <a:pt x="890" y="826"/>
                </a:lnTo>
                <a:lnTo>
                  <a:pt x="906" y="810"/>
                </a:lnTo>
                <a:lnTo>
                  <a:pt x="922" y="794"/>
                </a:lnTo>
                <a:lnTo>
                  <a:pt x="936" y="778"/>
                </a:lnTo>
                <a:lnTo>
                  <a:pt x="929" y="784"/>
                </a:lnTo>
                <a:lnTo>
                  <a:pt x="936" y="777"/>
                </a:lnTo>
                <a:lnTo>
                  <a:pt x="951" y="761"/>
                </a:lnTo>
                <a:lnTo>
                  <a:pt x="967" y="744"/>
                </a:lnTo>
                <a:lnTo>
                  <a:pt x="967" y="742"/>
                </a:lnTo>
                <a:lnTo>
                  <a:pt x="967" y="744"/>
                </a:lnTo>
                <a:lnTo>
                  <a:pt x="981" y="727"/>
                </a:lnTo>
                <a:lnTo>
                  <a:pt x="967" y="714"/>
                </a:lnTo>
                <a:lnTo>
                  <a:pt x="981" y="727"/>
                </a:lnTo>
                <a:lnTo>
                  <a:pt x="995" y="708"/>
                </a:lnTo>
                <a:lnTo>
                  <a:pt x="995" y="706"/>
                </a:lnTo>
                <a:lnTo>
                  <a:pt x="995" y="708"/>
                </a:lnTo>
                <a:lnTo>
                  <a:pt x="1010" y="691"/>
                </a:lnTo>
                <a:lnTo>
                  <a:pt x="1024" y="673"/>
                </a:lnTo>
                <a:lnTo>
                  <a:pt x="1017" y="681"/>
                </a:lnTo>
                <a:lnTo>
                  <a:pt x="1024" y="671"/>
                </a:lnTo>
                <a:lnTo>
                  <a:pt x="1037" y="652"/>
                </a:lnTo>
                <a:lnTo>
                  <a:pt x="1024" y="642"/>
                </a:lnTo>
                <a:lnTo>
                  <a:pt x="1037" y="653"/>
                </a:lnTo>
                <a:lnTo>
                  <a:pt x="1051" y="636"/>
                </a:lnTo>
                <a:lnTo>
                  <a:pt x="1046" y="643"/>
                </a:lnTo>
                <a:lnTo>
                  <a:pt x="1051" y="635"/>
                </a:lnTo>
                <a:lnTo>
                  <a:pt x="1064" y="615"/>
                </a:lnTo>
                <a:lnTo>
                  <a:pt x="1079" y="594"/>
                </a:lnTo>
                <a:lnTo>
                  <a:pt x="1092" y="576"/>
                </a:lnTo>
                <a:lnTo>
                  <a:pt x="1106" y="556"/>
                </a:lnTo>
                <a:lnTo>
                  <a:pt x="1119" y="535"/>
                </a:lnTo>
                <a:lnTo>
                  <a:pt x="1122" y="533"/>
                </a:lnTo>
                <a:lnTo>
                  <a:pt x="1122" y="535"/>
                </a:lnTo>
                <a:lnTo>
                  <a:pt x="1133" y="517"/>
                </a:lnTo>
                <a:lnTo>
                  <a:pt x="1117" y="507"/>
                </a:lnTo>
                <a:lnTo>
                  <a:pt x="1132" y="517"/>
                </a:lnTo>
                <a:lnTo>
                  <a:pt x="1145" y="497"/>
                </a:lnTo>
                <a:lnTo>
                  <a:pt x="1159" y="478"/>
                </a:lnTo>
                <a:lnTo>
                  <a:pt x="1172" y="458"/>
                </a:lnTo>
                <a:lnTo>
                  <a:pt x="1175" y="454"/>
                </a:lnTo>
                <a:lnTo>
                  <a:pt x="1175" y="458"/>
                </a:lnTo>
                <a:lnTo>
                  <a:pt x="1186" y="438"/>
                </a:lnTo>
                <a:lnTo>
                  <a:pt x="1171" y="429"/>
                </a:lnTo>
                <a:lnTo>
                  <a:pt x="1185" y="438"/>
                </a:lnTo>
                <a:lnTo>
                  <a:pt x="1198" y="419"/>
                </a:lnTo>
                <a:lnTo>
                  <a:pt x="1212" y="399"/>
                </a:lnTo>
                <a:lnTo>
                  <a:pt x="1198" y="389"/>
                </a:lnTo>
                <a:lnTo>
                  <a:pt x="1212" y="402"/>
                </a:lnTo>
                <a:lnTo>
                  <a:pt x="1225" y="383"/>
                </a:lnTo>
                <a:lnTo>
                  <a:pt x="1219" y="392"/>
                </a:lnTo>
                <a:lnTo>
                  <a:pt x="1225" y="382"/>
                </a:lnTo>
                <a:lnTo>
                  <a:pt x="1240" y="362"/>
                </a:lnTo>
                <a:lnTo>
                  <a:pt x="1261" y="333"/>
                </a:lnTo>
                <a:lnTo>
                  <a:pt x="1241" y="362"/>
                </a:lnTo>
                <a:lnTo>
                  <a:pt x="1252" y="344"/>
                </a:lnTo>
                <a:lnTo>
                  <a:pt x="1237" y="334"/>
                </a:lnTo>
                <a:lnTo>
                  <a:pt x="1251" y="344"/>
                </a:lnTo>
                <a:lnTo>
                  <a:pt x="1265" y="324"/>
                </a:lnTo>
                <a:lnTo>
                  <a:pt x="1251" y="316"/>
                </a:lnTo>
                <a:lnTo>
                  <a:pt x="1265" y="327"/>
                </a:lnTo>
                <a:lnTo>
                  <a:pt x="1278" y="310"/>
                </a:lnTo>
                <a:lnTo>
                  <a:pt x="1293" y="291"/>
                </a:lnTo>
                <a:lnTo>
                  <a:pt x="1306" y="274"/>
                </a:lnTo>
                <a:lnTo>
                  <a:pt x="1293" y="262"/>
                </a:lnTo>
                <a:lnTo>
                  <a:pt x="1306" y="274"/>
                </a:lnTo>
                <a:lnTo>
                  <a:pt x="1320" y="258"/>
                </a:lnTo>
                <a:lnTo>
                  <a:pt x="1320" y="257"/>
                </a:lnTo>
                <a:lnTo>
                  <a:pt x="1320" y="258"/>
                </a:lnTo>
                <a:lnTo>
                  <a:pt x="1333" y="241"/>
                </a:lnTo>
                <a:lnTo>
                  <a:pt x="1320" y="229"/>
                </a:lnTo>
                <a:lnTo>
                  <a:pt x="1333" y="241"/>
                </a:lnTo>
                <a:lnTo>
                  <a:pt x="1347" y="225"/>
                </a:lnTo>
                <a:lnTo>
                  <a:pt x="1360" y="209"/>
                </a:lnTo>
                <a:lnTo>
                  <a:pt x="1347" y="198"/>
                </a:lnTo>
                <a:lnTo>
                  <a:pt x="1359" y="211"/>
                </a:lnTo>
                <a:lnTo>
                  <a:pt x="1375" y="198"/>
                </a:lnTo>
                <a:lnTo>
                  <a:pt x="1390" y="183"/>
                </a:lnTo>
                <a:lnTo>
                  <a:pt x="1398" y="176"/>
                </a:lnTo>
                <a:lnTo>
                  <a:pt x="1392" y="183"/>
                </a:lnTo>
                <a:lnTo>
                  <a:pt x="1406" y="170"/>
                </a:lnTo>
                <a:lnTo>
                  <a:pt x="1419" y="156"/>
                </a:lnTo>
                <a:lnTo>
                  <a:pt x="1406" y="143"/>
                </a:lnTo>
                <a:lnTo>
                  <a:pt x="1416" y="156"/>
                </a:lnTo>
                <a:lnTo>
                  <a:pt x="1438" y="140"/>
                </a:lnTo>
                <a:lnTo>
                  <a:pt x="1428" y="127"/>
                </a:lnTo>
                <a:lnTo>
                  <a:pt x="1438" y="143"/>
                </a:lnTo>
                <a:lnTo>
                  <a:pt x="1456" y="129"/>
                </a:lnTo>
                <a:lnTo>
                  <a:pt x="1477" y="116"/>
                </a:lnTo>
                <a:lnTo>
                  <a:pt x="1467" y="100"/>
                </a:lnTo>
                <a:lnTo>
                  <a:pt x="1475" y="116"/>
                </a:lnTo>
                <a:lnTo>
                  <a:pt x="1497" y="103"/>
                </a:lnTo>
                <a:lnTo>
                  <a:pt x="1518" y="91"/>
                </a:lnTo>
                <a:lnTo>
                  <a:pt x="1510" y="76"/>
                </a:lnTo>
                <a:lnTo>
                  <a:pt x="1518" y="91"/>
                </a:lnTo>
                <a:lnTo>
                  <a:pt x="1540" y="83"/>
                </a:lnTo>
                <a:lnTo>
                  <a:pt x="1561" y="73"/>
                </a:lnTo>
                <a:lnTo>
                  <a:pt x="1553" y="57"/>
                </a:lnTo>
                <a:lnTo>
                  <a:pt x="1558" y="74"/>
                </a:lnTo>
                <a:lnTo>
                  <a:pt x="1580" y="67"/>
                </a:lnTo>
                <a:lnTo>
                  <a:pt x="1604" y="58"/>
                </a:lnTo>
                <a:lnTo>
                  <a:pt x="1599" y="41"/>
                </a:lnTo>
                <a:lnTo>
                  <a:pt x="1604" y="58"/>
                </a:lnTo>
                <a:lnTo>
                  <a:pt x="1626" y="53"/>
                </a:lnTo>
                <a:lnTo>
                  <a:pt x="1620" y="35"/>
                </a:lnTo>
                <a:lnTo>
                  <a:pt x="1623" y="53"/>
                </a:lnTo>
                <a:lnTo>
                  <a:pt x="1648" y="47"/>
                </a:lnTo>
                <a:lnTo>
                  <a:pt x="1643" y="30"/>
                </a:lnTo>
                <a:lnTo>
                  <a:pt x="1648" y="47"/>
                </a:lnTo>
                <a:lnTo>
                  <a:pt x="1671" y="43"/>
                </a:lnTo>
                <a:lnTo>
                  <a:pt x="1695" y="40"/>
                </a:lnTo>
                <a:lnTo>
                  <a:pt x="1691" y="21"/>
                </a:lnTo>
                <a:lnTo>
                  <a:pt x="1692" y="40"/>
                </a:lnTo>
                <a:lnTo>
                  <a:pt x="1714" y="37"/>
                </a:lnTo>
                <a:lnTo>
                  <a:pt x="1712" y="20"/>
                </a:lnTo>
                <a:lnTo>
                  <a:pt x="1714" y="37"/>
                </a:lnTo>
                <a:lnTo>
                  <a:pt x="1738" y="35"/>
                </a:lnTo>
                <a:lnTo>
                  <a:pt x="1735" y="18"/>
                </a:lnTo>
                <a:lnTo>
                  <a:pt x="1735" y="35"/>
                </a:lnTo>
                <a:lnTo>
                  <a:pt x="1760" y="35"/>
                </a:lnTo>
                <a:lnTo>
                  <a:pt x="1784" y="35"/>
                </a:lnTo>
                <a:lnTo>
                  <a:pt x="1809" y="35"/>
                </a:lnTo>
                <a:lnTo>
                  <a:pt x="1809" y="18"/>
                </a:lnTo>
                <a:lnTo>
                  <a:pt x="1809" y="35"/>
                </a:lnTo>
                <a:lnTo>
                  <a:pt x="1831" y="37"/>
                </a:lnTo>
                <a:lnTo>
                  <a:pt x="1856" y="40"/>
                </a:lnTo>
                <a:lnTo>
                  <a:pt x="1856" y="21"/>
                </a:lnTo>
                <a:lnTo>
                  <a:pt x="1853" y="40"/>
                </a:lnTo>
                <a:lnTo>
                  <a:pt x="1879" y="43"/>
                </a:lnTo>
                <a:lnTo>
                  <a:pt x="1902" y="47"/>
                </a:lnTo>
                <a:lnTo>
                  <a:pt x="1905" y="30"/>
                </a:lnTo>
                <a:lnTo>
                  <a:pt x="1900" y="47"/>
                </a:lnTo>
                <a:lnTo>
                  <a:pt x="1926" y="53"/>
                </a:lnTo>
                <a:lnTo>
                  <a:pt x="1923" y="51"/>
                </a:lnTo>
                <a:lnTo>
                  <a:pt x="1928" y="53"/>
                </a:lnTo>
                <a:lnTo>
                  <a:pt x="1951" y="57"/>
                </a:lnTo>
                <a:lnTo>
                  <a:pt x="1954" y="40"/>
                </a:lnTo>
                <a:lnTo>
                  <a:pt x="1949" y="57"/>
                </a:lnTo>
                <a:lnTo>
                  <a:pt x="1975" y="63"/>
                </a:lnTo>
                <a:lnTo>
                  <a:pt x="1979" y="45"/>
                </a:lnTo>
                <a:lnTo>
                  <a:pt x="1972" y="63"/>
                </a:lnTo>
                <a:lnTo>
                  <a:pt x="1997" y="70"/>
                </a:lnTo>
                <a:lnTo>
                  <a:pt x="1985" y="67"/>
                </a:lnTo>
                <a:lnTo>
                  <a:pt x="1998" y="70"/>
                </a:lnTo>
                <a:lnTo>
                  <a:pt x="2024" y="79"/>
                </a:lnTo>
                <a:lnTo>
                  <a:pt x="2028" y="61"/>
                </a:lnTo>
                <a:lnTo>
                  <a:pt x="2023" y="79"/>
                </a:lnTo>
                <a:lnTo>
                  <a:pt x="2046" y="86"/>
                </a:lnTo>
                <a:lnTo>
                  <a:pt x="2051" y="68"/>
                </a:lnTo>
                <a:lnTo>
                  <a:pt x="2046" y="86"/>
                </a:lnTo>
                <a:lnTo>
                  <a:pt x="2071" y="96"/>
                </a:lnTo>
                <a:lnTo>
                  <a:pt x="2094" y="106"/>
                </a:lnTo>
                <a:lnTo>
                  <a:pt x="2117" y="116"/>
                </a:lnTo>
                <a:lnTo>
                  <a:pt x="2142" y="125"/>
                </a:lnTo>
                <a:lnTo>
                  <a:pt x="2148" y="107"/>
                </a:lnTo>
                <a:lnTo>
                  <a:pt x="2140" y="123"/>
                </a:lnTo>
                <a:lnTo>
                  <a:pt x="2165" y="135"/>
                </a:lnTo>
                <a:lnTo>
                  <a:pt x="2189" y="146"/>
                </a:lnTo>
                <a:lnTo>
                  <a:pt x="2212" y="159"/>
                </a:lnTo>
                <a:lnTo>
                  <a:pt x="2219" y="143"/>
                </a:lnTo>
                <a:lnTo>
                  <a:pt x="2212" y="159"/>
                </a:lnTo>
                <a:lnTo>
                  <a:pt x="2235" y="172"/>
                </a:lnTo>
                <a:lnTo>
                  <a:pt x="2242" y="175"/>
                </a:lnTo>
                <a:lnTo>
                  <a:pt x="2235" y="172"/>
                </a:lnTo>
                <a:lnTo>
                  <a:pt x="2260" y="183"/>
                </a:lnTo>
                <a:lnTo>
                  <a:pt x="2267" y="168"/>
                </a:lnTo>
                <a:lnTo>
                  <a:pt x="2260" y="183"/>
                </a:lnTo>
                <a:lnTo>
                  <a:pt x="2283" y="198"/>
                </a:lnTo>
                <a:lnTo>
                  <a:pt x="2307" y="211"/>
                </a:lnTo>
                <a:lnTo>
                  <a:pt x="2314" y="196"/>
                </a:lnTo>
                <a:lnTo>
                  <a:pt x="2304" y="209"/>
                </a:lnTo>
                <a:lnTo>
                  <a:pt x="2326" y="225"/>
                </a:lnTo>
                <a:lnTo>
                  <a:pt x="2334" y="231"/>
                </a:lnTo>
                <a:lnTo>
                  <a:pt x="2329" y="227"/>
                </a:lnTo>
                <a:lnTo>
                  <a:pt x="2346" y="237"/>
                </a:lnTo>
                <a:lnTo>
                  <a:pt x="2353" y="221"/>
                </a:lnTo>
                <a:lnTo>
                  <a:pt x="2344" y="237"/>
                </a:lnTo>
                <a:lnTo>
                  <a:pt x="2362" y="248"/>
                </a:lnTo>
                <a:lnTo>
                  <a:pt x="2372" y="232"/>
                </a:lnTo>
                <a:lnTo>
                  <a:pt x="2362" y="247"/>
                </a:lnTo>
                <a:lnTo>
                  <a:pt x="2377" y="258"/>
                </a:lnTo>
                <a:lnTo>
                  <a:pt x="2375" y="257"/>
                </a:lnTo>
                <a:lnTo>
                  <a:pt x="2379" y="260"/>
                </a:lnTo>
                <a:lnTo>
                  <a:pt x="2395" y="270"/>
                </a:lnTo>
                <a:lnTo>
                  <a:pt x="2402" y="254"/>
                </a:lnTo>
                <a:lnTo>
                  <a:pt x="2393" y="268"/>
                </a:lnTo>
                <a:lnTo>
                  <a:pt x="2409" y="280"/>
                </a:lnTo>
                <a:lnTo>
                  <a:pt x="2412" y="284"/>
                </a:lnTo>
                <a:lnTo>
                  <a:pt x="2409" y="281"/>
                </a:lnTo>
                <a:lnTo>
                  <a:pt x="2426" y="294"/>
                </a:lnTo>
                <a:lnTo>
                  <a:pt x="2436" y="278"/>
                </a:lnTo>
                <a:lnTo>
                  <a:pt x="2426" y="291"/>
                </a:lnTo>
                <a:lnTo>
                  <a:pt x="2442" y="303"/>
                </a:lnTo>
                <a:lnTo>
                  <a:pt x="2458" y="316"/>
                </a:lnTo>
                <a:lnTo>
                  <a:pt x="2468" y="301"/>
                </a:lnTo>
                <a:lnTo>
                  <a:pt x="2455" y="316"/>
                </a:lnTo>
                <a:lnTo>
                  <a:pt x="2471" y="329"/>
                </a:lnTo>
                <a:lnTo>
                  <a:pt x="2527" y="376"/>
                </a:lnTo>
                <a:lnTo>
                  <a:pt x="2471" y="329"/>
                </a:lnTo>
                <a:lnTo>
                  <a:pt x="2485" y="340"/>
                </a:lnTo>
                <a:lnTo>
                  <a:pt x="2480" y="334"/>
                </a:lnTo>
                <a:lnTo>
                  <a:pt x="2487" y="340"/>
                </a:lnTo>
                <a:lnTo>
                  <a:pt x="2503" y="352"/>
                </a:lnTo>
                <a:lnTo>
                  <a:pt x="2513" y="339"/>
                </a:lnTo>
                <a:lnTo>
                  <a:pt x="2501" y="352"/>
                </a:lnTo>
                <a:lnTo>
                  <a:pt x="2517" y="366"/>
                </a:lnTo>
                <a:lnTo>
                  <a:pt x="2518" y="366"/>
                </a:lnTo>
                <a:lnTo>
                  <a:pt x="2518" y="366"/>
                </a:lnTo>
                <a:lnTo>
                  <a:pt x="2534" y="377"/>
                </a:lnTo>
                <a:lnTo>
                  <a:pt x="2550" y="389"/>
                </a:lnTo>
                <a:lnTo>
                  <a:pt x="2560" y="376"/>
                </a:lnTo>
                <a:lnTo>
                  <a:pt x="2548" y="389"/>
                </a:lnTo>
                <a:lnTo>
                  <a:pt x="2561" y="403"/>
                </a:lnTo>
                <a:lnTo>
                  <a:pt x="2576" y="416"/>
                </a:lnTo>
                <a:lnTo>
                  <a:pt x="2571" y="413"/>
                </a:lnTo>
                <a:lnTo>
                  <a:pt x="2577" y="416"/>
                </a:lnTo>
                <a:lnTo>
                  <a:pt x="2593" y="429"/>
                </a:lnTo>
                <a:lnTo>
                  <a:pt x="2603" y="415"/>
                </a:lnTo>
                <a:lnTo>
                  <a:pt x="2592" y="429"/>
                </a:lnTo>
                <a:lnTo>
                  <a:pt x="2603" y="441"/>
                </a:lnTo>
                <a:lnTo>
                  <a:pt x="2594" y="432"/>
                </a:lnTo>
                <a:lnTo>
                  <a:pt x="2603" y="441"/>
                </a:lnTo>
                <a:lnTo>
                  <a:pt x="2619" y="454"/>
                </a:lnTo>
                <a:lnTo>
                  <a:pt x="2630" y="441"/>
                </a:lnTo>
                <a:lnTo>
                  <a:pt x="2619" y="454"/>
                </a:lnTo>
                <a:lnTo>
                  <a:pt x="2632" y="468"/>
                </a:lnTo>
                <a:lnTo>
                  <a:pt x="2646" y="481"/>
                </a:lnTo>
                <a:lnTo>
                  <a:pt x="2658" y="494"/>
                </a:lnTo>
                <a:lnTo>
                  <a:pt x="2658" y="494"/>
                </a:lnTo>
                <a:lnTo>
                  <a:pt x="2658" y="494"/>
                </a:lnTo>
                <a:lnTo>
                  <a:pt x="2672" y="505"/>
                </a:lnTo>
                <a:lnTo>
                  <a:pt x="2684" y="491"/>
                </a:lnTo>
                <a:lnTo>
                  <a:pt x="2672" y="505"/>
                </a:lnTo>
                <a:lnTo>
                  <a:pt x="2685" y="518"/>
                </a:lnTo>
                <a:lnTo>
                  <a:pt x="2696" y="505"/>
                </a:lnTo>
                <a:lnTo>
                  <a:pt x="2684" y="517"/>
                </a:lnTo>
                <a:lnTo>
                  <a:pt x="2695" y="530"/>
                </a:lnTo>
                <a:lnTo>
                  <a:pt x="2695" y="533"/>
                </a:lnTo>
                <a:lnTo>
                  <a:pt x="2696" y="533"/>
                </a:lnTo>
                <a:lnTo>
                  <a:pt x="2711" y="544"/>
                </a:lnTo>
                <a:lnTo>
                  <a:pt x="2722" y="530"/>
                </a:lnTo>
                <a:lnTo>
                  <a:pt x="2711" y="544"/>
                </a:lnTo>
                <a:lnTo>
                  <a:pt x="2722" y="556"/>
                </a:lnTo>
                <a:lnTo>
                  <a:pt x="2734" y="543"/>
                </a:lnTo>
                <a:lnTo>
                  <a:pt x="2721" y="554"/>
                </a:lnTo>
                <a:lnTo>
                  <a:pt x="2732" y="567"/>
                </a:lnTo>
                <a:lnTo>
                  <a:pt x="2732" y="567"/>
                </a:lnTo>
                <a:lnTo>
                  <a:pt x="2734" y="570"/>
                </a:lnTo>
                <a:lnTo>
                  <a:pt x="2745" y="581"/>
                </a:lnTo>
                <a:lnTo>
                  <a:pt x="2758" y="567"/>
                </a:lnTo>
                <a:lnTo>
                  <a:pt x="2744" y="579"/>
                </a:lnTo>
                <a:lnTo>
                  <a:pt x="2755" y="593"/>
                </a:lnTo>
                <a:lnTo>
                  <a:pt x="2755" y="593"/>
                </a:lnTo>
                <a:lnTo>
                  <a:pt x="2758" y="594"/>
                </a:lnTo>
                <a:lnTo>
                  <a:pt x="2770" y="607"/>
                </a:lnTo>
                <a:lnTo>
                  <a:pt x="2781" y="593"/>
                </a:lnTo>
                <a:lnTo>
                  <a:pt x="2770" y="604"/>
                </a:lnTo>
                <a:lnTo>
                  <a:pt x="2796" y="635"/>
                </a:lnTo>
                <a:lnTo>
                  <a:pt x="2820" y="662"/>
                </a:lnTo>
                <a:lnTo>
                  <a:pt x="2833" y="649"/>
                </a:lnTo>
                <a:lnTo>
                  <a:pt x="2819" y="662"/>
                </a:lnTo>
                <a:lnTo>
                  <a:pt x="2842" y="689"/>
                </a:lnTo>
                <a:lnTo>
                  <a:pt x="2829" y="673"/>
                </a:lnTo>
                <a:lnTo>
                  <a:pt x="2844" y="689"/>
                </a:lnTo>
                <a:lnTo>
                  <a:pt x="2867" y="714"/>
                </a:lnTo>
                <a:lnTo>
                  <a:pt x="2879" y="702"/>
                </a:lnTo>
                <a:lnTo>
                  <a:pt x="2866" y="714"/>
                </a:lnTo>
                <a:lnTo>
                  <a:pt x="2888" y="740"/>
                </a:lnTo>
                <a:lnTo>
                  <a:pt x="2909" y="765"/>
                </a:lnTo>
                <a:lnTo>
                  <a:pt x="2931" y="791"/>
                </a:lnTo>
                <a:lnTo>
                  <a:pt x="2931" y="791"/>
                </a:lnTo>
                <a:lnTo>
                  <a:pt x="2932" y="793"/>
                </a:lnTo>
                <a:lnTo>
                  <a:pt x="2957" y="816"/>
                </a:lnTo>
                <a:lnTo>
                  <a:pt x="2978" y="837"/>
                </a:lnTo>
                <a:lnTo>
                  <a:pt x="2965" y="826"/>
                </a:lnTo>
                <a:lnTo>
                  <a:pt x="2978" y="837"/>
                </a:lnTo>
                <a:lnTo>
                  <a:pt x="3001" y="859"/>
                </a:lnTo>
                <a:lnTo>
                  <a:pt x="3013" y="846"/>
                </a:lnTo>
                <a:lnTo>
                  <a:pt x="3001" y="857"/>
                </a:lnTo>
                <a:lnTo>
                  <a:pt x="3023" y="880"/>
                </a:lnTo>
                <a:lnTo>
                  <a:pt x="3023" y="883"/>
                </a:lnTo>
                <a:lnTo>
                  <a:pt x="3024" y="883"/>
                </a:lnTo>
                <a:lnTo>
                  <a:pt x="3049" y="902"/>
                </a:lnTo>
                <a:lnTo>
                  <a:pt x="3073" y="922"/>
                </a:lnTo>
                <a:lnTo>
                  <a:pt x="3076" y="926"/>
                </a:lnTo>
                <a:lnTo>
                  <a:pt x="3073" y="923"/>
                </a:lnTo>
                <a:lnTo>
                  <a:pt x="3099" y="941"/>
                </a:lnTo>
                <a:lnTo>
                  <a:pt x="3109" y="926"/>
                </a:lnTo>
                <a:lnTo>
                  <a:pt x="3099" y="939"/>
                </a:lnTo>
                <a:lnTo>
                  <a:pt x="3126" y="959"/>
                </a:lnTo>
                <a:lnTo>
                  <a:pt x="3132" y="962"/>
                </a:lnTo>
                <a:lnTo>
                  <a:pt x="3129" y="961"/>
                </a:lnTo>
                <a:lnTo>
                  <a:pt x="3158" y="977"/>
                </a:lnTo>
                <a:lnTo>
                  <a:pt x="3166" y="961"/>
                </a:lnTo>
                <a:lnTo>
                  <a:pt x="3158" y="977"/>
                </a:lnTo>
                <a:lnTo>
                  <a:pt x="3188" y="994"/>
                </a:lnTo>
                <a:lnTo>
                  <a:pt x="3191" y="997"/>
                </a:lnTo>
                <a:lnTo>
                  <a:pt x="3188" y="994"/>
                </a:lnTo>
                <a:lnTo>
                  <a:pt x="3219" y="1010"/>
                </a:lnTo>
                <a:lnTo>
                  <a:pt x="3225" y="1011"/>
                </a:lnTo>
                <a:lnTo>
                  <a:pt x="3221" y="1011"/>
                </a:lnTo>
                <a:lnTo>
                  <a:pt x="3255" y="1025"/>
                </a:lnTo>
                <a:lnTo>
                  <a:pt x="3291" y="1040"/>
                </a:lnTo>
                <a:lnTo>
                  <a:pt x="3284" y="1036"/>
                </a:lnTo>
                <a:lnTo>
                  <a:pt x="3293" y="1040"/>
                </a:lnTo>
                <a:lnTo>
                  <a:pt x="3333" y="1051"/>
                </a:lnTo>
                <a:lnTo>
                  <a:pt x="3373" y="1063"/>
                </a:lnTo>
                <a:lnTo>
                  <a:pt x="3416" y="1074"/>
                </a:lnTo>
                <a:lnTo>
                  <a:pt x="3413" y="1073"/>
                </a:lnTo>
                <a:lnTo>
                  <a:pt x="3416" y="1074"/>
                </a:lnTo>
                <a:lnTo>
                  <a:pt x="3464" y="1084"/>
                </a:lnTo>
                <a:lnTo>
                  <a:pt x="3462" y="1083"/>
                </a:lnTo>
                <a:lnTo>
                  <a:pt x="3467" y="1084"/>
                </a:lnTo>
                <a:lnTo>
                  <a:pt x="3517" y="1092"/>
                </a:lnTo>
                <a:lnTo>
                  <a:pt x="3570" y="1100"/>
                </a:lnTo>
                <a:lnTo>
                  <a:pt x="3590" y="1102"/>
                </a:lnTo>
                <a:lnTo>
                  <a:pt x="3570" y="1100"/>
                </a:lnTo>
                <a:lnTo>
                  <a:pt x="3628" y="1106"/>
                </a:lnTo>
                <a:lnTo>
                  <a:pt x="3688" y="1113"/>
                </a:lnTo>
                <a:lnTo>
                  <a:pt x="3688" y="1113"/>
                </a:lnTo>
                <a:lnTo>
                  <a:pt x="3689" y="1113"/>
                </a:lnTo>
                <a:lnTo>
                  <a:pt x="3754" y="1117"/>
                </a:lnTo>
                <a:lnTo>
                  <a:pt x="3823" y="1122"/>
                </a:lnTo>
                <a:lnTo>
                  <a:pt x="3822" y="1122"/>
                </a:lnTo>
                <a:lnTo>
                  <a:pt x="3823" y="1122"/>
                </a:lnTo>
                <a:lnTo>
                  <a:pt x="3914" y="1123"/>
                </a:lnTo>
                <a:lnTo>
                  <a:pt x="3914" y="1089"/>
                </a:lnTo>
                <a:lnTo>
                  <a:pt x="3823" y="1086"/>
                </a:lnTo>
                <a:lnTo>
                  <a:pt x="3823" y="1103"/>
                </a:lnTo>
                <a:lnTo>
                  <a:pt x="3824" y="1086"/>
                </a:lnTo>
                <a:lnTo>
                  <a:pt x="3757" y="1083"/>
                </a:lnTo>
                <a:lnTo>
                  <a:pt x="3692" y="1079"/>
                </a:lnTo>
                <a:lnTo>
                  <a:pt x="3689" y="1096"/>
                </a:lnTo>
                <a:lnTo>
                  <a:pt x="3692" y="1079"/>
                </a:lnTo>
                <a:lnTo>
                  <a:pt x="3630" y="1070"/>
                </a:lnTo>
                <a:lnTo>
                  <a:pt x="3574" y="1064"/>
                </a:lnTo>
                <a:lnTo>
                  <a:pt x="3572" y="1083"/>
                </a:lnTo>
                <a:lnTo>
                  <a:pt x="3576" y="1067"/>
                </a:lnTo>
                <a:lnTo>
                  <a:pt x="3523" y="1059"/>
                </a:lnTo>
                <a:lnTo>
                  <a:pt x="3472" y="1051"/>
                </a:lnTo>
                <a:lnTo>
                  <a:pt x="3468" y="1067"/>
                </a:lnTo>
                <a:lnTo>
                  <a:pt x="3472" y="1051"/>
                </a:lnTo>
                <a:lnTo>
                  <a:pt x="3425" y="1041"/>
                </a:lnTo>
                <a:lnTo>
                  <a:pt x="3421" y="1057"/>
                </a:lnTo>
                <a:lnTo>
                  <a:pt x="3426" y="1041"/>
                </a:lnTo>
                <a:lnTo>
                  <a:pt x="3383" y="1030"/>
                </a:lnTo>
                <a:lnTo>
                  <a:pt x="3343" y="1018"/>
                </a:lnTo>
                <a:lnTo>
                  <a:pt x="3303" y="1005"/>
                </a:lnTo>
                <a:lnTo>
                  <a:pt x="3297" y="1021"/>
                </a:lnTo>
                <a:lnTo>
                  <a:pt x="3306" y="1005"/>
                </a:lnTo>
                <a:lnTo>
                  <a:pt x="3270" y="992"/>
                </a:lnTo>
                <a:lnTo>
                  <a:pt x="3234" y="978"/>
                </a:lnTo>
                <a:lnTo>
                  <a:pt x="3227" y="994"/>
                </a:lnTo>
                <a:lnTo>
                  <a:pt x="3234" y="978"/>
                </a:lnTo>
                <a:lnTo>
                  <a:pt x="3204" y="962"/>
                </a:lnTo>
                <a:lnTo>
                  <a:pt x="3195" y="978"/>
                </a:lnTo>
                <a:lnTo>
                  <a:pt x="3205" y="965"/>
                </a:lnTo>
                <a:lnTo>
                  <a:pt x="3175" y="948"/>
                </a:lnTo>
                <a:lnTo>
                  <a:pt x="3168" y="941"/>
                </a:lnTo>
                <a:lnTo>
                  <a:pt x="3174" y="945"/>
                </a:lnTo>
                <a:lnTo>
                  <a:pt x="3145" y="929"/>
                </a:lnTo>
                <a:lnTo>
                  <a:pt x="3136" y="945"/>
                </a:lnTo>
                <a:lnTo>
                  <a:pt x="3146" y="932"/>
                </a:lnTo>
                <a:lnTo>
                  <a:pt x="3119" y="912"/>
                </a:lnTo>
                <a:lnTo>
                  <a:pt x="3073" y="880"/>
                </a:lnTo>
                <a:lnTo>
                  <a:pt x="3119" y="912"/>
                </a:lnTo>
                <a:lnTo>
                  <a:pt x="3093" y="895"/>
                </a:lnTo>
                <a:lnTo>
                  <a:pt x="3083" y="908"/>
                </a:lnTo>
                <a:lnTo>
                  <a:pt x="3094" y="895"/>
                </a:lnTo>
                <a:lnTo>
                  <a:pt x="3070" y="875"/>
                </a:lnTo>
                <a:lnTo>
                  <a:pt x="3046" y="856"/>
                </a:lnTo>
                <a:lnTo>
                  <a:pt x="3034" y="869"/>
                </a:lnTo>
                <a:lnTo>
                  <a:pt x="3049" y="857"/>
                </a:lnTo>
                <a:lnTo>
                  <a:pt x="3027" y="834"/>
                </a:lnTo>
                <a:lnTo>
                  <a:pt x="3024" y="834"/>
                </a:lnTo>
                <a:lnTo>
                  <a:pt x="3024" y="834"/>
                </a:lnTo>
                <a:lnTo>
                  <a:pt x="3001" y="813"/>
                </a:lnTo>
                <a:lnTo>
                  <a:pt x="2990" y="824"/>
                </a:lnTo>
                <a:lnTo>
                  <a:pt x="3003" y="813"/>
                </a:lnTo>
                <a:lnTo>
                  <a:pt x="2981" y="791"/>
                </a:lnTo>
                <a:lnTo>
                  <a:pt x="2958" y="767"/>
                </a:lnTo>
                <a:lnTo>
                  <a:pt x="2944" y="778"/>
                </a:lnTo>
                <a:lnTo>
                  <a:pt x="2958" y="767"/>
                </a:lnTo>
                <a:lnTo>
                  <a:pt x="2936" y="742"/>
                </a:lnTo>
                <a:lnTo>
                  <a:pt x="2915" y="717"/>
                </a:lnTo>
                <a:lnTo>
                  <a:pt x="2893" y="691"/>
                </a:lnTo>
                <a:lnTo>
                  <a:pt x="2905" y="705"/>
                </a:lnTo>
                <a:lnTo>
                  <a:pt x="2893" y="691"/>
                </a:lnTo>
                <a:lnTo>
                  <a:pt x="2869" y="665"/>
                </a:lnTo>
                <a:lnTo>
                  <a:pt x="2856" y="678"/>
                </a:lnTo>
                <a:lnTo>
                  <a:pt x="2869" y="665"/>
                </a:lnTo>
                <a:lnTo>
                  <a:pt x="2846" y="638"/>
                </a:lnTo>
                <a:lnTo>
                  <a:pt x="2857" y="652"/>
                </a:lnTo>
                <a:lnTo>
                  <a:pt x="2846" y="638"/>
                </a:lnTo>
                <a:lnTo>
                  <a:pt x="2820" y="610"/>
                </a:lnTo>
                <a:lnTo>
                  <a:pt x="2796" y="581"/>
                </a:lnTo>
                <a:lnTo>
                  <a:pt x="2787" y="573"/>
                </a:lnTo>
                <a:lnTo>
                  <a:pt x="2796" y="581"/>
                </a:lnTo>
                <a:lnTo>
                  <a:pt x="2783" y="570"/>
                </a:lnTo>
                <a:lnTo>
                  <a:pt x="2770" y="581"/>
                </a:lnTo>
                <a:lnTo>
                  <a:pt x="2783" y="570"/>
                </a:lnTo>
                <a:lnTo>
                  <a:pt x="2771" y="556"/>
                </a:lnTo>
                <a:lnTo>
                  <a:pt x="2771" y="556"/>
                </a:lnTo>
                <a:lnTo>
                  <a:pt x="2771" y="556"/>
                </a:lnTo>
                <a:lnTo>
                  <a:pt x="2760" y="544"/>
                </a:lnTo>
                <a:lnTo>
                  <a:pt x="2745" y="556"/>
                </a:lnTo>
                <a:lnTo>
                  <a:pt x="2760" y="544"/>
                </a:lnTo>
                <a:lnTo>
                  <a:pt x="2748" y="530"/>
                </a:lnTo>
                <a:lnTo>
                  <a:pt x="2748" y="530"/>
                </a:lnTo>
                <a:lnTo>
                  <a:pt x="2748" y="530"/>
                </a:lnTo>
                <a:lnTo>
                  <a:pt x="2737" y="518"/>
                </a:lnTo>
                <a:lnTo>
                  <a:pt x="2734" y="517"/>
                </a:lnTo>
                <a:lnTo>
                  <a:pt x="2734" y="517"/>
                </a:lnTo>
                <a:lnTo>
                  <a:pt x="2721" y="505"/>
                </a:lnTo>
                <a:lnTo>
                  <a:pt x="2708" y="518"/>
                </a:lnTo>
                <a:lnTo>
                  <a:pt x="2722" y="507"/>
                </a:lnTo>
                <a:lnTo>
                  <a:pt x="2711" y="494"/>
                </a:lnTo>
                <a:lnTo>
                  <a:pt x="2711" y="494"/>
                </a:lnTo>
                <a:lnTo>
                  <a:pt x="2711" y="494"/>
                </a:lnTo>
                <a:lnTo>
                  <a:pt x="2696" y="479"/>
                </a:lnTo>
                <a:lnTo>
                  <a:pt x="2695" y="478"/>
                </a:lnTo>
                <a:lnTo>
                  <a:pt x="2695" y="478"/>
                </a:lnTo>
                <a:lnTo>
                  <a:pt x="2681" y="465"/>
                </a:lnTo>
                <a:lnTo>
                  <a:pt x="2669" y="479"/>
                </a:lnTo>
                <a:lnTo>
                  <a:pt x="2684" y="468"/>
                </a:lnTo>
                <a:lnTo>
                  <a:pt x="2672" y="456"/>
                </a:lnTo>
                <a:lnTo>
                  <a:pt x="2658" y="442"/>
                </a:lnTo>
                <a:lnTo>
                  <a:pt x="2643" y="429"/>
                </a:lnTo>
                <a:lnTo>
                  <a:pt x="2651" y="435"/>
                </a:lnTo>
                <a:lnTo>
                  <a:pt x="2642" y="429"/>
                </a:lnTo>
                <a:lnTo>
                  <a:pt x="2626" y="415"/>
                </a:lnTo>
                <a:lnTo>
                  <a:pt x="2615" y="426"/>
                </a:lnTo>
                <a:lnTo>
                  <a:pt x="2629" y="415"/>
                </a:lnTo>
                <a:lnTo>
                  <a:pt x="2616" y="403"/>
                </a:lnTo>
                <a:lnTo>
                  <a:pt x="2619" y="405"/>
                </a:lnTo>
                <a:lnTo>
                  <a:pt x="2615" y="402"/>
                </a:lnTo>
                <a:lnTo>
                  <a:pt x="2599" y="389"/>
                </a:lnTo>
                <a:lnTo>
                  <a:pt x="2587" y="403"/>
                </a:lnTo>
                <a:lnTo>
                  <a:pt x="2600" y="392"/>
                </a:lnTo>
                <a:lnTo>
                  <a:pt x="2587" y="377"/>
                </a:lnTo>
                <a:lnTo>
                  <a:pt x="2573" y="364"/>
                </a:lnTo>
                <a:lnTo>
                  <a:pt x="2576" y="366"/>
                </a:lnTo>
                <a:lnTo>
                  <a:pt x="2571" y="362"/>
                </a:lnTo>
                <a:lnTo>
                  <a:pt x="2556" y="350"/>
                </a:lnTo>
                <a:lnTo>
                  <a:pt x="2540" y="339"/>
                </a:lnTo>
                <a:lnTo>
                  <a:pt x="2528" y="352"/>
                </a:lnTo>
                <a:lnTo>
                  <a:pt x="2540" y="340"/>
                </a:lnTo>
                <a:lnTo>
                  <a:pt x="2524" y="327"/>
                </a:lnTo>
                <a:lnTo>
                  <a:pt x="2523" y="324"/>
                </a:lnTo>
                <a:lnTo>
                  <a:pt x="2524" y="324"/>
                </a:lnTo>
                <a:lnTo>
                  <a:pt x="2508" y="313"/>
                </a:lnTo>
                <a:lnTo>
                  <a:pt x="2497" y="327"/>
                </a:lnTo>
                <a:lnTo>
                  <a:pt x="2508" y="313"/>
                </a:lnTo>
                <a:lnTo>
                  <a:pt x="2495" y="301"/>
                </a:lnTo>
                <a:lnTo>
                  <a:pt x="2482" y="316"/>
                </a:lnTo>
                <a:lnTo>
                  <a:pt x="2495" y="303"/>
                </a:lnTo>
                <a:lnTo>
                  <a:pt x="2480" y="290"/>
                </a:lnTo>
                <a:lnTo>
                  <a:pt x="2477" y="288"/>
                </a:lnTo>
                <a:lnTo>
                  <a:pt x="2480" y="288"/>
                </a:lnTo>
                <a:lnTo>
                  <a:pt x="2464" y="275"/>
                </a:lnTo>
                <a:lnTo>
                  <a:pt x="2448" y="264"/>
                </a:lnTo>
                <a:lnTo>
                  <a:pt x="2444" y="262"/>
                </a:lnTo>
                <a:lnTo>
                  <a:pt x="2446" y="264"/>
                </a:lnTo>
                <a:lnTo>
                  <a:pt x="2428" y="252"/>
                </a:lnTo>
                <a:lnTo>
                  <a:pt x="2418" y="267"/>
                </a:lnTo>
                <a:lnTo>
                  <a:pt x="2431" y="252"/>
                </a:lnTo>
                <a:lnTo>
                  <a:pt x="2415" y="241"/>
                </a:lnTo>
                <a:lnTo>
                  <a:pt x="2416" y="242"/>
                </a:lnTo>
                <a:lnTo>
                  <a:pt x="2412" y="241"/>
                </a:lnTo>
                <a:lnTo>
                  <a:pt x="2396" y="231"/>
                </a:lnTo>
                <a:lnTo>
                  <a:pt x="2388" y="245"/>
                </a:lnTo>
                <a:lnTo>
                  <a:pt x="2399" y="231"/>
                </a:lnTo>
                <a:lnTo>
                  <a:pt x="2383" y="219"/>
                </a:lnTo>
                <a:lnTo>
                  <a:pt x="2379" y="216"/>
                </a:lnTo>
                <a:lnTo>
                  <a:pt x="2380" y="219"/>
                </a:lnTo>
                <a:lnTo>
                  <a:pt x="2363" y="208"/>
                </a:lnTo>
                <a:lnTo>
                  <a:pt x="2359" y="204"/>
                </a:lnTo>
                <a:lnTo>
                  <a:pt x="2363" y="205"/>
                </a:lnTo>
                <a:lnTo>
                  <a:pt x="2346" y="196"/>
                </a:lnTo>
                <a:lnTo>
                  <a:pt x="2336" y="211"/>
                </a:lnTo>
                <a:lnTo>
                  <a:pt x="2346" y="198"/>
                </a:lnTo>
                <a:lnTo>
                  <a:pt x="2324" y="182"/>
                </a:lnTo>
                <a:lnTo>
                  <a:pt x="2321" y="181"/>
                </a:lnTo>
                <a:lnTo>
                  <a:pt x="2324" y="182"/>
                </a:lnTo>
                <a:lnTo>
                  <a:pt x="2300" y="168"/>
                </a:lnTo>
                <a:lnTo>
                  <a:pt x="2277" y="155"/>
                </a:lnTo>
                <a:lnTo>
                  <a:pt x="2271" y="150"/>
                </a:lnTo>
                <a:lnTo>
                  <a:pt x="2275" y="153"/>
                </a:lnTo>
                <a:lnTo>
                  <a:pt x="2251" y="140"/>
                </a:lnTo>
                <a:lnTo>
                  <a:pt x="2244" y="156"/>
                </a:lnTo>
                <a:lnTo>
                  <a:pt x="2254" y="143"/>
                </a:lnTo>
                <a:lnTo>
                  <a:pt x="2230" y="129"/>
                </a:lnTo>
                <a:lnTo>
                  <a:pt x="2224" y="125"/>
                </a:lnTo>
                <a:lnTo>
                  <a:pt x="2228" y="127"/>
                </a:lnTo>
                <a:lnTo>
                  <a:pt x="2205" y="116"/>
                </a:lnTo>
                <a:lnTo>
                  <a:pt x="2181" y="103"/>
                </a:lnTo>
                <a:lnTo>
                  <a:pt x="2155" y="91"/>
                </a:lnTo>
                <a:lnTo>
                  <a:pt x="2143" y="86"/>
                </a:lnTo>
                <a:lnTo>
                  <a:pt x="2155" y="91"/>
                </a:lnTo>
                <a:lnTo>
                  <a:pt x="2132" y="83"/>
                </a:lnTo>
                <a:lnTo>
                  <a:pt x="2109" y="73"/>
                </a:lnTo>
                <a:lnTo>
                  <a:pt x="2084" y="63"/>
                </a:lnTo>
                <a:lnTo>
                  <a:pt x="2060" y="53"/>
                </a:lnTo>
                <a:lnTo>
                  <a:pt x="2066" y="54"/>
                </a:lnTo>
                <a:lnTo>
                  <a:pt x="2057" y="53"/>
                </a:lnTo>
                <a:lnTo>
                  <a:pt x="2034" y="45"/>
                </a:lnTo>
                <a:lnTo>
                  <a:pt x="2046" y="48"/>
                </a:lnTo>
                <a:lnTo>
                  <a:pt x="2034" y="45"/>
                </a:lnTo>
                <a:lnTo>
                  <a:pt x="2008" y="37"/>
                </a:lnTo>
                <a:lnTo>
                  <a:pt x="2002" y="53"/>
                </a:lnTo>
                <a:lnTo>
                  <a:pt x="2008" y="37"/>
                </a:lnTo>
                <a:lnTo>
                  <a:pt x="1985" y="30"/>
                </a:lnTo>
                <a:lnTo>
                  <a:pt x="1988" y="30"/>
                </a:lnTo>
                <a:lnTo>
                  <a:pt x="1982" y="30"/>
                </a:lnTo>
                <a:lnTo>
                  <a:pt x="1958" y="24"/>
                </a:lnTo>
                <a:lnTo>
                  <a:pt x="1959" y="24"/>
                </a:lnTo>
                <a:lnTo>
                  <a:pt x="1958" y="24"/>
                </a:lnTo>
                <a:lnTo>
                  <a:pt x="1934" y="20"/>
                </a:lnTo>
                <a:lnTo>
                  <a:pt x="1929" y="35"/>
                </a:lnTo>
                <a:lnTo>
                  <a:pt x="1934" y="20"/>
                </a:lnTo>
                <a:lnTo>
                  <a:pt x="1908" y="14"/>
                </a:lnTo>
                <a:lnTo>
                  <a:pt x="1911" y="14"/>
                </a:lnTo>
                <a:lnTo>
                  <a:pt x="1908" y="14"/>
                </a:lnTo>
                <a:lnTo>
                  <a:pt x="1885" y="10"/>
                </a:lnTo>
                <a:lnTo>
                  <a:pt x="1859" y="5"/>
                </a:lnTo>
                <a:lnTo>
                  <a:pt x="1847" y="4"/>
                </a:lnTo>
                <a:lnTo>
                  <a:pt x="1857" y="4"/>
                </a:lnTo>
                <a:lnTo>
                  <a:pt x="1834" y="2"/>
                </a:lnTo>
                <a:lnTo>
                  <a:pt x="1810" y="0"/>
                </a:lnTo>
                <a:lnTo>
                  <a:pt x="1810" y="0"/>
                </a:lnTo>
                <a:lnTo>
                  <a:pt x="1809" y="0"/>
                </a:lnTo>
                <a:lnTo>
                  <a:pt x="1784" y="0"/>
                </a:lnTo>
                <a:lnTo>
                  <a:pt x="1760" y="0"/>
                </a:lnTo>
                <a:lnTo>
                  <a:pt x="1735" y="0"/>
                </a:lnTo>
                <a:lnTo>
                  <a:pt x="1735" y="0"/>
                </a:lnTo>
                <a:lnTo>
                  <a:pt x="1735" y="0"/>
                </a:lnTo>
                <a:lnTo>
                  <a:pt x="1712" y="2"/>
                </a:lnTo>
                <a:lnTo>
                  <a:pt x="1701" y="4"/>
                </a:lnTo>
                <a:lnTo>
                  <a:pt x="1709" y="2"/>
                </a:lnTo>
                <a:lnTo>
                  <a:pt x="1688" y="4"/>
                </a:lnTo>
                <a:lnTo>
                  <a:pt x="1701" y="4"/>
                </a:lnTo>
                <a:lnTo>
                  <a:pt x="1688" y="5"/>
                </a:lnTo>
                <a:lnTo>
                  <a:pt x="1665" y="10"/>
                </a:lnTo>
                <a:lnTo>
                  <a:pt x="1642" y="14"/>
                </a:lnTo>
                <a:lnTo>
                  <a:pt x="1638" y="14"/>
                </a:lnTo>
                <a:lnTo>
                  <a:pt x="1639" y="14"/>
                </a:lnTo>
                <a:lnTo>
                  <a:pt x="1616" y="20"/>
                </a:lnTo>
                <a:lnTo>
                  <a:pt x="1604" y="21"/>
                </a:lnTo>
                <a:lnTo>
                  <a:pt x="1616" y="20"/>
                </a:lnTo>
                <a:lnTo>
                  <a:pt x="1594" y="25"/>
                </a:lnTo>
                <a:lnTo>
                  <a:pt x="1589" y="25"/>
                </a:lnTo>
                <a:lnTo>
                  <a:pt x="1593" y="25"/>
                </a:lnTo>
                <a:lnTo>
                  <a:pt x="1569" y="33"/>
                </a:lnTo>
                <a:lnTo>
                  <a:pt x="1547" y="41"/>
                </a:lnTo>
                <a:lnTo>
                  <a:pt x="1553" y="37"/>
                </a:lnTo>
                <a:lnTo>
                  <a:pt x="1547" y="41"/>
                </a:lnTo>
                <a:lnTo>
                  <a:pt x="1525" y="51"/>
                </a:lnTo>
                <a:lnTo>
                  <a:pt x="1504" y="61"/>
                </a:lnTo>
                <a:lnTo>
                  <a:pt x="1498" y="63"/>
                </a:lnTo>
                <a:lnTo>
                  <a:pt x="1502" y="61"/>
                </a:lnTo>
                <a:lnTo>
                  <a:pt x="1481" y="73"/>
                </a:lnTo>
                <a:lnTo>
                  <a:pt x="1459" y="84"/>
                </a:lnTo>
                <a:lnTo>
                  <a:pt x="1456" y="86"/>
                </a:lnTo>
                <a:lnTo>
                  <a:pt x="1456" y="86"/>
                </a:lnTo>
                <a:lnTo>
                  <a:pt x="1438" y="100"/>
                </a:lnTo>
                <a:lnTo>
                  <a:pt x="1418" y="113"/>
                </a:lnTo>
                <a:lnTo>
                  <a:pt x="1454" y="89"/>
                </a:lnTo>
                <a:lnTo>
                  <a:pt x="1418" y="113"/>
                </a:lnTo>
                <a:lnTo>
                  <a:pt x="1396" y="129"/>
                </a:lnTo>
                <a:lnTo>
                  <a:pt x="1389" y="135"/>
                </a:lnTo>
                <a:lnTo>
                  <a:pt x="1395" y="132"/>
                </a:lnTo>
                <a:lnTo>
                  <a:pt x="1380" y="145"/>
                </a:lnTo>
                <a:lnTo>
                  <a:pt x="1367" y="159"/>
                </a:lnTo>
                <a:lnTo>
                  <a:pt x="1379" y="170"/>
                </a:lnTo>
                <a:lnTo>
                  <a:pt x="1367" y="159"/>
                </a:lnTo>
                <a:lnTo>
                  <a:pt x="1352" y="172"/>
                </a:lnTo>
                <a:lnTo>
                  <a:pt x="1336" y="186"/>
                </a:lnTo>
                <a:lnTo>
                  <a:pt x="1336" y="186"/>
                </a:lnTo>
                <a:lnTo>
                  <a:pt x="1336" y="186"/>
                </a:lnTo>
                <a:lnTo>
                  <a:pt x="1321" y="202"/>
                </a:lnTo>
                <a:lnTo>
                  <a:pt x="1308" y="216"/>
                </a:lnTo>
                <a:lnTo>
                  <a:pt x="1306" y="219"/>
                </a:lnTo>
                <a:lnTo>
                  <a:pt x="1306" y="219"/>
                </a:lnTo>
                <a:lnTo>
                  <a:pt x="1293" y="237"/>
                </a:lnTo>
                <a:lnTo>
                  <a:pt x="1306" y="247"/>
                </a:lnTo>
                <a:lnTo>
                  <a:pt x="1294" y="235"/>
                </a:lnTo>
                <a:lnTo>
                  <a:pt x="1280" y="251"/>
                </a:lnTo>
                <a:lnTo>
                  <a:pt x="1278" y="252"/>
                </a:lnTo>
                <a:lnTo>
                  <a:pt x="1278" y="252"/>
                </a:lnTo>
                <a:lnTo>
                  <a:pt x="1265" y="270"/>
                </a:lnTo>
                <a:lnTo>
                  <a:pt x="1251" y="288"/>
                </a:lnTo>
                <a:lnTo>
                  <a:pt x="1237" y="306"/>
                </a:lnTo>
                <a:lnTo>
                  <a:pt x="1245" y="296"/>
                </a:lnTo>
                <a:lnTo>
                  <a:pt x="1237" y="306"/>
                </a:lnTo>
                <a:lnTo>
                  <a:pt x="1224" y="324"/>
                </a:lnTo>
                <a:lnTo>
                  <a:pt x="1204" y="354"/>
                </a:lnTo>
                <a:lnTo>
                  <a:pt x="1224" y="324"/>
                </a:lnTo>
                <a:lnTo>
                  <a:pt x="1212" y="343"/>
                </a:lnTo>
                <a:lnTo>
                  <a:pt x="1225" y="352"/>
                </a:lnTo>
                <a:lnTo>
                  <a:pt x="1212" y="343"/>
                </a:lnTo>
                <a:lnTo>
                  <a:pt x="1198" y="362"/>
                </a:lnTo>
                <a:lnTo>
                  <a:pt x="1212" y="372"/>
                </a:lnTo>
                <a:lnTo>
                  <a:pt x="1198" y="362"/>
                </a:lnTo>
                <a:lnTo>
                  <a:pt x="1185" y="380"/>
                </a:lnTo>
                <a:lnTo>
                  <a:pt x="1192" y="370"/>
                </a:lnTo>
                <a:lnTo>
                  <a:pt x="1185" y="380"/>
                </a:lnTo>
                <a:lnTo>
                  <a:pt x="1171" y="399"/>
                </a:lnTo>
                <a:lnTo>
                  <a:pt x="1156" y="419"/>
                </a:lnTo>
                <a:lnTo>
                  <a:pt x="1155" y="423"/>
                </a:lnTo>
                <a:lnTo>
                  <a:pt x="1156" y="421"/>
                </a:lnTo>
                <a:lnTo>
                  <a:pt x="1145" y="441"/>
                </a:lnTo>
                <a:lnTo>
                  <a:pt x="1159" y="448"/>
                </a:lnTo>
                <a:lnTo>
                  <a:pt x="1145" y="438"/>
                </a:lnTo>
                <a:lnTo>
                  <a:pt x="1132" y="458"/>
                </a:lnTo>
                <a:lnTo>
                  <a:pt x="1117" y="478"/>
                </a:lnTo>
                <a:lnTo>
                  <a:pt x="1104" y="497"/>
                </a:lnTo>
                <a:lnTo>
                  <a:pt x="1102" y="501"/>
                </a:lnTo>
                <a:lnTo>
                  <a:pt x="1104" y="500"/>
                </a:lnTo>
                <a:lnTo>
                  <a:pt x="1092" y="518"/>
                </a:lnTo>
                <a:lnTo>
                  <a:pt x="1106" y="527"/>
                </a:lnTo>
                <a:lnTo>
                  <a:pt x="1092" y="517"/>
                </a:lnTo>
                <a:lnTo>
                  <a:pt x="1079" y="535"/>
                </a:lnTo>
                <a:lnTo>
                  <a:pt x="1064" y="556"/>
                </a:lnTo>
                <a:lnTo>
                  <a:pt x="1051" y="576"/>
                </a:lnTo>
                <a:lnTo>
                  <a:pt x="1037" y="594"/>
                </a:lnTo>
                <a:lnTo>
                  <a:pt x="1024" y="615"/>
                </a:lnTo>
                <a:lnTo>
                  <a:pt x="1037" y="625"/>
                </a:lnTo>
                <a:lnTo>
                  <a:pt x="1024" y="615"/>
                </a:lnTo>
                <a:lnTo>
                  <a:pt x="1010" y="632"/>
                </a:lnTo>
                <a:lnTo>
                  <a:pt x="1017" y="622"/>
                </a:lnTo>
                <a:lnTo>
                  <a:pt x="1010" y="632"/>
                </a:lnTo>
                <a:lnTo>
                  <a:pt x="995" y="652"/>
                </a:lnTo>
                <a:lnTo>
                  <a:pt x="1010" y="662"/>
                </a:lnTo>
                <a:lnTo>
                  <a:pt x="995" y="652"/>
                </a:lnTo>
                <a:lnTo>
                  <a:pt x="982" y="669"/>
                </a:lnTo>
                <a:lnTo>
                  <a:pt x="968" y="686"/>
                </a:lnTo>
                <a:lnTo>
                  <a:pt x="982" y="696"/>
                </a:lnTo>
                <a:lnTo>
                  <a:pt x="971" y="685"/>
                </a:lnTo>
                <a:lnTo>
                  <a:pt x="955" y="702"/>
                </a:lnTo>
                <a:lnTo>
                  <a:pt x="952" y="705"/>
                </a:lnTo>
                <a:lnTo>
                  <a:pt x="952" y="705"/>
                </a:lnTo>
                <a:lnTo>
                  <a:pt x="939" y="722"/>
                </a:lnTo>
                <a:lnTo>
                  <a:pt x="952" y="732"/>
                </a:lnTo>
                <a:lnTo>
                  <a:pt x="941" y="721"/>
                </a:lnTo>
                <a:lnTo>
                  <a:pt x="925" y="738"/>
                </a:lnTo>
                <a:lnTo>
                  <a:pt x="912" y="754"/>
                </a:lnTo>
                <a:lnTo>
                  <a:pt x="923" y="765"/>
                </a:lnTo>
                <a:lnTo>
                  <a:pt x="912" y="754"/>
                </a:lnTo>
                <a:lnTo>
                  <a:pt x="896" y="770"/>
                </a:lnTo>
                <a:lnTo>
                  <a:pt x="880" y="784"/>
                </a:lnTo>
                <a:lnTo>
                  <a:pt x="864" y="800"/>
                </a:lnTo>
                <a:lnTo>
                  <a:pt x="876" y="813"/>
                </a:lnTo>
                <a:lnTo>
                  <a:pt x="864" y="800"/>
                </a:lnTo>
                <a:lnTo>
                  <a:pt x="849" y="814"/>
                </a:lnTo>
                <a:lnTo>
                  <a:pt x="833" y="827"/>
                </a:lnTo>
                <a:lnTo>
                  <a:pt x="844" y="840"/>
                </a:lnTo>
                <a:lnTo>
                  <a:pt x="834" y="826"/>
                </a:lnTo>
                <a:lnTo>
                  <a:pt x="816" y="842"/>
                </a:lnTo>
                <a:lnTo>
                  <a:pt x="826" y="856"/>
                </a:lnTo>
                <a:lnTo>
                  <a:pt x="816" y="842"/>
                </a:lnTo>
                <a:lnTo>
                  <a:pt x="796" y="856"/>
                </a:lnTo>
                <a:lnTo>
                  <a:pt x="806" y="869"/>
                </a:lnTo>
                <a:lnTo>
                  <a:pt x="798" y="856"/>
                </a:lnTo>
                <a:lnTo>
                  <a:pt x="777" y="869"/>
                </a:lnTo>
                <a:lnTo>
                  <a:pt x="764" y="875"/>
                </a:lnTo>
                <a:lnTo>
                  <a:pt x="774" y="869"/>
                </a:lnTo>
                <a:lnTo>
                  <a:pt x="755" y="883"/>
                </a:lnTo>
                <a:lnTo>
                  <a:pt x="764" y="896"/>
                </a:lnTo>
                <a:lnTo>
                  <a:pt x="757" y="880"/>
                </a:lnTo>
                <a:lnTo>
                  <a:pt x="735" y="892"/>
                </a:lnTo>
                <a:lnTo>
                  <a:pt x="742" y="889"/>
                </a:lnTo>
                <a:lnTo>
                  <a:pt x="735" y="895"/>
                </a:lnTo>
                <a:lnTo>
                  <a:pt x="715" y="906"/>
                </a:lnTo>
                <a:lnTo>
                  <a:pt x="724" y="919"/>
                </a:lnTo>
                <a:lnTo>
                  <a:pt x="718" y="905"/>
                </a:lnTo>
                <a:lnTo>
                  <a:pt x="696" y="913"/>
                </a:lnTo>
                <a:lnTo>
                  <a:pt x="675" y="923"/>
                </a:lnTo>
                <a:lnTo>
                  <a:pt x="653" y="934"/>
                </a:lnTo>
                <a:lnTo>
                  <a:pt x="659" y="949"/>
                </a:lnTo>
                <a:lnTo>
                  <a:pt x="653" y="934"/>
                </a:lnTo>
                <a:lnTo>
                  <a:pt x="629" y="944"/>
                </a:lnTo>
                <a:lnTo>
                  <a:pt x="635" y="959"/>
                </a:lnTo>
                <a:lnTo>
                  <a:pt x="629" y="944"/>
                </a:lnTo>
                <a:lnTo>
                  <a:pt x="607" y="951"/>
                </a:lnTo>
                <a:lnTo>
                  <a:pt x="584" y="959"/>
                </a:lnTo>
                <a:lnTo>
                  <a:pt x="563" y="967"/>
                </a:lnTo>
                <a:lnTo>
                  <a:pt x="538" y="975"/>
                </a:lnTo>
                <a:lnTo>
                  <a:pt x="544" y="990"/>
                </a:lnTo>
                <a:lnTo>
                  <a:pt x="541" y="975"/>
                </a:lnTo>
                <a:lnTo>
                  <a:pt x="517" y="981"/>
                </a:lnTo>
                <a:lnTo>
                  <a:pt x="494" y="987"/>
                </a:lnTo>
                <a:lnTo>
                  <a:pt x="471" y="992"/>
                </a:lnTo>
                <a:lnTo>
                  <a:pt x="446" y="998"/>
                </a:lnTo>
                <a:lnTo>
                  <a:pt x="451" y="1014"/>
                </a:lnTo>
                <a:lnTo>
                  <a:pt x="448" y="998"/>
                </a:lnTo>
                <a:lnTo>
                  <a:pt x="425" y="1002"/>
                </a:lnTo>
                <a:lnTo>
                  <a:pt x="420" y="1002"/>
                </a:lnTo>
                <a:lnTo>
                  <a:pt x="423" y="1002"/>
                </a:lnTo>
                <a:lnTo>
                  <a:pt x="398" y="1008"/>
                </a:lnTo>
                <a:lnTo>
                  <a:pt x="375" y="1014"/>
                </a:lnTo>
                <a:lnTo>
                  <a:pt x="377" y="1030"/>
                </a:lnTo>
                <a:lnTo>
                  <a:pt x="376" y="1014"/>
                </a:lnTo>
                <a:lnTo>
                  <a:pt x="353" y="1018"/>
                </a:lnTo>
                <a:lnTo>
                  <a:pt x="349" y="1018"/>
                </a:lnTo>
                <a:lnTo>
                  <a:pt x="350" y="1018"/>
                </a:lnTo>
                <a:lnTo>
                  <a:pt x="327" y="1024"/>
                </a:lnTo>
                <a:lnTo>
                  <a:pt x="331" y="1040"/>
                </a:lnTo>
                <a:lnTo>
                  <a:pt x="329" y="1024"/>
                </a:lnTo>
                <a:lnTo>
                  <a:pt x="303" y="1027"/>
                </a:lnTo>
                <a:lnTo>
                  <a:pt x="280" y="1031"/>
                </a:lnTo>
                <a:lnTo>
                  <a:pt x="275" y="1031"/>
                </a:lnTo>
                <a:lnTo>
                  <a:pt x="278" y="1031"/>
                </a:lnTo>
                <a:lnTo>
                  <a:pt x="254" y="1037"/>
                </a:lnTo>
                <a:lnTo>
                  <a:pt x="258" y="1053"/>
                </a:lnTo>
                <a:lnTo>
                  <a:pt x="257" y="1037"/>
                </a:lnTo>
                <a:lnTo>
                  <a:pt x="232" y="1041"/>
                </a:lnTo>
                <a:lnTo>
                  <a:pt x="229" y="1041"/>
                </a:lnTo>
                <a:lnTo>
                  <a:pt x="231" y="1041"/>
                </a:lnTo>
                <a:lnTo>
                  <a:pt x="205" y="1047"/>
                </a:lnTo>
                <a:lnTo>
                  <a:pt x="209" y="1063"/>
                </a:lnTo>
                <a:lnTo>
                  <a:pt x="208" y="1047"/>
                </a:lnTo>
                <a:lnTo>
                  <a:pt x="183" y="1051"/>
                </a:lnTo>
                <a:lnTo>
                  <a:pt x="160" y="1054"/>
                </a:lnTo>
                <a:lnTo>
                  <a:pt x="156" y="1054"/>
                </a:lnTo>
                <a:lnTo>
                  <a:pt x="158" y="1054"/>
                </a:lnTo>
                <a:lnTo>
                  <a:pt x="135" y="1061"/>
                </a:lnTo>
                <a:lnTo>
                  <a:pt x="112" y="1067"/>
                </a:lnTo>
                <a:lnTo>
                  <a:pt x="114" y="1083"/>
                </a:lnTo>
                <a:lnTo>
                  <a:pt x="113" y="1067"/>
                </a:lnTo>
                <a:lnTo>
                  <a:pt x="90" y="1070"/>
                </a:lnTo>
                <a:lnTo>
                  <a:pt x="84" y="1070"/>
                </a:lnTo>
                <a:lnTo>
                  <a:pt x="86" y="1070"/>
                </a:lnTo>
                <a:lnTo>
                  <a:pt x="61" y="1079"/>
                </a:lnTo>
                <a:lnTo>
                  <a:pt x="68" y="1094"/>
                </a:lnTo>
                <a:lnTo>
                  <a:pt x="64" y="1079"/>
                </a:lnTo>
                <a:lnTo>
                  <a:pt x="40" y="1084"/>
                </a:lnTo>
                <a:lnTo>
                  <a:pt x="0" y="1094"/>
                </a:lnTo>
              </a:path>
            </a:pathLst>
          </a:custGeom>
          <a:solidFill>
            <a:srgbClr val="ffcc00"/>
          </a:solidFill>
          <a:ln cap="rnd"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933560" y="3420720"/>
            <a:ext cx="0" cy="1415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271600" y="2468520"/>
            <a:ext cx="0" cy="2254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33760" y="1630440"/>
            <a:ext cx="0" cy="2946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982960" y="160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863880" y="246852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121440" y="2468520"/>
            <a:ext cx="0" cy="1938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35040" y="20574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o Wh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44520" y="3429000"/>
            <a:ext cx="563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marL="90360" indent="-90360" algn="ctr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s going to get wor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90200" y="1650600"/>
            <a:ext cx="6908760" cy="4049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sive growth of the Internet contin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s to double in size every 10-12 mon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will all the capable system administrators come fro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5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growth will drive vend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market, features, performance, cost  are pri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sible” quality features such as security are second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s going to get wor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90200" y="1574280"/>
            <a:ext cx="6908760" cy="4125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sensitive applications connected to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cost of communications, ease of connection, and power of products engineered for the Internet will drive out other forms of net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nger for data and benefits of electronic interaction will continue to push widespread use of information technolog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63640" y="685800"/>
            <a:ext cx="6835680" cy="698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s going to get wor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90200" y="1371600"/>
            <a:ext cx="6908760" cy="4214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97000"/>
          </a:bodyPr>
          <a:p>
            <a:pPr marL="87480" indent="-87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ath of the firew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840" indent="-123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approaches depend on complete administrative control and strong perimeter contr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840" indent="-123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’s business practices and wide area networks violate these basic princi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3480" indent="-50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entral point of network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3480" indent="-50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connections with customers, suppliers, part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3480" indent="-50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network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5480" indent="-13212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twork is the comput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83480" indent="-507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’s an “insider”and who’s an “outsider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ts going to get wor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90200" y="1600200"/>
            <a:ext cx="6908760" cy="41004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snake-o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rket for security products and services is growing faster than the supply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duct and service provi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formed consumer base needs understanding, not just aware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the suppliers don’t understand ei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want it badly, you’ll get it badl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27000" y="808200"/>
            <a:ext cx="64882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ngressional Testimonies and Reports to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2320" y="2127240"/>
            <a:ext cx="64911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28/00 Testimony Before the Senate Judiciary Subcommittee on Technology, Terrorism, and Government Information (Rich Peth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9/00 Testimony to the Committee on Government Reform Subcommittee on Government Management, Information, and Technology (Rich Peth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1/00 Testimony to the Senate Armed Services Committee Subcommittee on Emerging Threats and Capabilities (Steve Cr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efore it gets bett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90200" y="1510920"/>
            <a:ext cx="6908760" cy="41893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 market for security professionals will eventually drive graduate and certificate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understanding by technology users will build demand for quality security products; vendors will pay attention to the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urance industry will provide incentives for improved business security prac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efore it gets bett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90200" y="1587240"/>
            <a:ext cx="6908760" cy="411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will continue to improve and we will figure out how to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 authent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collaboration across government and indus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21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960" bIns="399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entury Schoolbook"/>
              </a:rPr>
              <a:t>Intruder Trends that IRTs will have to Handle: 2001-2010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960" bIns="399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Schoolbook"/>
              </a:rPr>
              <a:t>Changes in Intrusion Profil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2200" y="1371240"/>
            <a:ext cx="3381480" cy="36003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520" bIns="38520" anchor="t">
            <a:normAutofit/>
          </a:bodyPr>
          <a:p>
            <a:pPr marL="90360" indent="-9036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pass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known vulner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43400" y="1295280"/>
            <a:ext cx="338472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9000"/>
          </a:bodyPr>
          <a:p>
            <a:pPr marL="80280" indent="-802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pass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known vulner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oiting protocol fla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ining source files for new security fla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using anonymous FTP, web servers, e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alling sniffer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 source address spoof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al of service att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despread, automated scanning of th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6440" y="3929040"/>
            <a:ext cx="3319560" cy="105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finition of “vulnerability” on the Internet is approaching that of the DoD in trust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canning for Victim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9000"/>
          </a:bodyPr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 scale scanners collect information on 100,000s of hosts around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iffers now use the same technology as intrusion detection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and complexity of trust relationships in real systems make victim selection eas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canning for Victim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4000"/>
          </a:bodyPr>
          <a:p>
            <a:pPr marL="75600" indent="-756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orro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-756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data reduction tools and more query-oriented search capability will allow reuse of sca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-756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expensive disk and computation time will encourage the use of cryptography and persistent storage of sca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600" indent="-756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 data becomes a commodity like marketing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Future of Probe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3000"/>
          </a:bodyPr>
          <a:p>
            <a:pPr marL="74880" indent="-748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re very likely to see mo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105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spread brute-force scanning with little regard for being det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105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althy probes like SYN and FIN that require packet logging to det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105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s to hide the origin of the probes through spoofing and deco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1051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ed vulnerability exploits that probe and compromise in a single ste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ypical Intruder Attack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046160" y="1501920"/>
            <a:ext cx="2491920" cy="818640"/>
            <a:chOff x="1046160" y="1501920"/>
            <a:chExt cx="2491920" cy="818640"/>
          </a:xfrm>
        </p:grpSpPr>
        <p:sp>
          <p:nvSpPr>
            <p:cNvPr id="351" name=""/>
            <p:cNvSpPr/>
            <p:nvPr/>
          </p:nvSpPr>
          <p:spPr>
            <a:xfrm>
              <a:off x="1046160" y="21038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39720" y="19598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35080" y="1817640"/>
              <a:ext cx="414720" cy="216720"/>
            </a:xfrm>
            <a:custGeom>
              <a:avLst/>
              <a:gdLst/>
              <a:ahLst/>
              <a:rect l="l" t="t" r="r" b="b"/>
              <a:pathLst>
                <a:path w="294" h="154">
                  <a:moveTo>
                    <a:pt x="210" y="0"/>
                  </a:moveTo>
                  <a:lnTo>
                    <a:pt x="0" y="60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3" y="26"/>
                  </a:lnTo>
                  <a:lnTo>
                    <a:pt x="210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9360" y="16736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21920" y="150192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219320" y="5105520"/>
            <a:ext cx="636732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fccff"/>
                </a:solidFill>
                <a:latin typeface="Arial"/>
              </a:rPr>
              <a:t>Intruder scans remote sites to identify targets, then attacks vulnerable or misconfigured hos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441600" y="1138320"/>
            <a:ext cx="3884040" cy="4101840"/>
            <a:chOff x="3441600" y="1138320"/>
            <a:chExt cx="3884040" cy="410184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3441600" y="1138320"/>
              <a:ext cx="3697200" cy="41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026960" y="1801080"/>
              <a:ext cx="2266200" cy="25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5554080" y="2979360"/>
              <a:ext cx="552960" cy="55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"/>
            <p:cNvGrpSpPr/>
            <p:nvPr/>
          </p:nvGrpSpPr>
          <p:grpSpPr>
            <a:xfrm>
              <a:off x="4038480" y="1150560"/>
              <a:ext cx="3287160" cy="3871440"/>
              <a:chOff x="4038480" y="1150560"/>
              <a:chExt cx="3287160" cy="3871440"/>
            </a:xfrm>
          </p:grpSpPr>
          <p:sp>
            <p:nvSpPr>
              <p:cNvPr id="362" name=""/>
              <p:cNvSpPr/>
              <p:nvPr/>
            </p:nvSpPr>
            <p:spPr>
              <a:xfrm>
                <a:off x="4199040" y="2775600"/>
                <a:ext cx="115704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90560"/>
                    <a:tab algn="l" pos="1581120"/>
                    <a:tab algn="l" pos="2371680"/>
                    <a:tab algn="l" pos="3162240"/>
                    <a:tab algn="l" pos="3952800"/>
                    <a:tab algn="l" pos="4743360"/>
                    <a:tab algn="l" pos="5533920"/>
                    <a:tab algn="l" pos="6324480"/>
                    <a:tab algn="l" pos="7115040"/>
                    <a:tab algn="l" pos="7905600"/>
                    <a:tab algn="l" pos="8696160"/>
                    <a:tab algn="l" pos="9487080"/>
                    <a:tab algn="l" pos="10277640"/>
                  </a:tabLst>
                </a:pPr>
                <a:r>
                  <a:rPr b="1" lang="en-US" sz="2100" spc="-1" strike="noStrike">
                    <a:solidFill>
                      <a:srgbClr val="0066ff"/>
                    </a:solidFill>
                    <a:latin typeface="Arial"/>
                  </a:rPr>
                  <a:t>Internet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02080" y="162468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76200" y="365616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14960" y="162468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960160" y="162468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298560" y="2098800"/>
                <a:ext cx="5529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70120" y="2301840"/>
                <a:ext cx="5529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553720" y="223416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038480" y="4333680"/>
                <a:ext cx="688320" cy="68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73040" y="155664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21400" y="115056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53720" y="419796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4" name=""/>
          <p:cNvSpPr/>
          <p:nvPr/>
        </p:nvSpPr>
        <p:spPr>
          <a:xfrm>
            <a:off x="6367320" y="3386160"/>
            <a:ext cx="271440" cy="13824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44" y="0"/>
                </a:moveTo>
                <a:lnTo>
                  <a:pt x="0" y="0"/>
                </a:lnTo>
                <a:lnTo>
                  <a:pt x="48" y="48"/>
                </a:lnTo>
                <a:lnTo>
                  <a:pt x="0" y="96"/>
                </a:lnTo>
                <a:lnTo>
                  <a:pt x="144" y="96"/>
                </a:lnTo>
                <a:lnTo>
                  <a:pt x="192" y="48"/>
                </a:lnTo>
                <a:lnTo>
                  <a:pt x="144" y="0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350040" y="3386160"/>
            <a:ext cx="678960" cy="138240"/>
            <a:chOff x="6350040" y="3386160"/>
            <a:chExt cx="678960" cy="138240"/>
          </a:xfrm>
        </p:grpSpPr>
        <p:sp>
          <p:nvSpPr>
            <p:cNvPr id="376" name=""/>
            <p:cNvSpPr/>
            <p:nvPr/>
          </p:nvSpPr>
          <p:spPr>
            <a:xfrm>
              <a:off x="6350040" y="3386160"/>
              <a:ext cx="27252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56480" y="3386160"/>
              <a:ext cx="27252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721560" y="3386160"/>
            <a:ext cx="1017000" cy="138240"/>
            <a:chOff x="6721560" y="3386160"/>
            <a:chExt cx="1017000" cy="138240"/>
          </a:xfrm>
        </p:grpSpPr>
        <p:sp>
          <p:nvSpPr>
            <p:cNvPr id="379" name=""/>
            <p:cNvSpPr/>
            <p:nvPr/>
          </p:nvSpPr>
          <p:spPr>
            <a:xfrm>
              <a:off x="6721560" y="3386160"/>
              <a:ext cx="27216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59960" y="3386160"/>
              <a:ext cx="27216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66400" y="3386160"/>
              <a:ext cx="272160" cy="1382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056280" y="2101680"/>
            <a:ext cx="1824840" cy="2501280"/>
            <a:chOff x="6056280" y="2101680"/>
            <a:chExt cx="1824840" cy="2501280"/>
          </a:xfrm>
        </p:grpSpPr>
        <p:grpSp>
          <p:nvGrpSpPr>
            <p:cNvPr id="383" name=""/>
            <p:cNvGrpSpPr/>
            <p:nvPr/>
          </p:nvGrpSpPr>
          <p:grpSpPr>
            <a:xfrm>
              <a:off x="6123600" y="3705840"/>
              <a:ext cx="1612440" cy="693720"/>
              <a:chOff x="6123600" y="3705840"/>
              <a:chExt cx="1612440" cy="693720"/>
            </a:xfrm>
          </p:grpSpPr>
          <p:sp>
            <p:nvSpPr>
              <p:cNvPr id="384" name=""/>
              <p:cNvSpPr/>
              <p:nvPr/>
            </p:nvSpPr>
            <p:spPr>
              <a:xfrm>
                <a:off x="6123600" y="370584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40760" y="3823920"/>
                <a:ext cx="27936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58640" y="39409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75800" y="40597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56680" y="4200840"/>
                <a:ext cx="27936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056280" y="3909240"/>
              <a:ext cx="1612080" cy="693720"/>
              <a:chOff x="6056280" y="3909240"/>
              <a:chExt cx="1612080" cy="693720"/>
            </a:xfrm>
          </p:grpSpPr>
          <p:sp>
            <p:nvSpPr>
              <p:cNvPr id="390" name=""/>
              <p:cNvSpPr/>
              <p:nvPr/>
            </p:nvSpPr>
            <p:spPr>
              <a:xfrm>
                <a:off x="6056280" y="390924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73440" y="40273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90960" y="41443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8120" y="426312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89360" y="4404240"/>
                <a:ext cx="279000" cy="198720"/>
              </a:xfrm>
              <a:custGeom>
                <a:avLst/>
                <a:gdLst/>
                <a:ahLst/>
                <a:rect l="l" t="t" r="r" b="b"/>
                <a:pathLst>
                  <a:path w="198" h="141">
                    <a:moveTo>
                      <a:pt x="169" y="50"/>
                    </a:moveTo>
                    <a:lnTo>
                      <a:pt x="34" y="0"/>
                    </a:lnTo>
                    <a:lnTo>
                      <a:pt x="62" y="61"/>
                    </a:lnTo>
                    <a:lnTo>
                      <a:pt x="0" y="90"/>
                    </a:lnTo>
                    <a:lnTo>
                      <a:pt x="135" y="140"/>
                    </a:lnTo>
                    <a:lnTo>
                      <a:pt x="197" y="111"/>
                    </a:lnTo>
                    <a:lnTo>
                      <a:pt x="169" y="5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251760" y="2670120"/>
              <a:ext cx="1629360" cy="641880"/>
              <a:chOff x="6251760" y="2670120"/>
              <a:chExt cx="1629360" cy="641880"/>
            </a:xfrm>
          </p:grpSpPr>
          <p:sp>
            <p:nvSpPr>
              <p:cNvPr id="396" name=""/>
              <p:cNvSpPr/>
              <p:nvPr/>
            </p:nvSpPr>
            <p:spPr>
              <a:xfrm>
                <a:off x="6251760" y="3117240"/>
                <a:ext cx="279360" cy="19476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73600" y="3009960"/>
                <a:ext cx="279000" cy="19440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895080" y="2904120"/>
                <a:ext cx="279000" cy="19476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216920" y="2798280"/>
                <a:ext cx="279000" cy="19476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02120" y="2670120"/>
                <a:ext cx="279000" cy="194760"/>
              </a:xfrm>
              <a:custGeom>
                <a:avLst/>
                <a:gdLst/>
                <a:ahLst/>
                <a:rect l="l" t="t" r="r" b="b"/>
                <a:pathLst>
                  <a:path w="198" h="138">
                    <a:moveTo>
                      <a:pt x="137" y="0"/>
                    </a:moveTo>
                    <a:lnTo>
                      <a:pt x="0" y="46"/>
                    </a:lnTo>
                    <a:lnTo>
                      <a:pt x="60" y="76"/>
                    </a:lnTo>
                    <a:lnTo>
                      <a:pt x="30" y="137"/>
                    </a:lnTo>
                    <a:lnTo>
                      <a:pt x="167" y="92"/>
                    </a:lnTo>
                    <a:lnTo>
                      <a:pt x="197" y="31"/>
                    </a:lnTo>
                    <a:lnTo>
                      <a:pt x="137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256440" y="2101680"/>
              <a:ext cx="1469880" cy="981360"/>
              <a:chOff x="6256440" y="2101680"/>
              <a:chExt cx="1469880" cy="981360"/>
            </a:xfrm>
          </p:grpSpPr>
          <p:sp>
            <p:nvSpPr>
              <p:cNvPr id="402" name=""/>
              <p:cNvSpPr/>
              <p:nvPr/>
            </p:nvSpPr>
            <p:spPr>
              <a:xfrm>
                <a:off x="6256440" y="2859120"/>
                <a:ext cx="26640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42640" y="2678760"/>
                <a:ext cx="26640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828840" y="2497680"/>
                <a:ext cx="26640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115040" y="2317320"/>
                <a:ext cx="26676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459560" y="2101680"/>
                <a:ext cx="266760" cy="223920"/>
              </a:xfrm>
              <a:custGeom>
                <a:avLst/>
                <a:gdLst/>
                <a:ahLst/>
                <a:rect l="l" t="t" r="r" b="b"/>
                <a:pathLst>
                  <a:path w="189" h="159">
                    <a:moveTo>
                      <a:pt x="122" y="0"/>
                    </a:moveTo>
                    <a:lnTo>
                      <a:pt x="0" y="77"/>
                    </a:lnTo>
                    <a:lnTo>
                      <a:pt x="66" y="92"/>
                    </a:lnTo>
                    <a:lnTo>
                      <a:pt x="51" y="158"/>
                    </a:lnTo>
                    <a:lnTo>
                      <a:pt x="173" y="81"/>
                    </a:lnTo>
                    <a:lnTo>
                      <a:pt x="188" y="15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1760400" y="3048120"/>
            <a:ext cx="1695240" cy="136440"/>
            <a:chOff x="1760400" y="3048120"/>
            <a:chExt cx="1695240" cy="136440"/>
          </a:xfrm>
        </p:grpSpPr>
        <p:sp>
          <p:nvSpPr>
            <p:cNvPr id="408" name=""/>
            <p:cNvSpPr/>
            <p:nvPr/>
          </p:nvSpPr>
          <p:spPr>
            <a:xfrm>
              <a:off x="176040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9916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3792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7668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348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494000" y="1922400"/>
            <a:ext cx="1872720" cy="506160"/>
            <a:chOff x="1494000" y="1922400"/>
            <a:chExt cx="1872720" cy="506160"/>
          </a:xfrm>
        </p:grpSpPr>
        <p:sp>
          <p:nvSpPr>
            <p:cNvPr id="414" name=""/>
            <p:cNvSpPr/>
            <p:nvPr/>
          </p:nvSpPr>
          <p:spPr>
            <a:xfrm>
              <a:off x="1494000" y="224820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66240" y="2170440"/>
              <a:ext cx="312840" cy="1807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37040" y="209304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06760" y="2015280"/>
              <a:ext cx="312840" cy="1807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53880" y="192240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573280" y="2776680"/>
            <a:ext cx="1695240" cy="137880"/>
            <a:chOff x="2573280" y="2776680"/>
            <a:chExt cx="1695240" cy="137880"/>
          </a:xfrm>
        </p:grpSpPr>
        <p:sp>
          <p:nvSpPr>
            <p:cNvPr id="420" name=""/>
            <p:cNvSpPr/>
            <p:nvPr/>
          </p:nvSpPr>
          <p:spPr>
            <a:xfrm>
              <a:off x="257328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1204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5080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8956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9636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322280" y="1949400"/>
            <a:ext cx="4548960" cy="2517840"/>
            <a:chOff x="1322280" y="1949400"/>
            <a:chExt cx="4548960" cy="2517840"/>
          </a:xfrm>
        </p:grpSpPr>
        <p:grpSp>
          <p:nvGrpSpPr>
            <p:cNvPr id="426" name=""/>
            <p:cNvGrpSpPr/>
            <p:nvPr/>
          </p:nvGrpSpPr>
          <p:grpSpPr>
            <a:xfrm>
              <a:off x="1322280" y="1949400"/>
              <a:ext cx="2687760" cy="872280"/>
              <a:chOff x="1322280" y="1949400"/>
              <a:chExt cx="2687760" cy="872280"/>
            </a:xfrm>
          </p:grpSpPr>
          <p:sp>
            <p:nvSpPr>
              <p:cNvPr id="427" name=""/>
              <p:cNvSpPr/>
              <p:nvPr/>
            </p:nvSpPr>
            <p:spPr>
              <a:xfrm>
                <a:off x="1322280" y="2597760"/>
                <a:ext cx="44712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56880" y="2444400"/>
                <a:ext cx="446040" cy="223920"/>
              </a:xfrm>
              <a:custGeom>
                <a:avLst/>
                <a:gdLst/>
                <a:ahLst/>
                <a:rect l="l" t="t" r="r" b="b"/>
                <a:pathLst>
                  <a:path w="316" h="159">
                    <a:moveTo>
                      <a:pt x="226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5" y="24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388960" y="2289240"/>
                <a:ext cx="44712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22480" y="2135160"/>
                <a:ext cx="44676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63280" y="1949400"/>
                <a:ext cx="44676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1893600" y="3702600"/>
              <a:ext cx="2710440" cy="308520"/>
              <a:chOff x="1893600" y="3702600"/>
              <a:chExt cx="2710440" cy="308520"/>
            </a:xfrm>
          </p:grpSpPr>
          <p:sp>
            <p:nvSpPr>
              <p:cNvPr id="433" name=""/>
              <p:cNvSpPr/>
              <p:nvPr/>
            </p:nvSpPr>
            <p:spPr>
              <a:xfrm>
                <a:off x="1893600" y="370260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33960" y="373752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75760" y="3774240"/>
                <a:ext cx="43884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516120" y="381132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65560" y="385344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448360" y="2000160"/>
              <a:ext cx="3422880" cy="649440"/>
              <a:chOff x="2448360" y="2000160"/>
              <a:chExt cx="3422880" cy="64944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2448360" y="2362320"/>
                <a:ext cx="1121400" cy="287280"/>
                <a:chOff x="2448360" y="2362320"/>
                <a:chExt cx="1121400" cy="2872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448360" y="2487600"/>
                  <a:ext cx="32832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843280" y="2427120"/>
                  <a:ext cx="32976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241080" y="236232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601080" y="2181600"/>
                <a:ext cx="1119960" cy="287280"/>
                <a:chOff x="3601080" y="2181600"/>
                <a:chExt cx="1119960" cy="287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601080" y="2306880"/>
                  <a:ext cx="327240" cy="162000"/>
                </a:xfrm>
                <a:custGeom>
                  <a:avLst/>
                  <a:gdLst/>
                  <a:ahLst/>
                  <a:rect l="l" t="t" r="r" b="b"/>
                  <a:pathLst>
                    <a:path w="232" h="115">
                      <a:moveTo>
                        <a:pt x="168" y="0"/>
                      </a:moveTo>
                      <a:lnTo>
                        <a:pt x="0" y="25"/>
                      </a:lnTo>
                      <a:lnTo>
                        <a:pt x="62" y="61"/>
                      </a:lnTo>
                      <a:lnTo>
                        <a:pt x="13" y="114"/>
                      </a:lnTo>
                      <a:lnTo>
                        <a:pt x="181" y="89"/>
                      </a:lnTo>
                      <a:lnTo>
                        <a:pt x="231" y="36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995640" y="2244960"/>
                  <a:ext cx="33012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393800" y="2181600"/>
                  <a:ext cx="327240" cy="162360"/>
                </a:xfrm>
                <a:custGeom>
                  <a:avLst/>
                  <a:gdLst/>
                  <a:ahLst/>
                  <a:rect l="l" t="t" r="r" b="b"/>
                  <a:pathLst>
                    <a:path w="232" h="115">
                      <a:moveTo>
                        <a:pt x="168" y="0"/>
                      </a:moveTo>
                      <a:lnTo>
                        <a:pt x="0" y="25"/>
                      </a:lnTo>
                      <a:lnTo>
                        <a:pt x="62" y="61"/>
                      </a:lnTo>
                      <a:lnTo>
                        <a:pt x="13" y="114"/>
                      </a:lnTo>
                      <a:lnTo>
                        <a:pt x="181" y="89"/>
                      </a:lnTo>
                      <a:lnTo>
                        <a:pt x="231" y="36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749840" y="2000160"/>
                <a:ext cx="1121400" cy="287280"/>
                <a:chOff x="4749840" y="2000160"/>
                <a:chExt cx="1121400" cy="2872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49840" y="212544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144760" y="2064600"/>
                  <a:ext cx="33012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542560" y="200016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1" name=""/>
            <p:cNvGrpSpPr/>
            <p:nvPr/>
          </p:nvGrpSpPr>
          <p:grpSpPr>
            <a:xfrm>
              <a:off x="2709360" y="4053960"/>
              <a:ext cx="1681560" cy="413280"/>
              <a:chOff x="2709360" y="4053960"/>
              <a:chExt cx="1681560" cy="413280"/>
            </a:xfrm>
          </p:grpSpPr>
          <p:sp>
            <p:nvSpPr>
              <p:cNvPr id="452" name=""/>
              <p:cNvSpPr/>
              <p:nvPr/>
            </p:nvSpPr>
            <p:spPr>
              <a:xfrm>
                <a:off x="2709360" y="4053960"/>
                <a:ext cx="28044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2000" y="411156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376440" y="416952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09440" y="422748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10480" y="4298040"/>
                <a:ext cx="28044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1895400" y="3319560"/>
            <a:ext cx="3388680" cy="136440"/>
            <a:chOff x="1895400" y="3319560"/>
            <a:chExt cx="3388680" cy="136440"/>
          </a:xfrm>
        </p:grpSpPr>
        <p:grpSp>
          <p:nvGrpSpPr>
            <p:cNvPr id="458" name=""/>
            <p:cNvGrpSpPr/>
            <p:nvPr/>
          </p:nvGrpSpPr>
          <p:grpSpPr>
            <a:xfrm>
              <a:off x="3589200" y="3319560"/>
              <a:ext cx="1694880" cy="136440"/>
              <a:chOff x="3589200" y="3319560"/>
              <a:chExt cx="1694880" cy="136440"/>
            </a:xfrm>
          </p:grpSpPr>
          <p:sp>
            <p:nvSpPr>
              <p:cNvPr id="459" name=""/>
              <p:cNvSpPr/>
              <p:nvPr/>
            </p:nvSpPr>
            <p:spPr>
              <a:xfrm>
                <a:off x="35892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2796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2667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0548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1895400" y="3319560"/>
              <a:ext cx="1694880" cy="136440"/>
              <a:chOff x="1895400" y="3319560"/>
              <a:chExt cx="1694880" cy="136440"/>
            </a:xfrm>
          </p:grpSpPr>
          <p:sp>
            <p:nvSpPr>
              <p:cNvPr id="465" name=""/>
              <p:cNvSpPr/>
              <p:nvPr/>
            </p:nvSpPr>
            <p:spPr>
              <a:xfrm>
                <a:off x="18954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338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57256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1168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3181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1844640" y="3319560"/>
            <a:ext cx="3049200" cy="136440"/>
            <a:chOff x="1844640" y="3319560"/>
            <a:chExt cx="3049200" cy="136440"/>
          </a:xfrm>
        </p:grpSpPr>
        <p:sp>
          <p:nvSpPr>
            <p:cNvPr id="471" name=""/>
            <p:cNvSpPr/>
            <p:nvPr/>
          </p:nvSpPr>
          <p:spPr>
            <a:xfrm>
              <a:off x="319932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380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768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152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216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446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830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1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282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828800" y="3319560"/>
            <a:ext cx="2711160" cy="136440"/>
            <a:chOff x="1828800" y="3319560"/>
            <a:chExt cx="2711160" cy="136440"/>
          </a:xfrm>
        </p:grpSpPr>
        <p:sp>
          <p:nvSpPr>
            <p:cNvPr id="481" name=""/>
            <p:cNvSpPr/>
            <p:nvPr/>
          </p:nvSpPr>
          <p:spPr>
            <a:xfrm>
              <a:off x="28450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834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226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613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67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736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828800" y="3319560"/>
            <a:ext cx="2371320" cy="136440"/>
            <a:chOff x="1828800" y="3319560"/>
            <a:chExt cx="2371320" cy="136440"/>
          </a:xfrm>
        </p:grpSpPr>
        <p:sp>
          <p:nvSpPr>
            <p:cNvPr id="490" name=""/>
            <p:cNvSpPr/>
            <p:nvPr/>
          </p:nvSpPr>
          <p:spPr>
            <a:xfrm>
              <a:off x="2505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443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827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218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27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348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895400" y="3319560"/>
            <a:ext cx="1967040" cy="136440"/>
            <a:chOff x="1895400" y="3319560"/>
            <a:chExt cx="1967040" cy="136440"/>
          </a:xfrm>
        </p:grpSpPr>
        <p:sp>
          <p:nvSpPr>
            <p:cNvPr id="498" name=""/>
            <p:cNvSpPr/>
            <p:nvPr/>
          </p:nvSpPr>
          <p:spPr>
            <a:xfrm>
              <a:off x="21661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0524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440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31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899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954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895400" y="3319560"/>
            <a:ext cx="1695240" cy="136440"/>
            <a:chOff x="1895400" y="3319560"/>
            <a:chExt cx="1695240" cy="136440"/>
          </a:xfrm>
        </p:grpSpPr>
        <p:sp>
          <p:nvSpPr>
            <p:cNvPr id="505" name=""/>
            <p:cNvSpPr/>
            <p:nvPr/>
          </p:nvSpPr>
          <p:spPr>
            <a:xfrm>
              <a:off x="18954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33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725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116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184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828800" y="3319560"/>
            <a:ext cx="1017360" cy="136440"/>
            <a:chOff x="1828800" y="3319560"/>
            <a:chExt cx="1017360" cy="136440"/>
          </a:xfrm>
        </p:grpSpPr>
        <p:sp>
          <p:nvSpPr>
            <p:cNvPr id="511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740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28800" y="3319560"/>
            <a:ext cx="678960" cy="136440"/>
            <a:chOff x="1828800" y="3319560"/>
            <a:chExt cx="678960" cy="136440"/>
          </a:xfrm>
        </p:grpSpPr>
        <p:sp>
          <p:nvSpPr>
            <p:cNvPr id="515" name=""/>
            <p:cNvSpPr/>
            <p:nvPr/>
          </p:nvSpPr>
          <p:spPr>
            <a:xfrm>
              <a:off x="18288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3524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1914480" y="3319560"/>
            <a:ext cx="271440" cy="13644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44" y="0"/>
                </a:moveTo>
                <a:lnTo>
                  <a:pt x="0" y="0"/>
                </a:lnTo>
                <a:lnTo>
                  <a:pt x="48" y="48"/>
                </a:lnTo>
                <a:lnTo>
                  <a:pt x="0" y="96"/>
                </a:lnTo>
                <a:lnTo>
                  <a:pt x="144" y="96"/>
                </a:lnTo>
                <a:lnTo>
                  <a:pt x="192" y="48"/>
                </a:lnTo>
                <a:lnTo>
                  <a:pt x="144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78440" y="3319560"/>
            <a:ext cx="407880" cy="136440"/>
          </a:xfrm>
          <a:custGeom>
            <a:avLst/>
            <a:gdLst/>
            <a:ahLst/>
            <a:rect l="l" t="t" r="r" b="b"/>
            <a:pathLst>
              <a:path w="289" h="97">
                <a:moveTo>
                  <a:pt x="216" y="0"/>
                </a:moveTo>
                <a:lnTo>
                  <a:pt x="0" y="0"/>
                </a:lnTo>
                <a:lnTo>
                  <a:pt x="72" y="48"/>
                </a:lnTo>
                <a:lnTo>
                  <a:pt x="0" y="96"/>
                </a:lnTo>
                <a:lnTo>
                  <a:pt x="216" y="96"/>
                </a:lnTo>
                <a:lnTo>
                  <a:pt x="288" y="48"/>
                </a:lnTo>
                <a:lnTo>
                  <a:pt x="216" y="0"/>
                </a:lnTo>
              </a:path>
            </a:pathLst>
          </a:custGeom>
          <a:solidFill>
            <a:srgbClr val="002c93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828800" y="3319560"/>
            <a:ext cx="1355400" cy="136440"/>
            <a:chOff x="1828800" y="3319560"/>
            <a:chExt cx="1355400" cy="136440"/>
          </a:xfrm>
        </p:grpSpPr>
        <p:sp>
          <p:nvSpPr>
            <p:cNvPr id="520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05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120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4" name="" descr=""/>
          <p:cNvPicPr/>
          <p:nvPr/>
        </p:nvPicPr>
        <p:blipFill>
          <a:blip r:embed="rId14"/>
          <a:stretch/>
        </p:blipFill>
        <p:spPr>
          <a:xfrm>
            <a:off x="5734080" y="3025800"/>
            <a:ext cx="328680" cy="496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689440" y="3116160"/>
            <a:ext cx="408240" cy="366840"/>
          </a:xfrm>
          <a:custGeom>
            <a:avLst/>
            <a:gdLst/>
            <a:ahLst/>
            <a:rect l="l" t="t" r="r" b="b"/>
            <a:pathLst>
              <a:path w="289" h="260">
                <a:moveTo>
                  <a:pt x="153" y="207"/>
                </a:moveTo>
                <a:lnTo>
                  <a:pt x="130" y="236"/>
                </a:lnTo>
                <a:lnTo>
                  <a:pt x="114" y="182"/>
                </a:lnTo>
                <a:lnTo>
                  <a:pt x="60" y="216"/>
                </a:lnTo>
                <a:lnTo>
                  <a:pt x="72" y="165"/>
                </a:lnTo>
                <a:lnTo>
                  <a:pt x="16" y="160"/>
                </a:lnTo>
                <a:lnTo>
                  <a:pt x="52" y="120"/>
                </a:lnTo>
                <a:lnTo>
                  <a:pt x="0" y="105"/>
                </a:lnTo>
                <a:lnTo>
                  <a:pt x="44" y="75"/>
                </a:lnTo>
                <a:lnTo>
                  <a:pt x="17" y="45"/>
                </a:lnTo>
                <a:lnTo>
                  <a:pt x="64" y="40"/>
                </a:lnTo>
                <a:lnTo>
                  <a:pt x="66" y="0"/>
                </a:lnTo>
                <a:lnTo>
                  <a:pt x="100" y="42"/>
                </a:lnTo>
                <a:lnTo>
                  <a:pt x="116" y="23"/>
                </a:lnTo>
                <a:lnTo>
                  <a:pt x="132" y="51"/>
                </a:lnTo>
                <a:lnTo>
                  <a:pt x="155" y="33"/>
                </a:lnTo>
                <a:lnTo>
                  <a:pt x="162" y="68"/>
                </a:lnTo>
                <a:lnTo>
                  <a:pt x="199" y="51"/>
                </a:lnTo>
                <a:lnTo>
                  <a:pt x="195" y="87"/>
                </a:lnTo>
                <a:lnTo>
                  <a:pt x="252" y="72"/>
                </a:lnTo>
                <a:lnTo>
                  <a:pt x="218" y="111"/>
                </a:lnTo>
                <a:lnTo>
                  <a:pt x="244" y="124"/>
                </a:lnTo>
                <a:lnTo>
                  <a:pt x="226" y="146"/>
                </a:lnTo>
                <a:lnTo>
                  <a:pt x="288" y="179"/>
                </a:lnTo>
                <a:lnTo>
                  <a:pt x="218" y="181"/>
                </a:lnTo>
                <a:lnTo>
                  <a:pt x="240" y="221"/>
                </a:lnTo>
                <a:lnTo>
                  <a:pt x="194" y="190"/>
                </a:lnTo>
                <a:lnTo>
                  <a:pt x="197" y="259"/>
                </a:lnTo>
                <a:lnTo>
                  <a:pt x="153" y="207"/>
                </a:lnTo>
              </a:path>
            </a:pathLst>
          </a:custGeom>
          <a:solidFill>
            <a:srgbClr val="df2b5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21400" y="3048120"/>
            <a:ext cx="611280" cy="488880"/>
          </a:xfrm>
          <a:custGeom>
            <a:avLst/>
            <a:gdLst/>
            <a:ahLst/>
            <a:rect l="l" t="t" r="r" b="b"/>
            <a:pathLst>
              <a:path w="433" h="347">
                <a:moveTo>
                  <a:pt x="229" y="276"/>
                </a:moveTo>
                <a:lnTo>
                  <a:pt x="194" y="316"/>
                </a:lnTo>
                <a:lnTo>
                  <a:pt x="171" y="244"/>
                </a:lnTo>
                <a:lnTo>
                  <a:pt x="90" y="288"/>
                </a:lnTo>
                <a:lnTo>
                  <a:pt x="107" y="221"/>
                </a:lnTo>
                <a:lnTo>
                  <a:pt x="23" y="214"/>
                </a:lnTo>
                <a:lnTo>
                  <a:pt x="79" y="160"/>
                </a:lnTo>
                <a:lnTo>
                  <a:pt x="0" y="140"/>
                </a:lnTo>
                <a:lnTo>
                  <a:pt x="67" y="100"/>
                </a:lnTo>
                <a:lnTo>
                  <a:pt x="26" y="60"/>
                </a:lnTo>
                <a:lnTo>
                  <a:pt x="96" y="54"/>
                </a:lnTo>
                <a:lnTo>
                  <a:pt x="98" y="0"/>
                </a:lnTo>
                <a:lnTo>
                  <a:pt x="151" y="56"/>
                </a:lnTo>
                <a:lnTo>
                  <a:pt x="174" y="30"/>
                </a:lnTo>
                <a:lnTo>
                  <a:pt x="197" y="68"/>
                </a:lnTo>
                <a:lnTo>
                  <a:pt x="232" y="44"/>
                </a:lnTo>
                <a:lnTo>
                  <a:pt x="244" y="91"/>
                </a:lnTo>
                <a:lnTo>
                  <a:pt x="299" y="68"/>
                </a:lnTo>
                <a:lnTo>
                  <a:pt x="293" y="116"/>
                </a:lnTo>
                <a:lnTo>
                  <a:pt x="378" y="96"/>
                </a:lnTo>
                <a:lnTo>
                  <a:pt x="328" y="149"/>
                </a:lnTo>
                <a:lnTo>
                  <a:pt x="365" y="165"/>
                </a:lnTo>
                <a:lnTo>
                  <a:pt x="340" y="195"/>
                </a:lnTo>
                <a:lnTo>
                  <a:pt x="432" y="240"/>
                </a:lnTo>
                <a:lnTo>
                  <a:pt x="328" y="241"/>
                </a:lnTo>
                <a:lnTo>
                  <a:pt x="360" y="295"/>
                </a:lnTo>
                <a:lnTo>
                  <a:pt x="290" y="253"/>
                </a:lnTo>
                <a:lnTo>
                  <a:pt x="296" y="346"/>
                </a:lnTo>
                <a:lnTo>
                  <a:pt x="229" y="276"/>
                </a:lnTo>
              </a:path>
            </a:pathLst>
          </a:custGeom>
          <a:solidFill>
            <a:srgbClr val="df2b5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621400" y="2979720"/>
            <a:ext cx="542880" cy="611280"/>
          </a:xfrm>
          <a:custGeom>
            <a:avLst/>
            <a:gdLst/>
            <a:ahLst/>
            <a:rect l="l" t="t" r="r" b="b"/>
            <a:pathLst>
              <a:path w="385" h="433">
                <a:moveTo>
                  <a:pt x="204" y="345"/>
                </a:moveTo>
                <a:lnTo>
                  <a:pt x="173" y="394"/>
                </a:lnTo>
                <a:lnTo>
                  <a:pt x="152" y="304"/>
                </a:lnTo>
                <a:lnTo>
                  <a:pt x="80" y="359"/>
                </a:lnTo>
                <a:lnTo>
                  <a:pt x="96" y="276"/>
                </a:lnTo>
                <a:lnTo>
                  <a:pt x="21" y="267"/>
                </a:lnTo>
                <a:lnTo>
                  <a:pt x="70" y="200"/>
                </a:lnTo>
                <a:lnTo>
                  <a:pt x="0" y="174"/>
                </a:lnTo>
                <a:lnTo>
                  <a:pt x="59" y="125"/>
                </a:lnTo>
                <a:lnTo>
                  <a:pt x="23" y="75"/>
                </a:lnTo>
                <a:lnTo>
                  <a:pt x="85" y="67"/>
                </a:lnTo>
                <a:lnTo>
                  <a:pt x="87" y="0"/>
                </a:lnTo>
                <a:lnTo>
                  <a:pt x="134" y="69"/>
                </a:lnTo>
                <a:lnTo>
                  <a:pt x="155" y="38"/>
                </a:lnTo>
                <a:lnTo>
                  <a:pt x="176" y="85"/>
                </a:lnTo>
                <a:lnTo>
                  <a:pt x="206" y="55"/>
                </a:lnTo>
                <a:lnTo>
                  <a:pt x="217" y="113"/>
                </a:lnTo>
                <a:lnTo>
                  <a:pt x="266" y="85"/>
                </a:lnTo>
                <a:lnTo>
                  <a:pt x="260" y="145"/>
                </a:lnTo>
                <a:lnTo>
                  <a:pt x="336" y="119"/>
                </a:lnTo>
                <a:lnTo>
                  <a:pt x="291" y="186"/>
                </a:lnTo>
                <a:lnTo>
                  <a:pt x="325" y="206"/>
                </a:lnTo>
                <a:lnTo>
                  <a:pt x="302" y="244"/>
                </a:lnTo>
                <a:lnTo>
                  <a:pt x="384" y="299"/>
                </a:lnTo>
                <a:lnTo>
                  <a:pt x="291" y="301"/>
                </a:lnTo>
                <a:lnTo>
                  <a:pt x="320" y="369"/>
                </a:lnTo>
                <a:lnTo>
                  <a:pt x="258" y="316"/>
                </a:lnTo>
                <a:lnTo>
                  <a:pt x="263" y="432"/>
                </a:lnTo>
                <a:lnTo>
                  <a:pt x="204" y="345"/>
                </a:lnTo>
              </a:path>
            </a:pathLst>
          </a:custGeom>
          <a:solidFill>
            <a:srgbClr val="df2b5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5"/>
          <a:stretch/>
        </p:blipFill>
        <p:spPr>
          <a:xfrm>
            <a:off x="5381640" y="287496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6"/>
          <a:stretch/>
        </p:blipFill>
        <p:spPr>
          <a:xfrm>
            <a:off x="338040" y="2573280"/>
            <a:ext cx="1000080" cy="10954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05280" y="4724280"/>
            <a:ext cx="11275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6e0043"/>
                </a:solidFill>
                <a:latin typeface="Arial"/>
              </a:rPr>
              <a:t>Yester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03040" y="744120"/>
            <a:ext cx="6485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istributed Coordina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ttack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046160" y="1501920"/>
            <a:ext cx="2491920" cy="818640"/>
            <a:chOff x="1046160" y="1501920"/>
            <a:chExt cx="2491920" cy="818640"/>
          </a:xfrm>
        </p:grpSpPr>
        <p:sp>
          <p:nvSpPr>
            <p:cNvPr id="533" name=""/>
            <p:cNvSpPr/>
            <p:nvPr/>
          </p:nvSpPr>
          <p:spPr>
            <a:xfrm>
              <a:off x="1046160" y="21038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39720" y="19598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35080" y="1817640"/>
              <a:ext cx="414720" cy="216720"/>
            </a:xfrm>
            <a:custGeom>
              <a:avLst/>
              <a:gdLst/>
              <a:ahLst/>
              <a:rect l="l" t="t" r="r" b="b"/>
              <a:pathLst>
                <a:path w="294" h="154">
                  <a:moveTo>
                    <a:pt x="210" y="0"/>
                  </a:moveTo>
                  <a:lnTo>
                    <a:pt x="0" y="60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3" y="26"/>
                  </a:lnTo>
                  <a:lnTo>
                    <a:pt x="210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29360" y="167364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21920" y="1501920"/>
              <a:ext cx="416160" cy="216720"/>
            </a:xfrm>
            <a:custGeom>
              <a:avLst/>
              <a:gdLst/>
              <a:ahLst/>
              <a:rect l="l" t="t" r="r" b="b"/>
              <a:pathLst>
                <a:path w="295" h="154">
                  <a:moveTo>
                    <a:pt x="211" y="0"/>
                  </a:moveTo>
                  <a:lnTo>
                    <a:pt x="0" y="61"/>
                  </a:lnTo>
                  <a:lnTo>
                    <a:pt x="84" y="86"/>
                  </a:lnTo>
                  <a:lnTo>
                    <a:pt x="27" y="153"/>
                  </a:lnTo>
                  <a:lnTo>
                    <a:pt x="237" y="92"/>
                  </a:lnTo>
                  <a:lnTo>
                    <a:pt x="294" y="25"/>
                  </a:lnTo>
                  <a:lnTo>
                    <a:pt x="211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838080" y="5105520"/>
            <a:ext cx="636768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fccff"/>
                </a:solidFill>
                <a:latin typeface="Arial"/>
              </a:rPr>
              <a:t>Intruder scans remote sites to identify targets, then attacks vulnerable or misconfigured hos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726000" y="947880"/>
            <a:ext cx="3883680" cy="4101840"/>
            <a:chOff x="3726000" y="947880"/>
            <a:chExt cx="3883680" cy="4101840"/>
          </a:xfrm>
        </p:grpSpPr>
        <p:pic>
          <p:nvPicPr>
            <p:cNvPr id="540" name="" descr=""/>
            <p:cNvPicPr/>
            <p:nvPr/>
          </p:nvPicPr>
          <p:blipFill>
            <a:blip r:embed="rId1"/>
            <a:stretch/>
          </p:blipFill>
          <p:spPr>
            <a:xfrm>
              <a:off x="3726000" y="947880"/>
              <a:ext cx="3696840" cy="41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4311360" y="1610640"/>
              <a:ext cx="2265840" cy="25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38120" y="2788920"/>
              <a:ext cx="552600" cy="55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3" name=""/>
            <p:cNvGrpSpPr/>
            <p:nvPr/>
          </p:nvGrpSpPr>
          <p:grpSpPr>
            <a:xfrm>
              <a:off x="4322880" y="960120"/>
              <a:ext cx="3286800" cy="3871440"/>
              <a:chOff x="4322880" y="960120"/>
              <a:chExt cx="3286800" cy="3871440"/>
            </a:xfrm>
          </p:grpSpPr>
          <p:sp>
            <p:nvSpPr>
              <p:cNvPr id="544" name=""/>
              <p:cNvSpPr/>
              <p:nvPr/>
            </p:nvSpPr>
            <p:spPr>
              <a:xfrm>
                <a:off x="4483440" y="2585160"/>
                <a:ext cx="11566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90560"/>
                    <a:tab algn="l" pos="1581120"/>
                    <a:tab algn="l" pos="2371680"/>
                    <a:tab algn="l" pos="3162240"/>
                    <a:tab algn="l" pos="3952800"/>
                    <a:tab algn="l" pos="4743360"/>
                    <a:tab algn="l" pos="5533920"/>
                    <a:tab algn="l" pos="6324480"/>
                    <a:tab algn="l" pos="7115040"/>
                    <a:tab algn="l" pos="7905600"/>
                    <a:tab algn="l" pos="8696160"/>
                    <a:tab algn="l" pos="9487080"/>
                    <a:tab algn="l" pos="10277640"/>
                  </a:tabLst>
                </a:pPr>
                <a:r>
                  <a:rPr b="1" lang="en-US" sz="2100" spc="-1" strike="noStrike">
                    <a:solidFill>
                      <a:srgbClr val="0066ff"/>
                    </a:solidFill>
                    <a:latin typeface="Arial"/>
                  </a:rPr>
                  <a:t>Internet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6480" y="143424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60600" y="346572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99000" y="143424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244200" y="143424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582960" y="1908360"/>
                <a:ext cx="5529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754160" y="2111400"/>
                <a:ext cx="5529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38120" y="204372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322880" y="4143240"/>
                <a:ext cx="688320" cy="68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057080" y="136620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05440" y="960120"/>
                <a:ext cx="552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38120" y="4007520"/>
                <a:ext cx="552600" cy="55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56" name=""/>
          <p:cNvGrpSpPr/>
          <p:nvPr/>
        </p:nvGrpSpPr>
        <p:grpSpPr>
          <a:xfrm>
            <a:off x="1760400" y="3048120"/>
            <a:ext cx="1695240" cy="136440"/>
            <a:chOff x="1760400" y="3048120"/>
            <a:chExt cx="1695240" cy="136440"/>
          </a:xfrm>
        </p:grpSpPr>
        <p:sp>
          <p:nvSpPr>
            <p:cNvPr id="557" name=""/>
            <p:cNvSpPr/>
            <p:nvPr/>
          </p:nvSpPr>
          <p:spPr>
            <a:xfrm>
              <a:off x="176040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9916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3792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7668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83480" y="304812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494000" y="1922400"/>
            <a:ext cx="1872720" cy="506160"/>
            <a:chOff x="1494000" y="1922400"/>
            <a:chExt cx="1872720" cy="506160"/>
          </a:xfrm>
        </p:grpSpPr>
        <p:sp>
          <p:nvSpPr>
            <p:cNvPr id="563" name=""/>
            <p:cNvSpPr/>
            <p:nvPr/>
          </p:nvSpPr>
          <p:spPr>
            <a:xfrm>
              <a:off x="1494000" y="224820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66240" y="2170440"/>
              <a:ext cx="312840" cy="1807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7040" y="209304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06760" y="2015280"/>
              <a:ext cx="312840" cy="18072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53880" y="1922400"/>
              <a:ext cx="312840" cy="180360"/>
            </a:xfrm>
            <a:custGeom>
              <a:avLst/>
              <a:gdLst/>
              <a:ahLst/>
              <a:rect l="l" t="t" r="r" b="b"/>
              <a:pathLst>
                <a:path w="222" h="128">
                  <a:moveTo>
                    <a:pt x="158" y="0"/>
                  </a:moveTo>
                  <a:lnTo>
                    <a:pt x="0" y="33"/>
                  </a:lnTo>
                  <a:lnTo>
                    <a:pt x="63" y="69"/>
                  </a:lnTo>
                  <a:lnTo>
                    <a:pt x="20" y="127"/>
                  </a:lnTo>
                  <a:lnTo>
                    <a:pt x="178" y="94"/>
                  </a:lnTo>
                  <a:lnTo>
                    <a:pt x="221" y="36"/>
                  </a:lnTo>
                  <a:lnTo>
                    <a:pt x="158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2573280" y="2776680"/>
            <a:ext cx="1695240" cy="137880"/>
            <a:chOff x="2573280" y="2776680"/>
            <a:chExt cx="1695240" cy="137880"/>
          </a:xfrm>
        </p:grpSpPr>
        <p:sp>
          <p:nvSpPr>
            <p:cNvPr id="569" name=""/>
            <p:cNvSpPr/>
            <p:nvPr/>
          </p:nvSpPr>
          <p:spPr>
            <a:xfrm>
              <a:off x="257328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1204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5080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8956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6360" y="2776680"/>
              <a:ext cx="272160" cy="13788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9999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322280" y="1949400"/>
            <a:ext cx="4548960" cy="2517840"/>
            <a:chOff x="1322280" y="1949400"/>
            <a:chExt cx="4548960" cy="2517840"/>
          </a:xfrm>
        </p:grpSpPr>
        <p:grpSp>
          <p:nvGrpSpPr>
            <p:cNvPr id="575" name=""/>
            <p:cNvGrpSpPr/>
            <p:nvPr/>
          </p:nvGrpSpPr>
          <p:grpSpPr>
            <a:xfrm>
              <a:off x="1322280" y="1949400"/>
              <a:ext cx="2687760" cy="872280"/>
              <a:chOff x="1322280" y="1949400"/>
              <a:chExt cx="2687760" cy="87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1322280" y="2597760"/>
                <a:ext cx="44712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56880" y="2444400"/>
                <a:ext cx="446040" cy="223920"/>
              </a:xfrm>
              <a:custGeom>
                <a:avLst/>
                <a:gdLst/>
                <a:ahLst/>
                <a:rect l="l" t="t" r="r" b="b"/>
                <a:pathLst>
                  <a:path w="316" h="159">
                    <a:moveTo>
                      <a:pt x="226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5" y="24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388960" y="2289240"/>
                <a:ext cx="44712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22480" y="2135160"/>
                <a:ext cx="44676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563280" y="1949400"/>
                <a:ext cx="446760" cy="223920"/>
              </a:xfrm>
              <a:custGeom>
                <a:avLst/>
                <a:gdLst/>
                <a:ahLst/>
                <a:rect l="l" t="t" r="r" b="b"/>
                <a:pathLst>
                  <a:path w="317" h="159">
                    <a:moveTo>
                      <a:pt x="227" y="0"/>
                    </a:moveTo>
                    <a:lnTo>
                      <a:pt x="0" y="66"/>
                    </a:lnTo>
                    <a:lnTo>
                      <a:pt x="89" y="90"/>
                    </a:lnTo>
                    <a:lnTo>
                      <a:pt x="27" y="158"/>
                    </a:lnTo>
                    <a:lnTo>
                      <a:pt x="253" y="92"/>
                    </a:lnTo>
                    <a:lnTo>
                      <a:pt x="316" y="24"/>
                    </a:lnTo>
                    <a:lnTo>
                      <a:pt x="227" y="0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1893600" y="3702600"/>
              <a:ext cx="2710440" cy="308520"/>
              <a:chOff x="1893600" y="3702600"/>
              <a:chExt cx="2710440" cy="308520"/>
            </a:xfrm>
          </p:grpSpPr>
          <p:sp>
            <p:nvSpPr>
              <p:cNvPr id="582" name=""/>
              <p:cNvSpPr/>
              <p:nvPr/>
            </p:nvSpPr>
            <p:spPr>
              <a:xfrm>
                <a:off x="1893600" y="370260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33960" y="373752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975760" y="3774240"/>
                <a:ext cx="43884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516120" y="381132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165560" y="3853440"/>
                <a:ext cx="438480" cy="157680"/>
              </a:xfrm>
              <a:custGeom>
                <a:avLst/>
                <a:gdLst/>
                <a:ahLst/>
                <a:rect l="l" t="t" r="r" b="b"/>
                <a:pathLst>
                  <a:path w="311" h="112">
                    <a:moveTo>
                      <a:pt x="236" y="15"/>
                    </a:moveTo>
                    <a:lnTo>
                      <a:pt x="7" y="0"/>
                    </a:lnTo>
                    <a:lnTo>
                      <a:pt x="80" y="53"/>
                    </a:lnTo>
                    <a:lnTo>
                      <a:pt x="0" y="96"/>
                    </a:lnTo>
                    <a:lnTo>
                      <a:pt x="230" y="111"/>
                    </a:lnTo>
                    <a:lnTo>
                      <a:pt x="310" y="68"/>
                    </a:lnTo>
                    <a:lnTo>
                      <a:pt x="236" y="1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448360" y="2000160"/>
              <a:ext cx="3422880" cy="649440"/>
              <a:chOff x="2448360" y="2000160"/>
              <a:chExt cx="3422880" cy="64944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448360" y="2362320"/>
                <a:ext cx="1121400" cy="287280"/>
                <a:chOff x="2448360" y="2362320"/>
                <a:chExt cx="1121400" cy="28728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2448360" y="2487600"/>
                  <a:ext cx="32832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843280" y="2427120"/>
                  <a:ext cx="32976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41080" y="236232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3601080" y="2181600"/>
                <a:ext cx="1119960" cy="287280"/>
                <a:chOff x="3601080" y="2181600"/>
                <a:chExt cx="1119960" cy="2872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601080" y="2306880"/>
                  <a:ext cx="327240" cy="162000"/>
                </a:xfrm>
                <a:custGeom>
                  <a:avLst/>
                  <a:gdLst/>
                  <a:ahLst/>
                  <a:rect l="l" t="t" r="r" b="b"/>
                  <a:pathLst>
                    <a:path w="232" h="115">
                      <a:moveTo>
                        <a:pt x="168" y="0"/>
                      </a:moveTo>
                      <a:lnTo>
                        <a:pt x="0" y="25"/>
                      </a:lnTo>
                      <a:lnTo>
                        <a:pt x="62" y="61"/>
                      </a:lnTo>
                      <a:lnTo>
                        <a:pt x="13" y="114"/>
                      </a:lnTo>
                      <a:lnTo>
                        <a:pt x="181" y="89"/>
                      </a:lnTo>
                      <a:lnTo>
                        <a:pt x="231" y="36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995640" y="2244960"/>
                  <a:ext cx="33012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393800" y="2181600"/>
                  <a:ext cx="327240" cy="162360"/>
                </a:xfrm>
                <a:custGeom>
                  <a:avLst/>
                  <a:gdLst/>
                  <a:ahLst/>
                  <a:rect l="l" t="t" r="r" b="b"/>
                  <a:pathLst>
                    <a:path w="232" h="115">
                      <a:moveTo>
                        <a:pt x="168" y="0"/>
                      </a:moveTo>
                      <a:lnTo>
                        <a:pt x="0" y="25"/>
                      </a:lnTo>
                      <a:lnTo>
                        <a:pt x="62" y="61"/>
                      </a:lnTo>
                      <a:lnTo>
                        <a:pt x="13" y="114"/>
                      </a:lnTo>
                      <a:lnTo>
                        <a:pt x="181" y="89"/>
                      </a:lnTo>
                      <a:lnTo>
                        <a:pt x="231" y="36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4749840" y="2000160"/>
                <a:ext cx="1121400" cy="287280"/>
                <a:chOff x="4749840" y="2000160"/>
                <a:chExt cx="1121400" cy="2872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4749840" y="212544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144760" y="2064600"/>
                  <a:ext cx="330120" cy="162000"/>
                </a:xfrm>
                <a:custGeom>
                  <a:avLst/>
                  <a:gdLst/>
                  <a:ahLst/>
                  <a:rect l="l" t="t" r="r" b="b"/>
                  <a:pathLst>
                    <a:path w="234" h="115">
                      <a:moveTo>
                        <a:pt x="170" y="0"/>
                      </a:moveTo>
                      <a:lnTo>
                        <a:pt x="0" y="26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3" y="88"/>
                      </a:lnTo>
                      <a:lnTo>
                        <a:pt x="233" y="35"/>
                      </a:lnTo>
                      <a:lnTo>
                        <a:pt x="170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542560" y="2000160"/>
                  <a:ext cx="328680" cy="162000"/>
                </a:xfrm>
                <a:custGeom>
                  <a:avLst/>
                  <a:gdLst/>
                  <a:ahLst/>
                  <a:rect l="l" t="t" r="r" b="b"/>
                  <a:pathLst>
                    <a:path w="233" h="115">
                      <a:moveTo>
                        <a:pt x="169" y="0"/>
                      </a:moveTo>
                      <a:lnTo>
                        <a:pt x="0" y="25"/>
                      </a:lnTo>
                      <a:lnTo>
                        <a:pt x="63" y="61"/>
                      </a:lnTo>
                      <a:lnTo>
                        <a:pt x="13" y="114"/>
                      </a:lnTo>
                      <a:lnTo>
                        <a:pt x="182" y="89"/>
                      </a:lnTo>
                      <a:lnTo>
                        <a:pt x="232" y="36"/>
                      </a:lnTo>
                      <a:lnTo>
                        <a:pt x="169" y="0"/>
                      </a:lnTo>
                    </a:path>
                  </a:pathLst>
                </a:custGeom>
                <a:solidFill>
                  <a:srgbClr val="9999ff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0" name=""/>
            <p:cNvGrpSpPr/>
            <p:nvPr/>
          </p:nvGrpSpPr>
          <p:grpSpPr>
            <a:xfrm>
              <a:off x="2709360" y="4053960"/>
              <a:ext cx="1681560" cy="413280"/>
              <a:chOff x="2709360" y="4053960"/>
              <a:chExt cx="1681560" cy="413280"/>
            </a:xfrm>
          </p:grpSpPr>
          <p:sp>
            <p:nvSpPr>
              <p:cNvPr id="601" name=""/>
              <p:cNvSpPr/>
              <p:nvPr/>
            </p:nvSpPr>
            <p:spPr>
              <a:xfrm>
                <a:off x="2709360" y="4053960"/>
                <a:ext cx="28044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42000" y="411156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76440" y="416952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09440" y="4227480"/>
                <a:ext cx="28080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10480" y="4298040"/>
                <a:ext cx="280440" cy="169200"/>
              </a:xfrm>
              <a:custGeom>
                <a:avLst/>
                <a:gdLst/>
                <a:ahLst/>
                <a:rect l="l" t="t" r="r" b="b"/>
                <a:pathLst>
                  <a:path w="199" h="120">
                    <a:moveTo>
                      <a:pt x="158" y="25"/>
                    </a:moveTo>
                    <a:lnTo>
                      <a:pt x="17" y="0"/>
                    </a:lnTo>
                    <a:lnTo>
                      <a:pt x="56" y="56"/>
                    </a:lnTo>
                    <a:lnTo>
                      <a:pt x="0" y="95"/>
                    </a:lnTo>
                    <a:lnTo>
                      <a:pt x="142" y="119"/>
                    </a:lnTo>
                    <a:lnTo>
                      <a:pt x="198" y="80"/>
                    </a:lnTo>
                    <a:lnTo>
                      <a:pt x="158" y="25"/>
                    </a:lnTo>
                  </a:path>
                </a:pathLst>
              </a:custGeom>
              <a:solidFill>
                <a:srgbClr val="9999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1895400" y="3319560"/>
            <a:ext cx="3388680" cy="136440"/>
            <a:chOff x="1895400" y="3319560"/>
            <a:chExt cx="3388680" cy="136440"/>
          </a:xfrm>
        </p:grpSpPr>
        <p:grpSp>
          <p:nvGrpSpPr>
            <p:cNvPr id="607" name=""/>
            <p:cNvGrpSpPr/>
            <p:nvPr/>
          </p:nvGrpSpPr>
          <p:grpSpPr>
            <a:xfrm>
              <a:off x="3589200" y="3319560"/>
              <a:ext cx="1694880" cy="136440"/>
              <a:chOff x="3589200" y="3319560"/>
              <a:chExt cx="1694880" cy="136440"/>
            </a:xfrm>
          </p:grpSpPr>
          <p:sp>
            <p:nvSpPr>
              <p:cNvPr id="608" name=""/>
              <p:cNvSpPr/>
              <p:nvPr/>
            </p:nvSpPr>
            <p:spPr>
              <a:xfrm>
                <a:off x="35892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2796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667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0548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119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1895400" y="3319560"/>
              <a:ext cx="1694880" cy="136440"/>
              <a:chOff x="1895400" y="3319560"/>
              <a:chExt cx="1694880" cy="136440"/>
            </a:xfrm>
          </p:grpSpPr>
          <p:sp>
            <p:nvSpPr>
              <p:cNvPr id="614" name=""/>
              <p:cNvSpPr/>
              <p:nvPr/>
            </p:nvSpPr>
            <p:spPr>
              <a:xfrm>
                <a:off x="18954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23380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7256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91168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318120" y="3319560"/>
                <a:ext cx="272160" cy="136440"/>
              </a:xfrm>
              <a:custGeom>
                <a:avLst/>
                <a:gdLst/>
                <a:ahLst/>
                <a:rect l="l" t="t" r="r" b="b"/>
                <a:pathLst>
                  <a:path w="193" h="97">
                    <a:moveTo>
                      <a:pt x="144" y="0"/>
                    </a:moveTo>
                    <a:lnTo>
                      <a:pt x="0" y="0"/>
                    </a:lnTo>
                    <a:lnTo>
                      <a:pt x="48" y="48"/>
                    </a:lnTo>
                    <a:lnTo>
                      <a:pt x="0" y="96"/>
                    </a:lnTo>
                    <a:lnTo>
                      <a:pt x="144" y="96"/>
                    </a:lnTo>
                    <a:lnTo>
                      <a:pt x="192" y="4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9" name=""/>
          <p:cNvGrpSpPr/>
          <p:nvPr/>
        </p:nvGrpSpPr>
        <p:grpSpPr>
          <a:xfrm>
            <a:off x="1844640" y="3319560"/>
            <a:ext cx="3049200" cy="136440"/>
            <a:chOff x="1844640" y="3319560"/>
            <a:chExt cx="3049200" cy="136440"/>
          </a:xfrm>
        </p:grpSpPr>
        <p:sp>
          <p:nvSpPr>
            <p:cNvPr id="620" name=""/>
            <p:cNvSpPr/>
            <p:nvPr/>
          </p:nvSpPr>
          <p:spPr>
            <a:xfrm>
              <a:off x="319932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80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768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152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216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446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30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21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282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828800" y="3319560"/>
            <a:ext cx="2711160" cy="136440"/>
            <a:chOff x="1828800" y="3319560"/>
            <a:chExt cx="2711160" cy="136440"/>
          </a:xfrm>
        </p:grpSpPr>
        <p:sp>
          <p:nvSpPr>
            <p:cNvPr id="630" name=""/>
            <p:cNvSpPr/>
            <p:nvPr/>
          </p:nvSpPr>
          <p:spPr>
            <a:xfrm>
              <a:off x="28450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834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226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613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5736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828800" y="3319560"/>
            <a:ext cx="2371320" cy="136440"/>
            <a:chOff x="1828800" y="3319560"/>
            <a:chExt cx="2371320" cy="136440"/>
          </a:xfrm>
        </p:grpSpPr>
        <p:sp>
          <p:nvSpPr>
            <p:cNvPr id="639" name=""/>
            <p:cNvSpPr/>
            <p:nvPr/>
          </p:nvSpPr>
          <p:spPr>
            <a:xfrm>
              <a:off x="2505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443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27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218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27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348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895400" y="3319560"/>
            <a:ext cx="1967040" cy="136440"/>
            <a:chOff x="1895400" y="3319560"/>
            <a:chExt cx="1967040" cy="136440"/>
          </a:xfrm>
        </p:grpSpPr>
        <p:sp>
          <p:nvSpPr>
            <p:cNvPr id="647" name=""/>
            <p:cNvSpPr/>
            <p:nvPr/>
          </p:nvSpPr>
          <p:spPr>
            <a:xfrm>
              <a:off x="21661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0524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440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831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8992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954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895400" y="3319560"/>
            <a:ext cx="1695240" cy="136440"/>
            <a:chOff x="1895400" y="3319560"/>
            <a:chExt cx="1695240" cy="136440"/>
          </a:xfrm>
        </p:grpSpPr>
        <p:sp>
          <p:nvSpPr>
            <p:cNvPr id="654" name=""/>
            <p:cNvSpPr/>
            <p:nvPr/>
          </p:nvSpPr>
          <p:spPr>
            <a:xfrm>
              <a:off x="18954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33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725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116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1848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1828800" y="3319560"/>
            <a:ext cx="1017360" cy="136440"/>
            <a:chOff x="1828800" y="3319560"/>
            <a:chExt cx="1017360" cy="136440"/>
          </a:xfrm>
        </p:grpSpPr>
        <p:sp>
          <p:nvSpPr>
            <p:cNvPr id="660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740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1828800" y="3319560"/>
            <a:ext cx="678960" cy="136440"/>
            <a:chOff x="1828800" y="3319560"/>
            <a:chExt cx="678960" cy="136440"/>
          </a:xfrm>
        </p:grpSpPr>
        <p:sp>
          <p:nvSpPr>
            <p:cNvPr id="664" name=""/>
            <p:cNvSpPr/>
            <p:nvPr/>
          </p:nvSpPr>
          <p:spPr>
            <a:xfrm>
              <a:off x="182880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5240" y="3319560"/>
              <a:ext cx="27252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914480" y="3319560"/>
            <a:ext cx="271440" cy="13644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44" y="0"/>
                </a:moveTo>
                <a:lnTo>
                  <a:pt x="0" y="0"/>
                </a:lnTo>
                <a:lnTo>
                  <a:pt x="48" y="48"/>
                </a:lnTo>
                <a:lnTo>
                  <a:pt x="0" y="96"/>
                </a:lnTo>
                <a:lnTo>
                  <a:pt x="144" y="96"/>
                </a:lnTo>
                <a:lnTo>
                  <a:pt x="192" y="48"/>
                </a:lnTo>
                <a:lnTo>
                  <a:pt x="144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978440" y="3319560"/>
            <a:ext cx="407880" cy="136440"/>
          </a:xfrm>
          <a:custGeom>
            <a:avLst/>
            <a:gdLst/>
            <a:ahLst/>
            <a:rect l="l" t="t" r="r" b="b"/>
            <a:pathLst>
              <a:path w="289" h="97">
                <a:moveTo>
                  <a:pt x="216" y="0"/>
                </a:moveTo>
                <a:lnTo>
                  <a:pt x="0" y="0"/>
                </a:lnTo>
                <a:lnTo>
                  <a:pt x="72" y="48"/>
                </a:lnTo>
                <a:lnTo>
                  <a:pt x="0" y="96"/>
                </a:lnTo>
                <a:lnTo>
                  <a:pt x="216" y="96"/>
                </a:lnTo>
                <a:lnTo>
                  <a:pt x="288" y="48"/>
                </a:lnTo>
                <a:lnTo>
                  <a:pt x="216" y="0"/>
                </a:lnTo>
              </a:path>
            </a:pathLst>
          </a:custGeom>
          <a:solidFill>
            <a:srgbClr val="002c93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828800" y="3319560"/>
            <a:ext cx="1355400" cy="136440"/>
            <a:chOff x="1828800" y="3319560"/>
            <a:chExt cx="1355400" cy="136440"/>
          </a:xfrm>
        </p:grpSpPr>
        <p:sp>
          <p:nvSpPr>
            <p:cNvPr id="669" name=""/>
            <p:cNvSpPr/>
            <p:nvPr/>
          </p:nvSpPr>
          <p:spPr>
            <a:xfrm>
              <a:off x="18288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6720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0596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2040" y="3319560"/>
              <a:ext cx="272160" cy="136440"/>
            </a:xfrm>
            <a:custGeom>
              <a:avLst/>
              <a:gdLst/>
              <a:ahLst/>
              <a:rect l="l" t="t" r="r" b="b"/>
              <a:pathLst>
                <a:path w="193" h="97">
                  <a:moveTo>
                    <a:pt x="144" y="0"/>
                  </a:moveTo>
                  <a:lnTo>
                    <a:pt x="0" y="0"/>
                  </a:lnTo>
                  <a:lnTo>
                    <a:pt x="48" y="48"/>
                  </a:lnTo>
                  <a:lnTo>
                    <a:pt x="0" y="96"/>
                  </a:lnTo>
                  <a:lnTo>
                    <a:pt x="144" y="96"/>
                  </a:lnTo>
                  <a:lnTo>
                    <a:pt x="192" y="48"/>
                  </a:lnTo>
                  <a:lnTo>
                    <a:pt x="144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7045200" y="4673520"/>
            <a:ext cx="542880" cy="611280"/>
          </a:xfrm>
          <a:custGeom>
            <a:avLst/>
            <a:gdLst/>
            <a:ahLst/>
            <a:rect l="l" t="t" r="r" b="b"/>
            <a:pathLst>
              <a:path w="385" h="433">
                <a:moveTo>
                  <a:pt x="204" y="345"/>
                </a:moveTo>
                <a:lnTo>
                  <a:pt x="173" y="394"/>
                </a:lnTo>
                <a:lnTo>
                  <a:pt x="152" y="304"/>
                </a:lnTo>
                <a:lnTo>
                  <a:pt x="80" y="359"/>
                </a:lnTo>
                <a:lnTo>
                  <a:pt x="96" y="276"/>
                </a:lnTo>
                <a:lnTo>
                  <a:pt x="21" y="267"/>
                </a:lnTo>
                <a:lnTo>
                  <a:pt x="70" y="200"/>
                </a:lnTo>
                <a:lnTo>
                  <a:pt x="0" y="174"/>
                </a:lnTo>
                <a:lnTo>
                  <a:pt x="59" y="125"/>
                </a:lnTo>
                <a:lnTo>
                  <a:pt x="23" y="75"/>
                </a:lnTo>
                <a:lnTo>
                  <a:pt x="85" y="67"/>
                </a:lnTo>
                <a:lnTo>
                  <a:pt x="87" y="0"/>
                </a:lnTo>
                <a:lnTo>
                  <a:pt x="134" y="69"/>
                </a:lnTo>
                <a:lnTo>
                  <a:pt x="155" y="38"/>
                </a:lnTo>
                <a:lnTo>
                  <a:pt x="176" y="85"/>
                </a:lnTo>
                <a:lnTo>
                  <a:pt x="206" y="55"/>
                </a:lnTo>
                <a:lnTo>
                  <a:pt x="217" y="113"/>
                </a:lnTo>
                <a:lnTo>
                  <a:pt x="266" y="85"/>
                </a:lnTo>
                <a:lnTo>
                  <a:pt x="260" y="145"/>
                </a:lnTo>
                <a:lnTo>
                  <a:pt x="336" y="119"/>
                </a:lnTo>
                <a:lnTo>
                  <a:pt x="291" y="186"/>
                </a:lnTo>
                <a:lnTo>
                  <a:pt x="325" y="206"/>
                </a:lnTo>
                <a:lnTo>
                  <a:pt x="302" y="244"/>
                </a:lnTo>
                <a:lnTo>
                  <a:pt x="384" y="299"/>
                </a:lnTo>
                <a:lnTo>
                  <a:pt x="291" y="301"/>
                </a:lnTo>
                <a:lnTo>
                  <a:pt x="320" y="369"/>
                </a:lnTo>
                <a:lnTo>
                  <a:pt x="258" y="316"/>
                </a:lnTo>
                <a:lnTo>
                  <a:pt x="263" y="432"/>
                </a:lnTo>
                <a:lnTo>
                  <a:pt x="204" y="345"/>
                </a:lnTo>
              </a:path>
            </a:pathLst>
          </a:custGeom>
          <a:solidFill>
            <a:srgbClr val="df2b5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4"/>
          <a:stretch/>
        </p:blipFill>
        <p:spPr>
          <a:xfrm>
            <a:off x="6840360" y="4538520"/>
            <a:ext cx="900360" cy="9003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15"/>
          <a:stretch/>
        </p:blipFill>
        <p:spPr>
          <a:xfrm>
            <a:off x="338040" y="2573280"/>
            <a:ext cx="1000080" cy="10954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457920" y="4876920"/>
            <a:ext cx="7542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600" spc="-1" strike="noStrike">
                <a:solidFill>
                  <a:srgbClr val="6e0043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876920" y="1490760"/>
            <a:ext cx="2506680" cy="3723840"/>
            <a:chOff x="4876920" y="1490760"/>
            <a:chExt cx="2506680" cy="3723840"/>
          </a:xfrm>
        </p:grpSpPr>
        <p:sp>
          <p:nvSpPr>
            <p:cNvPr id="678" name=""/>
            <p:cNvSpPr/>
            <p:nvPr/>
          </p:nvSpPr>
          <p:spPr>
            <a:xfrm>
              <a:off x="4944600" y="4673160"/>
              <a:ext cx="1828800" cy="54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67320" y="4537800"/>
              <a:ext cx="473760" cy="40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21760" y="3725280"/>
              <a:ext cx="1219320" cy="87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41440" y="2370600"/>
              <a:ext cx="271080" cy="216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83600" y="1896840"/>
              <a:ext cx="0" cy="264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3920" y="2574000"/>
              <a:ext cx="880200" cy="1963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570360" y="2099880"/>
              <a:ext cx="541800" cy="243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34640" y="1964520"/>
              <a:ext cx="609480" cy="257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12280" y="2574000"/>
              <a:ext cx="1828800" cy="1963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6920" y="1964520"/>
              <a:ext cx="2032200" cy="257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689800" y="1964520"/>
              <a:ext cx="1219320" cy="257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96240" y="1490760"/>
              <a:ext cx="880560" cy="3047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istributed Coordinated Attack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8000"/>
          </a:bodyPr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100s to 1000s of clients (10,000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riggered by a “victim” and “time” comm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imultaneously attack the victim from all cli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does not use random source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 used in DoS attacks 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ngressional Testimonies (continued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6908760" cy="4050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87000"/>
          </a:bodyPr>
          <a:p>
            <a:pPr marL="78480" indent="-784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9/00 Testimony to the Subcommittee on Crime of the House Committee on the Judiciary and the Subcommittee on Criminal Justice Oversight of the Senate Committee on the Judiciary (Kathy Fith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3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3/00 Testimony to the Joint Economic Committee, U.S. Congress (Steve Cros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4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/99 Testimony to the Commerce and Economic Development Subcommittee on Electronic Commerce, House of Representatives, Commonwealth of Pennsylvania (Rich Peth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4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/99 Testimony Before the Subcommittee on Technology, Committee on Science, U.S. House of Representatives (Rich Peth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ssues for Responding to DoS Attack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6489720" cy="37846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4000"/>
          </a:bodyPr>
          <a:p>
            <a:pPr marL="84600" indent="-8460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ltering/detecting this attack is problematic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intruder’s intent is not always clear in denial of service attacks. The intruder might b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DoS attack to hide a real att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susing resources to attack someone el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empting to frame someone else for the att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abling a trusted host as part of an intr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acks also frequently invol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C ab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ruders attacking each oth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16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taliation for securing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wnside of Honeypot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7000"/>
          </a:bodyPr>
          <a:p>
            <a:pPr marL="78480" indent="-78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uders know these tools well and can frequently recognize them - this fools only f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neypots are frequently used as “fire and forget” leaving a vulnerable system open to at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for insider attacks where you know what to do to tempt the “intruder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d for finding and really controlling the devoted outside intru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Future is Automatio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6000"/>
          </a:bodyPr>
          <a:p>
            <a:pPr marL="77400" indent="-77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these together and what do you ge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 to scan for multiple vulner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 identification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ly available explo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-packaged Trojan horse backdoo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y and recon through active cont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-77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d new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-77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, these publicly available tools could be modified to launch wide-spread scans and compromise systems automatic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arning Signs of Toda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6000"/>
          </a:bodyPr>
          <a:p>
            <a:pPr marL="77400" indent="-7740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erate unexpected program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shortcut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 patchwork solutions to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y on the security of other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 low emphasis on error che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 a high degree of flexibility/configurability/auto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120" indent="-109080">
              <a:lnSpc>
                <a:spcPct val="85000"/>
              </a:lnSpc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dlessly support high-level shifts in our paradigms and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om Longstaff’s Predictions for the Next Decade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(well, at least the next 3 year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12520" y="1963800"/>
            <a:ext cx="6497640" cy="35812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8000"/>
          </a:bodyPr>
          <a:p>
            <a:pPr marL="88200" indent="-88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e of change continues to accelerate; existing security techniques will not scale to m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uders become more focused and effective, using SE techniques and advanced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pressure puts “snake oil” in the hands of the consumer as a response, increasing ri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-88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ing these trends requires a series of breakthroughs, not just improvements in existing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 Final Note on Legal Issue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9000"/>
          </a:bodyPr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commonly held belief that lawyers will solve the security problem for us, howev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256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urance companies cover both vendors and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256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cy groups fight to limit the liability of attacking 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-1256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lectual property is difficult to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8320" indent="0">
              <a:lnSpc>
                <a:spcPct val="85000"/>
              </a:lnSpc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don’t count on change in the legal climate anytime s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04520" y="812520"/>
            <a:ext cx="6907320" cy="677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ility Motivation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ing societal dependence on complex, large-scale, networked systems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tors: commercial, government, defense, ..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rastructure: telecom, transportation, utilities, 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consequences of system compromises and fail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15880" y="812520"/>
            <a:ext cx="7161120" cy="6094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ility Defined -- 1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1693800"/>
            <a:ext cx="683892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ility is the capability of a system to fulfill its 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 timely mann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the presence of attacks, failures, or accid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is on continuity and recovery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amount of security can guarantee that systems will not be penet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7360" y="744120"/>
            <a:ext cx="7066080" cy="7462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520" bIns="385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ility Defined -- 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8520" bIns="3852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s from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ecur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urity focuses on static perimeter solu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ivability focuses on layers of protection that degrade over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0">
              <a:lnSpc>
                <a:spcPct val="85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s from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ability focuses on random fault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ivability focuses on coordinated attacks by intelligent adversari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50720" y="812880"/>
            <a:ext cx="6910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ility Concepts: The “Three R’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1693800"/>
            <a:ext cx="6815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Resist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apability to deter attac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Recogn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apability to recognize attacks and extent of dam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</a:rPr>
              <a:t>Recove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apability to provide essential services/assets during attack and recover full services after attack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dia Coverage - 3/99 to Pres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0200" y="1574280"/>
            <a:ext cx="6908760" cy="4125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360 Media Intervi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news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nicle of Higher Edu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N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N Financial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Computer Wee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NBC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 Jose Mercury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l Street Jour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 P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hington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15520" y="880920"/>
            <a:ext cx="7450200" cy="5414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rrent Projec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675324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1000"/>
          </a:bodyPr>
          <a:p>
            <a:pPr marL="82080" indent="-820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 incident and vulnerability 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analys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understand the threats and risks to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urvivable network analysis metho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evaluate survivability of system architec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IA metrics and metho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efine and analyze   architectural properties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an </a:t>
            </a:r>
            <a:r>
              <a:rPr b="1" i="1" lang="en-US" sz="2200" spc="-1" strike="noStrike">
                <a:solidFill>
                  <a:srgbClr val="fafd00"/>
                </a:solidFill>
                <a:latin typeface="Arial"/>
              </a:rPr>
              <a:t>emergent algorithm simulato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investigate emergent survivability behavior of networ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Analysis Cent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3000"/>
          </a:bodyPr>
          <a:p>
            <a:pPr marL="74880" indent="-748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over the underlying causes and trends of unusual or new types of incid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-748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racterize routine incidents and allow for rapid recognition and handling of these incid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-748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key detectable characteristics that uniquely characterize the essential elements of incidents and vulnerabilit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880" indent="-748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rt near-real-time access to incident and vulnerability analysis results, containment strategies, and recovery techniqu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Analysis Center/Int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"/>
          <p:cNvSpPr/>
          <p:nvPr/>
        </p:nvSpPr>
        <p:spPr>
          <a:xfrm>
            <a:off x="838080" y="1557360"/>
            <a:ext cx="1677960" cy="9493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/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7" idx="3"/>
            <a:endCxn id="719" idx="1"/>
          </p:cNvCxnSpPr>
          <p:nvPr/>
        </p:nvCxnSpPr>
        <p:spPr>
          <a:xfrm>
            <a:off x="2516040" y="2031480"/>
            <a:ext cx="388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774720" y="3522600"/>
            <a:ext cx="1805040" cy="1760760"/>
          </a:xfrm>
          <a:prstGeom prst="flowChartMultidocumen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/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903400" y="1625760"/>
            <a:ext cx="2063880" cy="812520"/>
          </a:xfrm>
          <a:prstGeom prst="flowChartMagneticDrum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18000" y="1490760"/>
            <a:ext cx="2259000" cy="10159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E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19" idx="4"/>
            <a:endCxn id="721" idx="1"/>
          </p:cNvCxnSpPr>
          <p:nvPr/>
        </p:nvCxnSpPr>
        <p:spPr>
          <a:xfrm flipV="1">
            <a:off x="4967280" y="1998360"/>
            <a:ext cx="45144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838600" y="3386160"/>
            <a:ext cx="2322360" cy="1490760"/>
          </a:xfrm>
          <a:prstGeom prst="flowChartMultidocumen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54640" y="3589200"/>
            <a:ext cx="2644920" cy="949320"/>
          </a:xfrm>
          <a:prstGeom prst="flowChartInputOutpu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b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76440" y="1150920"/>
            <a:ext cx="20952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cccc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cccc"/>
                </a:solidFill>
                <a:latin typeface="Times New Roman"/>
              </a:rPr>
              <a:t>collec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84320" y="1084320"/>
            <a:ext cx="17218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2800" spc="-1" strike="noStrike">
                <a:solidFill>
                  <a:srgbClr val="ffcccc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cccc"/>
                </a:solidFill>
                <a:latin typeface="Times New Roman"/>
              </a:rPr>
              <a:t>analy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17" idx="2"/>
            <a:endCxn id="724" idx="1"/>
          </p:cNvCxnSpPr>
          <p:nvPr/>
        </p:nvCxnSpPr>
        <p:spPr>
          <a:xfrm flipH="1" rot="16200000">
            <a:off x="3636000" y="547920"/>
            <a:ext cx="1083240" cy="4999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721" idx="2"/>
            <a:endCxn id="724" idx="0"/>
          </p:cNvCxnSpPr>
          <p:nvPr/>
        </p:nvCxnSpPr>
        <p:spPr>
          <a:xfrm>
            <a:off x="6548400" y="2506320"/>
            <a:ext cx="394560" cy="1083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21" idx="2"/>
            <a:endCxn id="723" idx="3"/>
          </p:cNvCxnSpPr>
          <p:nvPr/>
        </p:nvCxnSpPr>
        <p:spPr>
          <a:xfrm flipH="1">
            <a:off x="5160600" y="2506680"/>
            <a:ext cx="1388160" cy="162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717" idx="2"/>
            <a:endCxn id="720" idx="0"/>
          </p:cNvCxnSpPr>
          <p:nvPr/>
        </p:nvCxnSpPr>
        <p:spPr>
          <a:xfrm>
            <a:off x="1677600" y="2506680"/>
            <a:ext cx="1080" cy="1016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81040" y="744480"/>
            <a:ext cx="696600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Analysis Center: Dat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ident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 of the intru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ulnerabilities used during the incid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s, intruder files, other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y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ndor specific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ack scripts (sometime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onomy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rent CERT vulnerability report catalog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3676680" y="1760400"/>
            <a:ext cx="1612440" cy="3048120"/>
            <a:chOff x="3676680" y="1760400"/>
            <a:chExt cx="1612440" cy="3048120"/>
          </a:xfrm>
        </p:grpSpPr>
        <p:sp>
          <p:nvSpPr>
            <p:cNvPr id="734" name=""/>
            <p:cNvSpPr/>
            <p:nvPr/>
          </p:nvSpPr>
          <p:spPr>
            <a:xfrm>
              <a:off x="3676680" y="1895760"/>
              <a:ext cx="1354680" cy="2370600"/>
            </a:xfrm>
            <a:prstGeom prst="bracePair">
              <a:avLst>
                <a:gd name="adj" fmla="val 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57000" y="1760400"/>
              <a:ext cx="1032120" cy="30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15880" y="812880"/>
            <a:ext cx="6967440" cy="10159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ombined Analysi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309560" y="2099880"/>
            <a:ext cx="3389400" cy="36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/detect malicious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nt, ri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na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ave, SNA, Red te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Mak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ivability m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improvement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7360" y="2166840"/>
            <a:ext cx="34178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Vulnerabil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Artifact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     Analy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Arial"/>
              </a:rPr>
              <a:t>Incid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15880" y="880920"/>
            <a:ext cx="6580080" cy="473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Analysis Center: Produc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ing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RT Adviso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 commun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istics of current activ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reports under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tailed trend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act of intruder activ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ve access to sanitized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ther intelligence products based on CERT and open sour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38960" y="760320"/>
            <a:ext cx="835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le Network Analysis (SNA)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0000"/>
          </a:bodyPr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es the gap between requirements and security/survivability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s a reusable set of use cases and intruder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 sites identify mission critica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oritize architectural changes to promote surviv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urvivability life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ves requirements for Red T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"/>
          <p:cNvGrpSpPr/>
          <p:nvPr/>
        </p:nvGrpSpPr>
        <p:grpSpPr>
          <a:xfrm>
            <a:off x="233280" y="612720"/>
            <a:ext cx="7894800" cy="5175360"/>
            <a:chOff x="233280" y="612720"/>
            <a:chExt cx="7894800" cy="5175360"/>
          </a:xfrm>
        </p:grpSpPr>
        <p:sp>
          <p:nvSpPr>
            <p:cNvPr id="744" name=""/>
            <p:cNvSpPr/>
            <p:nvPr/>
          </p:nvSpPr>
          <p:spPr>
            <a:xfrm>
              <a:off x="760320" y="3148200"/>
              <a:ext cx="3756240" cy="108252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0320" y="4705200"/>
              <a:ext cx="3756240" cy="108288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0320" y="1657440"/>
              <a:ext cx="3756240" cy="108252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1080" y="2876400"/>
              <a:ext cx="2879640" cy="169236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54120" y="4219560"/>
              <a:ext cx="0" cy="4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4516560" y="3687840"/>
              <a:ext cx="32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7934400" y="1385640"/>
              <a:ext cx="0" cy="22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557280" y="1386000"/>
              <a:ext cx="73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7280" y="1386000"/>
              <a:ext cx="0" cy="22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54120" y="27417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7360" y="365760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740720" y="3621240"/>
              <a:ext cx="387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16560" y="2198880"/>
              <a:ext cx="15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16560" y="5246640"/>
              <a:ext cx="15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10280" y="220032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10280" y="456876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3280" y="612720"/>
              <a:ext cx="731376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2200" spc="-1" strike="noStrike">
                  <a:solidFill>
                    <a:srgbClr val="0099cc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Schoolbook"/>
                </a:rPr>
                <a:t>Survivable Network Analysis (SNA) Meth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79400" y="3216240"/>
              <a:ext cx="3435480" cy="9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 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ssion requirements 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chitecture definition and elici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4720" y="1725480"/>
              <a:ext cx="4067280" cy="9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 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SENTIAL CAPABILITY DEFI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sential service/asset selection/scen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sential component ident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320" y="4773600"/>
              <a:ext cx="4098960" cy="9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 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ROMISABLE CAPABILITY DEF’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rusion selection/scen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romisable component ident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38760" y="2932200"/>
              <a:ext cx="31608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P 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RVIVABILITY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ftspot component (essential &amp; compromisable) ident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istance, recognition, and recovery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rvivability Map 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58840" y="812880"/>
            <a:ext cx="7675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ep 1: System Definition/Mission Identification</a:t>
            </a: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4480" y="1897200"/>
            <a:ext cx="6908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many cases, technologists have no clue on what the “mission” of the syst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rough interviews with stakeholders and users, mission is elicited and verifi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is is then mapped to the technology supporting the mission in an architectural 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58840" y="812880"/>
            <a:ext cx="7675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ep 2: Use Cases</a:t>
            </a: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44480" y="1897200"/>
            <a:ext cx="6908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nce mission has been defined, use cases are constructed at the level of the architecture defin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uses defined as supporting the mission become the essential servic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ata created and modified as part of the essential services become the essential asse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ther assets may include critical hardware and software applic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vivable Systems Initiative Goa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0200" y="1608120"/>
            <a:ext cx="6908760" cy="4092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at appropri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chnology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agement pract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and suppor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fra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use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gniz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ttacks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ystems,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mit damag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sure continuity of critical service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pite of successful atta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58840" y="812880"/>
            <a:ext cx="7675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ep 3: Intrusion Capabilities</a:t>
            </a: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44480" y="1897200"/>
            <a:ext cx="6908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trusion scenar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teps in attacker usa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omisable compon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rchitecture parts accessible by intrusion scenarios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92080" y="1006560"/>
            <a:ext cx="6778800" cy="4651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ep 4: Analysis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spot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chitecture parts that are both essential and compromisable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ility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es survivability strategies for the three R’s based on intrusion softspot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1920" indent="-127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es the strategies to the architectur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44040" y="812520"/>
            <a:ext cx="6967800" cy="6094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Vigilant Healthcare Syste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625760"/>
            <a:ext cx="706752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5000"/>
          </a:bodyPr>
          <a:p>
            <a:pPr marL="85680" indent="-856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-scale, distributed mental healthcare management system by CarnegieWorks,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business rules and regulations, many users and stake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inel subsystem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5000" indent="-120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ntain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atient data, provider teams, goals, actions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treatment plans, 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000" indent="-1206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tinel prototype was subject of survivability study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2009880" y="4064040"/>
            <a:ext cx="5283000" cy="169380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09880" y="2031840"/>
            <a:ext cx="5283000" cy="155916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28840" y="812880"/>
            <a:ext cx="284508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28840" y="1762200"/>
            <a:ext cx="2845080" cy="26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91200" y="2641680"/>
            <a:ext cx="94932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47480" y="2619360"/>
            <a:ext cx="761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59800" y="2619360"/>
            <a:ext cx="8215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51960" y="2602080"/>
            <a:ext cx="855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223240" y="2575080"/>
            <a:ext cx="855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367320" y="2602080"/>
            <a:ext cx="633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041720" y="949320"/>
            <a:ext cx="14907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43080" y="4538520"/>
            <a:ext cx="5013360" cy="33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43080" y="5148360"/>
            <a:ext cx="5013360" cy="33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76480" y="2008080"/>
            <a:ext cx="10843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i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76480" y="4064040"/>
            <a:ext cx="1015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i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70120" y="4538520"/>
            <a:ext cx="2100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70120" y="5148360"/>
            <a:ext cx="2100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49760" y="1287360"/>
            <a:ext cx="0" cy="474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446720" y="1789200"/>
            <a:ext cx="542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17920" y="24382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617920" y="2438280"/>
            <a:ext cx="406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701880" y="24382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49760" y="20318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65680" y="24382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681960" y="24382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685960" y="3387600"/>
            <a:ext cx="39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685960" y="3184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01880" y="3184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49760" y="3184560"/>
            <a:ext cx="0" cy="135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665680" y="3184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81960" y="318456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649760" y="487692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30920" y="1084320"/>
            <a:ext cx="1079640" cy="8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712560" y="1152360"/>
            <a:ext cx="116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462280" y="1490760"/>
            <a:ext cx="12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2640" y="149076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73040" y="4876920"/>
            <a:ext cx="1128600" cy="81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54680" y="4876920"/>
            <a:ext cx="116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601640" y="5283360"/>
            <a:ext cx="541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208560" y="2641680"/>
            <a:ext cx="94788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175280" y="2641680"/>
            <a:ext cx="94932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60800" y="2641680"/>
            <a:ext cx="94752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43080" y="2641680"/>
            <a:ext cx="949320" cy="54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2880" y="687240"/>
            <a:ext cx="220500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Origi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nti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219320" y="1150920"/>
          <a:ext cx="5692680" cy="379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50920"/>
                    <a:ext cx="569268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53640" y="725400"/>
            <a:ext cx="76352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ntinel Survivability Map -- Intrus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573120" y="1633680"/>
            <a:ext cx="6771960" cy="2073600"/>
            <a:chOff x="573120" y="1633680"/>
            <a:chExt cx="6771960" cy="2073600"/>
          </a:xfrm>
        </p:grpSpPr>
        <p:sp>
          <p:nvSpPr>
            <p:cNvPr id="823" name=""/>
            <p:cNvSpPr/>
            <p:nvPr/>
          </p:nvSpPr>
          <p:spPr>
            <a:xfrm>
              <a:off x="96048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448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34360" y="1704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98080" y="17042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27116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9104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9976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5232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7184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964080" y="1937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9404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0276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1040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2848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537920" y="1937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12440" y="1937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66644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525760" y="17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66580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7344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8360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3616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6320" y="1704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968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1732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33540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4412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54640" y="1937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78568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49400" y="1937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2392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3300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9600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0508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2316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18480" y="17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35924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6688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7560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9368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1212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93272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986720" y="1704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51160" y="1704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0372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2180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94880" y="1937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2592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88560" y="1937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6272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77288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3624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94352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06196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9880" y="17042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9884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0756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415200" y="170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3328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3948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48920" y="17042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22360" y="170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07760" y="1937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3880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02880" y="19371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7632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86480" y="1937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4948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57120" y="19371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76640" y="1937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312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312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312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7312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312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312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81040" y="1633680"/>
              <a:ext cx="15868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81040" y="1633680"/>
              <a:ext cx="158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6792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6792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6792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75840" y="1633680"/>
              <a:ext cx="17319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75840" y="1633680"/>
              <a:ext cx="1731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0780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0780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907800" y="1633680"/>
              <a:ext cx="144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16080" y="1633680"/>
              <a:ext cx="17305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916080" y="1633680"/>
              <a:ext cx="173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64696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64696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4696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54880" y="1633680"/>
              <a:ext cx="16822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54880" y="1633680"/>
              <a:ext cx="1682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3716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3716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3716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37160" y="163368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37160" y="163368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37160" y="1633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312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3120" y="1642320"/>
              <a:ext cx="108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6792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67920" y="1642320"/>
              <a:ext cx="108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0780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07800" y="1642320"/>
              <a:ext cx="144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64696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46960" y="1642320"/>
              <a:ext cx="108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37160" y="1642320"/>
              <a:ext cx="7920" cy="60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37160" y="1642320"/>
              <a:ext cx="1080" cy="60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228400" y="2314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352600" y="231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57720" y="231408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24680" y="231408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91640" y="231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687040" y="231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94320" y="2314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850480" y="2314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28400" y="266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526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5434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391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6877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374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784600" y="266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0844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00492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0531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02840" y="2665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140640" y="2665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875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3829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4783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744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6230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72720" y="2665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710520" y="266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22840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1624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1164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0668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9524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3376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8236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2052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81592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91204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96064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0924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09672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9284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4144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904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858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48084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5658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612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7566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2840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162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116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0776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552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5032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73960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83428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832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97936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2688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1129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0796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954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9192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394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348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2876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2416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20280" y="3286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68520" y="3286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18200" y="3286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552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6506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460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414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368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033360" y="3286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89520" y="3286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27680" y="3286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229480" y="3493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27736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73840" y="3493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28560" y="3493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77600" y="3493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61468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10080" y="3493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05840" y="3493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45080" y="3493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967200" y="2314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91040" y="231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97600" y="231408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3967920" y="2314440"/>
            <a:ext cx="3100320" cy="1804320"/>
            <a:chOff x="3967920" y="2314440"/>
            <a:chExt cx="3100320" cy="1804320"/>
          </a:xfrm>
        </p:grpSpPr>
        <p:sp>
          <p:nvSpPr>
            <p:cNvPr id="1024" name=""/>
            <p:cNvSpPr/>
            <p:nvPr/>
          </p:nvSpPr>
          <p:spPr>
            <a:xfrm>
              <a:off x="4265640" y="231444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32240" y="231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27640" y="23144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33480" y="231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89640" y="231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967920" y="266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9176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8716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8256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37868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4283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47588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71280" y="266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53360" y="266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419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83732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3380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820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03028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07924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75720" y="2665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9682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6332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1590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5412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3416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43700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3312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57200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198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7152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810320" y="2872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582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0536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50160" y="287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20632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5384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35032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9682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0633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590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255200" y="30776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9336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38876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48488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532400" y="30776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38240" y="3077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75488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80384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9888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98636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07420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16924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25636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4420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3924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96828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6332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15152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20048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588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39200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440600" y="3286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787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57488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23480" y="328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8000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757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711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66200" y="328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96828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0640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11408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16160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256640" y="3493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0352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4996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548600" y="349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3680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850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3400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3012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78720" y="3493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1688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011920" y="349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09940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19552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4484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9682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6332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9800" y="36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16320" y="36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6000" y="36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30380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3912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487400" y="36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52556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20960" y="36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78560" y="36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725720" y="3697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31920" y="3697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94748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035680" y="36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07800" y="2314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832000" y="23144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937120" y="231444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04080" y="231444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071040" y="231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66440" y="23144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273720" y="231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29880" y="2314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07800" y="2665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8320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2740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02352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07104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16644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6256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31224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60840" y="2665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99720" y="2665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37520" y="2665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52572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57432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623280" y="2665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719400" y="2665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707800" y="28728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8546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500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4620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08508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33320" y="28728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714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266880" y="2872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3000" y="2872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410880" y="28728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516360" y="2872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632280" y="2872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70888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75676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852880" y="307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083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0037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991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1945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29064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39600" y="307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4270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5224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61788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713640" y="307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7615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56920" y="3077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7081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80320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89104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87160" y="328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043320" y="3286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8148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6968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1972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67960" y="328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37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41916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1420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60168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697080" y="328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85280" y="3286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34600" y="3286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7312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968520" y="3286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70816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04280" y="3493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42080" y="349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306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7816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074640" y="3493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29720" y="349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216840" y="3493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6472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6012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55160" y="3493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7800" y="3697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546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9500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0454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4088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237000" y="36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275880" y="36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31260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399720" y="36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448320" y="36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0340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59880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8772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782760" y="36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867720" y="36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963840" y="36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08160" y="39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03560" y="39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573120" y="2243160"/>
            <a:ext cx="6771960" cy="2775600"/>
            <a:chOff x="573120" y="2243160"/>
            <a:chExt cx="6771960" cy="2775600"/>
          </a:xfrm>
        </p:grpSpPr>
        <p:sp>
          <p:nvSpPr>
            <p:cNvPr id="1225" name=""/>
            <p:cNvSpPr/>
            <p:nvPr/>
          </p:nvSpPr>
          <p:spPr>
            <a:xfrm>
              <a:off x="5898240" y="3906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86080" y="390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082200" y="3906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29720" y="390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25120" y="390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20520" y="390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416640" y="3906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312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312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3120" y="224316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1040" y="2243160"/>
              <a:ext cx="15868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1040" y="2243160"/>
              <a:ext cx="158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16792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16792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67920" y="224316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175840" y="2243160"/>
              <a:ext cx="17319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75840" y="2243160"/>
              <a:ext cx="1731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90780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90780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07800" y="2243160"/>
              <a:ext cx="144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916080" y="2243160"/>
              <a:ext cx="17305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916080" y="2243160"/>
              <a:ext cx="173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4696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4696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646960" y="224316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54880" y="2243160"/>
              <a:ext cx="16822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54880" y="2243160"/>
              <a:ext cx="1682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37160" y="224316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37160" y="224316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337160" y="224316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312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3120" y="2251800"/>
              <a:ext cx="108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6792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67920" y="2251800"/>
              <a:ext cx="108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90780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07800" y="2251800"/>
              <a:ext cx="144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64696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646960" y="2251800"/>
              <a:ext cx="108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37160" y="2251800"/>
              <a:ext cx="7920" cy="192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337160" y="2251800"/>
              <a:ext cx="1080" cy="192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5760" y="2322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5204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48160" y="2322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9604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99144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08684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18188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278000" y="2322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32696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42236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17760" y="2322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575360" y="23220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11720" y="232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69776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793160" y="2322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3648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1520" y="2529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1900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915480" y="2529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72000" y="2529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1916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14200" y="2529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288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59000" y="2529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95720" y="2529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490760" y="2529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576800" y="2529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5760" y="273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5204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4744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94356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992160" y="2737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3032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2572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21840" y="2737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6072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0896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5828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45440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501200" y="27370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64844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43480" y="273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839600" y="27370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78840" y="27370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926000" y="273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6480" y="2943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32600" y="2943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89120" y="2943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36280" y="2943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21960" y="2943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960120" y="2943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055160" y="2943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177200" y="2943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226160" y="2943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330560" y="294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447560" y="2943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536120" y="2943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583640" y="2943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79040" y="2943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6120" y="3150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2360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1900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1440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010880" y="3150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059120" y="3150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9728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9268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88800" y="3150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336680" y="31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7200" y="335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7392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932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65440" y="335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04680" y="335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52920" y="335844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91080" y="33584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3904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235160" y="335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28304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379160" y="335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42668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521720" y="3358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10640" y="335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705680" y="3358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763280" y="3358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5760" y="3690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2040" y="369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59320" y="3690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915480" y="3690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71280" y="369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066680" y="369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171440" y="369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78360" y="3690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34880" y="3690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6480" y="4041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42320" y="4041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9776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9316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989280" y="404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037880" y="4041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8476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8016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76280" y="404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24880" y="404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73480" y="4041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589760" y="40413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62828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723680" y="404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18720" y="404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228400" y="4249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52600" y="4249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448000" y="4249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43400" y="4249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647440" y="42490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01880" y="42490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58480" y="4249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052440" y="4249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58640" y="4249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264840" y="4249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60240" y="4249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66080" y="4249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228400" y="4597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34432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43972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53620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58336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7948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728440" y="459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1592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1132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007800" y="459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6396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11364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161880" y="4597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20004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9544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39120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86600" y="4597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82720" y="4597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22948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278080" y="4805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315880" y="48052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46240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58880" y="4805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61540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6508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71260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08720" y="4805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6524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91492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6244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058920" y="4805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15440" y="48052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262680" y="4805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0120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396600" y="480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92360" y="4805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529080" y="480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617640" y="4805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667320" y="48052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573120" y="4176720"/>
            <a:ext cx="6764040" cy="1254960"/>
            <a:chOff x="573120" y="4176720"/>
            <a:chExt cx="6764040" cy="1254960"/>
          </a:xfrm>
        </p:grpSpPr>
        <p:sp>
          <p:nvSpPr>
            <p:cNvPr id="1426" name=""/>
            <p:cNvSpPr/>
            <p:nvPr/>
          </p:nvSpPr>
          <p:spPr>
            <a:xfrm>
              <a:off x="370548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287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3241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41956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50704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0244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69856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747520" y="5011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8026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9872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93760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9761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0715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16764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2151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11640" y="5011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670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624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55788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64716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22948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27736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7348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967200" y="4248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9140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18680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8220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87320" y="42487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541760" y="42487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9764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7926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8988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00364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09904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206320" y="424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967200" y="4597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08456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17996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27608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324680" y="4597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628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582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5536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649760" y="4597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6868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7822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7836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92804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97556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07060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15808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24700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34060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42952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967560" y="4804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550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504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4656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96600" y="4804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520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44816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8704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53564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5842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67964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7754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7152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91976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95864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99644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3496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13036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254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321520" y="48045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9675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06296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15008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2390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33404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2152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097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5583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6072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703760" y="5011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7592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85424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9417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0371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3360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1717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26680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5536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0360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5256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96828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01724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11300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20912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256640" y="5218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34412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439160" y="5218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2664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622760" y="5218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80360" y="5218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71816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766760" y="5218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5280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901400" y="5218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016600" y="5218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3360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18328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23152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27976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2872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42484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07440" y="4248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83164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92704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2244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126120" y="42487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0920" y="42487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43752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5314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6376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43880" y="424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39280" y="4248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945120" y="4248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707440" y="4597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8316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92668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0116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07760" y="4597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14592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24168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3780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38496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48144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531120" y="4597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58692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68196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6980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86484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49440" y="459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45920" y="4597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101000" y="4597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7078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804280" y="4804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5972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955120" y="4804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0426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1380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334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329880" y="4804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8496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81440" y="480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5304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62580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19760" y="4804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707440" y="501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7952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8906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860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8148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77960" y="5011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2341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28236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33204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37128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4195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469200" y="5011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50592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60204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65208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6996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95000" y="501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89112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938280" y="5011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06428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12880" y="501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0852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756400" y="5218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852520" y="5218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73120" y="4176720"/>
              <a:ext cx="79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73120" y="41767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73120" y="4176720"/>
              <a:ext cx="108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167920" y="4176720"/>
              <a:ext cx="79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167920" y="41767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67920" y="4176720"/>
              <a:ext cx="108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175840" y="4176720"/>
              <a:ext cx="17319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175840" y="4176720"/>
              <a:ext cx="17319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907800" y="4176720"/>
              <a:ext cx="79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907800" y="41767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907800" y="4176720"/>
              <a:ext cx="1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916080" y="4176720"/>
              <a:ext cx="17308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916080" y="4176720"/>
              <a:ext cx="1730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646960" y="4176720"/>
              <a:ext cx="79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46960" y="41767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46960" y="4176720"/>
              <a:ext cx="108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54880" y="4176720"/>
              <a:ext cx="16822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54880" y="4176720"/>
              <a:ext cx="1682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6" name=""/>
          <p:cNvSpPr/>
          <p:nvPr/>
        </p:nvSpPr>
        <p:spPr>
          <a:xfrm>
            <a:off x="7337520" y="41767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337520" y="41767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337520" y="417672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7312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73120" y="4184640"/>
            <a:ext cx="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731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731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73120" y="5491080"/>
            <a:ext cx="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731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731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73120" y="5491080"/>
            <a:ext cx="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81040" y="5491080"/>
            <a:ext cx="15876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81040" y="5491080"/>
            <a:ext cx="15876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16864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168640" y="4184640"/>
            <a:ext cx="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16864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16864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168640" y="5491080"/>
            <a:ext cx="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176560" y="5491080"/>
            <a:ext cx="1731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176560" y="5491080"/>
            <a:ext cx="173196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0852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908520" y="4184640"/>
            <a:ext cx="144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9085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085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908520" y="549108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16440" y="5491080"/>
            <a:ext cx="173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916440" y="5491080"/>
            <a:ext cx="173016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64660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646600" y="4184640"/>
            <a:ext cx="180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64660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64660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646600" y="5491080"/>
            <a:ext cx="180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654520" y="5491080"/>
            <a:ext cx="1683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654520" y="5491080"/>
            <a:ext cx="1683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337520" y="4184640"/>
            <a:ext cx="7920" cy="130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337520" y="4184640"/>
            <a:ext cx="1440" cy="13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3375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375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37520" y="549108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337520" y="5491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337520" y="5491080"/>
            <a:ext cx="79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337520" y="549108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8" name=""/>
          <p:cNvGraphicFramePr/>
          <p:nvPr/>
        </p:nvGraphicFramePr>
        <p:xfrm>
          <a:off x="1219320" y="1150920"/>
          <a:ext cx="5692680" cy="379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50920"/>
                    <a:ext cx="569268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"/>
          <p:cNvSpPr/>
          <p:nvPr/>
        </p:nvSpPr>
        <p:spPr>
          <a:xfrm>
            <a:off x="95040" y="725400"/>
            <a:ext cx="76352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ntinel Survivability Map -- Intrus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638280" y="1670040"/>
            <a:ext cx="6773400" cy="1662840"/>
            <a:chOff x="638280" y="1670040"/>
            <a:chExt cx="6773400" cy="1662840"/>
          </a:xfrm>
        </p:grpSpPr>
        <p:sp>
          <p:nvSpPr>
            <p:cNvPr id="1672" name=""/>
            <p:cNvSpPr/>
            <p:nvPr/>
          </p:nvSpPr>
          <p:spPr>
            <a:xfrm>
              <a:off x="102564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08000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199520" y="1742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63600" y="17420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33668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45620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56492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1748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73736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29600" y="1974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15920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26828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7556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49364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603800" y="19749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677600" y="19749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73196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591280" y="1742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73168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83932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94948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00204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112200" y="1742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17520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28284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40128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1000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720520" y="1974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85156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914920" y="19749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98980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09888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16188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27060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38904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284720" y="1742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42512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53276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4148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5992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87800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9896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052960" y="17420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117400" y="1742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16996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28804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460760" y="1974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59180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654440" y="19749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72896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83912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0212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00976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12820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126120" y="1742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26508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37416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481440" y="1742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9988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70572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815520" y="17420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88600" y="17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174360" y="1974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30540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369120" y="19749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4256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552720" y="197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61608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723720" y="1974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842880" y="1974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3828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3828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3828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3828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3828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3828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46200" y="1670040"/>
              <a:ext cx="15872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46200" y="1670040"/>
              <a:ext cx="158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23344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23344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3344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41360" y="1670040"/>
              <a:ext cx="17326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241360" y="1670040"/>
              <a:ext cx="1732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97404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97404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97404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981960" y="1670040"/>
              <a:ext cx="17308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981960" y="1670040"/>
              <a:ext cx="1730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1320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71320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13200" y="1670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721120" y="1670040"/>
              <a:ext cx="16826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721120" y="1670040"/>
              <a:ext cx="1682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40376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40376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403760" y="1670040"/>
              <a:ext cx="144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403760" y="1670040"/>
              <a:ext cx="79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403760" y="167004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403760" y="1670040"/>
              <a:ext cx="144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3828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38280" y="1678680"/>
              <a:ext cx="108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23344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233440" y="1678680"/>
              <a:ext cx="108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97404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974040" y="1678680"/>
              <a:ext cx="108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71320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713200" y="1678680"/>
              <a:ext cx="108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403760" y="1678680"/>
              <a:ext cx="7920" cy="60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403760" y="1678680"/>
              <a:ext cx="1440" cy="60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293920" y="2352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41812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52324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59020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657160" y="23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75256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85984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91636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293920" y="2704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0984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505240" y="27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59272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689200" y="27043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745000" y="27043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78424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833200" y="27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91852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966040" y="27043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140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2094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048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400920" y="27043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43872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488400" y="27043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5254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62160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669840" y="2704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793680" y="2704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29428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390760" y="2913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44620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54232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8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68524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77344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82204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91060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959560" y="29131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063960" y="2913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18096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26952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3170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4124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5078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603960" y="2913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64248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73752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826080" y="291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293920" y="3119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8176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478240" y="3119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34760" y="3119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58984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68524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781720" y="3119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831400" y="31194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86812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63520" y="31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059640" y="3119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033080" y="2352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15728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26348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33080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397400" y="23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9316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9900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5552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033080" y="2704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1572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2526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34772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44384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49388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5414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636800" y="27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718880" y="2704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80744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90284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99932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4756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94720" y="2704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2174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31288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40720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502960" y="2704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551920" y="2704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03344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129920" y="2913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185360" y="2913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8040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367520" y="2913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638280" y="2281320"/>
            <a:ext cx="6773400" cy="1317240"/>
            <a:chOff x="638280" y="2281320"/>
            <a:chExt cx="6773400" cy="1317240"/>
          </a:xfrm>
        </p:grpSpPr>
        <p:sp>
          <p:nvSpPr>
            <p:cNvPr id="1873" name=""/>
            <p:cNvSpPr/>
            <p:nvPr/>
          </p:nvSpPr>
          <p:spPr>
            <a:xfrm>
              <a:off x="44042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5000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596480" y="2913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65372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7016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7970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8924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878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0832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1786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273640" y="2913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36220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41044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4594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034520" y="312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8996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18500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2742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3696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4650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561200" y="3120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59792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68396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78008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82796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033440" y="332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2092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217400" y="3327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275360" y="3327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33044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2584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52196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56984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66524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76136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810320" y="3327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914720" y="33274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03136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773680" y="2352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89788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00300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69960" y="235296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136920" y="235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232320" y="2352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33960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395760" y="2352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77404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86944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964480" y="2704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05232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148440" y="2704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19596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292080" y="2704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34104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436440" y="270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7740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8694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964480" y="2913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05232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148800" y="2913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204960" y="2913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604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35580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45192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5012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5966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692760" y="2913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4028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3568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930720" y="2913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018560" y="2913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1060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201440" y="291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77404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870520" y="312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2632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975280" y="312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03216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12720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2146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31008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40548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49368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542640" y="3120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597720" y="3120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69276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8276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831000" y="3120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879960" y="31201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984360" y="312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100280" y="3120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77476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823360" y="3327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87880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973840" y="3327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12288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70040" y="332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257520" y="332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347880" y="3327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40296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49908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546600" y="3327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634080" y="332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730200" y="3327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3828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3828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38280" y="228132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46200" y="2281320"/>
              <a:ext cx="15872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46200" y="2281320"/>
              <a:ext cx="15872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23344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23344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233440" y="228132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241360" y="2281320"/>
              <a:ext cx="17326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241360" y="2281320"/>
              <a:ext cx="17326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97404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97404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974040" y="228132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981960" y="2281320"/>
              <a:ext cx="17308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981960" y="2281320"/>
              <a:ext cx="1730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71320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71320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713200" y="228132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721120" y="2281320"/>
              <a:ext cx="16826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721120" y="2281320"/>
              <a:ext cx="16826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403760" y="2281320"/>
              <a:ext cx="79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403760" y="2281320"/>
              <a:ext cx="79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403760" y="2281320"/>
              <a:ext cx="144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3828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38280" y="2289600"/>
              <a:ext cx="108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23344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233440" y="2289600"/>
              <a:ext cx="108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97404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974040" y="2289600"/>
              <a:ext cx="108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71320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713200" y="2289600"/>
              <a:ext cx="108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403760" y="2289600"/>
              <a:ext cx="792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403760" y="2289600"/>
              <a:ext cx="1440" cy="130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01280" y="2361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172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913320" y="236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9612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0566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1520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24740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343520" y="2361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39248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48788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582920" y="236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640520" y="23616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676880" y="23616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76328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858680" y="236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0164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96680" y="256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8416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981000" y="256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037160" y="256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084680" y="256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17360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70080" y="256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326600" y="2568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38168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47708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573200" y="256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620720" y="2568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709280" y="256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758960" y="2568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80648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901880" y="256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00920" y="277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824760" y="2778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941760" y="27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990000" y="2778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02816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12356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1896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315440" y="2778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35324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44900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545120" y="27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593360" y="27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64268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738800" y="277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787040" y="27781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25200" y="27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920600" y="2778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007720" y="2778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01640" y="298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9776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84636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89460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44640" y="2984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000080" y="298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095120" y="2984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18332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23336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281600" y="29844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319760" y="298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415880" y="2984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463760" y="2984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702360" y="2984400"/>
            <a:ext cx="4971960" cy="2080440"/>
            <a:chOff x="702360" y="2984400"/>
            <a:chExt cx="4971960" cy="2080440"/>
          </a:xfrm>
        </p:grpSpPr>
        <p:sp>
          <p:nvSpPr>
            <p:cNvPr id="2074" name=""/>
            <p:cNvSpPr/>
            <p:nvPr/>
          </p:nvSpPr>
          <p:spPr>
            <a:xfrm>
              <a:off x="1560240" y="29844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599480" y="29844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02360" y="319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8732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83440" y="3191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921960" y="3191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95904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05444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150560" y="31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19952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29492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91040" y="31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438560" y="31917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544400" y="31917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660320" y="319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748520" y="319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797480" y="319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892520" y="319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0272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98480" y="3400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836280" y="3400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75160" y="3400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92412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019160" y="3400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07604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171080" y="340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256760" y="3400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29492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390320" y="3400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486800" y="3400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541880" y="340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630080" y="3400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02360" y="3733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7920" y="3733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25200" y="373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81360" y="373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037160" y="3733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132560" y="3733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237320" y="3733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44240" y="373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400760" y="37335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02720" y="4084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08200" y="4084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6364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5904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055160" y="4084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103760" y="4084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25064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34604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442160" y="4084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490760" y="4084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539360" y="4084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655640" y="4084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69416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789560" y="4084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884600" y="4084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294280" y="3671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41848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51388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6089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713320" y="3671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867760" y="3671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02436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1183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2245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33072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4261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531960" y="3671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29536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342880" y="4019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4908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585880" y="4019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6240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719080" y="40197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8670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96100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05748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10716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155400" y="4019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194280" y="40197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32080" y="401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31740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295720" y="4228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35116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44656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542680" y="4228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581560" y="42289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61828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7072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80332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8512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94624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04236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089520" y="4228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213360" y="42289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33036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1892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46680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51612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61152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70764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29428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382840" y="4437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438280" y="4437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53332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62080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710800" y="443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75796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845440" y="4437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940840" y="4437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03624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12336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213000" y="443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61600" y="443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309480" y="4437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05240" y="44377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294280" y="4642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7924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475360" y="4642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514600" y="4642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5527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648880" y="464220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686320" y="464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735280" y="4642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820600" y="464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869560" y="4642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926080" y="4642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35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1089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2043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29976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395880" y="4642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452400" y="464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49992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59532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691440" y="4642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740400" y="4642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835440" y="4642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294280" y="48513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441160" y="485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36560" y="485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631600" y="485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17280" y="485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765880" y="4851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889720" y="4851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005280" y="485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093840" y="4851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150000" y="485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99680" y="485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247560" y="4851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343680" y="4851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033080" y="3671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15692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25232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34772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452840" y="3671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607640" y="3671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76316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85856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96440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069160" y="3671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164560" y="367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271840" y="3671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033080" y="40197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1504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24584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34160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38948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48488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58028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676400" y="4019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723560" y="401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1140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906800" y="401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01840" y="401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090400" y="401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344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122000" y="4228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17816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26312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35960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40676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503240" y="4228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55976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6476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430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83804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92552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01264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10048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195520" y="42289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343120" y="4228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31680" y="4228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792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574600" y="4228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033440" y="4437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139280" y="4437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54840" y="4437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343400" y="443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93080" y="44377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0560"/>
                  <a:tab algn="l" pos="1581120"/>
                  <a:tab algn="l" pos="2371680"/>
                  <a:tab algn="l" pos="3162240"/>
                  <a:tab algn="l" pos="3952800"/>
                  <a:tab algn="l" pos="4743360"/>
                  <a:tab algn="l" pos="5533920"/>
                  <a:tab algn="l" pos="6324480"/>
                  <a:tab algn="l" pos="7115040"/>
                  <a:tab algn="l" pos="7905600"/>
                  <a:tab algn="l" pos="8696160"/>
                  <a:tab algn="l" pos="9487080"/>
                  <a:tab algn="l" pos="102776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443160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5273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5759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6238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7192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81572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863240" y="4438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987080" y="44388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10444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537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20200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24916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4600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39568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4428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53968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5773680" y="36720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897880" y="367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994000" y="367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089040" y="367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192720" y="36720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347520" y="36720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503400" y="367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597000" y="367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703560" y="367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6809760" y="3672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905160" y="3672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7011360" y="36720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773680" y="40194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9788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99400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0890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84080" y="4019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27156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367320" y="4019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415920" y="4019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4652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5606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656400" y="4019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70356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679932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895080" y="4019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982560" y="4019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70700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7165440" y="4019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77440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86188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94576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034680" y="422928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072480" y="422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168960" y="422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218280" y="422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6265440" y="422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361920" y="422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409800" y="422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504840" y="422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601320" y="422928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63948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672696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6816600" y="422928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6852240" y="4229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775480" y="44388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83020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92560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0206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117120" y="443880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156720" y="443880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19380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2895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33816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643356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528600" y="4438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61608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712560" y="4438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760440" y="443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774400" y="4641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86224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958000" y="4641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014520" y="4641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06996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16536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6261120" y="4641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30972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405840" y="46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502320" y="4641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549120" y="4641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672960" y="46418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789600" y="4641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839280" y="464184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6877800" y="4641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77476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87016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96556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01272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107760" y="4851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19668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24636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34140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43716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48576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53580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582960" y="4851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679440" y="4851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38280" y="3598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38280" y="35989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38280" y="3598920"/>
            <a:ext cx="144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233440" y="3598920"/>
            <a:ext cx="8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233440" y="3598920"/>
            <a:ext cx="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233440" y="3598920"/>
            <a:ext cx="180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241720" y="3598920"/>
            <a:ext cx="1731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241720" y="3598920"/>
            <a:ext cx="173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973680" y="3598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973680" y="35989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973680" y="3598920"/>
            <a:ext cx="144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981600" y="3598920"/>
            <a:ext cx="1731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981600" y="3598920"/>
            <a:ext cx="173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713560" y="3598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713560" y="35989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713560" y="3598920"/>
            <a:ext cx="144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721480" y="3598920"/>
            <a:ext cx="1682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721480" y="3598920"/>
            <a:ext cx="16826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7404120" y="35989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7404120" y="359892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7404120" y="3598920"/>
            <a:ext cx="1440" cy="6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38280" y="3605040"/>
            <a:ext cx="792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38280" y="3605040"/>
            <a:ext cx="144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3828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3828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3828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3828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3828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3828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46200" y="5121360"/>
            <a:ext cx="15872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46200" y="5121360"/>
            <a:ext cx="15872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233440" y="3605040"/>
            <a:ext cx="828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2233440" y="3605040"/>
            <a:ext cx="180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233440" y="5121360"/>
            <a:ext cx="8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233440" y="5121360"/>
            <a:ext cx="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233440" y="5121360"/>
            <a:ext cx="180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241720" y="5121360"/>
            <a:ext cx="1731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241720" y="5121360"/>
            <a:ext cx="173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973680" y="3605040"/>
            <a:ext cx="792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973680" y="3605040"/>
            <a:ext cx="144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397368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97368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397368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981600" y="5121360"/>
            <a:ext cx="1731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981600" y="5121360"/>
            <a:ext cx="17319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5713560" y="3605040"/>
            <a:ext cx="792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713560" y="3605040"/>
            <a:ext cx="144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71356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71356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71356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721480" y="5121360"/>
            <a:ext cx="1682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721480" y="5121360"/>
            <a:ext cx="16826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404120" y="3605040"/>
            <a:ext cx="7920" cy="151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7404120" y="3605040"/>
            <a:ext cx="1440" cy="151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740412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740412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740412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404120" y="5121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7404120" y="5121360"/>
            <a:ext cx="79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7404120" y="5121360"/>
            <a:ext cx="1440" cy="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"/>
          <p:cNvSpPr/>
          <p:nvPr/>
        </p:nvSpPr>
        <p:spPr>
          <a:xfrm>
            <a:off x="4154400" y="2265480"/>
            <a:ext cx="903240" cy="6220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186000" y="2265480"/>
            <a:ext cx="903240" cy="62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251160" y="1643040"/>
            <a:ext cx="2710080" cy="2761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090880" y="3578400"/>
            <a:ext cx="5030640" cy="221292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090880" y="1643040"/>
            <a:ext cx="5030640" cy="158904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251160" y="466560"/>
            <a:ext cx="2710080" cy="486000"/>
          </a:xfrm>
          <a:prstGeom prst="rect">
            <a:avLst/>
          </a:prstGeom>
          <a:noFill/>
          <a:ln w="38160">
            <a:solidFill>
              <a:srgbClr val="e900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3251160" y="1366920"/>
            <a:ext cx="2710080" cy="27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122800" y="2265480"/>
            <a:ext cx="901800" cy="6220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282400" y="2241720"/>
            <a:ext cx="761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3186360" y="2241720"/>
            <a:ext cx="848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ine 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210000" y="2241720"/>
            <a:ext cx="633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960720" y="536400"/>
            <a:ext cx="1419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219400" y="4062240"/>
            <a:ext cx="4773600" cy="3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219400" y="4684680"/>
            <a:ext cx="4773600" cy="344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219400" y="5307120"/>
            <a:ext cx="4773600" cy="344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154240" y="1619280"/>
            <a:ext cx="10317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i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154240" y="3578400"/>
            <a:ext cx="968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i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613320" y="4062240"/>
            <a:ext cx="20001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2413080" y="5307120"/>
            <a:ext cx="44514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on Database - Replicated and Daily Backups [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605480" y="95256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413240" y="1393920"/>
            <a:ext cx="5158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670120" y="20588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670120" y="2058840"/>
            <a:ext cx="387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03680" y="20588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4605480" y="191916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573880" y="20588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6540480" y="205884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735280" y="3095640"/>
            <a:ext cx="380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2735280" y="28875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703680" y="28875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605480" y="323208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573880" y="28875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6540480" y="288756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605480" y="440676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605480" y="502920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6580080" y="744480"/>
            <a:ext cx="1032120" cy="76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496560" y="744480"/>
            <a:ext cx="116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 flipH="1">
            <a:off x="5379840" y="1158840"/>
            <a:ext cx="1199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80200" y="11588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81040" y="5029200"/>
            <a:ext cx="1122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65920" y="5029200"/>
            <a:ext cx="1168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703520" y="558324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6089760" y="2265480"/>
            <a:ext cx="903240" cy="62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219400" y="2265480"/>
            <a:ext cx="903240" cy="62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735120" y="2403360"/>
            <a:ext cx="839520" cy="62244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735120" y="3510000"/>
            <a:ext cx="839520" cy="62244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187280" y="302580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606600" y="1643040"/>
            <a:ext cx="1096920" cy="262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71400" y="1643040"/>
            <a:ext cx="1032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ystem [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5961240" y="178128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7380360" y="1781280"/>
            <a:ext cx="0" cy="304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6993000" y="48229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187280" y="42703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187280" y="4614840"/>
            <a:ext cx="709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897200" y="53769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871640" y="4614840"/>
            <a:ext cx="2556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28600" y="762120"/>
            <a:ext cx="3032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ified Senti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31720" y="2225520"/>
            <a:ext cx="905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P 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ypto-ch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087520" y="2225520"/>
            <a:ext cx="999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P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ypto-ch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573360" y="4684680"/>
            <a:ext cx="20005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curity 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766800" y="2403360"/>
            <a:ext cx="754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672480" y="3468600"/>
            <a:ext cx="9493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por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ine/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895560" y="1643040"/>
            <a:ext cx="1678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curity Layer [1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515520" y="880560"/>
            <a:ext cx="6434280" cy="365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A Metrics and Method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ility should be analyzed at the architecture level before committing resources to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ivability analysis depends on precise semantics for architecture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rchitecture calculus can provide semantics and methods for survivability analysis and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15520" y="880560"/>
            <a:ext cx="6434280" cy="365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rrent approach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8000"/>
          </a:bodyPr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current metrics in related discip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review of metrics for intrusion de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 incident impact to other metr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cal analysis of incidents for predicting a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ion with CMU and other universities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-7920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e publication in a variety of journals and con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515520" y="812880"/>
            <a:ext cx="6434280" cy="365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formation Survivability Workshop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6908760" cy="36003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3000"/>
          </a:bodyPr>
          <a:p>
            <a:pPr marL="83880" indent="-838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tational workshop to focus on the science and practice of surviv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: focus of the workshop was in defining surviv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8: focus on critical infrastructure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118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: focus on dependability/fault-tolerance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hop planned for approximate 18 month interv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cus Area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0200" y="1541160"/>
            <a:ext cx="6908760" cy="4159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90000"/>
              </a:lnSpc>
              <a:spcAft>
                <a:spcPts val="1950"/>
              </a:spcAft>
              <a:buClr>
                <a:srgbClr val="009688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CERT/CC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ster global security incident response and coordination by facilitating the creation of a self-sustaining incident response infrastruc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90000"/>
              </a:lnSpc>
              <a:spcAft>
                <a:spcPts val="1950"/>
              </a:spcAft>
              <a:buClr>
                <a:srgbClr val="009688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Survivable Network Management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the use of security evaluation and improvement practices and tools as routine practice by network service providers and major Internet si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0">
              <a:lnSpc>
                <a:spcPct val="90000"/>
              </a:lnSpc>
              <a:spcAft>
                <a:spcPts val="19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15880" y="880920"/>
            <a:ext cx="6486480" cy="5335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CERT EASEL Projec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6908760" cy="360072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96000"/>
          </a:bodyPr>
          <a:p>
            <a:pPr marL="86400" indent="-86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L: Emergent Algorithm Simulation Environment and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approach to simulation of very large interdependent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property-based problem description, language, and supporting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a/research system due in 4Q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515880" y="812880"/>
            <a:ext cx="6486480" cy="365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ASEL and Survivabil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87204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7000"/>
          </a:bodyPr>
          <a:p>
            <a:pPr marL="78480" indent="-784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rvivability involves non-functional properties that must exist globally in network systems, but often cannot exist locally in individual no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mergent algorithms offer a highly distributed mechanism for achieving such properties through local inter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-78480">
              <a:lnSpc>
                <a:spcPct val="8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need exists to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105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sure, assess, and visualize effectiveness of emergent algorithms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105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ist in design of survivable architectur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8720" indent="-1105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 techniques for predicting emergent behavi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480" indent="0">
              <a:lnSpc>
                <a:spcPct val="85000"/>
              </a:lnSpc>
              <a:spcAft>
                <a:spcPts val="550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15880" y="812880"/>
            <a:ext cx="6486480" cy="3650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ASEL Implementa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6643800" cy="36576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 fontScale="89000"/>
          </a:bodyPr>
          <a:p>
            <a:pPr marL="80280" indent="-802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T/CC is developing a language for describing survivability architectures in terms of computations within nodes and  protocols of interaction among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nguage enables simulated execution of 100s to 1000s of parallel nodes, but is hosted on uniprocessor P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>
              <a:lnSpc>
                <a:spcPct val="8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mulator suppor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bilities and limitations of nodes in unbounded system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r processes for analyzing and displaying information about a simul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1130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or processes for controlling a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280" indent="0">
              <a:lnSpc>
                <a:spcPct val="85000"/>
              </a:lnSpc>
              <a:spcAft>
                <a:spcPts val="499"/>
              </a:spcAft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"/>
          <p:cNvSpPr/>
          <p:nvPr/>
        </p:nvSpPr>
        <p:spPr>
          <a:xfrm>
            <a:off x="177840" y="5637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616120" y="5637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911160" y="838080"/>
            <a:ext cx="71661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RT Conta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530280" y="1523880"/>
            <a:ext cx="731844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-hour hotline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 412 268 70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 personnel answer 8:30 a.m. 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:00 p.m. EST(GMT-5) / EDT(GMT-4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are on call for emerg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ring other hou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x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 412 268 6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onymous FTP archive: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p://info.cert.org/pub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 site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cert.org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nic mail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@cer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 mail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RT Coordination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00 Fifth A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ttsburgh PA 15213-38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6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833400" cy="711000"/>
          </a:xfrm>
          <a:prstGeom prst="rect">
            <a:avLst/>
          </a:prstGeom>
          <a:ln w="0">
            <a:noFill/>
          </a:ln>
        </p:spPr>
      </p:pic>
      <p:pic>
        <p:nvPicPr>
          <p:cNvPr id="2517" name="" descr=""/>
          <p:cNvPicPr/>
          <p:nvPr/>
        </p:nvPicPr>
        <p:blipFill>
          <a:blip r:embed="rId2"/>
          <a:stretch/>
        </p:blipFill>
        <p:spPr>
          <a:xfrm>
            <a:off x="3162240" y="2629080"/>
            <a:ext cx="495360" cy="647640"/>
          </a:xfrm>
          <a:prstGeom prst="rect">
            <a:avLst/>
          </a:prstGeom>
          <a:ln w="0">
            <a:noFill/>
          </a:ln>
        </p:spPr>
      </p:pic>
      <p:pic>
        <p:nvPicPr>
          <p:cNvPr id="2518" name="" descr=""/>
          <p:cNvPicPr/>
          <p:nvPr/>
        </p:nvPicPr>
        <p:blipFill>
          <a:blip r:embed="rId3"/>
          <a:stretch/>
        </p:blipFill>
        <p:spPr>
          <a:xfrm>
            <a:off x="3200400" y="3733920"/>
            <a:ext cx="577800" cy="622080"/>
          </a:xfrm>
          <a:prstGeom prst="rect">
            <a:avLst/>
          </a:prstGeom>
          <a:ln w="0">
            <a:noFill/>
          </a:ln>
        </p:spPr>
      </p:pic>
      <p:pic>
        <p:nvPicPr>
          <p:cNvPr id="2519" name="" descr=""/>
          <p:cNvPicPr/>
          <p:nvPr/>
        </p:nvPicPr>
        <p:blipFill>
          <a:blip r:embed="rId4"/>
          <a:stretch/>
        </p:blipFill>
        <p:spPr>
          <a:xfrm>
            <a:off x="2895480" y="4648320"/>
            <a:ext cx="94788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818640"/>
            <a:ext cx="6835680" cy="698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cus Area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0200" y="2099880"/>
            <a:ext cx="7134120" cy="360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90360" indent="-90360">
              <a:lnSpc>
                <a:spcPct val="90000"/>
              </a:lnSpc>
              <a:spcAft>
                <a:spcPts val="1950"/>
              </a:spcAft>
              <a:buClr>
                <a:srgbClr val="009688"/>
              </a:buClr>
              <a:buFont typeface="Arial"/>
              <a:buChar char=" 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Survivable Network Technology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at mission objectives can be accomplished even if parts of the system have been compromised by attacks, accidents, or fail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86280" y="4368960"/>
            <a:ext cx="2318040" cy="1703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4T14:27:39Z</dcterms:created>
  <dc:creator>Barbara Fraser</dc:creator>
  <dc:description/>
  <cp:keywords>Security Network Survivability Improving Practices CERT Internet SEI Web</cp:keywords>
  <dc:language>en-US</dc:language>
  <cp:lastModifiedBy>John T Grasso</cp:lastModifiedBy>
  <cp:lastPrinted>1999-08-16T14:13:14Z</cp:lastPrinted>
  <dcterms:modified xsi:type="dcterms:W3CDTF">2000-09-11T14:32:11Z</dcterms:modified>
  <cp:revision>22</cp:revision>
  <dc:subject>Network Security</dc:subject>
  <dc:title>Memphis</dc:title>
</cp:coreProperties>
</file>