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3109-E8AC-43E7-8BDE-9892B9768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5512-DE04-466D-AC12-1023C6C82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FBF8-5B2F-46BF-B150-B44B451F8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F9DA9-E5AF-4E96-893A-AF78EC2C6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852D3-959C-47BD-A39B-DC5681BF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BE79-636D-49CD-9700-8EDE1E79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C094-8157-4D31-B4DF-FB2F2C14F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13228-B6F8-4B87-B043-D6AE1C08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E0256-030B-4812-9D93-D9769C44A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476E1-CCC5-497A-89BE-53C30378B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66F38-4948-44C7-A22C-4C7C338FA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4149-A853-420B-B3DC-9250728B7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B6FF8-C373-4D4B-BAF1-844CD7BFE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6A38-3941-45D0-BDC4-31F01B18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7458-44FC-470D-92D1-FB85CE3CD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653D0-8367-48A9-AAC1-08D57BDA7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19220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101840"/>
            <a:ext cx="257616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52956-2EC4-4E71-82EF-2A95F4CE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F0A6-D40A-4299-9153-B15A4CED9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8A8A-CDD6-43CB-94D1-A00A9F14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AC21-A78A-47AD-A708-3EFECFCCD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495000"/>
            <a:ext cx="8001000" cy="26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54D86-B601-4A71-A601-9D0A5E297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A0BB-E8A1-40C9-86B9-E463D509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1018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68395-5FDF-497C-8660-9DA299D8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1922040"/>
            <a:ext cx="39042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01840"/>
            <a:ext cx="8001000" cy="19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D847-FD9F-4934-A228-A799DB14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8679B-5BEF-44D0-A57B-43D25C876934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371600"/>
            <a:ext cx="7391520" cy="318960"/>
            <a:chOff x="228600" y="1371600"/>
            <a:chExt cx="7391520" cy="318960"/>
          </a:xfrm>
        </p:grpSpPr>
        <p:sp>
          <p:nvSpPr>
            <p:cNvPr id="10" name=""/>
            <p:cNvSpPr/>
            <p:nvPr/>
          </p:nvSpPr>
          <p:spPr>
            <a:xfrm>
              <a:off x="609480" y="1371600"/>
              <a:ext cx="7010640" cy="31716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371600"/>
              <a:ext cx="39384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BFB0-9952-41AD-A6A1-69079D66021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cc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ffffff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1142640"/>
            <a:ext cx="6324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The Set Class</a:t>
            </a:r>
            <a:br>
              <a:rPr sz="2800"/>
            </a:b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Lecture Notes 8 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65200" y="3070080"/>
            <a:ext cx="269892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9900cc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A Class Containing a Vector</a:t>
            </a:r>
            <a:br>
              <a:rPr sz="4000"/>
            </a:b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The Set Clas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827000"/>
            <a:ext cx="8001000" cy="553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class Set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Vector list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 int siz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() { …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equals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isEmpty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…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Verdana"/>
              </a:rPr>
              <a:t>Write Few Methods</a:t>
            </a:r>
            <a:endParaRPr b="1" lang="en-US" sz="40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2610000"/>
            <a:ext cx="8001000" cy="33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685880"/>
            <a:ext cx="9144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tart with the constru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What does it mean to say we build a 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This means initializing the contain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Set () { list = new Vector(); size=0;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Note that using size is more efficient than calling vector.size(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e another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boolean isEmpty(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 (size==0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Write another method - 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Public boolean contains(Object obj)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return(list.contains(obj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9900cc"/>
                </a:solidFill>
                <a:latin typeface="Verdana"/>
              </a:rPr>
              <a:t>Other Methods</a:t>
            </a:r>
            <a:endParaRPr b="1" lang="en-US" sz="54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85480" y="1895400"/>
            <a:ext cx="80010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re completed as part of the lab 3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Verdana"/>
              </a:rPr>
              <a:t>The union of two sets</a:t>
            </a:r>
            <a:endParaRPr b="1" lang="en-US" sz="36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79064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 union(Set S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assume that the universal set is {1,2…,100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t temp = new Set(); // A.union(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for (int I=1;I&lt;=100;I++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{    if (this.contains(I) || B.contains(I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emp.addElement(I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don’t use int I as an argumnet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// use Integer class to pass an Object to contai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Classes containing arrays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imilar to classes containing vecto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nly difference is in the implemen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ze is fixed at compile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uppose instead of a vector, you are only allowed to use an array. How will the definitions change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The Set Class - An Array implementation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class Set 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int[] list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size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int capacit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(int size) { …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add(Object obj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boolean contains(Object obj){..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union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intersection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Set compliment(Set S){…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ublic void print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isEmpty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boolean full()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…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}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77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440" y="49500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cc"/>
                </a:solidFill>
                <a:latin typeface="Verdana"/>
              </a:rPr>
              <a:t>Let us implement few methods</a:t>
            </a:r>
            <a:endParaRPr b="1" lang="en-US" sz="3200" spc="-1" strike="noStrike">
              <a:solidFill>
                <a:srgbClr val="9900cc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922040"/>
            <a:ext cx="8001000" cy="41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Set(int size) 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 = new int[size]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apacity = siz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his.size = 0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ublic void add(int obj)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f (!full()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     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ist[size++]=obj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22T18:58:35Z</dcterms:created>
  <dc:creator>dslater</dc:creator>
  <dc:description/>
  <dc:language>en-US</dc:language>
  <cp:lastModifiedBy>student</cp:lastModifiedBy>
  <dcterms:modified xsi:type="dcterms:W3CDTF">2001-09-24T18:20:19Z</dcterms:modified>
  <cp:revision>152</cp:revision>
  <dc:subject/>
  <dc:title>Advanced Placement /  Early Admission</dc:title>
</cp:coreProperties>
</file>