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09E-55E2-4E9B-9DCC-EBB54E69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420-7FA9-46D3-939A-CA058D0A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034-B2A6-4B30-8B8B-64EDECEC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48D-3601-457A-9207-1B5DEB9B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FD82-6EDA-4802-8D2B-CCC8A93D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EE1D-2D0B-46E5-A1A2-66A81E15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2D0A-466A-4135-8A49-65239E45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28B5-F1B3-4291-BFD5-7971F887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9D32-9512-4D1C-9626-6DC27655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2D42-C3BE-432F-A304-E0632FB6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087F-7D98-4BE2-9C03-97506721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0AD-F7A8-48FA-ADCF-3B11F14C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475A-B60A-4D7C-809A-93AE58A2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7C7F-818B-4F82-B404-B27B61F6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929E-D0C2-4E9F-82D6-8C77F707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F09B-FFAD-4DDE-B7E6-EEE73820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D1AB-A17E-42DC-AEFA-E613C8C3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B35-E51E-4448-8B8D-1973C43E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4E0-200B-4E9B-B451-BE61D1E1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592-2F05-487E-8FB4-4A9CA39D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E25-C937-4F03-980B-17AAF029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826-25BE-4FDB-9702-94F7750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6FC-B5C9-404A-A790-92D82788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DBB-2DBE-4DDF-B92E-1904EF16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1126-465F-41F7-ADE8-33CB86AC4E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10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96C8-9BCC-4A9D-866F-D367A75A47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asses Containing Vectors</a:t>
            </a:r>
            <a:br>
              <a:rPr sz="28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Lecture Notes 7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65200" y="3070080"/>
            <a:ext cx="2698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Classes Containing Vectors</a:t>
            </a:r>
            <a:endParaRPr b="1" lang="en-US" sz="40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7000"/>
            <a:ext cx="80010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 us look at a simple class containing a vector objec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class Passeng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short passengerI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short elevatorI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short origi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callElevator();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class Elevat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public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pickPassenger(Passenger 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dropPassenger(Passenger P);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Vector passengerList= new Vector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Pick/Drop Passenger</a:t>
            </a:r>
            <a:endParaRPr b="1" lang="en-US" sz="40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610000"/>
            <a:ext cx="800100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858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void PickPassenger(Passenger P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ssengerList.addElement(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void dropPassenger(Passenger P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ssengerList.removeElement(P);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cc"/>
                </a:solidFill>
                <a:latin typeface="Verdana"/>
              </a:rPr>
              <a:t>Stack Class</a:t>
            </a:r>
            <a:endParaRPr b="1" lang="en-US" sz="54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5480" y="1895040"/>
            <a:ext cx="80010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class Stack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 Vector L = new Vector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push(Object x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.addElement(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pop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L.remove(L.size()-1)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Object top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return (L.elementAt(L.size()-1));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boolean empty(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turn (L.size() == 0);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n application of Stack</a:t>
            </a:r>
            <a:endParaRPr b="1" lang="en-US" sz="36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17620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the expression 4 + 2*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pression is said to be in “infix” n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expression is converted into “postfix” n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 2  3  * 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we evaluate thi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 all operands to the stack until an operator is encounte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an operator is encountered pop two operands and perform the operation and push the answer back to the sta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his process until no more ope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An application of Stack ctd..</a:t>
            </a:r>
            <a:endParaRPr b="1" lang="en-US" sz="40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76184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ck 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(!d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operand/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operand S.push(o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x = S.pop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 = S.pop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op == “+”)  S.push(x+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op == “-”)  S.push(x-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op == “*”)  S.push(x*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op == “/”)  S.push(x/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Verdana"/>
              </a:rPr>
              <a:t>OnePerson Class</a:t>
            </a:r>
            <a:endParaRPr b="1" lang="en-US" sz="44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1831680"/>
            <a:ext cx="80010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class OnePerson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OnePerson(int I, string 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{id=I; name=n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w we can create OnePerson ob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ePerson Me(1, “guna”);  // singl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ector List= new Vector();   // vector of ob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t.addElement(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32040"/>
            <a:ext cx="80010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class PersonDB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vate Vector L=new Vector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PersonDB(){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void add(Object O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.addElement(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boolean searchDB(OnePerson P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 (L.contains(P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boolean MoveToBack(OnePerson P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(L.contains(P)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{ L.remove(P); L.addElement(P); return true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boolean moveToFront(OnePerson P){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Verdana"/>
              </a:rPr>
              <a:t>PersonDB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8:58:35Z</dcterms:created>
  <dc:creator>dslater</dc:creator>
  <dc:description/>
  <dc:language>en-US</dc:language>
  <cp:lastModifiedBy>student</cp:lastModifiedBy>
  <dcterms:modified xsi:type="dcterms:W3CDTF">2001-09-17T18:20:35Z</dcterms:modified>
  <cp:revision>146</cp:revision>
  <dc:subject/>
  <dc:title>Advanced Placement /  Early Admission</dc:title>
</cp:coreProperties>
</file>