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0B2-1E5A-42F0-8D5E-DF6000FB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8F4-503F-42C0-8B6C-6CF78523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2CA-C994-4313-A7B7-41A9E418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CE5-7D19-46E1-8989-A178191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93F-1524-4D97-B88C-A4CE9AA8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5FA-87FF-48D6-B523-BA7444FD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B542-A075-4FD6-B210-DCED1DE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7FB-FEC9-44CE-A563-95C0A1CB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F680-7588-46A7-8776-1963CD8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0B26-0113-4750-B211-7BD38EA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415-0815-4081-94A2-AC59351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F6A-BAD2-465B-89D0-5808B4D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CAD-5392-4C67-BD30-040B28D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85B4-9D37-41F3-AC7A-1F6312F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D31-E059-474A-9698-D2C5D589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3BF-A23B-4DF3-B556-220F5103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4DD2-FE8C-4E8A-97E1-66488F46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F9E-F947-4103-AD96-F924F39C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12F-0C06-48D8-A8C6-F118A66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086-DA2C-43FC-A82C-62A1E3B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3BC-F746-466E-B121-E2605F89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3CF-C7D8-4E94-BA98-1440490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A5F-3EA1-4A99-91DF-5E52A48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7DE-3B2D-4CD9-9262-45A7D51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58A2-9A4C-4348-A058-0B6C13A588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DB5-461E-4CA4-BA11-71FF5DBB82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va – Methods Part II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6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his” is good to check the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ppose you want to see two objects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ppose that Elevator class has a method called compa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compareTo(Elevator 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(this.id == E.id)  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/so in the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yElevator.compareTo(yourElevato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esting for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are two ways to check for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ing == 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ing instance method “equ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ethod defined in the object class and uses the == operator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g:  System.out.println(x==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x.equals(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str==“guna”); // if str = “gu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str.equals(“guna”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esting for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operator == compares the reference to an object,not th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.equals(otherObject) checks the equality of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Objects, Classes and Computer Memor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936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n a Java program is executing, the memory must h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Templates for all cla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ariables that refer t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mory for methods allocated within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mory for data allocated withi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Characteristics of Object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72880" y="1657440"/>
            <a:ext cx="86425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object h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ehavior (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s identity is handled by Java Virtual Machine (JV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en the object is out of the scope, then the “Garbage Collector” purges the object from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:  { Account my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 Account your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Understand the user requ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kind of public behaviors do they w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: Elevato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s needed:  constructors, accessors, mu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ru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A 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Elevator() { currentFloor=0; direction=true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pecific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Elevator(int floor, boolean dir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Floor = flo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ion = 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Ac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final int floo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currentFlo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Mut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moveToNextFloo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(direction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(currentFloor&lt; MaxFlo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Flo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 direction = false; currentFloor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move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pseudo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if elevator is moving up check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service requested floor above and move there by invoking moveToNext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else check to see if anyone below has requ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*  Complete the code assuming elevator has a boolean array of flo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[]   floor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SubClasses and SuperClasse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class Elevator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ose that Super Elevator is a subclass of ele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class SuperElevator extends Ele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SuperElevator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er();  // calls the super clas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nStop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is sup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() calls the parent class (super class) constructor to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the new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SubClasses and SuperClasse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is sup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 activates methods from the super (or parent cla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g:  super()   - activates the default constrcu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(argument list) - activates a specific 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vating other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.&lt;method name&gt; ( &lt;arguments list&gt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g:   super.moveToFloor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ere moveToFloor is a method in  elevator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What is this?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Elevator (int currentFlo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.currentFloor = currentFlo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word “this” is a reserved word. “this” refers to the object itsel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.currentFloor refers to whatever the current object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g: Elevator SouthElevator(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vator NorthElevator(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thElevator.compareTo(NorthElev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14T19:19:42Z</dcterms:modified>
  <cp:revision>152</cp:revision>
  <dc:subject/>
  <dc:title>Advanced Placement /  Early Admission</dc:title>
</cp:coreProperties>
</file>