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69D-0E30-4890-99FC-F726E1E6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5DD-4586-4EA7-A91B-4A65355F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1D6-542C-4028-9211-D818755B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EDE-785B-43C4-B451-D080A8FD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A2F-5F47-46C9-B50C-231EDA6E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40F-2A2A-4396-BDFB-925E6FF5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419-7CF6-464A-BFDD-3476FEB4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3D1-DFCF-467E-AE93-B5F18462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DA8-B114-49C7-8F4E-A5E23A16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AD6-8FBA-41CA-8B40-159CCA1B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9BD-C44E-424A-998B-5E14D746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0EA-22B1-46A9-9B78-5B3F8C0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8016-49D2-4E52-A11F-60CBB3D0E20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williams.wav" TargetMode="External"/><Relationship Id="rId3" Type="http://schemas.openxmlformats.org/officeDocument/2006/relationships/hyperlink" Target="file:///tmp/home/.config/libreoffice/4/user/gallery/ferrari-spain.wa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60195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formula-1-ferrari-f1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4678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5280" y="457200"/>
            <a:ext cx="6705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udget Differences. Formula 1</a:t>
            </a:r>
            <a:br>
              <a:rPr sz="2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Turn your speakers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1447920" y="3200400"/>
            <a:ext cx="2057400" cy="30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In-House Prototyp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1447920" y="5410080"/>
            <a:ext cx="2057400" cy="30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Outsourced Producti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276720"/>
            <a:ext cx="685800" cy="228600"/>
          </a:xfrm>
          <a:prstGeom prst="leftArrow">
            <a:avLst>
              <a:gd name="adj1" fmla="val 13463"/>
              <a:gd name="adj2" fmla="val 4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5880" y="3305160"/>
            <a:ext cx="1447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1st Press this But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5410080"/>
            <a:ext cx="685800" cy="228600"/>
          </a:xfrm>
          <a:prstGeom prst="leftArrow">
            <a:avLst>
              <a:gd name="adj1" fmla="val 13463"/>
              <a:gd name="adj2" fmla="val 4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95880" y="5438880"/>
            <a:ext cx="1447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2nd  Press this But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21:30:58Z</dcterms:created>
  <dc:creator>Jaime</dc:creator>
  <dc:description/>
  <dc:language>en-US</dc:language>
  <cp:lastModifiedBy>Cessna</cp:lastModifiedBy>
  <dcterms:modified xsi:type="dcterms:W3CDTF">2003-10-31T18:08:35Z</dcterms:modified>
  <cp:revision>11</cp:revision>
  <dc:subject/>
  <dc:title>By Molus &amp; Sinson</dc:title>
</cp:coreProperties>
</file>