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8E60-F80A-4C5E-8141-B98AEA514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DAD2-3D19-479E-89DC-303D44951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1E6A-BC5E-4961-8663-2702F6D25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F24E-2D7A-4122-92B7-8715D54DE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8366-69EB-4243-B349-C9E25F67F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DAF0-D1BF-46A5-B90A-D34F7DE7E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F313-E437-4815-9089-320F4AA77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A27A-1126-4BE6-8F28-754E9076E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2FD2-D92D-4ABC-A2D9-B9909C0DF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2155-F1BC-4CE9-A4E7-9BDB5A594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E519-451A-42A4-A6D9-85130B972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2A76-3C4D-4603-BDAC-DB634E09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49A76-3284-4324-9D76-7EC851C87BB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williams.wav" TargetMode="External"/><Relationship Id="rId3" Type="http://schemas.openxmlformats.org/officeDocument/2006/relationships/hyperlink" Target="file:///tmp/home/.config/libreoffice/4/user/gallery/ferrari-spain.wav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6019560"/>
            <a:ext cx="6705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" name="formula-1-ferrari-f1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6782040" cy="46782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295280" y="457200"/>
            <a:ext cx="67057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Budget Differences. Formula 1</a:t>
            </a:r>
            <a:br>
              <a:rPr sz="2400"/>
            </a:b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(Turn your speakers 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2"/>
          </p:cNvPr>
          <p:cNvSpPr/>
          <p:nvPr/>
        </p:nvSpPr>
        <p:spPr>
          <a:xfrm>
            <a:off x="1447920" y="3200400"/>
            <a:ext cx="2057400" cy="304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333cc"/>
                </a:solidFill>
                <a:latin typeface="Tahoma"/>
              </a:rPr>
              <a:t>In-House Prototype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3"/>
          </p:cNvPr>
          <p:cNvSpPr/>
          <p:nvPr/>
        </p:nvSpPr>
        <p:spPr>
          <a:xfrm>
            <a:off x="1447920" y="5410080"/>
            <a:ext cx="2057400" cy="304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333cc"/>
                </a:solidFill>
                <a:latin typeface="Tahoma"/>
              </a:rPr>
              <a:t>Outsourced Production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81280" y="3276720"/>
            <a:ext cx="685800" cy="228600"/>
          </a:xfrm>
          <a:prstGeom prst="leftArrow">
            <a:avLst>
              <a:gd name="adj1" fmla="val 13463"/>
              <a:gd name="adj2" fmla="val 4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295880" y="3305160"/>
            <a:ext cx="144756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1st Press this Butt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81280" y="5410080"/>
            <a:ext cx="685800" cy="228600"/>
          </a:xfrm>
          <a:prstGeom prst="leftArrow">
            <a:avLst>
              <a:gd name="adj1" fmla="val 13463"/>
              <a:gd name="adj2" fmla="val 4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295880" y="5438880"/>
            <a:ext cx="144756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2nd  Press this Butt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8T21:30:58Z</dcterms:created>
  <dc:creator>Jaime</dc:creator>
  <dc:description/>
  <dc:language>en-US</dc:language>
  <cp:lastModifiedBy>Cessna</cp:lastModifiedBy>
  <dcterms:modified xsi:type="dcterms:W3CDTF">2003-10-31T18:08:35Z</dcterms:modified>
  <cp:revision>11</cp:revision>
  <dc:subject/>
  <dc:title>By Molus &amp; Sinson</dc:title>
</cp:coreProperties>
</file>