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2100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320" y="1493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004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2100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320" y="4001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85720" y="42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9320" y="4001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9320" y="1493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0040" y="4001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712800" y="1219320"/>
            <a:ext cx="8329680" cy="0"/>
          </a:xfrm>
          <a:prstGeom prst="line">
            <a:avLst/>
          </a:prstGeom>
          <a:ln w="25560">
            <a:solidFill>
              <a:srgbClr val="ffd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pic>
        <p:nvPicPr>
          <p:cNvPr id="3" name="Picture 15" descr="CMUgraywordmark"/>
          <p:cNvPicPr/>
          <p:nvPr/>
        </p:nvPicPr>
        <p:blipFill>
          <a:blip r:embed="rId2"/>
          <a:stretch/>
        </p:blipFill>
        <p:spPr>
          <a:xfrm>
            <a:off x="7524720" y="6553080"/>
            <a:ext cx="1523880" cy="2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Evaluating the Contributions of</a:t>
            </a:r>
            <a:br>
              <a:rPr sz="3000"/>
            </a:b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Video Representation for a </a:t>
            </a:r>
            <a:br>
              <a:rPr sz="3000"/>
            </a:b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Life Oral History Collec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41" name="Picture 11" descr="SlideBanner_backgroundD"/>
          <p:cNvPicPr/>
          <p:nvPr/>
        </p:nvPicPr>
        <p:blipFill>
          <a:blip r:embed="rId1"/>
          <a:stretch/>
        </p:blipFill>
        <p:spPr>
          <a:xfrm>
            <a:off x="0" y="0"/>
            <a:ext cx="9144000" cy="1455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"/>
          <p:cNvSpPr/>
          <p:nvPr/>
        </p:nvSpPr>
        <p:spPr>
          <a:xfrm>
            <a:off x="0" y="5321160"/>
            <a:ext cx="911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e87"/>
                </a:solidFill>
                <a:latin typeface="Arial"/>
              </a:rPr>
              <a:t>Joint Conference on Digital Libraries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e87"/>
                </a:solidFill>
                <a:latin typeface="Arial"/>
              </a:rPr>
              <a:t>June 18, 2008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76320" y="3247920"/>
            <a:ext cx="4038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87"/>
                </a:solidFill>
                <a:latin typeface="Arial Unicode MS"/>
              </a:rPr>
              <a:t>Mike Christel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e87"/>
                </a:solidFill>
                <a:latin typeface="Arial Unicode MS"/>
              </a:rPr>
              <a:t>christel@cs.cmu.edu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e87"/>
                </a:solidFill>
                <a:latin typeface="Arial Unicode MS"/>
              </a:rPr>
              <a:t>School of Computer Science </a:t>
            </a:r>
            <a:br>
              <a:rPr sz="2000"/>
            </a:br>
            <a:r>
              <a:rPr b="1" lang="en-US" sz="2000" spc="-1" strike="noStrike">
                <a:solidFill>
                  <a:srgbClr val="fafe87"/>
                </a:solidFill>
                <a:latin typeface="Arial Unicode MS"/>
              </a:rPr>
              <a:t>Carnegie Mellon University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3733920" y="3247920"/>
            <a:ext cx="5219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87"/>
                </a:solidFill>
                <a:latin typeface="Arial Unicode MS"/>
              </a:rPr>
              <a:t>Michael H. Frisch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e87"/>
                </a:solidFill>
                <a:latin typeface="Arial Unicode MS"/>
              </a:rPr>
              <a:t>mfrisch@buffalo.edu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e87"/>
                </a:solidFill>
                <a:latin typeface="Arial Unicode MS"/>
              </a:rPr>
              <a:t>Depts. Of History and American Studies</a:t>
            </a:r>
            <a:br>
              <a:rPr sz="2000"/>
            </a:br>
            <a:r>
              <a:rPr b="1" lang="en-US" sz="2000" spc="-1" strike="noStrike">
                <a:solidFill>
                  <a:srgbClr val="fafe87"/>
                </a:solidFill>
                <a:latin typeface="Arial Unicode MS"/>
              </a:rPr>
              <a:t>University at Buffalo, SUNY</a:t>
            </a:r>
            <a:endParaRPr b="0" lang="en-US" sz="20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reasure Hunt Procedu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Use “System 1” for exactly 20 minutes to answer 12 stated topics given on one-page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nswer questionnaire, rest as needed, then proceed to “System 2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Use “System 2” ” for exactly 20 minutes to answer 12 different stated topics given on one-page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nswer questionnaire for System 2, then final questionnai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Half of the subjects saw “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Still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” (no video) as System 1, half saw “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Video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” as System 1, with System 2 then showing the other treatment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reasure Hunt Topics for System 2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story best answers or discusses each of the 12 topics below.  There is no order to these 12 – find as many of the stories as you can in your 20 minutes…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Kerosene ball for baseball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hoto of uniformed military personnel with Secretary of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fense Melvin Laird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gnity from James Edwards to Sidney Poitier to Denzel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ashingt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membering scents of childhood holidays including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urkey, sweet potato pies, and the ocea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120" y="1371600"/>
            <a:ext cx="807732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 significant difference on effectiveness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905120"/>
          <a:ext cx="8381880" cy="2408040"/>
        </p:xfrm>
        <a:graphic>
          <a:graphicData uri="http://schemas.openxmlformats.org/drawingml/2006/table">
            <a:tbl>
              <a:tblPr/>
              <a:tblGrid>
                <a:gridCol w="4376520"/>
                <a:gridCol w="2001960"/>
                <a:gridCol w="2003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Report of Correct Topics (out of 12)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till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ideo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Content Placeholder 2"/>
          <p:cNvSpPr/>
          <p:nvPr/>
        </p:nvSpPr>
        <p:spPr>
          <a:xfrm>
            <a:off x="609480" y="4419720"/>
            <a:ext cx="80773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r 13 high-scorers, no sig. difference on effectiveness:</a:t>
            </a: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4952880"/>
          <a:ext cx="8381880" cy="1401840"/>
        </p:xfrm>
        <a:graphic>
          <a:graphicData uri="http://schemas.openxmlformats.org/drawingml/2006/table">
            <a:tbl>
              <a:tblPr/>
              <a:tblGrid>
                <a:gridCol w="4376520"/>
                <a:gridCol w="2001960"/>
                <a:gridCol w="2003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Report of Correct Topics (out of 12)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till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ideo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7.8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6.9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28600" y="1265400"/>
            <a:ext cx="8801280" cy="5287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sults, Post-Treatment Questionnai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493560" y="1422360"/>
            <a:ext cx="3144600" cy="3872880"/>
            <a:chOff x="493560" y="1422360"/>
            <a:chExt cx="3144600" cy="3872880"/>
          </a:xfrm>
        </p:grpSpPr>
        <p:sp>
          <p:nvSpPr>
            <p:cNvPr id="71" name="TextBox 3"/>
            <p:cNvSpPr/>
            <p:nvPr/>
          </p:nvSpPr>
          <p:spPr>
            <a:xfrm>
              <a:off x="493560" y="1422360"/>
              <a:ext cx="2026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Too little content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2" name="TextBox 4"/>
            <p:cNvSpPr/>
            <p:nvPr/>
          </p:nvSpPr>
          <p:spPr>
            <a:xfrm>
              <a:off x="501480" y="2148840"/>
              <a:ext cx="1322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Inaccurate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3" name="TextBox 5"/>
            <p:cNvSpPr/>
            <p:nvPr/>
          </p:nvSpPr>
          <p:spPr>
            <a:xfrm>
              <a:off x="502920" y="2858400"/>
              <a:ext cx="1960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Not Entertaining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4" name="TextBox 6"/>
            <p:cNvSpPr/>
            <p:nvPr/>
          </p:nvSpPr>
          <p:spPr>
            <a:xfrm>
              <a:off x="500760" y="3525120"/>
              <a:ext cx="1593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Not Inspiring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5" name="TextBox 7"/>
            <p:cNvSpPr/>
            <p:nvPr/>
          </p:nvSpPr>
          <p:spPr>
            <a:xfrm>
              <a:off x="508320" y="4226040"/>
              <a:ext cx="3129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Not Historically Meaningful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76" name="TextBox 8"/>
            <p:cNvSpPr/>
            <p:nvPr/>
          </p:nvSpPr>
          <p:spPr>
            <a:xfrm>
              <a:off x="502200" y="4926960"/>
              <a:ext cx="155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Unsatisfying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77" name="TextBox 9"/>
          <p:cNvSpPr/>
          <p:nvPr/>
        </p:nvSpPr>
        <p:spPr>
          <a:xfrm>
            <a:off x="6824880" y="1447920"/>
            <a:ext cx="216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Too much conten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7827840" y="2174760"/>
            <a:ext cx="115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7467840" y="2884320"/>
            <a:ext cx="1515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Entertaining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7837920" y="3551400"/>
            <a:ext cx="114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Inspiring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6303960" y="4251240"/>
            <a:ext cx="268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Historically Meaningful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7711200" y="4952880"/>
            <a:ext cx="127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Satisfying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sults, Final Questionnai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pic>
        <p:nvPicPr>
          <p:cNvPr id="84" name="Chart 2" descr=""/>
          <p:cNvPicPr/>
          <p:nvPr/>
        </p:nvPicPr>
        <p:blipFill>
          <a:blip r:embed="rId1"/>
          <a:stretch/>
        </p:blipFill>
        <p:spPr>
          <a:xfrm>
            <a:off x="682560" y="1212840"/>
            <a:ext cx="8163000" cy="3517920"/>
          </a:xfrm>
          <a:prstGeom prst="rect">
            <a:avLst/>
          </a:prstGeom>
          <a:ln w="0">
            <a:noFill/>
          </a:ln>
        </p:spPr>
      </p:pic>
      <p:sp>
        <p:nvSpPr>
          <p:cNvPr id="85" name="5-Point Star 5"/>
          <p:cNvSpPr/>
          <p:nvPr/>
        </p:nvSpPr>
        <p:spPr>
          <a:xfrm>
            <a:off x="1600200" y="3276720"/>
            <a:ext cx="685800" cy="609480"/>
          </a:xfrm>
          <a:prstGeom prst="pie">
            <a:avLst/>
          </a:prstGeom>
          <a:solidFill>
            <a:srgbClr val="ffc000"/>
          </a:solidFill>
          <a:ln w="12600">
            <a:solidFill>
              <a:srgbClr val="fafe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sults, End Questionnaire Continued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0040" y="4571640"/>
            <a:ext cx="8077320" cy="17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General ignorance of difference between System 1 and System 2, e.g., “Was there a difference? I couldn’t tell.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ubjects guessed no difference at all, or a difference in speed or text search service or content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88" name="Chart 3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79311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ubjects used Systems in Same Manner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905120"/>
          <a:ext cx="8381880" cy="2408040"/>
        </p:xfrm>
        <a:graphic>
          <a:graphicData uri="http://schemas.openxmlformats.org/drawingml/2006/table">
            <a:tbl>
              <a:tblPr/>
              <a:tblGrid>
                <a:gridCol w="4376520"/>
                <a:gridCol w="2001960"/>
                <a:gridCol w="2003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verages, per 20 minute session)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till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ideo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Text queries issued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20.6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21.5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Returned stories per text query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382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432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Time spent with story player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44.6%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46.8%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Submitted answers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8.0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8.4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Discussion, Treasure Hunt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rected search under time constraints similar to NIST TRECVID video retrieval evaluati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erformance metrics, log data, subjective questionnaires show no significant differences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Emphasis on need for great efficiency may have suppressed any differences between 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Still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f task were more in line with work discussed at University at Buffalo HistoryMakers (UB) Workshop: not simple fact-finding, but essay building and more exploratory work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tudy 2: Exploratory Open-Ended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y stories are directly or peripherally relevant to each of the topics below. Assume you have to create a report addressing the stated topic.  What stories might you reference in your report?  …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tem 1 Topic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dentify characteristics that resulted in the leadership effectiveness of the interviewee (the speaker in the interview).  What traits helped to make this person an effective leader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Participants, Exploratory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14 participants, recruited via web site fo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Primarily college studen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7 male, 7 femal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ean age 25.5 (3 &lt; 20, 2 older than 30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9 White, 3 Asian, 1 Black, 1 Pacific Islander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Not familiar with African American oral histori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xperienced web searcher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experienced digital video searcher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aid participation, with no additional cash prize as accuracy not measured for open-ended tas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Talk Outlin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tails on </a:t>
            </a:r>
            <a:r>
              <a:rPr b="0" i="1" lang="en-US" sz="2400" spc="-1" strike="noStrike">
                <a:solidFill>
                  <a:srgbClr val="fafe86"/>
                </a:solidFill>
                <a:latin typeface="Arial"/>
              </a:rPr>
              <a:t>The HistoryMakers, Inc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ntroduction to the oral history corpu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s video representation useful for such a corpus?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wo studies detailed and reviewed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Fact-finding “treasure hunt”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xploratory search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iscussion of Result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plication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4160" y="12193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sults, Post-Treatment Questionnaire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493560" y="1422360"/>
            <a:ext cx="3144600" cy="3872880"/>
            <a:chOff x="493560" y="1422360"/>
            <a:chExt cx="3144600" cy="3872880"/>
          </a:xfrm>
        </p:grpSpPr>
        <p:sp>
          <p:nvSpPr>
            <p:cNvPr id="100" name="TextBox 3"/>
            <p:cNvSpPr/>
            <p:nvPr/>
          </p:nvSpPr>
          <p:spPr>
            <a:xfrm>
              <a:off x="493560" y="1422360"/>
              <a:ext cx="2026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Too little content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501480" y="2148840"/>
              <a:ext cx="1322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Inaccurate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502920" y="2858400"/>
              <a:ext cx="1960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Not Entertaining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3" name="TextBox 6"/>
            <p:cNvSpPr/>
            <p:nvPr/>
          </p:nvSpPr>
          <p:spPr>
            <a:xfrm>
              <a:off x="500760" y="3525120"/>
              <a:ext cx="1593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Not Inspiring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508320" y="4226040"/>
              <a:ext cx="3129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Not Historically Meaningful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  <p:sp>
          <p:nvSpPr>
            <p:cNvPr id="105" name="TextBox 8"/>
            <p:cNvSpPr/>
            <p:nvPr/>
          </p:nvSpPr>
          <p:spPr>
            <a:xfrm>
              <a:off x="502200" y="4926960"/>
              <a:ext cx="155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"/>
                </a:rPr>
                <a:t>Unsatisfying</a:t>
              </a:r>
              <a:endParaRPr b="0" lang="en-US" sz="1800" spc="-1" strike="noStrike">
                <a:solidFill>
                  <a:srgbClr val="fafe86"/>
                </a:solidFill>
                <a:latin typeface="Times New Roman"/>
              </a:endParaRPr>
            </a:p>
          </p:txBody>
        </p:sp>
      </p:grpSp>
      <p:sp>
        <p:nvSpPr>
          <p:cNvPr id="106" name="TextBox 9"/>
          <p:cNvSpPr/>
          <p:nvPr/>
        </p:nvSpPr>
        <p:spPr>
          <a:xfrm>
            <a:off x="6824880" y="1447920"/>
            <a:ext cx="216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Too much content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7827840" y="2174760"/>
            <a:ext cx="115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7467840" y="2884320"/>
            <a:ext cx="1515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Entertaining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837920" y="3551400"/>
            <a:ext cx="114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Inspiring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303960" y="4251240"/>
            <a:ext cx="268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Historically Meaningful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7711200" y="4952880"/>
            <a:ext cx="127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d"/>
                </a:solidFill>
                <a:latin typeface="Arial"/>
              </a:rPr>
              <a:t>Satisfying</a:t>
            </a:r>
            <a:endParaRPr b="0" lang="en-US" sz="1800" spc="-1" strike="noStrike">
              <a:solidFill>
                <a:srgbClr val="fafe86"/>
              </a:solidFill>
              <a:latin typeface="Times New Roman"/>
            </a:endParaRPr>
          </a:p>
        </p:txBody>
      </p:sp>
      <p:sp>
        <p:nvSpPr>
          <p:cNvPr id="112" name="5-Point Star 17"/>
          <p:cNvSpPr/>
          <p:nvPr/>
        </p:nvSpPr>
        <p:spPr>
          <a:xfrm>
            <a:off x="4724280" y="2209680"/>
            <a:ext cx="685800" cy="609840"/>
          </a:xfrm>
          <a:prstGeom prst="pie">
            <a:avLst/>
          </a:prstGeom>
          <a:solidFill>
            <a:srgbClr val="ffc000"/>
          </a:solidFill>
          <a:ln w="12600">
            <a:solidFill>
              <a:srgbClr val="fafe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e8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sults, End Questionnair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0040" y="4571640"/>
            <a:ext cx="8077320" cy="17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verwhelming preference for 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Video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over 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Still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whenever an opinion is given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23 typed comments, 9 of which dealt with System 1 vs. System 2 differences: 3 disliked 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Still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, 4 liked </a:t>
            </a:r>
            <a:r>
              <a:rPr b="1" lang="en-US" sz="2400" spc="-1" strike="noStrike">
                <a:solidFill>
                  <a:srgbClr val="fafe86"/>
                </a:solidFill>
                <a:latin typeface="Arial"/>
              </a:rPr>
              <a:t>Video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, 1 did not care and 1 could not tell the differe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  <p:pic>
        <p:nvPicPr>
          <p:cNvPr id="115" name="Chart 4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81630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ubjects used Systems in Same Manner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905120"/>
          <a:ext cx="8381880" cy="2408040"/>
        </p:xfrm>
        <a:graphic>
          <a:graphicData uri="http://schemas.openxmlformats.org/drawingml/2006/table">
            <a:tbl>
              <a:tblPr/>
              <a:tblGrid>
                <a:gridCol w="4376520"/>
                <a:gridCol w="2001960"/>
                <a:gridCol w="2003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Averages, per 20 minute session)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till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ideo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Text queries issued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Returned stories per text query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552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497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Time spent with story player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66.6%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67.8%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Submitted answers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  <a:ea typeface="Times New Roman"/>
                        </a:rPr>
                        <a:t>11.2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afe86"/>
                          </a:solidFill>
                          <a:latin typeface="Arial"/>
                        </a:rPr>
                        <a:t>10.6</a:t>
                      </a:r>
                      <a:endParaRPr b="0" lang="en-US" sz="2000" spc="-1" strike="noStrike">
                        <a:solidFill>
                          <a:srgbClr val="fafe8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fe86"/>
                      </a:solidFill>
                    </a:lnL>
                    <a:lnR w="5760">
                      <a:solidFill>
                        <a:srgbClr val="fafe86"/>
                      </a:solidFill>
                    </a:lnR>
                    <a:lnT w="5760">
                      <a:solidFill>
                        <a:srgbClr val="fafe86"/>
                      </a:solidFill>
                    </a:lnT>
                    <a:lnB w="5760">
                      <a:solidFill>
                        <a:srgbClr val="fafe8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 txBox="1"/>
          <p:nvPr/>
        </p:nvSpPr>
        <p:spPr>
          <a:xfrm>
            <a:off x="590040" y="4571640"/>
            <a:ext cx="8077320" cy="17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No significant difference in these measur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Regardless of treatment, subjects spent 2/3 of time with player and noticed and reacted to the visual representatio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Discussion, Exploratory Search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0040" y="1493640"/>
            <a:ext cx="8248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G. Marchionini (“Exploratory Search: From Finding to Understanding,” </a:t>
            </a:r>
            <a:r>
              <a:rPr b="0" i="1" lang="en-US" sz="2400" spc="-1" strike="noStrike">
                <a:solidFill>
                  <a:srgbClr val="fafe86"/>
                </a:solidFill>
                <a:latin typeface="Arial"/>
              </a:rPr>
              <a:t>CACM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49, April 2006) breaks down 3 types of search activities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Lookup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Lear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vestigat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tudy 1 on Treasure Hunt was “lookup” with Study 2’s exploratory search pertinent to “learn” and “investigate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Computer scientists and information retrieval specialists emphasize evaluation of lookup activities (NIST TREC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UB Workshop library science and humanities participants quite interested in learn/investigate activiti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Video Matters (Sometimes)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r </a:t>
            </a:r>
            <a:r>
              <a:rPr b="0" lang="en-US" sz="2400" spc="-1" strike="noStrike" u="sng">
                <a:solidFill>
                  <a:srgbClr val="fafe86"/>
                </a:solidFill>
                <a:uFillTx/>
                <a:latin typeface="Arial"/>
              </a:rPr>
              <a:t>fact-finding tasks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, subjects focused on text transcript, oblivious to the story playback area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or </a:t>
            </a:r>
            <a:r>
              <a:rPr b="0" lang="en-US" sz="2400" spc="-1" strike="noStrike" u="sng">
                <a:solidFill>
                  <a:srgbClr val="fafe86"/>
                </a:solidFill>
                <a:uFillTx/>
                <a:latin typeface="Arial"/>
              </a:rPr>
              <a:t>exploratory search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, subjects learning and investigating through much story playback expressed a strong preference for motion video representation of oral history interview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en stories presented as video, subjects rate system as being more “accurate”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Will this trend hold beyond first impressions, e.g., for a semester-long study?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Are users referring to historical correctness or higher fidelity display of personality or something else?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Future Wor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Multi-dimensional In-depth Long-term Case-studies (MILC) (Shneiderman and Plaisant, 2006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vestigative task may involve multiple iterations over long periods of tim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Case studies let users work on their own problem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Use MILC methodology within context of The HistoryMakers beta testing with engaged group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prove overall satisfaction by providing more time and more tool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o not rely solely on lookup tasks to evaluate I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o not rely on lookup to expose students to “texture” of the oral history corpu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ext metadata (as in transcripts) provides a fast, efficient means to get directly to facts, with video synchronized to text letting user appreciate fuller context and move between detailed and exploratory modes of engaging oral histories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ral history archivists are encouraged to digitize and make available video representations, preferred by users and leading to an increased sense of accuracy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Credits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Many members of the Informedia Project, CMU research community, and </a:t>
            </a:r>
            <a:r>
              <a:rPr b="0" i="1" lang="en-US" sz="2000" spc="-1" strike="noStrike">
                <a:solidFill>
                  <a:srgbClr val="fafe86"/>
                </a:solidFill>
                <a:latin typeface="Arial"/>
              </a:rPr>
              <a:t>The HistoryMakers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contributed to this work; a partial list appears here:  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Informedia Project Director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 Howard Wactlar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feb9"/>
                </a:solidFill>
                <a:latin typeface="Arial"/>
              </a:rPr>
              <a:t>The HistoryMakers</a:t>
            </a: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Executive Director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Julieanna Richardson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HistoryMakers Beta Testers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 Lillian Williams, SUNY at Buffalo and all UB Workshop participants:  Schomburg Center for Research in Black Culture, NY Public Library, Randforce Associates, University of Illinois (Urbana Champaign, Springfield, Chicago)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Informedia User Interface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Ron Conescu, Neema Moraveji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Informedia Processing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 Alex Hauptmann, Dorbin Ng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Informedia Library Essentials: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  Bob Baron, Bryan Maher</a:t>
            </a:r>
            <a:endParaRPr b="0" lang="en-US" sz="20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Reasons to Pay Attention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Explosive growth of video as a digital asset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3 orders of magnitude drop in costs of video storage over past decad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(Over)emphasis on lookup tasks in evaluating digital librarie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Implications regarding what students will gain from cultural assets based on what assignments are given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o, something for everyone:  media specialists, archivists, information architects, information retrieval experts, evaluators, librarians, professors, humanities experts, computer scientists, …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dd19"/>
                </a:solidFill>
                <a:latin typeface="Arial"/>
              </a:rPr>
              <a:t>The HistoryMakers</a:t>
            </a: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 Oral History Archive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93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Funded in part by IMLS Grant LG-03-03-0048-03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orld’s largest African American oral history archive with accomplished African Americans (</a:t>
            </a:r>
            <a:r>
              <a:rPr b="0" lang="en-US" sz="2000" spc="-1" strike="noStrike">
                <a:solidFill>
                  <a:srgbClr val="fafe86"/>
                </a:solidFill>
                <a:latin typeface="Arial"/>
              </a:rPr>
              <a:t>www.thehistorymakers.com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urpose: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566640" indent="-218880">
              <a:lnSpc>
                <a:spcPct val="8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To educate and show the breadth and depth of this important American history as told by the first person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566640" indent="-218880">
              <a:lnSpc>
                <a:spcPct val="8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To highlight the accomplishments of individual African Americans across a variety of disciplin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566640" indent="-218880">
              <a:lnSpc>
                <a:spcPct val="8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To preserve this material for generations to com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est corpus: 913 hours of interviews from 400 individuals, 18,254 interview story segments (mostly 2001-2005)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ummer 2007 workshop hosted by SUNY at Buffalo with HistoryMakers beta testers motivated and informed this work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JCDL2008Screen1.PNG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Video Representation Needed for Oral History? 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363320"/>
            <a:ext cx="8210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Oral history traditional definition: “transcript of a carefully edited interview with a person of historical significance”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ranscription seemed natural and inevitable due to past tedium in dealing with analog recorded data despite loss of fidelity: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Voice: accent, intonation, emphasis, emotion, etc.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mage: facial expression, gestures, body languag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Today’s digital technologies allow audio and video data to be searched and explored directly (e.g., Survivors of the Shoah Visual History Foundation)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What is the effect, for users of a large corpus of life oral history interviews, to have access to the video dimension, not just the audio and the transcripts? 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Study 1: Treasure Hunt Fact-Finding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story best answers or discusses each of the 12 topics below.  There is no order to these 12 – find as many of the stories as you can in your 20 minutes….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Detroit Edison law cas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hoto of a musician quartet in Singapor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trong texture of Japanese hair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African language and offering opinion that U.S. schools  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should teach more than one languag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   …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JCDL2008Screen2.PNG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2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572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dd19"/>
                </a:solidFill>
                <a:latin typeface="Arial"/>
              </a:rPr>
              <a:t>Participants, Treasure Hunt Task</a:t>
            </a:r>
            <a:endParaRPr b="1" lang="en-US" sz="3000" spc="-1" strike="noStrike">
              <a:solidFill>
                <a:srgbClr val="ffdd1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0040" y="1493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24 participants, recruited via web site form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Primarily college student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16 male, 8 female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Mean age 23 (2 &lt; 20, 4 in 30-35 age range)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10 Asian, 9 White, 2 Mixed/Other, 1 Black,</a:t>
            </a:r>
            <a:br>
              <a:rPr sz="2200"/>
            </a:b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1 Hispanic, 1 Pacific Islander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Not familiar with African American oral historie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Experienced web searcher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39"/>
              </a:spcBef>
              <a:spcAft>
                <a:spcPts val="139"/>
              </a:spcAft>
              <a:buClr>
                <a:srgbClr val="fcfeb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cfeb9"/>
                </a:solidFill>
                <a:latin typeface="Arial"/>
              </a:rPr>
              <a:t>Inexperienced digital video searchers</a:t>
            </a:r>
            <a:endParaRPr b="0" lang="en-US" sz="2200" spc="-1" strike="noStrike">
              <a:solidFill>
                <a:srgbClr val="fcf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af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e86"/>
                </a:solidFill>
                <a:latin typeface="Arial"/>
              </a:rPr>
              <a:t>Paid participation, with cash prizes to top 3 scorers to motivate performance</a:t>
            </a:r>
            <a:endParaRPr b="0" lang="en-US" sz="2400" spc="-1" strike="noStrike">
              <a:solidFill>
                <a:srgbClr val="fafe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6:05:30Z</dcterms:created>
  <dc:creator>Michael Christel</dc:creator>
  <dc:description>Presented at JCDL 2008,
Pittsburgh, PA, June 18, 2008</dc:description>
  <cp:keywords/>
  <dc:language>en-US</dc:language>
  <cp:lastModifiedBy>Michael G. Christel</cp:lastModifiedBy>
  <dcterms:modified xsi:type="dcterms:W3CDTF">2008-06-17T00:38:25Z</dcterms:modified>
  <cp:revision>107</cp:revision>
  <dc:subject>Talk for JCDL 2008</dc:subject>
  <dc:title>Evaluating the Contributions of Video Representation for a Life Oral History Collection</dc:title>
</cp:coreProperties>
</file>