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100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232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04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100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232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85720" y="42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680" y="6562800"/>
            <a:ext cx="3660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cfeb9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cfeb9"/>
                </a:solidFill>
                <a:latin typeface="Arial"/>
              </a:rPr>
              <a:t>Copyright 2002 Michael G. Christel and Alexander G. Hauptmann</a:t>
            </a:r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67080" y="65610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6516-1032-4DDD-911B-B45C38660B7B}" type="slidenum">
              <a:rPr b="0" lang="en-US" sz="900" spc="-1" strike="noStrike">
                <a:solidFill>
                  <a:srgbClr val="fafe8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48400" y="649116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negie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lon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1 layer 2 Audi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milar to the Layer I coder but better performance through three modifications.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The input to the psychoacoustic model is a 1024-point FFT leading to a finer frequency resolution for the calculation of the global masking thresholds.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Exploiting redundancies between three adjacent 12-sample blocks.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 finer quantization is provided.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 the official ISO/MPEG subjective tests Layer II codec showed an excellent performance at a stereo bit rate of 256 kbit/s, and when using joint stereo, at 192 kbit/s. </a:t>
            </a:r>
            <a:br>
              <a:rPr sz="2400"/>
            </a:b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1 layer 3 Audio (MP3)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Hybrid (subband/transform) coding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Variable bit rate coding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Layer III has improved: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frequency mapping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n analysis-by-synthesis approach for the bit allocation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an advanced pre-echo control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Layer III employs nonuniform quantization with entropy coding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In order to achieve a higher frequency resolution closer to critical band partitions: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32 subband signals are subdivided in frequency content by applying a six-point or 18-point modified DCT (MDCT) with 50% overlap to each of the subbands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six-point MDCT is applied in case of expected pre-echoes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the maximum number of frequency components is 32*18=576 each representing a bandwidth of only 24000/576 = 41.67 Hz. 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At a stereo bit rate of 1128 kbit/s the ISO/MPEG subjective tests gave an increase in impairment score of around 0.6 over Layer II.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2 Audi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00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2 multichannel audio coding standards, one of which will be forward- and backwards-compatible with MPEG-1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Forwards-compatible with MPEG-1: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The multichannel decoder can properly decode MPEG-1 mono or stereo signals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Backwards-compatible with MPEG-1: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An MPEG-1 stereo decoder can deliver a correct (front left and front right) stereo signal when decoding a future MPEG-2 multichannel bit stream i.e.,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the decoder will reproduce a meaningful down-mix of the original five channel.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Nonbackwards-compatible (NBC) MPEG-2 coding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The NBC multichannel coding mode will have the sampling rates, audio bandwidth, and channel configurations of MPEG-2 audio, but shall be capable to operate at bit rates from 32 kbit/s up to a bit rate sufficient for high quality audio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Audio Encoding Issu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Bitrate vs fidelity tradeoff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omputational effort (time) in encoding/deco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lay and window siz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covery from lossy transmission, packet error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isy environments (for speech, music encoders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96880" y="392040"/>
            <a:ext cx="81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9"/>
                </a:solidFill>
                <a:latin typeface="Arial"/>
              </a:rPr>
              <a:t>Sound Editing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360" y="1352520"/>
            <a:ext cx="8440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af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Arial"/>
              </a:rPr>
              <a:t>GoldWave 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www.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goldwave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.com</a:t>
            </a:r>
            <a:r>
              <a:rPr b="0" lang="en-US" sz="2400" spc="-1" strike="noStrike">
                <a:solidFill>
                  <a:srgbClr val="fafe87"/>
                </a:solidFill>
                <a:latin typeface="Arial"/>
              </a:rPr>
              <a:t>)-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requires a sound card.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digital audio sound player, recorder and editor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can load, play and edit many different file formats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afe8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Arial"/>
              </a:rPr>
              <a:t>.wav, .au, .voc, .snd, …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displays separate graphics for the left and right channels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very easy to use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fafe8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good sound quality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lvl="1" marL="668520" indent="-257040">
              <a:lnSpc>
                <a:spcPts val="0"/>
              </a:lnSpc>
              <a:spcBef>
                <a:spcPts val="139"/>
              </a:spcBef>
              <a:spcAft>
                <a:spcPts val="1514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CoolEdit (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http://www.syntrillium.com/cooledit</a:t>
            </a: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SonicFoundry</a:t>
            </a: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 SoundForge, 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SOX conversion tool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Winamp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14"/>
              </a:spcBef>
              <a:spcAft>
                <a:spcPts val="1514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7"/>
                </a:solidFill>
                <a:latin typeface="Arial"/>
              </a:rPr>
              <a:t>MS SoundRecorder</a:t>
            </a:r>
            <a:r>
              <a:rPr b="0" lang="en-US" sz="2200" spc="-1" strike="noStrike">
                <a:solidFill>
                  <a:srgbClr val="fafe87"/>
                </a:solidFill>
                <a:latin typeface="Arial"/>
              </a:rPr>
              <a:t>, Windows Media encoder</a:t>
            </a:r>
            <a:endParaRPr b="0" lang="en-US" sz="22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457200"/>
            <a:ext cx="8166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Tips for Audio on the Web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360" y="1352520"/>
            <a:ext cx="8440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1295280"/>
            <a:ext cx="8896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There is no generic audio  standard on the Web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Listening to 16-bit sounds on an 8-bit system results in strange effects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Users will be annoyed if they spend a lot of time downloading a sound and they can’t play it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Distribute only 8-bit sounds on your Web page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Or, provide different sound files in both 8- and 16-bits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Record in the highest sampling rate and size you can, and then process down to 8-bit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Keep file size small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downsampling to 8-bit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use a lower sampling rate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use mono sounds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Describe what format those sounds are in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WAVE, AIFF, or other format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Providing the file size in the description is a politeness to help estimate download times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If you need high sound quality and have large audio files: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e8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Use a smaller sound clip in downsampled format as a preview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or for those who can’t to listen to the higher-quality sample.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Check out  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Times New Roman"/>
              </a:rPr>
              <a:t>http://music.acu.edu/www/iawm/articles/june96/techtips.html</a:t>
            </a:r>
            <a:r>
              <a:rPr b="0" lang="en-US" sz="1800" spc="-1" strike="noStrike">
                <a:solidFill>
                  <a:srgbClr val="fafe87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Audio Encoding Reference Links</a:t>
            </a:r>
            <a:endParaRPr b="1" lang="en-US" sz="28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Sub-Band Co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MPEG Audio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http://www.realnetworks.com</a:t>
            </a:r>
            <a:r>
              <a:rPr b="0" lang="en-US" sz="2400" spc="-1" strike="noStrike" u="sng">
                <a:solidFill>
                  <a:srgbClr val="fafe8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esp. resources and tutorial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46392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e87"/>
                </a:solidFill>
                <a:latin typeface="Arial"/>
              </a:rPr>
              <a:t>Speech Compression</a:t>
            </a:r>
            <a:endParaRPr b="0" lang="en-US" sz="3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That’s all for today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33777"/>
          <a:stretch/>
        </p:blipFill>
        <p:spPr>
          <a:xfrm>
            <a:off x="507960" y="228600"/>
            <a:ext cx="83311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63920"/>
            <a:ext cx="9144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e87"/>
                </a:solidFill>
                <a:latin typeface="Arial"/>
              </a:rPr>
              <a:t>Sound Compression</a:t>
            </a:r>
            <a:endParaRPr b="0" lang="en-US" sz="32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33777"/>
          <a:stretch/>
        </p:blipFill>
        <p:spPr>
          <a:xfrm>
            <a:off x="507960" y="228600"/>
            <a:ext cx="83311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ompression of Sound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Motivation for Sound Compression</a:t>
            </a:r>
            <a:endParaRPr b="1" lang="en-US" sz="28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e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eed to minimize transmission costs or provide cost efficient storage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e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mand to transmit over channels of limited capacity such as mobile radio channels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e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eed to share capacity for different services (voice, audio, data, graphics, images) in integrated service network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9"/>
                </a:solidFill>
                <a:latin typeface="Arial"/>
              </a:rPr>
              <a:t>Compression Approaches</a:t>
            </a:r>
            <a:endParaRPr b="1" lang="en-US" sz="28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040" y="1494000"/>
            <a:ext cx="8077320" cy="48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Delta codin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Encode differences onl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Predictive codin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Predict the next sample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Linear Predictive Coding (LPC) - mostly for speech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escribe fundamental frequencies + ‘error’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CELP, RPE, cell-phone standard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Variable Rate Encodin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on’t encode silence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regular signal=few bits, variable signal=many bits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Subband codin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Split into frequency bands each encoded separately + efficiently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Psycho-acoustical coding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Arial"/>
              </a:rPr>
              <a:t>drop bits where you can’t hear it</a:t>
            </a:r>
            <a:endParaRPr b="0" lang="en-US" sz="20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6880" y="392040"/>
            <a:ext cx="81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9"/>
                </a:solidFill>
                <a:latin typeface="Arial"/>
              </a:rPr>
              <a:t>Many (!) Compression Standards</a:t>
            </a:r>
            <a:endParaRPr b="0" lang="en-US" sz="2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360" y="1352520"/>
            <a:ext cx="8440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25"/>
              </a:spcBef>
              <a:spcAft>
                <a:spcPts val="1375"/>
              </a:spcAft>
              <a:buClr>
                <a:srgbClr val="fafe8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7680" y="1333440"/>
            <a:ext cx="88963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PCM (Pulse Code Modulation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u-LAW (Mu-law – logarithmic coding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LPC-10E (Linear Predictive Coding 2.4kb/s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CELP 4.8Kb/s – code excited LPC builds on LPC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GSM (European Cell Phones, RPE-LPC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1650 bytes/sec (at 8000 samples/sec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ADPCM (adaptive, delta PCM, 24/32/40 kbps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MPEG Audio Layers (builds on ADPCM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Layer-2: From 32 kbps to 384 kbps - target bit rate of 128 kbps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Layer-3: From 32 kbps to 320 kbps - target bit rate of 64 kbps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Complex compression, using perceptual models</a:t>
            </a:r>
            <a:r>
              <a:rPr b="0" lang="en-US" sz="2400" spc="-1" strike="noStrike">
                <a:solidFill>
                  <a:srgbClr val="fafe8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7"/>
                </a:solidFill>
                <a:latin typeface="Times New Roman"/>
              </a:rPr>
              <a:t>RealAudio, Windows Media Formats (builds on above, proprietary)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Audio Encod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MPEG enco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Audio Encoding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otion Picture Experts Group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Audio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peg-1 layer 1 - 384 kbit/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peg-1 layer 2 - 192 kbit/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peg-1 layer 3 - 1128 kbit/s 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peg-2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MPEG 1 layer 1 Audio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Mapping the audio input into 32 subbands via </a:t>
            </a:r>
            <a:r>
              <a:rPr b="0" i="1" lang="en-US" sz="2000" spc="-1" strike="noStrike">
                <a:solidFill>
                  <a:srgbClr val="fafe86"/>
                </a:solidFill>
                <a:latin typeface="Arial"/>
              </a:rPr>
              <a:t>equally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spaced bandpass filters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Fixed block lengths (8 ms at 48 kHz sampling frequency) compressed into 12 samples each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Quantization providing very large dynamic range of more than 120 dB.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Bit allocation algorithm selects a quantizer (out of 15) for bit rate requirement and best coding noise masking.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In the official ISO/MPEG subjective tests Layer I codec showed an excellent performance at a stereo bit rate of 384 kbit/s. </a:t>
            </a:r>
            <a:br>
              <a:rPr sz="2000"/>
            </a:b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2:49:36Z</dcterms:created>
  <dc:creator>Michael Christel</dc:creator>
  <dc:description/>
  <dc:language>en-US</dc:language>
  <cp:lastModifiedBy>alex</cp:lastModifiedBy>
  <dcterms:modified xsi:type="dcterms:W3CDTF">2002-11-07T14:34:04Z</dcterms:modified>
  <cp:revision>7</cp:revision>
  <dc:subject/>
  <dc:title>PowerPoint Presentation</dc:title>
</cp:coreProperties>
</file>