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26.jpeg" ContentType="image/jpeg"/>
  <Override PartName="/ppt/media/image40.jpeg" ContentType="image/jpeg"/>
  <Override PartName="/ppt/media/image13.jpeg" ContentType="image/jpeg"/>
  <Override PartName="/ppt/media/image33.jpeg" ContentType="image/jpeg"/>
  <Override PartName="/ppt/media/image27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9.jpeg" ContentType="image/jpeg"/>
  <Override PartName="/ppt/media/image11.png" ContentType="image/png"/>
  <Override PartName="/ppt/media/image10.jpeg" ContentType="image/jpeg"/>
  <Override PartName="/ppt/media/image65.jpeg" ContentType="image/jpeg"/>
  <Override PartName="/ppt/media/image8.png" ContentType="image/png"/>
  <Override PartName="/ppt/media/image39.jpeg" ContentType="image/jpeg"/>
  <Override PartName="/ppt/media/image21.jpeg" ContentType="image/jpeg"/>
  <Override PartName="/ppt/media/image16.jpeg" ContentType="image/jpeg"/>
  <Override PartName="/ppt/media/image64.jpeg" ContentType="image/jpeg"/>
  <Override PartName="/ppt/media/image38.jpeg" ContentType="image/jpeg"/>
  <Override PartName="/ppt/media/image20.jpeg" ContentType="image/jpeg"/>
  <Override PartName="/ppt/media/image5.jpeg" ContentType="image/jpeg"/>
  <Override PartName="/ppt/media/image61.png" ContentType="image/png"/>
  <Override PartName="/ppt/media/image15.jpeg" ContentType="image/jpeg"/>
  <Override PartName="/ppt/media/image19.jpeg" ContentType="image/jpeg"/>
  <Override PartName="/ppt/media/image25.png" ContentType="image/png"/>
  <Override PartName="/ppt/media/image63.jpeg" ContentType="image/jpeg"/>
  <Override PartName="/ppt/media/image60.png" ContentType="image/png"/>
  <Override PartName="/ppt/media/image6.jpeg" ContentType="image/jpeg"/>
  <Override PartName="/ppt/media/image14.png" ContentType="image/png"/>
  <Override PartName="/ppt/media/image2.png" ContentType="image/png"/>
  <Override PartName="/ppt/media/image62.png" ContentType="image/png"/>
  <Override PartName="/ppt/media/image28.jpeg" ContentType="image/jpeg"/>
  <Override PartName="/ppt/media/image51.jpeg" ContentType="image/jpeg"/>
  <Override PartName="/ppt/media/image24.png" ContentType="image/png"/>
  <Override PartName="/ppt/media/image18.jpeg" ContentType="image/jpeg"/>
  <Override PartName="/ppt/media/image22.jpeg" ContentType="image/jpeg"/>
  <Override PartName="/ppt/media/image7.jpeg" ContentType="image/jpeg"/>
  <Override PartName="/ppt/media/image1.gif" ContentType="image/gif"/>
  <Override PartName="/ppt/media/image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5.jpeg" ContentType="image/jpeg"/>
  <Override PartName="/ppt/media/image47.png" ContentType="image/png"/>
  <Override PartName="/ppt/media/image36.jpeg" ContentType="image/jpeg"/>
  <Override PartName="/ppt/media/image37.jpeg" ContentType="image/jpeg"/>
  <Override PartName="/ppt/media/image41.jpeg" ContentType="image/jpeg"/>
  <Override PartName="/ppt/media/image55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132-34BC-42D1-8423-9E6E2991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BAF-692C-45D9-A0D5-749A52E8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837-C2E2-4BB5-99C1-33ECBA2D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FC4F-A8FF-452B-A2C1-EB01C646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EEBC-ADF4-4108-A2BF-A3E627E2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87B0-1CA7-43D6-B0AD-A90951CF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531A-A67C-4BE6-A6D2-3A5D7591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28EF-7683-42DB-9429-49F2D5DE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E96E-102A-4384-B43A-98EFD2D1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B29D-F7E4-4E0F-BA47-75DA2476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76F6-39F6-4745-B832-DFCEA8C9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F22-5F27-48AA-855C-4D6F4E24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3415-F63A-4890-AE16-D31DAB13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47DB-A031-4BA1-875C-32F5B13A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4E48-68EF-48BC-B2BB-F308AAF3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3A04-B87D-402F-81D6-E6637867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E00D-2BF2-4BB1-9594-F1DA2E9C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4497-28BA-4A40-BA72-AE7C807A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ABE-7EE8-4AB3-8317-394EB0F7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B30-87F8-458E-822E-D9594138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2DA-AB3F-472C-A4D7-824EF0F2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81C-BFE9-44D4-BF23-FA4DB0A9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77F-798A-407D-A424-971C4042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529-1F60-4BAD-957B-F524E482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39920" indent="-316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1200" indent="-33984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1200" indent="-339840"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1200" indent="-339840"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Copyright Nov. 2002, George Tzanetak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42DE-6E1B-45BF-B31D-02187D8AF5C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Copyright Nov. 2002, George Tzanetak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BEEF-99D1-4783-9003-D4D6B43D0C0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671400" algn="ctr">
              <a:spcBef>
                <a:spcPts val="5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2384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34136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mailto:gtzan@cs.cmu.edu" TargetMode="External"/><Relationship Id="rId5" Type="http://schemas.openxmlformats.org/officeDocument/2006/relationships/hyperlink" Target="http://www.cs.cmu.edu/~gtzan" TargetMode="External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26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27.png"/><Relationship Id="rId8" Type="http://schemas.openxmlformats.org/officeDocument/2006/relationships/image" Target="../media/image43.png"/><Relationship Id="rId9" Type="http://schemas.openxmlformats.org/officeDocument/2006/relationships/image" Target="../media/image43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54.jpeg"/><Relationship Id="rId10" Type="http://schemas.openxmlformats.org/officeDocument/2006/relationships/image" Target="../media/image55.jpeg"/><Relationship Id="rId11" Type="http://schemas.openxmlformats.org/officeDocument/2006/relationships/image" Target="../media/image56.jpe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91440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Digital Music &amp;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Music Processing </a:t>
            </a:r>
            <a:endParaRPr b="0" lang="en-US" sz="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orge Tzanetaki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tDoctoral Fellow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uter Science Departmen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1343160" cy="514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4080" cy="1409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590920" y="0"/>
            <a:ext cx="1857240" cy="514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410080" y="3581280"/>
            <a:ext cx="32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hlinkClick r:id="rId4"/>
              </a:rPr>
              <a:t>gtzan@cs.cmu.ed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hlinkClick r:id="rId5"/>
              </a:rPr>
              <a:t>http://www.cs.cmu.edu/~gtz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Symbolic vs Audio MIR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752480"/>
            <a:ext cx="1523880" cy="457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50440" y="1752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14600"/>
            <a:ext cx="1523880" cy="76212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5880" y="2514600"/>
            <a:ext cx="14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phon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2096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32767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09880"/>
            <a:ext cx="2743200" cy="60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9760" y="3809880"/>
            <a:ext cx="27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mbolic Represen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ID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44197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5680" y="48769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4876920"/>
            <a:ext cx="609840" cy="38088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762120" cy="700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50532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257800" y="1752480"/>
            <a:ext cx="1523880" cy="457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65240" y="1752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2514600"/>
            <a:ext cx="1523880" cy="76212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19080" y="251460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22096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32767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3809880"/>
            <a:ext cx="2743200" cy="60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44197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40480" y="48769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4876920"/>
            <a:ext cx="609840" cy="38088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33160" y="380988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hine Learn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162920" y="1752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44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8019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Feature extraction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1460520" cy="1003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flipV="1">
            <a:off x="1219320" y="182844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80520" y="3505320"/>
            <a:ext cx="83844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35053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955880"/>
            <a:ext cx="3009960" cy="1396800"/>
          </a:xfrm>
          <a:custGeom>
            <a:avLst/>
            <a:gdLst/>
            <a:ahLst/>
            <a:rect l="l" t="t" r="r" b="b"/>
            <a:pathLst>
              <a:path w="1896" h="880">
                <a:moveTo>
                  <a:pt x="0" y="880"/>
                </a:moveTo>
                <a:cubicBezTo>
                  <a:pt x="28" y="748"/>
                  <a:pt x="56" y="616"/>
                  <a:pt x="192" y="592"/>
                </a:cubicBezTo>
                <a:cubicBezTo>
                  <a:pt x="328" y="568"/>
                  <a:pt x="616" y="808"/>
                  <a:pt x="816" y="736"/>
                </a:cubicBezTo>
                <a:cubicBezTo>
                  <a:pt x="1016" y="664"/>
                  <a:pt x="1224" y="280"/>
                  <a:pt x="1392" y="160"/>
                </a:cubicBezTo>
                <a:cubicBezTo>
                  <a:pt x="1560" y="40"/>
                  <a:pt x="1752" y="32"/>
                  <a:pt x="1824" y="16"/>
                </a:cubicBezTo>
                <a:cubicBezTo>
                  <a:pt x="1896" y="0"/>
                  <a:pt x="1860" y="32"/>
                  <a:pt x="1824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19051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981080"/>
            <a:ext cx="685800" cy="381240"/>
          </a:xfrm>
          <a:custGeom>
            <a:avLst/>
            <a:gdLst/>
            <a:ahLst/>
            <a:rect l="l" t="t" r="r" b="b"/>
            <a:pathLst>
              <a:path w="432" h="240">
                <a:moveTo>
                  <a:pt x="0" y="0"/>
                </a:moveTo>
                <a:cubicBezTo>
                  <a:pt x="108" y="4"/>
                  <a:pt x="216" y="8"/>
                  <a:pt x="288" y="48"/>
                </a:cubicBezTo>
                <a:cubicBezTo>
                  <a:pt x="360" y="88"/>
                  <a:pt x="408" y="208"/>
                  <a:pt x="432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886200" y="3505320"/>
            <a:ext cx="127476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Timbral Texture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368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2209680" y="3124080"/>
            <a:ext cx="1676520" cy="1447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83400" y="1523880"/>
            <a:ext cx="74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bre = differentiate sounds of same loudness, p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bral Texture = differentiate mixtures of sounds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0080" y="259092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, statistical and fuzzy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209680" y="457200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019920" y="4581360"/>
            <a:ext cx="1600200" cy="1368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4114800" y="3124080"/>
            <a:ext cx="1676520" cy="1447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4114800" y="457200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6019920" y="312408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73152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2323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Spectrum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62120" y="1371240"/>
            <a:ext cx="0" cy="1676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3048120"/>
            <a:ext cx="25905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981080"/>
            <a:ext cx="2362320" cy="1079640"/>
          </a:xfrm>
          <a:custGeom>
            <a:avLst/>
            <a:gdLst/>
            <a:ahLst/>
            <a:rect l="l" t="t" r="r" b="b"/>
            <a:pathLst>
              <a:path w="1488" h="680">
                <a:moveTo>
                  <a:pt x="0" y="624"/>
                </a:moveTo>
                <a:cubicBezTo>
                  <a:pt x="104" y="312"/>
                  <a:pt x="208" y="0"/>
                  <a:pt x="288" y="0"/>
                </a:cubicBezTo>
                <a:cubicBezTo>
                  <a:pt x="368" y="0"/>
                  <a:pt x="424" y="568"/>
                  <a:pt x="480" y="624"/>
                </a:cubicBezTo>
                <a:cubicBezTo>
                  <a:pt x="536" y="680"/>
                  <a:pt x="576" y="344"/>
                  <a:pt x="624" y="336"/>
                </a:cubicBezTo>
                <a:cubicBezTo>
                  <a:pt x="672" y="328"/>
                  <a:pt x="664" y="560"/>
                  <a:pt x="768" y="576"/>
                </a:cubicBezTo>
                <a:cubicBezTo>
                  <a:pt x="872" y="592"/>
                  <a:pt x="1128" y="432"/>
                  <a:pt x="1248" y="432"/>
                </a:cubicBezTo>
                <a:cubicBezTo>
                  <a:pt x="1368" y="432"/>
                  <a:pt x="1428" y="504"/>
                  <a:pt x="148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4800600"/>
            <a:ext cx="25905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676520" y="3123720"/>
            <a:ext cx="0" cy="1676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3949560"/>
            <a:ext cx="2209680" cy="787680"/>
          </a:xfrm>
          <a:custGeom>
            <a:avLst/>
            <a:gdLst/>
            <a:ahLst/>
            <a:rect l="l" t="t" r="r" b="b"/>
            <a:pathLst>
              <a:path w="1392" h="496">
                <a:moveTo>
                  <a:pt x="0" y="488"/>
                </a:moveTo>
                <a:cubicBezTo>
                  <a:pt x="64" y="252"/>
                  <a:pt x="128" y="16"/>
                  <a:pt x="192" y="8"/>
                </a:cubicBezTo>
                <a:cubicBezTo>
                  <a:pt x="256" y="0"/>
                  <a:pt x="344" y="400"/>
                  <a:pt x="384" y="440"/>
                </a:cubicBezTo>
                <a:cubicBezTo>
                  <a:pt x="424" y="480"/>
                  <a:pt x="400" y="256"/>
                  <a:pt x="432" y="248"/>
                </a:cubicBezTo>
                <a:cubicBezTo>
                  <a:pt x="464" y="240"/>
                  <a:pt x="544" y="392"/>
                  <a:pt x="576" y="392"/>
                </a:cubicBezTo>
                <a:cubicBezTo>
                  <a:pt x="608" y="392"/>
                  <a:pt x="584" y="232"/>
                  <a:pt x="624" y="248"/>
                </a:cubicBezTo>
                <a:cubicBezTo>
                  <a:pt x="664" y="264"/>
                  <a:pt x="776" y="496"/>
                  <a:pt x="816" y="488"/>
                </a:cubicBezTo>
                <a:cubicBezTo>
                  <a:pt x="856" y="480"/>
                  <a:pt x="768" y="200"/>
                  <a:pt x="864" y="200"/>
                </a:cubicBezTo>
                <a:cubicBezTo>
                  <a:pt x="960" y="200"/>
                  <a:pt x="1280" y="440"/>
                  <a:pt x="1392" y="4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58880" y="2932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66640" y="437976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85840" y="3160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6360" y="1295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29242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Fourier Transform 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914400" y="159984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2743200"/>
            <a:ext cx="4648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1650960"/>
            <a:ext cx="914400" cy="1092240"/>
          </a:xfrm>
          <a:custGeom>
            <a:avLst/>
            <a:gdLst/>
            <a:ahLst/>
            <a:rect l="l" t="t" r="r" b="b"/>
            <a:pathLst>
              <a:path w="576" h="688">
                <a:moveTo>
                  <a:pt x="0" y="640"/>
                </a:moveTo>
                <a:cubicBezTo>
                  <a:pt x="48" y="336"/>
                  <a:pt x="96" y="32"/>
                  <a:pt x="144" y="16"/>
                </a:cubicBezTo>
                <a:cubicBezTo>
                  <a:pt x="192" y="0"/>
                  <a:pt x="240" y="496"/>
                  <a:pt x="288" y="544"/>
                </a:cubicBezTo>
                <a:cubicBezTo>
                  <a:pt x="336" y="592"/>
                  <a:pt x="384" y="280"/>
                  <a:pt x="432" y="304"/>
                </a:cubicBezTo>
                <a:cubicBezTo>
                  <a:pt x="480" y="328"/>
                  <a:pt x="528" y="508"/>
                  <a:pt x="576" y="6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1600200"/>
            <a:ext cx="914400" cy="1092240"/>
          </a:xfrm>
          <a:custGeom>
            <a:avLst/>
            <a:gdLst/>
            <a:ahLst/>
            <a:rect l="l" t="t" r="r" b="b"/>
            <a:pathLst>
              <a:path w="576" h="688">
                <a:moveTo>
                  <a:pt x="0" y="640"/>
                </a:moveTo>
                <a:cubicBezTo>
                  <a:pt x="48" y="336"/>
                  <a:pt x="96" y="32"/>
                  <a:pt x="144" y="16"/>
                </a:cubicBezTo>
                <a:cubicBezTo>
                  <a:pt x="192" y="0"/>
                  <a:pt x="240" y="496"/>
                  <a:pt x="288" y="544"/>
                </a:cubicBezTo>
                <a:cubicBezTo>
                  <a:pt x="336" y="592"/>
                  <a:pt x="384" y="280"/>
                  <a:pt x="432" y="304"/>
                </a:cubicBezTo>
                <a:cubicBezTo>
                  <a:pt x="480" y="328"/>
                  <a:pt x="528" y="508"/>
                  <a:pt x="576" y="6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1676520"/>
            <a:ext cx="914400" cy="1092240"/>
          </a:xfrm>
          <a:custGeom>
            <a:avLst/>
            <a:gdLst/>
            <a:ahLst/>
            <a:rect l="l" t="t" r="r" b="b"/>
            <a:pathLst>
              <a:path w="576" h="688">
                <a:moveTo>
                  <a:pt x="0" y="640"/>
                </a:moveTo>
                <a:cubicBezTo>
                  <a:pt x="48" y="336"/>
                  <a:pt x="96" y="32"/>
                  <a:pt x="144" y="16"/>
                </a:cubicBezTo>
                <a:cubicBezTo>
                  <a:pt x="192" y="0"/>
                  <a:pt x="240" y="496"/>
                  <a:pt x="288" y="544"/>
                </a:cubicBezTo>
                <a:cubicBezTo>
                  <a:pt x="336" y="592"/>
                  <a:pt x="384" y="280"/>
                  <a:pt x="432" y="304"/>
                </a:cubicBezTo>
                <a:cubicBezTo>
                  <a:pt x="480" y="328"/>
                  <a:pt x="528" y="508"/>
                  <a:pt x="576" y="6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1676520"/>
            <a:ext cx="914400" cy="1092240"/>
          </a:xfrm>
          <a:custGeom>
            <a:avLst/>
            <a:gdLst/>
            <a:ahLst/>
            <a:rect l="l" t="t" r="r" b="b"/>
            <a:pathLst>
              <a:path w="576" h="688">
                <a:moveTo>
                  <a:pt x="0" y="640"/>
                </a:moveTo>
                <a:cubicBezTo>
                  <a:pt x="48" y="336"/>
                  <a:pt x="96" y="32"/>
                  <a:pt x="144" y="16"/>
                </a:cubicBezTo>
                <a:cubicBezTo>
                  <a:pt x="192" y="0"/>
                  <a:pt x="240" y="496"/>
                  <a:pt x="288" y="544"/>
                </a:cubicBezTo>
                <a:cubicBezTo>
                  <a:pt x="336" y="592"/>
                  <a:pt x="384" y="280"/>
                  <a:pt x="432" y="304"/>
                </a:cubicBezTo>
                <a:cubicBezTo>
                  <a:pt x="480" y="328"/>
                  <a:pt x="528" y="508"/>
                  <a:pt x="576" y="6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914400" y="28951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038480"/>
            <a:ext cx="4648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914400" y="419076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5334120"/>
            <a:ext cx="4648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3276720"/>
            <a:ext cx="4190760" cy="1396800"/>
          </a:xfrm>
          <a:custGeom>
            <a:avLst/>
            <a:gdLst/>
            <a:ahLst/>
            <a:rect l="l" t="t" r="r" b="b"/>
            <a:pathLst>
              <a:path w="2640" h="880">
                <a:moveTo>
                  <a:pt x="0" y="480"/>
                </a:moveTo>
                <a:cubicBezTo>
                  <a:pt x="112" y="240"/>
                  <a:pt x="224" y="0"/>
                  <a:pt x="336" y="0"/>
                </a:cubicBezTo>
                <a:cubicBezTo>
                  <a:pt x="448" y="0"/>
                  <a:pt x="568" y="344"/>
                  <a:pt x="672" y="480"/>
                </a:cubicBezTo>
                <a:cubicBezTo>
                  <a:pt x="776" y="616"/>
                  <a:pt x="864" y="816"/>
                  <a:pt x="960" y="816"/>
                </a:cubicBezTo>
                <a:cubicBezTo>
                  <a:pt x="1056" y="816"/>
                  <a:pt x="1152" y="608"/>
                  <a:pt x="1248" y="480"/>
                </a:cubicBezTo>
                <a:cubicBezTo>
                  <a:pt x="1344" y="352"/>
                  <a:pt x="1424" y="48"/>
                  <a:pt x="1536" y="48"/>
                </a:cubicBezTo>
                <a:cubicBezTo>
                  <a:pt x="1648" y="48"/>
                  <a:pt x="1800" y="352"/>
                  <a:pt x="1920" y="480"/>
                </a:cubicBezTo>
                <a:cubicBezTo>
                  <a:pt x="2040" y="608"/>
                  <a:pt x="2136" y="880"/>
                  <a:pt x="2256" y="816"/>
                </a:cubicBezTo>
                <a:cubicBezTo>
                  <a:pt x="2376" y="752"/>
                  <a:pt x="2576" y="216"/>
                  <a:pt x="2640" y="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4724280"/>
            <a:ext cx="3886200" cy="1079640"/>
          </a:xfrm>
          <a:custGeom>
            <a:avLst/>
            <a:gdLst/>
            <a:ahLst/>
            <a:rect l="l" t="t" r="r" b="b"/>
            <a:pathLst>
              <a:path w="2448" h="680">
                <a:moveTo>
                  <a:pt x="0" y="384"/>
                </a:moveTo>
                <a:cubicBezTo>
                  <a:pt x="84" y="192"/>
                  <a:pt x="168" y="0"/>
                  <a:pt x="240" y="48"/>
                </a:cubicBezTo>
                <a:cubicBezTo>
                  <a:pt x="312" y="96"/>
                  <a:pt x="352" y="664"/>
                  <a:pt x="432" y="672"/>
                </a:cubicBezTo>
                <a:cubicBezTo>
                  <a:pt x="512" y="680"/>
                  <a:pt x="616" y="96"/>
                  <a:pt x="720" y="96"/>
                </a:cubicBezTo>
                <a:cubicBezTo>
                  <a:pt x="824" y="96"/>
                  <a:pt x="952" y="672"/>
                  <a:pt x="1056" y="672"/>
                </a:cubicBezTo>
                <a:cubicBezTo>
                  <a:pt x="1160" y="672"/>
                  <a:pt x="1240" y="96"/>
                  <a:pt x="1344" y="96"/>
                </a:cubicBezTo>
                <a:cubicBezTo>
                  <a:pt x="1448" y="96"/>
                  <a:pt x="1592" y="664"/>
                  <a:pt x="1680" y="672"/>
                </a:cubicBezTo>
                <a:cubicBezTo>
                  <a:pt x="1768" y="680"/>
                  <a:pt x="1784" y="152"/>
                  <a:pt x="1872" y="144"/>
                </a:cubicBezTo>
                <a:cubicBezTo>
                  <a:pt x="1960" y="136"/>
                  <a:pt x="2112" y="624"/>
                  <a:pt x="2208" y="624"/>
                </a:cubicBezTo>
                <a:cubicBezTo>
                  <a:pt x="2304" y="624"/>
                  <a:pt x="2352" y="144"/>
                  <a:pt x="2448" y="1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5680" y="10666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=1/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1523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248520" y="533520"/>
            <a:ext cx="11430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Short Time Fourier Transform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4194000" y="1447920"/>
            <a:ext cx="32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FT Filterbank interpre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2438280"/>
            <a:ext cx="533160" cy="381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2971800"/>
            <a:ext cx="53316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3505320"/>
            <a:ext cx="53316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4648320"/>
            <a:ext cx="53316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4038480"/>
            <a:ext cx="533160" cy="381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2438280"/>
            <a:ext cx="533520" cy="381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971800"/>
            <a:ext cx="53352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3505320"/>
            <a:ext cx="53352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4648320"/>
            <a:ext cx="53352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57600" y="4038480"/>
            <a:ext cx="533520" cy="381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2590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32004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3733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41911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48006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25909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3733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25909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3200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37339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1911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3828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3505320"/>
            <a:ext cx="609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57800" y="36576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590920"/>
            <a:ext cx="10666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312408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37339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191120" y="3809520"/>
            <a:ext cx="99036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191120" y="3886200"/>
            <a:ext cx="99036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54280" y="51814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55200" y="51814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scill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41160" y="213372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40800" y="25909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657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64680" y="32367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Short Time Fourier Transform II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828800"/>
            <a:ext cx="556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1523880"/>
            <a:ext cx="735120" cy="490680"/>
          </a:xfrm>
          <a:custGeom>
            <a:avLst/>
            <a:gdLst/>
            <a:ahLst/>
            <a:rect l="l" t="t" r="r" b="b"/>
            <a:pathLst>
              <a:path w="463" h="309">
                <a:moveTo>
                  <a:pt x="0" y="152"/>
                </a:moveTo>
                <a:cubicBezTo>
                  <a:pt x="10" y="122"/>
                  <a:pt x="38" y="111"/>
                  <a:pt x="61" y="91"/>
                </a:cubicBezTo>
                <a:cubicBezTo>
                  <a:pt x="74" y="80"/>
                  <a:pt x="97" y="55"/>
                  <a:pt x="97" y="55"/>
                </a:cubicBezTo>
                <a:cubicBezTo>
                  <a:pt x="103" y="35"/>
                  <a:pt x="114" y="20"/>
                  <a:pt x="121" y="0"/>
                </a:cubicBezTo>
                <a:cubicBezTo>
                  <a:pt x="161" y="30"/>
                  <a:pt x="183" y="70"/>
                  <a:pt x="212" y="109"/>
                </a:cubicBezTo>
                <a:cubicBezTo>
                  <a:pt x="214" y="115"/>
                  <a:pt x="215" y="121"/>
                  <a:pt x="218" y="127"/>
                </a:cubicBezTo>
                <a:cubicBezTo>
                  <a:pt x="221" y="134"/>
                  <a:pt x="227" y="139"/>
                  <a:pt x="230" y="146"/>
                </a:cubicBezTo>
                <a:cubicBezTo>
                  <a:pt x="250" y="203"/>
                  <a:pt x="253" y="240"/>
                  <a:pt x="291" y="291"/>
                </a:cubicBezTo>
                <a:cubicBezTo>
                  <a:pt x="293" y="297"/>
                  <a:pt x="291" y="309"/>
                  <a:pt x="297" y="309"/>
                </a:cubicBezTo>
                <a:cubicBezTo>
                  <a:pt x="300" y="309"/>
                  <a:pt x="304" y="284"/>
                  <a:pt x="309" y="267"/>
                </a:cubicBezTo>
                <a:cubicBezTo>
                  <a:pt x="317" y="239"/>
                  <a:pt x="318" y="245"/>
                  <a:pt x="339" y="212"/>
                </a:cubicBezTo>
                <a:cubicBezTo>
                  <a:pt x="345" y="202"/>
                  <a:pt x="356" y="197"/>
                  <a:pt x="364" y="188"/>
                </a:cubicBezTo>
                <a:cubicBezTo>
                  <a:pt x="387" y="162"/>
                  <a:pt x="403" y="130"/>
                  <a:pt x="424" y="103"/>
                </a:cubicBezTo>
                <a:cubicBezTo>
                  <a:pt x="463" y="53"/>
                  <a:pt x="439" y="98"/>
                  <a:pt x="455" y="6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371600"/>
            <a:ext cx="1222200" cy="644400"/>
          </a:xfrm>
          <a:custGeom>
            <a:avLst/>
            <a:gdLst/>
            <a:ahLst/>
            <a:rect l="l" t="t" r="r" b="b"/>
            <a:pathLst>
              <a:path w="770" h="406">
                <a:moveTo>
                  <a:pt x="0" y="145"/>
                </a:moveTo>
                <a:cubicBezTo>
                  <a:pt x="12" y="196"/>
                  <a:pt x="45" y="239"/>
                  <a:pt x="54" y="291"/>
                </a:cubicBezTo>
                <a:cubicBezTo>
                  <a:pt x="69" y="374"/>
                  <a:pt x="60" y="335"/>
                  <a:pt x="79" y="406"/>
                </a:cubicBezTo>
                <a:cubicBezTo>
                  <a:pt x="91" y="381"/>
                  <a:pt x="96" y="365"/>
                  <a:pt x="115" y="345"/>
                </a:cubicBezTo>
                <a:cubicBezTo>
                  <a:pt x="123" y="322"/>
                  <a:pt x="141" y="313"/>
                  <a:pt x="151" y="291"/>
                </a:cubicBezTo>
                <a:cubicBezTo>
                  <a:pt x="188" y="212"/>
                  <a:pt x="156" y="250"/>
                  <a:pt x="200" y="206"/>
                </a:cubicBezTo>
                <a:cubicBezTo>
                  <a:pt x="220" y="156"/>
                  <a:pt x="244" y="109"/>
                  <a:pt x="266" y="60"/>
                </a:cubicBezTo>
                <a:cubicBezTo>
                  <a:pt x="277" y="36"/>
                  <a:pt x="315" y="0"/>
                  <a:pt x="315" y="0"/>
                </a:cubicBezTo>
                <a:cubicBezTo>
                  <a:pt x="327" y="30"/>
                  <a:pt x="332" y="53"/>
                  <a:pt x="351" y="79"/>
                </a:cubicBezTo>
                <a:cubicBezTo>
                  <a:pt x="374" y="148"/>
                  <a:pt x="405" y="226"/>
                  <a:pt x="448" y="285"/>
                </a:cubicBezTo>
                <a:cubicBezTo>
                  <a:pt x="455" y="332"/>
                  <a:pt x="457" y="324"/>
                  <a:pt x="479" y="357"/>
                </a:cubicBezTo>
                <a:cubicBezTo>
                  <a:pt x="511" y="336"/>
                  <a:pt x="530" y="281"/>
                  <a:pt x="551" y="248"/>
                </a:cubicBezTo>
                <a:cubicBezTo>
                  <a:pt x="559" y="216"/>
                  <a:pt x="564" y="209"/>
                  <a:pt x="594" y="194"/>
                </a:cubicBezTo>
                <a:cubicBezTo>
                  <a:pt x="648" y="208"/>
                  <a:pt x="626" y="201"/>
                  <a:pt x="661" y="212"/>
                </a:cubicBezTo>
                <a:cubicBezTo>
                  <a:pt x="667" y="218"/>
                  <a:pt x="675" y="223"/>
                  <a:pt x="679" y="230"/>
                </a:cubicBezTo>
                <a:cubicBezTo>
                  <a:pt x="685" y="241"/>
                  <a:pt x="683" y="257"/>
                  <a:pt x="691" y="267"/>
                </a:cubicBezTo>
                <a:cubicBezTo>
                  <a:pt x="698" y="275"/>
                  <a:pt x="712" y="274"/>
                  <a:pt x="721" y="279"/>
                </a:cubicBezTo>
                <a:cubicBezTo>
                  <a:pt x="743" y="291"/>
                  <a:pt x="753" y="310"/>
                  <a:pt x="770" y="32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66880" y="1676520"/>
            <a:ext cx="735120" cy="490320"/>
          </a:xfrm>
          <a:custGeom>
            <a:avLst/>
            <a:gdLst/>
            <a:ahLst/>
            <a:rect l="l" t="t" r="r" b="b"/>
            <a:pathLst>
              <a:path w="463" h="309">
                <a:moveTo>
                  <a:pt x="0" y="152"/>
                </a:moveTo>
                <a:cubicBezTo>
                  <a:pt x="10" y="122"/>
                  <a:pt x="38" y="111"/>
                  <a:pt x="61" y="91"/>
                </a:cubicBezTo>
                <a:cubicBezTo>
                  <a:pt x="74" y="80"/>
                  <a:pt x="97" y="55"/>
                  <a:pt x="97" y="55"/>
                </a:cubicBezTo>
                <a:cubicBezTo>
                  <a:pt x="103" y="35"/>
                  <a:pt x="114" y="20"/>
                  <a:pt x="121" y="0"/>
                </a:cubicBezTo>
                <a:cubicBezTo>
                  <a:pt x="161" y="30"/>
                  <a:pt x="183" y="70"/>
                  <a:pt x="212" y="109"/>
                </a:cubicBezTo>
                <a:cubicBezTo>
                  <a:pt x="214" y="115"/>
                  <a:pt x="215" y="121"/>
                  <a:pt x="218" y="127"/>
                </a:cubicBezTo>
                <a:cubicBezTo>
                  <a:pt x="221" y="134"/>
                  <a:pt x="227" y="139"/>
                  <a:pt x="230" y="146"/>
                </a:cubicBezTo>
                <a:cubicBezTo>
                  <a:pt x="250" y="203"/>
                  <a:pt x="253" y="240"/>
                  <a:pt x="291" y="291"/>
                </a:cubicBezTo>
                <a:cubicBezTo>
                  <a:pt x="293" y="297"/>
                  <a:pt x="291" y="309"/>
                  <a:pt x="297" y="309"/>
                </a:cubicBezTo>
                <a:cubicBezTo>
                  <a:pt x="300" y="309"/>
                  <a:pt x="304" y="284"/>
                  <a:pt x="309" y="267"/>
                </a:cubicBezTo>
                <a:cubicBezTo>
                  <a:pt x="317" y="239"/>
                  <a:pt x="318" y="245"/>
                  <a:pt x="339" y="212"/>
                </a:cubicBezTo>
                <a:cubicBezTo>
                  <a:pt x="345" y="202"/>
                  <a:pt x="356" y="197"/>
                  <a:pt x="364" y="188"/>
                </a:cubicBezTo>
                <a:cubicBezTo>
                  <a:pt x="387" y="162"/>
                  <a:pt x="403" y="130"/>
                  <a:pt x="424" y="103"/>
                </a:cubicBezTo>
                <a:cubicBezTo>
                  <a:pt x="463" y="53"/>
                  <a:pt x="439" y="98"/>
                  <a:pt x="455" y="6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523880"/>
            <a:ext cx="1222200" cy="644760"/>
          </a:xfrm>
          <a:custGeom>
            <a:avLst/>
            <a:gdLst/>
            <a:ahLst/>
            <a:rect l="l" t="t" r="r" b="b"/>
            <a:pathLst>
              <a:path w="770" h="406">
                <a:moveTo>
                  <a:pt x="0" y="145"/>
                </a:moveTo>
                <a:cubicBezTo>
                  <a:pt x="12" y="196"/>
                  <a:pt x="45" y="239"/>
                  <a:pt x="54" y="291"/>
                </a:cubicBezTo>
                <a:cubicBezTo>
                  <a:pt x="69" y="374"/>
                  <a:pt x="60" y="335"/>
                  <a:pt x="79" y="406"/>
                </a:cubicBezTo>
                <a:cubicBezTo>
                  <a:pt x="91" y="381"/>
                  <a:pt x="96" y="365"/>
                  <a:pt x="115" y="345"/>
                </a:cubicBezTo>
                <a:cubicBezTo>
                  <a:pt x="123" y="322"/>
                  <a:pt x="141" y="313"/>
                  <a:pt x="151" y="291"/>
                </a:cubicBezTo>
                <a:cubicBezTo>
                  <a:pt x="188" y="212"/>
                  <a:pt x="156" y="250"/>
                  <a:pt x="200" y="206"/>
                </a:cubicBezTo>
                <a:cubicBezTo>
                  <a:pt x="220" y="156"/>
                  <a:pt x="244" y="109"/>
                  <a:pt x="266" y="60"/>
                </a:cubicBezTo>
                <a:cubicBezTo>
                  <a:pt x="277" y="36"/>
                  <a:pt x="315" y="0"/>
                  <a:pt x="315" y="0"/>
                </a:cubicBezTo>
                <a:cubicBezTo>
                  <a:pt x="327" y="30"/>
                  <a:pt x="332" y="53"/>
                  <a:pt x="351" y="79"/>
                </a:cubicBezTo>
                <a:cubicBezTo>
                  <a:pt x="374" y="148"/>
                  <a:pt x="405" y="226"/>
                  <a:pt x="448" y="285"/>
                </a:cubicBezTo>
                <a:cubicBezTo>
                  <a:pt x="455" y="332"/>
                  <a:pt x="457" y="324"/>
                  <a:pt x="479" y="357"/>
                </a:cubicBezTo>
                <a:cubicBezTo>
                  <a:pt x="511" y="336"/>
                  <a:pt x="530" y="281"/>
                  <a:pt x="551" y="248"/>
                </a:cubicBezTo>
                <a:cubicBezTo>
                  <a:pt x="559" y="216"/>
                  <a:pt x="564" y="209"/>
                  <a:pt x="594" y="194"/>
                </a:cubicBezTo>
                <a:cubicBezTo>
                  <a:pt x="648" y="208"/>
                  <a:pt x="626" y="201"/>
                  <a:pt x="661" y="212"/>
                </a:cubicBezTo>
                <a:cubicBezTo>
                  <a:pt x="667" y="218"/>
                  <a:pt x="675" y="223"/>
                  <a:pt x="679" y="230"/>
                </a:cubicBezTo>
                <a:cubicBezTo>
                  <a:pt x="685" y="241"/>
                  <a:pt x="683" y="257"/>
                  <a:pt x="691" y="267"/>
                </a:cubicBezTo>
                <a:cubicBezTo>
                  <a:pt x="698" y="275"/>
                  <a:pt x="712" y="274"/>
                  <a:pt x="721" y="279"/>
                </a:cubicBezTo>
                <a:cubicBezTo>
                  <a:pt x="743" y="291"/>
                  <a:pt x="753" y="310"/>
                  <a:pt x="770" y="32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32004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8436200">
            <a:off x="599400" y="2947320"/>
            <a:ext cx="1961280" cy="106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0124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01244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67040" y="2666880"/>
            <a:ext cx="18280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2743200"/>
            <a:ext cx="735120" cy="490680"/>
          </a:xfrm>
          <a:custGeom>
            <a:avLst/>
            <a:gdLst/>
            <a:ahLst/>
            <a:rect l="l" t="t" r="r" b="b"/>
            <a:pathLst>
              <a:path w="463" h="309">
                <a:moveTo>
                  <a:pt x="0" y="152"/>
                </a:moveTo>
                <a:cubicBezTo>
                  <a:pt x="10" y="122"/>
                  <a:pt x="38" y="111"/>
                  <a:pt x="61" y="91"/>
                </a:cubicBezTo>
                <a:cubicBezTo>
                  <a:pt x="74" y="80"/>
                  <a:pt x="97" y="55"/>
                  <a:pt x="97" y="55"/>
                </a:cubicBezTo>
                <a:cubicBezTo>
                  <a:pt x="103" y="35"/>
                  <a:pt x="114" y="20"/>
                  <a:pt x="121" y="0"/>
                </a:cubicBezTo>
                <a:cubicBezTo>
                  <a:pt x="161" y="30"/>
                  <a:pt x="183" y="70"/>
                  <a:pt x="212" y="109"/>
                </a:cubicBezTo>
                <a:cubicBezTo>
                  <a:pt x="214" y="115"/>
                  <a:pt x="215" y="121"/>
                  <a:pt x="218" y="127"/>
                </a:cubicBezTo>
                <a:cubicBezTo>
                  <a:pt x="221" y="134"/>
                  <a:pt x="227" y="139"/>
                  <a:pt x="230" y="146"/>
                </a:cubicBezTo>
                <a:cubicBezTo>
                  <a:pt x="250" y="203"/>
                  <a:pt x="253" y="240"/>
                  <a:pt x="291" y="291"/>
                </a:cubicBezTo>
                <a:cubicBezTo>
                  <a:pt x="293" y="297"/>
                  <a:pt x="291" y="309"/>
                  <a:pt x="297" y="309"/>
                </a:cubicBezTo>
                <a:cubicBezTo>
                  <a:pt x="300" y="309"/>
                  <a:pt x="304" y="284"/>
                  <a:pt x="309" y="267"/>
                </a:cubicBezTo>
                <a:cubicBezTo>
                  <a:pt x="317" y="239"/>
                  <a:pt x="318" y="245"/>
                  <a:pt x="339" y="212"/>
                </a:cubicBezTo>
                <a:cubicBezTo>
                  <a:pt x="345" y="202"/>
                  <a:pt x="356" y="197"/>
                  <a:pt x="364" y="188"/>
                </a:cubicBezTo>
                <a:cubicBezTo>
                  <a:pt x="387" y="162"/>
                  <a:pt x="403" y="130"/>
                  <a:pt x="424" y="103"/>
                </a:cubicBezTo>
                <a:cubicBezTo>
                  <a:pt x="463" y="53"/>
                  <a:pt x="439" y="98"/>
                  <a:pt x="455" y="6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7400" y="2743200"/>
            <a:ext cx="857160" cy="457200"/>
          </a:xfrm>
          <a:custGeom>
            <a:avLst/>
            <a:gdLst/>
            <a:ahLst/>
            <a:rect l="l" t="t" r="r" b="b"/>
            <a:pathLst>
              <a:path w="540" h="288">
                <a:moveTo>
                  <a:pt x="0" y="103"/>
                </a:moveTo>
                <a:cubicBezTo>
                  <a:pt x="12" y="139"/>
                  <a:pt x="45" y="170"/>
                  <a:pt x="54" y="206"/>
                </a:cubicBezTo>
                <a:cubicBezTo>
                  <a:pt x="69" y="265"/>
                  <a:pt x="60" y="238"/>
                  <a:pt x="79" y="288"/>
                </a:cubicBezTo>
                <a:cubicBezTo>
                  <a:pt x="91" y="270"/>
                  <a:pt x="96" y="259"/>
                  <a:pt x="115" y="245"/>
                </a:cubicBezTo>
                <a:cubicBezTo>
                  <a:pt x="123" y="228"/>
                  <a:pt x="141" y="222"/>
                  <a:pt x="151" y="206"/>
                </a:cubicBezTo>
                <a:cubicBezTo>
                  <a:pt x="188" y="150"/>
                  <a:pt x="156" y="177"/>
                  <a:pt x="200" y="146"/>
                </a:cubicBezTo>
                <a:cubicBezTo>
                  <a:pt x="220" y="111"/>
                  <a:pt x="244" y="77"/>
                  <a:pt x="266" y="43"/>
                </a:cubicBezTo>
                <a:cubicBezTo>
                  <a:pt x="277" y="26"/>
                  <a:pt x="315" y="0"/>
                  <a:pt x="315" y="0"/>
                </a:cubicBezTo>
                <a:cubicBezTo>
                  <a:pt x="327" y="21"/>
                  <a:pt x="332" y="38"/>
                  <a:pt x="351" y="56"/>
                </a:cubicBezTo>
                <a:cubicBezTo>
                  <a:pt x="374" y="105"/>
                  <a:pt x="405" y="160"/>
                  <a:pt x="448" y="202"/>
                </a:cubicBezTo>
                <a:cubicBezTo>
                  <a:pt x="455" y="236"/>
                  <a:pt x="457" y="230"/>
                  <a:pt x="479" y="253"/>
                </a:cubicBezTo>
                <a:cubicBezTo>
                  <a:pt x="511" y="238"/>
                  <a:pt x="440" y="282"/>
                  <a:pt x="461" y="259"/>
                </a:cubicBezTo>
                <a:cubicBezTo>
                  <a:pt x="469" y="236"/>
                  <a:pt x="456" y="251"/>
                  <a:pt x="486" y="241"/>
                </a:cubicBezTo>
                <a:cubicBezTo>
                  <a:pt x="540" y="251"/>
                  <a:pt x="469" y="240"/>
                  <a:pt x="504" y="247"/>
                </a:cubicBezTo>
                <a:cubicBezTo>
                  <a:pt x="510" y="252"/>
                  <a:pt x="469" y="236"/>
                  <a:pt x="473" y="241"/>
                </a:cubicBezTo>
                <a:cubicBezTo>
                  <a:pt x="479" y="249"/>
                  <a:pt x="471" y="264"/>
                  <a:pt x="479" y="271"/>
                </a:cubicBezTo>
                <a:cubicBezTo>
                  <a:pt x="486" y="277"/>
                  <a:pt x="452" y="249"/>
                  <a:pt x="461" y="253"/>
                </a:cubicBezTo>
                <a:cubicBezTo>
                  <a:pt x="483" y="261"/>
                  <a:pt x="462" y="253"/>
                  <a:pt x="479" y="26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7400" y="48006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36200">
            <a:off x="1513800" y="4547520"/>
            <a:ext cx="1961280" cy="106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0124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01244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81440" y="4267080"/>
            <a:ext cx="18280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09680" y="4419720"/>
            <a:ext cx="735120" cy="388800"/>
          </a:xfrm>
          <a:custGeom>
            <a:avLst/>
            <a:gdLst/>
            <a:ahLst/>
            <a:rect l="l" t="t" r="r" b="b"/>
            <a:pathLst>
              <a:path w="463" h="245">
                <a:moveTo>
                  <a:pt x="0" y="152"/>
                </a:moveTo>
                <a:cubicBezTo>
                  <a:pt x="10" y="122"/>
                  <a:pt x="38" y="111"/>
                  <a:pt x="61" y="91"/>
                </a:cubicBezTo>
                <a:cubicBezTo>
                  <a:pt x="74" y="80"/>
                  <a:pt x="97" y="55"/>
                  <a:pt x="97" y="55"/>
                </a:cubicBezTo>
                <a:cubicBezTo>
                  <a:pt x="103" y="35"/>
                  <a:pt x="114" y="20"/>
                  <a:pt x="121" y="0"/>
                </a:cubicBezTo>
                <a:cubicBezTo>
                  <a:pt x="161" y="30"/>
                  <a:pt x="183" y="70"/>
                  <a:pt x="212" y="109"/>
                </a:cubicBezTo>
                <a:cubicBezTo>
                  <a:pt x="214" y="115"/>
                  <a:pt x="215" y="121"/>
                  <a:pt x="218" y="127"/>
                </a:cubicBezTo>
                <a:cubicBezTo>
                  <a:pt x="221" y="134"/>
                  <a:pt x="227" y="139"/>
                  <a:pt x="230" y="146"/>
                </a:cubicBezTo>
                <a:cubicBezTo>
                  <a:pt x="250" y="203"/>
                  <a:pt x="254" y="116"/>
                  <a:pt x="292" y="167"/>
                </a:cubicBezTo>
                <a:cubicBezTo>
                  <a:pt x="294" y="173"/>
                  <a:pt x="304" y="234"/>
                  <a:pt x="310" y="234"/>
                </a:cubicBezTo>
                <a:cubicBezTo>
                  <a:pt x="313" y="234"/>
                  <a:pt x="341" y="202"/>
                  <a:pt x="346" y="185"/>
                </a:cubicBezTo>
                <a:cubicBezTo>
                  <a:pt x="354" y="157"/>
                  <a:pt x="318" y="245"/>
                  <a:pt x="339" y="212"/>
                </a:cubicBezTo>
                <a:cubicBezTo>
                  <a:pt x="345" y="202"/>
                  <a:pt x="356" y="197"/>
                  <a:pt x="364" y="188"/>
                </a:cubicBezTo>
                <a:cubicBezTo>
                  <a:pt x="387" y="162"/>
                  <a:pt x="403" y="130"/>
                  <a:pt x="424" y="103"/>
                </a:cubicBezTo>
                <a:cubicBezTo>
                  <a:pt x="463" y="53"/>
                  <a:pt x="439" y="98"/>
                  <a:pt x="455" y="6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95480" y="4343400"/>
            <a:ext cx="857520" cy="457200"/>
          </a:xfrm>
          <a:custGeom>
            <a:avLst/>
            <a:gdLst/>
            <a:ahLst/>
            <a:rect l="l" t="t" r="r" b="b"/>
            <a:pathLst>
              <a:path w="540" h="288">
                <a:moveTo>
                  <a:pt x="0" y="103"/>
                </a:moveTo>
                <a:cubicBezTo>
                  <a:pt x="12" y="139"/>
                  <a:pt x="45" y="170"/>
                  <a:pt x="54" y="206"/>
                </a:cubicBezTo>
                <a:cubicBezTo>
                  <a:pt x="69" y="265"/>
                  <a:pt x="60" y="238"/>
                  <a:pt x="79" y="288"/>
                </a:cubicBezTo>
                <a:cubicBezTo>
                  <a:pt x="91" y="270"/>
                  <a:pt x="96" y="259"/>
                  <a:pt x="115" y="245"/>
                </a:cubicBezTo>
                <a:cubicBezTo>
                  <a:pt x="123" y="228"/>
                  <a:pt x="141" y="222"/>
                  <a:pt x="151" y="206"/>
                </a:cubicBezTo>
                <a:cubicBezTo>
                  <a:pt x="188" y="150"/>
                  <a:pt x="156" y="177"/>
                  <a:pt x="200" y="146"/>
                </a:cubicBezTo>
                <a:cubicBezTo>
                  <a:pt x="220" y="111"/>
                  <a:pt x="244" y="77"/>
                  <a:pt x="266" y="43"/>
                </a:cubicBezTo>
                <a:cubicBezTo>
                  <a:pt x="277" y="26"/>
                  <a:pt x="315" y="0"/>
                  <a:pt x="315" y="0"/>
                </a:cubicBezTo>
                <a:cubicBezTo>
                  <a:pt x="327" y="21"/>
                  <a:pt x="332" y="38"/>
                  <a:pt x="351" y="56"/>
                </a:cubicBezTo>
                <a:cubicBezTo>
                  <a:pt x="374" y="105"/>
                  <a:pt x="405" y="160"/>
                  <a:pt x="448" y="202"/>
                </a:cubicBezTo>
                <a:cubicBezTo>
                  <a:pt x="455" y="236"/>
                  <a:pt x="457" y="230"/>
                  <a:pt x="479" y="253"/>
                </a:cubicBezTo>
                <a:cubicBezTo>
                  <a:pt x="511" y="238"/>
                  <a:pt x="440" y="282"/>
                  <a:pt x="461" y="259"/>
                </a:cubicBezTo>
                <a:cubicBezTo>
                  <a:pt x="469" y="236"/>
                  <a:pt x="456" y="251"/>
                  <a:pt x="486" y="241"/>
                </a:cubicBezTo>
                <a:cubicBezTo>
                  <a:pt x="540" y="251"/>
                  <a:pt x="469" y="240"/>
                  <a:pt x="504" y="247"/>
                </a:cubicBezTo>
                <a:cubicBezTo>
                  <a:pt x="510" y="252"/>
                  <a:pt x="469" y="236"/>
                  <a:pt x="473" y="241"/>
                </a:cubicBezTo>
                <a:cubicBezTo>
                  <a:pt x="479" y="249"/>
                  <a:pt x="471" y="264"/>
                  <a:pt x="479" y="271"/>
                </a:cubicBezTo>
                <a:cubicBezTo>
                  <a:pt x="486" y="277"/>
                  <a:pt x="452" y="249"/>
                  <a:pt x="461" y="253"/>
                </a:cubicBezTo>
                <a:cubicBezTo>
                  <a:pt x="483" y="261"/>
                  <a:pt x="462" y="253"/>
                  <a:pt x="479" y="26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4120" y="2133720"/>
            <a:ext cx="0" cy="16761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4120" y="3809880"/>
            <a:ext cx="25905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2743200"/>
            <a:ext cx="2362320" cy="1079640"/>
          </a:xfrm>
          <a:custGeom>
            <a:avLst/>
            <a:gdLst/>
            <a:ahLst/>
            <a:rect l="l" t="t" r="r" b="b"/>
            <a:pathLst>
              <a:path w="1488" h="680">
                <a:moveTo>
                  <a:pt x="0" y="624"/>
                </a:moveTo>
                <a:cubicBezTo>
                  <a:pt x="104" y="312"/>
                  <a:pt x="208" y="0"/>
                  <a:pt x="288" y="0"/>
                </a:cubicBezTo>
                <a:cubicBezTo>
                  <a:pt x="368" y="0"/>
                  <a:pt x="424" y="568"/>
                  <a:pt x="480" y="624"/>
                </a:cubicBezTo>
                <a:cubicBezTo>
                  <a:pt x="536" y="680"/>
                  <a:pt x="576" y="344"/>
                  <a:pt x="624" y="336"/>
                </a:cubicBezTo>
                <a:cubicBezTo>
                  <a:pt x="672" y="328"/>
                  <a:pt x="664" y="560"/>
                  <a:pt x="768" y="576"/>
                </a:cubicBezTo>
                <a:cubicBezTo>
                  <a:pt x="872" y="592"/>
                  <a:pt x="1128" y="432"/>
                  <a:pt x="1248" y="432"/>
                </a:cubicBezTo>
                <a:cubicBezTo>
                  <a:pt x="1368" y="432"/>
                  <a:pt x="1428" y="504"/>
                  <a:pt x="148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05520" y="5562720"/>
            <a:ext cx="25905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105520" y="3885840"/>
            <a:ext cx="0" cy="1676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4711680"/>
            <a:ext cx="2209680" cy="787320"/>
          </a:xfrm>
          <a:custGeom>
            <a:avLst/>
            <a:gdLst/>
            <a:ahLst/>
            <a:rect l="l" t="t" r="r" b="b"/>
            <a:pathLst>
              <a:path w="1392" h="496">
                <a:moveTo>
                  <a:pt x="0" y="488"/>
                </a:moveTo>
                <a:cubicBezTo>
                  <a:pt x="64" y="252"/>
                  <a:pt x="128" y="16"/>
                  <a:pt x="192" y="8"/>
                </a:cubicBezTo>
                <a:cubicBezTo>
                  <a:pt x="256" y="0"/>
                  <a:pt x="344" y="400"/>
                  <a:pt x="384" y="440"/>
                </a:cubicBezTo>
                <a:cubicBezTo>
                  <a:pt x="424" y="480"/>
                  <a:pt x="400" y="256"/>
                  <a:pt x="432" y="248"/>
                </a:cubicBezTo>
                <a:cubicBezTo>
                  <a:pt x="464" y="240"/>
                  <a:pt x="544" y="392"/>
                  <a:pt x="576" y="392"/>
                </a:cubicBezTo>
                <a:cubicBezTo>
                  <a:pt x="608" y="392"/>
                  <a:pt x="584" y="232"/>
                  <a:pt x="624" y="248"/>
                </a:cubicBezTo>
                <a:cubicBezTo>
                  <a:pt x="664" y="264"/>
                  <a:pt x="776" y="496"/>
                  <a:pt x="816" y="488"/>
                </a:cubicBezTo>
                <a:cubicBezTo>
                  <a:pt x="856" y="480"/>
                  <a:pt x="768" y="200"/>
                  <a:pt x="864" y="200"/>
                </a:cubicBezTo>
                <a:cubicBezTo>
                  <a:pt x="960" y="200"/>
                  <a:pt x="1280" y="440"/>
                  <a:pt x="1392" y="4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030880" y="369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95640" y="514188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14840" y="3922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02400" y="21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30481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4648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Formants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295280" cy="15620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5867280" cy="2671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85200" y="5029200"/>
            <a:ext cx="576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“Real Time Synthesis for Interactive Application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.Cook, A.K Peters Press, used by per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701028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2933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Linear Prediction Coefficients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990720" cy="8841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57200" y="2438280"/>
            <a:ext cx="1676520" cy="457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7080" y="247500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ulses @ f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3276720"/>
            <a:ext cx="1676520" cy="457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3720" y="33130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2666880"/>
            <a:ext cx="2590560" cy="1143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71800" y="297180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2819520"/>
            <a:ext cx="30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71800" y="312408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3276720"/>
            <a:ext cx="30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297180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28195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31240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33720" y="2666880"/>
            <a:ext cx="60948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0" y="2666880"/>
            <a:ext cx="304920" cy="60984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192" y="0"/>
                </a:moveTo>
                <a:cubicBezTo>
                  <a:pt x="96" y="88"/>
                  <a:pt x="0" y="176"/>
                  <a:pt x="0" y="240"/>
                </a:cubicBezTo>
                <a:cubicBezTo>
                  <a:pt x="0" y="304"/>
                  <a:pt x="96" y="344"/>
                  <a:pt x="192" y="38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28195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31240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312408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86200" y="274320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6200" y="312408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274320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33526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274320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43400" y="274320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320040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343400" y="289548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320040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48320" y="2895480"/>
            <a:ext cx="0" cy="76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3124080"/>
            <a:ext cx="0" cy="76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2971800"/>
            <a:ext cx="30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3124080"/>
            <a:ext cx="30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4640" y="40384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83440" y="40384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410080" y="312408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867280" y="2666520"/>
            <a:ext cx="0" cy="838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67280" y="350532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43600" y="3035160"/>
            <a:ext cx="685800" cy="432000"/>
          </a:xfrm>
          <a:custGeom>
            <a:avLst/>
            <a:gdLst/>
            <a:ahLst/>
            <a:rect l="l" t="t" r="r" b="b"/>
            <a:pathLst>
              <a:path w="432" h="272">
                <a:moveTo>
                  <a:pt x="0" y="248"/>
                </a:moveTo>
                <a:cubicBezTo>
                  <a:pt x="36" y="180"/>
                  <a:pt x="72" y="112"/>
                  <a:pt x="96" y="104"/>
                </a:cubicBezTo>
                <a:cubicBezTo>
                  <a:pt x="120" y="96"/>
                  <a:pt x="128" y="216"/>
                  <a:pt x="144" y="200"/>
                </a:cubicBezTo>
                <a:cubicBezTo>
                  <a:pt x="160" y="184"/>
                  <a:pt x="168" y="0"/>
                  <a:pt x="192" y="8"/>
                </a:cubicBezTo>
                <a:cubicBezTo>
                  <a:pt x="216" y="16"/>
                  <a:pt x="264" y="224"/>
                  <a:pt x="288" y="248"/>
                </a:cubicBezTo>
                <a:cubicBezTo>
                  <a:pt x="312" y="272"/>
                  <a:pt x="320" y="160"/>
                  <a:pt x="336" y="152"/>
                </a:cubicBezTo>
                <a:cubicBezTo>
                  <a:pt x="352" y="144"/>
                  <a:pt x="368" y="224"/>
                  <a:pt x="384" y="200"/>
                </a:cubicBezTo>
                <a:cubicBezTo>
                  <a:pt x="400" y="176"/>
                  <a:pt x="416" y="92"/>
                  <a:pt x="432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0" y="3048120"/>
            <a:ext cx="685800" cy="431640"/>
          </a:xfrm>
          <a:custGeom>
            <a:avLst/>
            <a:gdLst/>
            <a:ahLst/>
            <a:rect l="l" t="t" r="r" b="b"/>
            <a:pathLst>
              <a:path w="432" h="272">
                <a:moveTo>
                  <a:pt x="0" y="248"/>
                </a:moveTo>
                <a:cubicBezTo>
                  <a:pt x="36" y="180"/>
                  <a:pt x="72" y="112"/>
                  <a:pt x="96" y="104"/>
                </a:cubicBezTo>
                <a:cubicBezTo>
                  <a:pt x="120" y="96"/>
                  <a:pt x="128" y="216"/>
                  <a:pt x="144" y="200"/>
                </a:cubicBezTo>
                <a:cubicBezTo>
                  <a:pt x="160" y="184"/>
                  <a:pt x="168" y="0"/>
                  <a:pt x="192" y="8"/>
                </a:cubicBezTo>
                <a:cubicBezTo>
                  <a:pt x="216" y="16"/>
                  <a:pt x="264" y="224"/>
                  <a:pt x="288" y="248"/>
                </a:cubicBezTo>
                <a:cubicBezTo>
                  <a:pt x="312" y="272"/>
                  <a:pt x="320" y="160"/>
                  <a:pt x="336" y="152"/>
                </a:cubicBezTo>
                <a:cubicBezTo>
                  <a:pt x="352" y="144"/>
                  <a:pt x="368" y="224"/>
                  <a:pt x="384" y="200"/>
                </a:cubicBezTo>
                <a:cubicBezTo>
                  <a:pt x="400" y="176"/>
                  <a:pt x="416" y="92"/>
                  <a:pt x="432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629400" y="2984400"/>
            <a:ext cx="228600" cy="444600"/>
          </a:xfrm>
          <a:custGeom>
            <a:avLst/>
            <a:gdLst/>
            <a:ahLst/>
            <a:rect l="l" t="t" r="r" b="b"/>
            <a:pathLst>
              <a:path w="144" h="280">
                <a:moveTo>
                  <a:pt x="0" y="40"/>
                </a:moveTo>
                <a:cubicBezTo>
                  <a:pt x="12" y="20"/>
                  <a:pt x="24" y="0"/>
                  <a:pt x="48" y="40"/>
                </a:cubicBezTo>
                <a:cubicBezTo>
                  <a:pt x="72" y="80"/>
                  <a:pt x="108" y="180"/>
                  <a:pt x="144" y="28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23160" y="40384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89000" y="33894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sless tub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MPEG Audio Coding (mp3)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2057400"/>
            <a:ext cx="1524240" cy="1523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93240" y="251460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ter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62320" y="20574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62320" y="22860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62320" y="25146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62320" y="30481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362320" y="32767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35053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195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195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28954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29000" y="2057400"/>
            <a:ext cx="2438280" cy="1523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2057400" cy="11174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432600" y="32004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sychoacoustic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038480" y="40384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91120" y="403848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343400" y="40384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5680" y="40384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403848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40384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403848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41911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41911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495680" y="41911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648320" y="4191120"/>
            <a:ext cx="7596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00600" y="41911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91120"/>
            <a:ext cx="7596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434340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434340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43400" y="434340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95680" y="434340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48320" y="434340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434340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52880" y="434340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434340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038480" y="44956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191120" y="449568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343400" y="44956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95680" y="44956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48320" y="449568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800600" y="44956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449568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43600" y="21337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21337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48520" y="2133720"/>
            <a:ext cx="7596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00800" y="21337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228600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95880" y="228600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943600" y="24382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95880" y="24382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243828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400800" y="24382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53080" y="24382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243828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943600" y="32767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32767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48520" y="3276720"/>
            <a:ext cx="7596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00800" y="32767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3600" y="342900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43600" y="31240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31240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48520" y="312408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95880" y="2590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958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9588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89440" y="47242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ailable b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09080" y="137160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2 linearly spa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3920" y="4572000"/>
            <a:ext cx="32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oder: Slower, Complic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oder: Faster, Simpler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28195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572000" y="3657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81600" y="137160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ptual Audio Co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Overview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usic Information Retrieval (MIR) and Computer Audition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echnique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pplications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mputer Music and Sound Synthesi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xamples, demo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Spectral Shape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762120" y="1371240"/>
            <a:ext cx="0" cy="1676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62120" y="3048120"/>
            <a:ext cx="25905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8080" y="1981080"/>
            <a:ext cx="2362320" cy="1079640"/>
          </a:xfrm>
          <a:custGeom>
            <a:avLst/>
            <a:gdLst/>
            <a:ahLst/>
            <a:rect l="l" t="t" r="r" b="b"/>
            <a:pathLst>
              <a:path w="1488" h="680">
                <a:moveTo>
                  <a:pt x="0" y="624"/>
                </a:moveTo>
                <a:cubicBezTo>
                  <a:pt x="104" y="312"/>
                  <a:pt x="208" y="0"/>
                  <a:pt x="288" y="0"/>
                </a:cubicBezTo>
                <a:cubicBezTo>
                  <a:pt x="368" y="0"/>
                  <a:pt x="424" y="568"/>
                  <a:pt x="480" y="624"/>
                </a:cubicBezTo>
                <a:cubicBezTo>
                  <a:pt x="536" y="680"/>
                  <a:pt x="576" y="344"/>
                  <a:pt x="624" y="336"/>
                </a:cubicBezTo>
                <a:cubicBezTo>
                  <a:pt x="672" y="328"/>
                  <a:pt x="664" y="560"/>
                  <a:pt x="768" y="576"/>
                </a:cubicBezTo>
                <a:cubicBezTo>
                  <a:pt x="872" y="592"/>
                  <a:pt x="1128" y="432"/>
                  <a:pt x="1248" y="432"/>
                </a:cubicBezTo>
                <a:cubicBezTo>
                  <a:pt x="1368" y="432"/>
                  <a:pt x="1428" y="504"/>
                  <a:pt x="148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58880" y="2932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6360" y="1295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495680" y="289512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3657600" y="4572000"/>
            <a:ext cx="8380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495680" y="45720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733920" y="3022560"/>
            <a:ext cx="3009960" cy="1397160"/>
          </a:xfrm>
          <a:custGeom>
            <a:avLst/>
            <a:gdLst/>
            <a:ahLst/>
            <a:rect l="l" t="t" r="r" b="b"/>
            <a:pathLst>
              <a:path w="1896" h="880">
                <a:moveTo>
                  <a:pt x="0" y="880"/>
                </a:moveTo>
                <a:cubicBezTo>
                  <a:pt x="28" y="748"/>
                  <a:pt x="56" y="616"/>
                  <a:pt x="192" y="592"/>
                </a:cubicBezTo>
                <a:cubicBezTo>
                  <a:pt x="328" y="568"/>
                  <a:pt x="616" y="808"/>
                  <a:pt x="816" y="736"/>
                </a:cubicBezTo>
                <a:cubicBezTo>
                  <a:pt x="1016" y="664"/>
                  <a:pt x="1224" y="280"/>
                  <a:pt x="1392" y="160"/>
                </a:cubicBezTo>
                <a:cubicBezTo>
                  <a:pt x="1560" y="40"/>
                  <a:pt x="1752" y="32"/>
                  <a:pt x="1824" y="16"/>
                </a:cubicBezTo>
                <a:cubicBezTo>
                  <a:pt x="1896" y="0"/>
                  <a:pt x="1860" y="32"/>
                  <a:pt x="1824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77120" y="29718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05720" y="3048120"/>
            <a:ext cx="685800" cy="380880"/>
          </a:xfrm>
          <a:custGeom>
            <a:avLst/>
            <a:gdLst/>
            <a:ahLst/>
            <a:rect l="l" t="t" r="r" b="b"/>
            <a:pathLst>
              <a:path w="432" h="240">
                <a:moveTo>
                  <a:pt x="0" y="0"/>
                </a:moveTo>
                <a:cubicBezTo>
                  <a:pt x="108" y="4"/>
                  <a:pt x="216" y="8"/>
                  <a:pt x="288" y="48"/>
                </a:cubicBezTo>
                <a:cubicBezTo>
                  <a:pt x="360" y="88"/>
                  <a:pt x="408" y="208"/>
                  <a:pt x="432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914400"/>
            <a:ext cx="990720" cy="19051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952880" y="990720"/>
            <a:ext cx="112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o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lo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286000" y="1523520"/>
            <a:ext cx="2438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19920" y="1447920"/>
            <a:ext cx="53316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Summary of Timbral Texture Features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ime-Frequency analysi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ignal Processing (STFT, DWT)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ource-filter (LPC)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Perceptual (MP3)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pectral Shape to feature vector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Pitch Content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armony-melody = pitch concept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usic theory             score = music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Bridge to symbolic MIR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utomatic music transcription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Non-transcriptive argument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6"/>
          <a:stretch/>
        </p:blipFill>
        <p:spPr>
          <a:xfrm>
            <a:off x="6477120" y="2971800"/>
            <a:ext cx="1409760" cy="12952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7"/>
          <a:stretch/>
        </p:blipFill>
        <p:spPr>
          <a:xfrm>
            <a:off x="1219320" y="4343400"/>
            <a:ext cx="44956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Automatic Pitch Detection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914400" y="205704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14400" y="3200400"/>
            <a:ext cx="4648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43000" y="2108160"/>
            <a:ext cx="914400" cy="1092240"/>
          </a:xfrm>
          <a:custGeom>
            <a:avLst/>
            <a:gdLst/>
            <a:ahLst/>
            <a:rect l="l" t="t" r="r" b="b"/>
            <a:pathLst>
              <a:path w="576" h="688">
                <a:moveTo>
                  <a:pt x="0" y="640"/>
                </a:moveTo>
                <a:cubicBezTo>
                  <a:pt x="48" y="336"/>
                  <a:pt x="96" y="32"/>
                  <a:pt x="144" y="16"/>
                </a:cubicBezTo>
                <a:cubicBezTo>
                  <a:pt x="192" y="0"/>
                  <a:pt x="240" y="496"/>
                  <a:pt x="288" y="544"/>
                </a:cubicBezTo>
                <a:cubicBezTo>
                  <a:pt x="336" y="592"/>
                  <a:pt x="384" y="280"/>
                  <a:pt x="432" y="304"/>
                </a:cubicBezTo>
                <a:cubicBezTo>
                  <a:pt x="480" y="328"/>
                  <a:pt x="528" y="508"/>
                  <a:pt x="576" y="6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33720" y="2057400"/>
            <a:ext cx="914400" cy="1092240"/>
          </a:xfrm>
          <a:custGeom>
            <a:avLst/>
            <a:gdLst/>
            <a:ahLst/>
            <a:rect l="l" t="t" r="r" b="b"/>
            <a:pathLst>
              <a:path w="576" h="688">
                <a:moveTo>
                  <a:pt x="0" y="640"/>
                </a:moveTo>
                <a:cubicBezTo>
                  <a:pt x="48" y="336"/>
                  <a:pt x="96" y="32"/>
                  <a:pt x="144" y="16"/>
                </a:cubicBezTo>
                <a:cubicBezTo>
                  <a:pt x="192" y="0"/>
                  <a:pt x="240" y="496"/>
                  <a:pt x="288" y="544"/>
                </a:cubicBezTo>
                <a:cubicBezTo>
                  <a:pt x="336" y="592"/>
                  <a:pt x="384" y="280"/>
                  <a:pt x="432" y="304"/>
                </a:cubicBezTo>
                <a:cubicBezTo>
                  <a:pt x="480" y="328"/>
                  <a:pt x="528" y="508"/>
                  <a:pt x="576" y="6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2133720"/>
            <a:ext cx="914400" cy="1092240"/>
          </a:xfrm>
          <a:custGeom>
            <a:avLst/>
            <a:gdLst/>
            <a:ahLst/>
            <a:rect l="l" t="t" r="r" b="b"/>
            <a:pathLst>
              <a:path w="576" h="688">
                <a:moveTo>
                  <a:pt x="0" y="640"/>
                </a:moveTo>
                <a:cubicBezTo>
                  <a:pt x="48" y="336"/>
                  <a:pt x="96" y="32"/>
                  <a:pt x="144" y="16"/>
                </a:cubicBezTo>
                <a:cubicBezTo>
                  <a:pt x="192" y="0"/>
                  <a:pt x="240" y="496"/>
                  <a:pt x="288" y="544"/>
                </a:cubicBezTo>
                <a:cubicBezTo>
                  <a:pt x="336" y="592"/>
                  <a:pt x="384" y="280"/>
                  <a:pt x="432" y="304"/>
                </a:cubicBezTo>
                <a:cubicBezTo>
                  <a:pt x="480" y="328"/>
                  <a:pt x="528" y="508"/>
                  <a:pt x="576" y="6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2133720"/>
            <a:ext cx="914400" cy="1092240"/>
          </a:xfrm>
          <a:custGeom>
            <a:avLst/>
            <a:gdLst/>
            <a:ahLst/>
            <a:rect l="l" t="t" r="r" b="b"/>
            <a:pathLst>
              <a:path w="576" h="688">
                <a:moveTo>
                  <a:pt x="0" y="640"/>
                </a:moveTo>
                <a:cubicBezTo>
                  <a:pt x="48" y="336"/>
                  <a:pt x="96" y="32"/>
                  <a:pt x="144" y="16"/>
                </a:cubicBezTo>
                <a:cubicBezTo>
                  <a:pt x="192" y="0"/>
                  <a:pt x="240" y="496"/>
                  <a:pt x="288" y="544"/>
                </a:cubicBezTo>
                <a:cubicBezTo>
                  <a:pt x="336" y="592"/>
                  <a:pt x="384" y="280"/>
                  <a:pt x="432" y="304"/>
                </a:cubicBezTo>
                <a:cubicBezTo>
                  <a:pt x="480" y="328"/>
                  <a:pt x="528" y="508"/>
                  <a:pt x="576" y="6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15680" y="15238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=1/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1981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947560" y="1905120"/>
            <a:ext cx="208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-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-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p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6200" y="4038480"/>
            <a:ext cx="78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erocrossings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correlation analysis = peaks of function correspond to dominant pit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Pitch Histograms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3571920" cy="36576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4954680" y="5029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02600" y="5029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2309760" cy="31244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765000" y="4800600"/>
            <a:ext cx="20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ma - fol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ght - unfol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Automatic Music Transcription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752640" cy="29811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4727160" y="198108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51400" y="19810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crib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1840" y="525780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ture sig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28800" y="5486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5257800"/>
            <a:ext cx="19810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061360" y="52578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ise suppre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038480" y="5486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67080" y="5105520"/>
            <a:ext cx="221004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267080" y="510552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dominant Pitc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477120" y="5410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705720" y="5105520"/>
            <a:ext cx="205740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708600" y="502920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ove detec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638680" y="3886200"/>
            <a:ext cx="221004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867280" y="3962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640840" y="388620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# of vo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5562720" y="4495680"/>
            <a:ext cx="9144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6858000" y="4495680"/>
            <a:ext cx="83808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66294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0560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0560" fill="hold"/>
                                        <p:tgtEl>
                                          <p:spTgt spid="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Rhythm 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ovement in time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Origins in Poetry (iambic, trochaic)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Foot tapping definition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ierarchical semi-periodic structure at multiple levels of detai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Links to motion, dance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Running vs global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7"/>
          <a:stretch/>
        </p:blipFill>
        <p:spPr>
          <a:xfrm>
            <a:off x="6781680" y="152280"/>
            <a:ext cx="1611360" cy="20574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10411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Self similarity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1219320" y="2133720"/>
            <a:ext cx="1218960" cy="1981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3276720"/>
            <a:ext cx="685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449360" y="2971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W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38280" y="2133720"/>
            <a:ext cx="685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438280" y="2819520"/>
            <a:ext cx="685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438280" y="3505320"/>
            <a:ext cx="685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38280" y="4114800"/>
            <a:ext cx="685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1905120"/>
            <a:ext cx="152388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00400" y="2590920"/>
            <a:ext cx="152388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3276720"/>
            <a:ext cx="152388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00400" y="3886200"/>
            <a:ext cx="152388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1968480"/>
            <a:ext cx="1295280" cy="241200"/>
          </a:xfrm>
          <a:custGeom>
            <a:avLst/>
            <a:gdLst/>
            <a:ahLst/>
            <a:rect l="l" t="t" r="r" b="b"/>
            <a:pathLst>
              <a:path w="816" h="152">
                <a:moveTo>
                  <a:pt x="0" y="152"/>
                </a:moveTo>
                <a:cubicBezTo>
                  <a:pt x="56" y="80"/>
                  <a:pt x="112" y="8"/>
                  <a:pt x="144" y="8"/>
                </a:cubicBezTo>
                <a:cubicBezTo>
                  <a:pt x="176" y="8"/>
                  <a:pt x="160" y="152"/>
                  <a:pt x="192" y="152"/>
                </a:cubicBezTo>
                <a:cubicBezTo>
                  <a:pt x="224" y="152"/>
                  <a:pt x="304" y="8"/>
                  <a:pt x="336" y="8"/>
                </a:cubicBezTo>
                <a:cubicBezTo>
                  <a:pt x="368" y="8"/>
                  <a:pt x="352" y="152"/>
                  <a:pt x="384" y="152"/>
                </a:cubicBezTo>
                <a:cubicBezTo>
                  <a:pt x="416" y="152"/>
                  <a:pt x="488" y="8"/>
                  <a:pt x="528" y="8"/>
                </a:cubicBezTo>
                <a:cubicBezTo>
                  <a:pt x="568" y="8"/>
                  <a:pt x="592" y="152"/>
                  <a:pt x="624" y="152"/>
                </a:cubicBezTo>
                <a:cubicBezTo>
                  <a:pt x="656" y="152"/>
                  <a:pt x="688" y="16"/>
                  <a:pt x="720" y="8"/>
                </a:cubicBezTo>
                <a:cubicBezTo>
                  <a:pt x="752" y="0"/>
                  <a:pt x="784" y="52"/>
                  <a:pt x="816" y="10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00400" y="3949560"/>
            <a:ext cx="1447920" cy="317520"/>
          </a:xfrm>
          <a:custGeom>
            <a:avLst/>
            <a:gdLst/>
            <a:ahLst/>
            <a:rect l="l" t="t" r="r" b="b"/>
            <a:pathLst>
              <a:path w="912" h="200">
                <a:moveTo>
                  <a:pt x="0" y="200"/>
                </a:moveTo>
                <a:cubicBezTo>
                  <a:pt x="124" y="108"/>
                  <a:pt x="248" y="16"/>
                  <a:pt x="336" y="8"/>
                </a:cubicBezTo>
                <a:cubicBezTo>
                  <a:pt x="424" y="0"/>
                  <a:pt x="464" y="152"/>
                  <a:pt x="528" y="152"/>
                </a:cubicBezTo>
                <a:cubicBezTo>
                  <a:pt x="592" y="152"/>
                  <a:pt x="656" y="0"/>
                  <a:pt x="720" y="8"/>
                </a:cubicBezTo>
                <a:cubicBezTo>
                  <a:pt x="784" y="16"/>
                  <a:pt x="848" y="108"/>
                  <a:pt x="912" y="2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3340080"/>
            <a:ext cx="1218960" cy="317520"/>
          </a:xfrm>
          <a:custGeom>
            <a:avLst/>
            <a:gdLst/>
            <a:ahLst/>
            <a:rect l="l" t="t" r="r" b="b"/>
            <a:pathLst>
              <a:path w="768" h="200">
                <a:moveTo>
                  <a:pt x="0" y="200"/>
                </a:moveTo>
                <a:cubicBezTo>
                  <a:pt x="28" y="108"/>
                  <a:pt x="56" y="16"/>
                  <a:pt x="96" y="8"/>
                </a:cubicBezTo>
                <a:cubicBezTo>
                  <a:pt x="136" y="0"/>
                  <a:pt x="200" y="152"/>
                  <a:pt x="240" y="152"/>
                </a:cubicBezTo>
                <a:cubicBezTo>
                  <a:pt x="280" y="152"/>
                  <a:pt x="296" y="8"/>
                  <a:pt x="336" y="8"/>
                </a:cubicBezTo>
                <a:cubicBezTo>
                  <a:pt x="376" y="8"/>
                  <a:pt x="432" y="152"/>
                  <a:pt x="480" y="152"/>
                </a:cubicBezTo>
                <a:cubicBezTo>
                  <a:pt x="528" y="152"/>
                  <a:pt x="576" y="8"/>
                  <a:pt x="624" y="8"/>
                </a:cubicBezTo>
                <a:cubicBezTo>
                  <a:pt x="672" y="8"/>
                  <a:pt x="720" y="80"/>
                  <a:pt x="768" y="15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52680" y="2666880"/>
            <a:ext cx="1219320" cy="317520"/>
          </a:xfrm>
          <a:custGeom>
            <a:avLst/>
            <a:gdLst/>
            <a:ahLst/>
            <a:rect l="l" t="t" r="r" b="b"/>
            <a:pathLst>
              <a:path w="768" h="200">
                <a:moveTo>
                  <a:pt x="0" y="200"/>
                </a:moveTo>
                <a:cubicBezTo>
                  <a:pt x="28" y="108"/>
                  <a:pt x="56" y="16"/>
                  <a:pt x="96" y="8"/>
                </a:cubicBezTo>
                <a:cubicBezTo>
                  <a:pt x="136" y="0"/>
                  <a:pt x="200" y="152"/>
                  <a:pt x="240" y="152"/>
                </a:cubicBezTo>
                <a:cubicBezTo>
                  <a:pt x="280" y="152"/>
                  <a:pt x="296" y="8"/>
                  <a:pt x="336" y="8"/>
                </a:cubicBezTo>
                <a:cubicBezTo>
                  <a:pt x="376" y="8"/>
                  <a:pt x="432" y="152"/>
                  <a:pt x="480" y="152"/>
                </a:cubicBezTo>
                <a:cubicBezTo>
                  <a:pt x="528" y="152"/>
                  <a:pt x="576" y="8"/>
                  <a:pt x="624" y="8"/>
                </a:cubicBezTo>
                <a:cubicBezTo>
                  <a:pt x="672" y="8"/>
                  <a:pt x="720" y="80"/>
                  <a:pt x="768" y="15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15000" y="3124080"/>
            <a:ext cx="609480" cy="3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867280" y="3276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019920" y="3124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800600" y="2209680"/>
            <a:ext cx="10666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800600" y="27432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80060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724280" y="3428640"/>
            <a:ext cx="10670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266688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3"/>
          <a:stretch/>
        </p:blipFill>
        <p:spPr>
          <a:xfrm>
            <a:off x="2666880" y="4191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6861240" y="297180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corre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81680" y="2438280"/>
            <a:ext cx="1905120" cy="1067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324480" y="3276720"/>
            <a:ext cx="3812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68880" y="39625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ak Pic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781680" y="3886200"/>
            <a:ext cx="190512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772400" y="35053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77240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781680" y="4952880"/>
            <a:ext cx="18288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84560" y="510552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at Histogr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3320" y="2637000"/>
            <a:ext cx="1454040" cy="419040"/>
          </a:xfrm>
          <a:custGeom>
            <a:avLst/>
            <a:gdLst/>
            <a:ahLst/>
            <a:rect l="l" t="t" r="r" b="b"/>
            <a:pathLst>
              <a:path w="916" h="264">
                <a:moveTo>
                  <a:pt x="0" y="194"/>
                </a:moveTo>
                <a:cubicBezTo>
                  <a:pt x="7" y="161"/>
                  <a:pt x="12" y="146"/>
                  <a:pt x="36" y="122"/>
                </a:cubicBezTo>
                <a:cubicBezTo>
                  <a:pt x="55" y="82"/>
                  <a:pt x="53" y="42"/>
                  <a:pt x="67" y="0"/>
                </a:cubicBezTo>
                <a:cubicBezTo>
                  <a:pt x="76" y="37"/>
                  <a:pt x="82" y="93"/>
                  <a:pt x="109" y="122"/>
                </a:cubicBezTo>
                <a:cubicBezTo>
                  <a:pt x="122" y="155"/>
                  <a:pt x="120" y="189"/>
                  <a:pt x="139" y="219"/>
                </a:cubicBezTo>
                <a:cubicBezTo>
                  <a:pt x="180" y="206"/>
                  <a:pt x="154" y="177"/>
                  <a:pt x="188" y="213"/>
                </a:cubicBezTo>
                <a:cubicBezTo>
                  <a:pt x="205" y="264"/>
                  <a:pt x="239" y="215"/>
                  <a:pt x="255" y="194"/>
                </a:cubicBezTo>
                <a:cubicBezTo>
                  <a:pt x="257" y="188"/>
                  <a:pt x="255" y="179"/>
                  <a:pt x="261" y="176"/>
                </a:cubicBezTo>
                <a:cubicBezTo>
                  <a:pt x="284" y="165"/>
                  <a:pt x="282" y="200"/>
                  <a:pt x="285" y="219"/>
                </a:cubicBezTo>
                <a:cubicBezTo>
                  <a:pt x="325" y="187"/>
                  <a:pt x="305" y="213"/>
                  <a:pt x="315" y="146"/>
                </a:cubicBezTo>
                <a:cubicBezTo>
                  <a:pt x="321" y="108"/>
                  <a:pt x="337" y="62"/>
                  <a:pt x="358" y="31"/>
                </a:cubicBezTo>
                <a:cubicBezTo>
                  <a:pt x="395" y="86"/>
                  <a:pt x="396" y="154"/>
                  <a:pt x="424" y="213"/>
                </a:cubicBezTo>
                <a:cubicBezTo>
                  <a:pt x="444" y="193"/>
                  <a:pt x="479" y="146"/>
                  <a:pt x="479" y="146"/>
                </a:cubicBezTo>
                <a:cubicBezTo>
                  <a:pt x="483" y="128"/>
                  <a:pt x="486" y="97"/>
                  <a:pt x="497" y="97"/>
                </a:cubicBezTo>
                <a:cubicBezTo>
                  <a:pt x="504" y="97"/>
                  <a:pt x="506" y="109"/>
                  <a:pt x="509" y="116"/>
                </a:cubicBezTo>
                <a:cubicBezTo>
                  <a:pt x="514" y="128"/>
                  <a:pt x="517" y="140"/>
                  <a:pt x="521" y="152"/>
                </a:cubicBezTo>
                <a:cubicBezTo>
                  <a:pt x="529" y="175"/>
                  <a:pt x="524" y="212"/>
                  <a:pt x="552" y="225"/>
                </a:cubicBezTo>
                <a:cubicBezTo>
                  <a:pt x="563" y="230"/>
                  <a:pt x="576" y="229"/>
                  <a:pt x="588" y="231"/>
                </a:cubicBezTo>
                <a:cubicBezTo>
                  <a:pt x="594" y="237"/>
                  <a:pt x="598" y="246"/>
                  <a:pt x="606" y="249"/>
                </a:cubicBezTo>
                <a:cubicBezTo>
                  <a:pt x="620" y="254"/>
                  <a:pt x="685" y="209"/>
                  <a:pt x="697" y="200"/>
                </a:cubicBezTo>
                <a:cubicBezTo>
                  <a:pt x="734" y="241"/>
                  <a:pt x="896" y="225"/>
                  <a:pt x="916" y="22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431160" y="46483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vel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5016" fill="hold"/>
                                        <p:tgtEl>
                                          <p:spTgt spid="4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5016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5016" fill="hold"/>
                                        <p:tgtEl>
                                          <p:spTgt spid="5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Beat Histograms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457200" y="2451240"/>
            <a:ext cx="4038480" cy="282888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4648320" y="2451240"/>
            <a:ext cx="4038480" cy="28288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198108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617220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30120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0120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Analysis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lassification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egmentation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imilarity Retrieval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lustering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humbnailing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Fingerprinting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7"/>
          <a:stretch/>
        </p:blipFill>
        <p:spPr>
          <a:xfrm>
            <a:off x="5638680" y="45720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MIR Music History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1428840" cy="1752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2057400" cy="1443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715000" y="1447920"/>
            <a:ext cx="1476360" cy="1828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85800" y="4114800"/>
            <a:ext cx="2209680" cy="1562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486400" y="4495680"/>
            <a:ext cx="1257480" cy="1067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6553080" y="3886200"/>
            <a:ext cx="144936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3124080" y="4176720"/>
            <a:ext cx="1828800" cy="149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0720" y="3313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00 B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6440" y="3276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30640" y="3236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3240" y="5638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7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9240" y="5638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7360" y="5638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Analysis Overview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752480" y="19051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914400" y="3581280"/>
            <a:ext cx="8380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35812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90720" y="2031840"/>
            <a:ext cx="3009960" cy="1397160"/>
          </a:xfrm>
          <a:custGeom>
            <a:avLst/>
            <a:gdLst/>
            <a:ahLst/>
            <a:rect l="l" t="t" r="r" b="b"/>
            <a:pathLst>
              <a:path w="1896" h="880">
                <a:moveTo>
                  <a:pt x="0" y="880"/>
                </a:moveTo>
                <a:cubicBezTo>
                  <a:pt x="28" y="748"/>
                  <a:pt x="56" y="616"/>
                  <a:pt x="192" y="592"/>
                </a:cubicBezTo>
                <a:cubicBezTo>
                  <a:pt x="328" y="568"/>
                  <a:pt x="616" y="808"/>
                  <a:pt x="816" y="736"/>
                </a:cubicBezTo>
                <a:cubicBezTo>
                  <a:pt x="1016" y="664"/>
                  <a:pt x="1224" y="280"/>
                  <a:pt x="1392" y="160"/>
                </a:cubicBezTo>
                <a:cubicBezTo>
                  <a:pt x="1560" y="40"/>
                  <a:pt x="1752" y="32"/>
                  <a:pt x="1824" y="16"/>
                </a:cubicBezTo>
                <a:cubicBezTo>
                  <a:pt x="1896" y="0"/>
                  <a:pt x="1860" y="32"/>
                  <a:pt x="1824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33920" y="19810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62520" y="2057400"/>
            <a:ext cx="685800" cy="380880"/>
          </a:xfrm>
          <a:custGeom>
            <a:avLst/>
            <a:gdLst/>
            <a:ahLst/>
            <a:rect l="l" t="t" r="r" b="b"/>
            <a:pathLst>
              <a:path w="432" h="240">
                <a:moveTo>
                  <a:pt x="0" y="0"/>
                </a:moveTo>
                <a:cubicBezTo>
                  <a:pt x="108" y="4"/>
                  <a:pt x="216" y="8"/>
                  <a:pt x="288" y="48"/>
                </a:cubicBezTo>
                <a:cubicBezTo>
                  <a:pt x="360" y="88"/>
                  <a:pt x="408" y="208"/>
                  <a:pt x="432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6095880" y="182844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257800" y="3505320"/>
            <a:ext cx="8380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95880" y="35053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0364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al Pie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2514240" y="4876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48769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45160" y="46483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je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17160" y="46483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26668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28195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31240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715000" y="25909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15000" y="29718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33526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486400" y="23623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34120" y="34290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72200" y="28195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181480" y="29718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477120" y="31240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2438280"/>
            <a:ext cx="22860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2743200"/>
            <a:ext cx="2286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0" y="2514600"/>
            <a:ext cx="2286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858000" y="28954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2286000"/>
            <a:ext cx="2286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162920" y="2362320"/>
            <a:ext cx="2286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0" y="2133720"/>
            <a:ext cx="2286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400800" y="2133720"/>
            <a:ext cx="2286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477120" y="2514600"/>
            <a:ext cx="2286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486400" y="1676520"/>
            <a:ext cx="1295280" cy="266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Query-by-example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Content-based Retrieval 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981080" y="220932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143000" y="3886200"/>
            <a:ext cx="8380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81080" y="38862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19320" y="30481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371600" y="32004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95280" y="35053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00200" y="29718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00200" y="33526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76520" y="37339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371600" y="27432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19320" y="38098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57400" y="32004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3526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62320" y="35053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133720" y="2666880"/>
            <a:ext cx="22860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14600" y="3124080"/>
            <a:ext cx="228600" cy="152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43200" y="2895480"/>
            <a:ext cx="228600" cy="152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43200" y="32767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14600" y="2666880"/>
            <a:ext cx="228600" cy="152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48120" y="2743200"/>
            <a:ext cx="22860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34120" y="3276720"/>
            <a:ext cx="22860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2438280"/>
            <a:ext cx="22860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2438280"/>
            <a:ext cx="22860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2057400"/>
            <a:ext cx="1295280" cy="266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86000" y="2514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09680" y="25909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34120" y="2590920"/>
            <a:ext cx="2286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334120" y="3581280"/>
            <a:ext cx="228600" cy="152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334120" y="2895480"/>
            <a:ext cx="22860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023880" y="289548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nked list of 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arest neighb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QBE examples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84120" y="2286000"/>
            <a:ext cx="4228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: Bea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zz:  Bobby Hutsers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k: Mano neg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ld: Tibetan si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Music: Paul Lans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52578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4"/>
          <a:stretch/>
        </p:blipFill>
        <p:spPr>
          <a:xfrm>
            <a:off x="61722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5"/>
          <a:stretch/>
        </p:blipFill>
        <p:spPr>
          <a:xfrm>
            <a:off x="525780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6"/>
          <a:stretch/>
        </p:blipFill>
        <p:spPr>
          <a:xfrm>
            <a:off x="617220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7010280" y="312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4878720" y="17524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869080" y="1752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8"/>
          <a:stretch/>
        </p:blipFill>
        <p:spPr>
          <a:xfrm>
            <a:off x="52578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9"/>
          <a:stretch/>
        </p:blipFill>
        <p:spPr>
          <a:xfrm>
            <a:off x="61722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10"/>
          <a:stretch/>
        </p:blipFill>
        <p:spPr>
          <a:xfrm>
            <a:off x="52578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11"/>
          <a:stretch/>
        </p:blipFill>
        <p:spPr>
          <a:xfrm>
            <a:off x="617220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4335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41" fill="hold"/>
                                        <p:tgtEl>
                                          <p:spTgt spid="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054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3004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5044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9330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6038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0075" fill="hold"/>
                                        <p:tgtEl>
                                          <p:spTgt spid="5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7146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0078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9406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Automatic Musical Genre Classification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ategorical music descriptions created by humans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uzzy boundarie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tatistical propertie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imbral texture, rhythmic structure, harmonic content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utomatic musical genre classification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valuate musical content feature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tructure audio collection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Genregram demo 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507280" cy="45306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5967000" y="1981080"/>
            <a:ext cx="31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ynamic real-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sualization for classific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radio sign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Audio segmentation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229600" cy="328752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1070280" y="1371600"/>
            <a:ext cx="34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 changes of audio tex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5638680" y="1371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4"/>
          <a:stretch/>
        </p:blipFill>
        <p:spPr>
          <a:xfrm>
            <a:off x="6400800" y="1371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4025" fill="hold"/>
                                        <p:tgtEl>
                                          <p:spTgt spid="6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0031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9009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Multifeature automatic segmenation methodology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ime series of feature vector  v(t)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Detect abrupt changes in trajectory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6781680" y="1447920"/>
            <a:ext cx="1460520" cy="100332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 flipV="1">
            <a:off x="1981080" y="335232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1143000" y="5029200"/>
            <a:ext cx="8380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981080" y="50292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295280" y="3429000"/>
            <a:ext cx="3005280" cy="1454040"/>
          </a:xfrm>
          <a:custGeom>
            <a:avLst/>
            <a:gdLst/>
            <a:ahLst/>
            <a:rect l="l" t="t" r="r" b="b"/>
            <a:pathLst>
              <a:path w="1893" h="916">
                <a:moveTo>
                  <a:pt x="0" y="916"/>
                </a:moveTo>
                <a:cubicBezTo>
                  <a:pt x="28" y="784"/>
                  <a:pt x="56" y="652"/>
                  <a:pt x="192" y="628"/>
                </a:cubicBezTo>
                <a:cubicBezTo>
                  <a:pt x="328" y="604"/>
                  <a:pt x="644" y="865"/>
                  <a:pt x="816" y="772"/>
                </a:cubicBezTo>
                <a:cubicBezTo>
                  <a:pt x="988" y="679"/>
                  <a:pt x="1128" y="138"/>
                  <a:pt x="1227" y="69"/>
                </a:cubicBezTo>
                <a:cubicBezTo>
                  <a:pt x="1326" y="0"/>
                  <a:pt x="1310" y="362"/>
                  <a:pt x="1409" y="359"/>
                </a:cubicBezTo>
                <a:cubicBezTo>
                  <a:pt x="1508" y="356"/>
                  <a:pt x="1755" y="95"/>
                  <a:pt x="1824" y="52"/>
                </a:cubicBezTo>
                <a:cubicBezTo>
                  <a:pt x="1893" y="9"/>
                  <a:pt x="1860" y="68"/>
                  <a:pt x="1824" y="1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14800" y="35053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419720" y="3886200"/>
            <a:ext cx="1143000" cy="787320"/>
          </a:xfrm>
          <a:custGeom>
            <a:avLst/>
            <a:gdLst/>
            <a:ahLst/>
            <a:rect l="l" t="t" r="r" b="b"/>
            <a:pathLst>
              <a:path w="720" h="496">
                <a:moveTo>
                  <a:pt x="0" y="96"/>
                </a:moveTo>
                <a:cubicBezTo>
                  <a:pt x="84" y="296"/>
                  <a:pt x="168" y="496"/>
                  <a:pt x="288" y="480"/>
                </a:cubicBezTo>
                <a:cubicBezTo>
                  <a:pt x="408" y="464"/>
                  <a:pt x="528" y="72"/>
                  <a:pt x="72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Context &amp; Content Aware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User Interfaces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utomatic results not perfect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usic listening is personal and subjective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Browsing vs retrieva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Overview, zoom and filter, details on demand”, Shneiderman mantra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dapt UI to music content and context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omputer Audi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Visualiz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Content and Context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ontent ~ file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SzPct val="121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Genre, male voice, saxophon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ontent ~ file, collec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SzPct val="121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imilarity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SzPct val="121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low-fas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ultiple visualization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SzPct val="121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ame conten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SzPct val="121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ifferent contex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9"/>
          <a:stretch/>
        </p:blipFill>
        <p:spPr>
          <a:xfrm>
            <a:off x="6781680" y="76212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10"/>
          <a:stretch/>
        </p:blipFill>
        <p:spPr>
          <a:xfrm>
            <a:off x="4495680" y="1828800"/>
            <a:ext cx="1847880" cy="274320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11"/>
          <a:stretch/>
        </p:blipFill>
        <p:spPr>
          <a:xfrm>
            <a:off x="6705720" y="3505320"/>
            <a:ext cx="1908000" cy="243828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2"/>
          <a:stretch/>
        </p:blipFill>
        <p:spPr>
          <a:xfrm>
            <a:off x="6248520" y="5486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13"/>
          <a:stretch/>
        </p:blipFill>
        <p:spPr>
          <a:xfrm>
            <a:off x="411480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4"/>
          <a:stretch/>
        </p:blipFill>
        <p:spPr>
          <a:xfrm>
            <a:off x="64008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5001" fill="hold"/>
                                        <p:tgtEl>
                                          <p:spTgt spid="6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6021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5001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Timbregrams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486400" cy="296064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5562720" y="3657600"/>
            <a:ext cx="3276360" cy="236376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231120" y="4724280"/>
            <a:ext cx="479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 &amp; Context Similarity + Time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cipal Component 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p feature vectors to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Music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4 million recorded CD track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4000 CDs / month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p3 bandwidth %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Global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ervasive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ersistent 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Why ?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950080" y="1976400"/>
            <a:ext cx="1434960" cy="1434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5943600" y="3657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Timbrespaces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58808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slands of Music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267360" cy="325728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438360" cy="124776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3"/>
          <a:stretch/>
        </p:blipFill>
        <p:spPr>
          <a:xfrm>
            <a:off x="4876920" y="2808360"/>
            <a:ext cx="32004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Auditory Scene Analysis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410080" y="1295280"/>
            <a:ext cx="1981440" cy="173376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914400" y="3657600"/>
            <a:ext cx="3200400" cy="22939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3"/>
          <a:stretch/>
        </p:blipFill>
        <p:spPr>
          <a:xfrm>
            <a:off x="990720" y="1143000"/>
            <a:ext cx="3124080" cy="223344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4"/>
          <a:stretch/>
        </p:blipFill>
        <p:spPr>
          <a:xfrm>
            <a:off x="5029200" y="3733920"/>
            <a:ext cx="285768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The future of MIR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Library of all recorded music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asks: organize, search, retrieve, classify, recommend, browse, listen, annotate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xamples: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952880" y="1600200"/>
            <a:ext cx="132084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562720" y="3962520"/>
            <a:ext cx="2522520" cy="1654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6477120" y="1600200"/>
            <a:ext cx="1523880" cy="2124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3276720" y="39625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Audio MIR Pipeline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81280" y="2666880"/>
            <a:ext cx="1752840" cy="152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2286000" cy="1411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477120" y="274320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819520" y="35053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3505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9000" y="434340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l Proce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33320" y="43434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hine Lear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49120" y="43434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man Computer Inte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5880" y="1752480"/>
            <a:ext cx="17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5240" y="175248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sta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9640" y="175248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c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Traditional Music Representations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2598840"/>
            <a:ext cx="4038480" cy="2531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91240" y="2374920"/>
            <a:ext cx="37526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Time domain waveform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743200"/>
            <a:ext cx="7313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422360"/>
            <a:ext cx="6934320" cy="1854360"/>
          </a:xfrm>
          <a:custGeom>
            <a:avLst/>
            <a:gdLst/>
            <a:ahLst/>
            <a:rect l="l" t="t" r="r" b="b"/>
            <a:pathLst>
              <a:path w="4368" h="1168">
                <a:moveTo>
                  <a:pt x="0" y="832"/>
                </a:moveTo>
                <a:cubicBezTo>
                  <a:pt x="64" y="696"/>
                  <a:pt x="128" y="560"/>
                  <a:pt x="192" y="592"/>
                </a:cubicBezTo>
                <a:cubicBezTo>
                  <a:pt x="256" y="624"/>
                  <a:pt x="328" y="1104"/>
                  <a:pt x="384" y="1024"/>
                </a:cubicBezTo>
                <a:cubicBezTo>
                  <a:pt x="440" y="944"/>
                  <a:pt x="456" y="112"/>
                  <a:pt x="528" y="112"/>
                </a:cubicBezTo>
                <a:cubicBezTo>
                  <a:pt x="600" y="112"/>
                  <a:pt x="752" y="936"/>
                  <a:pt x="816" y="1024"/>
                </a:cubicBezTo>
                <a:cubicBezTo>
                  <a:pt x="880" y="1112"/>
                  <a:pt x="872" y="656"/>
                  <a:pt x="912" y="640"/>
                </a:cubicBezTo>
                <a:cubicBezTo>
                  <a:pt x="952" y="624"/>
                  <a:pt x="1000" y="1032"/>
                  <a:pt x="1056" y="928"/>
                </a:cubicBezTo>
                <a:cubicBezTo>
                  <a:pt x="1112" y="824"/>
                  <a:pt x="1168" y="0"/>
                  <a:pt x="1248" y="16"/>
                </a:cubicBezTo>
                <a:cubicBezTo>
                  <a:pt x="1328" y="32"/>
                  <a:pt x="1472" y="920"/>
                  <a:pt x="1536" y="1024"/>
                </a:cubicBezTo>
                <a:cubicBezTo>
                  <a:pt x="1600" y="1128"/>
                  <a:pt x="1592" y="648"/>
                  <a:pt x="1632" y="640"/>
                </a:cubicBezTo>
                <a:cubicBezTo>
                  <a:pt x="1672" y="632"/>
                  <a:pt x="1736" y="1080"/>
                  <a:pt x="1776" y="976"/>
                </a:cubicBezTo>
                <a:cubicBezTo>
                  <a:pt x="1816" y="872"/>
                  <a:pt x="1816" y="32"/>
                  <a:pt x="1872" y="16"/>
                </a:cubicBezTo>
                <a:cubicBezTo>
                  <a:pt x="1928" y="0"/>
                  <a:pt x="2048" y="776"/>
                  <a:pt x="2112" y="880"/>
                </a:cubicBezTo>
                <a:cubicBezTo>
                  <a:pt x="2176" y="984"/>
                  <a:pt x="2216" y="632"/>
                  <a:pt x="2256" y="640"/>
                </a:cubicBezTo>
                <a:cubicBezTo>
                  <a:pt x="2296" y="648"/>
                  <a:pt x="2320" y="992"/>
                  <a:pt x="2352" y="928"/>
                </a:cubicBezTo>
                <a:cubicBezTo>
                  <a:pt x="2384" y="864"/>
                  <a:pt x="2408" y="256"/>
                  <a:pt x="2448" y="256"/>
                </a:cubicBezTo>
                <a:cubicBezTo>
                  <a:pt x="2488" y="256"/>
                  <a:pt x="2544" y="920"/>
                  <a:pt x="2592" y="928"/>
                </a:cubicBezTo>
                <a:cubicBezTo>
                  <a:pt x="2640" y="936"/>
                  <a:pt x="2664" y="304"/>
                  <a:pt x="2736" y="304"/>
                </a:cubicBezTo>
                <a:cubicBezTo>
                  <a:pt x="2808" y="304"/>
                  <a:pt x="2960" y="944"/>
                  <a:pt x="3024" y="928"/>
                </a:cubicBezTo>
                <a:cubicBezTo>
                  <a:pt x="3088" y="912"/>
                  <a:pt x="3056" y="208"/>
                  <a:pt x="3120" y="208"/>
                </a:cubicBezTo>
                <a:cubicBezTo>
                  <a:pt x="3184" y="208"/>
                  <a:pt x="3336" y="928"/>
                  <a:pt x="3408" y="928"/>
                </a:cubicBezTo>
                <a:cubicBezTo>
                  <a:pt x="3480" y="928"/>
                  <a:pt x="3464" y="176"/>
                  <a:pt x="3552" y="208"/>
                </a:cubicBezTo>
                <a:cubicBezTo>
                  <a:pt x="3640" y="240"/>
                  <a:pt x="3832" y="1072"/>
                  <a:pt x="3936" y="1120"/>
                </a:cubicBezTo>
                <a:cubicBezTo>
                  <a:pt x="4040" y="1168"/>
                  <a:pt x="4104" y="520"/>
                  <a:pt x="4176" y="496"/>
                </a:cubicBezTo>
                <a:cubicBezTo>
                  <a:pt x="4248" y="472"/>
                  <a:pt x="4308" y="724"/>
                  <a:pt x="4368" y="9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42360" y="27795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600" y="1371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495680"/>
            <a:ext cx="6858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4495680"/>
            <a:ext cx="6858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4495680"/>
            <a:ext cx="6858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0320" y="39625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ompose into building  bloc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952880" y="380952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548640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4343400"/>
            <a:ext cx="6858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720" y="5638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07800" y="3429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MIDI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usical Instrument Digital Interface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ardware interface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ile forma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Note event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uration, discrete pitch, “instrument”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Extension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General MIDI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Notation, OMR, continuous pitch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0:53:24Z</dcterms:created>
  <dc:creator>George Tzanetakis</dc:creator>
  <dc:description/>
  <dc:language>en-US</dc:language>
  <cp:lastModifiedBy>Michael Christel</cp:lastModifiedBy>
  <dcterms:modified xsi:type="dcterms:W3CDTF">2002-11-25T15:53:24Z</dcterms:modified>
  <cp:revision>18</cp:revision>
  <dc:subject/>
  <dc:title>Digital Music and Music Processing </dc:title>
</cp:coreProperties>
</file>