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42A2-10C1-4078-A5D4-7F2DCBF5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 the number of “depends on situation” for each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ly for each worksh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ton should have the least “depen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0E8AA-E320-44B4-9181-7D8DA42D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3F0EA-5EE5-403E-8B60-159A3A89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F5273-DC48-49CA-86DA-7357C877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F6631-386F-43B1-92B2-9A86800C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8E3A7-ED9D-40BF-972B-98ECCEFB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A9EBF-B7F8-4830-B5B3-D8DD6374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BA074-3710-4A8E-9432-423A1842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53572-4CA7-4963-ABF8-22C32A6D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948B6-6303-4338-BEA5-6482AF0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10298-D9D8-40F0-BAD9-EF601A6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AF07F-96E2-489C-9C0C-49A6E0CD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B1410-9C17-44BC-9B68-6A001518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9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17E8-24D5-4B98-8020-AC211586BE1A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March 16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ral Announcement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es on paper top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rrow the independent and dependent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not include dissertations, if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eek’s discussants: Liz, Margo, Jus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s to mid-term eval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site will be up so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e chairs for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wo mechanisms for influence of immediate affect on cognitive proces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fect Priming and Affect as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h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ion The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ffect Priming Example: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ood-State Dependency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32280" y="188604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rn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2600" y="192888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r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5280" y="192888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st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800" y="31813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560" y="5181480"/>
            <a:ext cx="8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200" y="2690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8160" y="32241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92200" y="37576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05160" y="46483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2200" y="50529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8160" y="558648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81600" y="27669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600" y="330048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69000" y="3833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8880" y="45957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71880" y="51292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57840" y="56624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4800240"/>
            <a:ext cx="137160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05120" y="5410080"/>
            <a:ext cx="12952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5638680"/>
            <a:ext cx="137160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28954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11480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50532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4952880"/>
            <a:ext cx="1981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54100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594360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28800" y="2819160"/>
            <a:ext cx="137160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05120" y="3429000"/>
            <a:ext cx="12952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657600"/>
            <a:ext cx="13716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Bower’s Mood-State Dependency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905120"/>
            <a:ext cx="0" cy="32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525780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2760" y="54673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d Recall M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96600" y="543384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py Recall M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759960" y="306072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% Re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828800"/>
            <a:ext cx="4876920" cy="327672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1752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S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3733920"/>
            <a:ext cx="5791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48400" y="3200400"/>
            <a:ext cx="11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2057040"/>
            <a:ext cx="5486400" cy="30481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2600" y="1405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ap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Description Workshee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1: Bill Clinton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2: A good friend or family member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3: Yourself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wo Attribution Bias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undamental Attribution Error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ency to attribute 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rson’s behavior to his or her dispositional qu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tor/Observer Eff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example: “hostile driver”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ency to incorp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e situational factors when explaining one’s own behavior and to neglect situational factors when explaining the behavior of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Causes These Biases?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stalt hypothesi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 engulfs the 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formation hypothesi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more information about our own motives and intents than we have about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Reduces These Biases?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ltural factor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nipulations of cognitive lo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Gilbert, Pelham &amp; Krull, 1988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ositional attributions are autom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uational attributions require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fore, “busy” participants were unable to make use of the situational inform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3-14T16:51:59Z</dcterms:modified>
  <cp:revision>166</cp:revision>
  <dc:subject/>
  <dc:title>Agenda for January 27th</dc:title>
</cp:coreProperties>
</file>