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B6A1-7BE0-4D6C-93DE-AE9776259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 the number of “depends on situation” for each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y for each work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on should have the least “depe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49E6B-C2E7-4388-BE3B-081FED61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145F6-3A88-4772-92B1-8E819D44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5F36-B5CC-4BB2-B127-978584F3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3FD1B-C17B-4181-8E22-FA5C104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7919-308E-4B9D-BB76-41B9B4F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6CDE2-DEB5-40F3-B0C2-F5A74585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F4E3F-3D78-4F69-BAAF-0DCD03B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3FB50-35CB-42BE-A04D-2958777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8A882-B2BF-484B-8C9B-6987A3B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6A02-2127-4430-869D-7E511712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726A0-BF0D-4EA9-A82B-5DF1DE37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916B1-3A48-4A31-9AD9-3AA00517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9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1C8-10B5-4BAD-9A94-6090ACDEFA3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16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ral Announcement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s on paper top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rrow the independent and dependent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not include dissertations, if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eek’s discussants: Liz, Margo, Jus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s to mid-term eval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site will be up s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 chairs for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wo mechanisms for influence of immediate affect on cognitive proces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ct Priming and Affect as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ion The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ffect Priming Example: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ood-State Dependency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32280" y="188604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2600" y="192888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5280" y="19288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st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800" y="3181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560" y="5181480"/>
            <a:ext cx="8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200" y="269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8160" y="32241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92200" y="37576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05160" y="4648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2200" y="50529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160" y="5586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81600" y="27669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600" y="3300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69000" y="3833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8880" y="45957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71880" y="51292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57840" y="56624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480024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05120" y="541008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638680"/>
            <a:ext cx="137160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8954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11480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505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495288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54100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59436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28800" y="281916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05120" y="342900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657600"/>
            <a:ext cx="13716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ower’s Mood-State Dependency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05120"/>
            <a:ext cx="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2578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2760" y="54673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d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96600" y="543384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759960" y="30607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% Re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828800"/>
            <a:ext cx="4876920" cy="3276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3733920"/>
            <a:ext cx="5791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8400" y="320040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2057040"/>
            <a:ext cx="5486400" cy="30481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2600" y="1405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escription Workshee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1: Bill Clinton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2: A good friend or family member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3: Yourself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 Attribution Bias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undamental Attribution Error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ency to attribute 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rson’s behavior to his or her disposition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or/Observer Ef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example: “hostile driver”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ency to incorp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e situational factors when explaining one’s own behavior and to neglect situational factors when explaining the behavior of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Causes These Biases?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stalt hypothesi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 engulfs the 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formation hypothesi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more information about our own motives and intents than we have about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Reduces These Biases?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ltural factor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nipulations of cognitive lo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Gilbert, Pelham &amp; Krull, 1988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ositional attributions are auto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uational attributions require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fore, “busy” participants were unable to make use of the situational inform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14T16:51:59Z</dcterms:modified>
  <cp:revision>166</cp:revision>
  <dc:subject/>
  <dc:title>Agenda for January 27th</dc:title>
</cp:coreProperties>
</file>