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28240" y="4004280"/>
            <a:ext cx="85741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2824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2168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26960" y="167652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6040" y="167652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228240" y="400428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26960" y="400428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6040" y="400428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718386-98DA-49CD-AACE-FFC83DC9E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135FFA-BC88-43B7-8293-821488402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84F680-1F00-4590-9B66-191A42153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B1FD2B-6C45-457A-8046-69135B594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DE538B-CDF1-4F1D-9744-681EDF7E7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456840"/>
            <a:ext cx="7792920" cy="357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1983A6-E9E8-4FD3-8000-B95976147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24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139E32-4001-47B5-8DC7-450642AD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2168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C8E0B7-CAA5-4599-8CDF-5457E76E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8240" y="4004280"/>
            <a:ext cx="85741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2FCB40-68CC-44C2-BBBD-F0D9BCDA5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28240" y="4004280"/>
            <a:ext cx="85741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FD5BB8-DECC-4056-8129-90AAD9BA2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22824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2168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176BA2-A322-43FD-A133-31B744E06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126960" y="167652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6040" y="167652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228240" y="400428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126960" y="400428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6040" y="400428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6E338A-5B4B-4EC1-83A6-9CF87FE04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456840"/>
            <a:ext cx="7792920" cy="357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24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2168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4004280"/>
            <a:ext cx="85741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533520"/>
            <a:ext cx="438120" cy="47448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582480"/>
            <a:ext cx="328320" cy="4748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99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896760"/>
            <a:ext cx="422280" cy="474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896760"/>
            <a:ext cx="368280" cy="4748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966960"/>
            <a:ext cx="560160" cy="42228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457200"/>
            <a:ext cx="31680" cy="1052640"/>
          </a:xfrm>
          <a:prstGeom prst="rect">
            <a:avLst/>
          </a:prstGeom>
          <a:solidFill>
            <a:srgbClr val="000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219320"/>
            <a:ext cx="8226360" cy="316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009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lick to edit the outline text format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517680" indent="-179640">
              <a:spcBef>
                <a:spcPts val="7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econd Outline Level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2" marL="860400" indent="-22860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hird Outline Level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3" marL="1203480" indent="-228600">
              <a:spcBef>
                <a:spcPts val="7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ourth Outline Level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193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ifth Outline Level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ixth Outline Level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eventh Outline Level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Reason, Passion, &amp; Social Cogn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6857640" y="632448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Week 9, Part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ff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99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99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0000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0000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0000cc"/>
                </a:gs>
                <a:gs pos="100000">
                  <a:srgbClr val="00009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4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4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9F5F6-720F-4592-A6C7-F0FEF105F01A}" type="slidenum">
              <a:rPr b="0" lang="en-US" sz="1400" spc="-1" strike="noStrike">
                <a:solidFill>
                  <a:srgbClr val="000094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andrew.cmu.edu/course/88/120/" TargetMode="External"/><Relationship Id="rId2" Type="http://schemas.openxmlformats.org/officeDocument/2006/relationships/hyperlink" Target="http://www.andrew.cmu.edu/course/88/120/" TargetMode="External"/><Relationship Id="rId3" Type="http://schemas.openxmlformats.org/officeDocument/2006/relationships/hyperlink" Target="http://www.andrew.cmu.edu/course/88/120/" TargetMode="External"/><Relationship Id="rId4" Type="http://schemas.openxmlformats.org/officeDocument/2006/relationships/hyperlink" Target="http://www.andrew.cmu.edu/course/88/120/" TargetMode="External"/><Relationship Id="rId5" Type="http://schemas.openxmlformats.org/officeDocument/2006/relationships/hyperlink" Target="http://www.andrew.cmu.edu/course/88/120/" TargetMode="External"/><Relationship Id="rId6" Type="http://schemas.openxmlformats.org/officeDocument/2006/relationships/hyperlink" Target="http://www.andrew.cmu.edu/course/88/120/" TargetMode="External"/><Relationship Id="rId7" Type="http://schemas.openxmlformats.org/officeDocument/2006/relationships/hyperlink" Target="http://www.andrew.cmu.edu/course/88/120/" TargetMode="External"/><Relationship Id="rId8" Type="http://schemas.openxmlformats.org/officeDocument/2006/relationships/hyperlink" Target="http://www.tek412.iwarp.com/" TargetMode="External"/><Relationship Id="rId9" Type="http://schemas.openxmlformats.org/officeDocument/2006/relationships/hyperlink" Target="http://www.tek412.iwarp.com/" TargetMode="External"/><Relationship Id="rId10" Type="http://schemas.openxmlformats.org/officeDocument/2006/relationships/hyperlink" Target="http://www.tek412.iwarp.com/" TargetMode="External"/><Relationship Id="rId1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Announcements for March 16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50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nnouncements: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871560" indent="-53352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bsite will be available by Mond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89000" indent="-45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URL of the page should be:</a:t>
            </a:r>
            <a:br>
              <a:rPr sz="2400"/>
            </a:br>
            <a:r>
              <a:rPr b="0" lang="en-US" sz="2400" spc="-1" strike="noStrike" u="sng">
                <a:solidFill>
                  <a:srgbClr val="ff3399"/>
                </a:solidFill>
                <a:uFillTx/>
                <a:latin typeface="Tahoma"/>
                <a:hlinkClick r:id="rId1"/>
              </a:rPr>
              <a:t>http://www.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Tahoma"/>
                <a:hlinkClick r:id="rId2"/>
              </a:rPr>
              <a:t>andrew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Tahoma"/>
                <a:hlinkClick r:id="rId3"/>
              </a:rPr>
              <a:t>.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Tahoma"/>
                <a:hlinkClick r:id="rId4"/>
              </a:rPr>
              <a:t>cmu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Tahoma"/>
                <a:hlinkClick r:id="rId5"/>
              </a:rPr>
              <a:t>.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Tahoma"/>
                <a:hlinkClick r:id="rId6"/>
              </a:rPr>
              <a:t>edu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Tahoma"/>
                <a:hlinkClick r:id="rId7"/>
              </a:rPr>
              <a:t>/course/88/120/</a:t>
            </a:r>
            <a:br>
              <a:rPr sz="2400"/>
            </a:b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89000" indent="-45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the meantime, use the following URL:</a:t>
            </a:r>
            <a:br>
              <a:rPr sz="2400"/>
            </a:br>
            <a:r>
              <a:rPr b="0" lang="en-US" sz="2400" spc="-1" strike="noStrike" u="sng">
                <a:solidFill>
                  <a:srgbClr val="ff3399"/>
                </a:solidFill>
                <a:uFillTx/>
                <a:latin typeface="Tahoma"/>
                <a:hlinkClick r:id="rId8"/>
              </a:rPr>
              <a:t>http://www.tek412.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Tahoma"/>
                <a:hlinkClick r:id="rId9"/>
              </a:rPr>
              <a:t>iwarp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Tahoma"/>
                <a:hlinkClick r:id="rId10"/>
              </a:rPr>
              <a:t>.com</a:t>
            </a:r>
            <a:br>
              <a:rPr sz="2400"/>
            </a:br>
            <a:r>
              <a:rPr b="0" lang="en-US" sz="2400" spc="-1" strike="noStrike" u="sng">
                <a:solidFill>
                  <a:srgbClr val="ff3399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71560" indent="-53352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day’s discussants: Liz, Margo, Just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71560" indent="-53352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exam next wee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71560" indent="-53352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per outlines due week after brea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Theoretical Accounts for 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Emotion Effects on Attribution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I.  Informational (“Affect Priming”) Effect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517680" indent="-1796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motion can facilitate recall and use of mood-congruent information (Bower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860400" indent="-22860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Evidenc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203480" indent="-228600">
              <a:spcBef>
                <a:spcPts val="4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appy people identify stable, internal causes when achieving and identify unstable, external causes when doing badl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203480" indent="-228600">
              <a:spcBef>
                <a:spcPts val="4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ad people show the reverse pattern (Forgas, Bower &amp; Moylan, 1990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Theoretical Accounts for 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Emotion Effects on Attribution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II.  Processing Effect</a:t>
            </a:r>
            <a:endParaRPr b="0" lang="en-US" sz="28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517680" indent="-179640">
              <a:spcBef>
                <a:spcPts val="6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Good mood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Heuristic process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60400" indent="-228600">
              <a:spcBef>
                <a:spcPts val="4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op down, global, process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860400" indent="-228600">
              <a:spcBef>
                <a:spcPts val="4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ore attention to categorical information (e.g., famous name of speech writer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860400" indent="-228600">
              <a:spcBef>
                <a:spcPts val="4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ot necessarily bad to be heuristic (Isen’s work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517680" indent="-179640">
              <a:spcBef>
                <a:spcPts val="6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Bad mood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Systematic process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60400" indent="-228600">
              <a:spcBef>
                <a:spcPts val="4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ottom up, detailed, process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860400" indent="-228600">
              <a:spcBef>
                <a:spcPts val="4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ore attention to specific information (e.g., content of speech)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517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17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w would this processing effect relate to FA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57150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319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How Does Processing </a:t>
            </a:r>
            <a:br>
              <a:rPr sz="3600"/>
            </a:b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Effect Relate to FAE?</a:t>
            </a: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ssuming attribution is a two-stage process…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871560" indent="-533520">
              <a:spcBef>
                <a:spcPts val="700"/>
              </a:spcBef>
              <a:buClr>
                <a:srgbClr val="ff3399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plain behavior in terms of salient dispositional info.(“correspondent inference”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71560" indent="-533520">
              <a:spcBef>
                <a:spcPts val="700"/>
              </a:spcBef>
              <a:buClr>
                <a:srgbClr val="ff3399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rrect initial explanation (if motivated to do so) by factoring in situ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Heuristic processing would amplify FAE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What Explains the Processing Effect?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871560" indent="-533520">
              <a:spcBef>
                <a:spcPts val="700"/>
              </a:spcBef>
              <a:buClr>
                <a:srgbClr val="ff3399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Functional Explanation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e.g., Frijd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89000" indent="-45720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motions serve a “signaling function” – telling us what needs our attention (and what does no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89000" indent="-45720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ood moods recruit our attention to solve problems, bad moods do no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71560" indent="-533520">
              <a:spcBef>
                <a:spcPts val="700"/>
              </a:spcBef>
              <a:buClr>
                <a:srgbClr val="ff3399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otivational Explan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71560" indent="-533520">
              <a:spcBef>
                <a:spcPts val="700"/>
              </a:spcBef>
              <a:buClr>
                <a:srgbClr val="ff3399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Processing Capacity Explanation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Three Explanations </a:t>
            </a:r>
            <a:br>
              <a:rPr sz="3600"/>
            </a:b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for Processing Effect, (Cont.)</a:t>
            </a: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cc00"/>
              </a:buClr>
              <a:buSzPct val="6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Motivational Theories (Clark &amp; Isen, 1982)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862560" indent="-52812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ood maintenanc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- Happy people try to preserve good mood by avoiding cognitive effor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2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2560" indent="-52812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ood repai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Sad people try to fix mood by devoting more effort to solving proble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Three Explanations, (Cont.)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90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ocessing Capacity Theories 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871560" indent="-53352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sitive and/or high-arousal moods may impair processing capacity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7T16:41:21Z</dcterms:created>
  <dc:creator>Jennifer Lerner</dc:creator>
  <dc:description/>
  <dc:language>en-US</dc:language>
  <cp:lastModifiedBy>Jennifer Lerner</cp:lastModifiedBy>
  <dcterms:modified xsi:type="dcterms:W3CDTF">2000-03-16T18:17:43Z</dcterms:modified>
  <cp:revision>178</cp:revision>
  <dc:subject/>
  <dc:title>Agenda for January 27th</dc:title>
</cp:coreProperties>
</file>