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63FD7-1680-4997-9303-328043BF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EE421-2D74-4E3C-89C5-27603ED1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8D406-1F64-4A93-9B50-41E71333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95C0D-5492-4334-88DB-FBB8A7F2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3730C-FF6D-4E8C-9829-1C6E594B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9DE78-7E7F-4290-B5EB-4CD6813A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59289-3A95-4FA9-93CF-5D51E5E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16671-D0C2-47E9-A8FA-6D7C724A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C2C89-A727-4C0C-BF32-9CCB7F4D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4944B-14F0-4405-B5B8-CBAB187A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77119-F487-478F-B871-DC3596AF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9C369-702C-4C5A-85B4-F2B0827C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9, Par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8AA5-41E8-48D7-A4E2-F0BBDD2F2B24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drew.cmu.edu/course/88/120/" TargetMode="External"/><Relationship Id="rId2" Type="http://schemas.openxmlformats.org/officeDocument/2006/relationships/hyperlink" Target="http://www.andrew.cmu.edu/course/88/120/" TargetMode="External"/><Relationship Id="rId3" Type="http://schemas.openxmlformats.org/officeDocument/2006/relationships/hyperlink" Target="http://www.andrew.cmu.edu/course/88/120/" TargetMode="External"/><Relationship Id="rId4" Type="http://schemas.openxmlformats.org/officeDocument/2006/relationships/hyperlink" Target="http://www.andrew.cmu.edu/course/88/120/" TargetMode="External"/><Relationship Id="rId5" Type="http://schemas.openxmlformats.org/officeDocument/2006/relationships/hyperlink" Target="http://www.andrew.cmu.edu/course/88/120/" TargetMode="External"/><Relationship Id="rId6" Type="http://schemas.openxmlformats.org/officeDocument/2006/relationships/hyperlink" Target="http://www.andrew.cmu.edu/course/88/120/" TargetMode="External"/><Relationship Id="rId7" Type="http://schemas.openxmlformats.org/officeDocument/2006/relationships/hyperlink" Target="http://www.andrew.cmu.edu/course/88/120/" TargetMode="External"/><Relationship Id="rId8" Type="http://schemas.openxmlformats.org/officeDocument/2006/relationships/hyperlink" Target="http://www.tek412.iwarp.com/" TargetMode="External"/><Relationship Id="rId9" Type="http://schemas.openxmlformats.org/officeDocument/2006/relationships/hyperlink" Target="http://www.tek412.iwarp.com/" TargetMode="External"/><Relationship Id="rId10" Type="http://schemas.openxmlformats.org/officeDocument/2006/relationships/hyperlink" Target="http://www.tek412.iwarp.com/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March 16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nouncement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site will be available by Mon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RL of the page should be:</a:t>
            </a:r>
            <a:br>
              <a:rPr sz="2400"/>
            </a:b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2"/>
              </a:rPr>
              <a:t>andrew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4"/>
              </a:rPr>
              <a:t>cmu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7"/>
              </a:rPr>
              <a:t>/course/88/120/</a:t>
            </a:r>
            <a:br>
              <a:rPr sz="2400"/>
            </a:b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meantime, use the following URL:</a:t>
            </a:r>
            <a:br>
              <a:rPr sz="2400"/>
            </a:b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8"/>
              </a:rPr>
              <a:t>http://www.tek412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9"/>
              </a:rPr>
              <a:t>iwarp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10"/>
              </a:rPr>
              <a:t>.com</a:t>
            </a:r>
            <a:br>
              <a:rPr sz="2400"/>
            </a:b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day’s discussants: Liz, Margo, Jus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am next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er outlines due week after br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oretical Accounts for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motion Effects on Attrib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.  Informational (“Affect Priming”) Effec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 can facilitate recall and use of mood-congruent information (Bowe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viden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03480" indent="-228600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ppy people identify stable, internal causes when achieving and identify unstable, external causes when doing bad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203480" indent="-228600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d people show the reverse pattern (Forgas, Bower &amp; Moylan, 199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oretical Accounts for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motion Effects on Attrib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I.  Processing Effect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ood moo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euristic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p down, global,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attention to categorical information (e.g., famous name of speech writ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necessarily bad to be heuristic (Isen’s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d moo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ystematic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ttom up, detailed,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attention to specific information (e.g., content of speech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ould this processing effect relate to FA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7150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Does Processing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ffect Relate to FAE?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ssuming attribution is a two-stage process…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behavior in terms of salient dispositional info.(“correspondent inference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ct initial explanation (if motivated to do so) by factoring in situ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euristic processing would amplify FAE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Explains the Processing Effect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unctional Explan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e.g., Frij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s serve a “signaling function” – telling us what needs our attention (and what does n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moods recruit our attention to solve problems, bad moods do 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tivational Expla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cessing Capacity Explan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ree Explanations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for Processing Effect, (Cont.)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ivational Theories (Clark &amp; Isen, 1982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62560" indent="-5281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od maintena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Happy people try to preserve good mood by avoiding cognitive effor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2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2560" indent="-5281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od repai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Sad people try to fix mood by devoting more effort to solving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ree Explanations, (Cont.)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cessing Capacity Theories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and/or high-arousal moods may impair processing capaci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3-16T18:17:43Z</dcterms:modified>
  <cp:revision>178</cp:revision>
  <dc:subject/>
  <dc:title>Agenda for January 27th</dc:title>
</cp:coreProperties>
</file>