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EE55-AF25-43BA-9B43-F3FF3A72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A1391-D3E4-4B98-9D15-F4A3BA6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F3ADA-2AAE-42D5-88E5-EF320F6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4BFF3-1455-41CD-B5CF-22B8A58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A3A73-4682-41F3-B52E-E17DD10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FB93C-8000-4699-87CA-9ADFCB2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F869-6B08-4B8A-B009-A315321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948BF-91C7-4688-A703-82DE8EF3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A86B-7F37-4183-819A-7641EC7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838D8-3497-40B0-B554-960DFE7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819E5-74FC-4141-9DB9-3E9E8276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41580-629B-44BD-A093-B97E0C6C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8, Par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6006-B18C-4ACD-AB04-905590CBE715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7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" y="1294920"/>
            <a:ext cx="865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nouncements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per Presentations in SDS Conference Room, 223  wing of Porter H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semester grades submitted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of-semester party at my hous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4920" indent="-2149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genda for today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back exer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paper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tal Emotions &amp; Judgment/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Feedback Exercis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2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ers identify 3 different kinds of emotional influences on judgment &amp; decision making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he three ki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f these kinds seems most defensible from the standpoint of rationality? (1 sentence that explains your sele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3399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kind does Norbert Schwarz seem to be talking about in today’s reading?  State the kind and your reason for selecting it (one sentenc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95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per Preparation in Small Group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9000" y="1371240"/>
            <a:ext cx="872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emotion interests you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at is known about the emotion?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es it have a distinct physiological or cognitive profil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is it likely to occur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its expression and/or experience culturally shaped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cognition/judgment/choice domain will you link it 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kinds of evidence exists on this topic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89160" indent="-4294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 there enough literatur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02944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Do Incidental Emotions Shape Judgment and Choice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ffect Infusion according to J. Forga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.  “Process whereby affectively loaded information exerts an influence on and becomes incorporated into the judgmental process, entering into the judge’s deliberations and eventually coloring the judgmental outcom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fferent kinds of judgments/decisions have different affect-infusion potential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fect Infusion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gments/decisions requiring only reconstructive processing have little potential.  Two exampl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re-existing evaluation occurs with familiar or prototypical targ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an access already crystallized judg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tivated process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redetermined information search in order to arrive at a particular judgmental outco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fect Infusion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udgments/decisions requiring open, constructive processing have lots of potential.  Two examples: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euristic mechanis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se occur when target is simple, of little personal relev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ubstantive mechanis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ccurs with complex targets, when simpler, less effortful strategies prove inadequate to the ta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Kinds of Affect Infu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ffect-Priming Prin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f.)  Affective indirectly influences judgments during substantive processing through its selective influence on attention, encoding, retrieval, and associative processes. 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Affect congruent details tend to receive greater attention than do affect-incongruent details (Bower, 198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wo Kinds of Affect Infu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ffect-as-Information Prin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f.)  Feelings directly inform judgments during fast, heuristic processing as judges use their affective states as a short cut to infer their evaluative reactions to a target.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When weather affects ratings of life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07T16:54:56Z</dcterms:modified>
  <cp:revision>133</cp:revision>
  <dc:subject/>
  <dc:title>Agenda for January 27th</dc:title>
</cp:coreProperties>
</file>