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7EF87-E272-4365-A8CB-23E38A69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39284-80C6-4CE9-B2A2-504C8DF3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7E50B-34D2-4427-95CE-072C0C10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D7F83-7FEF-4AEA-ABA0-DE8626E5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F9F69-2F45-4C69-8ECC-1F9BA335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9C425-C8B9-4B0D-82D8-8C0CAD6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F3DB0-EF1C-411C-BE8F-F7197B8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5A4D-BE41-4C0D-A2BF-9F4D4F9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3CA8B-03CA-428C-918E-40BF798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D4F7C-E62A-4921-BA1E-15DF896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2AD18-BFFF-412D-992E-FAAF5FCD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2D4E4-6846-427B-B226-0E3A658E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8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2190-ADFF-4FAF-827E-2BD2F217615B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7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" y="129492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nouncements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per Presentations in SDS Conference Room, 223  wing of Porter H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semester grades submitted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of-semester party at my hous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genda for today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dback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paper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tal Emotions &amp; Judgment/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eedback Exercis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26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ers identify 3 different kinds of emotional influences on judgment &amp; decision making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he three ki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f these kinds seems most defensible from the standpoint of rationality? (1 sentence that explains your selec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kind does Norbert Schwarz seem to be talking about in today’s reading?  State the kind and your reason for selecting it (one sentenc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95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per Preparation in Small Group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9000" y="1371240"/>
            <a:ext cx="872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emotion interests you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at is known about the emotion?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es it have a distinct physiological or cognitive profil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is it likely to occur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 its expression and/or experience culturally shaped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cognition/judgment/choice domain will you link it 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kinds of evidence exists on this topic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 there enough literatur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02944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Do Incidental Emotions Shape Judgment and Choice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ffect Infusion according to J. Forga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.  “Process whereby affectively loaded information exerts an influence on and becomes incorporated into the judgmental process, entering into the judge’s deliberations and eventually coloring the judgmental outcom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fferent kinds of judgments/decisions have different affect-infusion potential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fect Infusion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dgments/decisions requiring only reconstructive processing have little potential.  Two example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re-existing evaluation occurs with familiar or prototypical targ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can access already crystallized judg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tivated process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redetermined information search in order to arrive at a particular judgmental outco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fect Infusion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dgments/decisions requiring open, constructive processing have lots of potential.  Two example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euristic mechanis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ese occur when target is simple, of little personal relev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bstantive mechanis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ccurs with complex targets, when simpler, less effortful strategies prove inadequate to the tas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 Kinds of Affect Infu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ffect-Priming Prin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ef.)  Affective indirectly influences judgments during substantive processing through its selective influence on attention, encoding, retrieval, and associative processes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Affect congruent details tend to receive greater attention than do affect-incongruent details (Bower, 198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 Kinds of Affect Infu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ffect-as-Information Prin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ef.)  Feelings directly inform judgments during fast, heuristic processing as judges use their affective states as a short cut to infer their evaluative reactions to a target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When weather affects ratings of life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07T16:54:56Z</dcterms:modified>
  <cp:revision>133</cp:revision>
  <dc:subject/>
  <dc:title>Agenda for January 27th</dc:title>
</cp:coreProperties>
</file>