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9DBB4-78DA-41D9-B94E-808C9EFC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CAC03-DC9C-48F3-8796-1D90721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6AB6F-C52A-4968-9A41-603AEF17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CDDD8-6AB3-4AF0-B95C-9DBE2D91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C6BB7-4DBA-4B60-AA05-484A8E23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9700D-493B-4B6E-946A-33D20C6D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0FAB7-AE7E-480D-8CFF-B813D8F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2EA8A-6255-4405-A5D5-1621E1B7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3C076-13B2-4594-8CEE-876F882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3C878-84B6-4C04-91E1-78874C6A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FE00B-D475-4D53-92B6-719FCF65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9609B-E37F-43D7-9EE4-35337510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8, Par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90B3-98BB-41CF-8A39-7AE15A5F8BF8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March 9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4920" indent="-214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ral Announcement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il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et in SDS Conference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y at my house, last week of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4920" indent="-214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me “Real World” Paper Topic Idea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&amp; Economic Decision Making (handou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/cons of Using Emotional Intelligence in  Personnel Selection and/or Academic Admi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/cons of Possessing Empathic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March 9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d-semester evaluations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tinue With Incidental Emotions &amp; Judgment/Choice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2:25 PM) Co-discussants for this week’s readings:  Jenni, Jodi, &amp; Aaron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id-Semester Evaluatio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se Number: 88-120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or:  J. Lerner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 Question 22 response scale: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= not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= g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= too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5600" y="456840"/>
            <a:ext cx="81817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Review: Three Kind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of Emotional Input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pected Emo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ticipatory Emo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cidental Emo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 Integ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276720"/>
            <a:ext cx="761760" cy="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343400"/>
            <a:ext cx="761760" cy="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3276720"/>
            <a:ext cx="0" cy="106668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080" y="3360600"/>
            <a:ext cx="22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02944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ncidental Influence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on Judgment and Choic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o Kinds of Affect Infusion (J. Forgas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 Priming” – indirect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 Mood-congruent attention &amp; retrie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ers:  Forgas, B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 as Information” – direct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 Good weather -&gt; Good ratings, unless subject becomes aware of we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ers:  Schwarz, Cl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en Does Affect Infusion Occur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ditions with high potential –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el targets of little personal relev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el targets that are complex &amp; difficult to evalu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ditions with low potential -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access of pre-existing evalu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ivated processing – to arrive at a predetermined judgmental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ffect Priming Example: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ood-State Dependency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32280" y="188604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52600" y="192888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5280" y="19288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st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" y="31813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560" y="5181480"/>
            <a:ext cx="8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19200" y="2690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8160" y="32241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92200" y="37576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5160" y="46483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92200" y="50529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8160" y="55864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81600" y="27669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4600" y="33004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69000" y="3833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98880" y="45957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71880" y="51292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57840" y="56624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828800" y="4800240"/>
            <a:ext cx="1371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05120" y="5410080"/>
            <a:ext cx="12952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5638680"/>
            <a:ext cx="137160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8954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411480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505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4952880"/>
            <a:ext cx="1981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594360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828800" y="2819160"/>
            <a:ext cx="1371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05120" y="3429000"/>
            <a:ext cx="12952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3657600"/>
            <a:ext cx="13716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Bower’s Affect Priming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1905120"/>
            <a:ext cx="0" cy="32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525780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02760" y="54673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d Recall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6600" y="543384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y Recall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-759960" y="306072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% Re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828800"/>
            <a:ext cx="4876920" cy="327672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752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S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3733920"/>
            <a:ext cx="5791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48400" y="3200400"/>
            <a:ext cx="11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447920" y="2057040"/>
            <a:ext cx="5486400" cy="30481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2600" y="1405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ap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14T16:52:38Z</dcterms:modified>
  <cp:revision>162</cp:revision>
  <dc:subject/>
  <dc:title>Agenda for January 27th</dc:title>
</cp:coreProperties>
</file>