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DFCD3-17D7-4962-BB98-B7D301B3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0579F-2EC4-4C9D-B80F-515A1A50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88A4-AE19-4D1E-8FAF-6786F9BE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AA206-85B8-4D3C-A55F-C42C468B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0BA60-21FB-4833-ACB1-216B719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64151-E095-474E-A87F-B5F5E9B1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F5E47-C8A3-46AF-B063-AFAD0E7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7A56F-68E6-4DAE-953F-FE61E55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00F00-4167-4C40-9690-3D60CFB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18DA-DF5B-468D-ADE7-FBA3E2C5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94EA7-AD13-4D0C-A269-8C2B76B8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2696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6040" y="167652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2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2696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6040" y="4004280"/>
            <a:ext cx="2760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831F-5375-43D6-A06C-3A28CC4E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400428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1676520"/>
            <a:ext cx="41839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04280"/>
            <a:ext cx="85741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96760"/>
            <a:ext cx="42228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96760"/>
            <a:ext cx="368280" cy="474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6696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57200"/>
            <a:ext cx="31680" cy="105264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21932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2" marL="8604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3" marL="120348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r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f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x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venth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ason, Passion, &amp; Social 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8576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ek 8, Par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5372-F8A4-4039-94EB-BA7B97326F06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nouncements for March 9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4920" indent="-214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ral Announcement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et in SDS Conference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y at my house, last week of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4920" indent="-214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“Real World” Paper Topic Idea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tions &amp; Economic Decision Making (handou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/cons of Using Emotional Intelligence in  Personnel Selection and/or Academic Admi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96800" indent="-1724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/cons of Possessing Empathic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1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genda for March 9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d-semester evaluations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tinue With Incidental Emotions &amp; Judgment/Choice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:25 PM) Co-discussants for this week’s readings:  Jenni, Jodi, &amp; Aaron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id-Semester Evalu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se Number: 88-120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or:  J. Lerner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Question 22 response scale: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= not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=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= too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5600" y="456840"/>
            <a:ext cx="8181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Review: Three Kind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of Emotional Input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pected Emo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ticipatory Emo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cidental Emotions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871560" indent="-53352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 Integ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276720"/>
            <a:ext cx="76176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343400"/>
            <a:ext cx="76176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3276720"/>
            <a:ext cx="0" cy="106668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080" y="3360600"/>
            <a:ext cx="22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02944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ncidental Influences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n Judgment and Choic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o Kinds of Affect Infusion (J. Forgas)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marL="22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 Priming” – indirect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 Mood-congruent attention &amp; retrie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ers:  Forgas, B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 as Information” – direct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 Good weather -&gt; Good ratings, unless subject becomes aware of we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604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ers:  Schwarz, Cl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hen Does Affect Infusion Occur?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74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ditions with high potential –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l targets of little personal relev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vel targets that are complex &amp; difficult to evalu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3920" indent="-22392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ditions with low potential - 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access of pre-existing evalu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17680" indent="-1796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vated processing – to arrive at a predetermined judgmental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ffect Priming Example: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ood-State Dependency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32280" y="188604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52600" y="192888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5280" y="192888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st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3181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560" y="5181480"/>
            <a:ext cx="8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19200" y="269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8160" y="32241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2200" y="37576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5160" y="46483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92200" y="50529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8160" y="5586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81600" y="276696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4600" y="330048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69000" y="3833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98880" y="45957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71880" y="51292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7840" y="56624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828800" y="480024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05120" y="541008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5638680"/>
            <a:ext cx="137160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8954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411480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505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4952880"/>
            <a:ext cx="1981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59436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828800" y="2819160"/>
            <a:ext cx="1371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05120" y="3429000"/>
            <a:ext cx="12952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3657600"/>
            <a:ext cx="13716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ower’s Affect Priming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905120"/>
            <a:ext cx="0" cy="32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52578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2760" y="54673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d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6600" y="543384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Recall M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-759960" y="30607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% Re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4876920" cy="327672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752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S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3733920"/>
            <a:ext cx="5791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48400" y="3200400"/>
            <a:ext cx="11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447920" y="2057040"/>
            <a:ext cx="5486400" cy="30481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2600" y="1405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ap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6:41:21Z</dcterms:created>
  <dc:creator>Jennifer Lerner</dc:creator>
  <dc:description/>
  <dc:language>en-US</dc:language>
  <cp:lastModifiedBy>Jennifer Lerner</cp:lastModifiedBy>
  <dcterms:modified xsi:type="dcterms:W3CDTF">2000-03-14T16:52:38Z</dcterms:modified>
  <cp:revision>162</cp:revision>
  <dc:subject/>
  <dc:title>Agenda for January 27th</dc:title>
</cp:coreProperties>
</file>