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200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628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200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628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17232-47C2-4261-89B1-998AC3B3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0FE0F-9439-4713-A93E-7A745D8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B8FAB-4164-4F0C-A44F-EDCB288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F140F-1E41-4DA0-83AD-AFAAACC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B2C91-E813-4334-A3B7-13B02E72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8EFA-934C-4328-BE27-C972A290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FB90B-50AF-4C81-ACD2-5E3706F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AABC0-F8A8-4960-902B-CA7D16EA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B7F51-EB65-4F80-BCF0-4041E2B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79D91-6912-4467-85B1-4AB52EC3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7E09-7D5A-40C2-A084-7E4B00AA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200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628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200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628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30611-814C-4D49-8524-548282CA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990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413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413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339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72080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4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ADBD-95E9-4DB4-8CD1-B9649A14AD3C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February 8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d Presentation This Thurs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xam next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er Assignment Distributed on Tuesday, 2/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edback Exercise (quiz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ation of 1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re Cognition and Emotion Separate Syste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’s topic: Emotional 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eedback Exercis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I.  Schachter &amp; Singer (1962) posit two necessary conditions for the experience of emotion.  What are th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II.  Are emotions contagious?  Why or why not? (Draw on today’s readings to inform your response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inuation of 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Present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Labilit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hacter &amp; Singer (196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ypothe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phoria Pat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i M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pi Ign &gt; Epi Inf = Placeb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ger Pat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i Ign &gt; Epi Inf = Placeb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Lability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3 x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rug (Epinephrine informed, Epi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orant, Placebo)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onfederate Emotion (Anger, Euphor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s offset Epi. Misinformed within Euph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imary DV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state (behavior and self repo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Lability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hacter &amp; Singer (196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Ss in Epi. Ign. and Epi. Mis. were more susceptible to stooge’s euph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havi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s in in Epi. Mis. were more likely to behave euphorically than ss in Epi. Mis.  Ss in Epi. Ign. more likely to act angrily than ss in Epi. Inf. Or in place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problems with the stud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lems with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chachter &amp; Singer Stud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al confound in the anger manipulation (questionnai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ison of self-reported euphoria (Table 2) not significantly different between placebo and Epi. Mis or Epi. 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behavioral data for anger.  Ss unwilling to act angry if it jeopardized extra-credit poi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lems with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chachter &amp; Singer Stud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ot caused placebo subjects to “get the shivers,” potentially obscuring epinephrine eff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&amp; S cannot, therefore, test their idea that “subjects will only reaction emotionally to the extent that they experience physiological arous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2-08T14:29:39Z</dcterms:modified>
  <cp:revision>51</cp:revision>
  <dc:subject/>
  <dc:title>Agenda for January 27th</dc:title>
</cp:coreProperties>
</file>