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16736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9680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200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628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200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628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3519-EAD1-4A23-98D6-FEFBCD0F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BBF5E-D3E2-49D5-9CCF-D437BA5E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893B2-4E52-4E57-A341-38FB87AB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A0377-1126-46B7-A48D-FCE39EF7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85671-5492-43D1-9F82-F91F5F48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808DD-9E7C-415C-9362-79E754B2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43AA6-D1EA-447A-B460-9F6570FC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680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7E7B6-CF66-4A0C-AE60-242E57E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70203-6A48-449C-B448-BA42409B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16736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C2162-1360-49EE-8CAC-584D5F96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9680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B282D-FB77-49AC-825C-446B7221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200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6280" y="201780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200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6280" y="4167360"/>
            <a:ext cx="261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A8468-2C5F-4B59-A8C3-8C877566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0" y="416736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0" y="2017800"/>
            <a:ext cx="396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167360"/>
            <a:ext cx="811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990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413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413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339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72080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4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C03C-4231-48D7-931B-1561E78CCEAB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February 8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dministrative Items/Announc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nd Presentation This Thurs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xam next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er Assignment Distributed on Tuesday, 2/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eedback Exercise (quiz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tinuation of 1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s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re Cognition and Emotion Separate System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day’s topic: Emotional 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5335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eedback Exercis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I.  Schachter &amp; Singer (1962) posit two necessary conditions for the experience of emotion.  What are the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II.  Are emotions contagious?  Why or why not? (Draw on today’s readings to inform your response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ntinuation of 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Presenta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al Labilit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chacter &amp; Singer (196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ypothe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uphoria Patter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i M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pi Ign &gt; Epi Inf = Placeb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ger Patter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i Ign &gt; Epi Inf = Placeb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al Lability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si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3 x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Drug (Epinephrine informed, Epi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gnorant, Placebo)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onfederate Emotion (Anger, Euphor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us offset Epi. Misinformed within Euph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imary DV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al state (behavior and self repor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al Lability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chacter &amp; Singer (196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o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Ss in Epi. Ign. and Epi. Mis. were more susceptible to stooge’s euph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havi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s in in Epi. Mis. were more likely to behave euphorically than ss in Epi. Mis.  Ss in Epi. Ign. more likely to act angrily than ss in Epi. Inf. Or in placeb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scus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problems with the stud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lems with th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chachter &amp; Singer Stud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al confound in the anger manipulation (questionnai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ison of self-reported euphoria (Table 2) not significantly different between placebo and Epi. Mis or Epi. Ig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behavioral data for anger.  Ss unwilling to act angry if it jeopardized extra-credit poi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lems with th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chachter &amp; Singer Stud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hot caused placebo subjects to “get the shivers,” potentially obscuring epinephrine eff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&amp; S cannot, therefore, test their idea that “subjects will only reaction emotionally to the extent that they experience physiological arous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2-08T14:29:39Z</dcterms:modified>
  <cp:revision>51</cp:revision>
  <dc:subject/>
  <dc:title>Agenda for January 27th</dc:title>
</cp:coreProperties>
</file>