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373-76EC-4A4C-9B2B-6E08E3FB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E3C-A7E1-4B73-BD33-82A877AF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BFA-4BD8-4B6F-935C-C752CCCB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357-D8C9-425F-BD23-60BA4D57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5A36-8FA6-455E-95A0-B93D570C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4A09-D7AE-46B1-8B70-C33E4FFF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E1B6-B63D-4DBD-A1FB-E2E96575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85DE-B397-4461-B047-5FDAFDBA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5F53-70D0-48D3-8DD5-57AAAC07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2DA-22F9-4A72-B13E-4F90BE0F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6B29-4B36-4B65-AC0F-6A92C897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ACD-0F25-4C2F-B4CC-865E36DF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F16A-91D3-4BA2-BFEE-6E8585B0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0604-EB98-494F-8C09-367A1624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E99A-C0AF-40AE-A5A6-F8CA3F49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7F6C-E17E-4037-8AD8-1736FD0D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9917-2A25-46AA-8F81-EF2E2185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62F-1CFB-4B9F-A1D0-C6DD2893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8D4-1CFC-4CFA-BE32-9EA3293C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A81-D99B-4DD0-A9F8-9CE07B30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932-7688-40AF-8564-B2C5B990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7BB-17D4-4839-99BF-63B75FBA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9CA-5F23-4162-8650-BA28CBE0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8CD-DAF9-499C-B91E-805FAE04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04B9-5B51-42B4-BFCD-8189E47379C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61A1-5164-4BEE-BDD3-DB6A8A110CB4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February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dministrative Items/Announc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n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PP prescreening due tom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esentation to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tinuation of 1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s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Debate:  Are Cognition and Emotion Separate System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re Cognition &amp; Emotion Separate System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rguments Supporting 2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s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View: Independent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euroscientific evidence: differences in neural pathway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Qualitative evidence: differences in functions, forms, and f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euroscientific Evide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direct pathway from the visual system to the thalamus and then to the amygdala, bypassing the visual cortex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can respond emotionally before we recognize what we are responding 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Qualitative Evidence of Differences Between Affect &amp; Cognition (Zajonc, 199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finite number of distinct cognitions but not of distinct emo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ists assume that “basic emotions” exist but not “basic cognition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s are readily classified into a limited set of dimensions (positive/negative; approach/avoidance) but cognitions to not lend themselves to this organiz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7621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Qualitative Evidence of Differences Between Affect &amp; Cognition (Zajonc, 199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archus:  “Reasoned thought can be wrong but passions canno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ons are always about something but affect does not always have a target.  Example: free-floating anxie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s trigger action but cognitions do not necessarily do so unless they activate an emo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Qualitative Evidence of Differences Between Affect &amp; Cognition (Zajonc, 199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hare emotions with lower animals  but cognitions are probably uniquely hum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s are readily communicated by their expressions; cognitions are cove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s are fairly universal across cultures; cognitions, especially their communicative medium (language) are n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Qualitative Evidence of Differences Between Affect &amp; Cognition (Zajonc, 199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ognitions have discernible antecedents but affective preferences do not necessarily have anteced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“cognitive virtuosos” (mathematical prodigies, etc.) but there are no “emotional virtuoso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2-03T15:23:25Z</dcterms:modified>
  <cp:revision>29</cp:revision>
  <dc:subject/>
  <dc:title>Agenda for January 27th</dc:title>
</cp:coreProperties>
</file>