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7B5-D494-4E33-A91D-36F7614E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449-8A5D-4C11-955E-45E1F0BC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347-F30C-4A82-A93A-37F3817D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1E9-2EB1-416E-AFF4-0862BA60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79A-FE79-4E52-8CFC-F25FFB12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925B-BCEF-4A29-99B2-F6BD2AEF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5D6E-5EE0-41EC-A815-ED539CF6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4DFC-372A-4A2E-9D9B-20DF271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3F0E-62C4-4C89-B2F2-83B3752A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3BB6-93F7-4B33-824E-EA9EA83B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E01A-E30F-4D36-BAE1-95902DEA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739-FDE4-4029-9DD0-A52F6833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6F8E-D5B9-4196-83C2-FADA7F9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F910-E264-4874-8536-921131C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C975-46F0-4E42-9FDF-4EB6E4ED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E9C1-DA5C-46B6-87E8-68D56611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7B06-7F9F-4995-BD77-370216F7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313-FB4E-4BE2-8D4A-AE001CEB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2C8-1A46-4615-BCC8-7CE44AF9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96E-0404-4CD4-93DB-3696922F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F6F-A646-4AE0-A823-722B5C57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C66-C9BE-4DBB-BBFC-F44847AD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F86-E910-40ED-958D-1575FB3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FBF-0DB1-4BCC-800E-D820868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8FCE-B812-4D62-89BF-17062078F53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C85A-36C5-47D7-A648-5AEB4D9CE494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February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PP prescreening due tom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esentation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tinuation of 1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Debate:  Are Cognition and Emotion Separate System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re Cognition &amp; Emotion Separate System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guments Supporting 2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View: Independent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roscientific evidence: differences in neural pathway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Qualitative evidence: differences in functions, forms, and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roscientific Evid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direct pathway from the visual system to the thalamus and then to the amygdala, bypassing the visual cortex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an respond emotionally before we recognize what we are responding 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Qualitative Evidence of Differences Between Affect &amp; Cognition (Zajonc, 199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finite number of distinct cognitions but not of distinct emo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ists assume that “basic emotions” exist but not “basic cognition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s are readily classified into a limited set of dimensions (positive/negative; approach/avoidance) but cognitions to not lend themselves to this organiz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762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Qualitative Evidence of Differences Between Affect &amp; Cognition (Zajonc, 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archus:  “Reasoned thought can be wrong but passions canno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ons are always about something but affect does not always have a target.  Example: free-floating anx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trigger action but cognitions do not necessarily do so unless they activate an emo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Qualitative Evidence of Differences Between Affect &amp; Cognition (Zajonc, 199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are emotions with lower animals  but cognitions are probably uniquely hum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s are readily communicated by their expressions; cognitions are cove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s are fairly universal across cultures; cognitions, especially their communicative medium (language) are n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Qualitative Evidence of Differences Between Affect &amp; Cognition (Zajonc, 199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ognitions have discernible antecedents but affective preferences do not necessarily have antece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“cognitive virtuosos” (mathematical prodigies, etc.) but there are no “emotional virtuoso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2-03T15:23:25Z</dcterms:modified>
  <cp:revision>29</cp:revision>
  <dc:subject/>
  <dc:title>Agenda for January 27th</dc:title>
</cp:coreProperties>
</file>