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085-2E75-4C36-A070-2ACACB9C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7E3-1E04-491A-8ED5-125308BE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731-61B0-4B5A-A999-ADE1A3F6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60E-8213-4F92-A886-1E0DA21B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965F-C7C4-4FF4-9B55-4B614F5E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F10-8844-4FC5-94BD-35FF1B4A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4A00-54E7-4B87-9489-626E2A08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65B-357D-4A92-9BF5-94ED5A77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EB41-30EB-47A1-ACAB-6BBBC92C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A50-7E44-4812-BCBA-93DB1B3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467-EA59-4A83-8BE1-A1F4386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A29-9192-4509-8D02-3898456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34A-C662-4A8F-AA18-8F1E635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EBE-94DF-4465-9B90-CC4B7C3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15A-A891-4276-9E2B-ED1D003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1354-8DBA-490D-94FA-A05CC5F7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E42-FC87-46D4-A361-9B8DC92E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B70-1316-4620-BA57-EFCD0C0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32C-39E2-47AA-8A59-6A75C864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3BD-4748-4ED7-AE83-10BE1FB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0CA-E654-4F50-9A98-D67D10A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353-935B-4FC3-80DC-B101237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E02-134A-469C-81F1-0D3157E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C7B-DBD5-4249-8886-47A86E3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0489-BB73-4A35-9604-C524B4437D5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C0A6-C76E-44A3-B259-9C5B978602B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ice hours today for Thursday’s discuss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last week’s exercise: Research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oduction to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re Cognition &amp; Emotion Separate System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guments Supporting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View: Interdependent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-factor theories of emotion (arousal + cognitive interpretation/attribu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aisal theories of 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impact of interrupted schemas and relationship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impact of counterfactual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-Factor Theo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classic studies on undifferentiated affect:  Schachter &amp; Singer (1962); Dutton &amp; Aron (197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Dutton &amp; Aron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icip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le colleg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2 (bridge type) x 2 (sex of confederate research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articipants asked to complete questionnaire and given phone number “in case participant wants more information about the stud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Any gues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n alternative explanation:  Relief, rather than arousal, drives affili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ite et al. (1981) Arousal without 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ticip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male colleg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2 (minutes of exercise: 2, 15) x 2 (make up on woman in videotape: attractive, unattr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Run in place then watch videotape of woman you expect to mee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Any gue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20968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4864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685800" y="2424600"/>
            <a:ext cx="54612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ed Attra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4400" y="55198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73720" y="5562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920" y="2286000"/>
            <a:ext cx="4038480" cy="12193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97160" y="1938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666520" y="3962160"/>
            <a:ext cx="4038840" cy="685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29640" y="43768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attr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762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335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rousal, without distress, intensifies emotional reactions – positive or 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these effects emerge because people misattribute their arousal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oretical premi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wo-factor theories:  people misattribute the source of their arousal to the salient targ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or this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 et al (1998) Review of 33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sal-attraction effect exists even when people know the actual source of their arou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sal simply facilitates whatever is the most natural respo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1T17:49:51Z</dcterms:modified>
  <cp:revision>23</cp:revision>
  <dc:subject/>
  <dc:title>Agenda for January 27th</dc:title>
</cp:coreProperties>
</file>