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1FE-412F-4457-8183-952D3DC6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B09-E311-4070-BE00-B9118A24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334-D8C0-4E64-870A-49C19646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654-63D7-48D1-BAC9-2A319238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E02C-1203-43A8-868B-7AFD6120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68D2-994B-4B98-9992-4B98666E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A8C9-8632-48CF-A71A-D0B7F1E6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1588-0645-42C8-A21F-8803E159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10F8-8D48-490E-822C-FFA44E70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0BDC-7673-45B0-AC9A-E413F8CC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9573-E962-4BD0-A6A2-8974E25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ED0-CA4D-4627-BD71-3262F033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61D7-E127-4E1C-8B7B-DC6D5335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2A52-DBE2-4A3C-8E16-C25B1AE3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62B2-A16D-4F5C-8FE6-36C8501A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579B-3BCF-4694-93A2-316CA993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9C6C-3F00-4BA9-AE7F-4BFDE0EB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E6B-45EA-429F-BDD9-4E09DD98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89C-4CA9-488B-BA1C-1DCCB834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7FA-498A-4451-9297-030FB5B9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C6B-8C6F-4729-BF9A-8D219549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5A5-B985-4C57-AC9B-E91D278F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BAF-9420-4C64-9A09-43E49BEB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6ED-21BF-4D24-84E7-2881B5E4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92C7-807C-4AF5-AEBD-A2CD5EBDE3E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6A06-D20A-4BB8-B247-C768665BA454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February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dministrative Items/Announc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ice hours today for Thursday’s discuss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ish last week’s exercise: Research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roduction to 1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Deb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re Cognition &amp; Emotion Separate System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guments Supporting 1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s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View: Interdependent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-factor theories of emotion (arousal + cognitive interpretation/attribu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aisal theories of e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al impact of interrupted schemas and relationship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al impact of counterfactual th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wo-Factor Theor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classic studies on undifferentiated affect:  Schachter &amp; Singer (1962); Dutton &amp; Aron (197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Dutton &amp; Aron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articipa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le college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e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2 (bridge type) x 2 (sex of confederate research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cedu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articipants asked to complete questionnaire and given phone number “in case participant wants more information about the stud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sul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 Any guess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n alternative explanation:  Relief, rather than arousal, drives affilia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4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ite et al. (1981) Arousal without di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ticipa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male college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si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2 (minutes of exercise: 2, 15) x 2 (make up on woman in videotape: attractive, unattractiv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ced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Run in place then watch videotape of woman you expect to mee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sul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Any guess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209680"/>
            <a:ext cx="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48640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685800" y="2424600"/>
            <a:ext cx="546120" cy="30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ed Attract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4400" y="55198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73720" y="5562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90920" y="2286000"/>
            <a:ext cx="4038480" cy="12193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97160" y="1938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r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666520" y="3962160"/>
            <a:ext cx="4038840" cy="685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29640" y="43768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attr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7621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335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rousal, without distress, intensifies emotional reactions – positive or 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o these effects emerge because people misattribute their arousal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4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oretical premi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wo-factor theories:  people misattribute the source of their arousal to the salient targ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for this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ster et al (1998) Review of 33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ousal-attraction effect exists even when people know the actual source of their arou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ousal simply facilitates whatever is the most natural respo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2-01T17:49:51Z</dcterms:modified>
  <cp:revision>23</cp:revision>
  <dc:subject/>
  <dc:title>Agenda for January 27th</dc:title>
</cp:coreProperties>
</file>