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A2D-BFD9-452A-998C-AA2BB8AE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E73-1D0B-4FB5-9D19-641A0CC8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8DA-3918-437B-9686-4ACC784C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8C3-93BC-4F64-B81A-52BE9882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A7E7-934C-4EFA-877D-AE17B628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4D93-5D8E-400C-B44A-FF8B649A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1F64-F82C-4409-9692-F664CF37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5B36-062F-4357-A721-4E692AFA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E6D5-EF0C-44EE-99DD-E0DF4E7F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0392-E046-442C-A008-0899DFC8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A6BF-94FC-4E13-8831-E6BC8DA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F0A-E634-4FF1-93AB-564D7839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371E-3B93-4FDF-8401-4146C410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7C5F-D364-43CF-A784-6C6E741E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6D0E-1363-4708-84D8-14421FD6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744D-7BD7-4150-9004-99038BB2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56DA-CDF9-457C-B4DD-4F60AA3B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7B3-BE07-4A3B-83AF-AEDC4AEA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629-41AF-4A32-BC53-BA7475E3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2F5-CE2F-4FEF-99A2-7670AD29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4BA-6921-4C84-8674-5A861DE3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A32-F85E-4229-A7B6-6E81DF84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0B5-2D34-482E-B850-612F29A2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263-E736-45C3-9810-892463AE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F72B-47E4-4AF9-86FB-4579343E817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0400-1038-469B-BB60-2DB9CD3AA39C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 for January 2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dministrative Items/Announc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douts: course enrollment, RPP instru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rse packs available for sale in 208 Porter H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ion of presentation week/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one with special needs: come see 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ctures on Thursda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llow up from last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ults from in-class stu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iz example (“feedback exercise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egin this week’s topic: Research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eps in the Scientific Investig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Formulate a testable hypo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Select the research method and design the stu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3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llect th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4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alyze the data and draw 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5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port the fin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ypes of Research Method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scriptive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ational Stu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3193ff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. Naturalistic Observ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3193ff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. Laboratory Observ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ional Stu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imental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. Descriptive Researc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low researcher to describe and predict behavi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 not show causa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. Case Stud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ed description of a particular individual under study or trea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2. Observational Stud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earcher carefully and systematically observes and records behavior without interfering in any way with the behavi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. Naturalistic Observ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d to describe behavior as it occurs in the natural environ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asure behavior in a systematic wa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. Laboratory Observ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scriptive stud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kes place in the la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ypes of Research Method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848720" cy="4038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4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ptive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ational Stu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3193ff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. Naturalistic Observ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3193ff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. Laboratory Observ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ional Stu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imental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3. Survey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estionnaires and interviews that ask people directly about their experiences, attitudes, or opin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. Tes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cedures used to measure personality traits, emotional states, aptitudes, interests, abilities, and valu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low-Up From Last Wee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z 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) What is the central tension between emotion theorists who take a social constructivist position vs. those who take an evolutionary position? (b) Explain one piece of evidence that supports each of these posi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Validit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fers to the degree to which the content of a test is representative of the domain it is supposed to co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eliabilit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ther a test yields consistent results from one time to anot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Correlational Stud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rrelation - a measure of how strongly two or more variables are related to each ot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ually used when cannot control the variables to be measur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ositive Correl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gh values of one variable are associated with high values of anot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w values of one variable are associated with low values of anot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atter Plot 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 up overhead transpar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Negative Correl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gh values of one variable are associated with low values of the other vari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there is no relationship between the variables, they are uncorrelat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orrelation Coefficien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rrelations are measured using the correlation coefficient (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ranges in value from -1.00 to +1.00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ausalit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rrelational studies give us information about relationships, but they cannot tell us anything about causa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ypes of Research Method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Descriptive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Correlational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Experimental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. Experimental Research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d to understand causa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rol situation being studie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 Open Mouth Increased Perceived Humorousness of the Carto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44720" y="2017800"/>
          <a:ext cx="7010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201780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04920" y="609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osed = 2.92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pen = 3.62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) = 6.61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lt; .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wo types of vari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dependent Variab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pendent Variab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ndependent Variabl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ariable that is manipulat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ld everything constant except for the independent vari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pendent Variabl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ariable affected by the manipul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xperimental a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ontrol Group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erimental group - group exposed to the manipul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rol group - group not exposed to the manipulation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andom Assignmen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icipants randomly assigned to either the experimental or control group.  This avoid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selection effec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lances individual differences among participants across groups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voiding Bia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ingle-Blind Stud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subjects are not told what condition they are 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Double-Blind Stud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person running experiment does not know which participants are in which groups during data collection.  This avoid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xperimental deman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cal analyses used to quantify strength of association between vari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volves the use of mathematics to organize, summarize, and interpret numerical d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scriptive 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sed to organize and summarize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vide an overview of numerical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main componen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Tend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ntral Tendenc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ree components to understanding the typical or average sco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di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d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di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ore that falls exactly in the center of the distribution of sco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lf of the scores fall above the median and half fall below the medi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ientific Metho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Decision Scie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sic belief that there are consistencies that can be uncover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ience as an ongoing proces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ithmetic average of the scores in the dis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o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most frequent score in the dis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Varian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much the scores in the data set vary from each other and the me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Standard Deviati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- index of the amount of variability in a set of d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nferential 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d to evaluate the probability that results might be due to chanc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tatistical Significan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cal significance - when low probability that observed findings are due to chance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ery low usually means less than 5 chances in 1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asurement and Descrip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nderstanding and Predi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plication and Contr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eps in the Scientific Investig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1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rmulate a testable hypo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2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lect the research method and design the stu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3: Collect th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4: Analyze the data and draw 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5: Report the fin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tentative statement about the relationship between two or more vari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perational Defini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scribes the actions that will be made to measure or control a vari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ubjects/Participan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son’s or animals whose behavior is systematically observed in a stud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1:15:50Z</dcterms:created>
  <dc:creator>Lynda Sagrestano</dc:creator>
  <dc:description/>
  <dc:language>en-US</dc:language>
  <cp:lastModifiedBy>Jennifer Lerner</cp:lastModifiedBy>
  <dcterms:modified xsi:type="dcterms:W3CDTF">2000-01-25T15:35:29Z</dcterms:modified>
  <cp:revision>14</cp:revision>
  <dc:subject>Chapter 1</dc:subject>
  <dc:title>Social Psychology</dc:title>
</cp:coreProperties>
</file>