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27B-CDA0-4CDF-93C5-02FBB21F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FB8-BAFD-46C5-90F3-A8023CD3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939-1C96-4B2B-864B-19FF71E1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6A3-05AA-4143-BBA2-4BB397B5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E3AF-4772-492C-B68F-01B2531D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3559-F26A-41C4-93AA-BB8AE9DB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4F2E-4580-48DC-9423-9ACB1DCE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222C-0CA5-4783-9A4C-1EDF04BB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FAB5-F85E-447D-8D35-D86EE5BE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A20E-0391-4FCF-B117-6E7E6ABA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398F-6B5E-4964-9824-460557F2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941-162F-4FAC-A200-FB3B30BC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362E-CAF2-4DDB-849E-5C710404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DDE2-5AFF-4C35-BD89-D12E8E63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B318-8DFE-45A2-AE62-20E236EB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98DD-50B6-4BA5-B138-93685FF3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F0E5-79EB-4361-AA3E-A70645F6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5E1-8C9D-4E8E-B0E2-E1B92D88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1F8-29DA-49C1-A95C-E006CC4E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119-533B-40FE-BC23-9CB6F50A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FFE-795B-404D-9185-DFD6B66E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C9A-1D10-4F5F-9203-56F6AFE6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DBD-0911-4784-B023-BED00D2D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FF9E-3BD2-46A7-9A93-5B29F573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5ABD-401A-4362-AC41-D3E73BD9DC7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B3D6-BCBE-476A-89C2-AD3D919C418F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da for January 25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dministrative Items/Announc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ndouts: course enrollment, RPP instru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rse packs available for sale in 208 Porter H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ction of presentation week/top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one with special needs: come see 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ctures on Thursday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ollow up from last w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ults from in-class stu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iz example (“feedback exercise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egin this week’s topic: Research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teps in the Scientific Investigati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1: Formulate a testable hypo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2: Select the research method and design the stu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3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llect th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4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alyze the data and draw 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5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port the find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ypes of Research Method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escriptive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e Stud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ational Stud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3193ff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. Naturalistic Observ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3193ff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. Laboratory Observ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ve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lational Stu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rimental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. Descriptive Research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low researcher to describe and predict behavi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 not show causa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. Case Stud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tailed description of a particular individual under study or treat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2. Observational Stud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earcher carefully and systematically observes and records behavior without interfering in any way with the behavi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. Naturalistic Observati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d to describe behavior as it occurs in the natural environ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asure behavior in a systematic wa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b. Laboratory Observati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scriptive stud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kes place in the la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ypes of Research Method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848720" cy="4038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4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ptive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e Stud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ational Stud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3193ff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. Naturalistic Observ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3193ff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. Laboratory Observ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urve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lational Stu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rimental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3. Survey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estionnaires and interviews that ask people directly about their experiences, attitudes, or opin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4. Tes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cedures used to measure personality traits, emotional states, aptitudes, interests, abilities, and valu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llow-Up From Last Wee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z 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a) What is the central tension between emotion theorists who take a social constructivist position vs. those who take an evolutionary position? (b) Explain one piece of evidence that supports each of these posi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Validit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fers to the degree to which the content of a test is representative of the domain it is supposed to co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eliabilit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ther a test yields consistent results from one time to anoth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Correlational Stud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rrelation - a measure of how strongly two or more variables are related to each oth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ually used when cannot control the variables to be measur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Positive Correl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gh values of one variable are associated with high values of anoth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w values of one variable are associated with low values of anoth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catter Plot 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t up overhead transpar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Negative Correl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gh values of one variable are associated with low values of the other vari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there is no relationship between the variables, they are uncorrelat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orrelation Coefficien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rrelations are measured using the correlation coefficient (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ranges in value from -1.00 to +1.00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ausalit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rrelational studies give us information about relationships, but they cannot tell us anything about causa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ypes of Research Method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. Descriptive Resear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. Correlational Resear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Experimental Resear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. Experimental Research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d to understand causa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trol situation being studied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n Open Mouth Increased Perceived Humorousness of the Carto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44720" y="2017800"/>
          <a:ext cx="7010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2017800"/>
                    <a:ext cx="7010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04920" y="609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osed = 2.92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pen = 3.62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1) = 6.61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lt; .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Variab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wo types of vari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dependent Variab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pendent Variab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ndependent Variabl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ariable that is manipulat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ld everything constant except for the independent vari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pendent Variabl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ariable affected by the manipul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xperimental a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ontrol Group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perimental group - group exposed to the manipul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trol group - group not exposed to the manipulation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andom Assignmen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icipants randomly assigned to either the experimental or control group.  This avoid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selection effec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lances individual differences among participants across groups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Avoiding Bia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Single-Blind Stud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subjects are not told what condition they are 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Double-Blind Stud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person running experiment does not know which participants are in which groups during data collection.  This avoid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xperimental deman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tatistic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cal analyses used to quantify strength of association between vari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volves the use of mathematics to organize, summarize, and interpret numerical d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scriptive Statistic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sed to organize and summarize d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vide an overview of numerical d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main component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Tend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entral Tendenc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ree components to understanding the typical or average sco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edi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e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d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edi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ore that falls exactly in the center of the distribution of sco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alf of the scores fall above the median and half fall below the medi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ientific Metho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Decision Scie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sic belief that there are consistencies that can be uncover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ience as an ongoing proces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e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ithmetic average of the scores in the distrib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o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most frequent score in the distrib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Varianc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much the scores in the data set vary from each other and the me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Standard Deviati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- index of the amount of variability in a set of d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nferential Statistic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d to evaluate the probability that results might be due to chanc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tatistical Significanc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cal significance - when low probability that observed findings are due to chance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ery low usually means less than 5 chances in 1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asurement and Descrip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nderstanding and Predi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plication and Contro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teps in the Scientific Investigati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1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rmulate a testable hypo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2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lect the research method and design the stu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3: Collect th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4: Analyze the data and draw 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 5: Report the find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ypothesi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tentative statement about the relationship between two or more vari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perational Defini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scribes the actions that will be made to measure or control a vari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ubjects/Participan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son’s or animals whose behavior is systematically observed in a stud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2T21:15:50Z</dcterms:created>
  <dc:creator>Lynda Sagrestano</dc:creator>
  <dc:description/>
  <dc:language>en-US</dc:language>
  <cp:lastModifiedBy>Jennifer Lerner</cp:lastModifiedBy>
  <dcterms:modified xsi:type="dcterms:W3CDTF">2000-01-25T15:35:29Z</dcterms:modified>
  <cp:revision>14</cp:revision>
  <dc:subject>Chapter 1</dc:subject>
  <dc:title>Social Psychology</dc:title>
</cp:coreProperties>
</file>