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13B-F12B-4955-8878-BD7B30AE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42F-FC3C-4630-B95D-1E6F5408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12D-1EB0-4DD7-883E-787817A8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354-2818-4C4E-AEB0-4A505CC1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3FE7-9D63-437F-AADE-1619658F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5F8A-1E5E-408F-B0C6-4EA416C9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63D5-61EC-4DC1-836C-693861CE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D619-37A7-4831-9953-25491607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C133-9B0A-4BFE-AC67-8741FFC1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A0FD-632A-4E42-A811-64E28F29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00EA-9C62-4C18-96E6-80CF9A9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303-8BFA-43A8-A0B0-9B45616C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6256-A099-46E1-BB73-00F93E0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99E5-4B91-42ED-B94D-7F4EB52E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D944-5576-495A-8256-C7393A3E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9086-AB48-4B26-8C48-70D83FCE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CBD0-0B14-4FEF-B7F1-06DD2DF9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CC0-4A60-4B28-8612-248D0638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123-1F24-46D8-836B-17CCD656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8C5-F614-4D25-982A-14AEE196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36F-E689-4FE1-B108-85B0D65E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BED-97D0-4D8A-ACF9-55BDEBA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40F-45D3-4B78-9C60-5D4CD9D0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9BE-7442-46A1-B26E-8260783A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42AC-B158-44C3-A222-099DC36B998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E446-5920-465D-BFC9-01C3F53CE4D1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January 27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out: presentation sign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tures toda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ish this week’s topic: Research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thods exerci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Statistical Significan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cal significance - when low probability that observed findings are due to chance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ery low usually means less than 5 chances in 1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cal analyses used to quantify strength of association between vari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volves the use of mathematics to organize, summarize, and interpret numerical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Descriptive 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d to organize and summarize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vide an overview of numerical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main compon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Tend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Central Tendenc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ree components to understanding the typical or average sco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di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Medi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ore that falls exactly in the center of the distribution of sco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lf of the scores fall above the median and half fall below the medi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Me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ithmetic average of the scores in the dis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Mo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ost frequent score in the dis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Varian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much the scores in the data set vary from each other and the m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Standard Deviati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 index of the amount of variability in a set of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Inferential 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d to evaluate the probability that results might be due to chanc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1-27T16:51:55Z</dcterms:modified>
  <cp:revision>3</cp:revision>
  <dc:subject/>
  <dc:title>Agenda for January 27th</dc:title>
</cp:coreProperties>
</file>