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1EDB-0666-48ED-BDFB-E827E20BC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CA67-894A-41C9-B269-7CCA1AD71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8E24-DF01-49A0-B5C6-45A91B2A9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C13F-C37D-40E0-857C-F54485312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0DDA9-4B60-41E7-8709-F0D8F74AD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0E961-B4AB-4B3A-A3F6-D2468CF82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54087-CAF6-40D1-9D10-AD95E5123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C4A1D-6AB1-4A46-8E0B-06A0396E9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1A066-3185-4B0B-A21D-0F3264186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653D0-CD06-4E3A-94A5-1BE1738EC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20866-BCAE-44DB-962C-896F6378E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162F-044E-41A7-A876-6A12D1044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13A4F-F87F-4F18-BE96-5EB926C87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F246D-73C3-4886-9B37-22FBBDE96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812C1-D957-48F2-A55D-D227E2493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5FAA2-F361-439C-A65F-E371C07A4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ECBF4-8AA5-4528-BD4D-4C658B531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C7A2-84C1-458A-942C-DDE814067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6738-6CFF-4BC0-8BDC-3BD7100B2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72AA-D357-4292-AD1A-6D03527CD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3042-AC39-43E7-9841-E827F2852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63F9-5009-49CF-9090-F4D4D9FE7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DCB5-40BB-4C8F-AF3B-BF2DF9709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C331-9A84-4145-8F7D-0EC8B59D3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9900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100000">
                <a:srgbClr val="0000c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000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00009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99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193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8D2C9-5F96-4515-ACE0-F52FA2445C85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0000cc"/>
                  </a:gs>
                  <a:gs pos="100000">
                    <a:srgbClr val="ffcc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99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0000cc"/>
                  </a:gs>
                  <a:gs pos="100000">
                    <a:srgbClr val="99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3399"/>
                </a:gs>
                <a:gs pos="100000">
                  <a:srgbClr val="0000c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0000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0000cc"/>
                </a:gs>
                <a:gs pos="100000">
                  <a:srgbClr val="00009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4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4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4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4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4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9E548-08DF-4F04-8504-9F54D12E51B7}" type="slidenum">
              <a:rPr b="0" lang="en-US" sz="1400" spc="-1" strike="noStrike">
                <a:solidFill>
                  <a:srgbClr val="000094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Agenda for January 27</a:t>
            </a:r>
            <a:r>
              <a:rPr b="0" lang="en-US" sz="4400" spc="-1" strike="noStrike" baseline="30000">
                <a:solidFill>
                  <a:srgbClr val="ffcc00"/>
                </a:solidFill>
                <a:latin typeface="Tahoma"/>
              </a:rPr>
              <a:t>th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828440"/>
            <a:ext cx="8345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Administrative Items/Announcem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ttenda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ndout: presentation signu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ictures today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Finish this week’s topic: Research Metho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Methods exercis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ahoma"/>
              </a:rPr>
              <a:t>Statistical Significance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tatistical significance - when low probability that observed findings are due to chance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Very low usually means less than 5 chances in 100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ahoma"/>
              </a:rPr>
              <a:t>Statistics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tatistical analyses used to quantify strength of association between variabl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nvolves the use of mathematics to organize, summarize, and interpret numerical dat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ahoma"/>
              </a:rPr>
              <a:t>Descriptive Statistics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Used to organize and summarize dat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Provide an overview of numerical dat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wo main components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entral Tendenc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aria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ahoma"/>
              </a:rPr>
              <a:t>Central Tendency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ree components to understanding the typical or average scor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media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mea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mode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ahoma"/>
              </a:rPr>
              <a:t>Median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core that falls exactly in the center of the distribution of scor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Half of the scores fall above the median and half fall below the media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ahoma"/>
              </a:rPr>
              <a:t>Mean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243828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rithmetic average of the scores in the distributio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ahoma"/>
              </a:rPr>
              <a:t>Mode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e most frequent score in the distributio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ahoma"/>
              </a:rPr>
              <a:t>Variance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How much the scores in the data set vary from each other and the mea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ahoma"/>
              </a:rPr>
              <a:t>Standard Deviation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- index of the amount of variability in a set of dat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ahoma"/>
              </a:rPr>
              <a:t>Inferential Statistics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Used to evaluate the probability that results might be due to chance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7T16:41:21Z</dcterms:created>
  <dc:creator>Jennifer Lerner</dc:creator>
  <dc:description/>
  <dc:language>en-US</dc:language>
  <cp:lastModifiedBy>Jennifer Lerner</cp:lastModifiedBy>
  <dcterms:modified xsi:type="dcterms:W3CDTF">2000-01-27T16:51:55Z</dcterms:modified>
  <cp:revision>3</cp:revision>
  <dc:subject/>
  <dc:title>Agenda for January 27th</dc:title>
</cp:coreProperties>
</file>