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90D-888D-44B1-A5FC-ED6D2DC7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7A9-BEB9-47F9-9F86-32E79488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204-4B31-4294-B9F2-569D2FA4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6B3-1F8C-4FC2-A152-96F9FA0C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6F4-25B6-469D-AEA2-654E360C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EA3-D78B-4710-9C54-27761343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204-1EA2-46D5-8262-722FDFBD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CF1-A1CB-479B-8CD4-45F7FE76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9CC-751B-46B0-8411-0B4FD474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776-38FD-4540-B582-DEDE75F0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E96-0101-4367-AED8-99B9C8E2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FE7-A205-4F5A-841A-37AE21DB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D95-503E-4B0D-9FEE-9E930DE42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Open Mouth Increases Perceived Humorousness of a Carto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1981080"/>
          <a:ext cx="7010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4920" y="609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osed = 2.92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n = 3.62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) = 6.61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6:03:18Z</dcterms:created>
  <dc:creator>Jennifer Lerner</dc:creator>
  <dc:description/>
  <dc:language>en-US</dc:language>
  <cp:lastModifiedBy>Jennifer Lerner</cp:lastModifiedBy>
  <dcterms:modified xsi:type="dcterms:W3CDTF">2000-01-24T16:16:17Z</dcterms:modified>
  <cp:revision>2</cp:revision>
  <dc:subject/>
  <dc:title>An Open Mouth Increases Perceived Humorousness of a Cartoon</dc:title>
</cp:coreProperties>
</file>