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16B3-0ADB-437A-977A-582EA184F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57B7-B3C3-4677-93BC-CA1DC7F4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A74F-1266-431B-9191-2AADA2F4C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30B1-112F-48E7-BBBF-A3E81BE9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509C-94D8-4E0B-B8F6-5DF85E90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EF24-F20D-41FD-8A50-A33C8E45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C977-87F6-4CB2-B010-AB417D0F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652F-B974-4D69-A548-5D7A5683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1BE6-66DB-4323-8E7E-5A0C1B33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B1C6-B43C-4879-9375-B8B50D3E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C398-F88B-4FBC-972C-2772953E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D1B2-74C2-4C98-A146-2AA96403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8205-DFF7-4816-AB47-A46136B5A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Open Mouth Increases Perceived Humorousness of a Carto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447920" y="1981080"/>
          <a:ext cx="7010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81080"/>
                    <a:ext cx="7010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304920" y="6095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osed = 2.92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n = 3.62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) = 6.61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 .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6:03:18Z</dcterms:created>
  <dc:creator>Jennifer Lerner</dc:creator>
  <dc:description/>
  <dc:language>en-US</dc:language>
  <cp:lastModifiedBy>Jennifer Lerner</cp:lastModifiedBy>
  <dcterms:modified xsi:type="dcterms:W3CDTF">2000-01-24T16:16:17Z</dcterms:modified>
  <cp:revision>2</cp:revision>
  <dc:subject/>
  <dc:title>An Open Mouth Increases Perceived Humorousness of a Cartoon</dc:title>
</cp:coreProperties>
</file>