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CB090-4367-4CFA-B05A-240B126F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F1380-F772-472C-86FF-1D307508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3A084-8A3B-40B0-867B-4A773D66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6B555-A588-4FAB-9653-B18B432C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5EFB2-8D10-4D82-ADF7-C3C7EDBF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D5655-FA3F-41D1-9C0B-FA052CF9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57128-EA80-4695-94B9-82264C58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0EB26-248B-4B79-AC97-FEC01A79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5692A-072B-4792-BF76-E68E128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421B1-F370-49D3-884D-5A6990DF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C5E77-AC73-4344-BFF0-D50A92D4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C047B-E622-4A64-8B5E-14CAE162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4816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5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2D7-07D8-4C59-9E8B-440E075C2996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genda for May 2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Logistics for class dinner par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What to br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Where to me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Gues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Finish emotional contro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eview class da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eview “Big Question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General review for ex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Return pap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 Regulation Scor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7680" y="1371600"/>
          <a:ext cx="8313840" cy="44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371600"/>
                    <a:ext cx="831384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972000" y="54928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. 2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x. 6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1040" y="5486400"/>
            <a:ext cx="5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0080" y="5486400"/>
            <a:ext cx="5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1400" y="5486400"/>
            <a:ext cx="5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3960" y="5470560"/>
            <a:ext cx="5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5257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Control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7412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“big questions:”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n we regul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happens if we attempt to regul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 some people regulate more than oth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x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ty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al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ain Topics for Exam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 incidental emotions shape judgment?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effects do incidental emotions hav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der what condi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o they have such effec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an we control our emotions?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“big questions” from previous sl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533520"/>
            <a:ext cx="77929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o Incidental Emotion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Shape Judgment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,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t.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2400" indent="-2124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 effects do incidental emotions have?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1760" indent="-170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ent Eff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a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ributions of causality &amp; respon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fea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isk perce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these emotion-specific effects, valence effects, or bot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91760" indent="-170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cess Eff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happines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ereoty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these arousal effects, motivation effects, or bot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o Incidental Emotion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Shape Judgment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Under what conditions do incidental emotions influence judgment &amp; choice?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people rely on heuristic thou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emotion-specific goals are not m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mments on Paper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1400" indent="-2214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llent Overall:  Median and mean = 87%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1400" indent="-2214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mon mistakes and ways to improve: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2280" indent="-177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” is a no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176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Anger exerts a powerful effect on attributions.  The effect of anger is powerfu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2280" indent="-177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” is a verb (as in to alter) or a noun (as in emo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176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Anger affects attributions of all kind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5176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Anger is one of many affective influence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5-02T15:59:41Z</dcterms:modified>
  <cp:revision>263</cp:revision>
  <dc:subject/>
  <dc:title>Agenda for January 27th</dc:title>
</cp:coreProperties>
</file>