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DC6D5-D895-420C-9E32-6120614E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2D60F-5DFF-4DAE-B599-369B8208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67392-C777-42B3-9DAC-31C750C7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3BB01-636E-4610-B682-69803A78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55C91-801C-49A4-8504-FF0A8A53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0C391-77E7-4AD1-9652-92FD4EBF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2DDAE-AF84-48EF-A346-1DE03A27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AD6CF-5BBC-4F61-8031-DCFB4FC1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009E8-603F-4CAB-AF61-FFADAC79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DAC1C-F310-4736-BB15-AF69CF13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18BEC-2094-41CE-9CE2-4EA30047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A2489-3B34-4525-8CF9-C0F38519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24816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15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F52F-FC8C-4B5D-B114-616F1E65D846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genda for May 2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5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Logistics for class dinner par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4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What to br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4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Where to me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4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Gues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Finish emotional contro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4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Review class dat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4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Review “Big Questions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General review for exa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Return pape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motion Regulation Scor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7680" y="1371600"/>
          <a:ext cx="8313840" cy="44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371600"/>
                    <a:ext cx="831384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972000" y="549288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. 2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x. 6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1040" y="5486400"/>
            <a:ext cx="5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0080" y="5486400"/>
            <a:ext cx="5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1400" y="5486400"/>
            <a:ext cx="5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3960" y="5470560"/>
            <a:ext cx="5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52578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motional Control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7412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“big questions:”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n we regula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happens if we attempt to regula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o some people regulate more than oth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x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ity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tural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ain Topics for Exam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o incidental emotions shape judgment?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effects do incidental emotions hav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h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der what condi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o they have such effec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an we control our emotions?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 “big questions” from previous sli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533520"/>
            <a:ext cx="77929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Do Incidental Emotions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Shape Judgment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,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t.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2400" indent="-2124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 effects do incidental emotions have?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491760" indent="-170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tent Eff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17200" indent="-217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ange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tributions of causality &amp; respon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17200" indent="-217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fea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isk perce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17200" indent="-217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these emotion-specific effects, valence effects, or both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91760" indent="-170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cess Eff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17200" indent="-217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 happines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tereoty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17200" indent="-217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these arousal effects, motivation effects, or both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Do Incidental Emotions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Shape Judgment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Under what conditions do incidental emotions influence judgment &amp; choice?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people rely on heuristic thou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emotion-specific goals are not m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mments on Paper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1400" indent="-2214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llent Overall:  Median and mean = 87%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1400" indent="-2214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mon mistakes and ways to improve: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2280" indent="-177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” is a no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51760" indent="-226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 Anger exerts a powerful effect on attributions.  The effect of anger is powerfu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2280" indent="-177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” is a verb (as in to alter) or a noun (as in emo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51760" indent="-226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 Anger affects attributions of all kind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51760" indent="-226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 Anger is one of many affective influence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5-02T15:59:41Z</dcterms:modified>
  <cp:revision>263</cp:revision>
  <dc:subject/>
  <dc:title>Agenda for January 27th</dc:title>
</cp:coreProperties>
</file>