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6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8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63B5-17B0-4A3D-A1CB-43A5C28A9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B:  We focus on “incidental emotion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: Discussants lead discussion of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wo articles, I lead discussion of last article, then lecture on how they fit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“content” and “process” effects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xactly is the distinction between these two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give an example of a paper that focuses on content effec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ltner, Ellsworth &amp; Ed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son &amp; Tver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rner &amp; Kel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berg, Lerner &amp; Tet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give an example of a paper that focuses on process effe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gas (FAE pap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enhausen et al (1994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give an example of a paper that focuses on both kinds of effe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rner, Goldberg &amp; Tetlock (199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AC19F-4B3F-48DF-8595-39A3A0E6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5F461-2C41-48A5-B2E1-6DA01866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A14C4-01E4-4258-ABB5-EE8BACB5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8EBC1-CD2E-4029-8CB4-4C0DBA22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C8147-C30C-4120-B616-A7412AA6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4FE9A-E93C-44C5-BB77-E9184BEC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1B605-AA09-47B5-899B-FAF1C060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30E2F-FCFE-4755-BCEB-0667C560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B3912-339D-46F2-8377-838D4C7E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268CC-33EA-4E92-836C-FA3AD2E8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AABBD-A0C6-4ECE-9BEA-E9C82F26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231C8-108D-481D-A4BE-80212B59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335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82480"/>
            <a:ext cx="32832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96760"/>
            <a:ext cx="422280" cy="474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9676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6696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457200"/>
            <a:ext cx="31680" cy="105264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21932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lick to edit the outline text format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con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2" marL="860400" indent="-2286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ir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3" marL="1203480" indent="-22860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ur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f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ix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ven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ason, Passion, &amp; Social 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24816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eek 14, Par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0182-768E-48AB-A7A5-2FDEABA6C2C1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lick to edit the outline text format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3380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631800" algn="ctr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974880" algn="ctr">
              <a:spcBef>
                <a:spcPts val="4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Gross &amp; Levenson (1993)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motion regulation (def.)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anipulation in self or other of (a) emotional antecedents or (b) one or more of the physiological, subjective, or behavioral components of the emotional respons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ir studies focus on part 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Gross &amp; Levenson (1993) Results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7412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uppression decreased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ressive behavior (e.g., facial movemen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atic 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rt 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-2239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uppression increas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in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 arousal, indicated by sympathetic nervous system activity (e.g., electrodermal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-2239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uppression had no effect 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f reports of emotional 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peri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Gross &amp; Levenson (1993) Conclusions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motional control is not perfect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ing certain responses resulted in increases in oth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otional control takes effort, which increases arous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rousal is not unitary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indicators up, some d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Announcements/Agenda for April 25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650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1560" indent="-533520">
              <a:lnSpc>
                <a:spcPct val="90000"/>
              </a:lnSpc>
              <a:spcBef>
                <a:spcPts val="751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lass evaluations toda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lnSpc>
                <a:spcPct val="90000"/>
              </a:lnSpc>
              <a:spcBef>
                <a:spcPts val="751"/>
              </a:spcBef>
              <a:buClr>
                <a:srgbClr val="ff3399"/>
              </a:buClr>
              <a:buSzPct val="9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Dinner party option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9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Thursday 4/27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9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Tuesday 5/2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9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Thursday 5/4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lnSpc>
                <a:spcPct val="90000"/>
              </a:lnSpc>
              <a:spcBef>
                <a:spcPts val="751"/>
              </a:spcBef>
              <a:buClr>
                <a:srgbClr val="ff3399"/>
              </a:buClr>
              <a:buSzPct val="9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Finish process effec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lnSpc>
                <a:spcPct val="90000"/>
              </a:lnSpc>
              <a:spcBef>
                <a:spcPts val="751"/>
              </a:spcBef>
              <a:buClr>
                <a:srgbClr val="ff3399"/>
              </a:buClr>
              <a:buSzPct val="9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Begin discussion of controlling emotion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8600" y="228600"/>
            <a:ext cx="8763120" cy="3886200"/>
          </a:xfrm>
          <a:prstGeom prst="horizontalScroll">
            <a:avLst>
              <a:gd name="adj" fmla="val 12500"/>
            </a:avLst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Positive &amp; Negative Emo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 Examining Content &amp; Process Effects</a:t>
            </a:r>
            <a:endParaRPr b="0" lang="en-US" sz="40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18960" y="3885840"/>
            <a:ext cx="7010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son &amp; Tversky (1983)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rner &amp; Keltner (in press)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denhausen et al. (1994)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rocess Effect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ain Hypothes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Bodenhausen et al./Forgas):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. emotions, such as happiness, trigger heuristic tho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xamp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ppy people more likely to rely on stereotypes (Bodenhausen et al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rocess Effects, cont.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ossible explanations for effects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2" marL="1089000" indent="-457200">
              <a:spcBef>
                <a:spcPts val="700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occupation with pleasing events constrains capacity for systematic thou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spcBef>
                <a:spcPts val="700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ruptive arousal or excitement constrains systematic thou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spcBef>
                <a:spcPts val="700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ort conservation”: happy people not motivated to engage in cognitive effort, unless tasks have relevance to well-being. (Similar to “mood maintenance” ide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rocess Effects, Cont.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ests of Possible Explanations in Bodenhausen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eoccupation with pleasing events???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o: Mood inductions with various degrees of cognitive content all produce same result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203480" indent="-228600">
              <a:spcBef>
                <a:spcPts val="601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mories of happy events (Study 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203480" indent="-228600">
              <a:spcBef>
                <a:spcPts val="601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acial feedback (Study 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203480" indent="-228600">
              <a:spcBef>
                <a:spcPts val="601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leasant music (Study 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rocess Effects, Cont.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ests of Possible Explanations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ousal constrains processing??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:  Excited happy people do not stereotype more than do calm, happy people (music stud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rocess Effects, Cont.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ests of Possible Explanations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ort conservation??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sibly:  Accountable subjects less likely to stereotype than non-accountable subject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an we control emotion?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ur approach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 one empirical paper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day’s foc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 three theoretical accou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supplemental studies and theories on Thurs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6:41:21Z</dcterms:created>
  <dc:creator>Jennifer Lerner</dc:creator>
  <dc:description/>
  <dc:language>en-US</dc:language>
  <cp:lastModifiedBy>Jennifer Lerner</cp:lastModifiedBy>
  <dcterms:modified xsi:type="dcterms:W3CDTF">2000-04-25T15:06:32Z</dcterms:modified>
  <cp:revision>237</cp:revision>
  <dc:subject/>
  <dc:title>Agenda for January 27th</dc:title>
</cp:coreProperties>
</file>