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156-CFA7-47FD-810A-86F163C78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:  We focus on “incidental emo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: Discussants lead discussion of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wo articles, I lead discussion of last article, then lecture on how they fi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“content” and “process” effect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xactly is the distinction between these two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content effec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ltner, Ellsworth &amp;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son &amp; Tver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rner &amp; Kel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berg, Lerner &amp; Tet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process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as (FAE pap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enhausen et al (199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give an example of a paper that focuses on both kinds of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rner, Goldberg &amp; Tetlock (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BBC9-5CCB-4F8F-92ED-2299A550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4DEDB-1BA8-41BB-90F6-1B292CE3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B38E8-BA88-4D55-A13D-4AD9B26C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EBAC5-639C-4287-8575-D171EA49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62A8D-B7AE-4C7E-B858-44EF1C43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AE89-DF0D-4D9B-866D-FE637F3A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363A-F62E-448F-94C8-3E0FCB7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2178-3EDC-4BA1-B602-B856F9E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F20E4-30C4-427B-9B97-FE6A9F1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D0BBC-108E-4DD7-BA3F-DF395C5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3678E-9A3F-4CE9-A9C2-FC4B039F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0B67-01C4-47D7-BE77-9503038F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4816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14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4A13-B11A-493C-A614-73E9631952BB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338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6318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97488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oss &amp; Levenson (1993)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 regulation (def.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nipulation in self or other of (a) emotional antecedents or (b) one or more of the physiological, subjective, or behavioral components of the emotional respon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studies focus on part 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Gross &amp; Levenson (1993) Result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decreased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ive behavior (e.g., facial move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atic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increa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rousal, indicated by sympathetic nervous system activity (e.g., electroderma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pression had no effect 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ports of emotional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Gross &amp; Levenson (1993) Conclusion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motional control is not perfec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ing certain responses resulted in increases in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al control takes effort, which increases arous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ousal is not unitary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dicators up, som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nnouncements/Agenda for April 25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ass evaluations toda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nner party op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ursday 4/27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uesday 5/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Thursday 5/4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nish process eff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5335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Begin discussion of controlling emoti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28600"/>
            <a:ext cx="8763120" cy="3886200"/>
          </a:xfrm>
          <a:prstGeom prst="horizontalScroll">
            <a:avLst>
              <a:gd name="adj" fmla="val 12500"/>
            </a:avLst>
          </a:pr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ositive &amp; Negative Emo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Examining Content &amp; Process Effects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18960" y="3885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 &amp; Tversky (1983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rner &amp; Keltner (in press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enhausen et al. (1994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n Hypothe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odenhausen et al./Forgas)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. emotions, such as happiness, trigger heuristic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people more likely to rely on stereotypes (Bodenhausen et a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ssible explanations for effect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occupation with pleasing events constrains capacity for systematic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ruptive arousal or excitement constrains systematic th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9000" indent="-457200">
              <a:spcBef>
                <a:spcPts val="700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ort conservation”: happy people not motivated to engage in cognitive effort, unless tasks have relevance to well-being. (Similar to “mood maintenance” id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 in Bodenhausen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occupation with pleasing events?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: Mood inductions with various degrees of cognitive content all produce same resul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mories of happy events (Study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ial feedback (Study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203480" indent="-228600">
              <a:spcBef>
                <a:spcPts val="601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easant music (Study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sal constrains processing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:  Excited happy people do not stereotype more than do calm, happy people (music stu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cess Effect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sts of Possible Explanation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ort conservation??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ibly:  Accountable subjects less likely to stereotype than non-accountable subjec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n we control emotion?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ur approach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one empirical pap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day’s foc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three theoretical ac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upplemental studies and theories on Thurs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4-25T15:06:32Z</dcterms:modified>
  <cp:revision>237</cp:revision>
  <dc:subject/>
  <dc:title>Agenda for January 27th</dc:title>
</cp:coreProperties>
</file>