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07C61-1ADA-41E1-97F2-CE763DB0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19308-7481-43DD-897E-49CE726D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AA08B-AABC-4455-91A5-75990739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AF2BB-1D1C-4333-B929-8268CE1B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ED24F-5A10-490C-8865-AD1D5915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41BBB-2444-4686-BB23-0AAB0E8B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9680D-5203-4735-AAF8-44F3FAA2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A4362-96E6-44E7-85C1-4AD468F9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59943-A143-403E-8C4A-9B7755F9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70D41-7EC1-4AE1-BAA0-88DE9F78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ABA2E-5016-42CA-91FD-C08C824B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D95C2-8A4B-438A-AB93-95C4B744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967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967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669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5720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8604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3" marL="120348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f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x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ven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24816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14, Par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4D50-F853-403C-AF45-1EC73F4010FA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Agenda for April 27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50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1560" indent="-533520"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nvitations for class dinner party: Tuesday, May 2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omplete emotional control questionnair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iscussant presentation: Jennell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core questionnair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iscuss effects of emotional control on cognition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motional Control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“big questions:”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n we regulat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r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happens if we attempt to regulat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o some people regulate more than othe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x differenc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ity differenc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ltural differenc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4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gnitive Consequences of Emotional Control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7080" indent="-217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ichards &amp; Gross (1999)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01840" indent="-1742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: compare suppression with no suppression of emotional expressions in response to sli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01840" indent="-1742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othesis: Suppression will impair incidental memory for info. Presented during the suppression period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01840" indent="-1742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s: Support hypothesis &amp; found that suppression increased cardiovascular acti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4-27T17:25:06Z</dcterms:modified>
  <cp:revision>244</cp:revision>
  <dc:subject/>
  <dc:title>Agenda for January 27th</dc:title>
</cp:coreProperties>
</file>