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2696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60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282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2696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60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0C8DB-7A2B-47DA-A446-EFC5EB48C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CCBF5-62DB-455E-B060-BD2182CE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A6C3D-01D4-40BC-8473-B7E26C50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C3A93-C17E-45D0-BA86-3BEED962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BD034-283B-40C5-AB61-D9B2B317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456840"/>
            <a:ext cx="7792920" cy="35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6B8A7-A083-40BC-81E2-13B40381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D05C6-8B1F-4E09-A975-3389F92D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ED8E3-C638-49B2-BECD-F3BF4A84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7F5F6-3FFF-4D50-A470-B723F04B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66FF2-E82C-4D00-9621-33280D89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37324-D69D-4DB6-A790-FF109FB89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2696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60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282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2696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60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359D7-BC89-43BC-86AA-8E2E3C6A8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456840"/>
            <a:ext cx="7792920" cy="35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5335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582480"/>
            <a:ext cx="32832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896760"/>
            <a:ext cx="422280" cy="474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896760"/>
            <a:ext cx="3682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6696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457200"/>
            <a:ext cx="31680" cy="105264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21932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lick to edit the outline text format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cond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2" marL="860400" indent="-22860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ird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3" marL="1203480" indent="-22860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our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if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ix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ven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eason, Passion, &amp; Social Cog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624816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eek 14, Part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E80D-9736-4C9E-A744-73EBE7739019}" type="slidenum">
              <a:rPr b="0" lang="en-US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Agenda for April 27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650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71560" indent="-533520">
              <a:spcBef>
                <a:spcPts val="751"/>
              </a:spcBef>
              <a:buClr>
                <a:srgbClr val="ff3399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Invitations for class dinner party: Tuesday, May 2</a:t>
            </a:r>
            <a:r>
              <a:rPr b="1" lang="en-US" sz="30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spcBef>
                <a:spcPts val="751"/>
              </a:spcBef>
              <a:buClr>
                <a:srgbClr val="ff3399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Complete emotional control questionnaire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spcBef>
                <a:spcPts val="751"/>
              </a:spcBef>
              <a:buClr>
                <a:srgbClr val="ff3399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Discussant presentation: Jennell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spcBef>
                <a:spcPts val="751"/>
              </a:spcBef>
              <a:buClr>
                <a:srgbClr val="ff3399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Score questionnaire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spcBef>
                <a:spcPts val="751"/>
              </a:spcBef>
              <a:buClr>
                <a:srgbClr val="ff3399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Discuss effects of emotional control on cognition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Emotional Control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e “big questions:”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an we regulat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pres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peri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at happens if we attempt to regulat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o some people regulate more than other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x differenc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onality differenc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ltural differenc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ognitive Consequences of Emotional Control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17080" indent="-217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ichards &amp; Gross (1999) 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01840" indent="-1742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jective: compare suppression with no suppression of emotional expressions in response to slid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01840" indent="-1742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pothesis: Suppression will impair incidental memory for info. Presented during the suppression period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01840" indent="-1742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ults: Support hypothesis &amp; found that suppression increased cardiovascular activ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16:41:21Z</dcterms:created>
  <dc:creator>Jennifer Lerner</dc:creator>
  <dc:description/>
  <dc:language>en-US</dc:language>
  <cp:lastModifiedBy>Jennifer Lerner</cp:lastModifiedBy>
  <dcterms:modified xsi:type="dcterms:W3CDTF">2000-04-27T17:25:06Z</dcterms:modified>
  <cp:revision>244</cp:revision>
  <dc:subject/>
  <dc:title>Agenda for January 27th</dc:title>
</cp:coreProperties>
</file>