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B34D-9BAD-4C64-902B-CD60839D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ion of causality w/o attribution of responsibility:motorcyclist who ran into pedestrian because his breaks went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ttributions of responsibility presuppose an attribution of caus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F7801-9DED-43BD-A2C1-6A2C9FC3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C619A-EA9B-4EE1-9CEE-8E033ABC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9B8D2-75C8-4AC8-9F11-0865FD9B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9976B-6F0B-424A-8D60-D863B5B4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105D4-4DE3-427B-9D8E-4907FA19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ABD45-D9AB-4958-A284-78AE9300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AFD9C-EF38-401E-BF3D-03D6355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5775B-5091-4A52-BB4B-2E6293CE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101BD-B768-42A2-97ED-8C907157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FEFF3-F860-4CE9-8595-3AD39A4A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9CDA4-EE0D-4E99-8FFE-299BCD5B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8A9AA-90E7-4370-8AB9-536BB9B3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1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CF4F-ECC9-43A1-9FE6-FCB9F37EEA5E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April 4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1560" indent="-5335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he web page is up and runni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 Check it out for new links and course inf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55760" indent="-380880">
              <a:lnSpc>
                <a:spcPct val="90000"/>
              </a:lnSpc>
              <a:spcBef>
                <a:spcPts val="451"/>
              </a:spcBef>
              <a:buClr>
                <a:srgbClr val="9900ff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ter your paper top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aper outlines/presentations due this Thursday, April 6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Upcoming Tal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Decision Science Lecture Today!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My talk on effects of stress on health decision making, Tuesday, April 25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, 12-1:15 PM, 223 Porter Hall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 class on Thursday, April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5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Carnival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March 2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scuss Paper Outlines/Presenta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ttribution of Responsibility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view Exam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minder of Paper Outlin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ro. Part A:  Review literature on the emotion of interest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have researchers defined the emotion?  Is there agreement?  Which definition will you use and wh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 key findings about the emo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gnitive components of emotion, arousal levels, related emotion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ro. Part B:  Review literature on the cognition/decision process of interest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kinds of cognitive processes are involved?  Is a judgment or choice bias involve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aper Outline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7080" indent="-217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in Body:  Hypothesize a relationship between the emotion and the cognition.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your hypothesis with evidence and clearly identify what is already known (proven with research) vs. what is your own specula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34480" indent="-2214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Very important part of paper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which theory (or theories) you draw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alternative hypotheses and explain why they may be unsubstanti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7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aper Outline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708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clusion:  Re-state your conclusions and recap the evidence that supports the conclusion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1840" indent="-1742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limitations on what you can conclu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3448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e limiting factors: gender- or culture-specificity. No studies have tested your exact hypothesi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uture directions for research would you recomme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promising theories should guide future researc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ttributions of Responsibilit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 is it?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judgment about who or what can be held accountable for an ev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 shift in focus.  Previous studies focused on judgment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us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now we’re focusing on judgments of bla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re a difference?  Do we ever assign causality without assigning blame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hat Factors Determine Responsibility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ctors Associated With Actor and Situation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n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gree of free will/coer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tal ability to have done otherw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see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hat Factors Determine Responsibility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ctors Associated With Observer/Judge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ilarity to 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nsive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ity of Consequ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f in Just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4-04T17:11:31Z</dcterms:modified>
  <cp:revision>201</cp:revision>
  <dc:subject/>
  <dc:title>Agenda for January 27th</dc:title>
</cp:coreProperties>
</file>