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704-8AF9-4E82-9E17-FB0F69F0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ion of causality w/o attribution of responsibility:motorcyclist who ran into pedestrian because his breaks went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ttributions of responsibility presuppose an attribution of caus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4C169-9C8A-4CA6-B250-45785412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81B9-3753-4508-A653-19247B9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A0D8-6DBA-40EC-9289-AEACD3A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995B-5893-4A71-A42A-8D98488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43C7-DF88-4127-A10E-42ED2FBB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E221-A90B-4F8F-A69F-4157280C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E2CA-6558-4094-A188-D22AE30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C55BE-6937-44E0-9D5F-AA73567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AF59-1D43-4AA8-9D60-90E9485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5A7BD-C4B6-47A2-BE79-62A7F5C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A8E4-1833-4C7C-9253-A689B11B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0C084-20BC-4482-ABAB-CA0FDAAC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1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E3FA-81A3-4C5A-B5AF-31C674D7B1D1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April 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e web page is up and runn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 Check it out for new links and course inf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-380880">
              <a:lnSpc>
                <a:spcPct val="90000"/>
              </a:lnSpc>
              <a:spcBef>
                <a:spcPts val="451"/>
              </a:spcBef>
              <a:buClr>
                <a:srgbClr val="9900ff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ter your paper top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aper outlines/presentations due this Thursday, April 6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Upcoming Tal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Decision Science Lecture Today!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My talk on effects of stress on health decision making, Tuesday, April 25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, 12-1:15 PM, 223 Porter Hal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 class on Thursday, April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Carniva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2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scuss Paper Outlines/Presenta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ttribution of Responsibility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view Exam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minder of Paper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ro. Part A:  Review literature on the emotion of interes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have researchers defined the emotion?  Is there agreement?  Which definition will you use and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 key findings about the emo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gnitive components of emotion, arousal levels, related emotion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ro. Part B:  Review literature on the cognition/decision process of interes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kinds of cognitive processes are involved?  Is a judgment or choice bias involve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n Body:  Hypothesize a relationship between the emotion and the cognition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your hypothesis with evidence and clearly identify what is already known (proven with research) vs. what is your own specul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34480" indent="-2214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Very important part of paper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which theory (or theories) you draw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alternative hypotheses and explain why they may be unsubstanti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7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aper Outline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clusion:  Re-state your conclusions and recap the evidence that supports the conclusi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limitations on what you can conclu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3448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e limiting factors: gender- or culture-specificity. No studies have tested your exact hypothesi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ture directions for research would you recomme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promising theories should guide future resear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7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ttributions of Responsibilit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is it?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judgment about who or what can be held accountable for an ev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 shift in focus.  Previous studies focused on judgment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us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now we’re focusing on judgments of bl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re a difference?  Do we ever assign causality without assigning blam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Factors Determine Responsibility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s Associated With Actor and Situati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n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gree of free will/coer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tal ability to have done otherw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se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at Factors Determine Responsibility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ctors Associated With Observer/Judg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arity to 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nsiv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ity of Consequ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f in Just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04T17:11:31Z</dcterms:modified>
  <cp:revision>201</cp:revision>
  <dc:subject/>
  <dc:title>Agenda for January 27th</dc:title>
</cp:coreProperties>
</file>