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29575-4BDA-41E6-9BBA-D598DD55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ADD47-261A-47FB-93BA-448768D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A149B-6EBB-4A28-A3C8-68F08995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3F9ED-EA0D-424E-BF48-7C3635E9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2016D-48BB-4FD4-8646-96390A8E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0AF1F-B0AA-4489-A9B7-7F8BB0C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6825C-2B6D-451F-A82D-7767684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0D95-3BEF-46FD-8F55-558EB68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59251-021C-4346-82B6-0AEFC35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DD783-44F7-4212-8EF0-DB206CD8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E8EC4-133A-488F-B711-B5C2901D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433B-152E-4E2B-A069-791EA713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1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F77A-C47A-438E-BB17-FE2E925DE92E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April 6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90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class on Thursday, April 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joy Carniva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35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pcoming Talk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24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Accountability, Stress, and Conformity” Tuesday, April 25</a:t>
            </a:r>
            <a:r>
              <a:rPr b="1" lang="en-US" sz="25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, 12-1:15 PM, 223D Porter Hall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April 6th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and in Outline to Heidi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ish Reviewing Exam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per Outline Presenta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uidelines for Paper Feedback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ake turns presenting outline to your partner(s).  Read outline aloud and show the written copy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artner(s) should take notes on the feedback sheet during presentation &amp; ask clarification questions during presentation, if necessary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Partner(s) should save discussion questions for the end.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06T17:14:22Z</dcterms:modified>
  <cp:revision>207</cp:revision>
  <dc:subject/>
  <dc:title>Agenda for January 27th</dc:title>
</cp:coreProperties>
</file>