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E2B50-E175-477A-83CD-98A4878A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1451A-5761-443E-A7BE-5DDC1F01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B3969-383F-41F9-887A-706BBB7B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FA847-ED11-4ACC-9A82-F65ABF9D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1BC12-4961-42D9-BC47-9F8AD9F0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BCFDD-DAFE-43D9-ABF6-BF9638C6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FD4DB-CF25-4E27-8B75-E4888F0A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917F6-FB85-4A8A-90C2-A3C44F9B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6D347-C786-4454-9039-704CBFDF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7EADE-EE4E-4B7A-AF3E-A78AAD9E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13C3E-4534-4BEE-8960-13F39BB7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7D621-4AFE-4122-994E-D9F83D9B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11, Par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CE04-C562-4AF8-85F5-DCEC8555CCDB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nouncements for April 6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5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890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 class on Thursday, April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35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joy Carnival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35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pcoming Talk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24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Accountability, Stress, and Conformity” Tuesday, April 25</a:t>
            </a:r>
            <a:r>
              <a:rPr b="1" lang="en-US" sz="25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, 12-1:15 PM, 223D Porter Hall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April 6th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and in Outline to Heidi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nish Reviewing Exam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per Outline Presentation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uidelines for Paper Feedback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ake turns presenting outline to your partner(s).  Read outline aloud and show the written copy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artner(s) should take notes on the feedback sheet during presentation &amp; ask clarification questions during presentation, if necessary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artner(s) should save discussion questions for the end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4-06T17:14:22Z</dcterms:modified>
  <cp:revision>207</cp:revision>
  <dc:subject/>
  <dc:title>Agenda for January 27th</dc:title>
</cp:coreProperties>
</file>