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6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7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8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1EA7-C4A9-41F8-89F5-7C400073F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direct path from Mood to Attitude was reduced but was still signific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something else is also mediating the eff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gest that students think about what else might be going on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881A1-502F-48BF-BA49-082176F7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68002-D261-485C-9262-2EDE365D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59EF1-8C56-4D71-B820-5C5A547D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E0E74-184F-4884-8E99-0B82973B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DDD8C-9CC8-4F49-8016-0D101475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ECC6C-ED11-4EE6-AC80-F637F0A5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6B4C4-1D95-4EC0-BB0D-1BF37120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ED2A0-61AE-43D1-94D5-39735F3D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FA79F-53DE-4EF1-A455-3B5F3705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917C2-9921-4CF0-AF68-EAD9B5C4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D94DC-9ECE-446F-BE04-6FB9CC29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CA31B-8FC3-4F1D-BFE5-48D5307E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335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82480"/>
            <a:ext cx="32832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96760"/>
            <a:ext cx="422280" cy="474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9676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6696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457200"/>
            <a:ext cx="31680" cy="105264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21932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lick to edit the outline text format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con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2" marL="860400" indent="-22860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ir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3" marL="1203480" indent="-22860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our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f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ix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ven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ason, Passion, &amp; Social 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8576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eek 10, Par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A9F6-CFF7-4DF1-AD57-8BB2DC2CF610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ndrew.cmu.edu/course/88-120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nnouncements for March 21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50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nnouncements: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871560" indent="-533520">
              <a:spcBef>
                <a:spcPts val="700"/>
              </a:spcBef>
              <a:buClr>
                <a:srgbClr val="ff3399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URL of the page should be:</a:t>
            </a:r>
            <a:br>
              <a:rPr sz="2800"/>
            </a:br>
            <a:r>
              <a:rPr b="0" lang="en-US" sz="2800" spc="-1" strike="noStrike" u="sng">
                <a:solidFill>
                  <a:srgbClr val="ff3399"/>
                </a:solidFill>
                <a:uFillTx/>
                <a:latin typeface="Tahoma"/>
                <a:hlinkClick r:id="rId1"/>
              </a:rPr>
              <a:t>http://www.andrew.cmu.edu/course/88-120/</a:t>
            </a:r>
            <a:br>
              <a:rPr sz="2800"/>
            </a:b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spcBef>
                <a:spcPts val="700"/>
              </a:spcBef>
              <a:buClr>
                <a:srgbClr val="ff3399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xam on Thurs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spcBef>
                <a:spcPts val="700"/>
              </a:spcBef>
              <a:buClr>
                <a:srgbClr val="ff3399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per outlines due the week we return from bre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genda for March 21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50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iscuss any Clarification Questions About Concepts in Past 5 Weeks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rap Up From Last Week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view For Exam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iscuss Outlines Format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rap Up From Last Week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ackgrou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 Forgas (1998) found that happiness increased tendency to commit FAE and sadness decreased this tendency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-22392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nswer the following questions on your own: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ording to Forgas, what caused these effect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evidence did Forgas have to support his assumptions about the cause of this effect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B:  Underlying causes are referred to as “mediating mechanisms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rap Up From Last Week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ssumed Underlying Cause: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rocessing eff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vidence for the processing differences: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057400" y="4462200"/>
            <a:ext cx="198108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4462560"/>
            <a:ext cx="221004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5867280"/>
            <a:ext cx="4191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74720" y="556272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Tahoma"/>
              </a:rPr>
              <a:t>M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44200" y="384336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Tahoma"/>
              </a:rPr>
              <a:t>Rec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80200" y="5443560"/>
            <a:ext cx="28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Tahoma"/>
              </a:rPr>
              <a:t>Attitude Attribu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Tahoma"/>
              </a:rPr>
              <a:t>To essay auth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4648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ahoma"/>
              </a:rPr>
              <a:t>1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4876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ahoma"/>
              </a:rPr>
              <a:t>3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5867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ahoma"/>
              </a:rPr>
              <a:t>2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58672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ahoma"/>
              </a:rPr>
              <a:t>3 should be n.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rap Up From Last Week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ackgrou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Readings and lecture have identified three possible explanations for the “processing disparity between positive &amp; negative emotion.”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-2239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n your own, answer the following: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e and describe the three possible explan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es Forgas’ study on FAE elucidate which of these explanations is bes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rap Up From Last Week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ree Possible Explanations for Processing Disparity: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al Explanations (Frijd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tivational Explanations (Clark &amp; Is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od mainten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od repa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cessing Capacity (various theoris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xample of Review for Exam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50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opic One: Final Chapter in Separate Systems Debate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871560" indent="-533520">
              <a:spcBef>
                <a:spcPts val="700"/>
              </a:spcBef>
              <a:buClr>
                <a:srgbClr val="ff3399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otion can be separate from cognition, but only for about 12 milliseco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spcBef>
                <a:spcPts val="700"/>
              </a:spcBef>
              <a:buClr>
                <a:srgbClr val="ff3399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gnitions have powerful effects on emo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  Counterfactual Emo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spcBef>
                <a:spcPts val="700"/>
              </a:spcBef>
              <a:buClr>
                <a:srgbClr val="ff3399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otions have powerful effects on cogn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  Sadness and anger have differential effects on attrib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aper Outlin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19240" indent="-2192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view literature on the emotion of interest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07240" indent="-1760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istinguishes it from other emotio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9240" indent="-2192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view literature on the cognition/decision process of interest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07240" indent="-1760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mmarize key finding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9240" indent="-2192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ypothesize a relationship between the emotion and the cognition. 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07240" indent="-1760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ort your hypothesis with evid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07240" indent="-1760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alternative hypothe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6:41:21Z</dcterms:created>
  <dc:creator>Jennifer Lerner</dc:creator>
  <dc:description/>
  <dc:language>en-US</dc:language>
  <cp:lastModifiedBy>Jennifer Lerner</cp:lastModifiedBy>
  <dcterms:modified xsi:type="dcterms:W3CDTF">2000-03-21T18:07:01Z</dcterms:modified>
  <cp:revision>189</cp:revision>
  <dc:subject/>
  <dc:title>Agenda for January 27th</dc:title>
</cp:coreProperties>
</file>