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AF80-BF6D-4F57-A362-A9DC12B0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direct path from Mood to Attitude was reduced but was still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something else is also mediating the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 that students think about what else might be going on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3AFA2-36D5-4E7C-9F40-D7CC9516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8005-D007-4ACB-BA3F-60EAB64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379E-15D4-4808-9EFA-ADAA92A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BFBB-6E22-4938-8645-4FE33AD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7131-B646-446F-8F74-F298140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8AE99-D0CA-4CFD-8239-E618DA1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D6E2-59BB-449A-8832-83463D0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3191-F7A6-4E83-A91C-69E1FBE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CD694-9970-4ED5-B785-8AAF5157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4564C-7823-4249-94A1-3B21366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8AC5-8445-4D31-839F-D15B0C55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EB86-7FA8-4DD2-BC01-85700F8B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0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879-D2D2-436F-B418-F937F8F430D0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88-120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nouncemen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RL of the page should be:</a:t>
            </a:r>
            <a:br>
              <a:rPr sz="2800"/>
            </a:br>
            <a:r>
              <a:rPr b="0" lang="en-US" sz="28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www.andrew.cmu.edu/course/88-120/</a:t>
            </a:r>
            <a:br>
              <a:rPr sz="2800"/>
            </a:b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 on Thurs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outlines due the week we return from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any Clarification Questions About Concepts in Past 5 Week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rap Up From Last Week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For Exam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Outlines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ckgrou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Forgas (1998) found that happiness increased tendency to commit FAE and sadness decreased this tendency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swer the following questions on your own: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ing to Forgas, what caused these effec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evidence did Forgas have to support his assumptions about the cause of this effec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B:  Underlying causes are referred to as “mediating mechanism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umed Underlying Cause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cessing ef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vidence for the processing differenc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057400" y="4462200"/>
            <a:ext cx="198108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462560"/>
            <a:ext cx="221004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58672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4720" y="5562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M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4200" y="38433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Re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80200" y="5443560"/>
            <a:ext cx="28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Attitude At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To essay auth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1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2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3 should be n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ckgrou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Readings and lecture have identified three possible explanations for the “processing disparity between positive &amp; negative emotion.”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 your own, answer the following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three possible expla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Forgas’ study on FAE elucidate which of these explanations is be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rap Up From Last Wee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ree Possible Explanations for Processing Disparity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al Explanations (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ional Explanations (Clark &amp; Is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d mainte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d rep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ing Capacity (various theoris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ample of Review for Exam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opic One: Final Chapter in Separate Systems Debat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can be separate from cognition, but only for about 12 millisec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ons have powerful effects on 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Counterfactual E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have powerful effects on 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Sadness and anger have differential effects on attrib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literature on the emotion of interes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stinguishes it from other emo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literature on the cognition/decision process of interes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arize key findi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othesize a relationship between the emotion and the cognition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your hypothesis with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7240" indent="-1760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alternative hypothe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21T18:07:01Z</dcterms:modified>
  <cp:revision>189</cp:revision>
  <dc:subject/>
  <dc:title>Agenda for January 27th</dc:title>
</cp:coreProperties>
</file>