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F91-D64D-426D-9A5F-D2F9113C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74E-9D96-449C-BE23-7A57600C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BB5-25FA-40AF-B062-B10FF42E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412-8376-4122-89A5-A777C7A4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77E8-5239-4121-B9F7-CE043E9A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E8CC-C7E1-40F3-87E7-152CE337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6134-BC16-4FCC-B76F-B533462D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333A-A946-4392-944A-CAB49105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DD8F-035D-4A04-AD12-BB9D0F2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E5D7-3738-4CA5-8966-DAA24FBC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E4E-AF8B-4D28-A3FE-75E2405E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68F-31CD-4079-ADF3-E8176E91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6A67-F4FD-4D71-BB8E-79E9E987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3D6E-3F37-412E-9BE3-AC600CA0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30EC-0AB9-4A44-8729-49AD4B23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DE27-2925-4F71-94DB-2ED2F54F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AB17-4320-4583-8282-962CA46F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B35-DC28-44CA-BAEB-6F629753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B69-F19D-4CFD-94D3-FA9110C5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FE1-29D4-4CE9-876B-F98CE2E1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5BF-F402-4053-B087-BBC7F5D7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A2E-2848-486C-BFB3-CB19D04D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095-B033-4ECA-9C86-BEA33A4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076-7076-4AFA-A6E3-AA737E47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66F6-A466-4621-A350-EBDD572D4BD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88A7-5F5D-49FE-B702-8BB72658D87C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53352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enda: 20 January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inistrative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roll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Participation Pool Hand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date on coursepack &amp; next week’s rea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-class experi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’s topic: Three Enduring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36760" y="1066680"/>
            <a:ext cx="339840" cy="5031000"/>
          </a:xfrm>
          <a:custGeom>
            <a:avLst/>
            <a:gdLst/>
            <a:ahLst/>
            <a:rect l="l" t="t" r="r" b="b"/>
            <a:pathLst>
              <a:path w="241" h="3169">
                <a:moveTo>
                  <a:pt x="240" y="0"/>
                </a:moveTo>
                <a:lnTo>
                  <a:pt x="0" y="189"/>
                </a:lnTo>
                <a:lnTo>
                  <a:pt x="0" y="3168"/>
                </a:lnTo>
                <a:lnTo>
                  <a:pt x="240" y="2884"/>
                </a:lnTo>
                <a:lnTo>
                  <a:pt x="240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82760" y="2552760"/>
            <a:ext cx="1617840" cy="1981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58640"/>
            <a:ext cx="233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Antecedent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304920"/>
            <a:ext cx="3809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Multi-mod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response tend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8960" y="1987560"/>
            <a:ext cx="238104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68960" y="2825640"/>
            <a:ext cx="238104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68960" y="1149480"/>
            <a:ext cx="238104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68960" y="3740040"/>
            <a:ext cx="238104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8960" y="4572000"/>
            <a:ext cx="2381040" cy="83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8920" y="2046240"/>
            <a:ext cx="217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acial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8920" y="3798720"/>
            <a:ext cx="202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otor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64280" y="4713120"/>
            <a:ext cx="238572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hysiologic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5880" y="2884320"/>
            <a:ext cx="2652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Vocaliz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59440" y="144792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228600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59440" y="312408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59440" y="403848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59440" y="495288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59440" y="1447920"/>
            <a:ext cx="0" cy="449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3352680"/>
            <a:ext cx="20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6040" y="4267080"/>
            <a:ext cx="20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213000"/>
            <a:ext cx="15048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mo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ot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828800"/>
            <a:ext cx="1619280" cy="1593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9880" y="2131920"/>
            <a:ext cx="1629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Inter-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735360"/>
            <a:ext cx="1619280" cy="136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4280" y="3884760"/>
            <a:ext cx="154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Intra-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6097680"/>
            <a:ext cx="257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Apprai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36800" y="2901960"/>
            <a:ext cx="1206360" cy="368280"/>
            <a:chOff x="1936800" y="2901960"/>
            <a:chExt cx="1206360" cy="368280"/>
          </a:xfrm>
        </p:grpSpPr>
        <p:sp>
          <p:nvSpPr>
            <p:cNvPr id="144" name=""/>
            <p:cNvSpPr/>
            <p:nvPr/>
          </p:nvSpPr>
          <p:spPr>
            <a:xfrm>
              <a:off x="2545560" y="2901960"/>
              <a:ext cx="597600" cy="368280"/>
            </a:xfrm>
            <a:prstGeom prst="rightArrow">
              <a:avLst>
                <a:gd name="adj1" fmla="val 50000"/>
                <a:gd name="adj2" fmla="val 81141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36800" y="2978280"/>
              <a:ext cx="394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546280" y="389268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36800" y="3968640"/>
            <a:ext cx="39348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68960" y="5568840"/>
            <a:ext cx="250344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2320" y="5600880"/>
            <a:ext cx="208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g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59440" y="594360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40320" y="1143000"/>
            <a:ext cx="217332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u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I.  Why do we Have Emotions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answer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volutionarily Adap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as adaptations that solve proble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kman: “primary function of emotion is to mobilize the organism to deal quickly with important interpersonal encounter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function is to signal action, hence fairly universal muscle patterns in fa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as “cognitive interrup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imon) Emotions set processing pri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I.  Why do we Have Emotions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cond answer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cial Constru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tz and Averill:  Cultures socialize emotion to maintain social or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ms about permissible feeling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xist:  those in power have control over feeling r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I.  Why do we have emotions (continued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ison between two approaches: Why variation across cultures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olutionary: Cultural display rules modify already occurring emo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ed: Display rules constitute emotional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ree Enduring 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n emo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auses an emo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we have emo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. What is an Emotion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 Definitions: Physiological &amp; Func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hysiologi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James (188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 is the feeling of bodily sensations (peripheral account, rather than centr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 support: facial feedbac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ever, correlations between cognitive, physiological, and behavioral systems is l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. What is an Emotion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Definitions: Physiological &amp; Func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tional Defini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ijda – Defined by changes in Four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jective fee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rais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on readi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ysiological respon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mpos – Processes that “establish, maintain, change, or terminate the relation between the person and the environment on matters of significance to the person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. What is an Emotion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ect subsu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mo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mpera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fere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valu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atures  that Distinguish Emotion from Mood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course (see p. 124 in Oat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ive sal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al expression/sign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ity of eliciting event (targ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.  What Causes an Emotion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Different Approa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raisal Theor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Smith &amp; Ellsworth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tion of a significant event, followed by an evaluation of its consequences along specific dimen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y &amp; Secondary Appraisal (Lazar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:  Goal relevance?  Goal congruence? Ego involvem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:  How will I cope with 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.  What Causes an Emotion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aisal Theories, co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mensions of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ant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cipated eff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al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tai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cy (human, environ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(self, oth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.  What Causes an Emotion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Different Approaches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fining Characteristic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Frij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 transgressions of concerns produce e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in conditions lead to e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.  What Causes an Emotion (cont.)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Different Approaches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rosci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Panksep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ystem of circuits that respond unconditionally to stimuli arising from major life-challenging circumstances; they activate or inhibit motor subroutines as well as autonomic and hormonal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1:15:50Z</dcterms:created>
  <dc:creator>Lynda Sagrestano</dc:creator>
  <dc:description/>
  <dc:language>en-US</dc:language>
  <cp:lastModifiedBy>Jennifer Lerner</cp:lastModifiedBy>
  <dcterms:modified xsi:type="dcterms:W3CDTF">2000-01-20T17:52:52Z</dcterms:modified>
  <cp:revision>34</cp:revision>
  <dc:subject>Chapter 1</dc:subject>
  <dc:title>Social Psychology</dc:title>
</cp:coreProperties>
</file>