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958-1DCE-4E93-B657-C61980A3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7E0-A0FA-4A1E-99FE-F0D79E6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766-5BCD-41F9-817F-5A9BEEE1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969-6A06-4237-BF6D-6D830BF9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F20B-5AA3-4CA0-9794-403D831B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3F9C-3FB6-40D3-A63B-5A08065C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49B8-A4AF-4476-A27A-CAED725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F2D7-2FED-44D7-AB68-387D2A4C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BFD0-BEB2-4C06-8CAE-D95B21D3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4BBD-531D-4777-8982-F5EA4663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5ADA-6D64-47B4-A12B-0A0A798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F46-0BF7-4AA1-A92A-BF48B139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015-6EFA-4B1D-91C6-3C576EF8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F956-F9BA-4825-8A93-EA7CF3D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6791-A2FB-46AF-9DAA-CE81DBB3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A04A-030F-4821-9468-AD198FEA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53E7-D2C4-42B1-BDE0-634CC7B8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81B-42D4-46E6-B106-A8CAD084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377-6A76-489D-8508-85C42EEE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0E6-A148-4014-8384-32A87F2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DEB-2FE7-4AC8-BFCB-6622DC06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533-490E-4623-943B-387EDA2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BC3-789B-4630-BBF8-66FB367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5F1-6BC0-4550-8A87-A20DCD6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BF2-4863-4912-8C57-6B1DCF4CE3D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8F3-0D9F-4008-A6C8-3C1A22E428C3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genda: 20 January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nistrative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roll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Participation Pool Hand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date on coursepack &amp; next week’s rea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-class experi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’s topic: Three Enduring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36760" y="1066680"/>
            <a:ext cx="339840" cy="5031000"/>
          </a:xfrm>
          <a:custGeom>
            <a:avLst/>
            <a:gdLst/>
            <a:ahLst/>
            <a:rect l="l" t="t" r="r" b="b"/>
            <a:pathLst>
              <a:path w="241" h="3169">
                <a:moveTo>
                  <a:pt x="240" y="0"/>
                </a:moveTo>
                <a:lnTo>
                  <a:pt x="0" y="189"/>
                </a:lnTo>
                <a:lnTo>
                  <a:pt x="0" y="3168"/>
                </a:lnTo>
                <a:lnTo>
                  <a:pt x="240" y="2884"/>
                </a:lnTo>
                <a:lnTo>
                  <a:pt x="240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82760" y="2552760"/>
            <a:ext cx="1617840" cy="1981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58640"/>
            <a:ext cx="233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Antecedent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04920"/>
            <a:ext cx="3809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Multi-mo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response tend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8960" y="1987560"/>
            <a:ext cx="23810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8960" y="2825640"/>
            <a:ext cx="2381040" cy="75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68960" y="1149480"/>
            <a:ext cx="23810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8960" y="3740040"/>
            <a:ext cx="23810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8960" y="4572000"/>
            <a:ext cx="2381040" cy="83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8920" y="2046240"/>
            <a:ext cx="217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acial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8920" y="3798720"/>
            <a:ext cx="202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otor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64280" y="4713120"/>
            <a:ext cx="23857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hysiologic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5880" y="2884320"/>
            <a:ext cx="2652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ocaliz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9440" y="144792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228600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59440" y="312408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59440" y="403848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59440" y="495288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59440" y="1447920"/>
            <a:ext cx="0" cy="4495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3352680"/>
            <a:ext cx="20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6040" y="4267080"/>
            <a:ext cx="20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213000"/>
            <a:ext cx="15048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mo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t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1619280" cy="1593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9880" y="2131920"/>
            <a:ext cx="1629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Inter-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5360"/>
            <a:ext cx="1619280" cy="136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280" y="3884760"/>
            <a:ext cx="154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Intra-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6097680"/>
            <a:ext cx="257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 Narrow"/>
              </a:rPr>
              <a:t>Apprai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36800" y="2901960"/>
            <a:ext cx="1206360" cy="368280"/>
            <a:chOff x="1936800" y="2901960"/>
            <a:chExt cx="1206360" cy="368280"/>
          </a:xfrm>
        </p:grpSpPr>
        <p:sp>
          <p:nvSpPr>
            <p:cNvPr id="144" name=""/>
            <p:cNvSpPr/>
            <p:nvPr/>
          </p:nvSpPr>
          <p:spPr>
            <a:xfrm>
              <a:off x="2545560" y="2901960"/>
              <a:ext cx="597600" cy="368280"/>
            </a:xfrm>
            <a:prstGeom prst="rightArrow">
              <a:avLst>
                <a:gd name="adj1" fmla="val 50000"/>
                <a:gd name="adj2" fmla="val 81141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36800" y="2978280"/>
              <a:ext cx="394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46280" y="38926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36800" y="3968640"/>
            <a:ext cx="39348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68960" y="5568840"/>
            <a:ext cx="250344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2320" y="5600880"/>
            <a:ext cx="208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g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9440" y="5943600"/>
            <a:ext cx="2030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40320" y="1143000"/>
            <a:ext cx="21733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u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I.  Why do we Have Emotions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answer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volutionarily Adap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as adaptations that solve proble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man: “primary function of emotion is to mobilize the organism to deal quickly with important interpersonal encounter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function is to signal action, hence fairly universal muscle patterns in fa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as “cognitive interrup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imon) Emotions set processing pri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I.  Why do we Have Emotions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cond answer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cial Constr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tz and Averill:  Cultures socialize emotion to maintain social or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ms about permissible feel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xist:  those in power have control over feeling r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I.  Why do we have emotions (continued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ison between two approaches: Why variation across cultures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olutionary: Cultural display rules modify already occurring e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ed: Display rules constitute emotional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ree Enduring 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n e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uses an emo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have emo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. What is an Emotion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Definitions: Physiological &amp; Fun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ysiolog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James (188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 is the feeling of bodily sensations (peripheral account, rather than cent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support: facial feedbac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ever, correlations between cognitive, physiological, and behavioral systems is l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. What i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Definitions: Physiological &amp; 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tional Defini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ijda – Defined by changes in Four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jective fee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ais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on readi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ysiological respo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mpos – Processes that “establish, maintain, change, or terminate the relation between the person and the environment on matters of significance to the person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. What i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ect subsu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mo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era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fere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valu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tures  that Distinguish Emotion from Mood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course (see p. 124 in Oat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ive sal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al expression/sig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ity of eliciting event (targ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.  What Causes an Emotion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Different Approa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raisal Theo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Smith &amp; Ellsworth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tion of a significant event, followed by an evaluation of its consequences along specific dimen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&amp; Secondary Appraisal (Lazar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:  Goal relevance?  Goal congruence? Ego involvem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:  How will I cope with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.  What Cause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aisal Theories, co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mensions of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easant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ed eff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al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tai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cy (human, environ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(self, oth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I.  What Causes an Emotion (cont.)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Different Approaches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fining Characterist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Frij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 transgressions of concerns produce e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nditions lead to e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 What Causes an Emotion (cont.)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Different Approaches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rosci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Panksep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ystem of circuits that respond unconditionally to stimuli arising from major life-challenging circumstances; they activate or inhibit motor subroutines as well as autonomic and hormonal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1:15:50Z</dcterms:created>
  <dc:creator>Lynda Sagrestano</dc:creator>
  <dc:description/>
  <dc:language>en-US</dc:language>
  <cp:lastModifiedBy>Jennifer Lerner</cp:lastModifiedBy>
  <dcterms:modified xsi:type="dcterms:W3CDTF">2000-01-20T17:52:52Z</dcterms:modified>
  <cp:revision>34</cp:revision>
  <dc:subject>Chapter 1</dc:subject>
  <dc:title>Social Psychology</dc:title>
</cp:coreProperties>
</file>