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1EA-B75B-48DE-B041-49A62761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A22-91DE-4C52-89C7-37B7584B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ED4-8685-4C50-844C-9D23B1B0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9FB-669E-420D-AA95-F17EF4A8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970D-9883-45F1-92F2-25D6CF22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B73A-CA76-4AE0-8B9D-6C2E7F5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262-2BBD-479C-9CB1-D59A037F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8FC2-E827-43B2-8067-E53D16C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6C8-D834-41B2-AF8C-66F1F8E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60C-8A77-4635-8AE0-2D5E596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6D5-5536-471C-84EF-536AFA2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5A7-B6AE-4B60-9257-A1C97B3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47A-5C7B-48EC-8127-2A497EA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986D-D13E-4C61-8D1E-C8DE8C9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1D5-5595-4991-96FC-B09616DE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DD4F-6126-42B4-8737-CF5530CD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E4E-D29F-45DD-A5E7-83C83CD3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A18-9B58-4F4C-B862-4F3EB0C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057-88A9-4E57-982E-93111F8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E76-9F06-464F-B4E0-6206975D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1E5-F1FE-4293-9AE5-0DEDF64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984-24CD-4572-BA13-28F49B4B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EB7-CE6A-42E1-9212-BEAF29D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F9D-CD73-4398-8B53-62E77C3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34D-02E4-444D-AC93-E736DE102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F16-9407-41BB-A495-BC3157315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colton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ands for Four-Colour-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re widely used in Europe and As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ifferent Inkse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n check colors progressivel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oy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eat when using Toyo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sed most widely in Pacific rim countr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Critical Issu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urrou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ensitometric verificatio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rawdow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n YOUR 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th YOUR in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y YOUR print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Control Ba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easure/Calibrate/Evaluat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ar Targ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ot Gain Sca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lid Ink Dens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rter- Mid- Three-quarter tone patch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rolling Color Qual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lity of originals and separ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Surface coatings and colo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 color and dens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arnish or Coa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inter Controlled Fact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k Tac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essroom humid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condition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Uncontrollable Fact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deficienc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iewing l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ge of piece—Environmental effec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Effect of sunl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Qual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ing color—Basic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atch color—Good/Premium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atch original—Premium/ Showcase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ot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quires blending different inks into one ink to obtain the desired h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milar to mixing paints on a palette or for a hous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ur color Proc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ots, Dots, Do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tterns of dots (rosette pattern) simulate the desired h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ot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quire one press unit to apply desired colo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ot Color inks are more expensive than Process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th process printing spot colors require a 5th unit or second pass through the pr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cess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 units, Cyan, Magenta, Yellow Blac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n “simulate” Pantone colo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ocess colors are cheaper than spot colors (you get what you pay for!)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Out of Gamu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me Spot colors CAN NOT be approximated by the process color syste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etallic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on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Reference System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n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rumatch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col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yo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nton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universally recogniz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riginally strictly a spot color system—13 original colo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ocess approxim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rumatch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-color process syste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ranged by Hue, Saturation, Val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ery reliable—seldom us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3-13T16:31:55Z</cp:lastPrinted>
  <dcterms:modified xsi:type="dcterms:W3CDTF">2001-03-13T16:33:50Z</dcterms:modified>
  <cp:revision>15</cp:revision>
  <dc:subject/>
  <dc:title>Desktop Publishing Carnegie-Mellon</dc:title>
</cp:coreProperties>
</file>