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8CC0-7616-4452-BDA2-E9622C970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15FE-D906-45D9-8CB6-C97C706A7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0266-7BD1-4F00-A6E1-79295A5E9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C85F-BDEB-4D39-AFD6-C4412C421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5403C-8D1D-4171-B3D0-A5A1F1C1E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509C7-B405-4B9D-95A6-D2924B189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9607E-7207-49C1-A5A5-8DA7542F8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62603-C651-472F-8BCB-A704E77FC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CBD0F-B4F8-411C-89A2-14B44FEA2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34C03-4104-413C-A1C2-EAA0446CD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F2398-70B2-46F8-B8B2-C07D5275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8536-3303-459B-AF9A-AD993DCE8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D7392-9CCF-4AC8-901A-F7465EA3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0F379-63CA-4689-9964-1B61C6CC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AED2D-631B-4B95-A366-C0CECB2F5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32839-A329-4C99-B69B-06A7CF19C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EEA1B-A167-4615-9F9F-220B5AC04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EC41-240D-461E-B298-D8C37E0A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89C4-6848-4575-95FC-9EA7B2C1A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FA19-2536-4AEB-956D-E4F3E3D2A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EDC4-C10D-480E-A0E8-C10276865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A4C8-D246-47FA-BE9E-F91DA566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66C1-5833-43EB-9CBD-8FA7CA58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AA68-37E5-424B-8E41-DA605B4D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Click to edit the title text format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lvl="1" marL="475200" indent="-182880">
              <a:spcBef>
                <a:spcPts val="104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lvl="2" marL="731520" indent="-14616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lvl="3" marL="1023840" indent="-146160">
              <a:spcBef>
                <a:spcPts val="104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lvl="4" marL="1316520" indent="-146160">
              <a:spcBef>
                <a:spcPts val="104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lvl="5" marL="1316520" indent="-146160">
              <a:spcBef>
                <a:spcPts val="104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lvl="6" marL="1316520" indent="-146160">
              <a:spcBef>
                <a:spcPts val="104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A9B65-B45A-4EB6-A410-007BC78CCF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Click to edit the title text format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5BD57-63DD-4107-B41E-0B870E824A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Desktop Publishing</a:t>
            </a:r>
            <a:br>
              <a:rPr sz="5200"/>
            </a:b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Carnegie-Mellon University</a:t>
            </a:r>
            <a:br>
              <a:rPr sz="5200"/>
            </a:b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Spring 2001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Dave Watterson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Art Director, GATF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wttrsn@aol.com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dwatterson@gatf.org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Focoltone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Stands for Four-Colour-Tone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More widely used in Europe and Asia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Different Inkset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Can check colors progressively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Toyo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Great when using Toyo inks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Used most widely in Pacific rim countries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Color Critical Issues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Surround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Paper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Densitometric verification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Drawdown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On YOUR paper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With YOUR ink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By YOUR printer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Color Control Bar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Measure/Calibrate/Evaluate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Star Targets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Dot Gain Scales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Solid Ink Density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Quarter- Mid- Three-quarter tone patches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Controlling Color Quality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Quality of originals and separations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Paper Surface coatings and color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In color and density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Varnish or Coating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Printer Controlled Factors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Ink Tack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Pressroom humidity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Paper conditioning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Uncontrollable Factors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Color deficiencies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Viewing light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Age of piece—Environmental effects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Effect of sunlight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Color Quality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Pleasing color—Basic printing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Match color—Good/Premium printing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Match original—Premium/ Showcase printing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Contacting me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I don’t have an office on campus and really work all day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Please e-mail me and I will set up a meeting time as quickly as possible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Spot Colors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Requires blending different inks into one ink to obtain the desired hue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Similar to mixing paints on a palette or for a house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Thanks for your attention!</a:t>
            </a:r>
            <a:br>
              <a:rPr sz="5200"/>
            </a:br>
            <a:br>
              <a:rPr sz="5200"/>
            </a:b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 Now let’s head over to the lab</a:t>
            </a:r>
            <a:br>
              <a:rPr sz="5200"/>
            </a:b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(CFA Room 318)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Four color Process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Dots, Dots, Dots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Patterns of dots (rosette pattern) simulate the desired hue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Spot Colors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Require one press unit to apply desired color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Spot Color inks are more expensive than Process Inks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With process printing spot colors require a 5th unit or second pass through the press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Process Colors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4 units, Cyan, Magenta, Yellow Black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Can “simulate” Pantone colors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Process colors are cheaper than spot colors (you get what you pay for!)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Out of Gamut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Some Spot colors CAN NOT be approximated by the process color system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Metallic inks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Neon Inks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Color Reference Systems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Pantone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Trumatch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Focoltone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Toyo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Pantone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Most universally recognized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Originally strictly a spot color system—13 original colors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Process approximations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cc66"/>
                </a:solidFill>
                <a:latin typeface="Impact"/>
              </a:rPr>
              <a:t>Trumatch</a:t>
            </a:r>
            <a:endParaRPr b="0" lang="en-US" sz="5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4-color process system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Arranged by Hue, Saturation, Value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Very reliable—seldom used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9T04:35:44Z</dcterms:created>
  <dc:creator>David Watterson</dc:creator>
  <dc:description/>
  <dc:language>en-US</dc:language>
  <cp:lastModifiedBy>Dave Watterson</cp:lastModifiedBy>
  <cp:lastPrinted>2001-03-13T16:31:55Z</cp:lastPrinted>
  <dcterms:modified xsi:type="dcterms:W3CDTF">2001-03-13T16:33:50Z</dcterms:modified>
  <cp:revision>15</cp:revision>
  <dc:subject/>
  <dc:title>Desktop Publishing Carnegie-Mellon</dc:title>
</cp:coreProperties>
</file>