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6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4.pct" ContentType="image/x-pict"/>
  <Override PartName="/ppt/media/image2.pct" ContentType="image/x-pict"/>
  <Override PartName="/ppt/media/image25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1F9-9586-4BFB-ACE1-28676B61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ACB-E9D3-41EB-9797-4F8227F7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F11-D3BD-4BE6-8BD5-C9194B1E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0BC-4D83-46EF-BA16-7D3885FB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0205-9FC5-4390-AF50-734C4981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96B1-82A7-4853-8572-875FD37B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0328-188F-4E0D-8C49-EE40FCFB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B532-6E28-47AA-9D7E-9C7404C1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467B-A6CC-4AB2-8C34-130A94ED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48A8-9059-4B95-B73A-DCF36445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7A2C-3D54-4083-85D4-63569203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75C-CABF-4E6C-B1FC-EA433268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FEB5-CCAB-472B-B799-ABAE77C6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3603-03E1-4119-9FB5-F79151EB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BC18-3428-4633-A4A1-A7CBB474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BA6C-526F-4118-87A1-A25448F9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A754-5797-4819-9C64-166F4AEA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FED-E899-4A28-A9F6-B779686A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0E2-5068-43B7-A4C2-C1261697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8F9-85BA-4AA7-8E8D-F753AAB0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F1D-5F97-47B5-841B-B8B7B63D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B2F-9527-463F-86B3-50582989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A38-1C7C-4784-99D9-3A7C68F8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495-753D-4930-B61C-6B346315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391C-7FFD-4F07-B618-251EC5D9C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7600-F6E4-41A8-9166-464A3740A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ve Watters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 Director, GA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ttrsn@aol.c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watterson@gatf.or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lor Channel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240" y="167616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images have multiple color channe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uch as the red, green and blue channels of a projection TV syst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nnels us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 o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’s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nned images ha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, Green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54760" y="3225960"/>
            <a:ext cx="4038480" cy="35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orkflows: RGB versus CMYK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past, most images were converted to CMYK as quickly as possible in the work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convers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ly occurr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high-e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m scan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tional col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ction woul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occur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YK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67080" y="3154320"/>
            <a:ext cx="4876920" cy="370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orkflows: RGB versus CMYK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scanners are most often used to capture RGB or LAB data for later conversion to CMY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rovides grea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ility in how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n can be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lso a ke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nent of a col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 work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81480" y="3033720"/>
            <a:ext cx="3962520" cy="3824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905120" y="6191280"/>
            <a:ext cx="3200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Palatino"/>
              </a:rPr>
              <a:t>Heidelberg Topaz IX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Palatino"/>
              </a:rPr>
              <a:t>Flatbed Scanner</a:t>
            </a:r>
            <a:r>
              <a:rPr b="0" i="1" lang="en-US" sz="25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dvantages of the CMYK Mod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ly widely-used method for creating a printable i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ive,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i-fi col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oduction method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YK images can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ily proofed wi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mechanic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digital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52880" y="3822840"/>
            <a:ext cx="4191120" cy="30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isadvantages of the CMYK mod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2760" y="2045880"/>
            <a:ext cx="7165800" cy="3606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or is less intense than R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gamut (range of colors) is smaller than R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YK is not the mode required for viewing images on a mon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CMYK image will be converted to RGB so that you can view it on your moni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Repurposing CMYK Imag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using CMYK images on a different output device may require adjusting the image'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ight, midrange, and shadow d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all gra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sat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ing the image's black plate can harm image quality, but printing the image without modifying the black plate can create an unacceptable res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e Benefits of RGB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r color gamut provides a more accurate recreation of the orig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ve color mode for computer mon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RGB file takes up only 75% of the disk space needed for a CMYK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corrections on RGB images are easier and cause less harm to the i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the same image to be color separated over and over for different output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rrect First, Separate Later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 color cast can be identified in an RGB image, the adjustments required are simple and affect the image's entire tonal range in a balanced man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, if you wait until the image has been separated to perform the same color correction, the effect of the color cast has been distributed among all four 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ffects of this cast may be impossible to rem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lor Mode versus Color Spac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lor mo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e choice of several broadly accepted methods for storing color data in individual 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GB, CMYK, CIELAB, Indexed Color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lor sp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a specific set of data used to characterize pixel values within a colo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s “how red is red?” by associating RGB values from 0 to 255 with specific spectrophotometric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RGB, Apple RGB, ColorMatch RGB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hy Do We Need Color Spaces?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order to perform any sort of editing upon a digital file, the image editing application has to know how the values of each pixel relate to the total number of color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rovides a method of defining pixel colors into a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evice independ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t of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hop has always brought RGB pixels into a know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orking sp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en an image is opened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elcome to Desktop Jeopardy!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te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 questions to each te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ch question worth 10 po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hat team misses you have the opportunity to st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History of Photoshop Color Spac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1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otoshop 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older used a hard-wired color space definition known a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pple 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reflected the values produced by an Apple 13” colo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otoshop 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so used this color space, </a:t>
            </a:r>
            <a:br>
              <a:rPr sz="2800"/>
            </a:b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l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r Mac was running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ColorSyn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in this case, the monitor profile specified in th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olorSync Control Pan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came your RGB working space in Photos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oday’s Photoshop Color Spac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otoshop 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as unlinked the ColorSync system profile from the working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lection made in the ColorSync Control Panel now only corrects RGB data for you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allows the RGB values of the working space to be portable between computers, regardless of the characteristics of each workstation’s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RGB Color Space = ICC Profil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55240" y="144756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formation about your chosen RGB color space definition is saved in a format defined by the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International Color Consorti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I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form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called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CC Pro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71800" y="2870280"/>
            <a:ext cx="5272200" cy="398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hoosing a Color Spac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in Photoshop, selecting RGB Setup will allow you to select an RGB working space from a list of 9 pre-defined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also define a custom RGB space, or choose you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’s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630600" y="3429000"/>
            <a:ext cx="55134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Embedding the Profil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chosen color space’s definition can be embedded within your image, so that any other applications which may process this image are a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how the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s should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essenti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 col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343400" y="3193920"/>
            <a:ext cx="4800600" cy="3664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267080" y="3200400"/>
            <a:ext cx="3048120" cy="137160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4720" y="685800"/>
            <a:ext cx="326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Impact"/>
              </a:rPr>
              <a:t>Watch Out for </a:t>
            </a:r>
            <a:br>
              <a:rPr sz="3600"/>
            </a:br>
            <a:r>
              <a:rPr b="0" lang="en-US" sz="3600" spc="-1" strike="noStrike">
                <a:solidFill>
                  <a:srgbClr val="d60093"/>
                </a:solidFill>
                <a:latin typeface="Impact"/>
              </a:rPr>
              <a:t>Save a Copy</a:t>
            </a:r>
            <a:r>
              <a:rPr b="0" lang="en-US" sz="3600" spc="-1" strike="noStrike">
                <a:solidFill>
                  <a:srgbClr val="ffcc66"/>
                </a:solidFill>
                <a:latin typeface="Impact"/>
              </a:rPr>
              <a:t> !</a:t>
            </a:r>
            <a:endParaRPr b="0" lang="en-US" sz="36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42840" y="457164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’re in the habit of choosing </a:t>
            </a:r>
            <a:br>
              <a:rPr sz="2800"/>
            </a:b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Save a Cop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be aware that selecting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Exclude Non-image Da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ll save your file without embedding a profi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2070360" cy="4622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886200" y="647640"/>
            <a:ext cx="5043600" cy="3467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257800" y="3124080"/>
            <a:ext cx="3048120" cy="137160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color space was created by Hewlett-Packard, and mirrors the gamut of a low-cost home PC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RGB also complies to the specs for HDT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pple 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color space reflects the gamut of an Apple 13” colo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’s the color space used by Photoshop 3 (as well as Photoshop 4 when ColorSync was disabl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space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much bet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 sRGB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hough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s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lorMatch 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space is based on the Radius PressView monitor, and is a good choice for prepress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50 white point matches that used in ANSI view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5120" y="175212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dobe RGB (1998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Formerly known as the SMPTE-240M color space, this was renamed after SMPTE did not approve these spe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’s based on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po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ew HDTV color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 goo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ress spac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wid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ut th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M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. The basic colors that are used in color process printing are __________        _________ __________       __________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AL/SEC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matches the specs for European broadcast video, and is not a good choice for prepress applica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MPTE-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matches the specs for American broadcast video, and is not a good choice for prepress applications ei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ide Gamut 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color space was created by defining spectrally pure primary colors, and can include many colors that are beyond the capabilities of both monitors and output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spa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only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with gre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tion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ing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a CMYK Color Spac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5104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can also define CMYK data values with an ICC Profile, based upon a specific output device’s reproduction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rofile is useful when applications make a CMYK-to-CMYK con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906640" y="4203720"/>
            <a:ext cx="623736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Getting Ready to Work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you start doing production work, make sure you’re happy with two thing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: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r monitor’s calib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B: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r choice of RGB working sp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6044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Impact"/>
              </a:rPr>
              <a:t>A:</a:t>
            </a: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Monitor RGB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66068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b50069"/>
                </a:solidFill>
                <a:latin typeface="Times New Roman"/>
              </a:rPr>
              <a:t>ColorSync System </a:t>
            </a:r>
            <a:br>
              <a:rPr sz="2800"/>
            </a:br>
            <a:r>
              <a:rPr b="1" i="1" lang="en-US" sz="2800" spc="-1" strike="noStrike">
                <a:solidFill>
                  <a:srgbClr val="b50069"/>
                </a:solidFill>
                <a:latin typeface="Times New Roman"/>
              </a:rPr>
              <a:t>Profi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ntrol Pane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in the Mac O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s the convers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RGB scan data in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GB PICT data for you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may be able to find your monitor in the preinstalled list of monitors supplied by Apple, or you might generate your own custom ICC monitor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59320" y="685800"/>
            <a:ext cx="3479760" cy="29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etting the Monitor Profil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167600" cy="4343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it’s not listed, check with your monitor manufacturer to see if a generic ICC profile i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60199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Making an ICC Monitor Profil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45920" y="1981080"/>
            <a:ext cx="5853240" cy="4114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course, the most accurat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C monitor profile is one that is individually created for you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reate such a profile, you’ll need to measure your monitor’s color output as a series of colored squares are gene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5640" y="1828800"/>
            <a:ext cx="2333880" cy="356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66120" y="5410080"/>
            <a:ext cx="24796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Palatino"/>
              </a:rPr>
              <a:t>X-Rite DTP-9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Palatino"/>
              </a:rPr>
              <a:t>Monitor Optimiz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librating Your Monitor </a:t>
            </a:r>
            <a:r>
              <a:rPr b="0" i="1" lang="en-US" sz="4400" spc="-1" strike="noStrike">
                <a:solidFill>
                  <a:srgbClr val="ffff00"/>
                </a:solidFill>
                <a:latin typeface="Impact"/>
              </a:rPr>
              <a:t>Cheaply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don’t have a monitor calibrator, try  Photoshop’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dobe Gam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id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Goodies&gt;Calib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 visu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ibration too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results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ustom IC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le for you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809880" y="3324240"/>
            <a:ext cx="5334120" cy="353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Impact"/>
              </a:rPr>
              <a:t>B:</a:t>
            </a: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RGB Setup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 an appropriate RGB working space by select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ile&gt;Color Settings&gt;RGB Set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rn on the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evie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ox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well as the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isplay Using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mpens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630600" y="2844720"/>
            <a:ext cx="5513400" cy="401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2. Your monitor uses the  _______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lor model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or Prepress, Adobe Recommends: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98688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hotoshop 5 Workflow Issu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that color space definitions can be embedded into your images, you’ll have some decisions to make about how files should be handled upon opening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your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legacy fi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created prior to Photoshop 5) will have no embedded pro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, customers will supply files with embedded profiles that are different from your chosen colo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24080" y="4572000"/>
            <a:ext cx="3353040" cy="1828800"/>
          </a:xfrm>
          <a:prstGeom prst="ellipse">
            <a:avLst/>
          </a:prstGeom>
          <a:solidFill>
            <a:srgbClr val="eed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ree Workflow Scenario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5320" y="4876560"/>
            <a:ext cx="241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hotoshop’s working colo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1523880"/>
            <a:ext cx="2438640" cy="23623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2209680"/>
            <a:ext cx="274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egacy files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no embedded color sp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1523880"/>
            <a:ext cx="3200400" cy="23623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2057400"/>
            <a:ext cx="34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upplied files with embedded color spaces that don’t match y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240" y="1523880"/>
            <a:ext cx="1463760" cy="23623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209680"/>
            <a:ext cx="15541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ew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c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3962520"/>
            <a:ext cx="1828800" cy="76176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995800" y="3965400"/>
            <a:ext cx="1047240" cy="73080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3962520"/>
            <a:ext cx="457200" cy="60948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51800" y="1482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43560" y="1482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4120" y="1482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267080" y="3670200"/>
            <a:ext cx="4876920" cy="31878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cenario 1: New Sca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40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you’ve already calibrated your monitor and selected an RGB working space, this one is easy! Simply open your RGB scans and make any needed adjustment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ertain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Profile Setup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checked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bed RGB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YK pro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3657600"/>
            <a:ext cx="2971800" cy="129528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cenario 2: Legacy Sca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135240" y="3174840"/>
            <a:ext cx="6008760" cy="36831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3818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your Assumed Profile to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Ask When Ope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 you can make the appropriate choice every time you convert a file to your preferred RGB colo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253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spa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’s orig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cenario 3: Profile Mismatch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55600" y="1752120"/>
            <a:ext cx="7607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your Profile Mismatch Handling to </a:t>
            </a:r>
            <a:br>
              <a:rPr sz="2800"/>
            </a:b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Ask When Ope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 you can make the appropriate choice every time you convert a file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RGB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135240" y="3174840"/>
            <a:ext cx="6008760" cy="368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don’t have an office on campus and really work all 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ase e-mail me and I will set up a meeting time as quickly as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3. The combination of red, green and blue colors on screen can produce more than _______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million colors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4. The file size of a 72 dpi file that is increased to 144 dpi will be ________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mes the size of the original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5. For printed material to display natural looking halftones it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is recommended that th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image dpi i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mes the line screen used 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e printing method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6. In QuarkXPress the tool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needed to edit element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ithin a selected text or picture box is th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__________ tool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4360" y="53316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Keeping Pixels in Color Channel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566720"/>
            <a:ext cx="7619760" cy="4300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efinition of </a:t>
            </a:r>
            <a:r>
              <a:rPr b="1" lang="en-US" sz="2800" spc="-1" strike="noStrike">
                <a:solidFill>
                  <a:srgbClr val="b50069"/>
                </a:solidFill>
                <a:latin typeface="Times New Roman"/>
              </a:rPr>
              <a:t>pix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ight b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mallest tonal element in digital imaging that can be independently assigned color and intensit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of each pixel’s value as maximum density, maximum brightness or a shade in betw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combining various shades of primary color pixels, we can make millions of col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hop stores these primary colors i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cp:lastPrinted>2001-02-19T21:18:25Z</cp:lastPrinted>
  <dcterms:modified xsi:type="dcterms:W3CDTF">2001-02-26T18:32:30Z</dcterms:modified>
  <cp:revision>21</cp:revision>
  <dc:subject/>
  <dc:title>Desktop Publishing Carnegie-Mellon</dc:title>
</cp:coreProperties>
</file>