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lick to move the slid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A29F-A192-4E30-A7F8-71E7A2B4D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A2A3-1C20-4BF7-8AA0-316E5ACC9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to Terminal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s can be transferred during a modem call using terminal software (Microphone, MacCom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quires active participation from both you and the customer simul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iles transfers must be proceeded by a phone call to agree upon the file transfer protocol settings to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4381-E133-48C6-BFE9-343435D8E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in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receive files through your Bulletin Board Service (BB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oes not require simultaneous partic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stomer can call your BBS phone number at any time of the day or night to “upload"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provide files (messages, low res images) for the customer to download  from his/her mail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B99F-4FCF-4C76-B20E-77EC4F3C5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ed File Transfer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automate the file transfer procedure for your customer by providing them with a free copy of one of the new File Transfer software pack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rovide an icon with your company's name on the clients desk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stomer drags the folder containing the job onto your 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ftware compresses the data, dials your modem and completes the file transfer in th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B248-3517-4140-90A2-66C8988AE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f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Quark XPress function that collects all the linked files together into one folder, and then generates a report for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ge your customers using Quark to take advantage of this featu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unction does not copy all the fonts used in the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unction does not copy all the fonts used in the linked art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73B3-A7E7-45EB-9811-D1B48C410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A754-DB63-4B24-B91C-F50F63657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Customer 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ccept the job if it comes with a set of lasers printed out by the 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asers prove that the job is pri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job is more than one color, these lasers should be marked up for color brea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ly, the customer would furnish color lasers and these lasers would also be "marked up", to indicate where colors overprint or knock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job varnishes in a complex way, have the customer indicate what varnishes on the la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0D6E-71D5-48C4-942F-82E391EEB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uraging Customer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ustomers do not understand the importance of hard copy and completed job information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esperson or CSR must check for these items when the job arr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don't have everything, ask them to call the customer IMMEDI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, set a policy that you won't work on the job unless you have the hard copy and job informatio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6ECF-D4DF-4E1B-99E1-307943287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uraging Customer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ustomers do not understand the importance of hard copy and completed job information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esperson or CSR must check for these items when the job arr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don't have everything, ask them to call the customer IMMEDI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, set a policy that you won't work on the job unless you have the hard copy and job informatio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7B09-F39E-4418-BE89-D5EC02663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vering the cost of cor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ing the number of unanticipated d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ut areas in which the preflight operator should receive additional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the accuracy of est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ng the salesperson about the problems associated with the j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ing the ability of the Prepress Department to achieve customer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6B6D-3482-47BD-8435-18368B340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lighting discovers and identifies problems with customer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Repair actually intervenes and makes the cor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Repair time was not included in the price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 is billable to the 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Repair can increase the cost of the job substant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CCF1-F161-4794-89BA-35E44F791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your customer pay for you to repair the fi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your customer rather have the disk returned, so that the files can be repaired without increasing the cost of the job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your customer have the time to repair the fi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your customer have the knowledge, ability and/or equipment to do the necessary corre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B13-0374-4A6A-895C-D57FCD82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94A-2931-4143-B67A-0176F58E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337-A329-415B-9AD3-80EE3077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F41-14DB-4DA8-990A-E8591518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E159-64E4-4B08-9FC1-1A224F95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69A3-EE29-4DC1-9D48-6193F7FE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72D4-06AA-446D-A765-1170CB2A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AE3B-F846-4FF7-8D2C-B4E1BAB2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56F8-32D2-4B9A-80F7-7F39DC88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A9D6-DCF5-4ABD-ADAE-BAF464A5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B2D5-4EAB-4BE8-ACFB-7D288F18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4F1-37EA-4CCA-B98E-14F772F4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9155-0E88-4130-BC69-075848DA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46BA-3023-4213-9BA0-A94DBA01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9EAA-5170-410C-A546-223A86C4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C104-50AE-4D26-AF51-C418EF68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9E8C-D5F9-4DC7-84BA-5C1061F2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64E-1A2F-4E29-996A-705D9896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807-12F5-4755-85BF-19B3CA2F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8BC-C433-4613-81E6-481832EF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481-E891-479F-860A-11AA5ADC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743-6CF6-4B75-82E9-8711F747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29D-8FE6-430C-994F-B49B156B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88A-B34B-4AFD-9008-4449DBF9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spcBef>
                <a:spcPts val="104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2" marL="731520" indent="-1461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indent="-146160">
              <a:spcBef>
                <a:spcPts val="104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4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5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6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4DFD-83C5-479E-B762-F45A79339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69CB-0B4F-40A8-B519-AB734F84B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Electronic File Transfe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55240" y="1599840"/>
            <a:ext cx="730260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may already receive files electronically over telecom lines, using a mod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rminal-to-terminal trans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lletin Board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utomated File Transfer Soft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ivate Network Data Deli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 Transfer Protoc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service benefits your custo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can also help you stay on schedule, when fonts or files are missing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erminal to Terminal Transmission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s can be transferred during a modem 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requires participation from you and the customer simultaneous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files transfers must be proceeded by a phone call, to establish agreement on the file transfer protocol set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Bulletin Board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can receive files through your BB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does not require simultaneous particip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ustomer can call your BBS at any time to “upload"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may also provide files for the customer to downlo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758880"/>
            <a:ext cx="7297560" cy="990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Automated File Transfer Softwar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731520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your customer with a free copy of a File Transfer software pac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rovide an icon with your company's name on the clients desk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ustomer drags the folder containing the job onto your ic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oftware compresses the data, dials your modem and completes trans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758880"/>
            <a:ext cx="7297560" cy="990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File Transfer Protocol (FTP)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39840" y="1665360"/>
            <a:ext cx="7315200" cy="4811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one who has Internet access can download (receive) or upload (transmit) a file to an FTP-enabled Internet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ting up and maintaining this FTP server is the job of the printsh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e software for secure transactions allows the customer to pay for the job via credit card when uploading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the transfer of large files to be practical, both parties must have high-speed links to first-tier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4360" y="9140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File Management 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and Folder Organization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240" y="2285640"/>
            <a:ext cx="775980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ting all prepress workers to organize their files in a consistent manner is very impor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key to being able to reoutput the correct file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Preflight Operator starts the job with consistent folder and file organization, it's much more likely that the job will remain organized through outputAn Organized Folder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Did You Get Everything You Need?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472520" cy="3657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problems encountered in outputting customer files are missing art files and missing fo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your customers aware that the easiest way to gather up all the art and image files is to use the DTP application's file collection cap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3840" y="52668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llect for Output=Quark XPres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3564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gathers all the linked fil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gether into one folder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generates a report for y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generate the report only, cho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Document Statistics” under th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tilities me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rge your custome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ake advantage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fea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p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font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64160" y="1447920"/>
            <a:ext cx="245124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9800" y="76176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ave for Service Provider (PageMaker 6.5)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65080" y="3506760"/>
            <a:ext cx="4052880" cy="2820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function does not copy embedded files, only linked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now, this function also copies the font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5080" y="2050920"/>
            <a:ext cx="731700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e0033"/>
              </a:buClr>
              <a:buSzPct val="90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his is the function that collects all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Palatino"/>
              </a:rPr>
              <a:t>linked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files into one fo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e0033"/>
              </a:buClr>
              <a:buSzPct val="90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"/>
              </a:rPr>
              <a:t>Formerly known as “Files for Remote Print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805280" y="3638520"/>
            <a:ext cx="4318200" cy="31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39440" y="758880"/>
            <a:ext cx="7297560" cy="990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ave for Service Provide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65080" y="1661760"/>
            <a:ext cx="751680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isclaimer appears when including the fonts, warning you that each font vendor has differing policies about restrictions on font usage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08440" y="3362400"/>
            <a:ext cx="617220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4901760"/>
            <a:ext cx="7905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7800" y="527040"/>
            <a:ext cx="2971800" cy="14162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774360" y="2361960"/>
            <a:ext cx="7969320" cy="2095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Impact"/>
              </a:rPr>
              <a:t>Preflighting Files</a:t>
            </a:r>
            <a:r>
              <a:rPr b="0" lang="en-US" sz="4000" spc="-1" strike="noStrike">
                <a:solidFill>
                  <a:srgbClr val="ffcc66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ird-Party Software Solution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7560" y="1905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offer the same ease of use for customers building jobs with other DTP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se applications will also gather all the fonts used used in the page layout document, and perhaps in the EPS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onal file compression is also a common feature—but some packages use a proprietary compression technolog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Handling Customer Fil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e any messages regarding missing fonts, missing files or improper software ver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Quark, always choose “Keep document preferenc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the document has completed opening, check the links to the art files and im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9440" y="758880"/>
            <a:ext cx="7297560" cy="990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hoose “Save As...”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63520" y="1661760"/>
            <a:ext cx="752328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you’ve established the links to image and art files, immediately choose  “Save As” from the File menu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 extension to the name of the file to signify that this is your modified, ready-for-output version (such as “.rfo” or “.sbo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 the file at the first level of the folder established for the j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side the folder containing the art and image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Revision File Nam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52640" y="1742760"/>
            <a:ext cx="771048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 document opens, choose “Save A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e the new file at the first level of the folder established for the j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side the folder containing the art and image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 number at the end of the filename to signify that this is the latest modified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ch as “annual report.rfo2” or “newsletter.sbo2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Use the Same Fon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different manufacturers' versions of the same typeface can produce very different results in your docu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why service bureaus usually require the customer to send all the fonts necessary to produce the j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just the fonts you don't ha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Isn’t this Illegal?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perfectly legal for designers to send thei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creen fo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nyone, including printshops and service burea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forcement practices have suggested that one-time use of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inter fo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outputting files is OK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long as they came from a customer who legitimately owns the font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4360" y="83772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Second Essential: 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Non-digital Ar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00200" y="2209680"/>
            <a:ext cx="7143840" cy="42926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lid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hotographic prin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llustrations to be scanne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ignatures of VIP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4360" y="83772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Third Essential: 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ustomer Laser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2126880"/>
            <a:ext cx="754380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set a policy that all jobs must come with customer-created laser printou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only way you will know what the job looked like on the customer’s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lasers also prove that the file will RIP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job varnishes, have the customer indicate varnishes on the la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 your sales staff to check for this when picking up the job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74360" y="76176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Fourth Essential: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oduction Request Form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55240" y="213336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ever name you use (Electronic Output Request Form, Disk Info Sheet, etc.), this is a valuable communication too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how you find out what the customer expects from y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how the customer finds out what you expect from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4360" y="83772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Designing Your  Own 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oduction Request Form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55240" y="2057400"/>
            <a:ext cx="7588440" cy="4368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sure to include a Copyright disclai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ustomer verifies that they have full rights to reproduce all fi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's also a good place for other items, such 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ng your maximum film output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cating your preferred re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ing your digital proof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What is Preflighting?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886120"/>
            <a:ext cx="7396200" cy="3209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by which you can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discov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missing items and/or errors in your customer's fi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It's highly likely that: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ustomer may provide his or her own version of the Production Reques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’s not the same as yours? Too bad! Just shut up and be happy they sent something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ustomer will not fill out the Production Request Form complet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eans your PRF is too long and 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SS! Only ask the questions that matter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Encouraging Customer Cooperation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e the importance of hard copy and completed job information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ing this sort of encouragement is the job of both the Customer Service Rep and the Sales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ertain Sales teams tend to have fewer PRFs and lasers than others, they’re probably telling their customers not to bothe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Encouraging CSR Cooperation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lesperson or CSR must check for these items when the job arr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n't have everything, ask them to call the custo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 policy that you won't work guarantee the quoted price unless you have customer lasers and Production Request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nsider incentives: 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You could offer a 5% discount on Preflighting costs to customers whose jobs arrived complete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Often, a phone call from the CSR thanking them for supplying everything is reward enough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7360" y="758880"/>
            <a:ext cx="7297560" cy="990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eflight softwar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584000"/>
            <a:ext cx="741204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2000"/>
          </a:bodyPr>
          <a:p>
            <a:pPr marL="315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ill never replace the human touch!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oftware can't..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all the paperwork to check for discrepa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ify that the customer signed the copyright disclai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 for correct folds and bl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ly verify that the trapping has been done correctly, in the page layout file and the EPS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68688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oftware Limitation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3880" y="1904760"/>
            <a:ext cx="7310520" cy="3871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oftware can't..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 you that there’s no varnish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for extraneous elements and ink coverage on the glue ta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 your monitor to the customer’s la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 the amount of time needed to correct and output the j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Is All Software the Same?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76000"/>
          </a:bodyPr>
          <a:p>
            <a:pPr marL="260640" indent="-2606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Here’s four categories of Preflight Software: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 Studio Preflight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Script Preflight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DF Preflight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File Preflight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is is what they’re all about..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4360" y="73620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eflight Software in the 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Design Studio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5240" y="2108160"/>
            <a:ext cx="758844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ieve it or not, many designers are very concerned over their ability to submit error-free jobs for prin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mendous tools already exist for these exceptional customers—but at a price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s such a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rkzware FlightChec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xtensis Collect Pr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ot only check for errors, but can also be used as an  efficient method of collecting files for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llection Utiliti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Markzware and Extensis offer scaled-down versions of their popular preflight programs built just for desig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s Collect P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zware FlightCheck Coll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rograms offer limited preflighting capabilities, but excel at collecting all the fonts and graphics needed by the print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ice is a no-brainer: only $99 for each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ostScript Preflight Softwar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7560" y="1828440"/>
            <a:ext cx="7315200" cy="3801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you to examine a print-to-disk file for missing fonts, or to document the number of colors referenced in the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programs can also report on the size and number of pages in the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ular examples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Mechanic by Acquired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imate’s Flight Simu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Check by Acquired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How Do I Preflight a Job?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ith a checklis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or not you use a preflight software program, you’ll want to have a standardized list for every Preflight Technician to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mprehensive checklist will assure that every job is examined complet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checklist should be updated every time you discover a new type of error or gli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eflighting PDF Fil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robat Distiller renders the PostScript file as a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bject li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the resulting object list is what you see on you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eans that a PDF file will rule out most PostScript errors, since all the elements have already undergone PostScript interpretation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nFocus Softw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fers a preflight plug-in for Acrobat Exchange calle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heck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xtensis Preflight Pr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as the capability to check PDF files as well as application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rrection Tools for PDF Fil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those small problems, you can make simple corrections using Acrobat Exchange’s built-i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ouchUp Tex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elaborate corrections, try the Acrobat Exchange plug-i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itSto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nFocus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ltimate in PDF (and PostScript) editing can be achieved through the purchase of th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igiScrip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rver and software from Germany’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ne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Application File Preflight Softwar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1080" y="1980720"/>
            <a:ext cx="7315200" cy="3729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you to directly examine the main page layout document, and in some cases, the linked graph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category of software can check for a wide variety of problems before you print! Leading examples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zware FlightChe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s Preflight P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Markzware FlightCheck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gram paved the way for today’s Preflight workf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ightCheck was the first program to actually work directly on application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ightCheck examines a wide variety of native file formats, including Quark, PageMaker, Illustrator, and Freeh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files are examined directly by the FlightCheck software—you don’t need to have the original applic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Markzware FlightCheck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ightCheck uses a two-report format to present a brief error list and a status cha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status chart reports on document version info and presents iconographic data on all fonts, colors, graphics and tr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ightCheck has an established following of users on both the Mac and PC plat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zware FlightCheck lists for $3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Extensis Preflight Pro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11240" y="1669680"/>
            <a:ext cx="798048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ed in conjunction with R.R. Donnel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flight Pro checks f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sing fo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sing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potential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2.0 not only checks Quark, PageMaker, Illustrator, Freehand and Creator2 files, it also checks and creates PDF fil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, the actual application is also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eflight Pro Suggests Solutions!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flight Pro uses a “job jacket” metaph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ilo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ture takes the user back into the original document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h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error, along with advice on how to fix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flight Pro lists for $3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606240"/>
            <a:ext cx="808524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In Review: The Preflight Requiremen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04760" y="1661760"/>
            <a:ext cx="731520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a Preflight department or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 your Preflight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fy your customers of your workflow changes with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s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Preflight early in the production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corrected files and details on errors to your cust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eflight Benefi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7102440" cy="4006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vering the cost of cor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r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ing unanticipated del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s out areas for additional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ing the accuracy of esti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ng the CSR and Sales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nhancing customer satisf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eflighting versus File Repai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flighting discovers and identifies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Repair makes the cor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Repair time was not quo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ime is billable to the custo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Repair increases the cost of the j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5200"/>
            </a:b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Who Does File Repair?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696080" cy="43405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the customer pay you to repair the fi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uld the customer rather do the repairs, to keep costs dow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your customer have the time to repair the fi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our customer do the necessary correc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4360" y="9140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Accepting the Job: 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Four Essential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5640" y="2441160"/>
            <a:ext cx="506412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1. File Submitta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2. Non-digital Ar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3. Customer Las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4. Production Request Form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4360" y="83772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First Essential: 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Obtain the Digital Fil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372440" cy="4216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’t begin until you’ve got your hands on those page layout and illustration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examine the two ways in which customer files arr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a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a electronic file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’ll also look a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ow to hand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se precious customer file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ransportable Storage Media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2590560"/>
            <a:ext cx="7188120" cy="33051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ncludes floppy disks, Syquest and Bernoulli cartridges, magneto-opticals, CD–Roms, ZIP drive cartridges and m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normally reliable, these media are pron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eflighting process verifies that the media containing the customer’s file is still read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no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an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4-17T14:30:28Z</cp:lastPrinted>
  <dcterms:modified xsi:type="dcterms:W3CDTF">2001-04-17T14:46:27Z</dcterms:modified>
  <cp:revision>31</cp:revision>
  <dc:subject/>
  <dc:title>Desktop Publishing Carnegie-Mellon</dc:title>
</cp:coreProperties>
</file>