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move the slid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319-A75D-4AB6-9F57-03E1317D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F67-4621-4089-A4FE-16F8DD7E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to Termin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s can be transferred during a modem call using terminal software (Microphone, MacCom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quires active participation from both you and the customer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iles transfers must be proceeded by a phone call to agree upon the file transfer protocol settings to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03CB-3FC8-44DC-B67D-F66344B12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in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ceive files through your Bulletin Board Service (BB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es not require simultaneous partic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stomer can call your BBS phone number at any time of the day or night to “upload"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provide files (messages, low res images) for the customer to download  from his/her mail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9C4-027B-46AB-9447-3C175F39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ed File Transfer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utomate the file transfer procedure for your customer by providing them with a free copy of one of the new File Transfer software 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rovide an icon with your company's name on the clients des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stomer drags the folder containing the job onto your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ftware compresses the data, dials your modem and completes the file transfer in th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E81-8E80-4C74-9C98-2070669D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for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Quark XPress function that collects all the linked files together into one folder, and then generates a report for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ge your customers using Quark to take advantage of this fea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unction does not copy all the fonts used in the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unction does not copy all the fonts used in the linked art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6FAB-3081-412E-86FE-771769A8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C0F0-4245-4233-A47C-E1195E4B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ustomer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ccept the job if it comes with a set of lasers printed out by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sers prove that the job is pri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job is more than one color, these lasers should be marked up for color brea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ly, the customer would furnish color lasers and these lasers would also be "marked up", to indicate where colors overprint or knock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job varnishes in a complex way, have the customer indicate what varnishes on the la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BA16-BE94-411B-A8C1-257E5734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uraging Customer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ustomers do not understand the importance of hard copy and completed job information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esperson or CSR must check for these items when the job ar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n't have everything, ask them to call the customer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, set a policy that you won't work on the job unless you have the hard copy and job informa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6CB-564F-4B6A-992E-E9AFC39A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uraging Customer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ustomers do not understand the importance of hard copy and completed job information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esperson or CSR must check for these items when the job arr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don't have everything, ask them to call the customer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, set a policy that you won't work on the job unless you have the hard copy and job informa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27CE-AA3D-411A-8C63-CA25BB70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ing the cost of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ing the number of unanticipated d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ut areas in which the preflight operator should receive additional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the accuracy of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ng the salesperson about the problems associated with the j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ing the ability of the Prepress Department to achieve 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0A7-9326-42C0-A68E-1B864EA31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lighting discovers and identifies problems with custom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actually intervenes and makes the cor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time was not included in the price 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is billable to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Repair can increase the cost of the job substant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3B1-5047-495F-B1D0-B028BF17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your customer pay for you to repair the fi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your customer rather have the disk returned, so that the files can be repaired without increasing the cost of the job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customer have the time to repair the fi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your customer have the knowledge, ability and/or equipment to do the necessary corre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36520" y="68112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C91-D791-4D1D-AA22-EB0AE3D5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25F-B465-4DC0-9EB0-3824C1E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3B2-CCDD-4D5D-8812-8A4CDEB7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853-8FC8-458B-94E1-A2367675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5BED-9BC2-4A11-82BC-8CF233F4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0114-CDED-47B2-8340-A8CDA6D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8CEE-A27D-45B4-8A74-C082EF8D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1B37-ED1C-4D48-A2AA-ADBEDBE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9CF-1063-41E6-A0FC-4C65CF4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EA9-502C-45A1-8937-124AFABF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E04-95A4-4BD9-89EB-013510D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E3B-B76F-43F1-B6ED-0E64DA9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B515-FCBD-4D7C-A574-940F05E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02E-58DA-4C0B-B77E-BC1FAE91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70BF-C40F-4CCD-ABC6-813410E8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738-9251-4447-B93C-32917DCF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E20E-738F-4D64-B719-17C401A1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B1D-67FF-43DC-AF61-5EC4D17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7DA-6FD4-4D33-95CE-A684205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948-E496-423B-BC8C-13B44863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F10-8D17-4D23-AE82-00CEA94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53D-4231-42DE-90FF-EE07CAC0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404-3460-4A3B-8F2A-C74D6AD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4B0-EA38-4585-B30D-DF941DF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73E-421A-4B3F-8C04-A5D68C05B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3F3-40D0-4E90-996E-7294EB6CD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lectronic File Transf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5240" y="1599840"/>
            <a:ext cx="730260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already receive files electronically over telecom lines, using a mod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minal-to-terminal 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lletin Board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omated File Transfer Soft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vate Network Data Deli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 Transfer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ervice benefits your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also help you stay on schedule, when fonts or files are miss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erminal to Terminal Transmiss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s can be transferred during a modem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quires participation from you and the customer simulta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files transfers must be proceeded by a phone call, to establish agreement on the file transfer protocol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Bulletin Board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 receive files through your B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oes not require simultaneous particip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stomer can call your BBS at any time to “upload"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also provide files for the customer to downlo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utomated File Transfer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73152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your customer with a free copy of a File Transfer software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rovide an icon with your company's name on the clients deskt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drags the folder containing the job onto your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ftware compresses the data, dials your modem and completes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le Transfer Protocol (FTP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39840" y="1665360"/>
            <a:ext cx="7315200" cy="4811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one who has Internet access can download (receive) or upload (transmit) a file to an FTP-enabled Internet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ting up and maintaining this FTP server is the job of the print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e software for secure transactions allows the customer to pay for the job via credit card when uploading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e transfer of large files to be practical, both parties must have high-speed links to first-tier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4360" y="9140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le Management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nd Folder Organiz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240" y="2285640"/>
            <a:ext cx="775980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l prepress workers to organize their files in a consistent manner is very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key to being able to reoutput the correct file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Preflight Operator starts the job with consistent folder and file organization, it's much more likely that the job will remain organized through outputAn Organized Folde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id You Get Everything You Need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472520" cy="365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roblems encountered in outputting customer files are missing art files and missing fo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your customers aware that the easiest way to gather up all the art and image files is to use the DTP application's file collection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3840" y="52668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lect for Output=Quark XPr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564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gathers all the linked fil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gether into one folder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generates a report for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generate the report only, cho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Document Statistics” under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tilities me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ge your custom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ake advantage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fe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p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font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64160" y="1447920"/>
            <a:ext cx="2451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9800" y="76176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ave for Service Provider (PageMaker 6.5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65080" y="3506760"/>
            <a:ext cx="4052880" cy="2820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unction does not copy embedded files, only linked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now, this function also copies the fon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5080" y="2050920"/>
            <a:ext cx="73170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e0033"/>
              </a:buClr>
              <a:buSzPct val="90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is is the function that collects all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alatino"/>
              </a:rPr>
              <a:t>linked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files into one f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e0033"/>
              </a:buClr>
              <a:buSzPct val="90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Formerly known as “Files for Remote Print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05280" y="3638520"/>
            <a:ext cx="431820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ave for Service Provid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65080" y="1661760"/>
            <a:ext cx="75168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isclaimer appears when including the fonts, warning you that each font vendor has differing policies about restrictions on font usag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08440" y="3362400"/>
            <a:ext cx="61722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4901760"/>
            <a:ext cx="7905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00" y="527040"/>
            <a:ext cx="2971800" cy="1416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74360" y="2361960"/>
            <a:ext cx="7969320" cy="2095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Impact"/>
              </a:rPr>
              <a:t>Preflighting Files</a:t>
            </a:r>
            <a:r>
              <a:rPr b="0" lang="en-US" sz="4000" spc="-1" strike="noStrike">
                <a:solidFill>
                  <a:srgbClr val="ffcc6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ird-Party Software Solution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7560" y="1905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offer the same ease of use for customers building jobs with other DTP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se applications will also gather all the fonts used used in the page layout document, and perhaps in the EPS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onal file compression is also a common feature—but some packages use a proprietary compression technolog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Handling Customer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e any messages regarding missing fonts, missing files or improper software ver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Quark, always choose “Keep document preferenc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document has completed opening, check the links to the art files and 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944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hoose “Save As...”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63520" y="1661760"/>
            <a:ext cx="75232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you’ve established the links to image and art files, immediately choose  “Save As” from the File menu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 extension to the name of the file to signify that this is your modified, ready-for-output version (such as “.rfo” or “.sbo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 the file at the first level of the folder established for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ide the folder containing the art and imag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Revision File Nam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2640" y="1742760"/>
            <a:ext cx="77104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document opens, choose “Save 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 the new file at the first level of the folder established for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ide the folder containing the art and image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number at the end of the filename to signify that this is the latest modified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as “annual report.rfo2” or “newsletter.sbo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Use the Same Fon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different manufacturers' versions of the same typeface can produce very different results in your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y service bureaus usually require the customer to send all the fonts necessary to produce the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just the fonts you don't ha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sn’t this Illegal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perfectly legal for designers to send thei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creen fo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nyone, including printshops and service burea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ment practices have suggested that one-time use o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nter fo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outputting files is OK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long as they came from a customer who legitimately owns the fon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Second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Non-digital Ar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7143840" cy="42926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lid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hotographic pri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llustrations to be scann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gnatures of VIP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Third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ustomer Lase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212688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set a policy that all jobs must come with customer-created laser print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only way you will know what the job looked like on the customer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lasers also prove that the file will RIP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job varnishes, have the customer indicate varnishes on the la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 your sales staff to check for this when picking up the job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Fourth Essential: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duction Request Form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55240" y="21333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ever name you use (Electronic Output Request Form, Disk Info Sheet, etc.), this is a valuable communication too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how you find out what the customer expects from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how the customer finds out what you expect from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igning Your  Own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duction Request Form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55240" y="2057400"/>
            <a:ext cx="7588440" cy="4368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sure to include a Copyright disclai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stomer verifies that they have full rights to reproduce all fi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's also a good place for other items,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ng your maximum film output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ng your preferred re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ing your digital proof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What is Preflighting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886120"/>
            <a:ext cx="7396200" cy="3209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you ca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iscov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missing items and/or errors in your customer's fi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t's highly likely that: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may provide his or her own version of the Production Reques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it’s not the same as yours? Too bad! Just shut up and be happy they sent someth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ustomer will not fill out the Production Request Form complet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eans your PRF is too long and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S! Only ask the questions that matter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ncouraging Customer Cooper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the importance of hard copy and completed job information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ing this sort of encouragement is the job of both the Customer Service Rep and the Sales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ertain Sales teams tend to have fewer PRFs and lasers than others, they’re probably telling their customers not to bothe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ncouraging CSR Cooperatio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lesperson or CSR must check for these items when the job arr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't have everything, ask them to call the custo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 policy that you won't work guarantee the quoted price unless you have customer lasers and Production Request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sider incentives: 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You could offer a 5% discount on Preflighting costs to customers whose jobs arrived complete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ften, a phone call from the CSR thanking them for supplying everything is reward enough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7360" y="758880"/>
            <a:ext cx="7297560" cy="990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84000"/>
            <a:ext cx="741204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2000"/>
          </a:bodyPr>
          <a:p>
            <a:pPr marL="315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ll never replace the human touch!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ftware can'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ll the paperwork to check for discrepa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ify that the customer signed the copyright discla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 for correct folds and bl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ly verify that the trapping has been done correctly, in the page layout file and the EPS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8688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oftware Limitation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3880" y="1904760"/>
            <a:ext cx="7310520" cy="3871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ftware can'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you that there’s no varnish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for extraneous elements and ink coverage on the glue ta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your monitor to the customer’s la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 the amount of time needed to correct and output the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s All Software the Same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76000"/>
          </a:bodyPr>
          <a:p>
            <a:pPr marL="260640" indent="-260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Here’s four categories of Preflight Software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Studio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Script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DF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File Preflight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s is what they’re all about..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4360" y="73620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Software in the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ign Studi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2108160"/>
            <a:ext cx="758844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 it or not, many designers are very concerned over their ability to submit error-free jobs for pri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mendous tools already exist for these exceptional customers—but at a price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s such a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kzware FlightChe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xtensis Collect P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t only check for errors, but can also be used as an  efficient method of collecting files for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lection Utiliti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Markzware and Extensis offer scaled-down versions of their popular preflight programs built just for desig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s Collect P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 Coll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rograms offer limited preflighting capabilities, but excel at collecting all the fonts and graphics needed by the print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ce is a no-brainer: only $99 for eac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ostScript 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7560" y="1828440"/>
            <a:ext cx="731520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you to examine a print-to-disk file for missing fonts, or to document the number of colors referenced in th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programs can also report on the size and number of pages in th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example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Mechanic by Acquired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imate’s Flight Simu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Check by Acquired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How Do I Preflight a Job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ith a checklis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r not you use a preflight software program, you’ll want to have a standardized list for every Preflight Technician to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mprehensive checklist will assure that every job is examined complet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checklist should be updated every time you discover a new type of error or gl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ing PDF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robat Distiller renders the PostScript file as a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bject l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the resulting object list is what you see on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eans that a PDF file will rule out most PostScript errors, since all the elements have already undergone PostScript interpretation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Focus Softw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fers a preflight plug-in for Acrobat Exchange call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c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xtensis Preflight P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the capability to check PDF files as well as application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rrection Tools for PDF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ose small problems, you can make simple corrections using Acrobat Exchange’s built-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ouchUp Tex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elaborate corrections, try the Acrobat Exchange plug-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itSto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nFocu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ltimate in PDF (and PostScript) editing can be achieved through the purchase of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igiScrip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rver and software from Germany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n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pplication File Preflight Softwar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1080" y="1980720"/>
            <a:ext cx="7315200" cy="3729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you to directly examine the main page layout document, and in some cases, the linked 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tegory of software can check for a wide variety of problems before you print! Leading example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s Preflight P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Markzware FlightChec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gram paved the way for today’s Preflight work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was the first program to actually work directly on application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examines a wide variety of native file formats, including Quark, PageMaker, Illustrator, and Freeh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files are examined directly by the FlightCheck software—you don’t need to have the original applic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Markzware FlightChec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uses a two-report format to present a brief error list and a status ch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tatus chart reports on document version info and presents iconographic data on all fonts, colors, graphics and tr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ightCheck has an established following of users on both the Mac and PC 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zware FlightCheck lists for $3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Extensis Preflight Pr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11240" y="1669680"/>
            <a:ext cx="798048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in conjunction with R.R. Donnel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light Pro checks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ing fo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ing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otenti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2.0 not only checks Quark, PageMaker, Illustrator, Freehand and Creator2 files, it also checks and creates PDF fil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the actual application is also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Pro Suggests Solutions!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 Pro uses a “job jacket” metaph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ilo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 takes the user back into the original document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error, along with advice on how to fix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 Pro lists for $3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606240"/>
            <a:ext cx="808524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In Review: The Preflight Requiremen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04760" y="1661760"/>
            <a:ext cx="731520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a Preflight department or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your Preflight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 your customers of your workflow changes with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Preflight early in the production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corrected files and details on errors to you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 Benefi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7102440" cy="4006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vering the cost of cor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r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ing unanticipated del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s out areas for additional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ing the accuracy of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ng the CSR and Sales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hancing customer satisf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eflighting versus File Repai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lighting discovers and identifies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makes the cor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time was not quo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ime is billable to the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Repair increases the cost of the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Who Does File Repair?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3405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the customer pay you to repair the fi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the customer rather do the repairs, to keep costs dow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your customer have the time to repair the fi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our customer do the necessary corr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4360" y="9140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Accepting the Job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ur Essential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2441160"/>
            <a:ext cx="5064120" cy="3963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1. File Submitta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2. Non-digital Ar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3. Customer Las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. Production Request Form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4360" y="8377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First Essential: 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Obtain the Digital Fil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372440" cy="4216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’t begin until you’ve got your hands on those page layout and illustration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examine the two ways in which customer files arr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a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a electronic file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’ll also look 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to hand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precious customer fil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ransportable Storage Media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2590560"/>
            <a:ext cx="7188120" cy="3305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cludes floppy disks, Syquest and Bernoulli cartridges, magneto-opticals, CD–Roms, ZIP drive cartridges and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normally reliable, these media are pron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flighting process verifies that the media containing the customer’s file is still re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no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4-17T14:30:28Z</cp:lastPrinted>
  <dcterms:modified xsi:type="dcterms:W3CDTF">2001-04-17T14:46:27Z</dcterms:modified>
  <cp:revision>31</cp:revision>
  <dc:subject/>
  <dc:title>Desktop Publishing Carnegie-Mellon</dc:title>
</cp:coreProperties>
</file>