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703-E42A-4BA2-845A-3049E90F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A27-5551-48D0-90B3-D8EE7D0B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617-8FEC-4038-AB52-E7826E72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AE5-18B8-4BC7-A3E7-D843C772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2D6D-A851-4335-B8DC-9BE8B3D3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CE08-8898-465A-A406-A46374AE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ECFA-6D95-434D-8A3B-764D5D4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F6D9-92CB-42AB-B3E4-ECD24CF5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975C-129E-4CCB-A8A5-D5588448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11F2-4B2B-4092-9F29-0B60BAD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040F-231E-4451-9510-E7C9993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F24-C69A-4A83-B09F-C31A8C65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A739-5BEB-4881-9059-0A6D656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69FD-F397-4EA2-A6A7-9E2AF4F0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AD35-9E23-4198-AF63-7A96025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B875-0A19-45D7-A47C-57836238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5E8F-2200-4905-8C7D-3A80B7CA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FC8-13BD-4FED-A377-0D61FEA7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293-F1D1-4092-A103-D450F496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AA8-79EB-4A45-97B4-177DA81D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10F-A0C6-449A-9FD3-E8D2C9B7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4A0-3EFF-442A-9C68-82628A95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126-C2CE-42B7-A311-E62E240D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12C-7564-4E53-983D-B384264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A7EC-5849-4FA2-8F2F-C2DC7BEDD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CD0-30C9-4099-9BE6-F04C59304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Grain Direction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per folds better when folded WITH the grain rather than agains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n the final fold grain long so that the piece lies fat and opens eas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in direction affects perfect binding also, causing pages to pucker in the binding 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our Pag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"/>
          <a:stretch/>
        </p:blipFill>
        <p:spPr>
          <a:xfrm>
            <a:off x="5410080" y="380880"/>
            <a:ext cx="2578320" cy="604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-page lette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"/>
          <a:stretch/>
        </p:blipFill>
        <p:spPr>
          <a:xfrm>
            <a:off x="4724280" y="380880"/>
            <a:ext cx="3772080" cy="598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-page accordion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"/>
          <a:stretch/>
        </p:blipFill>
        <p:spPr>
          <a:xfrm>
            <a:off x="4495680" y="228600"/>
            <a:ext cx="3835440" cy="644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parallel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"/>
          <a:stretch/>
        </p:blipFill>
        <p:spPr>
          <a:xfrm>
            <a:off x="4800600" y="380880"/>
            <a:ext cx="3632040" cy="624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French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"/>
          <a:stretch/>
        </p:blipFill>
        <p:spPr>
          <a:xfrm>
            <a:off x="4952880" y="380880"/>
            <a:ext cx="3111480" cy="631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map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"/>
          <a:stretch/>
        </p:blipFill>
        <p:spPr>
          <a:xfrm>
            <a:off x="5181480" y="457200"/>
            <a:ext cx="2590920" cy="619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gat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"/>
          <a:stretch/>
        </p:blipFill>
        <p:spPr>
          <a:xfrm>
            <a:off x="2438280" y="380880"/>
            <a:ext cx="6026400" cy="591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accordion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"/>
          <a:stretch/>
        </p:blipFill>
        <p:spPr>
          <a:xfrm>
            <a:off x="4648320" y="304920"/>
            <a:ext cx="3835440" cy="644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0-page accordion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"/>
          <a:stretch/>
        </p:blipFill>
        <p:spPr>
          <a:xfrm>
            <a:off x="4267080" y="304920"/>
            <a:ext cx="4191120" cy="641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Binding and Finish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8-page roll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"/>
          <a:stretch/>
        </p:blipFill>
        <p:spPr>
          <a:xfrm>
            <a:off x="4876920" y="304920"/>
            <a:ext cx="3555720" cy="633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0-page parallel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"/>
          <a:stretch/>
        </p:blipFill>
        <p:spPr>
          <a:xfrm>
            <a:off x="4876920" y="304920"/>
            <a:ext cx="3492360" cy="626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2-page roll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"/>
          <a:stretch/>
        </p:blipFill>
        <p:spPr>
          <a:xfrm>
            <a:off x="3809880" y="457200"/>
            <a:ext cx="4673880" cy="604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2-page broadshee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"/>
          <a:stretch/>
        </p:blipFill>
        <p:spPr>
          <a:xfrm>
            <a:off x="3689280" y="228600"/>
            <a:ext cx="484524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6-page broadshee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"/>
          <a:stretch/>
        </p:blipFill>
        <p:spPr>
          <a:xfrm>
            <a:off x="4419720" y="152280"/>
            <a:ext cx="414972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6-page signatur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"/>
          <a:stretch/>
        </p:blipFill>
        <p:spPr>
          <a:xfrm>
            <a:off x="4438800" y="361800"/>
            <a:ext cx="3989160" cy="634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2-page signatur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"/>
          <a:stretch/>
        </p:blipFill>
        <p:spPr>
          <a:xfrm>
            <a:off x="3886200" y="228600"/>
            <a:ext cx="4597560" cy="646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 signatur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"/>
          <a:stretch/>
        </p:blipFill>
        <p:spPr>
          <a:xfrm>
            <a:off x="990720" y="1447920"/>
            <a:ext cx="7315200" cy="490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lat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lating machines have specific tolerances and capa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r job has more sheets than pockets in the equipment, or the sheet size is too heavy it may require more than one pass through the mach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Laminat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atively simple but costly op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 jackets, maps, menus, cookbooks, counter displays, name ta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d to prevent moisture from reaching the final pi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tch cur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hat is Binding and Finish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ategory of the process includes everything from simple folding to complex die cutting and case bi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dhesive Binding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several ways to glue loose folded sheets or signatures to each o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method offers a different mix of aesthetics, performance, convenience and co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ad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most every printer can glue a stack of paper into a p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f the most simple of binding op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be a hand operation with a brush and glue p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Glu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nderies and envelope makers can apply adhesive strips for individual sealing by the u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istenable glue strips are inexpensive and can be wet sealed automatical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fect-bound books are made from gathered sign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left-side of the stack is trimmed to get rid of the fol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dges are roughed and notched for maximum surface adhe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lue is applied to the spine of the publication and the pages are inse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he glue is set-up the other three sides of the assembled book are trimm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"/>
          <a:stretch/>
        </p:blipFill>
        <p:spPr>
          <a:xfrm>
            <a:off x="4191120" y="380880"/>
            <a:ext cx="447804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00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Lie-Flat 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"/>
          <a:stretch/>
        </p:blipFill>
        <p:spPr>
          <a:xfrm>
            <a:off x="3886200" y="380880"/>
            <a:ext cx="46674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Burst Perfec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"/>
          <a:stretch/>
        </p:blipFill>
        <p:spPr>
          <a:xfrm>
            <a:off x="3962520" y="457200"/>
            <a:ext cx="4671720" cy="596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se Bound Book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"/>
          <a:stretch/>
        </p:blipFill>
        <p:spPr>
          <a:xfrm>
            <a:off x="4281480" y="406440"/>
            <a:ext cx="4540320" cy="6222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ide Stitch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"/>
          <a:stretch/>
        </p:blipFill>
        <p:spPr>
          <a:xfrm>
            <a:off x="4606920" y="431640"/>
            <a:ext cx="4186080" cy="604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ign for Limita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nding and finishing equipment is usually acurate to within 1/32 of an inch whereas presses are accurate to within .010 of an in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 the tolerances into account when creating artwork for complex finishing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addle Stitch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"/>
          <a:stretch/>
        </p:blipFill>
        <p:spPr>
          <a:xfrm>
            <a:off x="4000680" y="444600"/>
            <a:ext cx="4709880" cy="626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rew and Post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"/>
          <a:stretch/>
        </p:blipFill>
        <p:spPr>
          <a:xfrm>
            <a:off x="3898800" y="355680"/>
            <a:ext cx="4913280" cy="61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lastic Grip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"/>
          <a:stretch/>
        </p:blipFill>
        <p:spPr>
          <a:xfrm>
            <a:off x="3979800" y="291960"/>
            <a:ext cx="470700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mb Bin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"/>
          <a:stretch/>
        </p:blipFill>
        <p:spPr>
          <a:xfrm>
            <a:off x="3962520" y="380880"/>
            <a:ext cx="4654440" cy="606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iral Bound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"/>
          <a:stretch/>
        </p:blipFill>
        <p:spPr>
          <a:xfrm>
            <a:off x="4038480" y="380880"/>
            <a:ext cx="4753080" cy="607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ouble-loop wire bound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"/>
          <a:stretch/>
        </p:blipFill>
        <p:spPr>
          <a:xfrm>
            <a:off x="4038480" y="380880"/>
            <a:ext cx="4670640" cy="582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ree-ring binder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"/>
          <a:stretch/>
        </p:blipFill>
        <p:spPr>
          <a:xfrm>
            <a:off x="4267080" y="380880"/>
            <a:ext cx="4456080" cy="615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vert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rinted sheet changed into a substantially new product—a box, point-of-purchase display, or envelope—has been conve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verting compani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ually specialize in one area of the process, envelope creation, boxes, display ho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ually have specific tolerances and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nal Considera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c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 Cou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ip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maging in the Binder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 cu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ss Die cu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bossing and Debos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il Stam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ograp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utting and Trimm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run jobs on paper larger than the TRIM size to accommodate bleeds, color bars, multiple-up im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te must be trimmed away and items cut apart from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rilling and Punch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es for three-ring binders are dri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ameters range from 1/8 in. to 1/4 i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es that are not round must be punc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coring and Perforat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ring means to crease the printed piece to allow it to fold more easi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necessary when paper is thicker than .005 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ated stock that is printed with large solids of ink requires scoring to prevent crac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olding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ptions seem almost end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printers do basic fo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complex jobs need to go to trade bind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uracy of the folds is compounded with the number of fol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dcterms:modified xsi:type="dcterms:W3CDTF">2001-04-09T14:30:16Z</dcterms:modified>
  <cp:revision>40</cp:revision>
  <dc:subject/>
  <dc:title>Desktop Publishing Carnegie-Mellon</dc:title>
</cp:coreProperties>
</file>