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B6E-3D61-4F40-A347-35CE2D0F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DDD-1D95-4078-82B8-A3FDF89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E66-DC4B-4C5F-BCBC-14081232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0C3-9192-4E52-9D53-30DE6E73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875-A7F5-4D89-9246-094EAA8C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610-208E-4BD2-9432-A2CB7E5D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D4E4-B209-4492-A710-8D1BE8C7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5200-AA8D-4407-B0B9-08C8E68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554-B33A-4DA0-9D94-9DF8D594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DF40-11C4-4D5E-8D89-3646C4C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EE3-7E12-4128-9C9D-6435B64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D67-F86A-4EB2-BE81-2A63C96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0C6-69EB-44C3-B61A-4A415389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F401-FBB0-4E92-AC42-3A026BB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B04-1A9C-4D4E-8560-ED6A1F3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D14-643C-4455-A46B-755C570C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1D9F-9AD9-4D89-BCD6-AA06E220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93E-6577-4C8E-97E5-C28A99CD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ABC-F873-4EBA-A023-34BAF7D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1B8-005B-4AAF-986A-09D51E9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A3E-4015-4B0E-9507-46E88C16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420-5EC2-4715-A3FB-77FA09B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B42-D401-4724-A14D-B6EF88B4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A91-41D2-469F-9357-5C8B3EE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2FB4-4A16-460B-8982-4BD13301C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760B-759B-46F8-987F-D3BE79DEA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rain Direct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per folds better when folded WITH the grain rather than agains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 the final fold grain long so that the piece lies fat and opens eas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in direction affects perfect binding also, causing pages to pucker in the binding 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ur Pag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"/>
          <a:stretch/>
        </p:blipFill>
        <p:spPr>
          <a:xfrm>
            <a:off x="5410080" y="380880"/>
            <a:ext cx="2578320" cy="604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-page let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"/>
          <a:stretch/>
        </p:blipFill>
        <p:spPr>
          <a:xfrm>
            <a:off x="4724280" y="380880"/>
            <a:ext cx="3772080" cy="598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"/>
          <a:stretch/>
        </p:blipFill>
        <p:spPr>
          <a:xfrm>
            <a:off x="4495680" y="228600"/>
            <a:ext cx="3835440" cy="64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paralle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"/>
          <a:stretch/>
        </p:blipFill>
        <p:spPr>
          <a:xfrm>
            <a:off x="4800600" y="380880"/>
            <a:ext cx="3632040" cy="624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Fren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"/>
          <a:stretch/>
        </p:blipFill>
        <p:spPr>
          <a:xfrm>
            <a:off x="4952880" y="380880"/>
            <a:ext cx="3111480" cy="631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ma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"/>
          <a:stretch/>
        </p:blipFill>
        <p:spPr>
          <a:xfrm>
            <a:off x="5181480" y="457200"/>
            <a:ext cx="2590920" cy="619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gat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"/>
          <a:stretch/>
        </p:blipFill>
        <p:spPr>
          <a:xfrm>
            <a:off x="2438280" y="380880"/>
            <a:ext cx="6026400" cy="591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"/>
          <a:stretch/>
        </p:blipFill>
        <p:spPr>
          <a:xfrm>
            <a:off x="4648320" y="304920"/>
            <a:ext cx="3835440" cy="64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0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"/>
          <a:stretch/>
        </p:blipFill>
        <p:spPr>
          <a:xfrm>
            <a:off x="4267080" y="304920"/>
            <a:ext cx="4191120" cy="64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Binding and Finis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rol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"/>
          <a:stretch/>
        </p:blipFill>
        <p:spPr>
          <a:xfrm>
            <a:off x="4876920" y="304920"/>
            <a:ext cx="3555720" cy="633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0-page paralle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"/>
          <a:stretch/>
        </p:blipFill>
        <p:spPr>
          <a:xfrm>
            <a:off x="4876920" y="304920"/>
            <a:ext cx="3492360" cy="626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rol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"/>
          <a:stretch/>
        </p:blipFill>
        <p:spPr>
          <a:xfrm>
            <a:off x="3809880" y="457200"/>
            <a:ext cx="4673880" cy="604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broadshee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"/>
          <a:stretch/>
        </p:blipFill>
        <p:spPr>
          <a:xfrm>
            <a:off x="3689280" y="228600"/>
            <a:ext cx="484524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6-page broadshee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"/>
          <a:stretch/>
        </p:blipFill>
        <p:spPr>
          <a:xfrm>
            <a:off x="4419720" y="152280"/>
            <a:ext cx="41497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6-page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"/>
          <a:stretch/>
        </p:blipFill>
        <p:spPr>
          <a:xfrm>
            <a:off x="4438800" y="361800"/>
            <a:ext cx="3989160" cy="634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"/>
          <a:stretch/>
        </p:blipFill>
        <p:spPr>
          <a:xfrm>
            <a:off x="3886200" y="228600"/>
            <a:ext cx="4597560" cy="646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"/>
          <a:stretch/>
        </p:blipFill>
        <p:spPr>
          <a:xfrm>
            <a:off x="990720" y="1447920"/>
            <a:ext cx="7315200" cy="490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l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ating machines have specific tolerances and capa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r job has more sheets than pockets in the equipment, or the sheet size is too heavy it may require more than one pass through the ma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Lamin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atively simple but costly op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jackets, maps, menus, cookbooks, counter displays, name ta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to prevent moisture from reaching the final pi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ch cur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at is Binding and Finis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ategory of the process includes everything from simple folding to complex die cutting and case bi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hesive Binding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everal ways to glue loose folded sheets or signatures to each o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method offers a different mix of aesthetics, performance, convenience and co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ad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ost every printer can glue a stack of paper into a p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ost simple of binding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a hand operation with a brush and glue p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lu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deries and envelope makers can apply adhesive strips for individual sealing by the u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istenable glue strips are inexpensive and can be wet sealed automatica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ect-bound books are made from gathered sign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ft-side of the stack is trimmed to get rid of the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dges are roughed and notched for maximum surface adhe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lue is applied to the spine of the publication and the pages are inse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 glue is set-up the other three sides of the assembled book are trim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"/>
          <a:stretch/>
        </p:blipFill>
        <p:spPr>
          <a:xfrm>
            <a:off x="4191120" y="380880"/>
            <a:ext cx="447804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Lie-Flat 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"/>
          <a:stretch/>
        </p:blipFill>
        <p:spPr>
          <a:xfrm>
            <a:off x="3886200" y="380880"/>
            <a:ext cx="46674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Burst 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"/>
          <a:stretch/>
        </p:blipFill>
        <p:spPr>
          <a:xfrm>
            <a:off x="3962520" y="457200"/>
            <a:ext cx="4671720" cy="596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se Bound Boo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"/>
          <a:stretch/>
        </p:blipFill>
        <p:spPr>
          <a:xfrm>
            <a:off x="4281480" y="406440"/>
            <a:ext cx="454032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ide Stitch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"/>
          <a:stretch/>
        </p:blipFill>
        <p:spPr>
          <a:xfrm>
            <a:off x="4606920" y="431640"/>
            <a:ext cx="4186080" cy="604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ign for Limit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ding and finishing equipment is usually acurate to within 1/32 of an inch whereas presses are accurate to within .010 of an in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the tolerances into account when creating artwork for complex finishing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addle Stitch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"/>
          <a:stretch/>
        </p:blipFill>
        <p:spPr>
          <a:xfrm>
            <a:off x="4000680" y="444600"/>
            <a:ext cx="4709880" cy="626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rew and Pos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"/>
          <a:stretch/>
        </p:blipFill>
        <p:spPr>
          <a:xfrm>
            <a:off x="3898800" y="355680"/>
            <a:ext cx="4913280" cy="61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lastic Grip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"/>
          <a:stretch/>
        </p:blipFill>
        <p:spPr>
          <a:xfrm>
            <a:off x="3979800" y="291960"/>
            <a:ext cx="470700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mb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"/>
          <a:stretch/>
        </p:blipFill>
        <p:spPr>
          <a:xfrm>
            <a:off x="3962520" y="380880"/>
            <a:ext cx="4654440" cy="60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iral Bound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"/>
          <a:stretch/>
        </p:blipFill>
        <p:spPr>
          <a:xfrm>
            <a:off x="4038480" y="380880"/>
            <a:ext cx="4753080" cy="607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ouble-loop wire bound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"/>
          <a:stretch/>
        </p:blipFill>
        <p:spPr>
          <a:xfrm>
            <a:off x="4038480" y="380880"/>
            <a:ext cx="4670640" cy="582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-ring binder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"/>
          <a:stretch/>
        </p:blipFill>
        <p:spPr>
          <a:xfrm>
            <a:off x="4267080" y="380880"/>
            <a:ext cx="4456080" cy="615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ver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inted sheet changed into a substantially new product—a box, point-of-purchase display, or envelope—has been conve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verting compani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ually specialize in one area of the process, envelope creation, boxes, display ho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ually have specific tolerances and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nal Consider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Cou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ing in the Binder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 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ss Die 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ossing and Debos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il Stam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ograp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utting and Trimm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run jobs on paper larger than the TRIM size to accommodate bleeds, color bars, multiple-up 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te must be trimmed away and items cut apart from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rilling and Punc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es for three-ring binders are dri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meters range from 1/8 in. to 1/4 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es that are not round must be pun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oring and Perfor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ring means to crease the printed piece to allow it to fold more eas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necessary when paper is thicker than .005 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ated stock that is printed with large solids of ink requires scoring to prevent cra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l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ptions seem almost en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printers do basic fo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complex jobs need to go to trade bind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uracy of the folds is compounded with the number of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dcterms:modified xsi:type="dcterms:W3CDTF">2001-04-09T14:30:16Z</dcterms:modified>
  <cp:revision>40</cp:revision>
  <dc:subject/>
  <dc:title>Desktop Publishing Carnegie-Mellon</dc:title>
</cp:coreProperties>
</file>