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27D-7D31-4052-85C3-50DC538F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4F8-A7EF-4EFA-B67A-2CFD5FE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A83-C25F-4FD4-B87F-8165908D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579-7AF2-4F99-A743-3248BB03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9E17-B648-45F8-B7A4-7B673D2C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DDD-4762-469A-84FD-1B2017C3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B83F-7BF5-4E32-ADF4-E2BEB6FD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CB68-CE2D-4494-84C7-CFBEF1CB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D05-FE9F-41AB-8EC6-58C26AA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9F25-40D8-4553-88D7-3E71422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787-D310-4471-8001-3169A724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443-418D-484B-8379-2365B31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E1BB-6131-4219-ADDE-E4DF6E0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4D61-8C1B-4949-855C-CB8D287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7E68-A215-4D44-8C20-38F9A94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91B-2FBF-4CB7-A31B-8CCBF7BA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46DA-EE2E-48FF-982D-BDFC359F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0B7-194A-4454-9C56-573C77E8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06E-911B-4BD2-9442-23582C4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CED-F711-4EC6-A08C-AF620133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82B-E3BC-4840-912F-E00B9F8D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141-230D-49ED-998E-9AB91E2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4EF-D932-4FDB-B141-24827652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925-E803-48A1-926E-565FDF8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2" marL="1005840" indent="-2008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B9E3-2419-47BB-A6C0-570C66C46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385-51BA-4222-8F11-9F71A618D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ktop Publish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arnegie-Mellon Univers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Spring 2001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ave Watters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rt Director, GATF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ttrsn@aol.com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watterson@gatf.org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escribing Typ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oi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ica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nch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oint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oints describe the height of characters (type size). Type is measured using Upper case letters. One point is 1/2 a pica and .013875 inch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ica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icas describe the width of columns, alleys, and gutters. Picas as a form of measurement are being used less and less. One pica = .166 inch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Inch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nches are used most commonly to describe column height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Display and Tex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isplay type is commonly referring to any type appearing above 14 point. Text type is any type smaller that 14 pt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Producing Typ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his is better left to a lab exercise!!!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Contacting m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 don’t have an office on campus and do really work all day!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lease e-mail me and I will set up a meeting time as quickly as possibl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hanks for your attention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 Now let’s head over to the lab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(CFA Room 318)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ypograph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onts, Faces and Familie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Basic Type Fo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Describing Typ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Producing Type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ypography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creen Ti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Reverses and Overprin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Illustration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Fon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 type font is a complete assortment of uppercase and lower case characters, numerals, punctuation and other symbols of one typeface.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ffcc66"/>
                </a:solidFill>
                <a:latin typeface="Impact"/>
              </a:rPr>
              <a:t>No, </a:t>
            </a:r>
            <a:br>
              <a:rPr sz="9600"/>
            </a:br>
            <a:r>
              <a:rPr b="0" lang="en-US" sz="9600" spc="-1" strike="noStrike">
                <a:solidFill>
                  <a:srgbClr val="ffcc66"/>
                </a:solidFill>
                <a:latin typeface="Impact"/>
              </a:rPr>
              <a:t>It’s  not ! ! !</a:t>
            </a:r>
            <a:endParaRPr b="0" lang="en-US" sz="96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Font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 type font is a specific typeface (Times Roman)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t a specific size (12 pt.)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weight (Book)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nd style (Italic)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 Typeface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 type font is a complete assortment of uppercase and lower case characters, numerals, punctuation and other symbols of one typeface. 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Type Famili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Typefaces are grouped into families with similar letterforms and a unique name. The “parent” is the letterform in “book” or sometimes “light” with derivations of bold, condensed or italic.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Impact"/>
              </a:rPr>
              <a:t>Assigned Styles</a:t>
            </a:r>
            <a:endParaRPr b="0" lang="en-US" sz="4400" spc="-1" strike="noStrike">
              <a:solidFill>
                <a:srgbClr val="ffcc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Applications allow you to specify “bold”, “italic”, “outline”, “shadow”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 the long naming convention to assure proper output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4:35:44Z</dcterms:created>
  <dc:creator>David Watterson</dc:creator>
  <dc:description/>
  <dc:language>en-US</dc:language>
  <cp:lastModifiedBy>Dave Watterson</cp:lastModifiedBy>
  <cp:lastPrinted>2001-02-05T16:23:11Z</cp:lastPrinted>
  <dcterms:modified xsi:type="dcterms:W3CDTF">2001-02-05T16:23:58Z</dcterms:modified>
  <cp:revision>21</cp:revision>
  <dc:subject/>
  <dc:title>Desktop Publishing Carnegie-Mellon</dc:title>
</cp:coreProperties>
</file>