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C63F-EAEC-445A-9E7C-EFC61EFC3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9EB3-08BC-493C-BBAB-713A12C0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DF38-E0A9-48B8-AE1F-5F2AC2373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2C6D-C332-407B-92D8-2D31D8BA2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C7C1-A5AD-4C5C-9693-BC0BC7851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1C17-0646-4D8A-BE50-CCE31373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8C94-5817-473E-8C50-6F37BC90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43D7-10BD-433B-8DB3-7483D342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59F9-90A7-4370-AD7B-3EF8D72B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2BD3-F723-4C98-9F95-D67B13C8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4628-B27F-4203-A1A8-07D7E6A8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BFC6-C5DB-4368-9016-F3B0FAC0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00FF-8EB7-4D29-85F9-2A08F19B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9AFE-559E-4DB8-BCA5-569869AD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58FE-F5F1-4368-86B4-B64CE9CD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5D53-7800-4282-B41E-114459541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FCE7-E2FE-4A45-AFE1-F7F37D2C4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2472-E814-42ED-979A-7B370F51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E36D-CDBB-4077-971A-9B9BD9C7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CF47-2074-4CC6-ABB8-A5930C07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DD95-5950-4189-A9F7-179B777B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2A48-D7E1-46AC-BB47-2701D75D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E314-64B0-4FF8-B89B-C6686145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8764-9A46-44F5-BF62-34D92F4B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lvl="1" marL="653760" indent="-251280">
              <a:spcBef>
                <a:spcPts val="901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lvl="2" marL="1005840" indent="-2008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lvl="3" marL="1407960" indent="-200880">
              <a:spcBef>
                <a:spcPts val="901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lvl="4" marL="1810440" indent="-200880">
              <a:spcBef>
                <a:spcPts val="901"/>
              </a:spcBef>
              <a:buClr>
                <a:srgbClr val="ffff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lvl="5" marL="1810440" indent="-200880">
              <a:spcBef>
                <a:spcPts val="901"/>
              </a:spcBef>
              <a:buClr>
                <a:srgbClr val="ffff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lvl="6" marL="1810440" indent="-200880">
              <a:spcBef>
                <a:spcPts val="901"/>
              </a:spcBef>
              <a:buClr>
                <a:srgbClr val="ffff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43FB-F692-4791-9DCD-C89792889A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F527-1409-49C7-822F-FAD5415259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esktop Publish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arnegie-Mellon University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Spring 2001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Dave Watterson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Art Director, GATF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wttrsn@aol.com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dwatterson@gatf.org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escribing Typ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Point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Pica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Inche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Point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Points describe the height of characters (type size). Type is measured using Upper case letters. One point is 1/2 a pica and .013875 inch.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Pica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Picas describe the width of columns, alleys, and gutters. Picas as a form of measurement are being used less and less. One pica = .166 inch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Inche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Inches are used most commonly to describe column height.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isplay and Text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Display type is commonly referring to any type appearing above 14 point. Text type is any type smaller that 14 pt.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Producing Typ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This is better left to a lab exercise!!!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ontacting m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I don’t have an office on campus and do really work all day!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Please e-mail me and I will set up a meeting time as quickly as possible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hanks for your attention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 Now let’s head over to the lab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(CFA Room 318)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ypography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Fonts, Faces and Familie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Basic Type Font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Describing Type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Producing Type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ypography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Screen Tint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Reverses and Overprint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Illustration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A Font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A type font is a complete assortment of uppercase and lower case characters, numerals, punctuation and other symbols of one typeface. 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ffcc66"/>
                </a:solidFill>
                <a:latin typeface="Impact"/>
              </a:rPr>
              <a:t>No, </a:t>
            </a:r>
            <a:br>
              <a:rPr sz="9600"/>
            </a:br>
            <a:r>
              <a:rPr b="0" lang="en-US" sz="9600" spc="-1" strike="noStrike">
                <a:solidFill>
                  <a:srgbClr val="ffcc66"/>
                </a:solidFill>
                <a:latin typeface="Impact"/>
              </a:rPr>
              <a:t>It’s  not ! ! !</a:t>
            </a:r>
            <a:endParaRPr b="0" lang="en-US" sz="96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A Font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A type font is a specific typeface (Times Roman)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at a specific size (12 pt.),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weight (Book),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and style (Italic)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A Typefac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A type font is a complete assortment of uppercase and lower case characters, numerals, punctuation and other symbols of one typeface. 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ype Familie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Typefaces are grouped into families with similar letterforms and a unique name. The “parent” is the letterform in “book” or sometimes “light” with derivations of bold, condensed or italic.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Assigned Style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Applications allow you to specify “bold”, “italic”, “outline”, “shadow”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Use the long naming convention to assure proper output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9T04:35:44Z</dcterms:created>
  <dc:creator>David Watterson</dc:creator>
  <dc:description/>
  <dc:language>en-US</dc:language>
  <cp:lastModifiedBy>Dave Watterson</cp:lastModifiedBy>
  <cp:lastPrinted>2001-02-05T16:23:11Z</cp:lastPrinted>
  <dcterms:modified xsi:type="dcterms:W3CDTF">2001-02-05T16:23:58Z</dcterms:modified>
  <cp:revision>21</cp:revision>
  <dc:subject/>
  <dc:title>Desktop Publishing Carnegie-Mellon</dc:title>
</cp:coreProperties>
</file>