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994-7D1B-43A0-A401-4843E725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5C6-8105-42DF-A23B-89F4E2DC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8C2-D6C6-417A-9613-FEC63AFE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F0D-7C96-40EE-9656-91094D6D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F82A-2836-4010-94D3-767AA5C4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DA57-B6B4-4E3A-8D32-7B25937C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CE5C-9F30-4ADE-8649-8ED88EC4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FA31-6A4D-438C-8B5B-7213820F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6E50-2102-45E8-A401-2349C427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62E2-0F26-4937-B87A-B939EF35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F09C-072D-4052-A64C-F02ECAAB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741-2E40-4995-9450-B26BC9D8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8D2D-B792-4A4A-8EFF-049CE346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A617-9483-47BF-AF70-3E88AC22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F5B5-BBF2-4A47-80CF-D4BE58CF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02A0-FEF2-4626-90E4-CA3CC4F8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F082-7086-40D4-84D9-820213BB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9E0-B193-443F-844B-08D1107D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D94-5C50-4C2A-BC7B-96A90EC2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C35-FEFB-4C55-AEDD-9CBE009B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A59-0BE0-4070-BF2E-81D6FE33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522-9958-4D36-939F-C776B290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FA3-541A-43A7-BACF-A6D3EBF1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F6A-88F0-4464-85D2-D3C67D81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BA18-8F00-420F-9718-5B9692A62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5511-D02B-489E-A1E7-C9F5819B9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roof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eliminary proof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ontract proof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pplication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ile Forma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epress Servic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eflighting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iles for Pres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ilm/Fla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oofs / Remote Proofing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osts and Brand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lat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rchiving Prepress Work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pplication Fil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ord Processing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llustration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mage-Editing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atabase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age Layout Fil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ile Format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ICT, TIFF, EPS, 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JPEG, DCS, PDF,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GIF, CTLW, 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T, LW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ing with Prepress Servic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Legality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raining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ocumentation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Recommendation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ocus on Outpu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imple Designs/Modest Quality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reflighting Fil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Level One Prefligh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Level Two Prefligh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reparing Files For 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Understanding dot gain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aper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inting method / Type of Offset Pres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nk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creen Ruling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ess Chemistry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ilm/Flats/CTP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s film dead?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oofing issu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Legaci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ost and impac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1-29T16:59:07Z</cp:lastPrinted>
  <dcterms:modified xsi:type="dcterms:W3CDTF">2001-01-29T17:00:17Z</dcterms:modified>
  <cp:revision>15</cp:revision>
  <dc:subject/>
  <dc:title>Desktop Publishing Carnegie-Mellon</dc:title>
</cp:coreProperties>
</file>