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FB1-AF41-4DDE-952C-0411F16A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ED5-5985-4220-BA74-07FA0C69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2B0-8AA1-49CD-9A15-6A2B8090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0C0-1470-4076-A6A0-C2790CB3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DD95-D823-4837-8D46-E2655276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6D4-0ED2-4140-BA60-81026311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B8B-62DD-4272-8243-195E0A76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9C8-A58B-47D2-BD54-F463E29C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9770-0A9D-4606-89BC-4285879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E68E-3FCE-4F53-9392-48F97A2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793-3ED7-4E50-A987-D095A75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DFB-2DE4-4E47-8A2C-5FAEB875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196-49C6-42A5-8C81-2C9D44D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9B2-5BE7-43E0-B6D9-C34E8CD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44F-F9A5-4CB7-BA5C-3987525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09B-64BA-4A5B-862A-8B45EBB5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BD6E-4306-44C6-A385-FF80D65D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5BE-133A-4C38-A4AC-BAF2906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264-32FE-4D42-B4C4-B8157A9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AA3-94CA-40BC-A053-1B6E2DAB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286-E246-4015-9EEE-242F96AE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FB4-35A3-461C-B54C-14DF389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BC8-8B34-4345-A033-DDEF526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C6A-E212-4C77-ACE5-2A49DA1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9B1-BFC8-47E2-B7CA-DBB2FAEFA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8F8-5FB4-4AB3-B090-8E17A07F9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oof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liminary proof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ntract proof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pplication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e Forma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press Servic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flight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es for Pres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m/Fla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ofs / Remote Proof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sts and Brand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at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chiving Prepress Work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pplication Fi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ord Process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llustration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mage-Edit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tabase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age Layout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T, TIFF, EPS,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JPEG, DCS, PDF,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GIF, CTLW,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T, LW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ing with Prepress Servi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ga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rain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ocumentation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Recommendation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cus on Outpu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mple Designs/Modest Qua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eflighting Fi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vel One Prefligh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vel Two Prefligh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eparing Files For 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nderstanding dot gain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aper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inting method / Type of Offset Pres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k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creen Rul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ss Chemistr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m/Flats/CT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s film dead?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ofing issu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gaci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st and impac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1-29T16:59:07Z</cp:lastPrinted>
  <dcterms:modified xsi:type="dcterms:W3CDTF">2001-01-29T17:00:17Z</dcterms:modified>
  <cp:revision>15</cp:revision>
  <dc:subject/>
  <dc:title>Desktop Publishing Carnegie-Mellon</dc:title>
</cp:coreProperties>
</file>