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76E-64DC-4964-9D65-055EB685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9CD-76B4-4BD6-AF94-ECFBA21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3E6-AD26-4E09-A2E6-3365431B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925-CE7A-48E4-B9DE-25B23DF0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AE21-D62B-4E65-9031-1C39C279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5C06-1486-441D-A3A8-11BE1C4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D482-49FA-4A43-AFB3-47B55221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1138-E037-4CB8-8E79-AB3E121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4F3F-1C6C-4CD6-916F-FDD2E18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F369-0DD4-4BBD-9459-69031C92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2E14-C11C-4A3A-BD48-C1C86A5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5B9-9581-4A67-B1E8-850652F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F98-5B6A-4988-9095-EE900E91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0187-8E5A-474F-90F5-ED068D9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55F-4DBE-4F44-B581-7534D25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F5D-A731-4808-A30D-119FF243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2C22-4DCB-4E50-8371-200335FB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199-4563-4DE6-987D-D59EB32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780-60F2-48BA-A72C-E091970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599-CD3D-4ECB-8AD7-99F2817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458-5706-4AD8-8A91-30FDFFEF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42B-9608-451D-BB78-CC0D3D6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69A-CFE7-4236-BC64-4C03D95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9A9-64F9-467E-A526-47677C3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D558-D20B-4EC5-A825-B40EFD2C3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CC74-D6CC-44CA-B21A-145B244F2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aster vs. Vecto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computer images come in either Vector or Bitmap form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has it’s own advantages and 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aster or Bitmapped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 defined pixel by pixel and its resolution is fix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are called resolution depen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Vector/Illustration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vector or object-oriented image is a mathematical equation where each object is defined by points connected by path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are resolution indepen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Vector-Based Applica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obe Illustra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romedia Freeh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lDr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images can be save in a variety of formats so that they can be used and displayed in other in other types of pr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esolution Independen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retain their characteristic shapes at different sizes and output resolu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e formats to Look Fo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FF (.ti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S (.e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CS (.dc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e Formats for We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F (.gi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PEG (.jpg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 Control: One-bit (black&amp; White) and grayscale images can be assigned a color in Xpress. A grayscale TIFF can also be edited with contrast and halftone commands in the Style men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 Size and Compression: Typically uncompressed TIFFs are about 20% smaller than EPS files. A TIFF can be saved with non-lossy LZW compression to make their file sizes small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screen Display: Xpress generates a low-resolution proxy to preview an imported TIFF. The quality of this preview depends on preset preferen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elcome to Desktop Jeopardy!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te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questions to each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question worth 10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at team misses you have the opportunity to st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opping: If you crop a TIFF inside Xpress, the printer processes only the viewable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sampling: QuarkXPress will downsample all TIFFs to two times the halftone screen frequ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PS file can be a bitmap/raster or an object-oriented/vector graphic depending on which program was used to generate the EP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 Control: An EPS graphic has already been converted to PostScript Which means that this is a locked f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 Size and Compression: An EPS file is typically 20% larger than an uncompressed TIFF f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screen Display: The preview is built into the structure of the PostScript. The speed of the display is dependant upon the preview option chosen when creating the EPS f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opping and Downsampling: Xpress always sends everything to the printer. This can significantly increase the printing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. The basic colors that are used in color process printing are __________        _________ __________       __________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2. Your monitor uses the 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l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3. The combination of red, green and blue colors on screen can produce more than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illion colors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4. The file size of a 72 dpi file that is increased to 144 dpi will be ________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size of the origina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5. For printed material to display natural looking halftones i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s recommended that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e dpi i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line screen used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printing method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. In QuarkXPress the tool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needed to edit element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ithin a selected text or picture box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____ too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Impact"/>
              </a:rPr>
              <a:t>File Format Overview</a:t>
            </a:r>
            <a:endParaRPr b="0" lang="en-US" sz="7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19T21:18:25Z</cp:lastPrinted>
  <dcterms:modified xsi:type="dcterms:W3CDTF">2001-02-20T15:42:14Z</dcterms:modified>
  <cp:revision>19</cp:revision>
  <dc:subject/>
  <dc:title>Desktop Publishing Carnegie-Mellon</dc:title>
</cp:coreProperties>
</file>