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7CE5-A08A-400B-81D3-0460B17D3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444D-31AE-4AFC-8543-F87AAFBC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D73A-B95C-4219-B359-ACAFE5A0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B193-BC80-4568-869F-CB98049BA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55C7-17D5-4C50-93E0-129FB07FB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F5B3-C1A2-4A41-BE01-D4EF0A31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632C-612C-4FF4-84FB-1872178B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5FF2-1425-4D52-965D-43CA8B95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C97F-8C32-4A52-92AF-B86A7372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90FF-EF18-4F4C-9791-94843B28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F88A-764D-40AA-8787-1F257C81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8EC7-14E0-4705-8872-984A325A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9F66-76AC-4121-9137-4F13E080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3E5A-9030-42CB-B3FB-9DDF25EB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E8FC-2933-41CD-A9C1-2A203CF4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9286-83FA-4453-98DC-4CE3E2D66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AC6D-E6B2-41CC-80B2-84F520990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8CCD-B109-4A26-879B-57A0CB3D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7FC4-803A-40C0-9BC0-D87AB31E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74BF-B07F-4DD8-9334-8AD0E4C4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8F03-C4EE-45E2-989D-0962AA5A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ACD9-3C0E-4729-AB08-D16396CD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9260-BADA-4A83-B55F-8B5F30D5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D456-56DE-4987-92EB-2ED54ECF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39F0-DABF-40F7-8F0F-22555CF917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B2AD-26D4-4969-9E1E-5ECE1E7723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esktop Publish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arnegie-Mellon University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Spring 2001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ave Watterson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t Director, GA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ttrsn@aol.co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watterson@gatf.or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Raster vs. Vector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l computer images come in either Vector or Bitmap forma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ch has it’s own advantages and disadvantag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Raster or Bitmapped Image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mage defined pixel by pixel and its resolution is fix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y are called resolution depend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Vector/Illustration Image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vector or object-oriented image is a mathematical equation where each object is defined by points connected by path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y are resolution independ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Vector-Based Application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dobe Illustra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cromedia Freeha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relDra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se images can be save in a variety of formats so that they can be used and displayed in other in other types of progra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Resolution Independent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y retain their characteristic shapes at different sizes and output resolu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File formats to Look For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IFF (.tif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PS (.ep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CS (.dc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File Formats for Web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IF (.gif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PEG (.jpg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IFF files in QuarkXPres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mage Control: One-bit (black&amp; White) and grayscale images can be assigned a color in Xpress. A grayscale TIFF can also be edited with contrast and halftone commands in the Style men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IFF files in QuarkXPres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le Size and Compression: Typically uncompressed TIFFs are about 20% smaller than EPS files. A TIFF can be saved with non-lossy LZW compression to make their file sizes small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IFF files in QuarkXPres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screen Display: Xpress generates a low-resolution proxy to preview an imported TIFF. The quality of this preview depends on preset preferenc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Welcome to Desktop Jeopardy!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 tea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 questions to each te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ch question worth 10 poi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that team misses you have the opportunity to ste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IFF files in QuarkXPres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opping: If you crop a TIFF inside Xpress, the printer processes only the viewable da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IFF files in QuarkXPres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wnsampling: QuarkXPress will downsample all TIFFs to two times the halftone screen frequenc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EPS files in QuarkXPres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EPS file can be a bitmap/raster or an object-oriented/vector graphic depending on which program was used to generate the EP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EPS files in QuarkXPres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mage Control: An EPS graphic has already been converted to PostScript Which means that this is a locked fi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EPS files in QuarkXPres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le Size and Compression: An EPS file is typically 20% larger than an uncompressed TIFF fi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EPS files in QuarkXPres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screen Display: The preview is built into the structure of the PostScript. The speed of the display is dependant upon the preview option chosen when creating the EPS fi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EPS files in QuarkXPres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opping and Downsampling: Xpress always sends everything to the printer. This can significantly increase the printing ti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ontacting m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don’t have an office on campus and really work all d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ease e-mail me and I will set up a meeting time as quickly as possi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hanks for your attention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 Now let’s head over to the lab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(CFA Room 318)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1. The basic colors that are used in color process printing are __________        _________ __________       __________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5028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2. Your monitor uses the  _____________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olor model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79246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3. The combination of red, green and blue colors on screen can produce more than _____________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million colors.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6960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4. The file size of a 72 dpi file that is increased to 144 dpi will be ________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imes the size of the original.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56386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5. For printed material to display natural looking halftones it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is recommended that the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image dpi is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______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imes the line screen used in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he printing method.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5409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6. In QuarkXPress the tool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needed to edit elements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within a selected text or picture box is the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__________ tool.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5409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66"/>
                </a:solidFill>
                <a:latin typeface="Impact"/>
              </a:rPr>
              <a:t>File Format Overview</a:t>
            </a:r>
            <a:endParaRPr b="0" lang="en-US" sz="72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9T04:35:44Z</dcterms:created>
  <dc:creator>David Watterson</dc:creator>
  <dc:description/>
  <dc:language>en-US</dc:language>
  <cp:lastModifiedBy>Dave Watterson</cp:lastModifiedBy>
  <cp:lastPrinted>2001-02-19T21:18:25Z</cp:lastPrinted>
  <dcterms:modified xsi:type="dcterms:W3CDTF">2001-02-20T15:42:14Z</dcterms:modified>
  <cp:revision>19</cp:revision>
  <dc:subject/>
  <dc:title>Desktop Publishing Carnegie-Mellon</dc:title>
</cp:coreProperties>
</file>