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DAF-3298-44C5-9C49-12B9C874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120-5A9A-473F-8998-887321C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C9F-F056-4883-AF3A-8DAA9FB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787-0D42-46F6-9079-AA2C778D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AC6-B3D2-471A-9385-27A417B0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9BA-F79D-477C-B5D7-A5C4708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B15F-A6F8-4EEE-B1E5-DC230280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ACC-2D12-4C05-908A-16C9521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ED45-7872-418D-AB2C-577E191A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57D7-3BA3-4B2B-B8B9-AB0BB90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CD11-4ACC-44EC-8CF8-0DA32339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55F-A217-444A-9C23-C6E68F81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1FE9-66B5-405B-9919-B4A0A7B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32D-0B54-4000-A7C6-1732994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6BCD-7BE7-4C60-AE0C-22958F7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69F3-7B0A-42A5-B8C0-5DE79330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F40-6857-41C7-989A-5EC9CB6E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391-8ED5-43CF-8F02-3BF1B7D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3CF-2EE0-4F8D-813B-649FCD58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806-BA6D-4723-94BD-005F6F59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EDF-0FD7-436E-A832-1DE9D09D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1FC-54CC-44D8-B974-9B4F184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B7D-B02F-4A59-B520-09E8331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83C-F476-4F50-8AB3-9651694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81D-9BBE-48E4-8F5D-11F649F99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3C33-EF08-4E75-8782-63FCCAF0A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Owns Wha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 righ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sions and repri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gital f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log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FA Room 21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ob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rning what business questions to ask and answer lead you to make the correct technical decisions about preparing your pro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hat is your purpo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ho is your audi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ow will your piece loo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How will your readers use your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How will other processes handle your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How will you reach your audi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Where else might you use your cont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. When do you need the job deliver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9. How many pieces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. What quality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. How much can you sp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. What are your workflow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. How will your piece reach your pri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lanning Ques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. What help do you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. What services do you want from your prin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does it have to be distribu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 backward from t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 input from the professio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get for contin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 vs. Val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stomer expec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dg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d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nal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stomer’s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ernal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in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id Watterson</cp:lastModifiedBy>
  <dcterms:modified xsi:type="dcterms:W3CDTF">2001-01-09T06:44:32Z</dcterms:modified>
  <cp:revision>11</cp:revision>
  <dc:subject/>
  <dc:title>Desktop Publishing Carnegie-Mellon</dc:title>
</cp:coreProperties>
</file>