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9A-FB6E-400C-991A-DCFED045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14A-2E91-4AD7-926E-E4924902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B07-D85A-42AF-9165-0188E8AD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00B-3E0B-448C-839A-225FB40C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A09-DE4C-469F-B384-F68ADE7A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0F19-A7CA-41B1-B9AE-C8F542EC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6899-2B9C-4A79-A21E-681185A0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645A-8280-4BDA-AB05-347880D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6357-BD96-47DE-BE97-22A7E5D8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40A-1AA4-4245-965B-D26ADF8E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FABC-D462-4F6A-BC0C-20A6F38D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5CD-8582-4746-A70C-6874721C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7CF3-A378-4074-A66C-EAA9D3D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DA47-4429-41D6-8968-89CF293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9DA-4E51-473F-B36B-4BEFCE26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B6C5-0783-4CAD-86C0-7CD74787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5311-3E19-48AC-9D28-2D3BA3A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134-21A9-426B-AA6F-123C32A3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A6B-6176-40E7-BB6D-88322494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CE9-5A1A-4D8F-BADD-71AEA3B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7BA-1173-4581-9FAA-D0C3060D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47E-3138-4EE6-A7C2-626EFA16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F68-6FDD-40B6-9DB1-8EC15F3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B99-B795-46E4-87CB-D416B33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0525-8F4B-4B79-AEFF-FC635D2F4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480-4FC9-4B06-9307-0BC8C29A4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Owns Wha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ation righ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sions and repri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gital f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log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FA Room 21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ob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rning what business questions to ask and answer lead you to make the correct technical decisions about preparing your pro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hat is your purpo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ho is your audie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ow will your piece loo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How will your readers use your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How will other processes handle your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How will you reach your audie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Where else might you use your cont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. When do you need the job deliver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. How many pieces do you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. What quality do you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. How much can you sp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. What are your workflow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. How will your piece reach your prin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. What help do you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. What services do you want from your prin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es it have to be distribu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 backward from t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input from the professio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dget for conting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 vs. Val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stomer expec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dg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d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k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nal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stomer’s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ernal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ing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id Watterson</cp:lastModifiedBy>
  <dcterms:modified xsi:type="dcterms:W3CDTF">2001-01-09T06:44:32Z</dcterms:modified>
  <cp:revision>11</cp:revision>
  <dc:subject/>
  <dc:title>Desktop Publishing Carnegie-Mellon</dc:title>
</cp:coreProperties>
</file>