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461-1077-4456-B989-22468FBF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68F-AE14-48C2-A5D3-A263C5BF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391-EAAD-405B-B146-A76BF508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624-A464-4AF9-8FE2-F725ADBF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6B2A-B4DF-489F-874B-C297584A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B70D-AD3C-4516-A386-44913CCF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90FA-0DD1-4BD7-AD03-69F9E109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967D-2A45-4A5B-83DB-A611F215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85B3-8918-46AF-88FA-E2750615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564A-D82C-47D0-9CB4-B2F80258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F532-1499-4A05-93B6-E4F98769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738-17C3-43B5-8C0C-7DF5F68F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F710-4CEF-4AFA-9A64-04FEDD2B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00C5-717D-49FA-9569-6BDB23AC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F7F0-2009-4939-BABC-5B4B844B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4605-9854-4513-A8CD-2A4F36ED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7A7C-A0BD-4F7C-B09C-E4483967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F19-6C93-4FCD-9ECE-79D49F58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C6A-E631-4738-97AB-55997C80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5F3-622E-414A-BFD3-AA694028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E09-5734-4C78-BEB5-C54D7373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E24-8EF9-458C-99B2-ED8F5189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8AE7-4156-4E87-8234-9BCD8187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2D5-DE6D-45D2-BB00-76C32C1E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spcBef>
                <a:spcPts val="104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2" marL="731520" indent="-1461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indent="-146160">
              <a:spcBef>
                <a:spcPts val="104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4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5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6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B3F8-C5B9-4F31-806C-C2B8318CAD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B848-73FF-42EE-A92D-10672D434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Most Reliable Papers for specific projec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Announcements, envelopes, presentation folders, coupons, and ticke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Light blue or gray 80# felt tex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Most Reliable Papers for specific projec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Business cards, covers for premium presentation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Light blue of gray 65# felt cov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Characteristic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olor           • Brightnes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Opacity         • Surfac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Grain            • Weigh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Colo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e “whiter” is largely an subjective determination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hiteness is dependent upon the manufacturing process, bleach and other chemicals make pulp white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e same paper can change color from run to run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Brightnes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Brightness is a result of the quantitative measurement of reflectanc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ost papers have brightness ratings between 60–90% brightnes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Opacity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Opacity is measured on a scale of 1–100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ost papers fall in the 80–98% range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Opacity increases with basis weight and bulk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Surfac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alendering in the papermaking process determines the surface texture of pap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e surface determines how easily paper accepts ink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Grain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uring papermaking fibers become aligned, the result is grain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hen fibers run parallel to the length of a sheet it is called grain lo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hen paper fibers run crosswise it is referred to as grain shor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Weight measuremen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Basis Weight is expressed in pounds and is figured using one ream (500 sheets) at the sheet’s basic size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80# (25</a:t>
            </a:r>
            <a:r>
              <a:rPr b="0" lang="en-US" sz="4200" spc="-1" strike="noStrike">
                <a:solidFill>
                  <a:srgbClr val="ffffff"/>
                </a:solidFill>
                <a:latin typeface="Univ GreekwMathPi"/>
              </a:rPr>
              <a:t>03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38</a:t>
            </a:r>
            <a:r>
              <a:rPr b="0" lang="en-US" sz="4200" spc="-1" strike="noStrike">
                <a:solidFill>
                  <a:srgbClr val="ffffff"/>
                </a:solidFill>
                <a:latin typeface="Univ GreekwMathPi"/>
              </a:rPr>
              <a:t>0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Calipe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per thickness is defined as caliper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t is measured to the thousandths of an inch and expressed as point siz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tock called 7-point is .007</a:t>
            </a:r>
            <a:r>
              <a:rPr b="0" lang="en-US" sz="4200" spc="-1" strike="noStrike">
                <a:solidFill>
                  <a:srgbClr val="ffffff"/>
                </a:solidFill>
                <a:latin typeface="Univ GreekwMathPi"/>
              </a:rPr>
              <a:t>0 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and abbreviated 7pt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e cost of paper represents 30–40% of the total cost of a typical printing job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Upgrading papers is usually a simple and often dramatic way of improving the appearance a projec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Bulk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Bulk refers to the comparative thickness of a sheet relative to its basis weight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aliper and bulk are not related to basis weigh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Quantiti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Reams consist of 500 shee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artons of paper weigh approx. 150 pounds but may contain any number of sheets depending upon size and basis weigh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per distributors use cartons as units of sal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pecifying Pape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Quantity           • Siz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Grain Direction  • Weigh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olor               • Brand nam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exture/Finish   • Grad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5200"/>
            </a:b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Choic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n addition to cost the paper choice affects every aspect of the printing and finishing and delivery process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Five major Grades of Pape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Bon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Uncoated book (offset)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oated book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ov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Most Reliable Papers for specific projec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Letterhead, envelopes, certificates and legal documen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hite 24# wove 25% cotton bon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Most Reliable Papers for specific projec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hotocopies, laser printing, notepads, fliers, statement stuffer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hite 20# wove 4 bon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Most Reliable Papers for specific projec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Newsletters, brochures, direct mailers, booklets, staff directories (any project which is primarily type and spot ink colors)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60# smooth #1 offse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Most Reliable Papers for specific projec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Newsletters, brochures, catalogs, labels, calendars, maps, small posters (products which require bright colors and faithful halftones)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Most Reliable Papers for specific projec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overs of books, calendars and programs, membership cards, menus, dividers in binder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hite 8-point or 10-point C1S Cov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3-13T16:31:55Z</cp:lastPrinted>
  <dcterms:modified xsi:type="dcterms:W3CDTF">2001-03-19T21:57:18Z</dcterms:modified>
  <cp:revision>25</cp:revision>
  <dc:subject/>
  <dc:title>Desktop Publishing Carnegie-Mellon</dc:title>
</cp:coreProperties>
</file>