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189-C59E-4594-888B-088C2E8A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56B-5913-4CC9-BCCB-261A8D25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F65-65FE-4BD3-B09F-25A7F238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CFA1-04C8-4084-A703-D9812195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2E3A-A1A0-45DE-9D1D-A17B30D0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AB77-53D7-4CE5-9099-5F8363D7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9E5F-6B5C-42B2-88FA-15F65A45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4CD6-D9A6-4B65-9C84-40BD436A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3020-B953-4EB5-8D11-977A753B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1EE5-D306-4A88-88AD-CF314120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1AA4-D570-4E42-B594-A1DA11C2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7B1-4C9C-49A4-B3F2-BE8A4B26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0314-5587-4482-B7D3-EBC1BC1F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1163-68CD-4E77-9EDA-7B8ABAB7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94B9-B6AA-4320-AC9B-83794FD9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A9F3-6FAB-4A10-B42B-F3ACA944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8EF7-BA7B-4369-B037-AC680F21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E1F-1EAC-45BC-B175-16D4FB14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2C61-7B17-4BDF-A73E-00B381D1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251C-FB7C-4550-A23E-03CB72DA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2D59-81EC-4B7E-B831-948FA06E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E40-7FEF-47DB-8691-995AE4F5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FFC-F402-436E-B0BC-7D1E878F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03C6-E7EE-4E7F-AA48-4F3EE687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1" marL="475200" indent="-182880">
              <a:spcBef>
                <a:spcPts val="104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2" marL="731520" indent="-14616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3" marL="1023840" indent="-146160">
              <a:spcBef>
                <a:spcPts val="104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4" marL="1316520" indent="-146160">
              <a:spcBef>
                <a:spcPts val="104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5" marL="1316520" indent="-146160">
              <a:spcBef>
                <a:spcPts val="104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6" marL="1316520" indent="-146160">
              <a:spcBef>
                <a:spcPts val="104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B0E7-151C-4FA8-9877-FC977CD78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71BE-3059-470D-A38D-138D8F603F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Desktop Publishing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arnegie-Mellon University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Spring 2001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ave Watterson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Art Director, GATF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ttrsn@aol.com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watterson@gatf.org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e Most Reliable Papers for specific project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Announcements, envelopes, presentation folders, coupons, and ticket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Light blue or gray 80# felt tex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e Most Reliable Papers for specific project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Business cards, covers for premium presentation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Light blue of gray 65# felt cover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 Characteristic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olor           • Brightnes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Opacity         • Surfac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Grain            • Weigh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 Color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he “whiter” is largely an subjective determination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hiteness is dependent upon the manufacturing process, bleach and other chemicals make pulp white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he same paper can change color from run to run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 Brightnes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Brightness is a result of the quantitative measurement of reflectanc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Most papers have brightness ratings between 60–90% brightnes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 Opacity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Opacity is measured on a scale of 1–100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Most papers fall in the 80–98% range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Opacity increases with basis weight and bulk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 Surfac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alendering in the papermaking process determines the surface texture of paper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he surface determines how easily paper accepts ink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 Grain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uring papermaking fibers become aligned, the result is grain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hen fibers run parallel to the length of a sheet it is called grain long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hen paper fibers run crosswise it is referred to as grain shor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 Weight measurement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Basis Weight is expressed in pounds and is figured using one ream (500 sheets) at the sheet’s basic size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80# (25</a:t>
            </a:r>
            <a:r>
              <a:rPr b="0" lang="en-US" sz="4200" spc="-1" strike="noStrike">
                <a:solidFill>
                  <a:srgbClr val="ffffff"/>
                </a:solidFill>
                <a:latin typeface="Univ GreekwMathPi"/>
              </a:rPr>
              <a:t>03</a:t>
            </a: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38</a:t>
            </a:r>
            <a:r>
              <a:rPr b="0" lang="en-US" sz="4200" spc="-1" strike="noStrike">
                <a:solidFill>
                  <a:srgbClr val="ffffff"/>
                </a:solidFill>
                <a:latin typeface="Univ GreekwMathPi"/>
              </a:rPr>
              <a:t>0</a:t>
            </a: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 Caliper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aper thickness is defined as caliper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It is measured to the thousandths of an inch and expressed as point siz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tock called 7-point is .007</a:t>
            </a:r>
            <a:r>
              <a:rPr b="0" lang="en-US" sz="4200" spc="-1" strike="noStrike">
                <a:solidFill>
                  <a:srgbClr val="ffffff"/>
                </a:solidFill>
                <a:latin typeface="Univ GreekwMathPi"/>
              </a:rPr>
              <a:t>0 </a:t>
            </a: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and abbreviated 7pt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he cost of paper represents 30–40% of the total cost of a typical printing job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Upgrading papers is usually a simple and often dramatic way of improving the appearance a projec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 Bulk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Bulk refers to the comparative thickness of a sheet relative to its basis weight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aliper and bulk are not related to basis weigh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 Quantitie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Reams consist of 500 sheet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artons of paper weigh approx. 150 pounds but may contain any number of sheets depending upon size and basis weigh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aper distributors use cartons as units of sal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Specifying Paper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Quantity           • Siz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Grain Direction  • Weigh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olor               • Brand nam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exture/Finish   • Grad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ntacting m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I don’t have an office on campus and really work all day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lease e-mail me and I will set up a meeting time as quickly as possibl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anks for your attention!</a:t>
            </a:r>
            <a:br>
              <a:rPr sz="5200"/>
            </a:b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 Now let’s head over to the lab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(CFA Room 318)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per Choic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In addition to cost the paper choice affects every aspect of the printing and finishing and delivery process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Five major Grades of Paper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Bond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Uncoated book (offset)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ex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oated book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over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e Most Reliable Papers for specific project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Letterhead, envelopes, certificates and legal document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hite 24# wove 25% cotton bond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e Most Reliable Papers for specific project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hotocopies, laser printing, notepads, fliers, statement stuffer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hite 20# wove 4 bond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e Most Reliable Papers for specific project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Newsletters, brochures, direct mailers, booklets, staff directories (any project which is primarily type and spot ink colors)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60# smooth #1 offse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e Most Reliable Papers for specific project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Newsletters, brochures, catalogs, labels, calendars, maps, small posters (products which require bright colors and faithful halftones)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e Most Reliable Papers for specific project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overs of books, calendars and programs, membership cards, menus, dividers in binder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hite 8-point or 10-point C1S Cover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04:35:44Z</dcterms:created>
  <dc:creator>David Watterson</dc:creator>
  <dc:description/>
  <dc:language>en-US</dc:language>
  <cp:lastModifiedBy>Dave Watterson</cp:lastModifiedBy>
  <cp:lastPrinted>2001-03-13T16:31:55Z</cp:lastPrinted>
  <dcterms:modified xsi:type="dcterms:W3CDTF">2001-03-19T21:57:18Z</dcterms:modified>
  <cp:revision>25</cp:revision>
  <dc:subject/>
  <dc:title>Desktop Publishing Carnegie-Mellon</dc:title>
</cp:coreProperties>
</file>