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1.xml.rels" ContentType="application/vnd.openxmlformats-package.relationships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media/image54.wmf" ContentType="image/x-wmf"/>
  <Override PartName="/ppt/media/image51.png" ContentType="image/png"/>
  <Override PartName="/ppt/media/image49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20.png" ContentType="image/png"/>
  <Override PartName="/ppt/media/image58.wmf" ContentType="image/x-wmf"/>
  <Override PartName="/ppt/media/image2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28.wmf" ContentType="image/x-wmf"/>
  <Override PartName="/ppt/media/image30.png" ContentType="image/png"/>
  <Override PartName="/ppt/media/image25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76.png" ContentType="image/png"/>
  <Override PartName="/ppt/media/image87.png" ContentType="image/png"/>
  <Override PartName="/ppt/media/image74.wmf" ContentType="image/x-wmf"/>
  <Override PartName="/ppt/media/image84.wmf" ContentType="image/x-wmf"/>
  <Override PartName="/ppt/media/image83.wmf" ContentType="image/x-wmf"/>
  <Override PartName="/ppt/media/image70.jpeg" ContentType="image/jpeg"/>
  <Override PartName="/ppt/media/image35.png" ContentType="image/png"/>
  <Override PartName="/ppt/media/image72.png" ContentType="image/png"/>
  <Override PartName="/ppt/media/image6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88.png" ContentType="image/png"/>
  <Override PartName="/ppt/media/image73.wmf" ContentType="image/x-wmf"/>
  <Override PartName="/ppt/media/image33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57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56.wmf" ContentType="image/x-wmf"/>
  <Override PartName="/ppt/media/image55.wmf" ContentType="image/x-wmf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81.wmf" ContentType="image/x-wmf"/>
  <Override PartName="/ppt/media/image4.wmf" ContentType="image/x-wmf"/>
  <Override PartName="/ppt/media/image82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47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B9EE-6D8D-45D3-97C9-7F2ABFA4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71B0-7355-4EE7-9D1A-5E1831BDA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0954-4979-446B-81E2-538C1D9DA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23BC-39F0-4E80-A757-F120248F9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156-AFD9-4EF6-9261-1463D13C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73AC-BB60-490E-BE0B-C22A753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6E8-6B8A-449D-B0DE-3A0AAD15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D2B-D7B2-493A-A8DF-72F29C10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FCF-02A8-4E90-AED6-B3207C70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A59-E69E-4064-A06C-B8A0E135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68DB-50EA-4FAC-AC39-D275772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D216-15A2-4762-B86A-9CBFD68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4D2E-B28B-451F-B498-5283D10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D085-E079-41A0-8641-83F74998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F29-986D-448B-8827-158C2B88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D22-B2BD-4F21-93B9-37105BAB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A9B2-5924-4401-ADD0-94079A7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64F5-B002-46A0-A921-42265D5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5CEF-EEC2-48AB-9ACC-8D04CD20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C6A3-8052-49D4-8F3F-A7654063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C0F1-A5F6-497E-81E3-30DF9633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555-1E52-4235-959F-A20E4919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F14-E021-4F01-98D0-C8C994B1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458-EB65-4819-8714-94E3D5EE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BE9-1B59-47F6-9852-07257D44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B43-2B8F-4A40-A0B4-71CC0FED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972-5AAF-42DD-B057-F5F7169E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974-0887-434E-9D22-D728DE7C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E84-49E9-4E03-8377-3DAE7EC4AC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B048-34FB-44B1-AD1A-2CDCD14811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earch.npr.org/cf/cmn/cmnps05fm.cfm?SegID=24726" TargetMode="External"/><Relationship Id="rId2" Type="http://schemas.openxmlformats.org/officeDocument/2006/relationships/hyperlink" Target="http://search.npr.org/cf/cmn/cmnps05fm.cfm?SegID=50252" TargetMode="External"/><Relationship Id="rId3" Type="http://schemas.openxmlformats.org/officeDocument/2006/relationships/hyperlink" Target="http://search.npr.org/cf/cmn/cmnps05fm.cfm?SegID=54444" TargetMode="External"/><Relationship Id="rId4" Type="http://schemas.openxmlformats.org/officeDocument/2006/relationships/hyperlink" Target="http://search.npr.org/cf/cmn/cmnps05fm.cfm?SegID=66642" TargetMode="External"/><Relationship Id="rId5" Type="http://schemas.openxmlformats.org/officeDocument/2006/relationships/hyperlink" Target="http://search.npr.org/cf/cmn/cmnps05fm.cfm?SegID=69540" TargetMode="External"/><Relationship Id="rId6" Type="http://schemas.openxmlformats.org/officeDocument/2006/relationships/hyperlink" Target="http://search.npr.org/cf/cmn/cmnps05fm.cfm?SegID=69995" TargetMode="External"/><Relationship Id="rId7" Type="http://schemas.openxmlformats.org/officeDocument/2006/relationships/hyperlink" Target="http://search.npr.org/cf/cmn/cmnps05fm.cfm?SegID=69995" TargetMode="External"/><Relationship Id="rId8" Type="http://schemas.openxmlformats.org/officeDocument/2006/relationships/hyperlink" Target="http://search.npr.org/cf/cmn/cmnps05fm.cfm?SegID=69995" TargetMode="External"/><Relationship Id="rId9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jpe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75.jpe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s.com/News/Item/0,4,37160,00.html" TargetMode="External"/><Relationship Id="rId2" Type="http://schemas.openxmlformats.org/officeDocument/2006/relationships/hyperlink" Target="http://www.news.com/News/Item/0,4,37160,00.html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veyd.com/FullArticles/articleN8.asp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wmf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wmf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wmf"/><Relationship Id="rId22" Type="http://schemas.openxmlformats.org/officeDocument/2006/relationships/image" Target="../media/image50.jpe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wmf"/><Relationship Id="rId27" Type="http://schemas.openxmlformats.org/officeDocument/2006/relationships/image" Target="../media/image55.wmf"/><Relationship Id="rId28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7467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n Montgome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e School of Industrial Administr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 alan.montgomery@cmu.edu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932B-7735-4F02-B840-7FB6092300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P3’s Impa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 the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Downloading CD Quality Music: Morning Edition, Aug 31,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MP3: The Music industry is in an uproar, Talk of the Nation, May 19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MP3 - Music Business: Secure Digital Music Initial (SMDI), All Things Considered, July 23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MP3 Players: Morning Edition, Nov 15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MP3.com Lawsuit: Jan 2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MP3’s on Campus: 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Napster</a:t>
            </a:r>
            <a:r>
              <a:rPr b="0" lang="en-US" sz="18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, Feb 4,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798-A2B4-4052-8CC4-AF78556572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2058840" y="1982880"/>
          <a:ext cx="682308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1982880"/>
                    <a:ext cx="682308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C &amp; TV In the Same Room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355-DF18-410F-99CB-44124C9AEEDE}" type="slidenum">
              <a:t>100</a:t>
            </a:fld>
          </a:p>
        </p:txBody>
      </p:sp>
    </p:spTree>
  </p:cSld>
  <p:transition>
    <p:split dir="out" orient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ffline Advertising Does Impact Online Us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267080" y="1905120"/>
            <a:ext cx="14482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2AFB-36F9-4E22-9D9A-FD2DF046CE94}" type="slidenum">
              <a:t>101</a:t>
            </a:fld>
          </a:p>
        </p:txBody>
      </p:sp>
    </p:spTree>
  </p:cSld>
  <p:transition>
    <p:pull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62485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7920" y="685440"/>
            <a:ext cx="76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ctoria’s Secr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-- Not a secret anymo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8800" y="236232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5486400" y="1371600"/>
            <a:ext cx="1447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hion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60680" y="6324480"/>
            <a:ext cx="22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F75-7E7D-45CE-B188-AE8415C58738}" type="slidenum">
              <a:t>102</a:t>
            </a:fld>
          </a:p>
        </p:txBody>
      </p:sp>
    </p:spTree>
  </p:cSld>
  <p:transition spd="med">
    <p:blinds dir="horz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es Can Come Out of Nowhe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1905120"/>
            <a:ext cx="20574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65D-3041-49F7-BA2C-9FCF283D3BBD}" type="slidenum">
              <a:t>103</a:t>
            </a:fld>
          </a:p>
        </p:txBody>
      </p:sp>
    </p:spTree>
  </p:cSld>
  <p:transition>
    <p:pull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p-and-Comers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Hitting the Radar Scre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648320" y="5867280"/>
          <a:ext cx="370188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867280"/>
                    <a:ext cx="37018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010200" y="2362320"/>
          <a:ext cx="3133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0200" y="2362320"/>
                    <a:ext cx="3133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2057400" y="5715000"/>
            <a:ext cx="2193840" cy="762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1523880" y="2133720"/>
            <a:ext cx="2203560" cy="7588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5791320" y="4419720"/>
            <a:ext cx="2660400" cy="1222200"/>
          </a:xfrm>
          <a:prstGeom prst="rect">
            <a:avLst/>
          </a:prstGeom>
          <a:ln w="0">
            <a:noFill/>
          </a:ln>
        </p:spPr>
      </p:pic>
      <p:pic>
        <p:nvPicPr>
          <p:cNvPr id="547" name="webmd" descr=""/>
          <p:cNvPicPr/>
          <p:nvPr/>
        </p:nvPicPr>
        <p:blipFill>
          <a:blip r:embed="rId8"/>
          <a:stretch/>
        </p:blipFill>
        <p:spPr>
          <a:xfrm>
            <a:off x="3809880" y="1752480"/>
            <a:ext cx="2133720" cy="933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1752480" y="4648320"/>
            <a:ext cx="3181320" cy="504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3200400" y="3352680"/>
            <a:ext cx="365760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860-5DF4-4571-9CD2-D88121F05467}" type="slidenum">
              <a:t>104</a:t>
            </a:fld>
          </a:p>
        </p:txBody>
      </p:sp>
    </p:spTree>
  </p:cSld>
  <p:transition>
    <p:dissolv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arning about E-Comme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rom Media Met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18E9-1E8B-4D98-82D2-A4A0C5B5CBD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440" y="447840"/>
            <a:ext cx="7772400" cy="92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523880" y="1981080"/>
          <a:ext cx="748188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8188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1239840" y="6157800"/>
            <a:ext cx="729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 Media Metrix % Reach of Top U.S. Shopping Site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3808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47880" y="533520"/>
            <a:ext cx="729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10 Shopping Sites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6AA-A10F-4022-A16B-C1EA61B361C1}" type="slidenum">
              <a:t>106</a:t>
            </a:fld>
          </a:p>
        </p:txBody>
      </p:sp>
    </p:spTree>
  </p:cSld>
  <p:transition>
    <p:blinds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asuring Potential Buyers</a:t>
            </a:r>
            <a:br>
              <a:rPr sz="3200"/>
            </a:br>
            <a:r>
              <a:rPr b="0" lang="en-US" sz="2800" spc="-1" strike="noStrike">
                <a:solidFill>
                  <a:srgbClr val="cc0066"/>
                </a:solidFill>
                <a:latin typeface="Arial Black"/>
              </a:rPr>
              <a:t>Appar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436760" y="1676520"/>
          <a:ext cx="770724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76520"/>
                    <a:ext cx="770724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1" name="landsend" descr=""/>
          <p:cNvPicPr/>
          <p:nvPr/>
        </p:nvPicPr>
        <p:blipFill>
          <a:blip r:embed="rId3"/>
          <a:srcRect l="50017" t="0" r="0" b="0"/>
          <a:stretch/>
        </p:blipFill>
        <p:spPr>
          <a:xfrm>
            <a:off x="7315200" y="533412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562" name="gap" descr=""/>
          <p:cNvPicPr/>
          <p:nvPr/>
        </p:nvPicPr>
        <p:blipFill>
          <a:blip r:embed="rId4"/>
          <a:srcRect l="0" t="0" r="12509" b="0"/>
          <a:stretch/>
        </p:blipFill>
        <p:spPr>
          <a:xfrm>
            <a:off x="6629400" y="5334120"/>
            <a:ext cx="533520" cy="542880"/>
          </a:xfrm>
          <a:prstGeom prst="rect">
            <a:avLst/>
          </a:prstGeom>
          <a:ln w="0">
            <a:noFill/>
          </a:ln>
        </p:spPr>
      </p:pic>
      <p:pic>
        <p:nvPicPr>
          <p:cNvPr id="563" name="victoria" descr=""/>
          <p:cNvPicPr/>
          <p:nvPr/>
        </p:nvPicPr>
        <p:blipFill>
          <a:blip r:embed="rId5"/>
          <a:srcRect l="0" t="0" r="0" b="6454"/>
          <a:stretch/>
        </p:blipFill>
        <p:spPr>
          <a:xfrm>
            <a:off x="5562720" y="5410080"/>
            <a:ext cx="761760" cy="747720"/>
          </a:xfrm>
          <a:prstGeom prst="rect">
            <a:avLst/>
          </a:prstGeom>
          <a:ln w="0">
            <a:noFill/>
          </a:ln>
        </p:spPr>
      </p:pic>
      <p:pic>
        <p:nvPicPr>
          <p:cNvPr id="564" name="eddiebauer" descr=""/>
          <p:cNvPicPr/>
          <p:nvPr/>
        </p:nvPicPr>
        <p:blipFill>
          <a:blip r:embed="rId6"/>
          <a:srcRect l="2304" t="15229" r="25389" b="38428"/>
          <a:stretch/>
        </p:blipFill>
        <p:spPr>
          <a:xfrm>
            <a:off x="3886200" y="5334120"/>
            <a:ext cx="1600200" cy="271440"/>
          </a:xfrm>
          <a:prstGeom prst="rect">
            <a:avLst/>
          </a:prstGeom>
          <a:ln w="0">
            <a:noFill/>
          </a:ln>
        </p:spPr>
      </p:pic>
      <p:pic>
        <p:nvPicPr>
          <p:cNvPr id="565" name="llbean" descr=""/>
          <p:cNvPicPr/>
          <p:nvPr/>
        </p:nvPicPr>
        <p:blipFill>
          <a:blip r:embed="rId7"/>
          <a:srcRect l="0" t="0" r="69482" b="0"/>
          <a:stretch/>
        </p:blipFill>
        <p:spPr>
          <a:xfrm>
            <a:off x="2895480" y="5334120"/>
            <a:ext cx="914400" cy="318960"/>
          </a:xfrm>
          <a:prstGeom prst="rect">
            <a:avLst/>
          </a:prstGeom>
          <a:ln w="0">
            <a:noFill/>
          </a:ln>
        </p:spPr>
      </p:pic>
      <p:pic>
        <p:nvPicPr>
          <p:cNvPr id="566" name="jcrew" descr=""/>
          <p:cNvPicPr/>
          <p:nvPr/>
        </p:nvPicPr>
        <p:blipFill>
          <a:blip r:embed="rId8"/>
          <a:srcRect l="0" t="0" r="73656" b="50067"/>
          <a:stretch/>
        </p:blipFill>
        <p:spPr>
          <a:xfrm>
            <a:off x="1371600" y="5334120"/>
            <a:ext cx="1442880" cy="266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523880" y="61722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Media Metrix, Dec.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784-0B3B-4863-B052-098B6335D35D}" type="slidenum">
              <a:t>107</a:t>
            </a:fld>
          </a:p>
        </p:txBody>
      </p:sp>
    </p:spTree>
  </p:cSld>
  <p:transition spd="med">
    <p:pull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447920" y="2381400"/>
          <a:ext cx="847728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772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74B-8E00-4337-BC46-D93E2FBC864F}" type="slidenum">
              <a:t>108</a:t>
            </a:fld>
          </a:p>
        </p:txBody>
      </p:sp>
    </p:spTree>
  </p:cSld>
  <p:transition spd="med">
    <p:pull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447920" y="2381400"/>
          <a:ext cx="8496360" cy="44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81400"/>
                    <a:ext cx="849636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1C4-D572-41F0-9B92-306C83A22554}" type="slidenum">
              <a:t>109</a:t>
            </a:fld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ill the Internet Effect Traditional Marketing Tool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The death of traditional marketing(?|!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3E0C-ABEA-44E5-8BB9-2D95F740E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arative E-Commerce Results</a:t>
            </a:r>
            <a:br>
              <a:rPr sz="2800"/>
            </a:b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Category B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685800"/>
            <a:ext cx="548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371600" y="2476440"/>
          <a:ext cx="800100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76440"/>
                    <a:ext cx="80010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1600200" y="19494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Tahoma"/>
              </a:rPr>
              <a:t>Unique Monthly Vis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65C-4B7F-4CCD-9419-247DF7160016}" type="slidenum">
              <a:t>110</a:t>
            </a:fld>
          </a:p>
        </p:txBody>
      </p:sp>
    </p:spTree>
  </p:cSld>
  <p:transition spd="med">
    <p:pull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22240" y="1980720"/>
            <a:ext cx="742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Type Of E-Commerce Sites Are Showing The Most And The Least Growth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B0DD-239B-4F8C-9488-AD0CFBA48479}" type="slidenum">
              <a:t>111</a:t>
            </a:fld>
          </a:p>
        </p:txBody>
      </p:sp>
    </p:spTree>
  </p:cSld>
  <p:transition spd="med">
    <p:split dir="out" orient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1368360" y="1219320"/>
          <a:ext cx="777564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19320"/>
                    <a:ext cx="77756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th Index for Shopping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362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3124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3581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ks/Music/Mov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3080" y="3886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ers/Gifts/Gree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4267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4724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9CF-3B2A-47C7-96FC-FB948D0CBF7C}" type="slidenum">
              <a:t>112</a:t>
            </a:fld>
          </a:p>
        </p:txBody>
      </p:sp>
    </p:spTree>
  </p:cSld>
  <p:transition spd="med">
    <p:pull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o Are The Heavy Advertiser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76520" y="1432080"/>
            <a:ext cx="6629400" cy="527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7B0-D8FE-410F-8439-F204DDDFAD0B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westfare.com: Testing Incentiv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1981080" y="479124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3"/>
          <a:stretch/>
        </p:blipFill>
        <p:spPr>
          <a:xfrm>
            <a:off x="1981080" y="3171960"/>
            <a:ext cx="447696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981080" y="3981600"/>
            <a:ext cx="4476960" cy="5904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692040" y="247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92040" y="4902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92040" y="4092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92040" y="3282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14680" y="640080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AdRelevance, A Media Metrix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508-0CB6-4B77-A543-3E8E456AD5A8}" type="slidenum">
              <a:t>114</a:t>
            </a:fld>
          </a:p>
        </p:txBody>
      </p:sp>
    </p:spTree>
  </p:cSld>
  <p:transition>
    <p:blinds dir="horz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ral E-commerce Tren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Growing Usage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ly More Important Outside Of The U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mendous Experimentation Occur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 For Auctions, Virtually No One Has Shown That They Can Make Mon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y Has Hobbled B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It A Web Business Or A Distribution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7DC-B7EA-458D-A097-9647DF4EB16A}" type="slidenum">
              <a:t>115</a:t>
            </a:fld>
          </a:p>
        </p:txBody>
      </p:sp>
    </p:spTree>
  </p:cSld>
  <p:transition>
    <p:blinds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2C5C-0D6B-427A-8EB9-EF760E92406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appears to be alive and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lying marketing theory can be critical to understanding whether a business will succeed or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imes things work (or fail) without us knowing why, but a little theory can give some key ins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nd better measures of the information content of clickstream data and customer acquisition cost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BF3-039D-4AA0-810D-CDFC0F2FCE6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aditional marketing avenu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-media 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ck and mortar st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marketing/Telephone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ahoma"/>
              </a:rPr>
              <a:t>Which of these avenues are obsolete due to the Intern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A55-F9A7-424E-B731-C1E89E6DC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Mass Media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98B6-908D-446B-85C4-8E56C731EB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jobs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connect job seekers and employers, revenues raised through referral fees charged to employers and advertis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s revenues of $17m in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d $16m from venture capital companies earlier this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s to spend $12m on advertising (broadcast and outdoor), $1.6m for SuperBowl spot, $400k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as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19160"/>
            <a:ext cx="401328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7CF-4340-4F49-B34A-EEC3FDFDFA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er Bowl Advertisers’ Reach Growth -- Career Si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371600"/>
          <a:ext cx="7635960" cy="42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3596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676520"/>
            <a:ext cx="1752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 B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5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638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%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4360" y="624852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618-A8D9-4178-9575-3DB5AE063F12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azon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Poster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s in 1Q 1999 are $294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ing during the same period is $61m, or roughly 21% of re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B60-10C4-4D59-84DA-57FE63BC9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Purcha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verage expenditure for advertising by most companies is 4% to 7% of re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e: 10% is considered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’re seeing in 1999 that the dot-coms are putting 65% to 75% of their spending into offline media like network television since that’s still the best way to reach a mass audien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shad Tobaccowala, president of Starcom IP, (the interactive unit of Leo Burnett Co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4B0-EB44-4716-AAC3-4ECF1C6A10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new hi-res medi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640 x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1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&lt;5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ution: 9600 x 1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PM: $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: 10 seco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: 3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14600"/>
            <a:ext cx="281916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514600"/>
            <a:ext cx="3200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0280" y="491652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would you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756-894A-4CD6-A8DF-1E194FBFDF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Brick and Mortar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BCA3-1DD6-4D61-A50A-349584675E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Marketing vs. Internet Market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se Study of Internet Success: hot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les behind Interne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 Insights from 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FDE-ED2E-4E9F-B0C9-FB44E6CD16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ap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Home delivery of groceries using on-line ordering.  Operates in Chicago, San Francisco, Boston, Long Island, Dallas, Houston, Austin, Columb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s are purchased at the local grocery stores.  Delivered to your door within the ho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ing money on grocery delivery, but they are making money on the information they collect by selling it back to CPG vend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053-D391-4146-BB14-36479633B8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l-world success doesn’t mean automatic Internet suc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’s success in their stores is due to buying power and customer-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ct 1998 they even sued Amazon.com and Drugstore.com for recruiting former Wal-mart employees in order to alledgedly steal trad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lmart decided to delay their redesigned web entry until after Christmas 1999, for fear they wouldn’t be able to deli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2276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881-78ED-4AED-AE8E-BE148DC251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evi’s: Moving backwards from online to offline s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i’s was offering a custom order option, so that users could order jeans to 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were outsourcing their web operations to Vici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ed to pull out of on-line in Nov ‘99 since costs of maintaining the site exceeded its benefit plus the channel confl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it redirects purchasers to Macys and J.C.Penny Co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2920" cy="41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4FC-136D-49B2-84AD-0553DA7029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rect Marketing vs Retail St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examples of direct marketers venturing into retail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ana Republic, Eddie Bauer, The Sharper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retail stores starting direct marketing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ura Ashley, Williams-Sonoma, Bloomingdale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both can co-exist, but thought needs to be given to avert canniba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n you think of examples of online marketers moving into retail, or retailers moving into online oper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1DE-47FA-47C0-ACE7-6FE339D158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Telephon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2CD1-B689-4336-805F-B10E039FE9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d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1994 spent tens of millions of dollars on phone charges and customer-support personnel to track its packages.  Independent sources estimate the cost at $.50/ca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dex’s web site cost $50,000, and generated an average of 500,000 packages were packed online.  If half were curiosity seekers, the remainder saved the company $125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247-CBE8-4D11-A0F4-24CFCE0831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Channe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758B-E4EA-4ED9-B200-8A2A85D5F0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celine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model: Any price for an unused airline seat is worthwhile, since it generates incremental revenue.  Contract with the airlines, auto rental companies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people can save lot’s of money on airline tra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a percentage of the lowest available price, how much are consumers saving using priceline.co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C38-4C14-4531-B870-5342E08148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cities.com: Communities new Channel Intermedia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value of an online commun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a community alter retail channe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B11-1C58-438D-B1A9-978F93DB46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‘Community’ Respons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l’s Pentium Chip Flaw (199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 many Pentium designers does it take to screw in a light bulb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99904274017, but that's close enough for non-technical peopl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 do you get when you cross a Pentium PC with a research grant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mad scientis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at's another name for the Intel Inside sticker they put on Pentium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rning labe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y didn't Intel call the Pentium the 586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cause they added 486 and 100 on the first Pentium and got 585.9999836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292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 ten new Intel slogans for the Pentium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The Errata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Were Looking for a Few Good Flaw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Division Considered Harmfu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Why Do You Think They Call It *Floating* Point?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We Fixed It, Reall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Redefining the PC and Mathematics As Wel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You Don't Need to Know What's Insid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Nearly 300 Correct Opcod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It's Close Enough, We Say S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It's a FLAW, not a Bu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60199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2FD-FE40-4A47-9542-A2F8BD2B65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5832-6EF4-4317-9BDD-6F47DA0F0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is that Internet has and will continue to impac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ternet Marketing is not a new discipline, but one that has anticipated many of the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more, marketers have anticipated many of the possibilities of the Internet, see Blattberg and Deighton’s “Interactive Marketing” (199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8D8-0080-4A60-88B5-5E7836BA44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active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ttberg and Deighton (Sloan Management Review 1991) discuss the differences between traditional mass marketing and interactive 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actual behavior to identify customers/pro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d prices/product offers to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ing the advertising message via selected binding (split ca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: Direct links with the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 force: Improved monitoring, less discretion, better data for the sales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68A-3CDF-466E-B9FB-793F84DAAF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case study of the classic internet success sto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30A4-D46D-4385-8385-1D603A99F7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tmail.co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Web-based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6 Startup Comp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979-AC18-48D3-A616-9EC3E8C59F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’s it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 up for an account and access your email from anywhere using an HTML interface to your mail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e feat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ar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 web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EFE-C56A-4283-B6D0-E1F0536158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this business model work?  Why? 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his model be viable in the long-ter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792-822B-4D8E-875B-FEC8E68719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etitive Advanta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mover adva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rity of th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95F-E69C-4567-B0DE-07D60D2CFD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ptions to enhanced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34F-607F-4BC0-B1E0-41F5B96AC8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ral Marketing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places a small “ad” at the bottom of every e-mail message automatically, whether the sender wanted it there or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people see the “ad” they click and may themselves become subscr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 signed up 12m users with a total marketing budget of $50,000; compare that to AOL and E-Trade who are spending $100 to $300 per customer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e this to Alladvantage.com, www.seeUthere.com, SDMI (after six listenings an encryption inside the song triggers a message your free time is ov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132-FBD8-43D5-8CCA-E37A31426A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550-FD81-40FF-AAF6-99A970F2AA4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st your Internet Knowled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013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tney spear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a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m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ok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onn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ela anders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0" y="2819520"/>
            <a:ext cx="4013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n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nia twai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ez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zip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estl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ho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2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17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d rank the top 5 keywords searched by the major search engines according to their popula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A4B-93FE-4438-836E-5F3D50902D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574-2254-46C4-9465-314528172C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8120" y="274284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2767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8B2-D24B-479E-9C00-4BB9F24454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3962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0040" y="3733920"/>
            <a:ext cx="228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819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2438280"/>
            <a:ext cx="3049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876920" y="441936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867280" y="4419360"/>
            <a:ext cx="3049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360-41A4-4BB5-A389-2123DB3890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48769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342900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236232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791320" y="3809520"/>
            <a:ext cx="3045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448-B862-4890-A14D-3A54B44BCBB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deling Diffusion Process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2286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3886200"/>
            <a:ext cx="60984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3623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4495680"/>
            <a:ext cx="609480" cy="609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8862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27672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43434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8098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81952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19810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3526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28954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446-90BC-485F-9759-1FADFE01B9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ecasts from a Diffusion Mod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1752480"/>
          <a:ext cx="761976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61976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9B8-38DA-4C26-941F-AB439F17ED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’s About Capturing Eyeball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buys Hotmail for $385 m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il is the “killer-app” of the Internet, everybody has to have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the buyout, one-quarter of Hotmail’s 60 employees became instant millionai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 million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would double MSN’s 2 million paying subscribers, an increase its advertising revenues, but more importantly help position it to become a major por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usiness Wee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Jan 19, 19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cketmail sold out to Yahoo! in Oct 199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 of Dec 1999 hotmail had 40m subscri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081-82ED-414E-A082-8EE340633C3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e there any principles behind Internet Marketing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-to-1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ationship Marketing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rsonaliz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A53D-2E3D-4B08-BB1F-3935816D34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ring Mas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to1 Mark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t manager sells one product at a time to as many customers a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quire a constant stream of new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l as many products as possible to one customer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iate his custo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es to get a constant stream of business from current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ntrates on economies of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36232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43434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5715000"/>
            <a:ext cx="457200" cy="0"/>
          </a:xfrm>
          <a:prstGeom prst="line">
            <a:avLst/>
          </a:prstGeom>
          <a:ln w="954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0240" y="623268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ppers and Rogers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e to On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85B-2E70-4B81-91BD-3EDDE083BA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Key Points for 1to1 System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te amongs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 with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ize your product or service to meet each customer’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54A-6850-4C12-B8D2-B95D1AB66FD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Searchterms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.c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3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nnifer lopez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mai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em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720-A005-4635-9D4D-C383529F2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ormation is key to implementing a 1to1 Syst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purchase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strea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k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it his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A9A-CEBC-4372-986E-B97C9CF37F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Cookies for Advert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your browser’s cookie list for “DoubleClic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Click inserts ads into other people’s we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k users across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s number of exposures to 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ads to certain types of individu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remains “anonymou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A12-3452-4F77-A935-88618B9B2F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has DoubleClick learn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udying millions of impressions they concluded that after the fourth impression, response rates dropped from 2.7% to under 1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nner burn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686-F4C2-4F30-9C96-900F1312F38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tising Case Stud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ce Datek to potential online investors through banners and sponsor buttons 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ubleClick Business &amp; Finance sites (StockMaster, Big Charts, ClearStation, Individual Investor Online, Fast Company and EDGAR Online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e ads with major brand DoubleClick Select Sites including U.S. News, PBS, the Dilbert Zone and Travelocit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yword banners on AltaVista during user searches for specific topics like "stock”, "online trading,” "investments," "brokerage" and "broker.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7C3-338F-4282-BA63-8C5764B5CE4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line Brokerage” Banner A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were to go to each of these search engines and type in “online brokerage” what banner ads would be dis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ervice is performed by www.bannerstak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DAA-029E-4A61-A26F-AFB6DF1DFB1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3657600"/>
            <a:ext cx="81788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rates for keywords ranged as high as 15% - 19%. Through sponsorships on DoubleClick Finance sites, the Datek brand is reinforced to 550,000 potential customers every mont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ce the inception of their DoubleClick campaign, Datek has succeeded in establishing a loyal audience, now exceeding over 32,000 trades a da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the past two years, DoubleClick has been an integral part of Datek's online budget, helping Datek to generate in excess of $320,000 a day from online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9132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A48-070D-41D0-B727-6D5D0AE3D40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 it worth i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886040"/>
            <a:ext cx="4013280" cy="41720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250,000 customers, 70,000 trades/day, $9.95/t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70480" y="3146400"/>
          <a:ext cx="2341440" cy="268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70480" y="3146400"/>
                    <a:ext cx="2341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CB8-9E8C-449F-9710-0988D9A67C9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A827-0FB6-4972-AC2D-625AE89F462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558880" y="1143000"/>
            <a:ext cx="4026240" cy="4572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022440" y="62485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Yorker, 5 July 1993, p. 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064-0623-4701-BB70-EB462E6B310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clickstream data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cord of an individual’s movement through time at a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information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’s mach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URL vie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e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132-D67D-48D7-B234-FADC1228E86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Music Industry Respon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 yet another “revolution” brewing on the Internet, this time concerning the music indus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Enemy, the rap group that shot to fame with the hit “Fight the Power”, started selling a new album over the Internet today to fight what they say is the stifling power of big music companies.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Reuters, May 27, 199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ary Rosen, RIAA President and C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shington, July 13, 1999, “The SDMI specification being released today is a great example of technology partnerships that can open new markets.  This release is another important milestone for consumers, artists and the industry as a whole”.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uck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 say the more the merrier.  Success comes from the fans first - if someone is going to pirate something of mine, I just have to make sure to do nine or ten new things.  I mean, you can’t download me.” Interview  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DD9-D940-4CCD-8E82-8C01733CD8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lickstrea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753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usehold ID: Female born 12Jul4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ographics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iladelphia Area, Male and Female Married (husband born: 27Sep46), 3 members in household, income: $75,000-$99,999, Graduated College, employed 35 or more hours, 1 child age 13 to 17 (daughter born: 5Jul80), own single family home, white collar, own car &amp; truck, microwave, three dogs, five cats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65280" y="3652920"/>
            <a:ext cx="8423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5:5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3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4: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05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5: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0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9:17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realastrology.com/libra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7621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  <a:path fill="darkenLess" w="21600" h="23991">
                <a:moveTo>
                  <a:pt x="5273" y="5181"/>
                </a:moveTo>
                <a:lnTo>
                  <a:pt x="12271" y="5181"/>
                </a:lnTo>
                <a:lnTo>
                  <a:pt x="16327" y="8679"/>
                </a:lnTo>
                <a:lnTo>
                  <a:pt x="16327" y="18811"/>
                </a:lnTo>
                <a:lnTo>
                  <a:pt x="5273" y="18811"/>
                </a:lnTo>
                <a:close/>
              </a:path>
              <a:path fill="darken" w="21600" h="23991">
                <a:moveTo>
                  <a:pt x="12271" y="5181"/>
                </a:moveTo>
                <a:lnTo>
                  <a:pt x="16327" y="8679"/>
                </a:lnTo>
                <a:lnTo>
                  <a:pt x="12271" y="8679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A0C-B442-45FB-B457-29C36242EB8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does the provider se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"/>
          <p:cNvSpPr/>
          <p:nvPr/>
        </p:nvSpPr>
        <p:spPr>
          <a:xfrm>
            <a:off x="595440" y="2973240"/>
            <a:ext cx="84103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voicenet.com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6: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HI_Lahaina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JUL97:18:57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weather.com/weather/us/cities/MI_Traverse_Ci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4640" y="2195640"/>
            <a:ext cx="568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w.voicenet.com would be able to 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440" y="4100400"/>
            <a:ext cx="673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at would www.weather.com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6DD-A483-4791-B3C9-6A9E7690C1A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other information can the provider collec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’s watching you and what are you telling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T Privacy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nymizer Snoop Demon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 else can we find o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tr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urn this information into a ZIP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we do with a ZIP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S/MicroVision Lifestyle 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ABC-D867-49A5-A429-7510B67132E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stream Example: Who is this web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196040" cy="40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FB1-EA16-4E39-AFEF-2773628937A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much have you learned about this perso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ital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aphic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y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Com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usehold Inco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nt or 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 and presence of child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 or truck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g or cat ownersh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2400" y="1885680"/>
            <a:ext cx="4521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34 years 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Sing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East South Cent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50,000-49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2 household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emale head living with others rel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$25,000-$29,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Graduated High Sch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Children Under 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wo cars, no tru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 dogs or c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DA5-C365-4F1E-B51B-772F56EAC0D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tatistical Approach to ‘Who is this person?’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520" y="2133720"/>
          <a:ext cx="818820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8820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1F9-9F01-4A30-B1CB-1FCFB38712C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istical Analy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4984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37D-2482-4ECA-A097-597AACD788C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773600" cy="556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84240" y="6248520"/>
            <a:ext cx="42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moreinfo.com/au.cranlerma/fol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E0A-2161-42B2-9DCE-A39A5D66FB1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onceptual framewor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2146320" y="1841400"/>
            <a:ext cx="5765760" cy="4013280"/>
          </a:xfrm>
          <a:prstGeom prst="triangle">
            <a:avLst>
              <a:gd name="adj" fmla="val 499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8000" y="2463840"/>
            <a:ext cx="33624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ro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Se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ffective Mass-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8480" y="2205000"/>
            <a:ext cx="21434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i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ffi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92680" y="3429000"/>
            <a:ext cx="227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9160" y="4191120"/>
            <a:ext cx="334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9680" y="502920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7528680" y="3821400"/>
            <a:ext cx="161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686800" y="2336760"/>
            <a:ext cx="0" cy="3175200"/>
          </a:xfrm>
          <a:prstGeom prst="line">
            <a:avLst/>
          </a:prstGeom>
          <a:ln w="50760">
            <a:solidFill>
              <a:srgbClr val="99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5680" y="6213600"/>
            <a:ext cx="629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33"/>
                </a:solidFill>
                <a:latin typeface="Arial"/>
              </a:rPr>
              <a:t>Where should your company f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99F-FB38-4F47-A8D4-A929EDF81FE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cessing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Depar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 Activity Tracking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ing and Verification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Research Suppl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Arial"/>
              </a:rPr>
              <a:t>What do you do with your da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FA4-0E6A-48D1-8FF0-215C6CF2A8E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$33b World Music Indust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ing Art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major suppliers (Record Label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 Warner (American)/ Thorn EMI (UK): ~24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yGram/Universal/MCA (Netherlands): ~16%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ny (Jap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rtelsmann/RCA (German): ~1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lers (for most mainstream labels, 80% of sales are generated by about 10 account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iance, Target, Anderson (WalMart), Tower, Best Buy, Trans World (Camelot, The Wall, Spec’s), Handleman, Valley Media, Musicland, Wherehouse/Blockbus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DBD-00A8-49B1-94F5-5972A2FFC5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sights about the WWW from clickstream da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urce: Media Metrix In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d Johnson, CE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vember 1999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3A5A-D60D-422F-8157-75A8EF38EC1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llecting the Clickstre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sing the PC Me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etrix: the PC Meter Comp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been collecting web data since July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ary of the NPD Group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syndicated data to more than 100 client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model organized around traditional advertising measures: reach and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F2B-C1A1-4A29-B3F6-A7C9F14B37B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208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1. Randomly Recruit A Panel of PC and Internet User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9240" y="2362320"/>
            <a:ext cx="8087400" cy="4263840"/>
            <a:chOff x="669240" y="2362320"/>
            <a:chExt cx="8087400" cy="4263840"/>
          </a:xfrm>
        </p:grpSpPr>
        <p:sp>
          <p:nvSpPr>
            <p:cNvPr id="381" name=""/>
            <p:cNvSpPr/>
            <p:nvPr/>
          </p:nvSpPr>
          <p:spPr>
            <a:xfrm>
              <a:off x="669240" y="2362320"/>
              <a:ext cx="489600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 # 3244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4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IBM Desktop, Pentium 2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4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17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2:  Compaq Presario, 35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14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3:  Dell Latitude Notebo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8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Mobile/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ston,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wn Single 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ite Collar/Administr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03920" y="4187880"/>
              <a:ext cx="47527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usehold# 9083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le, 6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 #1:  Gateway, PIII 400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male, 6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cation:  At Ho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come: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$35,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ography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dison, W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HSiz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me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nt, Multi-Family Dw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H Occ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782-9F41-4E04-A329-4D7A06DA686B}" type="slidenum">
              <a:t>72</a:t>
            </a:fld>
          </a:p>
        </p:txBody>
      </p:sp>
    </p:spTree>
  </p:cSld>
  <p:transition spd="med">
    <p:pull dir="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2080" y="1143000"/>
            <a:ext cx="743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2. Install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racking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 Software on 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Panelists’ Home &amp; Work PC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ETRENDS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3531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C81-A1EC-4588-9967-C52217579FED}" type="slidenum">
              <a:t>73</a:t>
            </a:fld>
          </a:p>
        </p:txBody>
      </p:sp>
    </p:spTree>
  </p:cSld>
  <p:transition spd="med">
    <p:pull dir="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752480" y="2260440"/>
            <a:ext cx="7391520" cy="4589280"/>
            <a:chOff x="1752480" y="2260440"/>
            <a:chExt cx="7391520" cy="4589280"/>
          </a:xfrm>
        </p:grpSpPr>
        <p:sp>
          <p:nvSpPr>
            <p:cNvPr id="387" name=""/>
            <p:cNvSpPr/>
            <p:nvPr/>
          </p:nvSpPr>
          <p:spPr>
            <a:xfrm>
              <a:off x="1752480" y="2260440"/>
              <a:ext cx="739152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TIME         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WEB SITE &amp; PAGE    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TOM S., Age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07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Login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42:54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Emai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38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:53:12 pm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merica Online - Today’s Headlin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6:44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6:57:25 pm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www.cnn.com/news-chica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00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6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re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7:03:58 pm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www.yahoo.com/travel/SanFrancis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4:58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05:00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7:15:24 pm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www.sfgate.com/entertainment/restau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:20:45 p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crosoft word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552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16200" y="3178080"/>
              <a:ext cx="2995560" cy="0"/>
            </a:xfrm>
            <a:prstGeom prst="line">
              <a:avLst/>
            </a:prstGeom>
            <a:ln w="1908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38280" y="380880"/>
            <a:ext cx="79106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03968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Software Gathers Data On Personal “Clickstreams” As Panelists Use Their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EC2-63A6-487E-95A3-C34A565BC156}" type="slidenum">
              <a:t>74</a:t>
            </a:fld>
          </a:p>
        </p:txBody>
      </p:sp>
    </p:spTree>
  </p:cSld>
  <p:transition spd="med">
    <p:pull dir="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99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How does the PCMeter work?</a:t>
            </a: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5f0066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4.  Data is Processed and Provided to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660066"/>
                </a:solidFill>
                <a:latin typeface="Tahoma"/>
              </a:rPr>
              <a:t>Clients Online and/or in Hard Copy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371600" y="2514600"/>
          <a:ext cx="65530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65530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F41-90BB-457D-B511-4DE5D777A5C2}" type="slidenum">
              <a:t>75</a:t>
            </a:fld>
          </a:p>
        </p:txBody>
      </p:sp>
    </p:spTree>
  </p:cSld>
  <p:transition spd="med">
    <p:pull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dia Metrix Cli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Media Metrix services over 500 industry leaders across 5 se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rketers &amp; Traditional Mark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929-42DE-40D7-BA0F-A6241657D8AD}" type="slidenum">
              <a:t>76</a:t>
            </a:fld>
          </a:p>
        </p:txBody>
      </p:sp>
    </p:spTree>
  </p:cSld>
  <p:transition spd="med">
    <p:pull dir="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6572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343400" y="4648320"/>
            <a:ext cx="1974600" cy="712440"/>
            <a:chOff x="4343400" y="4648320"/>
            <a:chExt cx="1974600" cy="712440"/>
          </a:xfrm>
        </p:grpSpPr>
        <p:sp>
          <p:nvSpPr>
            <p:cNvPr id="399" name=""/>
            <p:cNvSpPr/>
            <p:nvPr/>
          </p:nvSpPr>
          <p:spPr>
            <a:xfrm>
              <a:off x="4343400" y="4648320"/>
              <a:ext cx="1974600" cy="71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aol" descr=""/>
            <p:cNvPicPr/>
            <p:nvPr/>
          </p:nvPicPr>
          <p:blipFill>
            <a:blip r:embed="rId1"/>
            <a:srcRect l="0" t="0" r="79855" b="0"/>
            <a:stretch/>
          </p:blipFill>
          <p:spPr>
            <a:xfrm>
              <a:off x="4550760" y="4798800"/>
              <a:ext cx="1621440" cy="4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usatoday" descr=""/>
          <p:cNvPicPr/>
          <p:nvPr/>
        </p:nvPicPr>
        <p:blipFill>
          <a:blip r:embed="rId2"/>
          <a:stretch/>
        </p:blipFill>
        <p:spPr>
          <a:xfrm>
            <a:off x="3505320" y="5257800"/>
            <a:ext cx="1069920" cy="569880"/>
          </a:xfrm>
          <a:prstGeom prst="rect">
            <a:avLst/>
          </a:prstGeom>
          <a:ln w="0">
            <a:noFill/>
          </a:ln>
        </p:spPr>
      </p:pic>
      <p:pic>
        <p:nvPicPr>
          <p:cNvPr id="402" name="yahoo2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919160" cy="390600"/>
          </a:xfrm>
          <a:prstGeom prst="rect">
            <a:avLst/>
          </a:prstGeom>
          <a:ln w="0">
            <a:noFill/>
          </a:ln>
        </p:spPr>
      </p:pic>
      <p:pic>
        <p:nvPicPr>
          <p:cNvPr id="403" name="cnn_logo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924120" cy="715680"/>
          </a:xfrm>
          <a:prstGeom prst="rect">
            <a:avLst/>
          </a:prstGeom>
          <a:ln w="0">
            <a:noFill/>
          </a:ln>
        </p:spPr>
      </p:pic>
      <p:pic>
        <p:nvPicPr>
          <p:cNvPr id="404" name="infoseek" descr=""/>
          <p:cNvPicPr/>
          <p:nvPr/>
        </p:nvPicPr>
        <p:blipFill>
          <a:blip r:embed="rId5"/>
          <a:stretch/>
        </p:blipFill>
        <p:spPr>
          <a:xfrm>
            <a:off x="1676520" y="4724280"/>
            <a:ext cx="1898640" cy="527040"/>
          </a:xfrm>
          <a:prstGeom prst="rect">
            <a:avLst/>
          </a:prstGeom>
          <a:ln w="0">
            <a:noFill/>
          </a:ln>
        </p:spPr>
      </p:pic>
      <p:pic>
        <p:nvPicPr>
          <p:cNvPr id="405" name="zd" descr=""/>
          <p:cNvPicPr/>
          <p:nvPr/>
        </p:nvPicPr>
        <p:blipFill>
          <a:blip r:embed="rId6"/>
          <a:stretch/>
        </p:blipFill>
        <p:spPr>
          <a:xfrm>
            <a:off x="7924680" y="4876920"/>
            <a:ext cx="758880" cy="612720"/>
          </a:xfrm>
          <a:prstGeom prst="rect">
            <a:avLst/>
          </a:prstGeom>
          <a:ln w="0">
            <a:noFill/>
          </a:ln>
        </p:spPr>
      </p:pic>
      <p:pic>
        <p:nvPicPr>
          <p:cNvPr id="406" name="geocities" descr=""/>
          <p:cNvPicPr/>
          <p:nvPr/>
        </p:nvPicPr>
        <p:blipFill>
          <a:blip r:embed="rId7"/>
          <a:stretch/>
        </p:blipFill>
        <p:spPr>
          <a:xfrm>
            <a:off x="822960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07" name="wb" descr=""/>
          <p:cNvPicPr/>
          <p:nvPr/>
        </p:nvPicPr>
        <p:blipFill>
          <a:blip r:embed="rId8"/>
          <a:srcRect l="26279" t="0" r="21171" b="33697"/>
          <a:stretch/>
        </p:blipFill>
        <p:spPr>
          <a:xfrm>
            <a:off x="1828800" y="2895480"/>
            <a:ext cx="857160" cy="789120"/>
          </a:xfrm>
          <a:prstGeom prst="rect">
            <a:avLst/>
          </a:prstGeom>
          <a:ln w="0">
            <a:noFill/>
          </a:ln>
        </p:spPr>
      </p:pic>
      <p:pic>
        <p:nvPicPr>
          <p:cNvPr id="408" name="cnet" descr=""/>
          <p:cNvPicPr/>
          <p:nvPr/>
        </p:nvPicPr>
        <p:blipFill>
          <a:blip r:embed="rId9"/>
          <a:stretch/>
        </p:blipFill>
        <p:spPr>
          <a:xfrm>
            <a:off x="5715000" y="5867280"/>
            <a:ext cx="1028880" cy="79056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419720" y="6019920"/>
            <a:ext cx="1425600" cy="511200"/>
            <a:chOff x="4419720" y="6019920"/>
            <a:chExt cx="1425600" cy="511200"/>
          </a:xfrm>
        </p:grpSpPr>
        <p:sp>
          <p:nvSpPr>
            <p:cNvPr id="410" name=""/>
            <p:cNvSpPr/>
            <p:nvPr/>
          </p:nvSpPr>
          <p:spPr>
            <a:xfrm>
              <a:off x="4419720" y="6019920"/>
              <a:ext cx="140364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wallstreetjournal" descr=""/>
            <p:cNvPicPr/>
            <p:nvPr/>
          </p:nvPicPr>
          <p:blipFill>
            <a:blip r:embed="rId10"/>
            <a:srcRect l="36371" t="0" r="0" b="0"/>
            <a:stretch/>
          </p:blipFill>
          <p:spPr>
            <a:xfrm>
              <a:off x="4463640" y="6062040"/>
              <a:ext cx="138168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"/>
          <p:cNvSpPr/>
          <p:nvPr/>
        </p:nvSpPr>
        <p:spPr>
          <a:xfrm>
            <a:off x="2895480" y="3048120"/>
            <a:ext cx="1771920" cy="3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30360" y="228600"/>
            <a:ext cx="761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Media Metrix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dmbb" descr=""/>
          <p:cNvPicPr/>
          <p:nvPr/>
        </p:nvPicPr>
        <p:blipFill>
          <a:blip r:embed="rId11"/>
          <a:stretch/>
        </p:blipFill>
        <p:spPr>
          <a:xfrm>
            <a:off x="1981080" y="5410080"/>
            <a:ext cx="946440" cy="3492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3352680" y="4191120"/>
            <a:ext cx="1138320" cy="452160"/>
            <a:chOff x="3352680" y="4191120"/>
            <a:chExt cx="1138320" cy="452160"/>
          </a:xfrm>
        </p:grpSpPr>
        <p:sp>
          <p:nvSpPr>
            <p:cNvPr id="416" name=""/>
            <p:cNvSpPr/>
            <p:nvPr/>
          </p:nvSpPr>
          <p:spPr>
            <a:xfrm>
              <a:off x="3352680" y="4191120"/>
              <a:ext cx="1138320" cy="452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>
              <a:off x="3398040" y="4237920"/>
              <a:ext cx="1001880" cy="34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netscape" descr=""/>
          <p:cNvPicPr/>
          <p:nvPr/>
        </p:nvPicPr>
        <p:blipFill>
          <a:blip r:embed="rId13"/>
          <a:stretch/>
        </p:blipFill>
        <p:spPr>
          <a:xfrm>
            <a:off x="7086600" y="27432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9" name="ibm" descr=""/>
          <p:cNvPicPr/>
          <p:nvPr/>
        </p:nvPicPr>
        <p:blipFill>
          <a:blip r:embed="rId14"/>
          <a:srcRect l="0" t="0" r="82729" b="0"/>
          <a:stretch/>
        </p:blipFill>
        <p:spPr>
          <a:xfrm>
            <a:off x="5257800" y="2057400"/>
            <a:ext cx="1279440" cy="701640"/>
          </a:xfrm>
          <a:prstGeom prst="rect">
            <a:avLst/>
          </a:prstGeom>
          <a:ln w="0">
            <a:noFill/>
          </a:ln>
        </p:spPr>
      </p:pic>
      <p:pic>
        <p:nvPicPr>
          <p:cNvPr id="420" name="mslogo" descr=""/>
          <p:cNvPicPr/>
          <p:nvPr/>
        </p:nvPicPr>
        <p:blipFill>
          <a:blip r:embed="rId15"/>
          <a:stretch/>
        </p:blipFill>
        <p:spPr>
          <a:xfrm>
            <a:off x="6576840" y="1905120"/>
            <a:ext cx="2567160" cy="917280"/>
          </a:xfrm>
          <a:prstGeom prst="rect">
            <a:avLst/>
          </a:prstGeom>
          <a:ln w="0">
            <a:noFill/>
          </a:ln>
        </p:spPr>
      </p:pic>
      <p:pic>
        <p:nvPicPr>
          <p:cNvPr id="421" name="merrill" descr=""/>
          <p:cNvPicPr/>
          <p:nvPr/>
        </p:nvPicPr>
        <p:blipFill>
          <a:blip r:embed="rId16"/>
          <a:stretch/>
        </p:blipFill>
        <p:spPr>
          <a:xfrm>
            <a:off x="4800600" y="5334120"/>
            <a:ext cx="1817640" cy="493560"/>
          </a:xfrm>
          <a:prstGeom prst="rect">
            <a:avLst/>
          </a:prstGeom>
          <a:ln w="0">
            <a:noFill/>
          </a:ln>
        </p:spPr>
      </p:pic>
      <p:pic>
        <p:nvPicPr>
          <p:cNvPr id="422" name="intuit_logo_new" descr=""/>
          <p:cNvPicPr/>
          <p:nvPr/>
        </p:nvPicPr>
        <p:blipFill>
          <a:blip r:embed="rId17"/>
          <a:stretch/>
        </p:blipFill>
        <p:spPr>
          <a:xfrm>
            <a:off x="7086600" y="3809880"/>
            <a:ext cx="1706400" cy="3747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8"/>
          <a:stretch/>
        </p:blipFill>
        <p:spPr>
          <a:xfrm>
            <a:off x="1676520" y="3809880"/>
            <a:ext cx="1361880" cy="766800"/>
          </a:xfrm>
          <a:prstGeom prst="rect">
            <a:avLst/>
          </a:prstGeom>
          <a:ln w="0">
            <a:noFill/>
          </a:ln>
        </p:spPr>
      </p:pic>
      <p:pic>
        <p:nvPicPr>
          <p:cNvPr id="424" name="amazon" descr=""/>
          <p:cNvPicPr/>
          <p:nvPr/>
        </p:nvPicPr>
        <p:blipFill>
          <a:blip r:embed="rId19"/>
          <a:stretch/>
        </p:blipFill>
        <p:spPr>
          <a:xfrm>
            <a:off x="1828800" y="1523880"/>
            <a:ext cx="1959120" cy="536760"/>
          </a:xfrm>
          <a:prstGeom prst="rect">
            <a:avLst/>
          </a:prstGeom>
          <a:ln w="0">
            <a:noFill/>
          </a:ln>
        </p:spPr>
      </p:pic>
      <p:pic>
        <p:nvPicPr>
          <p:cNvPr id="425" name="ebay" descr=""/>
          <p:cNvPicPr/>
          <p:nvPr/>
        </p:nvPicPr>
        <p:blipFill>
          <a:blip r:embed="rId20"/>
          <a:stretch/>
        </p:blipFill>
        <p:spPr>
          <a:xfrm>
            <a:off x="1828800" y="2286000"/>
            <a:ext cx="1163520" cy="423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1"/>
          <a:stretch/>
        </p:blipFill>
        <p:spPr>
          <a:xfrm>
            <a:off x="6095880" y="1523880"/>
            <a:ext cx="2793960" cy="446040"/>
          </a:xfrm>
          <a:prstGeom prst="rect">
            <a:avLst/>
          </a:prstGeom>
          <a:ln w="0">
            <a:noFill/>
          </a:ln>
        </p:spPr>
      </p:pic>
      <p:pic>
        <p:nvPicPr>
          <p:cNvPr id="427" name="y&amp;r" descr=""/>
          <p:cNvPicPr/>
          <p:nvPr/>
        </p:nvPicPr>
        <p:blipFill>
          <a:blip r:embed="rId22"/>
          <a:stretch/>
        </p:blipFill>
        <p:spPr>
          <a:xfrm>
            <a:off x="5791320" y="4343400"/>
            <a:ext cx="1892160" cy="32868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6248520" y="4724280"/>
            <a:ext cx="1699920" cy="1043640"/>
            <a:chOff x="6248520" y="4724280"/>
            <a:chExt cx="1699920" cy="1043640"/>
          </a:xfrm>
        </p:grpSpPr>
        <p:pic>
          <p:nvPicPr>
            <p:cNvPr id="429" name="quantumleap" descr=""/>
            <p:cNvPicPr/>
            <p:nvPr/>
          </p:nvPicPr>
          <p:blipFill>
            <a:blip r:embed="rId23"/>
            <a:stretch/>
          </p:blipFill>
          <p:spPr>
            <a:xfrm>
              <a:off x="6248520" y="4724280"/>
              <a:ext cx="1699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635160" y="5308920"/>
              <a:ext cx="124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Quantum Le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ABClogo_home" descr=""/>
          <p:cNvPicPr/>
          <p:nvPr/>
        </p:nvPicPr>
        <p:blipFill>
          <a:blip r:embed="rId24"/>
          <a:stretch/>
        </p:blipFill>
        <p:spPr>
          <a:xfrm>
            <a:off x="3429000" y="2133720"/>
            <a:ext cx="1542960" cy="645840"/>
          </a:xfrm>
          <a:prstGeom prst="rect">
            <a:avLst/>
          </a:prstGeom>
          <a:ln w="0">
            <a:noFill/>
          </a:ln>
        </p:spPr>
      </p:pic>
      <p:pic>
        <p:nvPicPr>
          <p:cNvPr id="432" name="cbs" descr=""/>
          <p:cNvPicPr/>
          <p:nvPr/>
        </p:nvPicPr>
        <p:blipFill>
          <a:blip r:embed="rId25"/>
          <a:stretch/>
        </p:blipFill>
        <p:spPr>
          <a:xfrm>
            <a:off x="5638680" y="3048120"/>
            <a:ext cx="1078200" cy="647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6"/>
          <a:stretch/>
        </p:blipFill>
        <p:spPr>
          <a:xfrm>
            <a:off x="1676520" y="5943600"/>
            <a:ext cx="2654280" cy="4381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7"/>
          <a:stretch/>
        </p:blipFill>
        <p:spPr>
          <a:xfrm>
            <a:off x="6934320" y="5943600"/>
            <a:ext cx="1974600" cy="4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BC9-CF78-483E-9C4F-E5673312BCAD}" type="slidenum">
              <a:t>77</a:t>
            </a:fld>
          </a:p>
        </p:txBody>
      </p:sp>
    </p:spTree>
  </p:cSld>
  <p:transition spd="med"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ent Applications &amp; Benefi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26912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Clients are Using Media Metrix Services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n, Buy &amp; Sell Digital Media Adverti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stand Consumer Behavi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in Marketplace &amp; Competitive Intellig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Product, Marketing &amp; Advertising Strategy Develop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porate Benchma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is for Partnership Alliance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964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With The Financial Commun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61200" indent="0">
              <a:spcBef>
                <a:spcPts val="96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do we learn from clickstream data about the digital landscap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p 10 Less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B31B-838B-4063-BC1E-B5DF60357EC8}" type="slidenum">
              <a:t>79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venue from a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2.99₤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22520" y="2062080"/>
          <a:ext cx="7219800" cy="39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062080"/>
                    <a:ext cx="721980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968440" y="5562720"/>
            <a:ext cx="24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urces: Financial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ic and 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38B-EEE2-4677-A618-31D39129BA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rnet:  Then &amp; No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267080" y="1905120"/>
            <a:ext cx="1295640" cy="82872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D14B-E9F1-4573-BA57-852810293E6B}" type="slidenum">
              <a:t>80</a:t>
            </a:fld>
          </a:p>
        </p:txBody>
      </p:sp>
    </p:spTree>
  </p:cSld>
  <p:transition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116-F702-4409-A3D5-9BF3D0761ED7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Top Fifteen WWW Site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2099520" y="1676520"/>
            <a:ext cx="22572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January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BCRAWLER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INFOSEEK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ODIGY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OMPUSERV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UMICH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RIMENE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EL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MU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N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COM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T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ELE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1676520"/>
            <a:ext cx="34290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Sept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YAHOO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AO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S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NETSCAP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MICROSOF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GEOCITIE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66"/>
                </a:solidFill>
                <a:latin typeface="Tahoma"/>
              </a:rPr>
              <a:t>GO.COM (Disney/Infoseek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CIT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HOTMAI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LYCOS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PASSPOR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MAZON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ANGELFIRE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RIPOD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EAL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438-78B1-4555-8483-1496F6CD8E32}" type="slidenum">
              <a:t>82</a:t>
            </a:fld>
          </a:p>
        </p:txBody>
      </p:sp>
    </p:spTree>
  </p:cSld>
  <p:transition>
    <p:blinds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Net Has Gone “Mas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3E5F-D266-4CAA-A58E-DA4ADAA29C8F}" type="slidenum">
              <a:t>83</a:t>
            </a:fld>
          </a:p>
        </p:txBody>
      </p:sp>
    </p:spTree>
  </p:cSld>
  <p:transition>
    <p:pull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220760" y="1905120"/>
          <a:ext cx="79218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905120"/>
                    <a:ext cx="79218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Share of Total Users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6858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Gender Gap Has Narr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664-1762-4D83-9F44-A07A5639E73D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ush for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155A-FFB0-44FE-9796-48A1676F022C}" type="slidenum">
              <a:t>85</a:t>
            </a:fld>
          </a:p>
        </p:txBody>
      </p:sp>
    </p:spTree>
  </p:cSld>
  <p:transition>
    <p:pull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19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832-B64D-4938-B29E-C6720C99DF6A}" type="slidenum">
              <a:t>86</a:t>
            </a:fld>
          </a:p>
        </p:txBody>
      </p:sp>
    </p:spTree>
  </p:cSld>
  <p:transition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619280" y="2133360"/>
            <a:ext cx="75247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rmAutofit/>
          </a:bodyPr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. 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7.9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 Microsoft Si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3.   Yahoo Sit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27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 Ly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6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5.   Geocities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19.0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6.   Netscape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7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7.   Excite Network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6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8.   Buena Vista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3.6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9.   Infoseek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9966ff"/>
                </a:solidFill>
                <a:latin typeface="Verdana"/>
              </a:rPr>
              <a:t>12.5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0. BluemountainArts 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339966"/>
                </a:solidFill>
                <a:latin typeface="Verdana"/>
              </a:rPr>
              <a:t>12.3 Mill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084320" y="6342120"/>
            <a:ext cx="764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dia Metrix WWW Audience Ratings Report Monthly Reach - 2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ame Digital Media Properties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ptember 1999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143240" y="2514600"/>
            <a:ext cx="3476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solidation!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01C-AE09-49F6-8029-8654E7BD7B6D}" type="slidenum">
              <a:t>87</a:t>
            </a:fld>
          </a:p>
        </p:txBody>
      </p:sp>
    </p:spTree>
  </p:cSld>
  <p:transition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rowing Beyond Rea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114800" y="1905120"/>
            <a:ext cx="221004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4201-B0E8-4037-9424-4A33E4F03B8B}" type="slidenum">
              <a:t>88</a:t>
            </a:fld>
          </a:p>
        </p:txBody>
      </p:sp>
    </p:spTree>
  </p:cSld>
  <p:transition>
    <p:pull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urce of Internet Grow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15920" y="1886040"/>
          <a:ext cx="7067520" cy="38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1886040"/>
                    <a:ext cx="706752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2423520" y="54864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68400" y="5486400"/>
            <a:ext cx="10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60400" y="548640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Sp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2120" y="237348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vs. 9/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E62-E8A1-4CBF-9575-5C34F0CE58DB}" type="slidenum">
              <a:t>89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fitabil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ed Music (86% at EM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Releases (52%, 5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 Catalog (34%, 10% return on s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Publishing (14%, 36% return on sa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: Reproductions on record, cassette, CD, video (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: Public, Radio, TV (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: Film Soundtrack or TV commercial (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7E3-95E1-45E9-B557-C33585481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ickiness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Cou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CD20-6466-4280-A2C1-9C28193B7F14}" type="slidenum">
              <a:t>90</a:t>
            </a:fld>
          </a:p>
        </p:txBody>
      </p:sp>
    </p:spTree>
  </p:cSld>
  <p:transition>
    <p:pull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*Stickiest* Si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Black"/>
              </a:rPr>
              <a:t>Average Time Per Visitor Per Da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5120" y="1517400"/>
            <a:ext cx="72388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  AOL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48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LYCOSCHA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6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  POGO NETWOR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32.1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.  GAMESVILL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7.3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MPLAYER. 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6.4 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.  PRIZEPOINT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6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.  EBAY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2.5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.  UPROAR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20.4 Minut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.  VOYEURWEB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8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. FREERIDE.CO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cc0066"/>
                </a:solidFill>
                <a:latin typeface="Verdana"/>
              </a:rPr>
              <a:t>19.2 Min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6248520"/>
            <a:ext cx="764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: Media Metrix WWW Audience Ratings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erage Minutes Per Month Per Person 8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FE6-A5C0-4145-8513-C7A36119616D}" type="slidenum">
              <a:t>91</a:t>
            </a:fld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Growt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5AFC-D85D-46B2-8440-89A78AF08206}" type="slidenum">
              <a:t>92</a:t>
            </a:fld>
          </a:p>
        </p:txBody>
      </p:sp>
    </p:spTree>
  </p:cSld>
  <p:transition>
    <p:pull dir="r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523880" y="1676520"/>
          <a:ext cx="7086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7086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1854360" y="5792760"/>
            <a:ext cx="235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ories   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22320" y="5462640"/>
            <a:ext cx="223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ult Content    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9240" y="5132520"/>
            <a:ext cx="83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6320" y="4800600"/>
            <a:ext cx="229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’t                      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39680" y="4495680"/>
            <a:ext cx="28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        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4360" y="4178160"/>
            <a:ext cx="403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net Service Providers            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79560" y="38512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9240" y="3822840"/>
            <a:ext cx="388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Services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49840" y="3522600"/>
            <a:ext cx="39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pping                                        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47160" y="3200400"/>
            <a:ext cx="444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ercial Online Services                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45160" y="2897280"/>
            <a:ext cx="451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arch Engines                                         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360" y="2552760"/>
            <a:ext cx="533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porate/Marketing                                      8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51840" y="2209680"/>
            <a:ext cx="54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s/Information/Entertainment                       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6960" y="5183280"/>
            <a:ext cx="403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Reach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6524640"/>
            <a:ext cx="616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 Web Report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Penetr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3349440" y="144000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% Audience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95320" y="51498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52A-6965-4673-A0FB-C0C022A88461}" type="slidenum">
              <a:t>93</a:t>
            </a:fld>
          </a:p>
        </p:txBody>
      </p:sp>
    </p:spTree>
  </p:cSld>
  <p:transition spd="slow">
    <p:blinds dir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tegory % Grow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3200" spc="-1" strike="noStrike">
                <a:solidFill>
                  <a:srgbClr val="cc0066"/>
                </a:solidFill>
                <a:latin typeface="Arial Black"/>
              </a:rPr>
              <a:t>9/98 to 9/99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604880" y="1960560"/>
          <a:ext cx="7264440" cy="41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960560"/>
                    <a:ext cx="726444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9E4-508A-4228-9FF4-05FD94E68947}" type="slidenum">
              <a:t>94</a:t>
            </a:fld>
          </a:p>
        </p:txBody>
      </p:sp>
    </p:spTree>
  </p:cSld>
  <p:transition>
    <p:blinds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World Is Dominated By U.S. Multi-Nation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266720" y="1905120"/>
            <a:ext cx="129600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71C5-15E9-41B8-B942-A56B8F885546}" type="slidenum">
              <a:t>95</a:t>
            </a:fld>
          </a:p>
        </p:txBody>
      </p:sp>
    </p:spTree>
  </p:cSld>
  <p:transition>
    <p:pull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solidated Landscape Of Global Brands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alphabetical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2438280" y="3733920"/>
            <a:ext cx="5486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5E7-4C25-4FA0-973E-12D2C0936945}" type="slidenum">
              <a:t>96</a:t>
            </a:fld>
          </a:p>
        </p:txBody>
      </p:sp>
    </p:spTree>
  </p:cSld>
  <p:transition>
    <p:pull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vergence Watc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266720" y="1905120"/>
            <a:ext cx="1676880" cy="829080"/>
          </a:xfrm>
          <a:prstGeom prst="rect">
            <a:avLst/>
          </a:prstGeom>
          <a:solidFill>
            <a:srgbClr val="cc0066"/>
          </a:solidFill>
          <a:ln w="12600">
            <a:solidFill>
              <a:srgbClr val="000000"/>
            </a:solidFill>
            <a:miter/>
          </a:ln>
          <a:effectLst>
            <a:outerShdw dist="45929" dir="2028877" blurRad="0" rotWithShape="0">
              <a:srgbClr val="9999ff"/>
            </a:outerShdw>
          </a:effectLst>
        </p:spPr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4B02-9639-4135-9292-4FE054ECFD50}" type="slidenum">
              <a:t>97</a:t>
            </a:fld>
          </a:p>
        </p:txBody>
      </p:sp>
    </p:spTree>
  </p:cSld>
  <p:transition>
    <p:pull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219320" y="1709640"/>
          <a:ext cx="761976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09640"/>
                    <a:ext cx="761976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 flipV="1">
            <a:off x="3963960" y="2251080"/>
            <a:ext cx="0" cy="31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261120" y="2250720"/>
            <a:ext cx="0" cy="31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4000" y="1954080"/>
            <a:ext cx="15829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01000" y="3276720"/>
            <a:ext cx="1662120" cy="51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ondensed Bold"/>
              </a:rPr>
              <a:t>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560" y="6372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ourly Incidence - U.S. 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157788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2" marL="1201680" indent="-2840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of Day People Use Digit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ternet Usage by Time of Da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220-94B6-4797-8C28-D61253FEDD32}" type="slidenum">
              <a:t>98</a:t>
            </a:fld>
          </a:p>
        </p:txBody>
      </p:sp>
    </p:spTree>
  </p:cSld>
  <p:transition>
    <p:randomBar dir="horz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219320" y="2133720"/>
          <a:ext cx="79246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924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692280" y="2408400"/>
            <a:ext cx="20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6248520"/>
            <a:ext cx="706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e39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:  Media Me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% of Household PCs With TV Tuner Capability - </a:t>
            </a: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April 1999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382-C656-4E58-8891-2B1E706171A8}" type="slidenum">
              <a:t>9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2T14:13:11Z</dcterms:created>
  <dc:creator>Alan Montgomery</dc:creator>
  <dc:description/>
  <dc:language>en-US</dc:language>
  <cp:lastModifiedBy>John T Grasso</cp:lastModifiedBy>
  <cp:lastPrinted>2000-03-15T12:54:50Z</cp:lastPrinted>
  <dcterms:modified xsi:type="dcterms:W3CDTF">2000-09-11T11:44:37Z</dcterms:modified>
  <cp:revision>107</cp:revision>
  <dc:subject/>
  <dc:title>Today’s Objectives</dc:title>
</cp:coreProperties>
</file>