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1.xml.rels" ContentType="application/vnd.openxmlformats-package.relationships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media/image54.wmf" ContentType="image/x-wmf"/>
  <Override PartName="/ppt/media/image51.png" ContentType="image/png"/>
  <Override PartName="/ppt/media/image49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20.png" ContentType="image/png"/>
  <Override PartName="/ppt/media/image58.wmf" ContentType="image/x-wmf"/>
  <Override PartName="/ppt/media/image2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28.wmf" ContentType="image/x-wmf"/>
  <Override PartName="/ppt/media/image30.png" ContentType="image/png"/>
  <Override PartName="/ppt/media/image25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87.png" ContentType="image/png"/>
  <Override PartName="/ppt/media/image74.wmf" ContentType="image/x-wmf"/>
  <Override PartName="/ppt/media/image84.wmf" ContentType="image/x-wmf"/>
  <Override PartName="/ppt/media/image83.wmf" ContentType="image/x-wmf"/>
  <Override PartName="/ppt/media/image70.jpeg" ContentType="image/jpeg"/>
  <Override PartName="/ppt/media/image35.png" ContentType="image/png"/>
  <Override PartName="/ppt/media/image72.png" ContentType="image/png"/>
  <Override PartName="/ppt/media/image6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88.png" ContentType="image/png"/>
  <Override PartName="/ppt/media/image73.wmf" ContentType="image/x-wmf"/>
  <Override PartName="/ppt/media/image33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57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55.wmf" ContentType="image/x-wmf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81.wmf" ContentType="image/x-wmf"/>
  <Override PartName="/ppt/media/image4.wmf" ContentType="image/x-wmf"/>
  <Override PartName="/ppt/media/image82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1BA-D6BC-470D-B661-9E0AB2871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7CB-39C1-4F72-BBEB-8F240C80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6EE8-C611-40E8-A705-22ACCD01E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E91-2408-4B37-9B4D-E015B862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8CF-B934-4254-8E06-A16C54D0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040-635C-49D8-999C-56F5076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0C0-6C97-4618-853B-54147307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F7B-A464-4A97-9E71-1E2ABA1A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781A-86F9-49CA-AD10-1109B892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89DE-2A99-4F45-8DEC-311A9BF8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30EF-AAB8-43F1-A9BE-B3142546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27BF-54E0-4C1B-AB6E-3F682CD0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6F95-C36F-498C-BB17-CA44A7FB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44C8-AB71-4C82-8271-A6F2EDAB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621D-5EBA-4BD2-9F75-51DEAF2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5A7-1B2B-4AC3-85F1-CF200FE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A62C-6114-4066-93E3-B07349B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4870-0D64-4635-9086-96BF93B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CC66-7FDE-47AB-8991-327D08B3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C37C-7199-4F6A-ABD6-D3ADFBE0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648E-60E4-457D-A6DC-01C8100A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0AC-2818-4278-927D-8F291D9C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2D5-F5EC-47E8-844C-0C71D02D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493-EA02-4B54-9562-2E299098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90D-86F3-44DD-9179-5B93CDFD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2FF-0CE5-481E-872E-9F5F3094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428-32D2-4F19-B07C-51B419D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391-E3EC-4833-B560-323CEC9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EF19-899B-450C-AAF3-C81F80D0BB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1C70-C661-4B04-8C9D-913AC0AA00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arch.npr.org/cf/cmn/cmnps05fm.cfm?SegID=24726" TargetMode="External"/><Relationship Id="rId2" Type="http://schemas.openxmlformats.org/officeDocument/2006/relationships/hyperlink" Target="http://search.npr.org/cf/cmn/cmnps05fm.cfm?SegID=50252" TargetMode="External"/><Relationship Id="rId3" Type="http://schemas.openxmlformats.org/officeDocument/2006/relationships/hyperlink" Target="http://search.npr.org/cf/cmn/cmnps05fm.cfm?SegID=54444" TargetMode="External"/><Relationship Id="rId4" Type="http://schemas.openxmlformats.org/officeDocument/2006/relationships/hyperlink" Target="http://search.npr.org/cf/cmn/cmnps05fm.cfm?SegID=66642" TargetMode="External"/><Relationship Id="rId5" Type="http://schemas.openxmlformats.org/officeDocument/2006/relationships/hyperlink" Target="http://search.npr.org/cf/cmn/cmnps05fm.cfm?SegID=69540" TargetMode="External"/><Relationship Id="rId6" Type="http://schemas.openxmlformats.org/officeDocument/2006/relationships/hyperlink" Target="http://search.npr.org/cf/cmn/cmnps05fm.cfm?SegID=69995" TargetMode="External"/><Relationship Id="rId7" Type="http://schemas.openxmlformats.org/officeDocument/2006/relationships/hyperlink" Target="http://search.npr.org/cf/cmn/cmnps05fm.cfm?SegID=69995" TargetMode="External"/><Relationship Id="rId8" Type="http://schemas.openxmlformats.org/officeDocument/2006/relationships/hyperlink" Target="http://search.npr.org/cf/cmn/cmnps05fm.cfm?SegID=69995" TargetMode="External"/><Relationship Id="rId9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jpe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jpe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s.com/News/Item/0,4,37160,00.html" TargetMode="External"/><Relationship Id="rId2" Type="http://schemas.openxmlformats.org/officeDocument/2006/relationships/hyperlink" Target="http://www.news.com/News/Item/0,4,37160,00.html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veyd.com/FullArticles/articleN8.asp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wmf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wmf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wmf"/><Relationship Id="rId22" Type="http://schemas.openxmlformats.org/officeDocument/2006/relationships/image" Target="../media/image50.jpe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wmf"/><Relationship Id="rId27" Type="http://schemas.openxmlformats.org/officeDocument/2006/relationships/image" Target="../media/image55.wmf"/><Relationship Id="rId2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7467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Montgome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e School of Industrial Administr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alan.montgomery@cmu.edu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43F-AA9F-45F5-B082-A8FB964522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P3’s Impa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 the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Downloading CD Quality Music: Morning Edition, Aug 31,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MP3: The Music industry is in an uproar, Talk of the Nation, May 19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MP3 - Music Business: Secure Digital Music Initial (SMDI), All Things Considered, July 23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MP3 Players: Morning Edition, Nov 15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MP3.com Lawsuit: Jan 2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MP3’s on Campus: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Napster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, Feb 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762-2291-41A8-A110-B20A6965C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058840" y="1982880"/>
          <a:ext cx="682308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1982880"/>
                    <a:ext cx="682308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C &amp; TV In the Same Room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F93-E40E-47B8-9099-62A6697FC625}" type="slidenum">
              <a:t>100</a:t>
            </a:fld>
          </a:p>
        </p:txBody>
      </p:sp>
    </p:spTree>
  </p:cSld>
  <p:transition>
    <p:split dir="out" orient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ffline Advertising Does Impact Online Us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267080" y="1905120"/>
            <a:ext cx="14482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ECEF-7C8D-4DDE-8CB9-2CEE32D8B9B9}" type="slidenum">
              <a:t>101</a:t>
            </a:fld>
          </a:p>
        </p:txBody>
      </p:sp>
    </p:spTree>
  </p:cSld>
  <p:transition>
    <p:pull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2485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7920" y="685440"/>
            <a:ext cx="76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ctoria’s Secr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-- Not a secret anymo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8800" y="236232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5486400" y="137160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hion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60680" y="6324480"/>
            <a:ext cx="22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13C-6081-4A31-8063-FC9E8EE1B60F}" type="slidenum">
              <a:t>102</a:t>
            </a:fld>
          </a:p>
        </p:txBody>
      </p:sp>
    </p:spTree>
  </p:cSld>
  <p:transition spd="med">
    <p:blinds dir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es Can Come Out of Nowhe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1905120"/>
            <a:ext cx="20574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13D0-2481-44A2-8332-C8DA9DC68FF0}" type="slidenum">
              <a:t>103</a:t>
            </a:fld>
          </a:p>
        </p:txBody>
      </p:sp>
    </p:spTree>
  </p:cSld>
  <p:transition>
    <p:pull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p-and-Comers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Hitting the Radar Scre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648320" y="5867280"/>
          <a:ext cx="370188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867280"/>
                    <a:ext cx="37018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010200" y="2362320"/>
          <a:ext cx="3133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0200" y="2362320"/>
                    <a:ext cx="313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2193840" cy="762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1523880" y="2133720"/>
            <a:ext cx="2203560" cy="7588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5791320" y="4419720"/>
            <a:ext cx="2660400" cy="1222200"/>
          </a:xfrm>
          <a:prstGeom prst="rect">
            <a:avLst/>
          </a:prstGeom>
          <a:ln w="0">
            <a:noFill/>
          </a:ln>
        </p:spPr>
      </p:pic>
      <p:pic>
        <p:nvPicPr>
          <p:cNvPr id="547" name="webmd" descr=""/>
          <p:cNvPicPr/>
          <p:nvPr/>
        </p:nvPicPr>
        <p:blipFill>
          <a:blip r:embed="rId8"/>
          <a:stretch/>
        </p:blipFill>
        <p:spPr>
          <a:xfrm>
            <a:off x="3809880" y="1752480"/>
            <a:ext cx="2133720" cy="933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1752480" y="4648320"/>
            <a:ext cx="3181320" cy="504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3200400" y="3352680"/>
            <a:ext cx="365760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3F5-A5DB-4C13-BB2F-8CF3968CE8B6}" type="slidenum">
              <a:t>104</a:t>
            </a:fld>
          </a:p>
        </p:txBody>
      </p:sp>
    </p:spTree>
  </p:cSld>
  <p:transition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arning about E-Comme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om Media Met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7F11-1D24-4EE3-B993-E1ACBAA17A1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440" y="447840"/>
            <a:ext cx="7772400" cy="92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523880" y="1981080"/>
          <a:ext cx="748188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8188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1239840" y="6157800"/>
            <a:ext cx="729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 Media Metrix % Reach of Top U.S. Shopping Site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47880" y="533520"/>
            <a:ext cx="729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10 Shopping Sites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8FA-536B-4193-9C4A-AE7592A13158}" type="slidenum">
              <a:t>106</a:t>
            </a:fld>
          </a:p>
        </p:txBody>
      </p:sp>
    </p:spTree>
  </p:cSld>
  <p:transition>
    <p:blinds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asuring Potential Buyers</a:t>
            </a:r>
            <a:br>
              <a:rPr sz="3200"/>
            </a:br>
            <a:r>
              <a:rPr b="0" lang="en-US" sz="2800" spc="-1" strike="noStrike">
                <a:solidFill>
                  <a:srgbClr val="cc0066"/>
                </a:solidFill>
                <a:latin typeface="Arial Black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436760" y="1676520"/>
          <a:ext cx="770724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76520"/>
                    <a:ext cx="770724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1" name="landsend" descr=""/>
          <p:cNvPicPr/>
          <p:nvPr/>
        </p:nvPicPr>
        <p:blipFill>
          <a:blip r:embed="rId3"/>
          <a:srcRect l="50017" t="0" r="0" b="0"/>
          <a:stretch/>
        </p:blipFill>
        <p:spPr>
          <a:xfrm>
            <a:off x="7315200" y="533412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562" name="gap" descr=""/>
          <p:cNvPicPr/>
          <p:nvPr/>
        </p:nvPicPr>
        <p:blipFill>
          <a:blip r:embed="rId4"/>
          <a:srcRect l="0" t="0" r="12509" b="0"/>
          <a:stretch/>
        </p:blipFill>
        <p:spPr>
          <a:xfrm>
            <a:off x="6629400" y="5334120"/>
            <a:ext cx="533520" cy="542880"/>
          </a:xfrm>
          <a:prstGeom prst="rect">
            <a:avLst/>
          </a:prstGeom>
          <a:ln w="0">
            <a:noFill/>
          </a:ln>
        </p:spPr>
      </p:pic>
      <p:pic>
        <p:nvPicPr>
          <p:cNvPr id="563" name="victoria" descr=""/>
          <p:cNvPicPr/>
          <p:nvPr/>
        </p:nvPicPr>
        <p:blipFill>
          <a:blip r:embed="rId5"/>
          <a:srcRect l="0" t="0" r="0" b="6454"/>
          <a:stretch/>
        </p:blipFill>
        <p:spPr>
          <a:xfrm>
            <a:off x="5562720" y="5410080"/>
            <a:ext cx="761760" cy="747720"/>
          </a:xfrm>
          <a:prstGeom prst="rect">
            <a:avLst/>
          </a:prstGeom>
          <a:ln w="0">
            <a:noFill/>
          </a:ln>
        </p:spPr>
      </p:pic>
      <p:pic>
        <p:nvPicPr>
          <p:cNvPr id="564" name="eddiebauer" descr=""/>
          <p:cNvPicPr/>
          <p:nvPr/>
        </p:nvPicPr>
        <p:blipFill>
          <a:blip r:embed="rId6"/>
          <a:srcRect l="2304" t="15229" r="25389" b="38428"/>
          <a:stretch/>
        </p:blipFill>
        <p:spPr>
          <a:xfrm>
            <a:off x="3886200" y="5334120"/>
            <a:ext cx="1600200" cy="271440"/>
          </a:xfrm>
          <a:prstGeom prst="rect">
            <a:avLst/>
          </a:prstGeom>
          <a:ln w="0">
            <a:noFill/>
          </a:ln>
        </p:spPr>
      </p:pic>
      <p:pic>
        <p:nvPicPr>
          <p:cNvPr id="565" name="llbean" descr=""/>
          <p:cNvPicPr/>
          <p:nvPr/>
        </p:nvPicPr>
        <p:blipFill>
          <a:blip r:embed="rId7"/>
          <a:srcRect l="0" t="0" r="69482" b="0"/>
          <a:stretch/>
        </p:blipFill>
        <p:spPr>
          <a:xfrm>
            <a:off x="2895480" y="5334120"/>
            <a:ext cx="914400" cy="318960"/>
          </a:xfrm>
          <a:prstGeom prst="rect">
            <a:avLst/>
          </a:prstGeom>
          <a:ln w="0">
            <a:noFill/>
          </a:ln>
        </p:spPr>
      </p:pic>
      <p:pic>
        <p:nvPicPr>
          <p:cNvPr id="566" name="jcrew" descr=""/>
          <p:cNvPicPr/>
          <p:nvPr/>
        </p:nvPicPr>
        <p:blipFill>
          <a:blip r:embed="rId8"/>
          <a:srcRect l="0" t="0" r="73656" b="50067"/>
          <a:stretch/>
        </p:blipFill>
        <p:spPr>
          <a:xfrm>
            <a:off x="1371600" y="5334120"/>
            <a:ext cx="1442880" cy="266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523880" y="61722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Media Metrix, Dec.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EA1-1634-4564-A638-5AE02FD7950D}" type="slidenum">
              <a:t>107</a:t>
            </a:fld>
          </a:p>
        </p:txBody>
      </p:sp>
    </p:spTree>
  </p:cSld>
  <p:transition spd="med">
    <p:pull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447920" y="2381400"/>
          <a:ext cx="847728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772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63A-A294-45C6-9823-1689CF498B9C}" type="slidenum">
              <a:t>108</a:t>
            </a:fld>
          </a:p>
        </p:txBody>
      </p:sp>
    </p:spTree>
  </p:cSld>
  <p:transition spd="med">
    <p:pull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447920" y="2381400"/>
          <a:ext cx="849636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963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A61-611B-4808-AA3F-3311AF27D961}" type="slidenum">
              <a:t>109</a:t>
            </a:fld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ill the Internet Effect Traditional Marketing Tool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The death of traditional marketing(?|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3127-1FC6-41C5-918D-F484E8FE45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B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371600" y="2476440"/>
          <a:ext cx="800100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76440"/>
                    <a:ext cx="80010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FD4-1D6B-4712-B9F4-5D112426380B}" type="slidenum">
              <a:t>110</a:t>
            </a:fld>
          </a:p>
        </p:txBody>
      </p:sp>
    </p:spTree>
  </p:cSld>
  <p:transition spd="med">
    <p:pull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22240" y="1980720"/>
            <a:ext cx="742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Type Of E-Commerce Sites Are Showing The Most And The Least Growth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B114-F9AE-4C0E-92A0-9EFFCD05F931}" type="slidenum">
              <a:t>111</a:t>
            </a:fld>
          </a:p>
        </p:txBody>
      </p:sp>
    </p:spTree>
  </p:cSld>
  <p:transition spd="med">
    <p:split dir="out" orient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368360" y="1219320"/>
          <a:ext cx="777564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19320"/>
                    <a:ext cx="77756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th Index for Shopping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362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3124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3581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/Music/Mov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3080" y="3886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ers/Gifts/Gr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4267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4724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C28-DC17-4607-BB72-BB3DEC94594E}" type="slidenum">
              <a:t>112</a:t>
            </a:fld>
          </a:p>
        </p:txBody>
      </p:sp>
    </p:spTree>
  </p:cSld>
  <p:transition spd="med">
    <p:pull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o Are The Heavy Advertis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76520" y="1432080"/>
            <a:ext cx="6629400" cy="527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DA4-73E2-417B-87AD-CF1D7E7FEDB4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westfare.com: Testing Incentiv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81080" y="479124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1981080" y="317196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981080" y="3981600"/>
            <a:ext cx="4476960" cy="5904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692040" y="247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92040" y="4902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92040" y="4092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92040" y="3282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4680" y="64008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AdRelevance, A Media Metrix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661-3C0F-4AD8-8819-E0B062FFBC97}" type="slidenum">
              <a:t>114</a:t>
            </a:fld>
          </a:p>
        </p:txBody>
      </p:sp>
    </p:spTree>
  </p:cSld>
  <p:transition>
    <p:blinds dir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ral E-commerce Tren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Growing Usage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ly More Important Outside Of The U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mendous Experimentation Occur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 For Auctions, Virtually No One Has Shown That They Can Make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y Has Hobbled B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t A Web Business Or A Distribution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439-D300-45C0-9FFB-616D0621321A}" type="slidenum">
              <a:t>115</a:t>
            </a:fld>
          </a:p>
        </p:txBody>
      </p:sp>
    </p:spTree>
  </p:cSld>
  <p:transition>
    <p:blinds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41E0-FB0E-49AB-956B-F8CE967CA63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appears to be alive and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lying marketing theory can be critical to understanding whether a business will succeed or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imes things work (or fail) without us knowing why, but a little theory can give some key ins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nd better measures of the information content of clickstream data and customer acquisition cost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E7A-D1FC-49BD-BC80-30C7B7B4BA5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ditional marketing aven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-media 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ck and mortar s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marketing/Telephon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ahoma"/>
              </a:rPr>
              <a:t>Which of these avenues are obsolete due to the Intern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40A-B557-476E-91AB-C05E198F7A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ss Media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F6F-0C3E-4148-8306-947BBEF197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jobs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connect job seekers and employers, revenues raised through referral fees charged to employers and advertis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s revenues of $17m in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d $16m from venture capital companies earlier this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to spend $12m on advertising (broadcast and outdoor), $1.6m for SuperBowl spot, $400k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as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19160"/>
            <a:ext cx="401328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F25-30E6-43BA-8FF8-54B9E41AD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er Bowl Advertisers’ Reach Growth -- Career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371600"/>
          <a:ext cx="7635960" cy="42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3596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676520"/>
            <a:ext cx="1752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5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%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4360" y="624852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794-0941-4206-8B93-5356627278EA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azon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Poster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s in 1Q 1999 are $294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ing during the same period is $61m, or roughly 21% of re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97F-5121-4160-AB89-19666A4031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Purcha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verage expenditure for advertising by most companies is 4% to 7% of re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e: 10% is considered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’re seeing in 1999 that the dot-coms are putting 65% to 75% of their spending into offline media like network television since that’s still the best way to reach a mass audien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shad Tobaccowala, president of Starcom IP, (the interactive unit of Leo Burnett Co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635-41E5-4318-9A29-FF505EF5C7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new hi-res medi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640 x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&lt;5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9600 x 1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3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14600"/>
            <a:ext cx="281916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514600"/>
            <a:ext cx="3200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0280" y="491652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would you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BAE-DE40-4AAB-9055-24143469B4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Brick and Mortar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79BD-B05F-4E6D-B81F-DCC47FE23F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vs. Internet Market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se Study of Internet Success: hot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s behind Interne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 Insights from 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FC2-9509-4823-B5BC-00189CA15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ap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Home delivery of groceries using on-line ordering.  Operates in Chicago, San Francisco, Boston, Long Island, Dallas, Houston, Austin, Columb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s are purchased at the local grocery stores.  Delivered to your door within the ho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ing money on grocery delivery, but they are making money on the information they collect by selling it back to CPG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D53-2A23-48D0-9913-093698AE1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l-world success doesn’t mean automatic Internet suc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’s success in their stores is due to buying power and customer-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ct 1998 they even sued Amazon.com and Drugstore.com for recruiting former Wal-mart employees in order to alledgedly steal trad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 decided to delay their redesigned web entry until after Christmas 1999, for fear they wouldn’t be able to deli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2276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F06-9981-4B7A-8640-3B37AB7369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vi’s: Moving backwards from online to offline s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i’s was offering a custom order option, so that users could order jeans to 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were outsourcing their web operations to Vici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ed to pull out of on-line in Nov ‘99 since costs of maintaining the site exceeded its benefit plus the channel confl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it redirects purchasers to Macys and J.C.Penny Co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2920" cy="41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A05-E9C1-4C72-BFAE-621C3DE460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rect Marketing vs Retail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examples of direct marketers venturing into retail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ana Republic, Eddie Bauer, The Sharper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retail stores starting direct marketing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ura Ashley, Williams-Sonoma, Bloomingdale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both can co-exist, but thought needs to be given to avert canniba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n you think of examples of online marketers moving into retail, or retailers moving into online oper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D9D-1797-4A46-B799-0F8ECAAC08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elephon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F458-3814-4693-AC85-3B861B408D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d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1994 spent tens of millions of dollars on phone charges and customer-support personnel to track its packages.  Independent sources estimate the cost at $.50/ca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dex’s web site cost $50,000, and generated an average of 500,000 packages were packed online.  If half were curiosity seekers, the remainder saved the company $125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536-A96D-4D6F-9A71-8089F4660E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hanne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A08A-6A98-434B-977A-6ABCDFDFCB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celine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Any price for an unused airline seat is worthwhile, since it generates incremental revenue.  Contract with the airlines, auto rental companies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people can save lot’s of money on airline tra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percentage of the lowest available price, how much are consumers saving using priceline.co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D7A-3740-4013-B6FF-7612897B12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cities.com: Communities new Channel Intermedia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value of an online commun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a community alter retail channe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3DC-77A8-4A31-9824-0BB2C59296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‘Community’ Respons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l’s Pentium Chip Flaw (199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many Pentium designers does it take to screw in a light bulb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99904274017, but that's close enough for non-technical peop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 do you get when you cross a Pentium PC with a research grant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mad scienti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's another name for the Intel Inside sticker they put on Pentium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rning labe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y didn't Intel call the Pentium the 586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cause they added 486 and 100 on the first Pentium and got 585.9999836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29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 ten new Intel slogans for the Pentium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The Errata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Were Looking for a Few Good Flaw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Division Considered Harmfu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Why Do You Think They Call It *Floating* Point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We Fixed It, Reall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Redefining the PC and Mathematics As Wel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You Don't Need to Know What's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Nearly 300 Correct Opcod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It's Close Enough, We Say S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It's a FLAW, not a Bu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60199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224-2227-436B-94EF-B0B5D46E5A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3FF-DFC7-4D77-8DEC-6670E608D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Internet has and will continue to impac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ternet Marketing is not a new discipline, but one that has anticipated many of the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more, marketers have anticipated many of the possibilities of the Internet, see Blattberg and Deighton’s “Interactive Marketing” (199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48D-F78E-4EC0-B207-0DABAAF361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ctiv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ttberg and Deighton (Sloan Management Review 1991) discuss the differences between traditional mass marketing and interactive 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actual behavior to identify customers/pro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d prices/product offers to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ing the advertising message via selected binding (split ca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: Direct links with the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 force: Improved monitoring, less discretion, better data for the sales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BD0-6FA0-4F65-8535-D5389EF525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case study of the classic internet success sto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805B-67B2-4E96-8DD9-C1B610EBF6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Web-based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6 Startup Comp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001-9CDE-429E-8F16-46370BE2E4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’s it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 up for an account and access your email from anywhere using an HTML interface to your mail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e feat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a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web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AED-5C62-45E4-A371-BF8A835979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this business model work?  Why? 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his model be viable in the long-ter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C3A-E21A-440B-BBC7-858CBDDD7C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etitive Advanta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mover adva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rity of th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010-B960-4559-96E3-B0288D12E0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ptions to enhanced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D51-8F32-46C3-B589-7B6C299760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ral Marketing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places a small “ad” at the bottom of every e-mail message automatically, whether the sender wanted it ther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people see the “ad” they click and may themselves become subscr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signed up 12m users with a total marketing budget of $50,000; compare that to AOL and E-Trade who are spending $100 to $300 per customer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 this to Alladvantage.com, www.seeUthere.com, SDMI (after six listenings an encryption inside the song triggers a message your free time is ov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4C6-393D-4A35-92C2-114150DB7C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CF0-C5C2-4F27-873F-9DDB179FFA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 your Internet Knowled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013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tney spear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m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k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onn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ela anders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2819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nia twai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zip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estl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ho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2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17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d rank the top 5 keywords searched by the major search engines according to their popula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332-F2F8-45BC-9000-E02388A9CC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00E-98EF-4710-BBC4-83B6A08E51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8120" y="274284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2767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2EC-5845-4BA9-98B5-A4BE44031D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3962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0040" y="373392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819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2438280"/>
            <a:ext cx="3049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876920" y="441936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44193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13B-1E7E-4D39-A8D2-6E293C61EE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8769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3429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23623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791320" y="380952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02C-6097-4A2D-8248-E3F36AFBBB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CF6-3D10-4185-A268-A0E4C4364D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casts from a Diffusion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1752480"/>
          <a:ext cx="761976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61976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AC3-AE82-43A1-9E51-464486BEB15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’s About Capturing Eyeball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buys Hotmail for $385 m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il is the “killer-app” of the Internet, everybody has to have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the buyout, one-quarter of Hotmail’s 60 employees became instant milliona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million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would double MSN’s 2 million paying subscribers, an increase its advertising revenues, but more importantly help position it to become a major por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usiness Wee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Jan 19, 19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cketmail sold out to Yahoo! in Oct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f Dec 1999 hotmail had 40m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1AB-3455-49B6-9246-25927A2944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 there any principles behind Internet Marketing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-to-1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ationship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67F-7945-4F3E-9E04-15036D542D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ring Mas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to1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 manager sells one product at a time to as many customers a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quire a constant stream of new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l as many products as possible to one customer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custo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es to get a constant stream of business from current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36232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43434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5715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0240" y="623268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ppers and Roger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e to On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69F-80EE-4495-A1B2-98B8970F77B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ey Points for 1to1 System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te amongs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 with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 your product or service to meet each customer’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5E1-1445-4966-A502-5B2F6E079FC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Searchterms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.c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799-58C5-40CA-AB0D-3F53CE633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ormation is key to implementing a 1to1 Syst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purchase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it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71A-9CA4-443B-BAD0-3CD93C2F01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Cookies for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your browser’s cookie list for “DoubleClic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Click inserts ads into other people’s we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users across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s number of exposures to 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ads to certain types of individu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remains “anonymou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BDE-D38E-4278-8C39-11EAF43B6B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has DoubleClick learn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udying millions of impressions they concluded that after the fourth impression, response rates dropped from 2.7% to under 1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nner burn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7C8-5EB8-45A7-8BC4-A6C76EE4EFE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Case Stu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e Datek to potential online investors through banners and sponsor buttons 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ubleClick Business &amp; Finance sites (StockMaster, Big Charts, ClearStation, Individual Investor Online, Fast Company and EDGAR Onlin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ads with major brand DoubleClick Select Sites including U.S. News, PBS, the Dilbert Zone and Traveloci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yword banners on AltaVista during user searches for specific topics like "stock”, "online trading,” "investments," "brokerage" and "broker.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726-8F02-4935-9FDB-62C56B551D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line Brokerage” Banner A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were to go to each of these search engines and type in “online brokerage” what banner ads would be dis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ervice is performed by www.bannerstak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89B-34E5-4879-A092-57791CFED1E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81788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rates for keywords ranged as high as 15% - 19%. Through sponsorships on DoubleClick Finance sites, the Datek brand is reinforced to 550,000 potential customers every mont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inception of their DoubleClick campaign, Datek has succeeded in establishing a loyal audience, now exceeding over 32,000 trades a da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the past two years, DoubleClick has been an integral part of Datek's online budget, helping Datek to generate in excess of $320,000 a day from online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9132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65E-6DE9-4C63-9116-D32452CA1EC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 it worth i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250,000 customers, 70,000 trades/day, $9.95/t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70480" y="3146400"/>
          <a:ext cx="2341440" cy="268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70480" y="3146400"/>
                    <a:ext cx="2341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704-B328-40F7-B375-04D75D6A0D6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CA58-8552-425F-899B-3D2DD01ADEA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558880" y="1143000"/>
            <a:ext cx="4026240" cy="457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022440" y="62485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er, 5 July 1993, p. 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5E8-1750-4BF9-947E-C320AC5CF5E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cord of an individual’s movement through time at a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information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’s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URL vie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30B-256A-433C-A7D4-25B3AAB37BF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Music Industry Respon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 yet another “revolution” brewing on the Internet, this time concerning the music indus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Enemy, the rap group that shot to fame with the hit “Fight the Power”, started selling a new album over the Internet today to fight what they say is the stifling power of big music companies.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Reuters, May 27, 199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ary Rosen, RIAA President and C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shington, July 13, 1999, “The SDMI specification being released today is a great example of technology partnerships that can open new markets.  This release is another important milestone for consumers, artists and the industry as a whole”.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uck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 say the more the merrier.  Success comes from the fans first - if someone is going to pirate something of mine, I just have to make sure to do nine or ten new things.  I mean, you can’t download me.” Interview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C19-0D5A-4256-A692-97F52D96A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lickstrea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usehold ID: Female born 12Jul4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ographic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iladelphia Area, Male and Female Married (husband born: 27Sep46), 3 members in household, income: $75,000-$99,999, Graduated College, employed 35 or more hours, 1 child age 13 to 17 (daughter born: 5Jul80), own single family home, white collar, own car &amp; truck, microwave, three dogs, five cat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65280" y="3652920"/>
            <a:ext cx="8423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5:5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4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5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5: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libr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7621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  <a:path fill="darkenLess" w="21600" h="23991">
                <a:moveTo>
                  <a:pt x="5273" y="5181"/>
                </a:moveTo>
                <a:lnTo>
                  <a:pt x="12271" y="5181"/>
                </a:lnTo>
                <a:lnTo>
                  <a:pt x="16327" y="8679"/>
                </a:lnTo>
                <a:lnTo>
                  <a:pt x="16327" y="18811"/>
                </a:lnTo>
                <a:lnTo>
                  <a:pt x="5273" y="18811"/>
                </a:lnTo>
                <a:close/>
              </a:path>
              <a:path fill="darken" w="21600" h="23991">
                <a:moveTo>
                  <a:pt x="12271" y="5181"/>
                </a:moveTo>
                <a:lnTo>
                  <a:pt x="16327" y="8679"/>
                </a:lnTo>
                <a:lnTo>
                  <a:pt x="12271" y="8679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EF8-2F9B-4B66-8105-9676CA1B2CD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does the provider se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"/>
          <p:cNvSpPr/>
          <p:nvPr/>
        </p:nvSpPr>
        <p:spPr>
          <a:xfrm>
            <a:off x="595440" y="2973240"/>
            <a:ext cx="84103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4640" y="2195640"/>
            <a:ext cx="568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voicenet.com would be able to 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440" y="4100400"/>
            <a:ext cx="673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at would www.weather.com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CC3-4F87-4256-B9DA-B6015646A88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other information can the provider collec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’s watching you and what are you telling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T Privacy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nymizer Snoop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else can we find o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urn this information into a ZIP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we do with a ZIP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S/MicroVision Lifestyle 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76F-5223-4905-81F3-031C7860126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stream Example: Who is this web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196040" cy="40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F25-06B0-4B26-B832-6BA644249B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much have you learned about this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ital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aphic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y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Com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Inc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nt or 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nd presence of child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 or truck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g or cat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52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34 years 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East South Cent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50,000-49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 household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 head living with others rel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$25,000-$2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Graduated High Sch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Children Under 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wo cars, no tru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dogs or c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AE5-4E5A-4A5F-B7CE-EBFA6330683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tatistical Approach to ‘Who is this person?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2133720"/>
          <a:ext cx="818820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8820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67F-5F02-4C03-A97E-DEFE4436FB9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istical Analy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4984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C0C-2AB5-43ED-9345-04EC930D33C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773600" cy="556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84240" y="6248520"/>
            <a:ext cx="42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moreinfo.com/au.cranlerma/fol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195-D55F-4067-B9B7-C98A517D801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onceptual framewor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2146320" y="1841400"/>
            <a:ext cx="5765760" cy="401328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8000" y="2463840"/>
            <a:ext cx="33624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ro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ective Mass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8480" y="2205000"/>
            <a:ext cx="21434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ffi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92680" y="34290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9160" y="4191120"/>
            <a:ext cx="334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9680" y="502920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7528680" y="3821400"/>
            <a:ext cx="161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686800" y="2336760"/>
            <a:ext cx="0" cy="3175200"/>
          </a:xfrm>
          <a:prstGeom prst="line">
            <a:avLst/>
          </a:prstGeom>
          <a:ln w="50760">
            <a:solidFill>
              <a:srgbClr val="99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5680" y="6213600"/>
            <a:ext cx="629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ere should your company f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04A-FD42-4AAC-A1A1-B26C3C0051F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cessing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Depar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 Activity Tracking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ing and Verification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Research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Arial"/>
              </a:rPr>
              <a:t>What do you do with your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7C4-0C5F-4CC7-9A26-1F5D242B32D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$33b World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ing Art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major suppliers (Record Label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 Warner (American)/ Thorn EMI (UK): ~24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yGram/Universal/MCA (Netherlands): ~16%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ny (Jap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rtelsmann/RCA (Germ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lers (for most mainstream labels, 80% of sales are generated by about 10 account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iance, Target, Anderson (WalMart), Tower, Best Buy, Trans World (Camelot, The Wall, Spec’s), Handleman, Valley Media, Musicland, Wherehouse/Blockbus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E38-8C3B-4AFC-95E7-D68327F3B5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sights about the WWW from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urce: Media Metrix In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d Johnson, CE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vember 199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97E2-CD8D-4FA1-A790-B0709BBB688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llecting the Clickstre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the PC Me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: the PC Meter Comp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been collecting web data since July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ary of the NPD Group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syndicated data to more than 100 client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model organized around traditional advertising measures: reach and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E4B-93B3-4CA1-B0CE-CEE3FDD7357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208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1. Randomly Recruit A Panel of PC and Internet User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9240" y="2362320"/>
            <a:ext cx="8087400" cy="4263840"/>
            <a:chOff x="669240" y="2362320"/>
            <a:chExt cx="8087400" cy="4263840"/>
          </a:xfrm>
        </p:grpSpPr>
        <p:sp>
          <p:nvSpPr>
            <p:cNvPr id="381" name=""/>
            <p:cNvSpPr/>
            <p:nvPr/>
          </p:nvSpPr>
          <p:spPr>
            <a:xfrm>
              <a:off x="669240" y="2362320"/>
              <a:ext cx="489600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 # 3244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4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IBM Desktop, Pentium 2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4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17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2:  Compaq Presario, 35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14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3:  Dell Latitude Notebo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8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Mobile/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ston,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wn Single 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03920" y="4187880"/>
              <a:ext cx="47527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# 9083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6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Gateway, PIII 4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6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3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dison, W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nt, Multi-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D91-A230-4C70-978D-EBCD2BF5D343}" type="slidenum">
              <a:t>72</a:t>
            </a:fld>
          </a:p>
        </p:txBody>
      </p:sp>
    </p:spTree>
  </p:cSld>
  <p:transition spd="med">
    <p:pull dir="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2080" y="1143000"/>
            <a:ext cx="74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2. Install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racking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 Software on 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Panelists’ Home &amp; Work PC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ETRENDS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3531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9D2-19F7-4AED-BF9F-E8A8DB76F9DB}" type="slidenum">
              <a:t>73</a:t>
            </a:fld>
          </a:p>
        </p:txBody>
      </p:sp>
    </p:spTree>
  </p:cSld>
  <p:transition spd="med">
    <p:pull dir="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752480" y="2260440"/>
            <a:ext cx="7391520" cy="4589280"/>
            <a:chOff x="1752480" y="2260440"/>
            <a:chExt cx="7391520" cy="4589280"/>
          </a:xfrm>
        </p:grpSpPr>
        <p:sp>
          <p:nvSpPr>
            <p:cNvPr id="387" name=""/>
            <p:cNvSpPr/>
            <p:nvPr/>
          </p:nvSpPr>
          <p:spPr>
            <a:xfrm>
              <a:off x="1752480" y="2260440"/>
              <a:ext cx="739152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TIME        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EB SITE &amp; PAGE    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OM S., Age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07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Login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54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Emai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53:12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Today’s Headlin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6:44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7:25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-chica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00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6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re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8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SanFrancis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4:58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5:00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15:24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/restau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:20:45 p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crosoft word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16200" y="3178080"/>
              <a:ext cx="2995560" cy="0"/>
            </a:xfrm>
            <a:prstGeom prst="line">
              <a:avLst/>
            </a:prstGeom>
            <a:ln w="1908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38280" y="380880"/>
            <a:ext cx="79106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03968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Software Gathers Data On Personal “Clickstreams” As Panelists Use Their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26C-0D73-4158-ABF0-A68F91281359}" type="slidenum">
              <a:t>74</a:t>
            </a:fld>
          </a:p>
        </p:txBody>
      </p:sp>
    </p:spTree>
  </p:cSld>
  <p:transition spd="med">
    <p:pull dir="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4.  Data is Processed and Provided to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Clients Online and/or in Hard Copy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71600" y="2514600"/>
          <a:ext cx="65530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6553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B65-0090-4D0B-8537-D42A270B3FD6}" type="slidenum">
              <a:t>75</a:t>
            </a:fld>
          </a:p>
        </p:txBody>
      </p:sp>
    </p:spTree>
  </p:cSld>
  <p:transition spd="med">
    <p:pull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dia Metrix Cli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Media Metrix services over 500 industry leaders across 5 se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rketers &amp; Traditional Mark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124-065E-4F24-989B-587BC0280AD7}" type="slidenum">
              <a:t>76</a:t>
            </a:fld>
          </a:p>
        </p:txBody>
      </p:sp>
    </p:spTree>
  </p:cSld>
  <p:transition spd="med">
    <p:pull dir="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343400" y="4648320"/>
            <a:ext cx="1974600" cy="712440"/>
            <a:chOff x="4343400" y="4648320"/>
            <a:chExt cx="1974600" cy="712440"/>
          </a:xfrm>
        </p:grpSpPr>
        <p:sp>
          <p:nvSpPr>
            <p:cNvPr id="399" name=""/>
            <p:cNvSpPr/>
            <p:nvPr/>
          </p:nvSpPr>
          <p:spPr>
            <a:xfrm>
              <a:off x="4343400" y="4648320"/>
              <a:ext cx="197460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aol" descr=""/>
            <p:cNvPicPr/>
            <p:nvPr/>
          </p:nvPicPr>
          <p:blipFill>
            <a:blip r:embed="rId1"/>
            <a:srcRect l="0" t="0" r="79855" b="0"/>
            <a:stretch/>
          </p:blipFill>
          <p:spPr>
            <a:xfrm>
              <a:off x="4550760" y="4798800"/>
              <a:ext cx="1621440" cy="4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usatoday" descr=""/>
          <p:cNvPicPr/>
          <p:nvPr/>
        </p:nvPicPr>
        <p:blipFill>
          <a:blip r:embed="rId2"/>
          <a:stretch/>
        </p:blipFill>
        <p:spPr>
          <a:xfrm>
            <a:off x="3505320" y="5257800"/>
            <a:ext cx="1069920" cy="569880"/>
          </a:xfrm>
          <a:prstGeom prst="rect">
            <a:avLst/>
          </a:prstGeom>
          <a:ln w="0">
            <a:noFill/>
          </a:ln>
        </p:spPr>
      </p:pic>
      <p:pic>
        <p:nvPicPr>
          <p:cNvPr id="402" name="yahoo2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919160" cy="390600"/>
          </a:xfrm>
          <a:prstGeom prst="rect">
            <a:avLst/>
          </a:prstGeom>
          <a:ln w="0">
            <a:noFill/>
          </a:ln>
        </p:spPr>
      </p:pic>
      <p:pic>
        <p:nvPicPr>
          <p:cNvPr id="403" name="cnn_logo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924120" cy="715680"/>
          </a:xfrm>
          <a:prstGeom prst="rect">
            <a:avLst/>
          </a:prstGeom>
          <a:ln w="0">
            <a:noFill/>
          </a:ln>
        </p:spPr>
      </p:pic>
      <p:pic>
        <p:nvPicPr>
          <p:cNvPr id="404" name="infoseek" descr=""/>
          <p:cNvPicPr/>
          <p:nvPr/>
        </p:nvPicPr>
        <p:blipFill>
          <a:blip r:embed="rId5"/>
          <a:stretch/>
        </p:blipFill>
        <p:spPr>
          <a:xfrm>
            <a:off x="1676520" y="4724280"/>
            <a:ext cx="1898640" cy="527040"/>
          </a:xfrm>
          <a:prstGeom prst="rect">
            <a:avLst/>
          </a:prstGeom>
          <a:ln w="0">
            <a:noFill/>
          </a:ln>
        </p:spPr>
      </p:pic>
      <p:pic>
        <p:nvPicPr>
          <p:cNvPr id="405" name="zd" descr=""/>
          <p:cNvPicPr/>
          <p:nvPr/>
        </p:nvPicPr>
        <p:blipFill>
          <a:blip r:embed="rId6"/>
          <a:stretch/>
        </p:blipFill>
        <p:spPr>
          <a:xfrm>
            <a:off x="7924680" y="4876920"/>
            <a:ext cx="75888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geocities" descr=""/>
          <p:cNvPicPr/>
          <p:nvPr/>
        </p:nvPicPr>
        <p:blipFill>
          <a:blip r:embed="rId7"/>
          <a:stretch/>
        </p:blipFill>
        <p:spPr>
          <a:xfrm>
            <a:off x="822960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07" name="wb" descr=""/>
          <p:cNvPicPr/>
          <p:nvPr/>
        </p:nvPicPr>
        <p:blipFill>
          <a:blip r:embed="rId8"/>
          <a:srcRect l="26279" t="0" r="21171" b="33697"/>
          <a:stretch/>
        </p:blipFill>
        <p:spPr>
          <a:xfrm>
            <a:off x="1828800" y="2895480"/>
            <a:ext cx="857160" cy="789120"/>
          </a:xfrm>
          <a:prstGeom prst="rect">
            <a:avLst/>
          </a:prstGeom>
          <a:ln w="0">
            <a:noFill/>
          </a:ln>
        </p:spPr>
      </p:pic>
      <p:pic>
        <p:nvPicPr>
          <p:cNvPr id="408" name="cnet" descr=""/>
          <p:cNvPicPr/>
          <p:nvPr/>
        </p:nvPicPr>
        <p:blipFill>
          <a:blip r:embed="rId9"/>
          <a:stretch/>
        </p:blipFill>
        <p:spPr>
          <a:xfrm>
            <a:off x="5715000" y="5867280"/>
            <a:ext cx="1028880" cy="79056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419720" y="6019920"/>
            <a:ext cx="1425600" cy="511200"/>
            <a:chOff x="4419720" y="6019920"/>
            <a:chExt cx="1425600" cy="511200"/>
          </a:xfrm>
        </p:grpSpPr>
        <p:sp>
          <p:nvSpPr>
            <p:cNvPr id="410" name=""/>
            <p:cNvSpPr/>
            <p:nvPr/>
          </p:nvSpPr>
          <p:spPr>
            <a:xfrm>
              <a:off x="4419720" y="6019920"/>
              <a:ext cx="140364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wallstreetjournal" descr=""/>
            <p:cNvPicPr/>
            <p:nvPr/>
          </p:nvPicPr>
          <p:blipFill>
            <a:blip r:embed="rId10"/>
            <a:srcRect l="36371" t="0" r="0" b="0"/>
            <a:stretch/>
          </p:blipFill>
          <p:spPr>
            <a:xfrm>
              <a:off x="4463640" y="6062040"/>
              <a:ext cx="138168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"/>
          <p:cNvSpPr/>
          <p:nvPr/>
        </p:nvSpPr>
        <p:spPr>
          <a:xfrm>
            <a:off x="2895480" y="3048120"/>
            <a:ext cx="177192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30360" y="228600"/>
            <a:ext cx="761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Media Metrix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dmbb" descr=""/>
          <p:cNvPicPr/>
          <p:nvPr/>
        </p:nvPicPr>
        <p:blipFill>
          <a:blip r:embed="rId11"/>
          <a:stretch/>
        </p:blipFill>
        <p:spPr>
          <a:xfrm>
            <a:off x="1981080" y="5410080"/>
            <a:ext cx="946440" cy="3492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3352680" y="4191120"/>
            <a:ext cx="1138320" cy="452160"/>
            <a:chOff x="3352680" y="4191120"/>
            <a:chExt cx="1138320" cy="452160"/>
          </a:xfrm>
        </p:grpSpPr>
        <p:sp>
          <p:nvSpPr>
            <p:cNvPr id="416" name=""/>
            <p:cNvSpPr/>
            <p:nvPr/>
          </p:nvSpPr>
          <p:spPr>
            <a:xfrm>
              <a:off x="3352680" y="4191120"/>
              <a:ext cx="1138320" cy="452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>
              <a:off x="3398040" y="4237920"/>
              <a:ext cx="1001880" cy="34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netscape" descr=""/>
          <p:cNvPicPr/>
          <p:nvPr/>
        </p:nvPicPr>
        <p:blipFill>
          <a:blip r:embed="rId13"/>
          <a:stretch/>
        </p:blipFill>
        <p:spPr>
          <a:xfrm>
            <a:off x="7086600" y="27432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9" name="ibm" descr=""/>
          <p:cNvPicPr/>
          <p:nvPr/>
        </p:nvPicPr>
        <p:blipFill>
          <a:blip r:embed="rId14"/>
          <a:srcRect l="0" t="0" r="82729" b="0"/>
          <a:stretch/>
        </p:blipFill>
        <p:spPr>
          <a:xfrm>
            <a:off x="5257800" y="2057400"/>
            <a:ext cx="1279440" cy="701640"/>
          </a:xfrm>
          <a:prstGeom prst="rect">
            <a:avLst/>
          </a:prstGeom>
          <a:ln w="0">
            <a:noFill/>
          </a:ln>
        </p:spPr>
      </p:pic>
      <p:pic>
        <p:nvPicPr>
          <p:cNvPr id="420" name="mslogo" descr=""/>
          <p:cNvPicPr/>
          <p:nvPr/>
        </p:nvPicPr>
        <p:blipFill>
          <a:blip r:embed="rId15"/>
          <a:stretch/>
        </p:blipFill>
        <p:spPr>
          <a:xfrm>
            <a:off x="6576840" y="1905120"/>
            <a:ext cx="2567160" cy="917280"/>
          </a:xfrm>
          <a:prstGeom prst="rect">
            <a:avLst/>
          </a:prstGeom>
          <a:ln w="0">
            <a:noFill/>
          </a:ln>
        </p:spPr>
      </p:pic>
      <p:pic>
        <p:nvPicPr>
          <p:cNvPr id="421" name="merrill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817640" cy="493560"/>
          </a:xfrm>
          <a:prstGeom prst="rect">
            <a:avLst/>
          </a:prstGeom>
          <a:ln w="0">
            <a:noFill/>
          </a:ln>
        </p:spPr>
      </p:pic>
      <p:pic>
        <p:nvPicPr>
          <p:cNvPr id="422" name="intuit_logo_new" descr=""/>
          <p:cNvPicPr/>
          <p:nvPr/>
        </p:nvPicPr>
        <p:blipFill>
          <a:blip r:embed="rId17"/>
          <a:stretch/>
        </p:blipFill>
        <p:spPr>
          <a:xfrm>
            <a:off x="7086600" y="3809880"/>
            <a:ext cx="1706400" cy="3747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8"/>
          <a:stretch/>
        </p:blipFill>
        <p:spPr>
          <a:xfrm>
            <a:off x="1676520" y="3809880"/>
            <a:ext cx="1361880" cy="766800"/>
          </a:xfrm>
          <a:prstGeom prst="rect">
            <a:avLst/>
          </a:prstGeom>
          <a:ln w="0">
            <a:noFill/>
          </a:ln>
        </p:spPr>
      </p:pic>
      <p:pic>
        <p:nvPicPr>
          <p:cNvPr id="424" name="amazon" descr=""/>
          <p:cNvPicPr/>
          <p:nvPr/>
        </p:nvPicPr>
        <p:blipFill>
          <a:blip r:embed="rId19"/>
          <a:stretch/>
        </p:blipFill>
        <p:spPr>
          <a:xfrm>
            <a:off x="1828800" y="1523880"/>
            <a:ext cx="1959120" cy="536760"/>
          </a:xfrm>
          <a:prstGeom prst="rect">
            <a:avLst/>
          </a:prstGeom>
          <a:ln w="0">
            <a:noFill/>
          </a:ln>
        </p:spPr>
      </p:pic>
      <p:pic>
        <p:nvPicPr>
          <p:cNvPr id="425" name="ebay" descr=""/>
          <p:cNvPicPr/>
          <p:nvPr/>
        </p:nvPicPr>
        <p:blipFill>
          <a:blip r:embed="rId20"/>
          <a:stretch/>
        </p:blipFill>
        <p:spPr>
          <a:xfrm>
            <a:off x="1828800" y="2286000"/>
            <a:ext cx="1163520" cy="423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1"/>
          <a:stretch/>
        </p:blipFill>
        <p:spPr>
          <a:xfrm>
            <a:off x="6095880" y="1523880"/>
            <a:ext cx="2793960" cy="446040"/>
          </a:xfrm>
          <a:prstGeom prst="rect">
            <a:avLst/>
          </a:prstGeom>
          <a:ln w="0">
            <a:noFill/>
          </a:ln>
        </p:spPr>
      </p:pic>
      <p:pic>
        <p:nvPicPr>
          <p:cNvPr id="427" name="y&amp;r" descr=""/>
          <p:cNvPicPr/>
          <p:nvPr/>
        </p:nvPicPr>
        <p:blipFill>
          <a:blip r:embed="rId22"/>
          <a:stretch/>
        </p:blipFill>
        <p:spPr>
          <a:xfrm>
            <a:off x="5791320" y="4343400"/>
            <a:ext cx="1892160" cy="32868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6248520" y="4724280"/>
            <a:ext cx="1699920" cy="1043640"/>
            <a:chOff x="6248520" y="4724280"/>
            <a:chExt cx="1699920" cy="1043640"/>
          </a:xfrm>
        </p:grpSpPr>
        <p:pic>
          <p:nvPicPr>
            <p:cNvPr id="429" name="quantumleap" descr=""/>
            <p:cNvPicPr/>
            <p:nvPr/>
          </p:nvPicPr>
          <p:blipFill>
            <a:blip r:embed="rId23"/>
            <a:stretch/>
          </p:blipFill>
          <p:spPr>
            <a:xfrm>
              <a:off x="6248520" y="4724280"/>
              <a:ext cx="1699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635160" y="5308920"/>
              <a:ext cx="124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Quantum Le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ABClogo_home" descr=""/>
          <p:cNvPicPr/>
          <p:nvPr/>
        </p:nvPicPr>
        <p:blipFill>
          <a:blip r:embed="rId24"/>
          <a:stretch/>
        </p:blipFill>
        <p:spPr>
          <a:xfrm>
            <a:off x="3429000" y="2133720"/>
            <a:ext cx="1542960" cy="645840"/>
          </a:xfrm>
          <a:prstGeom prst="rect">
            <a:avLst/>
          </a:prstGeom>
          <a:ln w="0">
            <a:noFill/>
          </a:ln>
        </p:spPr>
      </p:pic>
      <p:pic>
        <p:nvPicPr>
          <p:cNvPr id="432" name="cbs" descr=""/>
          <p:cNvPicPr/>
          <p:nvPr/>
        </p:nvPicPr>
        <p:blipFill>
          <a:blip r:embed="rId25"/>
          <a:stretch/>
        </p:blipFill>
        <p:spPr>
          <a:xfrm>
            <a:off x="5638680" y="3048120"/>
            <a:ext cx="1078200" cy="647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6"/>
          <a:stretch/>
        </p:blipFill>
        <p:spPr>
          <a:xfrm>
            <a:off x="1676520" y="5943600"/>
            <a:ext cx="2654280" cy="438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7"/>
          <a:stretch/>
        </p:blipFill>
        <p:spPr>
          <a:xfrm>
            <a:off x="6934320" y="5943600"/>
            <a:ext cx="1974600" cy="4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122-851B-468D-AC8E-123298FDAA6A}" type="slidenum">
              <a:t>77</a:t>
            </a:fld>
          </a:p>
        </p:txBody>
      </p:sp>
    </p:spTree>
  </p:cSld>
  <p:transition spd="med"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ent Applications &amp; Benefi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26912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Clients are Using Media Metrix Services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n, Buy &amp; Sell Digital Media Adverti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Consumer Behavi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in Marketplace &amp; Competitive Intellig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Product, Marketing &amp; Advertising Strategy Develop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porate Benchma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is for Partnership Alliance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With The Financial Commun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1200" indent="0">
              <a:spcBef>
                <a:spcPts val="96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 we learn from clickstream data about the digital landsca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p 10 Less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75D7-68DF-4940-8F05-D59F19C31147}" type="slidenum">
              <a:t>79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from a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2.99₤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22520" y="2062080"/>
          <a:ext cx="7219800" cy="39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062080"/>
                    <a:ext cx="721980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968440" y="5562720"/>
            <a:ext cx="24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: Financial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ic and 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090-88B7-40D5-86FD-0AACC1587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rnet:  Then &amp; No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267080" y="1905120"/>
            <a:ext cx="1295640" cy="828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F471-C087-4376-834D-A8EDE4173143}" type="slidenum">
              <a:t>80</a:t>
            </a:fld>
          </a:p>
        </p:txBody>
      </p:sp>
    </p:spTree>
  </p:cSld>
  <p:transition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8C3-14C4-4881-8157-E709703035B6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1676520"/>
            <a:ext cx="34290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Sept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S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CROSOF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EOCITIE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GO.COM (Disney/Infoseek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CIT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HOTMAI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YCO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ASS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MAZO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NGELFIR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RIPOD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EA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C82-7522-4B31-A519-AF068848B533}" type="slidenum">
              <a:t>82</a:t>
            </a:fld>
          </a:p>
        </p:txBody>
      </p:sp>
    </p:spTree>
  </p:cSld>
  <p:transition>
    <p:blinds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Net Has Gone “Mas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94DE-FBD8-4440-8196-0B4F0C5EC1CD}" type="slidenum">
              <a:t>83</a:t>
            </a:fld>
          </a:p>
        </p:txBody>
      </p:sp>
    </p:spTree>
  </p:cSld>
  <p:transition>
    <p:pull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220760" y="1905120"/>
          <a:ext cx="79218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905120"/>
                    <a:ext cx="79218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Share of Total User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6858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Gender Gap Has Narr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108-E15B-49DA-8DE2-C6B8668A94AD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ush for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4741-BEF2-4B2A-9BBD-0B4D5F6D85E8}" type="slidenum">
              <a:t>85</a:t>
            </a:fld>
          </a:p>
        </p:txBody>
      </p:sp>
    </p:spTree>
  </p:cSld>
  <p:transition>
    <p:pull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19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3DC-6D3F-404F-8906-CDCAEA36D4CE}" type="slidenum">
              <a:t>86</a:t>
            </a:fld>
          </a:p>
        </p:txBody>
      </p:sp>
    </p:spTree>
  </p:cSld>
  <p:transition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me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ptember 1999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143240" y="2514600"/>
            <a:ext cx="3476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solidation!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911-4479-4613-9688-9075C5B6D259}" type="slidenum">
              <a:t>87</a:t>
            </a:fld>
          </a:p>
        </p:txBody>
      </p:sp>
    </p:spTree>
  </p:cSld>
  <p:transition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ing Beyond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114800" y="1905120"/>
            <a:ext cx="221004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B32-DE8B-40C4-ADC5-210CE6D0F202}" type="slidenum">
              <a:t>88</a:t>
            </a:fld>
          </a:p>
        </p:txBody>
      </p:sp>
    </p:spTree>
  </p:cSld>
  <p:transition>
    <p:pull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urce of Internet Grow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5920" y="1886040"/>
          <a:ext cx="7067520" cy="38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886040"/>
                    <a:ext cx="706752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2423520" y="54864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68400" y="5486400"/>
            <a:ext cx="10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60400" y="548640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2120" y="237348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vs. 9/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4AB-1C3A-4FDB-B209-71E890B64525}" type="slidenum">
              <a:t>89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fitabi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d Music (86% at EM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Releases (52%, 5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 Catalog (34%, 10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Publishing (14%, 36% return on s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: Reproductions on record, cassette, CD, video (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: Public, Radio, TV (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: Film Soundtrack or TV commercial (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48E-C9B3-437E-95B0-FDE6AC352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ickiness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ou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1E1D-39E9-48F6-BEE2-8B843AD6A356}" type="slidenum">
              <a:t>90</a:t>
            </a:fld>
          </a:p>
        </p:txBody>
      </p:sp>
    </p:spTree>
  </p:cSld>
  <p:transition>
    <p:pull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*Stickiest* S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Average Time Per Visitor Per Da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1517400"/>
            <a:ext cx="72388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48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LYCOSCHA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6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POGO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2.1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GAMESVILL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PLAYER. 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4 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PRIZEPOIN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6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EBAY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UPROAR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0.4 Minu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VOYEURWEB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FREERID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2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6248520"/>
            <a:ext cx="764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 WWW Audience Ratings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erage Minutes Per Month Per Person 8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E69-6F6D-4512-B658-991708C72102}" type="slidenum">
              <a:t>91</a:t>
            </a:fld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Growt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CD15-D76A-4EFF-8459-28A32B1A3A56}" type="slidenum">
              <a:t>92</a:t>
            </a:fld>
          </a:p>
        </p:txBody>
      </p:sp>
    </p:spTree>
  </p:cSld>
  <p:transition>
    <p:pull dir="r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523880" y="1676520"/>
          <a:ext cx="7086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7086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854360" y="5792760"/>
            <a:ext cx="235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ies   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22320" y="5462640"/>
            <a:ext cx="223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ult Content   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9240" y="5132520"/>
            <a:ext cx="83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6320" y="4800600"/>
            <a:ext cx="229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’t                     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39680" y="4495680"/>
            <a:ext cx="28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        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4360" y="4178160"/>
            <a:ext cx="403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net Service Providers            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79560" y="38512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9240" y="3822840"/>
            <a:ext cx="388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ices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9840" y="3522600"/>
            <a:ext cx="39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pping       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47160" y="3200400"/>
            <a:ext cx="444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ercial Online Services                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45160" y="2897280"/>
            <a:ext cx="451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 Engines                                        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360" y="2552760"/>
            <a:ext cx="533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porate/Marketing                                      8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51840" y="2209680"/>
            <a:ext cx="54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s/Information/Entertainment                       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6960" y="5183280"/>
            <a:ext cx="403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ch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6524640"/>
            <a:ext cx="616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Web Report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Penet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3349440" y="144000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% Audience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95320" y="51498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4FB-DC5C-4213-A1D2-E6E613931237}" type="slidenum">
              <a:t>93</a:t>
            </a:fld>
          </a:p>
        </p:txBody>
      </p:sp>
    </p:spTree>
  </p:cSld>
  <p:transition spd="slow">
    <p:blinds dir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% Grow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9/98 to 9/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04880" y="1960560"/>
          <a:ext cx="726444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960560"/>
                    <a:ext cx="726444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09D-F560-4327-902E-E43CEC8DB6E4}" type="slidenum">
              <a:t>94</a:t>
            </a:fld>
          </a:p>
        </p:txBody>
      </p:sp>
    </p:spTree>
  </p:cSld>
  <p:transition>
    <p:blinds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World Is Dominated By U.S. Multi-Nation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F1A-DAC6-409F-9F7B-8EC3544DC257}" type="slidenum">
              <a:t>95</a:t>
            </a:fld>
          </a:p>
        </p:txBody>
      </p:sp>
    </p:spTree>
  </p:cSld>
  <p:transition>
    <p:pull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solidated Landscape Of Global Brands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alphabetical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2438280" y="3733920"/>
            <a:ext cx="5486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DAA-08CE-4126-A0C5-0D01FB86723A}" type="slidenum">
              <a:t>96</a:t>
            </a:fld>
          </a:p>
        </p:txBody>
      </p:sp>
    </p:spTree>
  </p:cSld>
  <p:transition>
    <p:pull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rgence Wat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266720" y="1905120"/>
            <a:ext cx="16768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C6F-B259-4A49-9001-FDA5268577F2}" type="slidenum">
              <a:t>97</a:t>
            </a:fld>
          </a:p>
        </p:txBody>
      </p:sp>
    </p:spTree>
  </p:cSld>
  <p:transition>
    <p:pull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219320" y="1709640"/>
          <a:ext cx="761976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09640"/>
                    <a:ext cx="761976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 flipV="1">
            <a:off x="3963960" y="2251080"/>
            <a:ext cx="0" cy="31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261120" y="2250720"/>
            <a:ext cx="0" cy="31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4000" y="1954080"/>
            <a:ext cx="15829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01000" y="3276720"/>
            <a:ext cx="16621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560" y="6372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ourly Incidence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157788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201680" indent="-2840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of Day People Use Digit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Usage by Time of Da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DF3-8789-4FD5-995C-0345782B7BEF}" type="slidenum">
              <a:t>98</a:t>
            </a:fld>
          </a:p>
        </p:txBody>
      </p:sp>
    </p:spTree>
  </p:cSld>
  <p:transition>
    <p:randomBar dir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219320" y="2133720"/>
          <a:ext cx="79246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924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% of Household PCs With TV Tuner Capability - </a:t>
            </a: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A34-556C-4BBD-BE45-48175D50DEEF}" type="slidenum">
              <a:t>9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14:13:11Z</dcterms:created>
  <dc:creator>Alan Montgomery</dc:creator>
  <dc:description/>
  <dc:language>en-US</dc:language>
  <cp:lastModifiedBy>John T Grasso</cp:lastModifiedBy>
  <cp:lastPrinted>2000-03-15T12:54:50Z</cp:lastPrinted>
  <dcterms:modified xsi:type="dcterms:W3CDTF">2000-09-11T11:44:37Z</dcterms:modified>
  <cp:revision>107</cp:revision>
  <dc:subject/>
  <dc:title>Today’s Objectives</dc:title>
</cp:coreProperties>
</file>