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8129588" cy="6099175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21960" y="1558440"/>
            <a:ext cx="6491160" cy="18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21960" y="3629160"/>
            <a:ext cx="6491160" cy="18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21960" y="1558440"/>
            <a:ext cx="3167640" cy="18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48360" y="1558440"/>
            <a:ext cx="3167640" cy="18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21960" y="3629160"/>
            <a:ext cx="3167640" cy="18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48360" y="3629160"/>
            <a:ext cx="3167640" cy="18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21960" y="1558440"/>
            <a:ext cx="2089800" cy="18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16520" y="1558440"/>
            <a:ext cx="2089800" cy="18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311440" y="1558440"/>
            <a:ext cx="2089800" cy="18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21960" y="3629160"/>
            <a:ext cx="2089800" cy="18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16520" y="3629160"/>
            <a:ext cx="2089800" cy="18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311440" y="3629160"/>
            <a:ext cx="2089800" cy="18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21960" y="1558440"/>
            <a:ext cx="649116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21960" y="1558440"/>
            <a:ext cx="649116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21960" y="1558440"/>
            <a:ext cx="316764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48360" y="1558440"/>
            <a:ext cx="316764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926640" y="806040"/>
            <a:ext cx="6488280" cy="28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51"/>
              </a:spcAft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21960" y="1558440"/>
            <a:ext cx="3167640" cy="18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48360" y="1558440"/>
            <a:ext cx="316764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21960" y="3629160"/>
            <a:ext cx="3167640" cy="18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21960" y="1558440"/>
            <a:ext cx="649116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21960" y="1558440"/>
            <a:ext cx="316764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48360" y="1558440"/>
            <a:ext cx="3167640" cy="18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48360" y="3629160"/>
            <a:ext cx="3167640" cy="18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21960" y="1558440"/>
            <a:ext cx="3167640" cy="18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48360" y="1558440"/>
            <a:ext cx="3167640" cy="18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21960" y="3629160"/>
            <a:ext cx="6491160" cy="18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21960" y="1558440"/>
            <a:ext cx="6491160" cy="18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921960" y="3629160"/>
            <a:ext cx="6491160" cy="18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21960" y="1558440"/>
            <a:ext cx="3167640" cy="18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48360" y="1558440"/>
            <a:ext cx="3167640" cy="18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21960" y="3629160"/>
            <a:ext cx="3167640" cy="18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48360" y="3629160"/>
            <a:ext cx="3167640" cy="18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21960" y="1558440"/>
            <a:ext cx="2089800" cy="18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16520" y="1558440"/>
            <a:ext cx="2089800" cy="18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311440" y="1558440"/>
            <a:ext cx="2089800" cy="18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921960" y="3629160"/>
            <a:ext cx="2089800" cy="18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16520" y="3629160"/>
            <a:ext cx="2089800" cy="18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311440" y="3629160"/>
            <a:ext cx="2089800" cy="18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21960" y="1558440"/>
            <a:ext cx="649116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21960" y="1558440"/>
            <a:ext cx="316764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48360" y="1558440"/>
            <a:ext cx="316764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26640" y="806040"/>
            <a:ext cx="6488280" cy="28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51"/>
              </a:spcAft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21960" y="1558440"/>
            <a:ext cx="3167640" cy="18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48360" y="1558440"/>
            <a:ext cx="316764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21960" y="3629160"/>
            <a:ext cx="3167640" cy="18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21960" y="1558440"/>
            <a:ext cx="316764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48360" y="1558440"/>
            <a:ext cx="3167640" cy="18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48360" y="3629160"/>
            <a:ext cx="3167640" cy="18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21960" y="1558440"/>
            <a:ext cx="3167640" cy="18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48360" y="1558440"/>
            <a:ext cx="3167640" cy="18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21960" y="3629160"/>
            <a:ext cx="6491160" cy="18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21960" y="1558440"/>
            <a:ext cx="649116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15960" indent="-201600">
              <a:spcAft>
                <a:spcPts val="751"/>
              </a:spcAft>
              <a:buClr>
                <a:srgbClr val="ffffff"/>
              </a:buClr>
              <a:buFont typeface="Arial"/>
              <a:buChar char="-"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92240" indent="-291960">
              <a:spcAft>
                <a:spcPts val="751"/>
              </a:spcAft>
              <a:buClr>
                <a:srgbClr val="ffffff"/>
              </a:buClr>
              <a:buFont typeface="Symbol" charset="2"/>
              <a:buChar char=""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-203040">
              <a:spcAft>
                <a:spcPts val="751"/>
              </a:spcAft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-203040">
              <a:spcAft>
                <a:spcPts val="751"/>
              </a:spcAft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-203040">
              <a:spcAft>
                <a:spcPts val="751"/>
              </a:spcAft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45280" y="5851440"/>
            <a:ext cx="166068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900" spc="-1" strike="noStrike">
                <a:solidFill>
                  <a:srgbClr val="b7b7b7"/>
                </a:solidFill>
                <a:latin typeface="Arial"/>
              </a:rPr>
              <a:t>© 2000 Anthony J. Lattanz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753000" y="5840280"/>
            <a:ext cx="68220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900" spc="-1" strike="noStrike">
                <a:solidFill>
                  <a:srgbClr val="b7b7b7"/>
                </a:solidFill>
                <a:latin typeface="Arial"/>
              </a:rPr>
              <a:t>Version 1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680" y="4680"/>
            <a:ext cx="8116920" cy="6086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19720" y="5837400"/>
            <a:ext cx="304776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900" spc="-1" strike="noStrike">
                <a:solidFill>
                  <a:srgbClr val="b7b7b7"/>
                </a:solidFill>
                <a:latin typeface="Arial"/>
              </a:rPr>
              <a:t>Risk Management  - page </a:t>
            </a:r>
            <a:fld id="{364E5D0F-0799-41B4-A5C7-A819BF934AC6}" type="slidenum">
              <a:rPr b="1" lang="en-US" sz="9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12960" y="608040"/>
            <a:ext cx="7215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753000" y="5840280"/>
            <a:ext cx="68220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900" spc="-1" strike="noStrike">
                <a:solidFill>
                  <a:srgbClr val="b7b7b7"/>
                </a:solidFill>
                <a:latin typeface="Arial"/>
              </a:rPr>
              <a:t>Version 1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680" y="4680"/>
            <a:ext cx="8116920" cy="6086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56320" y="5791320"/>
            <a:ext cx="213012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900" spc="-1" strike="noStrike">
                <a:solidFill>
                  <a:srgbClr val="b7b7b7"/>
                </a:solidFill>
                <a:latin typeface="Arial"/>
              </a:rPr>
              <a:t>Risk Management  - page </a:t>
            </a:r>
            <a:fld id="{5CABE680-AD25-4175-B557-931EFEA99B5C}" type="slidenum">
              <a:rPr b="1" lang="en-US" sz="9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12960" y="608040"/>
            <a:ext cx="7215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22320" y="3922560"/>
            <a:ext cx="6502320" cy="15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rnegie Mellon Univers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chool of Computer Scie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ittsburgh, PA 15213-389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© 2000 Anthony J. Lattanz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560" cy="10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06440" y="1426680"/>
            <a:ext cx="7315560" cy="35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Aft>
                <a:spcPts val="751"/>
              </a:spcAft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4480" indent="0" algn="ctr">
              <a:spcAft>
                <a:spcPts val="751"/>
              </a:spcAft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414360" algn="ctr">
              <a:spcAft>
                <a:spcPts val="751"/>
              </a:spcAft>
              <a:buClr>
                <a:srgbClr val="ffffff"/>
              </a:buClr>
              <a:buFont typeface="Arial"/>
              <a:buChar char="-"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800280" algn="ctr">
              <a:spcBef>
                <a:spcPts val="499"/>
              </a:spcBef>
              <a:buClr>
                <a:srgbClr val="ffffff"/>
              </a:buClr>
              <a:buFont typeface="Symbol" charset="2"/>
              <a:buChar char=""/>
              <a:tabLst>
                <a:tab algn="l" pos="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62576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62576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62576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917640" y="712800"/>
            <a:ext cx="6502320" cy="24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isk Managem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914400" y="838080"/>
            <a:ext cx="656748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Risk and Software Lifecyc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90720" y="1600200"/>
            <a:ext cx="6427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ftware is developed in 5 general ph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266760" indent="-165240">
              <a:lnSpc>
                <a:spcPct val="100000"/>
              </a:lnSpc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quirements (gathering and analysi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266760" indent="-165240">
              <a:lnSpc>
                <a:spcPct val="100000"/>
              </a:lnSpc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266760" indent="-165240">
              <a:lnSpc>
                <a:spcPct val="100000"/>
              </a:lnSpc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i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266760" indent="-165240">
              <a:lnSpc>
                <a:spcPct val="100000"/>
              </a:lnSpc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266760" indent="-165240">
              <a:lnSpc>
                <a:spcPct val="100000"/>
              </a:lnSpc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ploy, maintain, decommi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is the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oftware Life Cyc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phase has unique ris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26640" y="808200"/>
            <a:ext cx="6488280" cy="60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Software Lifecycle Models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21960" y="1558440"/>
            <a:ext cx="649116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general schools of though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ig bang” approa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15960" indent="-201600">
              <a:spcAft>
                <a:spcPts val="751"/>
              </a:spcAft>
              <a:buClr>
                <a:srgbClr val="ffffff"/>
              </a:buClr>
              <a:buFont typeface="Arial"/>
              <a:buChar char="-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product is delivered all at o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yclical approa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15960" indent="-201600">
              <a:spcAft>
                <a:spcPts val="751"/>
              </a:spcAft>
              <a:buClr>
                <a:srgbClr val="ffffff"/>
              </a:buClr>
              <a:buFont typeface="Arial"/>
              <a:buChar char="-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product is developed and possibly delivered in inc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26640" y="808200"/>
            <a:ext cx="6488280" cy="60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Water Fall Model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21960" y="1558440"/>
            <a:ext cx="649116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ig Bang” development is usually associated with th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Waterfall Mod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78640" indent="-17208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rliest definition of a software development model (MILSTD 216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78640" indent="-17208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chnology had some influence on the mod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572760" indent="-187200">
              <a:spcAft>
                <a:spcPts val="751"/>
              </a:spcAft>
              <a:buClr>
                <a:srgbClr val="ffffff"/>
              </a:buClr>
              <a:buFont typeface="Arial"/>
              <a:buChar char="-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low code, compiler, debug cyc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78640" indent="-17208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flected the way that other engineering disciplines built thing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78640" indent="-17208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 popular toda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26640" y="808200"/>
            <a:ext cx="6488280" cy="60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Water Fall Model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144440" y="1447920"/>
          <a:ext cx="6093000" cy="3344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4440" y="1447920"/>
                    <a:ext cx="6093000" cy="33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914400" y="4724280"/>
            <a:ext cx="67816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hat are the strengths and weaknesses of  this model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26640" y="808200"/>
            <a:ext cx="6488280" cy="60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Cyclical Models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21960" y="1558440"/>
            <a:ext cx="649116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re are numerous cyclical model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ir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apid application development (RAD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prescribes building and delivering the system in “inch-stones” rather than “mile-stones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velopers iteratively build more function into the system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26640" y="808200"/>
            <a:ext cx="6488280" cy="60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The Spiral Model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5105520"/>
            <a:ext cx="7086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hat are the strengths and weaknesses of  this model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3962520" y="1371600"/>
            <a:ext cx="0" cy="3733920"/>
          </a:xfrm>
          <a:prstGeom prst="line">
            <a:avLst/>
          </a:prstGeom>
          <a:ln w="28440">
            <a:solidFill>
              <a:srgbClr val="ffff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3880" y="3276720"/>
            <a:ext cx="50292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765000" y="1873080"/>
            <a:ext cx="4111200" cy="2317680"/>
            <a:chOff x="765000" y="1873080"/>
            <a:chExt cx="4111200" cy="2317680"/>
          </a:xfrm>
        </p:grpSpPr>
        <p:sp>
          <p:nvSpPr>
            <p:cNvPr id="144" name=""/>
            <p:cNvSpPr/>
            <p:nvPr/>
          </p:nvSpPr>
          <p:spPr>
            <a:xfrm flipH="1">
              <a:off x="3048120" y="2362320"/>
              <a:ext cx="182808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5000" y="1873080"/>
              <a:ext cx="2463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termine objectives,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lternative, constrain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3048480" y="1873080"/>
            <a:ext cx="3881880" cy="2317680"/>
            <a:chOff x="3048480" y="1873080"/>
            <a:chExt cx="3881880" cy="2317680"/>
          </a:xfrm>
        </p:grpSpPr>
        <p:sp>
          <p:nvSpPr>
            <p:cNvPr id="147" name=""/>
            <p:cNvSpPr/>
            <p:nvPr/>
          </p:nvSpPr>
          <p:spPr>
            <a:xfrm>
              <a:off x="3048480" y="2362320"/>
              <a:ext cx="182808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785120" y="1873080"/>
              <a:ext cx="214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dentify and resol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ociated risk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048480" y="2362680"/>
            <a:ext cx="3786480" cy="2166120"/>
            <a:chOff x="3048480" y="2362680"/>
            <a:chExt cx="3786480" cy="2166120"/>
          </a:xfrm>
        </p:grpSpPr>
        <p:sp>
          <p:nvSpPr>
            <p:cNvPr id="150" name=""/>
            <p:cNvSpPr/>
            <p:nvPr/>
          </p:nvSpPr>
          <p:spPr>
            <a:xfrm rot="5400000">
              <a:off x="3048480" y="2362320"/>
              <a:ext cx="182808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804200" y="3886200"/>
              <a:ext cx="2030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velop and verif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oduc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771480" y="2362680"/>
            <a:ext cx="4333320" cy="2242440"/>
            <a:chOff x="771480" y="2362680"/>
            <a:chExt cx="4333320" cy="2242440"/>
          </a:xfrm>
        </p:grpSpPr>
        <p:sp>
          <p:nvSpPr>
            <p:cNvPr id="153" name=""/>
            <p:cNvSpPr/>
            <p:nvPr/>
          </p:nvSpPr>
          <p:spPr>
            <a:xfrm rot="10800000">
              <a:off x="2819520" y="2362680"/>
              <a:ext cx="228528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71480" y="3962520"/>
              <a:ext cx="2577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valuate and valid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oduct, plan next cyc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Software Development Risks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21960" y="1558440"/>
            <a:ext cx="649116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an inherent part of software develop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312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sonal Experie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is often ignored or at best dealt with in an ad-hoc wa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s are not identified proactive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15960" indent="-201600">
              <a:spcAft>
                <a:spcPts val="751"/>
              </a:spcAft>
              <a:buClr>
                <a:srgbClr val="ffffff"/>
              </a:buClr>
              <a:buFont typeface="Arial"/>
              <a:buChar char="-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owed to become problems before any action is tak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Where Do Risks Come From?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21960" y="1558440"/>
            <a:ext cx="649116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re are the..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249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.things we kno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249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.things we know that we don’t kno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249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.things we don’t know that we don’t kno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312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re are even things we don’t want to know... (maybe they will just go away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615000" y="3733920"/>
            <a:ext cx="1514520" cy="20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Scope of Control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21960" y="1558440"/>
            <a:ext cx="649116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re are those risk elements that we can contro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rnal origi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ther risk elements we cannot contro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ernal origi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wever since they effect us, we are obligated to plan for th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y “real-world” project typically has bo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0">
              <a:spcAft>
                <a:spcPts val="751"/>
              </a:spcAft>
              <a:buNone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Sources of System Development Risk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040" y="1787040"/>
            <a:ext cx="670572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 areas of system development are potential sources of software ris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09560" y="2805120"/>
            <a:ext cx="1608840" cy="3988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chnolog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5127480"/>
            <a:ext cx="1600200" cy="3988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691240" y="3556080"/>
            <a:ext cx="1623960" cy="3988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ftwa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715000" y="4365720"/>
            <a:ext cx="1600200" cy="3988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hedu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019160" y="3556080"/>
            <a:ext cx="1647720" cy="3988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ardwa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42920" y="4365720"/>
            <a:ext cx="1623960" cy="3988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op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2666520" y="3784680"/>
            <a:ext cx="3048120" cy="1295280"/>
            <a:chOff x="2666520" y="3784680"/>
            <a:chExt cx="3048120" cy="1295280"/>
          </a:xfrm>
        </p:grpSpPr>
        <p:sp>
          <p:nvSpPr>
            <p:cNvPr id="171" name=""/>
            <p:cNvSpPr/>
            <p:nvPr/>
          </p:nvSpPr>
          <p:spPr>
            <a:xfrm>
              <a:off x="2666880" y="3784680"/>
              <a:ext cx="30477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4190760" y="3784680"/>
              <a:ext cx="1523880" cy="1295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>
              <a:off x="2666520" y="3784680"/>
              <a:ext cx="1523880" cy="1295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2666520" y="3251160"/>
            <a:ext cx="3048120" cy="1295280"/>
            <a:chOff x="2666520" y="3251160"/>
            <a:chExt cx="3048120" cy="1295280"/>
          </a:xfrm>
        </p:grpSpPr>
        <p:sp>
          <p:nvSpPr>
            <p:cNvPr id="175" name=""/>
            <p:cNvSpPr/>
            <p:nvPr/>
          </p:nvSpPr>
          <p:spPr>
            <a:xfrm>
              <a:off x="4190760" y="3251160"/>
              <a:ext cx="1523880" cy="1295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666880" y="4546440"/>
              <a:ext cx="30477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2666520" y="3251160"/>
              <a:ext cx="1523880" cy="1295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2590920" y="3174840"/>
            <a:ext cx="3200400" cy="1981440"/>
            <a:chOff x="2590920" y="3174840"/>
            <a:chExt cx="3200400" cy="1981440"/>
          </a:xfrm>
        </p:grpSpPr>
        <p:sp>
          <p:nvSpPr>
            <p:cNvPr id="179" name=""/>
            <p:cNvSpPr/>
            <p:nvPr/>
          </p:nvSpPr>
          <p:spPr>
            <a:xfrm flipH="1">
              <a:off x="2666520" y="3174840"/>
              <a:ext cx="685800" cy="3812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029200" y="3174840"/>
              <a:ext cx="609480" cy="3812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666880" y="4775040"/>
              <a:ext cx="762120" cy="3812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5029200" y="4774680"/>
              <a:ext cx="685800" cy="3812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5791320" y="4013280"/>
              <a:ext cx="0" cy="380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2590920" y="4013280"/>
              <a:ext cx="0" cy="380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4191120" y="3251160"/>
            <a:ext cx="0" cy="1828800"/>
            <a:chOff x="4191120" y="3251160"/>
            <a:chExt cx="0" cy="1828800"/>
          </a:xfrm>
        </p:grpSpPr>
        <p:sp>
          <p:nvSpPr>
            <p:cNvPr id="186" name=""/>
            <p:cNvSpPr/>
            <p:nvPr/>
          </p:nvSpPr>
          <p:spPr>
            <a:xfrm>
              <a:off x="4191120" y="3251160"/>
              <a:ext cx="0" cy="685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191120" y="4394160"/>
              <a:ext cx="0" cy="685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124080" y="3936960"/>
            <a:ext cx="2133720" cy="3988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Today’s Agenda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21960" y="1558440"/>
            <a:ext cx="649116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is risk anyway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w do we deal with risk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is risk management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do we do when our system fail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n we identify system failures before they occur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n we mitigate system failures proactively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Risk Management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040" y="1447560"/>
            <a:ext cx="6491160" cy="80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Good News: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Risk can be manag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00880" indent="-1242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volves continuous set of activities to identify, confront, and resolve ris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2438280" y="3200400"/>
            <a:ext cx="3276360" cy="2590560"/>
            <a:chOff x="2438280" y="3200400"/>
            <a:chExt cx="3276360" cy="2590560"/>
          </a:xfrm>
        </p:grpSpPr>
        <p:sp>
          <p:nvSpPr>
            <p:cNvPr id="192" name=""/>
            <p:cNvSpPr/>
            <p:nvPr/>
          </p:nvSpPr>
          <p:spPr>
            <a:xfrm>
              <a:off x="2438280" y="4435200"/>
              <a:ext cx="2988360" cy="1355760"/>
            </a:xfrm>
            <a:custGeom>
              <a:avLst/>
              <a:gdLst/>
              <a:ahLst/>
              <a:rect l="l" t="t" r="r" b="b"/>
              <a:pathLst>
                <a:path w="1554" h="851">
                  <a:moveTo>
                    <a:pt x="42" y="0"/>
                  </a:moveTo>
                  <a:lnTo>
                    <a:pt x="57" y="15"/>
                  </a:lnTo>
                  <a:lnTo>
                    <a:pt x="75" y="40"/>
                  </a:lnTo>
                  <a:lnTo>
                    <a:pt x="96" y="64"/>
                  </a:lnTo>
                  <a:lnTo>
                    <a:pt x="117" y="91"/>
                  </a:lnTo>
                  <a:lnTo>
                    <a:pt x="135" y="118"/>
                  </a:lnTo>
                  <a:lnTo>
                    <a:pt x="156" y="145"/>
                  </a:lnTo>
                  <a:lnTo>
                    <a:pt x="174" y="169"/>
                  </a:lnTo>
                  <a:lnTo>
                    <a:pt x="189" y="190"/>
                  </a:lnTo>
                  <a:lnTo>
                    <a:pt x="201" y="208"/>
                  </a:lnTo>
                  <a:lnTo>
                    <a:pt x="216" y="221"/>
                  </a:lnTo>
                  <a:lnTo>
                    <a:pt x="228" y="233"/>
                  </a:lnTo>
                  <a:lnTo>
                    <a:pt x="243" y="242"/>
                  </a:lnTo>
                  <a:lnTo>
                    <a:pt x="255" y="251"/>
                  </a:lnTo>
                  <a:lnTo>
                    <a:pt x="267" y="257"/>
                  </a:lnTo>
                  <a:lnTo>
                    <a:pt x="277" y="263"/>
                  </a:lnTo>
                  <a:lnTo>
                    <a:pt x="289" y="269"/>
                  </a:lnTo>
                  <a:lnTo>
                    <a:pt x="307" y="278"/>
                  </a:lnTo>
                  <a:lnTo>
                    <a:pt x="325" y="281"/>
                  </a:lnTo>
                  <a:lnTo>
                    <a:pt x="343" y="290"/>
                  </a:lnTo>
                  <a:lnTo>
                    <a:pt x="361" y="308"/>
                  </a:lnTo>
                  <a:lnTo>
                    <a:pt x="373" y="329"/>
                  </a:lnTo>
                  <a:lnTo>
                    <a:pt x="376" y="335"/>
                  </a:lnTo>
                  <a:lnTo>
                    <a:pt x="385" y="341"/>
                  </a:lnTo>
                  <a:lnTo>
                    <a:pt x="406" y="347"/>
                  </a:lnTo>
                  <a:lnTo>
                    <a:pt x="424" y="353"/>
                  </a:lnTo>
                  <a:lnTo>
                    <a:pt x="442" y="359"/>
                  </a:lnTo>
                  <a:lnTo>
                    <a:pt x="463" y="368"/>
                  </a:lnTo>
                  <a:lnTo>
                    <a:pt x="481" y="380"/>
                  </a:lnTo>
                  <a:lnTo>
                    <a:pt x="499" y="392"/>
                  </a:lnTo>
                  <a:lnTo>
                    <a:pt x="511" y="405"/>
                  </a:lnTo>
                  <a:lnTo>
                    <a:pt x="520" y="417"/>
                  </a:lnTo>
                  <a:lnTo>
                    <a:pt x="523" y="429"/>
                  </a:lnTo>
                  <a:lnTo>
                    <a:pt x="514" y="444"/>
                  </a:lnTo>
                  <a:lnTo>
                    <a:pt x="496" y="447"/>
                  </a:lnTo>
                  <a:lnTo>
                    <a:pt x="475" y="447"/>
                  </a:lnTo>
                  <a:lnTo>
                    <a:pt x="451" y="447"/>
                  </a:lnTo>
                  <a:lnTo>
                    <a:pt x="436" y="450"/>
                  </a:lnTo>
                  <a:lnTo>
                    <a:pt x="418" y="456"/>
                  </a:lnTo>
                  <a:lnTo>
                    <a:pt x="397" y="459"/>
                  </a:lnTo>
                  <a:lnTo>
                    <a:pt x="373" y="462"/>
                  </a:lnTo>
                  <a:lnTo>
                    <a:pt x="346" y="465"/>
                  </a:lnTo>
                  <a:lnTo>
                    <a:pt x="319" y="465"/>
                  </a:lnTo>
                  <a:lnTo>
                    <a:pt x="292" y="465"/>
                  </a:lnTo>
                  <a:lnTo>
                    <a:pt x="267" y="459"/>
                  </a:lnTo>
                  <a:lnTo>
                    <a:pt x="289" y="480"/>
                  </a:lnTo>
                  <a:lnTo>
                    <a:pt x="322" y="504"/>
                  </a:lnTo>
                  <a:lnTo>
                    <a:pt x="364" y="528"/>
                  </a:lnTo>
                  <a:lnTo>
                    <a:pt x="412" y="552"/>
                  </a:lnTo>
                  <a:lnTo>
                    <a:pt x="460" y="576"/>
                  </a:lnTo>
                  <a:lnTo>
                    <a:pt x="514" y="598"/>
                  </a:lnTo>
                  <a:lnTo>
                    <a:pt x="562" y="613"/>
                  </a:lnTo>
                  <a:lnTo>
                    <a:pt x="607" y="622"/>
                  </a:lnTo>
                  <a:lnTo>
                    <a:pt x="628" y="619"/>
                  </a:lnTo>
                  <a:lnTo>
                    <a:pt x="658" y="619"/>
                  </a:lnTo>
                  <a:lnTo>
                    <a:pt x="688" y="625"/>
                  </a:lnTo>
                  <a:lnTo>
                    <a:pt x="724" y="634"/>
                  </a:lnTo>
                  <a:lnTo>
                    <a:pt x="760" y="643"/>
                  </a:lnTo>
                  <a:lnTo>
                    <a:pt x="790" y="652"/>
                  </a:lnTo>
                  <a:lnTo>
                    <a:pt x="817" y="661"/>
                  </a:lnTo>
                  <a:lnTo>
                    <a:pt x="835" y="667"/>
                  </a:lnTo>
                  <a:lnTo>
                    <a:pt x="850" y="667"/>
                  </a:lnTo>
                  <a:lnTo>
                    <a:pt x="866" y="670"/>
                  </a:lnTo>
                  <a:lnTo>
                    <a:pt x="884" y="667"/>
                  </a:lnTo>
                  <a:lnTo>
                    <a:pt x="902" y="667"/>
                  </a:lnTo>
                  <a:lnTo>
                    <a:pt x="920" y="664"/>
                  </a:lnTo>
                  <a:lnTo>
                    <a:pt x="935" y="664"/>
                  </a:lnTo>
                  <a:lnTo>
                    <a:pt x="950" y="664"/>
                  </a:lnTo>
                  <a:lnTo>
                    <a:pt x="965" y="664"/>
                  </a:lnTo>
                  <a:lnTo>
                    <a:pt x="977" y="664"/>
                  </a:lnTo>
                  <a:lnTo>
                    <a:pt x="992" y="661"/>
                  </a:lnTo>
                  <a:lnTo>
                    <a:pt x="1004" y="661"/>
                  </a:lnTo>
                  <a:lnTo>
                    <a:pt x="1022" y="658"/>
                  </a:lnTo>
                  <a:lnTo>
                    <a:pt x="1037" y="655"/>
                  </a:lnTo>
                  <a:lnTo>
                    <a:pt x="1052" y="652"/>
                  </a:lnTo>
                  <a:lnTo>
                    <a:pt x="1070" y="652"/>
                  </a:lnTo>
                  <a:lnTo>
                    <a:pt x="1085" y="649"/>
                  </a:lnTo>
                  <a:lnTo>
                    <a:pt x="1097" y="649"/>
                  </a:lnTo>
                  <a:lnTo>
                    <a:pt x="1109" y="649"/>
                  </a:lnTo>
                  <a:lnTo>
                    <a:pt x="1121" y="649"/>
                  </a:lnTo>
                  <a:lnTo>
                    <a:pt x="1130" y="649"/>
                  </a:lnTo>
                  <a:lnTo>
                    <a:pt x="1142" y="646"/>
                  </a:lnTo>
                  <a:lnTo>
                    <a:pt x="1157" y="643"/>
                  </a:lnTo>
                  <a:lnTo>
                    <a:pt x="1175" y="634"/>
                  </a:lnTo>
                  <a:lnTo>
                    <a:pt x="1196" y="622"/>
                  </a:lnTo>
                  <a:lnTo>
                    <a:pt x="1223" y="607"/>
                  </a:lnTo>
                  <a:lnTo>
                    <a:pt x="1247" y="595"/>
                  </a:lnTo>
                  <a:lnTo>
                    <a:pt x="1274" y="586"/>
                  </a:lnTo>
                  <a:lnTo>
                    <a:pt x="1301" y="579"/>
                  </a:lnTo>
                  <a:lnTo>
                    <a:pt x="1322" y="570"/>
                  </a:lnTo>
                  <a:lnTo>
                    <a:pt x="1343" y="558"/>
                  </a:lnTo>
                  <a:lnTo>
                    <a:pt x="1358" y="546"/>
                  </a:lnTo>
                  <a:lnTo>
                    <a:pt x="1370" y="528"/>
                  </a:lnTo>
                  <a:lnTo>
                    <a:pt x="1379" y="510"/>
                  </a:lnTo>
                  <a:lnTo>
                    <a:pt x="1391" y="489"/>
                  </a:lnTo>
                  <a:lnTo>
                    <a:pt x="1406" y="471"/>
                  </a:lnTo>
                  <a:lnTo>
                    <a:pt x="1421" y="453"/>
                  </a:lnTo>
                  <a:lnTo>
                    <a:pt x="1437" y="438"/>
                  </a:lnTo>
                  <a:lnTo>
                    <a:pt x="1452" y="426"/>
                  </a:lnTo>
                  <a:lnTo>
                    <a:pt x="1467" y="414"/>
                  </a:lnTo>
                  <a:lnTo>
                    <a:pt x="1482" y="408"/>
                  </a:lnTo>
                  <a:lnTo>
                    <a:pt x="1500" y="377"/>
                  </a:lnTo>
                  <a:lnTo>
                    <a:pt x="1521" y="341"/>
                  </a:lnTo>
                  <a:lnTo>
                    <a:pt x="1536" y="305"/>
                  </a:lnTo>
                  <a:lnTo>
                    <a:pt x="1548" y="278"/>
                  </a:lnTo>
                  <a:lnTo>
                    <a:pt x="1554" y="293"/>
                  </a:lnTo>
                  <a:lnTo>
                    <a:pt x="1554" y="326"/>
                  </a:lnTo>
                  <a:lnTo>
                    <a:pt x="1539" y="371"/>
                  </a:lnTo>
                  <a:lnTo>
                    <a:pt x="1506" y="414"/>
                  </a:lnTo>
                  <a:lnTo>
                    <a:pt x="1500" y="426"/>
                  </a:lnTo>
                  <a:lnTo>
                    <a:pt x="1494" y="444"/>
                  </a:lnTo>
                  <a:lnTo>
                    <a:pt x="1485" y="465"/>
                  </a:lnTo>
                  <a:lnTo>
                    <a:pt x="1476" y="486"/>
                  </a:lnTo>
                  <a:lnTo>
                    <a:pt x="1461" y="507"/>
                  </a:lnTo>
                  <a:lnTo>
                    <a:pt x="1446" y="528"/>
                  </a:lnTo>
                  <a:lnTo>
                    <a:pt x="1427" y="543"/>
                  </a:lnTo>
                  <a:lnTo>
                    <a:pt x="1406" y="555"/>
                  </a:lnTo>
                  <a:lnTo>
                    <a:pt x="1394" y="570"/>
                  </a:lnTo>
                  <a:lnTo>
                    <a:pt x="1382" y="586"/>
                  </a:lnTo>
                  <a:lnTo>
                    <a:pt x="1367" y="601"/>
                  </a:lnTo>
                  <a:lnTo>
                    <a:pt x="1352" y="616"/>
                  </a:lnTo>
                  <a:lnTo>
                    <a:pt x="1337" y="631"/>
                  </a:lnTo>
                  <a:lnTo>
                    <a:pt x="1325" y="646"/>
                  </a:lnTo>
                  <a:lnTo>
                    <a:pt x="1310" y="658"/>
                  </a:lnTo>
                  <a:lnTo>
                    <a:pt x="1298" y="667"/>
                  </a:lnTo>
                  <a:lnTo>
                    <a:pt x="1286" y="676"/>
                  </a:lnTo>
                  <a:lnTo>
                    <a:pt x="1274" y="691"/>
                  </a:lnTo>
                  <a:lnTo>
                    <a:pt x="1259" y="706"/>
                  </a:lnTo>
                  <a:lnTo>
                    <a:pt x="1244" y="721"/>
                  </a:lnTo>
                  <a:lnTo>
                    <a:pt x="1223" y="739"/>
                  </a:lnTo>
                  <a:lnTo>
                    <a:pt x="1196" y="757"/>
                  </a:lnTo>
                  <a:lnTo>
                    <a:pt x="1163" y="773"/>
                  </a:lnTo>
                  <a:lnTo>
                    <a:pt x="1121" y="788"/>
                  </a:lnTo>
                  <a:lnTo>
                    <a:pt x="1145" y="794"/>
                  </a:lnTo>
                  <a:lnTo>
                    <a:pt x="1127" y="800"/>
                  </a:lnTo>
                  <a:lnTo>
                    <a:pt x="1109" y="806"/>
                  </a:lnTo>
                  <a:lnTo>
                    <a:pt x="1091" y="812"/>
                  </a:lnTo>
                  <a:lnTo>
                    <a:pt x="1073" y="815"/>
                  </a:lnTo>
                  <a:lnTo>
                    <a:pt x="1052" y="821"/>
                  </a:lnTo>
                  <a:lnTo>
                    <a:pt x="1028" y="824"/>
                  </a:lnTo>
                  <a:lnTo>
                    <a:pt x="1004" y="827"/>
                  </a:lnTo>
                  <a:lnTo>
                    <a:pt x="977" y="833"/>
                  </a:lnTo>
                  <a:lnTo>
                    <a:pt x="947" y="836"/>
                  </a:lnTo>
                  <a:lnTo>
                    <a:pt x="923" y="839"/>
                  </a:lnTo>
                  <a:lnTo>
                    <a:pt x="899" y="839"/>
                  </a:lnTo>
                  <a:lnTo>
                    <a:pt x="881" y="839"/>
                  </a:lnTo>
                  <a:lnTo>
                    <a:pt x="860" y="839"/>
                  </a:lnTo>
                  <a:lnTo>
                    <a:pt x="841" y="839"/>
                  </a:lnTo>
                  <a:lnTo>
                    <a:pt x="826" y="842"/>
                  </a:lnTo>
                  <a:lnTo>
                    <a:pt x="808" y="845"/>
                  </a:lnTo>
                  <a:lnTo>
                    <a:pt x="790" y="848"/>
                  </a:lnTo>
                  <a:lnTo>
                    <a:pt x="769" y="851"/>
                  </a:lnTo>
                  <a:lnTo>
                    <a:pt x="748" y="851"/>
                  </a:lnTo>
                  <a:lnTo>
                    <a:pt x="727" y="851"/>
                  </a:lnTo>
                  <a:lnTo>
                    <a:pt x="706" y="848"/>
                  </a:lnTo>
                  <a:lnTo>
                    <a:pt x="685" y="845"/>
                  </a:lnTo>
                  <a:lnTo>
                    <a:pt x="661" y="842"/>
                  </a:lnTo>
                  <a:lnTo>
                    <a:pt x="637" y="836"/>
                  </a:lnTo>
                  <a:lnTo>
                    <a:pt x="610" y="830"/>
                  </a:lnTo>
                  <a:lnTo>
                    <a:pt x="580" y="824"/>
                  </a:lnTo>
                  <a:lnTo>
                    <a:pt x="547" y="815"/>
                  </a:lnTo>
                  <a:lnTo>
                    <a:pt x="514" y="803"/>
                  </a:lnTo>
                  <a:lnTo>
                    <a:pt x="478" y="788"/>
                  </a:lnTo>
                  <a:lnTo>
                    <a:pt x="442" y="767"/>
                  </a:lnTo>
                  <a:lnTo>
                    <a:pt x="409" y="745"/>
                  </a:lnTo>
                  <a:lnTo>
                    <a:pt x="379" y="715"/>
                  </a:lnTo>
                  <a:lnTo>
                    <a:pt x="349" y="715"/>
                  </a:lnTo>
                  <a:lnTo>
                    <a:pt x="325" y="694"/>
                  </a:lnTo>
                  <a:lnTo>
                    <a:pt x="298" y="667"/>
                  </a:lnTo>
                  <a:lnTo>
                    <a:pt x="270" y="637"/>
                  </a:lnTo>
                  <a:lnTo>
                    <a:pt x="240" y="601"/>
                  </a:lnTo>
                  <a:lnTo>
                    <a:pt x="213" y="564"/>
                  </a:lnTo>
                  <a:lnTo>
                    <a:pt x="189" y="525"/>
                  </a:lnTo>
                  <a:lnTo>
                    <a:pt x="168" y="489"/>
                  </a:lnTo>
                  <a:lnTo>
                    <a:pt x="153" y="453"/>
                  </a:lnTo>
                  <a:lnTo>
                    <a:pt x="138" y="435"/>
                  </a:lnTo>
                  <a:lnTo>
                    <a:pt x="117" y="432"/>
                  </a:lnTo>
                  <a:lnTo>
                    <a:pt x="96" y="444"/>
                  </a:lnTo>
                  <a:lnTo>
                    <a:pt x="87" y="477"/>
                  </a:lnTo>
                  <a:lnTo>
                    <a:pt x="84" y="516"/>
                  </a:lnTo>
                  <a:lnTo>
                    <a:pt x="75" y="558"/>
                  </a:lnTo>
                  <a:lnTo>
                    <a:pt x="60" y="598"/>
                  </a:lnTo>
                  <a:lnTo>
                    <a:pt x="36" y="625"/>
                  </a:lnTo>
                  <a:lnTo>
                    <a:pt x="21" y="631"/>
                  </a:lnTo>
                  <a:lnTo>
                    <a:pt x="24" y="616"/>
                  </a:lnTo>
                  <a:lnTo>
                    <a:pt x="33" y="592"/>
                  </a:lnTo>
                  <a:lnTo>
                    <a:pt x="45" y="564"/>
                  </a:lnTo>
                  <a:lnTo>
                    <a:pt x="45" y="543"/>
                  </a:lnTo>
                  <a:lnTo>
                    <a:pt x="39" y="525"/>
                  </a:lnTo>
                  <a:lnTo>
                    <a:pt x="33" y="507"/>
                  </a:lnTo>
                  <a:lnTo>
                    <a:pt x="36" y="486"/>
                  </a:lnTo>
                  <a:lnTo>
                    <a:pt x="42" y="459"/>
                  </a:lnTo>
                  <a:lnTo>
                    <a:pt x="39" y="429"/>
                  </a:lnTo>
                  <a:lnTo>
                    <a:pt x="33" y="398"/>
                  </a:lnTo>
                  <a:lnTo>
                    <a:pt x="27" y="374"/>
                  </a:lnTo>
                  <a:lnTo>
                    <a:pt x="18" y="353"/>
                  </a:lnTo>
                  <a:lnTo>
                    <a:pt x="6" y="329"/>
                  </a:lnTo>
                  <a:lnTo>
                    <a:pt x="0" y="302"/>
                  </a:lnTo>
                  <a:lnTo>
                    <a:pt x="3" y="275"/>
                  </a:lnTo>
                  <a:lnTo>
                    <a:pt x="12" y="233"/>
                  </a:lnTo>
                  <a:lnTo>
                    <a:pt x="15" y="163"/>
                  </a:lnTo>
                  <a:lnTo>
                    <a:pt x="24" y="82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525040" y="3200400"/>
              <a:ext cx="3189600" cy="1451520"/>
            </a:xfrm>
            <a:custGeom>
              <a:avLst/>
              <a:gdLst/>
              <a:ahLst/>
              <a:rect l="l" t="t" r="r" b="b"/>
              <a:pathLst>
                <a:path w="1659" h="911">
                  <a:moveTo>
                    <a:pt x="0" y="718"/>
                  </a:moveTo>
                  <a:lnTo>
                    <a:pt x="18" y="691"/>
                  </a:lnTo>
                  <a:lnTo>
                    <a:pt x="36" y="664"/>
                  </a:lnTo>
                  <a:lnTo>
                    <a:pt x="48" y="628"/>
                  </a:lnTo>
                  <a:lnTo>
                    <a:pt x="54" y="582"/>
                  </a:lnTo>
                  <a:lnTo>
                    <a:pt x="69" y="561"/>
                  </a:lnTo>
                  <a:lnTo>
                    <a:pt x="87" y="537"/>
                  </a:lnTo>
                  <a:lnTo>
                    <a:pt x="102" y="513"/>
                  </a:lnTo>
                  <a:lnTo>
                    <a:pt x="117" y="486"/>
                  </a:lnTo>
                  <a:lnTo>
                    <a:pt x="132" y="459"/>
                  </a:lnTo>
                  <a:lnTo>
                    <a:pt x="147" y="431"/>
                  </a:lnTo>
                  <a:lnTo>
                    <a:pt x="162" y="410"/>
                  </a:lnTo>
                  <a:lnTo>
                    <a:pt x="174" y="389"/>
                  </a:lnTo>
                  <a:lnTo>
                    <a:pt x="189" y="371"/>
                  </a:lnTo>
                  <a:lnTo>
                    <a:pt x="204" y="356"/>
                  </a:lnTo>
                  <a:lnTo>
                    <a:pt x="222" y="344"/>
                  </a:lnTo>
                  <a:lnTo>
                    <a:pt x="244" y="329"/>
                  </a:lnTo>
                  <a:lnTo>
                    <a:pt x="262" y="320"/>
                  </a:lnTo>
                  <a:lnTo>
                    <a:pt x="280" y="311"/>
                  </a:lnTo>
                  <a:lnTo>
                    <a:pt x="298" y="305"/>
                  </a:lnTo>
                  <a:lnTo>
                    <a:pt x="313" y="299"/>
                  </a:lnTo>
                  <a:lnTo>
                    <a:pt x="340" y="284"/>
                  </a:lnTo>
                  <a:lnTo>
                    <a:pt x="367" y="263"/>
                  </a:lnTo>
                  <a:lnTo>
                    <a:pt x="385" y="247"/>
                  </a:lnTo>
                  <a:lnTo>
                    <a:pt x="394" y="238"/>
                  </a:lnTo>
                  <a:lnTo>
                    <a:pt x="433" y="226"/>
                  </a:lnTo>
                  <a:lnTo>
                    <a:pt x="481" y="217"/>
                  </a:lnTo>
                  <a:lnTo>
                    <a:pt x="535" y="205"/>
                  </a:lnTo>
                  <a:lnTo>
                    <a:pt x="592" y="196"/>
                  </a:lnTo>
                  <a:lnTo>
                    <a:pt x="652" y="190"/>
                  </a:lnTo>
                  <a:lnTo>
                    <a:pt x="709" y="184"/>
                  </a:lnTo>
                  <a:lnTo>
                    <a:pt x="760" y="184"/>
                  </a:lnTo>
                  <a:lnTo>
                    <a:pt x="805" y="184"/>
                  </a:lnTo>
                  <a:lnTo>
                    <a:pt x="827" y="196"/>
                  </a:lnTo>
                  <a:lnTo>
                    <a:pt x="848" y="205"/>
                  </a:lnTo>
                  <a:lnTo>
                    <a:pt x="875" y="217"/>
                  </a:lnTo>
                  <a:lnTo>
                    <a:pt x="905" y="229"/>
                  </a:lnTo>
                  <a:lnTo>
                    <a:pt x="941" y="238"/>
                  </a:lnTo>
                  <a:lnTo>
                    <a:pt x="977" y="247"/>
                  </a:lnTo>
                  <a:lnTo>
                    <a:pt x="1019" y="250"/>
                  </a:lnTo>
                  <a:lnTo>
                    <a:pt x="1064" y="253"/>
                  </a:lnTo>
                  <a:lnTo>
                    <a:pt x="1097" y="269"/>
                  </a:lnTo>
                  <a:lnTo>
                    <a:pt x="1145" y="296"/>
                  </a:lnTo>
                  <a:lnTo>
                    <a:pt x="1205" y="332"/>
                  </a:lnTo>
                  <a:lnTo>
                    <a:pt x="1268" y="377"/>
                  </a:lnTo>
                  <a:lnTo>
                    <a:pt x="1331" y="431"/>
                  </a:lnTo>
                  <a:lnTo>
                    <a:pt x="1392" y="492"/>
                  </a:lnTo>
                  <a:lnTo>
                    <a:pt x="1446" y="558"/>
                  </a:lnTo>
                  <a:lnTo>
                    <a:pt x="1488" y="628"/>
                  </a:lnTo>
                  <a:lnTo>
                    <a:pt x="1476" y="625"/>
                  </a:lnTo>
                  <a:lnTo>
                    <a:pt x="1464" y="621"/>
                  </a:lnTo>
                  <a:lnTo>
                    <a:pt x="1455" y="618"/>
                  </a:lnTo>
                  <a:lnTo>
                    <a:pt x="1443" y="615"/>
                  </a:lnTo>
                  <a:lnTo>
                    <a:pt x="1431" y="615"/>
                  </a:lnTo>
                  <a:lnTo>
                    <a:pt x="1419" y="615"/>
                  </a:lnTo>
                  <a:lnTo>
                    <a:pt x="1404" y="615"/>
                  </a:lnTo>
                  <a:lnTo>
                    <a:pt x="1386" y="615"/>
                  </a:lnTo>
                  <a:lnTo>
                    <a:pt x="1367" y="612"/>
                  </a:lnTo>
                  <a:lnTo>
                    <a:pt x="1346" y="609"/>
                  </a:lnTo>
                  <a:lnTo>
                    <a:pt x="1325" y="606"/>
                  </a:lnTo>
                  <a:lnTo>
                    <a:pt x="1304" y="603"/>
                  </a:lnTo>
                  <a:lnTo>
                    <a:pt x="1283" y="600"/>
                  </a:lnTo>
                  <a:lnTo>
                    <a:pt x="1262" y="597"/>
                  </a:lnTo>
                  <a:lnTo>
                    <a:pt x="1244" y="597"/>
                  </a:lnTo>
                  <a:lnTo>
                    <a:pt x="1226" y="597"/>
                  </a:lnTo>
                  <a:lnTo>
                    <a:pt x="1208" y="597"/>
                  </a:lnTo>
                  <a:lnTo>
                    <a:pt x="1190" y="597"/>
                  </a:lnTo>
                  <a:lnTo>
                    <a:pt x="1172" y="594"/>
                  </a:lnTo>
                  <a:lnTo>
                    <a:pt x="1154" y="591"/>
                  </a:lnTo>
                  <a:lnTo>
                    <a:pt x="1136" y="591"/>
                  </a:lnTo>
                  <a:lnTo>
                    <a:pt x="1124" y="588"/>
                  </a:lnTo>
                  <a:lnTo>
                    <a:pt x="1115" y="588"/>
                  </a:lnTo>
                  <a:lnTo>
                    <a:pt x="1112" y="588"/>
                  </a:lnTo>
                  <a:lnTo>
                    <a:pt x="1127" y="606"/>
                  </a:lnTo>
                  <a:lnTo>
                    <a:pt x="1148" y="628"/>
                  </a:lnTo>
                  <a:lnTo>
                    <a:pt x="1169" y="649"/>
                  </a:lnTo>
                  <a:lnTo>
                    <a:pt x="1187" y="676"/>
                  </a:lnTo>
                  <a:lnTo>
                    <a:pt x="1199" y="691"/>
                  </a:lnTo>
                  <a:lnTo>
                    <a:pt x="1214" y="703"/>
                  </a:lnTo>
                  <a:lnTo>
                    <a:pt x="1232" y="715"/>
                  </a:lnTo>
                  <a:lnTo>
                    <a:pt x="1253" y="727"/>
                  </a:lnTo>
                  <a:lnTo>
                    <a:pt x="1274" y="739"/>
                  </a:lnTo>
                  <a:lnTo>
                    <a:pt x="1295" y="748"/>
                  </a:lnTo>
                  <a:lnTo>
                    <a:pt x="1313" y="754"/>
                  </a:lnTo>
                  <a:lnTo>
                    <a:pt x="1328" y="757"/>
                  </a:lnTo>
                  <a:lnTo>
                    <a:pt x="1352" y="763"/>
                  </a:lnTo>
                  <a:lnTo>
                    <a:pt x="1376" y="772"/>
                  </a:lnTo>
                  <a:lnTo>
                    <a:pt x="1398" y="784"/>
                  </a:lnTo>
                  <a:lnTo>
                    <a:pt x="1416" y="802"/>
                  </a:lnTo>
                  <a:lnTo>
                    <a:pt x="1428" y="815"/>
                  </a:lnTo>
                  <a:lnTo>
                    <a:pt x="1440" y="824"/>
                  </a:lnTo>
                  <a:lnTo>
                    <a:pt x="1458" y="833"/>
                  </a:lnTo>
                  <a:lnTo>
                    <a:pt x="1473" y="842"/>
                  </a:lnTo>
                  <a:lnTo>
                    <a:pt x="1491" y="851"/>
                  </a:lnTo>
                  <a:lnTo>
                    <a:pt x="1509" y="860"/>
                  </a:lnTo>
                  <a:lnTo>
                    <a:pt x="1524" y="869"/>
                  </a:lnTo>
                  <a:lnTo>
                    <a:pt x="1536" y="875"/>
                  </a:lnTo>
                  <a:lnTo>
                    <a:pt x="1548" y="881"/>
                  </a:lnTo>
                  <a:lnTo>
                    <a:pt x="1560" y="887"/>
                  </a:lnTo>
                  <a:lnTo>
                    <a:pt x="1575" y="893"/>
                  </a:lnTo>
                  <a:lnTo>
                    <a:pt x="1590" y="899"/>
                  </a:lnTo>
                  <a:lnTo>
                    <a:pt x="1605" y="905"/>
                  </a:lnTo>
                  <a:lnTo>
                    <a:pt x="1617" y="908"/>
                  </a:lnTo>
                  <a:lnTo>
                    <a:pt x="1623" y="911"/>
                  </a:lnTo>
                  <a:lnTo>
                    <a:pt x="1626" y="911"/>
                  </a:lnTo>
                  <a:lnTo>
                    <a:pt x="1644" y="863"/>
                  </a:lnTo>
                  <a:lnTo>
                    <a:pt x="1656" y="805"/>
                  </a:lnTo>
                  <a:lnTo>
                    <a:pt x="1659" y="754"/>
                  </a:lnTo>
                  <a:lnTo>
                    <a:pt x="1653" y="724"/>
                  </a:lnTo>
                  <a:lnTo>
                    <a:pt x="1650" y="694"/>
                  </a:lnTo>
                  <a:lnTo>
                    <a:pt x="1650" y="667"/>
                  </a:lnTo>
                  <a:lnTo>
                    <a:pt x="1647" y="643"/>
                  </a:lnTo>
                  <a:lnTo>
                    <a:pt x="1644" y="618"/>
                  </a:lnTo>
                  <a:lnTo>
                    <a:pt x="1638" y="597"/>
                  </a:lnTo>
                  <a:lnTo>
                    <a:pt x="1638" y="585"/>
                  </a:lnTo>
                  <a:lnTo>
                    <a:pt x="1644" y="573"/>
                  </a:lnTo>
                  <a:lnTo>
                    <a:pt x="1650" y="561"/>
                  </a:lnTo>
                  <a:lnTo>
                    <a:pt x="1653" y="546"/>
                  </a:lnTo>
                  <a:lnTo>
                    <a:pt x="1653" y="525"/>
                  </a:lnTo>
                  <a:lnTo>
                    <a:pt x="1647" y="501"/>
                  </a:lnTo>
                  <a:lnTo>
                    <a:pt x="1647" y="468"/>
                  </a:lnTo>
                  <a:lnTo>
                    <a:pt x="1647" y="444"/>
                  </a:lnTo>
                  <a:lnTo>
                    <a:pt x="1644" y="437"/>
                  </a:lnTo>
                  <a:lnTo>
                    <a:pt x="1638" y="447"/>
                  </a:lnTo>
                  <a:lnTo>
                    <a:pt x="1632" y="468"/>
                  </a:lnTo>
                  <a:lnTo>
                    <a:pt x="1623" y="492"/>
                  </a:lnTo>
                  <a:lnTo>
                    <a:pt x="1614" y="516"/>
                  </a:lnTo>
                  <a:lnTo>
                    <a:pt x="1605" y="540"/>
                  </a:lnTo>
                  <a:lnTo>
                    <a:pt x="1599" y="564"/>
                  </a:lnTo>
                  <a:lnTo>
                    <a:pt x="1590" y="582"/>
                  </a:lnTo>
                  <a:lnTo>
                    <a:pt x="1575" y="594"/>
                  </a:lnTo>
                  <a:lnTo>
                    <a:pt x="1560" y="621"/>
                  </a:lnTo>
                  <a:lnTo>
                    <a:pt x="1545" y="673"/>
                  </a:lnTo>
                  <a:lnTo>
                    <a:pt x="1536" y="606"/>
                  </a:lnTo>
                  <a:lnTo>
                    <a:pt x="1521" y="552"/>
                  </a:lnTo>
                  <a:lnTo>
                    <a:pt x="1503" y="504"/>
                  </a:lnTo>
                  <a:lnTo>
                    <a:pt x="1488" y="459"/>
                  </a:lnTo>
                  <a:lnTo>
                    <a:pt x="1479" y="434"/>
                  </a:lnTo>
                  <a:lnTo>
                    <a:pt x="1470" y="404"/>
                  </a:lnTo>
                  <a:lnTo>
                    <a:pt x="1458" y="374"/>
                  </a:lnTo>
                  <a:lnTo>
                    <a:pt x="1443" y="341"/>
                  </a:lnTo>
                  <a:lnTo>
                    <a:pt x="1428" y="311"/>
                  </a:lnTo>
                  <a:lnTo>
                    <a:pt x="1407" y="278"/>
                  </a:lnTo>
                  <a:lnTo>
                    <a:pt x="1382" y="250"/>
                  </a:lnTo>
                  <a:lnTo>
                    <a:pt x="1358" y="223"/>
                  </a:lnTo>
                  <a:lnTo>
                    <a:pt x="1334" y="202"/>
                  </a:lnTo>
                  <a:lnTo>
                    <a:pt x="1313" y="187"/>
                  </a:lnTo>
                  <a:lnTo>
                    <a:pt x="1292" y="172"/>
                  </a:lnTo>
                  <a:lnTo>
                    <a:pt x="1274" y="163"/>
                  </a:lnTo>
                  <a:lnTo>
                    <a:pt x="1256" y="151"/>
                  </a:lnTo>
                  <a:lnTo>
                    <a:pt x="1238" y="142"/>
                  </a:lnTo>
                  <a:lnTo>
                    <a:pt x="1217" y="127"/>
                  </a:lnTo>
                  <a:lnTo>
                    <a:pt x="1196" y="112"/>
                  </a:lnTo>
                  <a:lnTo>
                    <a:pt x="1172" y="94"/>
                  </a:lnTo>
                  <a:lnTo>
                    <a:pt x="1142" y="79"/>
                  </a:lnTo>
                  <a:lnTo>
                    <a:pt x="1115" y="66"/>
                  </a:lnTo>
                  <a:lnTo>
                    <a:pt x="1085" y="54"/>
                  </a:lnTo>
                  <a:lnTo>
                    <a:pt x="1055" y="45"/>
                  </a:lnTo>
                  <a:lnTo>
                    <a:pt x="1028" y="36"/>
                  </a:lnTo>
                  <a:lnTo>
                    <a:pt x="1001" y="30"/>
                  </a:lnTo>
                  <a:lnTo>
                    <a:pt x="980" y="27"/>
                  </a:lnTo>
                  <a:lnTo>
                    <a:pt x="962" y="24"/>
                  </a:lnTo>
                  <a:lnTo>
                    <a:pt x="947" y="18"/>
                  </a:lnTo>
                  <a:lnTo>
                    <a:pt x="929" y="12"/>
                  </a:lnTo>
                  <a:lnTo>
                    <a:pt x="911" y="6"/>
                  </a:lnTo>
                  <a:lnTo>
                    <a:pt x="893" y="3"/>
                  </a:lnTo>
                  <a:lnTo>
                    <a:pt x="869" y="0"/>
                  </a:lnTo>
                  <a:lnTo>
                    <a:pt x="842" y="3"/>
                  </a:lnTo>
                  <a:lnTo>
                    <a:pt x="805" y="12"/>
                  </a:lnTo>
                  <a:lnTo>
                    <a:pt x="781" y="9"/>
                  </a:lnTo>
                  <a:lnTo>
                    <a:pt x="760" y="9"/>
                  </a:lnTo>
                  <a:lnTo>
                    <a:pt x="742" y="6"/>
                  </a:lnTo>
                  <a:lnTo>
                    <a:pt x="727" y="6"/>
                  </a:lnTo>
                  <a:lnTo>
                    <a:pt x="712" y="6"/>
                  </a:lnTo>
                  <a:lnTo>
                    <a:pt x="697" y="6"/>
                  </a:lnTo>
                  <a:lnTo>
                    <a:pt x="679" y="9"/>
                  </a:lnTo>
                  <a:lnTo>
                    <a:pt x="661" y="15"/>
                  </a:lnTo>
                  <a:lnTo>
                    <a:pt x="640" y="18"/>
                  </a:lnTo>
                  <a:lnTo>
                    <a:pt x="613" y="18"/>
                  </a:lnTo>
                  <a:lnTo>
                    <a:pt x="583" y="21"/>
                  </a:lnTo>
                  <a:lnTo>
                    <a:pt x="550" y="21"/>
                  </a:lnTo>
                  <a:lnTo>
                    <a:pt x="517" y="24"/>
                  </a:lnTo>
                  <a:lnTo>
                    <a:pt x="487" y="33"/>
                  </a:lnTo>
                  <a:lnTo>
                    <a:pt x="457" y="45"/>
                  </a:lnTo>
                  <a:lnTo>
                    <a:pt x="433" y="63"/>
                  </a:lnTo>
                  <a:lnTo>
                    <a:pt x="451" y="79"/>
                  </a:lnTo>
                  <a:lnTo>
                    <a:pt x="436" y="85"/>
                  </a:lnTo>
                  <a:lnTo>
                    <a:pt x="418" y="94"/>
                  </a:lnTo>
                  <a:lnTo>
                    <a:pt x="403" y="100"/>
                  </a:lnTo>
                  <a:lnTo>
                    <a:pt x="385" y="109"/>
                  </a:lnTo>
                  <a:lnTo>
                    <a:pt x="370" y="118"/>
                  </a:lnTo>
                  <a:lnTo>
                    <a:pt x="352" y="130"/>
                  </a:lnTo>
                  <a:lnTo>
                    <a:pt x="334" y="148"/>
                  </a:lnTo>
                  <a:lnTo>
                    <a:pt x="316" y="166"/>
                  </a:lnTo>
                  <a:lnTo>
                    <a:pt x="298" y="187"/>
                  </a:lnTo>
                  <a:lnTo>
                    <a:pt x="280" y="205"/>
                  </a:lnTo>
                  <a:lnTo>
                    <a:pt x="262" y="220"/>
                  </a:lnTo>
                  <a:lnTo>
                    <a:pt x="244" y="235"/>
                  </a:lnTo>
                  <a:lnTo>
                    <a:pt x="222" y="247"/>
                  </a:lnTo>
                  <a:lnTo>
                    <a:pt x="204" y="260"/>
                  </a:lnTo>
                  <a:lnTo>
                    <a:pt x="186" y="272"/>
                  </a:lnTo>
                  <a:lnTo>
                    <a:pt x="168" y="287"/>
                  </a:lnTo>
                  <a:lnTo>
                    <a:pt x="147" y="314"/>
                  </a:lnTo>
                  <a:lnTo>
                    <a:pt x="144" y="332"/>
                  </a:lnTo>
                  <a:lnTo>
                    <a:pt x="144" y="350"/>
                  </a:lnTo>
                  <a:lnTo>
                    <a:pt x="138" y="371"/>
                  </a:lnTo>
                  <a:lnTo>
                    <a:pt x="114" y="401"/>
                  </a:lnTo>
                  <a:lnTo>
                    <a:pt x="90" y="437"/>
                  </a:lnTo>
                  <a:lnTo>
                    <a:pt x="66" y="474"/>
                  </a:lnTo>
                  <a:lnTo>
                    <a:pt x="57" y="507"/>
                  </a:lnTo>
                  <a:lnTo>
                    <a:pt x="45" y="543"/>
                  </a:lnTo>
                  <a:lnTo>
                    <a:pt x="24" y="594"/>
                  </a:lnTo>
                  <a:lnTo>
                    <a:pt x="3" y="655"/>
                  </a:lnTo>
                  <a:lnTo>
                    <a:pt x="0" y="7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410440" y="3200400"/>
            <a:ext cx="11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lyz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505320" y="266688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dentif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564520" y="533412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600920" y="5334120"/>
            <a:ext cx="86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c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524600" y="335268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ro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3276720" y="3505320"/>
            <a:ext cx="1320840" cy="1922760"/>
            <a:chOff x="3276720" y="3505320"/>
            <a:chExt cx="1320840" cy="1922760"/>
          </a:xfrm>
        </p:grpSpPr>
        <p:sp>
          <p:nvSpPr>
            <p:cNvPr id="200" name=""/>
            <p:cNvSpPr/>
            <p:nvPr/>
          </p:nvSpPr>
          <p:spPr>
            <a:xfrm>
              <a:off x="3506040" y="5029200"/>
              <a:ext cx="86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Risk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01" name="" descr=""/>
            <p:cNvPicPr/>
            <p:nvPr/>
          </p:nvPicPr>
          <p:blipFill>
            <a:blip r:embed="rId1"/>
            <a:stretch/>
          </p:blipFill>
          <p:spPr>
            <a:xfrm>
              <a:off x="3276720" y="3505320"/>
              <a:ext cx="1320840" cy="1579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Risk Management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21960" y="1558440"/>
            <a:ext cx="649116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dentify: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Before risks can be managed, they must be identified before they become a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249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nalyze: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nalysis is the conversion of risk data into decision-making inform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249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lan: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veloping and documenting risk mitigation strategies that will be enacted given the presence of risk trigg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Risk Management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21960" y="1558440"/>
            <a:ext cx="649116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rack: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ntinuous monitoring of stated risk triggers to see if any have occurred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249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ntrol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ntinually reviewing risk plans for relevance and modifying them as appropriate to serve the interest of the projec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74160" y="4267080"/>
            <a:ext cx="108612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ro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844200" y="4267080"/>
            <a:ext cx="1441800" cy="398880"/>
            <a:chOff x="844200" y="4267080"/>
            <a:chExt cx="1441800" cy="398880"/>
          </a:xfrm>
        </p:grpSpPr>
        <p:sp>
          <p:nvSpPr>
            <p:cNvPr id="208" name=""/>
            <p:cNvSpPr/>
            <p:nvPr/>
          </p:nvSpPr>
          <p:spPr>
            <a:xfrm>
              <a:off x="844200" y="4267080"/>
              <a:ext cx="1086120" cy="398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Identif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981080" y="44197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2362320" y="4267080"/>
            <a:ext cx="1523880" cy="398880"/>
            <a:chOff x="2362320" y="4267080"/>
            <a:chExt cx="1523880" cy="398880"/>
          </a:xfrm>
        </p:grpSpPr>
        <p:sp>
          <p:nvSpPr>
            <p:cNvPr id="211" name=""/>
            <p:cNvSpPr/>
            <p:nvPr/>
          </p:nvSpPr>
          <p:spPr>
            <a:xfrm>
              <a:off x="2362320" y="4267080"/>
              <a:ext cx="1218960" cy="398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nalyz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581280" y="44197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3970440" y="4267080"/>
            <a:ext cx="1058760" cy="398880"/>
            <a:chOff x="3970440" y="4267080"/>
            <a:chExt cx="1058760" cy="398880"/>
          </a:xfrm>
        </p:grpSpPr>
        <p:sp>
          <p:nvSpPr>
            <p:cNvPr id="214" name=""/>
            <p:cNvSpPr/>
            <p:nvPr/>
          </p:nvSpPr>
          <p:spPr>
            <a:xfrm>
              <a:off x="3970440" y="4267080"/>
              <a:ext cx="717120" cy="398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la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724280" y="44197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5112360" y="4267080"/>
            <a:ext cx="1212120" cy="398880"/>
            <a:chOff x="5112360" y="4267080"/>
            <a:chExt cx="1212120" cy="398880"/>
          </a:xfrm>
        </p:grpSpPr>
        <p:sp>
          <p:nvSpPr>
            <p:cNvPr id="217" name=""/>
            <p:cNvSpPr/>
            <p:nvPr/>
          </p:nvSpPr>
          <p:spPr>
            <a:xfrm>
              <a:off x="5112360" y="4267080"/>
              <a:ext cx="860400" cy="398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rac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019920" y="4419720"/>
              <a:ext cx="30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1447920" y="4723920"/>
            <a:ext cx="5486400" cy="305280"/>
            <a:chOff x="1447920" y="4723920"/>
            <a:chExt cx="5486400" cy="305280"/>
          </a:xfrm>
        </p:grpSpPr>
        <p:sp>
          <p:nvSpPr>
            <p:cNvPr id="220" name=""/>
            <p:cNvSpPr/>
            <p:nvPr/>
          </p:nvSpPr>
          <p:spPr>
            <a:xfrm>
              <a:off x="6934320" y="4724280"/>
              <a:ext cx="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1447920" y="5029200"/>
              <a:ext cx="5486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1447920" y="4723920"/>
              <a:ext cx="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When is Risk Addressed?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21960" y="1558440"/>
            <a:ext cx="649116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the beginning of a project various risk factors will become evid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quirements elicit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quirements analysi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 early as possible we need to identify, document, and manage risks through the development lifecyc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re risks will surface through the remaining phas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Software Risk Evaluation (SRE) 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21960" y="1558440"/>
            <a:ext cx="649116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SRE method was developed at the SEI to help organizations manage ris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996480" y="2590920"/>
            <a:ext cx="161028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rac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4038120" y="4419720"/>
            <a:ext cx="2890080" cy="474840"/>
            <a:chOff x="4038120" y="4419720"/>
            <a:chExt cx="2890080" cy="474840"/>
          </a:xfrm>
        </p:grpSpPr>
        <p:sp>
          <p:nvSpPr>
            <p:cNvPr id="229" name=""/>
            <p:cNvSpPr/>
            <p:nvPr/>
          </p:nvSpPr>
          <p:spPr>
            <a:xfrm>
              <a:off x="4403520" y="4495680"/>
              <a:ext cx="2524680" cy="398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itigation Plann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 flipV="1" rot="16200000">
              <a:off x="4037760" y="4419360"/>
              <a:ext cx="380880" cy="381240"/>
            </a:xfrm>
            <a:custGeom>
              <a:avLst/>
              <a:gdLst>
                <a:gd name="textAreaLeft" fmla="*/ 127080 w 380880"/>
                <a:gd name="textAreaRight" fmla="*/ 326520 w 380880"/>
                <a:gd name="textAreaTop" fmla="*/ 219600 h 381240"/>
                <a:gd name="textAreaBottom" fmla="*/ 32652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33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676520" y="3048120"/>
            <a:ext cx="2150280" cy="779760"/>
            <a:chOff x="1676520" y="3048120"/>
            <a:chExt cx="2150280" cy="779760"/>
          </a:xfrm>
        </p:grpSpPr>
        <p:sp>
          <p:nvSpPr>
            <p:cNvPr id="232" name=""/>
            <p:cNvSpPr/>
            <p:nvPr/>
          </p:nvSpPr>
          <p:spPr>
            <a:xfrm>
              <a:off x="2062800" y="3124080"/>
              <a:ext cx="1764000" cy="7038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Identif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nalysi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 flipV="1" rot="16200000">
              <a:off x="1676520" y="3048120"/>
              <a:ext cx="380880" cy="380880"/>
            </a:xfrm>
            <a:custGeom>
              <a:avLst/>
              <a:gdLst>
                <a:gd name="textAreaLeft" fmla="*/ 127080 w 380880"/>
                <a:gd name="textAreaRight" fmla="*/ 326520 w 380880"/>
                <a:gd name="textAreaTop" fmla="*/ 219240 h 380880"/>
                <a:gd name="textAreaBottom" fmla="*/ 3265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33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2819520" y="3886200"/>
            <a:ext cx="2305800" cy="475200"/>
            <a:chOff x="2819520" y="3886200"/>
            <a:chExt cx="2305800" cy="475200"/>
          </a:xfrm>
        </p:grpSpPr>
        <p:sp>
          <p:nvSpPr>
            <p:cNvPr id="235" name=""/>
            <p:cNvSpPr/>
            <p:nvPr/>
          </p:nvSpPr>
          <p:spPr>
            <a:xfrm>
              <a:off x="3205800" y="3962520"/>
              <a:ext cx="1919520" cy="398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Interim Repor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 flipV="1" rot="16200000">
              <a:off x="2819520" y="3886200"/>
              <a:ext cx="380880" cy="380880"/>
            </a:xfrm>
            <a:custGeom>
              <a:avLst/>
              <a:gdLst>
                <a:gd name="textAreaLeft" fmla="*/ 127080 w 380880"/>
                <a:gd name="textAreaRight" fmla="*/ 326520 w 380880"/>
                <a:gd name="textAreaTop" fmla="*/ 219240 h 380880"/>
                <a:gd name="textAreaBottom" fmla="*/ 3265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33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5181120" y="4952160"/>
            <a:ext cx="2030760" cy="475920"/>
            <a:chOff x="5181120" y="4952160"/>
            <a:chExt cx="2030760" cy="475920"/>
          </a:xfrm>
        </p:grpSpPr>
        <p:sp>
          <p:nvSpPr>
            <p:cNvPr id="238" name=""/>
            <p:cNvSpPr/>
            <p:nvPr/>
          </p:nvSpPr>
          <p:spPr>
            <a:xfrm>
              <a:off x="5546880" y="5029200"/>
              <a:ext cx="1665000" cy="398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Final Repor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 flipV="1" rot="16200000">
              <a:off x="5180760" y="4951800"/>
              <a:ext cx="381240" cy="381240"/>
            </a:xfrm>
            <a:custGeom>
              <a:avLst/>
              <a:gdLst>
                <a:gd name="textAreaLeft" fmla="*/ 126720 w 381240"/>
                <a:gd name="textAreaRight" fmla="*/ 326160 w 381240"/>
                <a:gd name="textAreaTop" fmla="*/ 219600 h 381240"/>
                <a:gd name="textAreaBottom" fmla="*/ 32652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33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Contracting Phase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040" y="1522080"/>
            <a:ext cx="649116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al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lecting participa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tting stakeholder expecta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uring sponsorship from manage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eeing upon deliverab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stablish schedu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Contracting Phase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21960" y="1558440"/>
            <a:ext cx="649116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als (continue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tain a “picture of success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15960" indent="-201600">
              <a:spcAft>
                <a:spcPts val="751"/>
              </a:spcAft>
              <a:buClr>
                <a:srgbClr val="ffffff"/>
              </a:buClr>
              <a:buFont typeface="Arial"/>
              <a:buChar char="-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en will you be successful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15960" indent="-201600">
              <a:spcAft>
                <a:spcPts val="751"/>
              </a:spcAft>
              <a:buClr>
                <a:srgbClr val="ffffff"/>
              </a:buClr>
              <a:buFont typeface="Arial"/>
              <a:buChar char="-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will make you successful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15960" indent="-201600">
              <a:spcAft>
                <a:spcPts val="751"/>
              </a:spcAft>
              <a:buClr>
                <a:srgbClr val="ffffff"/>
              </a:buClr>
              <a:buFont typeface="Arial"/>
              <a:buChar char="-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w do you measure succes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utput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lan, schedule for SRE, and vision of succes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Identification and Analysis Phase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523880"/>
            <a:ext cx="64911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lete Taxonomy Based Questionnai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2209680" y="1981080"/>
            <a:ext cx="5102280" cy="36576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1066680" y="2895480"/>
            <a:ext cx="1086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tribu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Identification and Analysis Phase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21960" y="1558800"/>
            <a:ext cx="6491160" cy="26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duct 1 or More Interview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ree hour brainstorming session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15960" indent="-201600">
              <a:spcAft>
                <a:spcPts val="751"/>
              </a:spcAft>
              <a:buClr>
                <a:srgbClr val="ffffff"/>
              </a:buClr>
              <a:buFont typeface="Arial"/>
              <a:buChar char="-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icit risks within the project and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15960" indent="-201600">
              <a:spcAft>
                <a:spcPts val="751"/>
              </a:spcAft>
              <a:buClr>
                <a:srgbClr val="ffffff"/>
              </a:buClr>
              <a:buFont typeface="Arial"/>
              <a:buChar char="-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e probability and impac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15960" indent="-201600">
              <a:spcAft>
                <a:spcPts val="751"/>
              </a:spcAft>
              <a:buClr>
                <a:srgbClr val="ffffff"/>
              </a:buClr>
              <a:buFont typeface="Arial"/>
              <a:buChar char="-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rd risk statement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2057400" y="4267080"/>
            <a:ext cx="4190760" cy="685800"/>
            <a:chOff x="2057400" y="4267080"/>
            <a:chExt cx="4190760" cy="685800"/>
          </a:xfrm>
        </p:grpSpPr>
        <p:sp>
          <p:nvSpPr>
            <p:cNvPr id="251" name=""/>
            <p:cNvSpPr/>
            <p:nvPr/>
          </p:nvSpPr>
          <p:spPr>
            <a:xfrm>
              <a:off x="2216880" y="4419720"/>
              <a:ext cx="1368000" cy="398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di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273920" y="4419720"/>
              <a:ext cx="1851120" cy="398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sequen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657600" y="4648320"/>
              <a:ext cx="6094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057400" y="4267080"/>
              <a:ext cx="4190760" cy="6858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457560" y="5029200"/>
            <a:ext cx="359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 simulation of the system’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erformance has been done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575240" y="5029200"/>
            <a:ext cx="31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e may not meet th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erformance requirements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86200" y="5410080"/>
            <a:ext cx="4572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Identification and Analysis Phase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21960" y="1558440"/>
            <a:ext cx="649116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tifact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set of risk statements, pick top ~5 ris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leted participant evaluation for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nutes from interview meeting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al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 Coverag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 Quality of Statement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 Number of Risk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48120" y="3352680"/>
            <a:ext cx="1128600" cy="79848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 flipH="1" rot="10800000">
            <a:off x="3962520" y="4800240"/>
            <a:ext cx="1333440" cy="87948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4572000" y="4267080"/>
            <a:ext cx="1981080" cy="380880"/>
            <a:chOff x="4572000" y="4267080"/>
            <a:chExt cx="1981080" cy="380880"/>
          </a:xfrm>
        </p:grpSpPr>
        <p:sp>
          <p:nvSpPr>
            <p:cNvPr id="263" name=""/>
            <p:cNvSpPr/>
            <p:nvPr/>
          </p:nvSpPr>
          <p:spPr>
            <a:xfrm>
              <a:off x="4653720" y="4343040"/>
              <a:ext cx="657720" cy="215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Condition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646960" y="4343040"/>
              <a:ext cx="848160" cy="215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Consequence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33760" y="4419360"/>
              <a:ext cx="264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572000" y="4267080"/>
              <a:ext cx="1981080" cy="380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What is Risk?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21960" y="1523520"/>
            <a:ext cx="649116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sters 9th defines risk a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: possibility of loss or injury - peril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: a dangerous element or fac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312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is uncertain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Risk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A Problem: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 risk is a problem who time has not yet co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: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hould I get my umbrella when it is raining or in anticipation of rain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Interim Report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21960" y="1558440"/>
            <a:ext cx="649116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rms the basis of the SR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dentifies the major risks facing the projec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15960" indent="-201600">
              <a:spcAft>
                <a:spcPts val="751"/>
              </a:spcAft>
              <a:buClr>
                <a:srgbClr val="ffffff"/>
              </a:buClr>
              <a:buFont typeface="Arial"/>
              <a:buChar char="-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stat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15960" indent="-201600">
              <a:spcAft>
                <a:spcPts val="751"/>
              </a:spcAft>
              <a:buClr>
                <a:srgbClr val="ffffff"/>
              </a:buClr>
              <a:buFont typeface="Arial"/>
              <a:buChar char="-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ilit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15960" indent="-201600">
              <a:spcAft>
                <a:spcPts val="751"/>
              </a:spcAft>
              <a:buClr>
                <a:srgbClr val="ffffff"/>
              </a:buClr>
              <a:buFont typeface="Arial"/>
              <a:buChar char="-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sents data as garnered from SRE and project stakehol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y also include a present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Interim Report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14040" y="1294920"/>
            <a:ext cx="649116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mple Outlin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946080" y="1828800"/>
            <a:ext cx="6434640" cy="3660120"/>
            <a:chOff x="946080" y="1828800"/>
            <a:chExt cx="6434640" cy="3660120"/>
          </a:xfrm>
        </p:grpSpPr>
        <p:sp>
          <p:nvSpPr>
            <p:cNvPr id="272" name=""/>
            <p:cNvSpPr/>
            <p:nvPr/>
          </p:nvSpPr>
          <p:spPr>
            <a:xfrm>
              <a:off x="955080" y="1828800"/>
              <a:ext cx="2553480" cy="3660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ecutive Summa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roduc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E Process Overview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groun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inding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clusion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ppendic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547080" y="1828800"/>
              <a:ext cx="3833640" cy="3660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ummary of findings and risk area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ear term recommendation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urpose and layout of this repo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plains the SRE process briefly t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t context for the read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E objectives, SRE team, oth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elevant rol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esentation of project risks and ris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ext step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 requir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946080" y="2438280"/>
              <a:ext cx="64008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946080" y="2819520"/>
              <a:ext cx="6400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946080" y="3505320"/>
              <a:ext cx="6400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946080" y="4038480"/>
              <a:ext cx="64008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946080" y="4648320"/>
              <a:ext cx="6400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946080" y="5029200"/>
              <a:ext cx="6400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Risk Exposure Matrix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990360" y="2406960"/>
            <a:ext cx="6492240" cy="3231720"/>
            <a:chOff x="990360" y="2406960"/>
            <a:chExt cx="6492240" cy="3231720"/>
          </a:xfrm>
        </p:grpSpPr>
        <p:sp>
          <p:nvSpPr>
            <p:cNvPr id="282" name=""/>
            <p:cNvSpPr/>
            <p:nvPr/>
          </p:nvSpPr>
          <p:spPr>
            <a:xfrm>
              <a:off x="1142280" y="3824280"/>
              <a:ext cx="17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atastrophi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8484800">
              <a:off x="6031800" y="320580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s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18504600">
              <a:off x="4068360" y="3008160"/>
              <a:ext cx="1623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oftwa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18456000">
              <a:off x="4749120" y="296316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chedul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18508200">
              <a:off x="3340440" y="2986920"/>
              <a:ext cx="16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Hardwa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rot="18492000">
              <a:off x="5411520" y="3117960"/>
              <a:ext cx="1623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eopl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990720" y="3733920"/>
              <a:ext cx="6172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191120" y="3747960"/>
              <a:ext cx="0" cy="1890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876920" y="3747960"/>
              <a:ext cx="0" cy="1890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638680" y="3747960"/>
              <a:ext cx="0" cy="1890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00800" y="3747960"/>
              <a:ext cx="0" cy="1890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162920" y="2604960"/>
              <a:ext cx="0" cy="303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2604960"/>
              <a:ext cx="0" cy="303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990720" y="2590920"/>
              <a:ext cx="0" cy="3047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43000" y="4265640"/>
              <a:ext cx="104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ritica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143360" y="4738680"/>
              <a:ext cx="122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argina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143720" y="5180040"/>
              <a:ext cx="1395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Negligibl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143360" y="3352680"/>
              <a:ext cx="100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Impac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990720" y="5638680"/>
              <a:ext cx="6172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2590920"/>
              <a:ext cx="6172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909080" y="2651040"/>
              <a:ext cx="1595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mponen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 flipV="1">
              <a:off x="990360" y="2590560"/>
              <a:ext cx="2514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5181480"/>
              <a:ext cx="6172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90720" y="4724280"/>
              <a:ext cx="6172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990720" y="4267080"/>
              <a:ext cx="6172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912600" y="129528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) Identify Ris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912240" y="167652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) Estimate Probability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809880" y="1295280"/>
            <a:ext cx="1757880" cy="1008720"/>
            <a:chOff x="3809880" y="1295280"/>
            <a:chExt cx="1757880" cy="1008720"/>
          </a:xfrm>
        </p:grpSpPr>
        <p:sp>
          <p:nvSpPr>
            <p:cNvPr id="310" name=""/>
            <p:cNvSpPr/>
            <p:nvPr/>
          </p:nvSpPr>
          <p:spPr>
            <a:xfrm>
              <a:off x="3809880" y="1371600"/>
              <a:ext cx="304920" cy="83808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11741"/>
                  </a:lnTo>
                  <a:cubicBezTo>
                    <a:pt x="10800" y="12641"/>
                    <a:pt x="5400" y="13541"/>
                    <a:pt x="0" y="13541"/>
                  </a:cubicBezTo>
                  <a:cubicBezTo>
                    <a:pt x="5400" y="13541"/>
                    <a:pt x="10800" y="14441"/>
                    <a:pt x="10800" y="15341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114440" y="1295280"/>
              <a:ext cx="14533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 - High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2 - Mediu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3 - Low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5345640" y="990720"/>
            <a:ext cx="2561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) Enter ris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tement an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ility i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r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419720" y="3886200"/>
            <a:ext cx="228600" cy="2286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629400" y="213372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315200" y="2133720"/>
            <a:ext cx="0" cy="190476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4723920" y="4038480"/>
            <a:ext cx="2590920" cy="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913680" y="2117880"/>
            <a:ext cx="20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ample Matr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Top Ten List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21960" y="1558440"/>
            <a:ext cx="649116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t is nice to include a “short list” of the most critical program ris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219320" y="27432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doni Bd BT"/>
              </a:rPr>
              <a:t>Rank   Risk    Consequences    Triggers    Mitigation    POC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905120" y="2805120"/>
            <a:ext cx="0" cy="2529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590920" y="2805120"/>
            <a:ext cx="0" cy="2529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191120" y="2805120"/>
            <a:ext cx="0" cy="2529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2805120"/>
            <a:ext cx="0" cy="2529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477120" y="2805120"/>
            <a:ext cx="0" cy="2452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219320" y="3186000"/>
            <a:ext cx="5943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219320" y="2805120"/>
            <a:ext cx="5943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044440" y="3338640"/>
            <a:ext cx="4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doni Bd BT"/>
              </a:rPr>
              <a:t>. . 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356840" y="3338640"/>
            <a:ext cx="442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doni Bd BT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doni Bd BT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doni Bd BT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doni Bd BT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187440" y="3338640"/>
            <a:ext cx="4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doni Bd BT"/>
              </a:rPr>
              <a:t>. . 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482720" y="3338640"/>
            <a:ext cx="4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doni Bd BT"/>
              </a:rPr>
              <a:t>. . 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692760" y="3338640"/>
            <a:ext cx="4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doni Bd BT"/>
              </a:rPr>
              <a:t>. . 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625720" y="3338640"/>
            <a:ext cx="4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doni Bd BT"/>
              </a:rPr>
              <a:t>. . 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044440" y="3795840"/>
            <a:ext cx="4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doni Bd BT"/>
              </a:rPr>
              <a:t>. . 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187440" y="3795840"/>
            <a:ext cx="4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doni Bd BT"/>
              </a:rPr>
              <a:t>. . 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482720" y="3795840"/>
            <a:ext cx="4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doni Bd BT"/>
              </a:rPr>
              <a:t>. . 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692760" y="3795840"/>
            <a:ext cx="4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doni Bd BT"/>
              </a:rPr>
              <a:t>. . 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625720" y="3795840"/>
            <a:ext cx="4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doni Bd BT"/>
              </a:rPr>
              <a:t>. . 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Mitigation Planning Phase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914040" y="1523520"/>
            <a:ext cx="649116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al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dentify risk trigg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15960" indent="-201600">
              <a:spcAft>
                <a:spcPts val="751"/>
              </a:spcAft>
              <a:buClr>
                <a:srgbClr val="ffffff"/>
              </a:buClr>
              <a:buFont typeface="Arial"/>
              <a:buChar char="-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trigger is evidence that your exposure to a risk condition has increas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dentify data collection strategies for monitoring ris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velop mitigation strateg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Mitigation Planning Phase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21960" y="1558440"/>
            <a:ext cx="649116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s are assigned to “owners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RE team works with risk owner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 find ways to identify various trigg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velop various strategies to handle triggering situations as soon as they appe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429000" y="4264200"/>
            <a:ext cx="4190760" cy="685800"/>
            <a:chOff x="3429000" y="4264200"/>
            <a:chExt cx="4190760" cy="685800"/>
          </a:xfrm>
        </p:grpSpPr>
        <p:sp>
          <p:nvSpPr>
            <p:cNvPr id="344" name=""/>
            <p:cNvSpPr/>
            <p:nvPr/>
          </p:nvSpPr>
          <p:spPr>
            <a:xfrm>
              <a:off x="3588480" y="4416840"/>
              <a:ext cx="1368000" cy="398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di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645520" y="4416840"/>
              <a:ext cx="1851120" cy="398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sequen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029200" y="4645440"/>
              <a:ext cx="6094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429000" y="4264200"/>
              <a:ext cx="4190760" cy="6858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1983600" y="4187880"/>
            <a:ext cx="1674000" cy="978120"/>
            <a:chOff x="1983600" y="4187880"/>
            <a:chExt cx="1674000" cy="978120"/>
          </a:xfrm>
        </p:grpSpPr>
        <p:sp>
          <p:nvSpPr>
            <p:cNvPr id="349" name=""/>
            <p:cNvSpPr/>
            <p:nvPr/>
          </p:nvSpPr>
          <p:spPr>
            <a:xfrm>
              <a:off x="2517120" y="4797720"/>
              <a:ext cx="82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gg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983600" y="4492800"/>
              <a:ext cx="82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gg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517120" y="4187880"/>
              <a:ext cx="82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gg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3352680" y="4797360"/>
              <a:ext cx="3049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895480" y="4645080"/>
              <a:ext cx="762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276720" y="4340520"/>
              <a:ext cx="30456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457200" y="4087800"/>
            <a:ext cx="1584360" cy="17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Final Report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21960" y="1558440"/>
            <a:ext cx="649116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finement of Interim Report that include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trigg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own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mitigation strateg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ypically includes a present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Software Failure - not an Option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921960" y="1447560"/>
            <a:ext cx="649116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erational risks are unavoidab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27880" indent="-14076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happens when something fail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27880" indent="-14076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w gracefully will your system fail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Software, Hardware, and Safety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921960" y="1558440"/>
            <a:ext cx="649116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t is tempting to use software to replace hardwa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velopment costs for SW is higher than for HW while reproduction costs for SW are almost zer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rdware obeys certain physical laws that make some unsafe behaviors impossib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 software becomes more complex, the possibility of failure increas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Correctness, Reliability, Safety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21960" y="1558440"/>
            <a:ext cx="649116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orrectnes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has 2 broad compon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nctional construction erro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rrors in meeting specif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Reliabilit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- the measure of the rate of failure of a system, including its software compon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afet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- the degree in which system functions do not lead to an accident causing loss of life, limb, or proper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What is Risk?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21960" y="1558440"/>
            <a:ext cx="649116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ftware Risk: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 measure of the probability and severity of adverse effects inherent in the development of a software system that does not meet the intended functions and performance requirements, the result of which may be: decreased quality, increased cost, delays, loss of market share, or catastrophic fail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software development a risky endeavor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Reliability and Safety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921960" y="1558440"/>
            <a:ext cx="649116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ortant Point: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Reliability does not always imply safe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safe system may fai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15960" indent="-201600">
              <a:spcAft>
                <a:spcPts val="751"/>
              </a:spcAft>
              <a:buClr>
                <a:srgbClr val="ffffff"/>
              </a:buClr>
              <a:buFont typeface="Arial"/>
              <a:buChar char="-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fe systems “fail safe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 unsafe system may be reliab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1828800" y="3716280"/>
            <a:ext cx="4495320" cy="1922040"/>
            <a:chOff x="1828800" y="3716280"/>
            <a:chExt cx="4495320" cy="1922040"/>
          </a:xfrm>
        </p:grpSpPr>
        <p:pic>
          <p:nvPicPr>
            <p:cNvPr id="367" name="" descr=""/>
            <p:cNvPicPr/>
            <p:nvPr/>
          </p:nvPicPr>
          <p:blipFill>
            <a:blip r:embed="rId1"/>
            <a:stretch/>
          </p:blipFill>
          <p:spPr>
            <a:xfrm>
              <a:off x="4369680" y="4224600"/>
              <a:ext cx="1954440" cy="141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" descr=""/>
            <p:cNvPicPr/>
            <p:nvPr/>
          </p:nvPicPr>
          <p:blipFill>
            <a:blip r:embed="rId2"/>
            <a:stretch/>
          </p:blipFill>
          <p:spPr>
            <a:xfrm>
              <a:off x="1828800" y="3716280"/>
              <a:ext cx="1544400" cy="1230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69" name=""/>
            <p:cNvGrpSpPr/>
            <p:nvPr/>
          </p:nvGrpSpPr>
          <p:grpSpPr>
            <a:xfrm>
              <a:off x="3066480" y="4924440"/>
              <a:ext cx="1302840" cy="508320"/>
              <a:chOff x="3066480" y="4924440"/>
              <a:chExt cx="1302840" cy="508320"/>
            </a:xfrm>
          </p:grpSpPr>
          <p:sp>
            <p:nvSpPr>
              <p:cNvPr id="370" name=""/>
              <p:cNvSpPr/>
              <p:nvPr/>
            </p:nvSpPr>
            <p:spPr>
              <a:xfrm flipH="1">
                <a:off x="3066480" y="5432760"/>
                <a:ext cx="13028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V="1">
                <a:off x="3066840" y="4924440"/>
                <a:ext cx="0" cy="5083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Failure Modes Effects Analysis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921960" y="1558800"/>
            <a:ext cx="649116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purpose of a FME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6640" indent="-18324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ticipate system fail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6640" indent="-18324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sure that failures are det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6640" indent="-18324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tegorize and prioritize fail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6640" indent="-18324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iminate or gracefully handle fail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6640" indent="-18324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termine the effect on the system and the impact to system functional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6640" indent="-18324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sure that the failure does not cause unacceptable los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Background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649116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W must detect failures and ensure they are handled in a satisfactory wa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295280" y="4800600"/>
            <a:ext cx="1295640" cy="609480"/>
          </a:xfrm>
          <a:prstGeom prst="ellipse">
            <a:avLst/>
          </a:prstGeom>
          <a:solidFill>
            <a:srgbClr val="33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unc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2590920" y="4952880"/>
            <a:ext cx="2590560" cy="381240"/>
            <a:chOff x="2590920" y="4952880"/>
            <a:chExt cx="2590560" cy="381240"/>
          </a:xfrm>
        </p:grpSpPr>
        <p:sp>
          <p:nvSpPr>
            <p:cNvPr id="378" name=""/>
            <p:cNvSpPr/>
            <p:nvPr/>
          </p:nvSpPr>
          <p:spPr>
            <a:xfrm>
              <a:off x="2590920" y="5105520"/>
              <a:ext cx="1447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038480" y="4952880"/>
              <a:ext cx="1143000" cy="381240"/>
            </a:xfrm>
            <a:prstGeom prst="flowChartAlternateProcess">
              <a:avLst/>
            </a:prstGeom>
            <a:solidFill>
              <a:srgbClr val="cc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ailu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990720" y="2514600"/>
            <a:ext cx="1904760" cy="2286000"/>
            <a:chOff x="990720" y="2514600"/>
            <a:chExt cx="1904760" cy="2286000"/>
          </a:xfrm>
        </p:grpSpPr>
        <p:sp>
          <p:nvSpPr>
            <p:cNvPr id="381" name=""/>
            <p:cNvSpPr/>
            <p:nvPr/>
          </p:nvSpPr>
          <p:spPr>
            <a:xfrm rot="5400000">
              <a:off x="1447200" y="4190760"/>
              <a:ext cx="990720" cy="228600"/>
            </a:xfrm>
            <a:prstGeom prst="rightArrow">
              <a:avLst>
                <a:gd name="adj1" fmla="val 50000"/>
                <a:gd name="adj2" fmla="val 108346"/>
              </a:avLst>
            </a:prstGeom>
            <a:solidFill>
              <a:srgbClr val="cc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82" name=""/>
            <p:cNvGrpSpPr/>
            <p:nvPr/>
          </p:nvGrpSpPr>
          <p:grpSpPr>
            <a:xfrm>
              <a:off x="990720" y="2514600"/>
              <a:ext cx="1904760" cy="1523520"/>
              <a:chOff x="990720" y="2514600"/>
              <a:chExt cx="1904760" cy="1523520"/>
            </a:xfrm>
          </p:grpSpPr>
          <p:sp>
            <p:nvSpPr>
              <p:cNvPr id="383" name=""/>
              <p:cNvSpPr/>
              <p:nvPr/>
            </p:nvSpPr>
            <p:spPr>
              <a:xfrm>
                <a:off x="990720" y="2895480"/>
                <a:ext cx="1904760" cy="1142640"/>
              </a:xfrm>
              <a:prstGeom prst="rect">
                <a:avLst/>
              </a:prstGeom>
              <a:solidFill>
                <a:srgbClr val="cc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84" name=""/>
              <p:cNvGrpSpPr/>
              <p:nvPr/>
            </p:nvGrpSpPr>
            <p:grpSpPr>
              <a:xfrm>
                <a:off x="1142640" y="3047760"/>
                <a:ext cx="1577880" cy="779400"/>
                <a:chOff x="1142640" y="3047760"/>
                <a:chExt cx="1577880" cy="77940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1142640" y="3047760"/>
                  <a:ext cx="1577880" cy="398880"/>
                </a:xfrm>
                <a:prstGeom prst="rect">
                  <a:avLst/>
                </a:prstGeom>
                <a:solidFill>
                  <a:srgbClr val="3399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Software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1142640" y="3428280"/>
                  <a:ext cx="1577880" cy="398880"/>
                </a:xfrm>
                <a:prstGeom prst="rect">
                  <a:avLst/>
                </a:prstGeom>
                <a:solidFill>
                  <a:srgbClr val="33cc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Hardware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7" name=""/>
              <p:cNvSpPr/>
              <p:nvPr/>
            </p:nvSpPr>
            <p:spPr>
              <a:xfrm>
                <a:off x="1447920" y="2514600"/>
                <a:ext cx="1086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System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8" name=""/>
          <p:cNvGrpSpPr/>
          <p:nvPr/>
        </p:nvGrpSpPr>
        <p:grpSpPr>
          <a:xfrm>
            <a:off x="3657600" y="2743200"/>
            <a:ext cx="1676520" cy="2209680"/>
            <a:chOff x="3657600" y="2743200"/>
            <a:chExt cx="1676520" cy="2209680"/>
          </a:xfrm>
        </p:grpSpPr>
        <p:sp>
          <p:nvSpPr>
            <p:cNvPr id="389" name=""/>
            <p:cNvSpPr/>
            <p:nvPr/>
          </p:nvSpPr>
          <p:spPr>
            <a:xfrm>
              <a:off x="3657600" y="2743200"/>
              <a:ext cx="1676520" cy="167652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816000" y="3809880"/>
              <a:ext cx="1342080" cy="398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etec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740400" y="2819520"/>
              <a:ext cx="1523520" cy="7038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trolled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Behavio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>
              <a:off x="4572000" y="4191120"/>
              <a:ext cx="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V="1">
              <a:off x="4572000" y="35053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5714640" y="3708360"/>
            <a:ext cx="1371960" cy="1015920"/>
            <a:chOff x="5714640" y="3708360"/>
            <a:chExt cx="1371960" cy="1015920"/>
          </a:xfrm>
        </p:grpSpPr>
        <p:sp>
          <p:nvSpPr>
            <p:cNvPr id="395" name=""/>
            <p:cNvSpPr/>
            <p:nvPr/>
          </p:nvSpPr>
          <p:spPr>
            <a:xfrm>
              <a:off x="5715000" y="3708360"/>
              <a:ext cx="1371600" cy="1015920"/>
            </a:xfrm>
            <a:custGeom>
              <a:avLst/>
              <a:gdLst/>
              <a:ahLst/>
              <a:rect l="l" t="t" r="r" b="b"/>
              <a:pathLst>
                <a:path w="1048" h="712">
                  <a:moveTo>
                    <a:pt x="360" y="640"/>
                  </a:moveTo>
                  <a:cubicBezTo>
                    <a:pt x="312" y="648"/>
                    <a:pt x="176" y="664"/>
                    <a:pt x="120" y="640"/>
                  </a:cubicBezTo>
                  <a:cubicBezTo>
                    <a:pt x="64" y="616"/>
                    <a:pt x="40" y="544"/>
                    <a:pt x="24" y="496"/>
                  </a:cubicBezTo>
                  <a:cubicBezTo>
                    <a:pt x="8" y="448"/>
                    <a:pt x="0" y="400"/>
                    <a:pt x="24" y="352"/>
                  </a:cubicBezTo>
                  <a:cubicBezTo>
                    <a:pt x="48" y="304"/>
                    <a:pt x="168" y="248"/>
                    <a:pt x="168" y="208"/>
                  </a:cubicBezTo>
                  <a:cubicBezTo>
                    <a:pt x="168" y="168"/>
                    <a:pt x="32" y="144"/>
                    <a:pt x="24" y="112"/>
                  </a:cubicBezTo>
                  <a:cubicBezTo>
                    <a:pt x="16" y="80"/>
                    <a:pt x="72" y="24"/>
                    <a:pt x="120" y="16"/>
                  </a:cubicBezTo>
                  <a:cubicBezTo>
                    <a:pt x="168" y="8"/>
                    <a:pt x="232" y="56"/>
                    <a:pt x="312" y="64"/>
                  </a:cubicBezTo>
                  <a:cubicBezTo>
                    <a:pt x="392" y="72"/>
                    <a:pt x="536" y="72"/>
                    <a:pt x="600" y="64"/>
                  </a:cubicBezTo>
                  <a:cubicBezTo>
                    <a:pt x="664" y="56"/>
                    <a:pt x="672" y="0"/>
                    <a:pt x="696" y="16"/>
                  </a:cubicBezTo>
                  <a:cubicBezTo>
                    <a:pt x="720" y="32"/>
                    <a:pt x="696" y="128"/>
                    <a:pt x="744" y="160"/>
                  </a:cubicBezTo>
                  <a:cubicBezTo>
                    <a:pt x="792" y="192"/>
                    <a:pt x="936" y="184"/>
                    <a:pt x="984" y="208"/>
                  </a:cubicBezTo>
                  <a:cubicBezTo>
                    <a:pt x="1032" y="232"/>
                    <a:pt x="1048" y="256"/>
                    <a:pt x="1032" y="304"/>
                  </a:cubicBezTo>
                  <a:cubicBezTo>
                    <a:pt x="1016" y="352"/>
                    <a:pt x="904" y="448"/>
                    <a:pt x="888" y="496"/>
                  </a:cubicBezTo>
                  <a:cubicBezTo>
                    <a:pt x="872" y="544"/>
                    <a:pt x="952" y="560"/>
                    <a:pt x="936" y="592"/>
                  </a:cubicBezTo>
                  <a:cubicBezTo>
                    <a:pt x="920" y="624"/>
                    <a:pt x="840" y="672"/>
                    <a:pt x="792" y="688"/>
                  </a:cubicBezTo>
                  <a:cubicBezTo>
                    <a:pt x="744" y="704"/>
                    <a:pt x="696" y="712"/>
                    <a:pt x="648" y="688"/>
                  </a:cubicBezTo>
                  <a:cubicBezTo>
                    <a:pt x="600" y="664"/>
                    <a:pt x="544" y="560"/>
                    <a:pt x="504" y="544"/>
                  </a:cubicBezTo>
                  <a:cubicBezTo>
                    <a:pt x="464" y="528"/>
                    <a:pt x="432" y="576"/>
                    <a:pt x="408" y="592"/>
                  </a:cubicBezTo>
                  <a:cubicBezTo>
                    <a:pt x="384" y="608"/>
                    <a:pt x="408" y="632"/>
                    <a:pt x="360" y="640"/>
                  </a:cubicBezTo>
                  <a:close/>
                </a:path>
              </a:pathLst>
            </a:custGeom>
            <a:solidFill>
              <a:srgbClr val="3399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714640" y="3809880"/>
              <a:ext cx="1258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Not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etecte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/>
          <p:nvPr/>
        </p:nvSpPr>
        <p:spPr>
          <a:xfrm>
            <a:off x="5410080" y="2819520"/>
            <a:ext cx="190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controlle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havi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6400800" y="449532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6400800" y="350532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5181120" y="5181480"/>
            <a:ext cx="1219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5791320" y="1905120"/>
            <a:ext cx="963360" cy="9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FMEA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21960" y="1558440"/>
            <a:ext cx="649116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r many years there has been a number of standards that try to define processes in Failure Mode and Effects Analysis (FMEA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riginated with hardware sys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en applied to softwa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rrently enjoying popularity in systems engineering discip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4800600" y="4114800"/>
            <a:ext cx="117144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FMEA Standards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21960" y="1558440"/>
            <a:ext cx="649116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nistry of Defence (UK) MOD 00-55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curement of safety critical sys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nistry of Defence (UK) MOD 00-56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dentify, evaluate, and minimize ris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L-STD-1629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dentify, evaluate, and minimize ris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L-STD-882B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r contracted developers of safety critical sys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FMEA Standards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21960" y="1558440"/>
            <a:ext cx="649116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D 00-3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fety critical SW for airborne sys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rnational Energy Commission IEC-880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uclear power plant safe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E Recommended Practic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ointly developed by US Automak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onsored by US Council for Automotive Research (USCAR)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vides guidance in FMEA techniqu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927000" y="806400"/>
            <a:ext cx="648828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Software FMEA Approach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922320" y="1558800"/>
            <a:ext cx="6491160" cy="39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ree Broad Approach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tuational/Scenario Based Approa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299880" indent="-185400">
              <a:lnSpc>
                <a:spcPct val="100000"/>
              </a:lnSpc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dentify a failure sit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299880" indent="-185400">
              <a:lnSpc>
                <a:spcPct val="100000"/>
              </a:lnSpc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dentify system elements contributing to fail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299880" indent="-185400">
              <a:lnSpc>
                <a:spcPct val="100000"/>
              </a:lnSpc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duct FMEA analysis based on situations contributing to fail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Software FMEA Approaches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21960" y="1558440"/>
            <a:ext cx="649116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ree Broad Approaches (continued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ystems Approa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16848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onent centric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560520" indent="-183240">
              <a:spcAft>
                <a:spcPts val="751"/>
              </a:spcAft>
              <a:buClr>
                <a:srgbClr val="ffffff"/>
              </a:buClr>
              <a:buFont typeface="Arial"/>
              <a:buChar char="-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rtition system into compon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560520" indent="-183240">
              <a:spcAft>
                <a:spcPts val="751"/>
              </a:spcAft>
              <a:buClr>
                <a:srgbClr val="ffffff"/>
              </a:buClr>
              <a:buFont typeface="Arial"/>
              <a:buChar char="-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lyze component fail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16848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nction centric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560520" indent="-183240">
              <a:spcAft>
                <a:spcPts val="751"/>
              </a:spcAft>
              <a:buClr>
                <a:srgbClr val="ffffff"/>
              </a:buClr>
              <a:buFont typeface="Arial"/>
              <a:buChar char="-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lyze system function fail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duct FMEA analysis based on those units where software intersects function or compon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927000" y="806400"/>
            <a:ext cx="648828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Software FMEA Approach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922320" y="1558800"/>
            <a:ext cx="6491160" cy="39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Broad Approaches (continu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ftware Module Approa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299880" indent="-185400">
              <a:lnSpc>
                <a:spcPct val="100000"/>
              </a:lnSpc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dentify a software modu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299880" indent="-185400">
              <a:lnSpc>
                <a:spcPct val="100000"/>
              </a:lnSpc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dentify module fail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615960" indent="-201600">
              <a:lnSpc>
                <a:spcPct val="100000"/>
              </a:lnSpc>
              <a:spcAft>
                <a:spcPts val="751"/>
              </a:spcAft>
              <a:buClr>
                <a:srgbClr val="ffffff"/>
              </a:buClr>
              <a:buFont typeface="Arial"/>
              <a:buChar char="-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ftware inspections serve this purpose we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299880" indent="-185400">
              <a:lnSpc>
                <a:spcPct val="100000"/>
              </a:lnSpc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duct FMEA analysis based on those modules and their associated fail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When do you do a FMEA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1218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ME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477120" y="1828800"/>
            <a:ext cx="533160" cy="35053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rot="19413600">
            <a:off x="5946120" y="1751760"/>
            <a:ext cx="17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quirement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rot="19508400">
            <a:off x="6326640" y="289512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sig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rot="19664400">
            <a:off x="6325920" y="380952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rot="19658400">
            <a:off x="6019920" y="4571640"/>
            <a:ext cx="14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ificatio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alidatio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045520" y="1828800"/>
            <a:ext cx="3649320" cy="6426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vent/remove fault condi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dentify risks to the 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2743200"/>
            <a:ext cx="3810240" cy="6426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sure that designs adequately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andle potential faul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981080" y="4648320"/>
            <a:ext cx="3810240" cy="6426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sure that the system behaves predictably in fault condi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981080" y="3657600"/>
            <a:ext cx="3810240" cy="6426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sure that the code  adequately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ress identified faul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715000" y="1828800"/>
            <a:ext cx="16002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791320" y="2743200"/>
            <a:ext cx="152388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91320" y="3657600"/>
            <a:ext cx="16002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91320" y="4648320"/>
            <a:ext cx="16002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447920" y="2362320"/>
            <a:ext cx="457200" cy="533160"/>
          </a:xfrm>
          <a:custGeom>
            <a:avLst/>
            <a:gdLst>
              <a:gd name="textAreaLeft" fmla="*/ 61200 w 457200"/>
              <a:gd name="textAreaRight" fmla="*/ 396000 w 457200"/>
              <a:gd name="textAreaTop" fmla="*/ 93240 h 533160"/>
              <a:gd name="textAreaBottom" fmla="*/ 386640 h 533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447920" y="3276720"/>
            <a:ext cx="457200" cy="533160"/>
          </a:xfrm>
          <a:custGeom>
            <a:avLst/>
            <a:gdLst>
              <a:gd name="textAreaLeft" fmla="*/ 61200 w 457200"/>
              <a:gd name="textAreaRight" fmla="*/ 396000 w 457200"/>
              <a:gd name="textAreaTop" fmla="*/ 93240 h 533160"/>
              <a:gd name="textAreaBottom" fmla="*/ 386640 h 533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447920" y="4267080"/>
            <a:ext cx="457200" cy="533520"/>
          </a:xfrm>
          <a:custGeom>
            <a:avLst/>
            <a:gdLst>
              <a:gd name="textAreaLeft" fmla="*/ 61200 w 457200"/>
              <a:gd name="textAreaRight" fmla="*/ 396000 w 457200"/>
              <a:gd name="textAreaTop" fmla="*/ 93240 h 533520"/>
              <a:gd name="textAreaBottom" fmla="*/ 38700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rot="5400000">
            <a:off x="1580760" y="1771560"/>
            <a:ext cx="304920" cy="266760"/>
          </a:xfrm>
          <a:custGeom>
            <a:avLst/>
            <a:gdLst>
              <a:gd name="textAreaLeft" fmla="*/ 101520 w 304920"/>
              <a:gd name="textAreaRight" fmla="*/ 261360 w 304920"/>
              <a:gd name="textAreaTop" fmla="*/ 153720 h 266760"/>
              <a:gd name="textAreaBottom" fmla="*/ 228600 h 2667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88560" y="2133720"/>
            <a:ext cx="366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doni Bd BT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doni Bd BT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doni Bd BT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doni Bd BT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doni Bd BT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doni Bd BT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doni Bd BT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doni Bd BT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doni Bd BT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doni Bd BT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26640" y="808200"/>
            <a:ext cx="6488280" cy="60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The Software Crisis?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2819520"/>
            <a:ext cx="771516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28600" algn="just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228600" algn="just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 1995 the US spent more than $250 billion for software development on 175,000 projects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 algn="just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12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entury Schoolbook"/>
              </a:rPr>
              <a:t>average annual costs for a large company 2.3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 algn="just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12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entury Schoolbook"/>
              </a:rPr>
              <a:t>average annual for a medium company is 1.3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 algn="just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12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entury Schoolbook"/>
              </a:rPr>
              <a:t>average annual for a small company is $434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1371600"/>
            <a:ext cx="7026120" cy="19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ive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arge Company: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&gt; $500 million in reven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edium Company:  $200 - $500 million in reven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mall Company: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$100 - $200 million in reven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4960" y="5408640"/>
            <a:ext cx="542196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900" spc="-1" strike="noStrike" u="sng">
                <a:solidFill>
                  <a:srgbClr val="ffffff"/>
                </a:solidFill>
                <a:uFillTx/>
                <a:latin typeface="Arial"/>
              </a:rPr>
              <a:t>Chaos: The Dollar Drain of IT Project Failures</a:t>
            </a:r>
            <a:r>
              <a:rPr b="1" i="1" lang="en-US" sz="9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, Application Development Trends, January 1995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General FMEA Process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914040" y="1447560"/>
            <a:ext cx="649116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general goal is to develop a list of potential failures as early as possib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neral proces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lect FMEA strateg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ope and planning of FME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ilure identif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ilure analysi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solution of undetected faults and fault handling issu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927000" y="806400"/>
            <a:ext cx="648828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Select FMEA Strateg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922320" y="1558800"/>
            <a:ext cx="6491160" cy="39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rst decide upon a strategy for performing the overall FME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299880" indent="-185400">
              <a:lnSpc>
                <a:spcPct val="100000"/>
              </a:lnSpc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stablish guidelines and completion crite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615960" indent="-201600">
              <a:lnSpc>
                <a:spcPct val="100000"/>
              </a:lnSpc>
              <a:spcAft>
                <a:spcPts val="751"/>
              </a:spcAft>
              <a:buClr>
                <a:srgbClr val="ffffff"/>
              </a:buClr>
              <a:buFont typeface="Arial"/>
              <a:buChar char="-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rror detection can lead to state explo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615960" indent="-201600">
              <a:lnSpc>
                <a:spcPct val="100000"/>
              </a:lnSpc>
              <a:spcAft>
                <a:spcPts val="751"/>
              </a:spcAft>
              <a:buClr>
                <a:srgbClr val="ffffff"/>
              </a:buClr>
              <a:buFont typeface="Arial"/>
              <a:buChar char="-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stablish fault thresh hold crite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299880" indent="-185400">
              <a:lnSpc>
                <a:spcPct val="100000"/>
              </a:lnSpc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lect the analysis approa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615960" indent="-201600">
              <a:lnSpc>
                <a:spcPct val="100000"/>
              </a:lnSpc>
              <a:spcAft>
                <a:spcPts val="751"/>
              </a:spcAft>
              <a:buClr>
                <a:srgbClr val="ffffff"/>
              </a:buClr>
              <a:buFont typeface="Arial"/>
              <a:buChar char="-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W, SW, system, mixe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FMEA Planning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921960" y="1558440"/>
            <a:ext cx="649116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are essentially planning meeting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ng term plan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w many meetings will you need to meet your goals and completion criteri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w will you partition the meeting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15960" indent="-201600">
              <a:spcAft>
                <a:spcPts val="751"/>
              </a:spcAft>
              <a:buClr>
                <a:srgbClr val="ffffff"/>
              </a:buClr>
              <a:buFont typeface="Arial"/>
              <a:buChar char="-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FMEAs will be dependent upon other FMEA effor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will be the produc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15960" indent="-201600">
              <a:spcAft>
                <a:spcPts val="751"/>
              </a:spcAft>
              <a:buClr>
                <a:srgbClr val="ffffff"/>
              </a:buClr>
              <a:buFont typeface="Arial"/>
              <a:buChar char="-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nutes, action items, document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FMEA Planning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921960" y="1558440"/>
            <a:ext cx="649116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gine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15960" indent="-201600">
              <a:spcAft>
                <a:spcPts val="751"/>
              </a:spcAft>
              <a:buClr>
                <a:srgbClr val="ffffff"/>
              </a:buClr>
              <a:buFont typeface="Arial"/>
              <a:buChar char="-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ly those involved with the unit analysi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nage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15960" indent="-201600">
              <a:spcAft>
                <a:spcPts val="751"/>
              </a:spcAft>
              <a:buClr>
                <a:srgbClr val="ffffff"/>
              </a:buClr>
              <a:buFont typeface="Arial"/>
              <a:buChar char="-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sures buy i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MEA facilita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15960" indent="-201600">
              <a:spcAft>
                <a:spcPts val="751"/>
              </a:spcAft>
              <a:buClr>
                <a:srgbClr val="ffffff"/>
              </a:buClr>
              <a:buFont typeface="Arial"/>
              <a:buChar char="-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eps FMEA on trac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paratory materials (designs, etc.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Failure Identification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21960" y="1558440"/>
            <a:ext cx="649116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ilure Identification Guid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ults can be derived from the domai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ults can be derived from operational scenarios (operational scenario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ults can be derived from knowledge of the system’s internal function and structur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ults can be derived from an analysis of previous system failures -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not proactiv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Failure Identification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21960" y="1558440"/>
            <a:ext cx="649116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chniqu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ructured brainstorm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rview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rmal analysi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disciplined techniques have evolv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15960" indent="-201600">
              <a:spcAft>
                <a:spcPts val="751"/>
              </a:spcAft>
              <a:buClr>
                <a:srgbClr val="ffffff"/>
              </a:buClr>
              <a:buFont typeface="Arial"/>
              <a:buChar char="-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oint Application Design (JAD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15960" indent="-201600">
              <a:spcAft>
                <a:spcPts val="751"/>
              </a:spcAft>
              <a:buClr>
                <a:srgbClr val="ffffff"/>
              </a:buClr>
              <a:buFont typeface="Arial"/>
              <a:buChar char="-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lphi Techniqu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15960" indent="-201600">
              <a:spcAft>
                <a:spcPts val="751"/>
              </a:spcAft>
              <a:buClr>
                <a:srgbClr val="ffffff"/>
              </a:buClr>
              <a:buFont typeface="Arial"/>
              <a:buChar char="-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zard and Operability Analysi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General FMEA Process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21960" y="1558440"/>
            <a:ext cx="649116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ilure Analysi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basic strateg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15960" indent="-201600">
              <a:spcAft>
                <a:spcPts val="751"/>
              </a:spcAft>
              <a:buClr>
                <a:srgbClr val="ffffff"/>
              </a:buClr>
              <a:buFont typeface="Arial"/>
              <a:buChar char="-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ductiv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15960" indent="-201600">
              <a:spcAft>
                <a:spcPts val="751"/>
              </a:spcAft>
              <a:buClr>
                <a:srgbClr val="ffffff"/>
              </a:buClr>
              <a:buFont typeface="Arial"/>
              <a:buChar char="-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ductiv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038480" y="3809880"/>
            <a:ext cx="228600" cy="4572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581280" y="3429000"/>
            <a:ext cx="1143000" cy="380880"/>
          </a:xfrm>
          <a:prstGeom prst="flowChartAlternateProcess">
            <a:avLst/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ailu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3352680" y="4151160"/>
            <a:ext cx="1733760" cy="127476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 flipH="1">
            <a:off x="2971440" y="3657600"/>
            <a:ext cx="60948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724280" y="3657600"/>
            <a:ext cx="53352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297440" y="3429000"/>
            <a:ext cx="16513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DUCT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w di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s occur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107320" y="3200400"/>
            <a:ext cx="23644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DUCT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at will happ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w that th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ailure has occurr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1600200" y="4419720"/>
            <a:ext cx="10288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How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5638680" y="4419720"/>
            <a:ext cx="10288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Wha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General FMEA Process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921960" y="1558440"/>
            <a:ext cx="649116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ilure Analysis: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reating Fault Tre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roduced as a means of visualizing system fail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sed on hardware sys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ypically utilizes a consistent terminology and documentation techniqu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219320" y="4191120"/>
            <a:ext cx="457200" cy="685800"/>
            <a:chOff x="1219320" y="4191120"/>
            <a:chExt cx="457200" cy="685800"/>
          </a:xfrm>
        </p:grpSpPr>
        <p:sp>
          <p:nvSpPr>
            <p:cNvPr id="461" name=""/>
            <p:cNvSpPr/>
            <p:nvPr/>
          </p:nvSpPr>
          <p:spPr>
            <a:xfrm>
              <a:off x="1219320" y="4191120"/>
              <a:ext cx="457200" cy="252360"/>
            </a:xfrm>
            <a:custGeom>
              <a:avLst/>
              <a:gdLst/>
              <a:ahLst/>
              <a:rect l="l" t="t" r="r" b="b"/>
              <a:pathLst>
                <a:path w="240" h="112">
                  <a:moveTo>
                    <a:pt x="0" y="112"/>
                  </a:moveTo>
                  <a:cubicBezTo>
                    <a:pt x="8" y="72"/>
                    <a:pt x="16" y="32"/>
                    <a:pt x="48" y="16"/>
                  </a:cubicBezTo>
                  <a:cubicBezTo>
                    <a:pt x="80" y="0"/>
                    <a:pt x="160" y="0"/>
                    <a:pt x="192" y="16"/>
                  </a:cubicBezTo>
                  <a:cubicBezTo>
                    <a:pt x="224" y="32"/>
                    <a:pt x="232" y="72"/>
                    <a:pt x="240" y="112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219320" y="4443480"/>
              <a:ext cx="0" cy="433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676520" y="4443480"/>
              <a:ext cx="0" cy="433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219320" y="4876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2286000" y="4191120"/>
            <a:ext cx="457200" cy="685800"/>
            <a:chOff x="2286000" y="4191120"/>
            <a:chExt cx="457200" cy="685800"/>
          </a:xfrm>
        </p:grpSpPr>
        <p:grpSp>
          <p:nvGrpSpPr>
            <p:cNvPr id="466" name=""/>
            <p:cNvGrpSpPr/>
            <p:nvPr/>
          </p:nvGrpSpPr>
          <p:grpSpPr>
            <a:xfrm>
              <a:off x="2286000" y="4191120"/>
              <a:ext cx="456840" cy="380880"/>
              <a:chOff x="2286000" y="4191120"/>
              <a:chExt cx="456840" cy="380880"/>
            </a:xfrm>
          </p:grpSpPr>
          <p:sp>
            <p:nvSpPr>
              <p:cNvPr id="467" name=""/>
              <p:cNvSpPr/>
              <p:nvPr/>
            </p:nvSpPr>
            <p:spPr>
              <a:xfrm>
                <a:off x="2286000" y="4191120"/>
                <a:ext cx="228600" cy="380880"/>
              </a:xfrm>
              <a:custGeom>
                <a:avLst/>
                <a:gdLst/>
                <a:ahLst/>
                <a:rect l="l" t="t" r="r" b="b"/>
                <a:pathLst>
                  <a:path w="240" h="240">
                    <a:moveTo>
                      <a:pt x="0" y="240"/>
                    </a:moveTo>
                    <a:cubicBezTo>
                      <a:pt x="12" y="208"/>
                      <a:pt x="24" y="176"/>
                      <a:pt x="48" y="144"/>
                    </a:cubicBezTo>
                    <a:cubicBezTo>
                      <a:pt x="72" y="112"/>
                      <a:pt x="112" y="72"/>
                      <a:pt x="144" y="48"/>
                    </a:cubicBezTo>
                    <a:cubicBezTo>
                      <a:pt x="176" y="24"/>
                      <a:pt x="208" y="12"/>
                      <a:pt x="240" y="0"/>
                    </a:cubicBez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flipH="1">
                <a:off x="2514600" y="4191120"/>
                <a:ext cx="228240" cy="380880"/>
              </a:xfrm>
              <a:custGeom>
                <a:avLst/>
                <a:gdLst/>
                <a:ahLst/>
                <a:rect l="l" t="t" r="r" b="b"/>
                <a:pathLst>
                  <a:path w="240" h="240">
                    <a:moveTo>
                      <a:pt x="0" y="240"/>
                    </a:moveTo>
                    <a:cubicBezTo>
                      <a:pt x="12" y="208"/>
                      <a:pt x="24" y="176"/>
                      <a:pt x="48" y="144"/>
                    </a:cubicBezTo>
                    <a:cubicBezTo>
                      <a:pt x="72" y="112"/>
                      <a:pt x="112" y="72"/>
                      <a:pt x="144" y="48"/>
                    </a:cubicBezTo>
                    <a:cubicBezTo>
                      <a:pt x="176" y="24"/>
                      <a:pt x="208" y="12"/>
                      <a:pt x="240" y="0"/>
                    </a:cubicBez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69" name=""/>
            <p:cNvSpPr/>
            <p:nvPr/>
          </p:nvSpPr>
          <p:spPr>
            <a:xfrm>
              <a:off x="2286000" y="4572000"/>
              <a:ext cx="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743200" y="4572000"/>
              <a:ext cx="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286000" y="4788000"/>
              <a:ext cx="457200" cy="88920"/>
            </a:xfrm>
            <a:custGeom>
              <a:avLst/>
              <a:gdLst/>
              <a:ahLst/>
              <a:rect l="l" t="t" r="r" b="b"/>
              <a:pathLst>
                <a:path w="288" h="56">
                  <a:moveTo>
                    <a:pt x="0" y="56"/>
                  </a:moveTo>
                  <a:cubicBezTo>
                    <a:pt x="12" y="36"/>
                    <a:pt x="24" y="16"/>
                    <a:pt x="48" y="8"/>
                  </a:cubicBezTo>
                  <a:cubicBezTo>
                    <a:pt x="72" y="0"/>
                    <a:pt x="112" y="8"/>
                    <a:pt x="144" y="8"/>
                  </a:cubicBezTo>
                  <a:cubicBezTo>
                    <a:pt x="176" y="8"/>
                    <a:pt x="216" y="0"/>
                    <a:pt x="240" y="8"/>
                  </a:cubicBezTo>
                  <a:cubicBezTo>
                    <a:pt x="264" y="16"/>
                    <a:pt x="276" y="36"/>
                    <a:pt x="288" y="56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2" name=""/>
          <p:cNvSpPr/>
          <p:nvPr/>
        </p:nvSpPr>
        <p:spPr>
          <a:xfrm>
            <a:off x="3352680" y="4191120"/>
            <a:ext cx="685800" cy="60948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724280" y="4114800"/>
            <a:ext cx="762120" cy="762120"/>
          </a:xfrm>
          <a:prstGeom prst="flowChartDecision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172200" y="4191120"/>
            <a:ext cx="990720" cy="609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145160" y="48769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287440" y="487692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125880" y="4876920"/>
            <a:ext cx="113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mi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344840" y="4876920"/>
            <a:ext cx="161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ndevelop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142320" y="4876920"/>
            <a:ext cx="122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ulta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General FMEA Process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21960" y="1558800"/>
            <a:ext cx="6491160" cy="39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ilure Analysis: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reating Fault Tre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And Gat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Failure occurs if all input events occu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Or Gat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Failure occurs if any input events occu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erminal Even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Basic failure event needing no further develop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General FMEA Process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921960" y="1558440"/>
            <a:ext cx="649116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ilure Analysis: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reating Fault Tre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Undeveloped Even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failure event that may have a root cause but is not developed any furth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Intermediate Event: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An event that occurs because of another, or a series of ev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basic elements of a fault tree are gates and ev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iggest part of a FMEA exerci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26640" y="808200"/>
            <a:ext cx="6488280" cy="60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The Software Crisis?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21960" y="1558440"/>
            <a:ext cx="649116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1.1% of projects in all categories were canceled before completio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lnSpc>
                <a:spcPct val="90000"/>
              </a:lnSpc>
              <a:spcBef>
                <a:spcPts val="1199"/>
              </a:spcBef>
              <a:spcAft>
                <a:spcPts val="751"/>
              </a:spcAft>
              <a:buClr>
                <a:srgbClr val="ffffff"/>
              </a:buClr>
              <a:buSzPct val="120000"/>
              <a:buFont typeface="Century Schoolbook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st: $81 billio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lnSpc>
                <a:spcPct val="90000"/>
              </a:lnSpc>
              <a:spcBef>
                <a:spcPts val="1199"/>
              </a:spcBef>
              <a:spcAft>
                <a:spcPts val="751"/>
              </a:spcAft>
              <a:buClr>
                <a:srgbClr val="ffffff"/>
              </a:buClr>
              <a:buSzPct val="120000"/>
              <a:buFont typeface="Century Schoolbook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2.7% will overrun their initial estimates by 189%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lnSpc>
                <a:spcPct val="90000"/>
              </a:lnSpc>
              <a:spcBef>
                <a:spcPts val="1199"/>
              </a:spcBef>
              <a:spcAft>
                <a:spcPts val="751"/>
              </a:spcAft>
              <a:buClr>
                <a:srgbClr val="ffffff"/>
              </a:buClr>
              <a:buSzPct val="120000"/>
              <a:buFont typeface="Century Schoolbook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6.2% will complete on time and and within their budg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25840" y="5027760"/>
            <a:ext cx="542196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900" spc="-1" strike="noStrike" u="sng">
                <a:solidFill>
                  <a:srgbClr val="ffffff"/>
                </a:solidFill>
                <a:uFillTx/>
                <a:latin typeface="Arial"/>
              </a:rPr>
              <a:t>Chaos: The Dollar Drain of IT Project Failures</a:t>
            </a:r>
            <a:r>
              <a:rPr b="1" i="1" lang="en-US" sz="9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, Application Development Trends, January 1995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Example Fault Tree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438120" y="3352680"/>
            <a:ext cx="3429000" cy="1676520"/>
            <a:chOff x="438120" y="3352680"/>
            <a:chExt cx="3429000" cy="1676520"/>
          </a:xfrm>
        </p:grpSpPr>
        <p:sp>
          <p:nvSpPr>
            <p:cNvPr id="486" name=""/>
            <p:cNvSpPr/>
            <p:nvPr/>
          </p:nvSpPr>
          <p:spPr>
            <a:xfrm>
              <a:off x="2942640" y="3886200"/>
              <a:ext cx="877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riv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lee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68880" y="3657600"/>
              <a:ext cx="12718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bjec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bscur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 View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88" name=""/>
            <p:cNvGrpSpPr/>
            <p:nvPr/>
          </p:nvGrpSpPr>
          <p:grpSpPr>
            <a:xfrm>
              <a:off x="438120" y="3352680"/>
              <a:ext cx="3429000" cy="1676520"/>
              <a:chOff x="438120" y="3352680"/>
              <a:chExt cx="3429000" cy="1676520"/>
            </a:xfrm>
          </p:grpSpPr>
          <p:sp>
            <p:nvSpPr>
              <p:cNvPr id="489" name=""/>
              <p:cNvSpPr/>
              <p:nvPr/>
            </p:nvSpPr>
            <p:spPr>
              <a:xfrm>
                <a:off x="2876400" y="3733920"/>
                <a:ext cx="990720" cy="914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438120" y="3352680"/>
                <a:ext cx="1676520" cy="1676520"/>
              </a:xfrm>
              <a:prstGeom prst="flowChartDecision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91" name=""/>
          <p:cNvGrpSpPr/>
          <p:nvPr/>
        </p:nvGrpSpPr>
        <p:grpSpPr>
          <a:xfrm>
            <a:off x="2114640" y="2971440"/>
            <a:ext cx="761760" cy="1219680"/>
            <a:chOff x="2114640" y="2971440"/>
            <a:chExt cx="761760" cy="1219680"/>
          </a:xfrm>
        </p:grpSpPr>
        <p:sp>
          <p:nvSpPr>
            <p:cNvPr id="492" name=""/>
            <p:cNvSpPr/>
            <p:nvPr/>
          </p:nvSpPr>
          <p:spPr>
            <a:xfrm>
              <a:off x="2266920" y="3124080"/>
              <a:ext cx="228600" cy="381240"/>
            </a:xfrm>
            <a:custGeom>
              <a:avLst/>
              <a:gdLst/>
              <a:ahLst/>
              <a:rect l="l" t="t" r="r" b="b"/>
              <a:pathLst>
                <a:path w="240" h="240">
                  <a:moveTo>
                    <a:pt x="0" y="240"/>
                  </a:moveTo>
                  <a:cubicBezTo>
                    <a:pt x="12" y="208"/>
                    <a:pt x="24" y="176"/>
                    <a:pt x="48" y="144"/>
                  </a:cubicBezTo>
                  <a:cubicBezTo>
                    <a:pt x="72" y="112"/>
                    <a:pt x="112" y="72"/>
                    <a:pt x="144" y="48"/>
                  </a:cubicBezTo>
                  <a:cubicBezTo>
                    <a:pt x="176" y="24"/>
                    <a:pt x="208" y="12"/>
                    <a:pt x="240" y="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2494800" y="3124080"/>
              <a:ext cx="228600" cy="381240"/>
            </a:xfrm>
            <a:custGeom>
              <a:avLst/>
              <a:gdLst/>
              <a:ahLst/>
              <a:rect l="l" t="t" r="r" b="b"/>
              <a:pathLst>
                <a:path w="240" h="240">
                  <a:moveTo>
                    <a:pt x="0" y="240"/>
                  </a:moveTo>
                  <a:cubicBezTo>
                    <a:pt x="12" y="208"/>
                    <a:pt x="24" y="176"/>
                    <a:pt x="48" y="144"/>
                  </a:cubicBezTo>
                  <a:cubicBezTo>
                    <a:pt x="72" y="112"/>
                    <a:pt x="112" y="72"/>
                    <a:pt x="144" y="48"/>
                  </a:cubicBezTo>
                  <a:cubicBezTo>
                    <a:pt x="176" y="24"/>
                    <a:pt x="208" y="12"/>
                    <a:pt x="240" y="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266920" y="35053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724120" y="35053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266920" y="3720960"/>
              <a:ext cx="457200" cy="88920"/>
            </a:xfrm>
            <a:custGeom>
              <a:avLst/>
              <a:gdLst/>
              <a:ahLst/>
              <a:rect l="l" t="t" r="r" b="b"/>
              <a:pathLst>
                <a:path w="288" h="56">
                  <a:moveTo>
                    <a:pt x="0" y="56"/>
                  </a:moveTo>
                  <a:cubicBezTo>
                    <a:pt x="12" y="36"/>
                    <a:pt x="24" y="16"/>
                    <a:pt x="48" y="8"/>
                  </a:cubicBezTo>
                  <a:cubicBezTo>
                    <a:pt x="72" y="0"/>
                    <a:pt x="112" y="8"/>
                    <a:pt x="144" y="8"/>
                  </a:cubicBezTo>
                  <a:cubicBezTo>
                    <a:pt x="176" y="8"/>
                    <a:pt x="216" y="0"/>
                    <a:pt x="240" y="8"/>
                  </a:cubicBezTo>
                  <a:cubicBezTo>
                    <a:pt x="264" y="16"/>
                    <a:pt x="276" y="36"/>
                    <a:pt x="288" y="56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2495520" y="2971440"/>
              <a:ext cx="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114640" y="4191120"/>
              <a:ext cx="30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419200" y="373392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571840" y="4191120"/>
              <a:ext cx="30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571840" y="373392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3257640" y="1752480"/>
            <a:ext cx="2209680" cy="990720"/>
            <a:chOff x="3257640" y="1752480"/>
            <a:chExt cx="2209680" cy="990720"/>
          </a:xfrm>
        </p:grpSpPr>
        <p:sp>
          <p:nvSpPr>
            <p:cNvPr id="503" name=""/>
            <p:cNvSpPr/>
            <p:nvPr/>
          </p:nvSpPr>
          <p:spPr>
            <a:xfrm>
              <a:off x="3867120" y="1905120"/>
              <a:ext cx="228600" cy="380880"/>
            </a:xfrm>
            <a:custGeom>
              <a:avLst/>
              <a:gdLst/>
              <a:ahLst/>
              <a:rect l="l" t="t" r="r" b="b"/>
              <a:pathLst>
                <a:path w="240" h="240">
                  <a:moveTo>
                    <a:pt x="0" y="240"/>
                  </a:moveTo>
                  <a:cubicBezTo>
                    <a:pt x="12" y="208"/>
                    <a:pt x="24" y="176"/>
                    <a:pt x="48" y="144"/>
                  </a:cubicBezTo>
                  <a:cubicBezTo>
                    <a:pt x="72" y="112"/>
                    <a:pt x="112" y="72"/>
                    <a:pt x="144" y="48"/>
                  </a:cubicBezTo>
                  <a:cubicBezTo>
                    <a:pt x="176" y="24"/>
                    <a:pt x="208" y="12"/>
                    <a:pt x="240" y="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>
              <a:off x="4095000" y="1905120"/>
              <a:ext cx="228600" cy="380880"/>
            </a:xfrm>
            <a:custGeom>
              <a:avLst/>
              <a:gdLst/>
              <a:ahLst/>
              <a:rect l="l" t="t" r="r" b="b"/>
              <a:pathLst>
                <a:path w="240" h="240">
                  <a:moveTo>
                    <a:pt x="0" y="240"/>
                  </a:moveTo>
                  <a:cubicBezTo>
                    <a:pt x="12" y="208"/>
                    <a:pt x="24" y="176"/>
                    <a:pt x="48" y="144"/>
                  </a:cubicBezTo>
                  <a:cubicBezTo>
                    <a:pt x="72" y="112"/>
                    <a:pt x="112" y="72"/>
                    <a:pt x="144" y="48"/>
                  </a:cubicBezTo>
                  <a:cubicBezTo>
                    <a:pt x="176" y="24"/>
                    <a:pt x="208" y="12"/>
                    <a:pt x="240" y="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867120" y="2286000"/>
              <a:ext cx="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324320" y="2286000"/>
              <a:ext cx="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867120" y="2502000"/>
              <a:ext cx="457200" cy="88920"/>
            </a:xfrm>
            <a:custGeom>
              <a:avLst/>
              <a:gdLst/>
              <a:ahLst/>
              <a:rect l="l" t="t" r="r" b="b"/>
              <a:pathLst>
                <a:path w="288" h="56">
                  <a:moveTo>
                    <a:pt x="0" y="56"/>
                  </a:moveTo>
                  <a:cubicBezTo>
                    <a:pt x="12" y="36"/>
                    <a:pt x="24" y="16"/>
                    <a:pt x="48" y="8"/>
                  </a:cubicBezTo>
                  <a:cubicBezTo>
                    <a:pt x="72" y="0"/>
                    <a:pt x="112" y="8"/>
                    <a:pt x="144" y="8"/>
                  </a:cubicBezTo>
                  <a:cubicBezTo>
                    <a:pt x="176" y="8"/>
                    <a:pt x="216" y="0"/>
                    <a:pt x="240" y="8"/>
                  </a:cubicBezTo>
                  <a:cubicBezTo>
                    <a:pt x="264" y="16"/>
                    <a:pt x="276" y="36"/>
                    <a:pt x="288" y="56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4095720" y="175248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257640" y="2743200"/>
              <a:ext cx="761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019400" y="251460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172040" y="2743200"/>
              <a:ext cx="1295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172040" y="251460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1742760" y="2286000"/>
            <a:ext cx="4826880" cy="642600"/>
            <a:chOff x="1742760" y="2286000"/>
            <a:chExt cx="4826880" cy="642600"/>
          </a:xfrm>
        </p:grpSpPr>
        <p:sp>
          <p:nvSpPr>
            <p:cNvPr id="514" name=""/>
            <p:cNvSpPr/>
            <p:nvPr/>
          </p:nvSpPr>
          <p:spPr>
            <a:xfrm>
              <a:off x="1742760" y="2286000"/>
              <a:ext cx="1499040" cy="6426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river Didn’t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e Objec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475960" y="2286000"/>
              <a:ext cx="1093680" cy="6426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ar Fail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Brak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4324320" y="3505320"/>
            <a:ext cx="3363480" cy="1371600"/>
            <a:chOff x="4324320" y="3505320"/>
            <a:chExt cx="3363480" cy="1371600"/>
          </a:xfrm>
        </p:grpSpPr>
        <p:sp>
          <p:nvSpPr>
            <p:cNvPr id="517" name=""/>
            <p:cNvSpPr/>
            <p:nvPr/>
          </p:nvSpPr>
          <p:spPr>
            <a:xfrm>
              <a:off x="6466320" y="3841920"/>
              <a:ext cx="1221480" cy="6426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rak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effe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479120" y="3809880"/>
              <a:ext cx="1131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rak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fe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324320" y="3505320"/>
              <a:ext cx="1371600" cy="1371600"/>
            </a:xfrm>
            <a:prstGeom prst="flowChartDecision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5695920" y="2971440"/>
            <a:ext cx="762120" cy="1219680"/>
            <a:chOff x="5695920" y="2971440"/>
            <a:chExt cx="762120" cy="1219680"/>
          </a:xfrm>
        </p:grpSpPr>
        <p:sp>
          <p:nvSpPr>
            <p:cNvPr id="521" name=""/>
            <p:cNvSpPr/>
            <p:nvPr/>
          </p:nvSpPr>
          <p:spPr>
            <a:xfrm>
              <a:off x="5848200" y="3124080"/>
              <a:ext cx="228600" cy="381240"/>
            </a:xfrm>
            <a:custGeom>
              <a:avLst/>
              <a:gdLst/>
              <a:ahLst/>
              <a:rect l="l" t="t" r="r" b="b"/>
              <a:pathLst>
                <a:path w="240" h="240">
                  <a:moveTo>
                    <a:pt x="0" y="240"/>
                  </a:moveTo>
                  <a:cubicBezTo>
                    <a:pt x="12" y="208"/>
                    <a:pt x="24" y="176"/>
                    <a:pt x="48" y="144"/>
                  </a:cubicBezTo>
                  <a:cubicBezTo>
                    <a:pt x="72" y="112"/>
                    <a:pt x="112" y="72"/>
                    <a:pt x="144" y="48"/>
                  </a:cubicBezTo>
                  <a:cubicBezTo>
                    <a:pt x="176" y="24"/>
                    <a:pt x="208" y="12"/>
                    <a:pt x="240" y="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>
              <a:off x="6076080" y="3124080"/>
              <a:ext cx="228600" cy="381240"/>
            </a:xfrm>
            <a:custGeom>
              <a:avLst/>
              <a:gdLst/>
              <a:ahLst/>
              <a:rect l="l" t="t" r="r" b="b"/>
              <a:pathLst>
                <a:path w="240" h="240">
                  <a:moveTo>
                    <a:pt x="0" y="240"/>
                  </a:moveTo>
                  <a:cubicBezTo>
                    <a:pt x="12" y="208"/>
                    <a:pt x="24" y="176"/>
                    <a:pt x="48" y="144"/>
                  </a:cubicBezTo>
                  <a:cubicBezTo>
                    <a:pt x="72" y="112"/>
                    <a:pt x="112" y="72"/>
                    <a:pt x="144" y="48"/>
                  </a:cubicBezTo>
                  <a:cubicBezTo>
                    <a:pt x="176" y="24"/>
                    <a:pt x="208" y="12"/>
                    <a:pt x="240" y="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848200" y="35053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305400" y="35053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848200" y="3720960"/>
              <a:ext cx="457200" cy="88920"/>
            </a:xfrm>
            <a:custGeom>
              <a:avLst/>
              <a:gdLst/>
              <a:ahLst/>
              <a:rect l="l" t="t" r="r" b="b"/>
              <a:pathLst>
                <a:path w="288" h="56">
                  <a:moveTo>
                    <a:pt x="0" y="56"/>
                  </a:moveTo>
                  <a:cubicBezTo>
                    <a:pt x="12" y="36"/>
                    <a:pt x="24" y="16"/>
                    <a:pt x="48" y="8"/>
                  </a:cubicBezTo>
                  <a:cubicBezTo>
                    <a:pt x="72" y="0"/>
                    <a:pt x="112" y="8"/>
                    <a:pt x="144" y="8"/>
                  </a:cubicBezTo>
                  <a:cubicBezTo>
                    <a:pt x="176" y="8"/>
                    <a:pt x="216" y="0"/>
                    <a:pt x="240" y="8"/>
                  </a:cubicBezTo>
                  <a:cubicBezTo>
                    <a:pt x="264" y="16"/>
                    <a:pt x="276" y="36"/>
                    <a:pt x="288" y="56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V="1">
              <a:off x="6076800" y="2971440"/>
              <a:ext cx="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695920" y="41911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000840" y="373392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153120" y="41911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153120" y="373392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3562200" y="4419720"/>
            <a:ext cx="3581640" cy="1600200"/>
            <a:chOff x="3562200" y="4419720"/>
            <a:chExt cx="3581640" cy="1600200"/>
          </a:xfrm>
        </p:grpSpPr>
        <p:sp>
          <p:nvSpPr>
            <p:cNvPr id="532" name=""/>
            <p:cNvSpPr/>
            <p:nvPr/>
          </p:nvSpPr>
          <p:spPr>
            <a:xfrm rot="5400000">
              <a:off x="6633360" y="5053680"/>
              <a:ext cx="457200" cy="252720"/>
            </a:xfrm>
            <a:custGeom>
              <a:avLst/>
              <a:gdLst/>
              <a:ahLst/>
              <a:rect l="l" t="t" r="r" b="b"/>
              <a:pathLst>
                <a:path w="240" h="112">
                  <a:moveTo>
                    <a:pt x="0" y="112"/>
                  </a:moveTo>
                  <a:cubicBezTo>
                    <a:pt x="8" y="72"/>
                    <a:pt x="16" y="32"/>
                    <a:pt x="48" y="16"/>
                  </a:cubicBezTo>
                  <a:cubicBezTo>
                    <a:pt x="80" y="0"/>
                    <a:pt x="160" y="0"/>
                    <a:pt x="192" y="16"/>
                  </a:cubicBezTo>
                  <a:cubicBezTo>
                    <a:pt x="224" y="32"/>
                    <a:pt x="232" y="72"/>
                    <a:pt x="240" y="112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H="1">
              <a:off x="6302160" y="4951440"/>
              <a:ext cx="433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H="1">
              <a:off x="6302160" y="5408640"/>
              <a:ext cx="433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303960" y="495144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717000" y="4692600"/>
              <a:ext cx="891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rak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a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562200" y="4419720"/>
              <a:ext cx="1143000" cy="1143000"/>
            </a:xfrm>
            <a:prstGeom prst="flowChartDecision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744800" y="5257800"/>
              <a:ext cx="625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a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552920" y="5105520"/>
              <a:ext cx="990720" cy="9144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705200" y="5029200"/>
              <a:ext cx="1600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000840" y="5257800"/>
              <a:ext cx="30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000840" y="5257800"/>
              <a:ext cx="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543640" y="5562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143840" y="4495680"/>
              <a:ext cx="0" cy="68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991200" y="5181480"/>
              <a:ext cx="152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6" name=""/>
          <p:cNvSpPr/>
          <p:nvPr/>
        </p:nvSpPr>
        <p:spPr>
          <a:xfrm>
            <a:off x="218160" y="5029200"/>
            <a:ext cx="3291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afety Critical Software:Status Report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nd Annotated Bibliography”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lace and K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265920" y="1371600"/>
            <a:ext cx="1729080" cy="368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 Hits Obje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1"/>
          <a:stretch/>
        </p:blipFill>
        <p:spPr>
          <a:xfrm>
            <a:off x="5181480" y="0"/>
            <a:ext cx="2227320" cy="22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General FMEA Process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921960" y="1558440"/>
            <a:ext cx="649116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iticality Analysi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failure is given a criticality rank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15960" indent="-201600">
              <a:spcAft>
                <a:spcPts val="751"/>
              </a:spcAft>
              <a:buClr>
                <a:srgbClr val="ffffff"/>
              </a:buClr>
              <a:buFont typeface="Arial"/>
              <a:buChar char="-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ditorial comment: I prefer simple, low number ratings (i.e. 1-3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approaches with respect to the fault 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15960" indent="-201600">
              <a:spcAft>
                <a:spcPts val="751"/>
              </a:spcAft>
              <a:buClr>
                <a:srgbClr val="ffffff"/>
              </a:buClr>
              <a:buFont typeface="Arial"/>
              <a:buChar char="-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p level intermediate event ranking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15960" indent="-201600">
              <a:spcAft>
                <a:spcPts val="751"/>
              </a:spcAft>
              <a:buClr>
                <a:srgbClr val="ffffff"/>
              </a:buClr>
              <a:buFont typeface="Arial"/>
              <a:buChar char="-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rminal event rank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General FMEA Process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921960" y="1558440"/>
            <a:ext cx="649116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mage and Effects Analysi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en a failure occurs, what is the effect to the system and what damage will it suff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15960" indent="-201600">
              <a:spcAft>
                <a:spcPts val="751"/>
              </a:spcAft>
              <a:buClr>
                <a:srgbClr val="ffffff"/>
              </a:buClr>
              <a:buFont typeface="Arial"/>
              <a:buChar char="-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are the non-system losses in terms of life, limb, proper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15960" indent="-201600">
              <a:spcAft>
                <a:spcPts val="751"/>
              </a:spcAft>
              <a:buClr>
                <a:srgbClr val="ffffff"/>
              </a:buClr>
              <a:buFont typeface="Arial"/>
              <a:buChar char="-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is the cost of fail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ing the fault 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15960" indent="-201600">
              <a:spcAft>
                <a:spcPts val="751"/>
              </a:spcAft>
              <a:buClr>
                <a:srgbClr val="ffffff"/>
              </a:buClr>
              <a:buFont typeface="Arial"/>
              <a:buChar char="-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ypically analyze top level intermediate fail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FMEA Table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21960" y="1558440"/>
            <a:ext cx="649116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tting it all together in a FMEA Tab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FMEA table provides a tabular listing of the possible system failures and includes thei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15960" indent="-201600">
              <a:spcAft>
                <a:spcPts val="751"/>
              </a:spcAft>
              <a:buClr>
                <a:srgbClr val="ffffff"/>
              </a:buClr>
              <a:buFont typeface="Arial"/>
              <a:buChar char="-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ason, effects, severity, probability of occurrence, probability of detection, corrective/handling ac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15960" indent="0">
              <a:spcAft>
                <a:spcPts val="751"/>
              </a:spcAft>
              <a:buNone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437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e the example table on page 20 of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“Safety Critical Software:Status Report and Annotated Bibliography” ~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lace and Kan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Example FMEA Table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7848720" cy="43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FMEA in Practice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921960" y="1558440"/>
            <a:ext cx="649116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SA Mars Microprobe SW FMEA proces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rst performed a system level fault table which provided a fault analysis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15960" indent="-201600">
              <a:spcAft>
                <a:spcPts val="751"/>
              </a:spcAft>
              <a:buClr>
                <a:srgbClr val="ffffff"/>
              </a:buClr>
              <a:buFont typeface="Arial"/>
              <a:buChar char="-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faults involved HW, SW, and/or bo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fter this analysis it was determined that there were 3 critical software compon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15960" indent="-201600">
              <a:spcAft>
                <a:spcPts val="751"/>
              </a:spcAft>
              <a:buClr>
                <a:srgbClr val="ffffff"/>
              </a:buClr>
              <a:buFont typeface="Arial"/>
              <a:buChar char="-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lecommunications, impact, and water dete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FMEA in Practice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921960" y="1558440"/>
            <a:ext cx="649116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PL’s findings from the Mars Microprobe Software FME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arification of sequence and fault respon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arification of software error variables during an anomalous ev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mmendation of test cas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dentification of software faults that could be avoided altogeth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FMEA in Practice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921960" y="1558440"/>
            <a:ext cx="649116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PL’s findings from the Mars Microprobe Software FMEA (continued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driv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ows iteration and refocusing on emerging software failure issues as the software is built and tes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vided a relationship between risk and fail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FMEA in Practice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921960" y="1558440"/>
            <a:ext cx="649116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 emerging philosophy is to take a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ystems approa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using complimentary and redundant HW and SW safety techniqu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aceful degradation, proactive failure detection, and fail safe as a system engineering issu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 example is the Boeing 777 aircraf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y-by-wire avionics with minimal mechanical backup should the primary automated system fai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FMEA in Practice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921960" y="1558440"/>
            <a:ext cx="649116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the emergence and importance of transaction based system, concerns ari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ID princip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action manage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iabil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rrectnes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aceful degrad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ur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26640" y="808200"/>
            <a:ext cx="6488280" cy="60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Symptoms of the Crisis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1" name=""/>
          <p:cNvSpPr/>
          <p:nvPr/>
        </p:nvSpPr>
        <p:spPr>
          <a:xfrm>
            <a:off x="152280" y="1828800"/>
            <a:ext cx="3009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DEVELOPMENT COST OVERRU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72160" y="1752480"/>
            <a:ext cx="1914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FAILED 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PERFORM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2280" y="2971800"/>
            <a:ext cx="2971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DEVELOP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SCHEDULE OVERRU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51400" y="2955960"/>
            <a:ext cx="25527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COSTLY SYS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TO SUPPO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4840" y="4038480"/>
            <a:ext cx="7924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de3ba"/>
                </a:solidFill>
                <a:latin typeface="Book Antiqua"/>
              </a:rPr>
              <a:t>“</a:t>
            </a:r>
            <a:r>
              <a:rPr b="1" lang="en-US" sz="1800" spc="-1" strike="noStrike">
                <a:solidFill>
                  <a:srgbClr val="fde3ba"/>
                </a:solidFill>
                <a:latin typeface="Book Antiqua"/>
              </a:rPr>
              <a:t>ON SOFTWARE SCHEDULES, WE’VE GOT A PERFECT RECORD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de3ba"/>
                </a:solidFill>
                <a:latin typeface="Book Antiqua"/>
              </a:rPr>
              <a:t>  </a:t>
            </a:r>
            <a:r>
              <a:rPr b="1" lang="en-US" sz="1800" spc="-1" strike="noStrike">
                <a:solidFill>
                  <a:srgbClr val="fde3ba"/>
                </a:solidFill>
                <a:latin typeface="Book Antiqua"/>
              </a:rPr>
              <a:t>WE’VE NEVER MADE ONE ON TIME YET!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90920" y="4876920"/>
            <a:ext cx="53337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GENERAL BERNARD P. RANDOLP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COMMANDER, AIR FORCE SYSTEMS COMM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AIR FORCE ASSOCIATION SYMPOSIUM, JANUARY 198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276720" y="1600200"/>
          <a:ext cx="1834920" cy="14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600200"/>
                    <a:ext cx="183492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1143000" y="2438280"/>
            <a:ext cx="1905120" cy="381240"/>
          </a:xfrm>
          <a:prstGeom prst="rightArrow">
            <a:avLst>
              <a:gd name="adj1" fmla="val 50000"/>
              <a:gd name="adj2" fmla="val 124929"/>
            </a:avLst>
          </a:prstGeom>
          <a:gradFill rotWithShape="0">
            <a:gsLst>
              <a:gs pos="0">
                <a:srgbClr val="ffff0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5334120" y="2438280"/>
            <a:ext cx="1752480" cy="381240"/>
          </a:xfrm>
          <a:prstGeom prst="rightArrow">
            <a:avLst>
              <a:gd name="adj1" fmla="val 50000"/>
              <a:gd name="adj2" fmla="val 114920"/>
            </a:avLst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200400" y="3124080"/>
            <a:ext cx="1676520" cy="7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ffff66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Courier New"/>
              </a:rPr>
              <a:t>SOFTWARE</a:t>
            </a:r>
            <a:endParaRPr b="0" lang="en-US" sz="2800" spc="1" strike="noStrike">
              <a:ln w="0">
                <a:noFill/>
              </a:ln>
              <a:solidFill>
                <a:srgbClr val="ffff66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Courier New"/>
              <a:ea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ffff66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Courier New"/>
              </a:rPr>
              <a:t>CRISIS</a:t>
            </a:r>
            <a:endParaRPr b="0" lang="en-US" sz="2800" spc="1" strike="noStrike">
              <a:ln w="0">
                <a:noFill/>
              </a:ln>
              <a:solidFill>
                <a:srgbClr val="ffff66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Courier New"/>
              <a:ea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All that having been said...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921960" y="1558440"/>
            <a:ext cx="649116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and opportunity go hand-in-hand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249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e greatest rewards go to those that assume the greatest risk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Aft>
                <a:spcPts val="249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e only failure is not taking a chance to fail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Aft>
                <a:spcPts val="249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Risk is essential to progress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Aft>
                <a:spcPts val="249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t is essential to balance the negative consequences of risk against the potential benefits in a deliberate and disciplined wa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Summary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921960" y="1558440"/>
            <a:ext cx="649116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is an inherent part of software develop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ften ignored or at best dealt with in an ad-hoc wa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can be manag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es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lyz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c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ro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Summary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921960" y="1558440"/>
            <a:ext cx="649116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erational Risks and FME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ile overlooked in many web based systems, risk management is getting more attention with the emergence of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15960" indent="-201600">
              <a:spcAft>
                <a:spcPts val="751"/>
              </a:spcAft>
              <a:buClr>
                <a:srgbClr val="ffffff"/>
              </a:buClr>
              <a:buFont typeface="Arial"/>
              <a:buChar char="-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licious pranksters (viruse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15960" indent="-201600">
              <a:spcAft>
                <a:spcPts val="751"/>
              </a:spcAft>
              <a:buClr>
                <a:srgbClr val="ffffff"/>
              </a:buClr>
              <a:buFont typeface="Arial"/>
              <a:buChar char="-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sonal information compromi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15960" indent="-201600">
              <a:spcAft>
                <a:spcPts val="751"/>
              </a:spcAft>
              <a:buClr>
                <a:srgbClr val="ffffff"/>
              </a:buClr>
              <a:buFont typeface="Arial"/>
              <a:buChar char="-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ectronic commer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15960" indent="-201600">
              <a:spcAft>
                <a:spcPts val="751"/>
              </a:spcAft>
              <a:buClr>
                <a:srgbClr val="ffffff"/>
              </a:buClr>
              <a:buFont typeface="Arial"/>
              <a:buChar char="-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ectronic govern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15960" indent="-201600">
              <a:spcAft>
                <a:spcPts val="751"/>
              </a:spcAft>
              <a:buClr>
                <a:srgbClr val="ffffff"/>
              </a:buClr>
              <a:buFont typeface="Arial"/>
              <a:buChar char="-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formation warfa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480" y="2057400"/>
            <a:ext cx="6934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Questions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Summary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921960" y="1558440"/>
            <a:ext cx="649116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erational risks are a part of real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erational risks can be identified, but the system may or may not handle all failure m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ilure Mode Effects Analysis is a disciplined method for identifying system fail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0880" indent="-17964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lps in developing mitigating strateg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0880" indent="-17964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lps define graceful degrad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0880" indent="-17964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lps in system te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General Software Project Risks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649116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ftware risks fall into 3 very broad categor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7640" indent="-17784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grammatic Ris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591120" indent="-193320">
              <a:spcAft>
                <a:spcPts val="751"/>
              </a:spcAft>
              <a:buClr>
                <a:srgbClr val="ffffff"/>
              </a:buClr>
              <a:buFont typeface="Arial"/>
              <a:buChar char="-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st, schedu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7640" indent="-17784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duct Ris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591120" indent="-193320">
              <a:spcAft>
                <a:spcPts val="751"/>
              </a:spcAft>
              <a:buClr>
                <a:srgbClr val="ffffff"/>
              </a:buClr>
              <a:buFont typeface="Arial"/>
              <a:buChar char="-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chnology, feat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7640" indent="-17784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velopment Environ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591120" indent="-193320">
              <a:spcAft>
                <a:spcPts val="751"/>
              </a:spcAft>
              <a:buClr>
                <a:srgbClr val="ffffff"/>
              </a:buClr>
              <a:buFont typeface="Arial"/>
              <a:buChar char="-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cess, work environment, logistic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7640" indent="-17784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erational Ris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591120" indent="-193320">
              <a:spcAft>
                <a:spcPts val="751"/>
              </a:spcAft>
              <a:buClr>
                <a:srgbClr val="ffffff"/>
              </a:buClr>
              <a:buFont typeface="Arial"/>
              <a:buChar char="-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w gracefully does a system fai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Software Project Risk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21960" y="1558440"/>
            <a:ext cx="649116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need to formally manage risk increases with system complex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1600200" y="2437920"/>
            <a:ext cx="1440" cy="3048120"/>
          </a:xfrm>
          <a:prstGeom prst="line">
            <a:avLst/>
          </a:prstGeom>
          <a:ln w="3492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19320" y="5105520"/>
            <a:ext cx="4343400" cy="0"/>
          </a:xfrm>
          <a:prstGeom prst="line">
            <a:avLst/>
          </a:prstGeom>
          <a:ln w="3492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00200" y="2666880"/>
            <a:ext cx="3429000" cy="2133720"/>
          </a:xfrm>
          <a:custGeom>
            <a:avLst/>
            <a:gdLst/>
            <a:ahLst/>
            <a:rect l="l" t="t" r="r" b="b"/>
            <a:pathLst>
              <a:path w="2832" h="1632">
                <a:moveTo>
                  <a:pt x="0" y="1632"/>
                </a:moveTo>
                <a:cubicBezTo>
                  <a:pt x="176" y="1624"/>
                  <a:pt x="352" y="1616"/>
                  <a:pt x="528" y="1584"/>
                </a:cubicBezTo>
                <a:cubicBezTo>
                  <a:pt x="704" y="1552"/>
                  <a:pt x="888" y="1504"/>
                  <a:pt x="1056" y="1440"/>
                </a:cubicBezTo>
                <a:cubicBezTo>
                  <a:pt x="1224" y="1376"/>
                  <a:pt x="1384" y="1288"/>
                  <a:pt x="1536" y="1200"/>
                </a:cubicBezTo>
                <a:cubicBezTo>
                  <a:pt x="1688" y="1112"/>
                  <a:pt x="1824" y="1024"/>
                  <a:pt x="1968" y="912"/>
                </a:cubicBezTo>
                <a:cubicBezTo>
                  <a:pt x="2112" y="800"/>
                  <a:pt x="2256" y="680"/>
                  <a:pt x="2400" y="528"/>
                </a:cubicBezTo>
                <a:cubicBezTo>
                  <a:pt x="2544" y="376"/>
                  <a:pt x="2760" y="88"/>
                  <a:pt x="2832" y="0"/>
                </a:cubicBezTo>
              </a:path>
            </a:pathLst>
          </a:custGeom>
          <a:noFill/>
          <a:ln w="19080">
            <a:solidFill>
              <a:srgbClr val="ffff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80360" y="5181480"/>
            <a:ext cx="252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ystem Complex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39160" y="373392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is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562000" y="2286000"/>
            <a:ext cx="166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mal risk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ag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721040" y="3048120"/>
            <a:ext cx="28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rporate experti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ert knowledge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udgement, experi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14440" y="4267080"/>
            <a:ext cx="23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pable individua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1447920" y="4495680"/>
            <a:ext cx="27432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447560" y="3581280"/>
            <a:ext cx="335268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447560" y="2819520"/>
            <a:ext cx="419076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20:28:42Z</dcterms:created>
  <dc:creator>jtomal</dc:creator>
  <dc:description/>
  <dc:language>en-US</dc:language>
  <cp:lastModifiedBy>Anthony J Lattanze</cp:lastModifiedBy>
  <cp:lastPrinted>1998-05-19T19:59:09Z</cp:lastPrinted>
  <dcterms:modified xsi:type="dcterms:W3CDTF">2000-09-22T19:44:12Z</dcterms:modified>
  <cp:revision>106</cp:revision>
  <dc:subject/>
  <dc:title>Cover Slide Example</dc:title>
</cp:coreProperties>
</file>