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820431F-B7BD-4C23-9B95-C92925C6CE2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1175400" y="705240"/>
            <a:ext cx="4639680" cy="347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99120" y="4408200"/>
            <a:ext cx="559260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06D8144-1448-49B3-8577-18A6ED99E94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E096624-914B-4BA6-AE59-25A0FB3097B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E548314-8E7B-40D8-8D4C-383FAC2FB68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F60797-AC8D-4C7E-8CF2-B97E6533311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86840" y="6400800"/>
            <a:ext cx="18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320" y="60958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6576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SUNG EBUSINESS                                              PITTSBURGH, SEPTEMBER 2000                            COPYRIGHT © 2000 MICHAEL I. SHA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verisign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yptographic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76720" y="5257800"/>
          <a:ext cx="274140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257800"/>
                    <a:ext cx="27414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blic-Key Encry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ce wants to send Bob a secure message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ce uses Bob’s public key to encrypt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uses his private key to decrypt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is the ONLY ONE who can do thi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M is sec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Anyone could have sent it.  Was it really Al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0120" y="4952880"/>
            <a:ext cx="91440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19040" y="5028480"/>
            <a:ext cx="887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4952880"/>
            <a:ext cx="914400" cy="9144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4760" y="5028480"/>
            <a:ext cx="887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7960" y="5028480"/>
            <a:ext cx="887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90640" y="4952880"/>
            <a:ext cx="93816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01800" y="5028480"/>
            <a:ext cx="898560" cy="731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5029200"/>
            <a:ext cx="1828800" cy="6858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80360" y="5257440"/>
            <a:ext cx="159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M 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54100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32040" y="4020480"/>
            <a:ext cx="1974240" cy="493560"/>
          </a:xfrm>
          <a:prstGeom prst="wedgeRoundRectCallout">
            <a:avLst>
              <a:gd name="adj1" fmla="val -22564"/>
              <a:gd name="adj2" fmla="val 229004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B DECRYPT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 PRIVATE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83720" y="4096440"/>
            <a:ext cx="2102400" cy="493560"/>
          </a:xfrm>
          <a:prstGeom prst="wedgeRoundRectCallout">
            <a:avLst>
              <a:gd name="adj1" fmla="val -31476"/>
              <a:gd name="adj2" fmla="val 21224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CE ENCRYPT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B’S PUBLIC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46560" y="35146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38440" y="3728160"/>
            <a:ext cx="1074960" cy="7318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B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18080" y="3732840"/>
            <a:ext cx="1074600" cy="731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B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870280" y="3884760"/>
            <a:ext cx="66816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91240" y="3859200"/>
            <a:ext cx="66672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Authent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ce wants to send Bob a message M so that Bob is sure Alice is the se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ce uses her own private key to encrypt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uses Alice’s public key to decrypt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ce is the ONLY ONE who could have sen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1: Anyone can read it!        Problem 2: Replay attac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4952880"/>
            <a:ext cx="91440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19040" y="5028480"/>
            <a:ext cx="887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4952880"/>
            <a:ext cx="914400" cy="9144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4760" y="5028480"/>
            <a:ext cx="887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37960" y="5028480"/>
            <a:ext cx="887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6240" y="4952880"/>
            <a:ext cx="95256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3680" y="5028480"/>
            <a:ext cx="887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5029200"/>
            <a:ext cx="1828800" cy="6858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0360" y="5257440"/>
            <a:ext cx="159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M 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54100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32040" y="4020480"/>
            <a:ext cx="1974240" cy="493560"/>
          </a:xfrm>
          <a:prstGeom prst="wedgeRoundRectCallout">
            <a:avLst>
              <a:gd name="adj1" fmla="val -22564"/>
              <a:gd name="adj2" fmla="val 229004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B DECRYPT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CE’S PUBLIC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83720" y="4096440"/>
            <a:ext cx="2102400" cy="493560"/>
          </a:xfrm>
          <a:prstGeom prst="wedgeRoundRectCallout">
            <a:avLst>
              <a:gd name="adj1" fmla="val -31476"/>
              <a:gd name="adj2" fmla="val 21224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CE ENCRYPT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R PRIVATE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0320" y="3839040"/>
            <a:ext cx="956160" cy="7318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09160" y="3845520"/>
            <a:ext cx="887760" cy="731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870280" y="3946320"/>
            <a:ext cx="853920" cy="22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03760" y="3959280"/>
            <a:ext cx="73044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ure Signed Mess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98400" y="92376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ce must send Bob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cr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gn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ssage M so Bob is sure is was sent by Alice.  U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cryption and sign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57200" y="2228040"/>
            <a:ext cx="8157960" cy="3785400"/>
            <a:chOff x="457200" y="2228040"/>
            <a:chExt cx="8157960" cy="3785400"/>
          </a:xfrm>
        </p:grpSpPr>
        <p:grpSp>
          <p:nvGrpSpPr>
            <p:cNvPr id="182" name=""/>
            <p:cNvGrpSpPr/>
            <p:nvPr/>
          </p:nvGrpSpPr>
          <p:grpSpPr>
            <a:xfrm>
              <a:off x="3180600" y="3046320"/>
              <a:ext cx="915120" cy="914400"/>
              <a:chOff x="3180600" y="3046320"/>
              <a:chExt cx="915120" cy="914400"/>
            </a:xfrm>
          </p:grpSpPr>
          <p:sp>
            <p:nvSpPr>
              <p:cNvPr id="183" name=""/>
              <p:cNvSpPr/>
              <p:nvPr/>
            </p:nvSpPr>
            <p:spPr>
              <a:xfrm>
                <a:off x="3181320" y="3046320"/>
                <a:ext cx="914400" cy="914400"/>
              </a:xfrm>
              <a:prstGeom prst="rect">
                <a:avLst/>
              </a:prstGeom>
              <a:solidFill>
                <a:srgbClr val="66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180600" y="3121920"/>
                <a:ext cx="88776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ICE’S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DED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286160" y="4987800"/>
              <a:ext cx="1793880" cy="102564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59160" y="5006160"/>
              <a:ext cx="181260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ICE’S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AUTHENTICAT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901800" y="3035160"/>
              <a:ext cx="952560" cy="914400"/>
              <a:chOff x="901800" y="3035160"/>
              <a:chExt cx="952560" cy="914400"/>
            </a:xfrm>
          </p:grpSpPr>
          <p:sp>
            <p:nvSpPr>
              <p:cNvPr id="188" name=""/>
              <p:cNvSpPr/>
              <p:nvPr/>
            </p:nvSpPr>
            <p:spPr>
              <a:xfrm>
                <a:off x="901800" y="3035160"/>
                <a:ext cx="952560" cy="91440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939240" y="3110760"/>
                <a:ext cx="88776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ICE’S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LEAR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878120" y="3529080"/>
              <a:ext cx="130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155560" y="4226760"/>
              <a:ext cx="1974240" cy="493560"/>
            </a:xfrm>
            <a:prstGeom prst="wedgeRoundRectCallout">
              <a:avLst>
                <a:gd name="adj1" fmla="val -23824"/>
                <a:gd name="adj2" fmla="val 198467"/>
                <a:gd name="adj3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B DECRYPTS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ICE’S PUBLIC K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444480" y="2228040"/>
              <a:ext cx="2102400" cy="493560"/>
            </a:xfrm>
            <a:prstGeom prst="wedgeRoundRectCallout">
              <a:avLst>
                <a:gd name="adj1" fmla="val -31476"/>
                <a:gd name="adj2" fmla="val 212314"/>
                <a:gd name="adj3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ICE ENCRYPTS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R PRIVATE K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861480" y="2243880"/>
              <a:ext cx="2102400" cy="493560"/>
            </a:xfrm>
            <a:prstGeom prst="wedgeRoundRectCallout">
              <a:avLst>
                <a:gd name="adj1" fmla="val -31476"/>
                <a:gd name="adj2" fmla="val 212240"/>
                <a:gd name="adj3" fmla="val 1666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ICE ENCRYPTS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B’S PUBLIC K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0120" y="3521160"/>
              <a:ext cx="1598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5679000" y="3038400"/>
              <a:ext cx="1372320" cy="914400"/>
              <a:chOff x="5679000" y="3038400"/>
              <a:chExt cx="1372320" cy="914400"/>
            </a:xfrm>
          </p:grpSpPr>
          <p:sp>
            <p:nvSpPr>
              <p:cNvPr id="196" name=""/>
              <p:cNvSpPr/>
              <p:nvPr/>
            </p:nvSpPr>
            <p:spPr>
              <a:xfrm>
                <a:off x="5695920" y="3038400"/>
                <a:ext cx="1349280" cy="914400"/>
              </a:xfrm>
              <a:prstGeom prst="rect">
                <a:avLst/>
              </a:prstGeom>
              <a:solidFill>
                <a:srgbClr val="ff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679000" y="3125160"/>
                <a:ext cx="13723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ICE’S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DED AND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IGNED TEX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242840" y="4811760"/>
              <a:ext cx="1372320" cy="914400"/>
              <a:chOff x="7242840" y="4811760"/>
              <a:chExt cx="1372320" cy="914400"/>
            </a:xfrm>
          </p:grpSpPr>
          <p:sp>
            <p:nvSpPr>
              <p:cNvPr id="199" name=""/>
              <p:cNvSpPr/>
              <p:nvPr/>
            </p:nvSpPr>
            <p:spPr>
              <a:xfrm>
                <a:off x="7259760" y="4811760"/>
                <a:ext cx="1349280" cy="914400"/>
              </a:xfrm>
              <a:prstGeom prst="rect">
                <a:avLst/>
              </a:prstGeom>
              <a:solidFill>
                <a:srgbClr val="ff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242840" y="4898520"/>
                <a:ext cx="13723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ICE’S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DED AND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IGNED TEX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rot="5400000">
              <a:off x="6993720" y="3356640"/>
              <a:ext cx="1485720" cy="1363680"/>
            </a:xfrm>
            <a:custGeom>
              <a:avLst/>
              <a:gdLst>
                <a:gd name="textAreaLeft" fmla="*/ 0 w 1485720"/>
                <a:gd name="textAreaRight" fmla="*/ 1486080 w 1485720"/>
                <a:gd name="textAreaTop" fmla="*/ 0 h 1363680"/>
                <a:gd name="textAreaBottom" fmla="*/ 1364040 h 136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31" stAng="10800000" swAng="5400000"/>
                  <a:lnTo>
                    <a:pt x="15766" y="3429"/>
                  </a:lnTo>
                  <a:lnTo>
                    <a:pt x="15766" y="0"/>
                  </a:lnTo>
                  <a:lnTo>
                    <a:pt x="21600" y="6079"/>
                  </a:lnTo>
                  <a:lnTo>
                    <a:pt x="15766" y="12158"/>
                  </a:lnTo>
                  <a:lnTo>
                    <a:pt x="15766" y="8729"/>
                  </a:lnTo>
                  <a:lnTo>
                    <a:pt x="12427" y="8729"/>
                  </a:lnTo>
                  <a:arcTo wR="7127" hR="3431" stAng="16200000" swAng="-5400000"/>
                  <a:lnTo>
                    <a:pt x="5300" y="21600"/>
                  </a:lnTo>
                  <a:close/>
                </a:path>
              </a:pathLst>
            </a:cu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87680" y="3312720"/>
              <a:ext cx="293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00800" y="3314520"/>
              <a:ext cx="312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26160" y="33318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13720" y="34272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33960" y="36223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59160" y="3844440"/>
              <a:ext cx="333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6040" y="4078080"/>
              <a:ext cx="235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13160" y="4352400"/>
              <a:ext cx="293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457200" y="4995720"/>
              <a:ext cx="1774440" cy="998280"/>
              <a:chOff x="457200" y="4995720"/>
              <a:chExt cx="1774440" cy="998280"/>
            </a:xfrm>
          </p:grpSpPr>
          <p:sp>
            <p:nvSpPr>
              <p:cNvPr id="211" name=""/>
              <p:cNvSpPr/>
              <p:nvPr/>
            </p:nvSpPr>
            <p:spPr>
              <a:xfrm>
                <a:off x="469800" y="4995720"/>
                <a:ext cx="1722600" cy="99828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7200" y="5005080"/>
                <a:ext cx="17744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ICE’S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LEAR TEX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DECRYPTED A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UTHENTICATE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2126520" y="4304520"/>
              <a:ext cx="1974240" cy="493560"/>
            </a:xfrm>
            <a:prstGeom prst="wedgeRoundRectCallout">
              <a:avLst>
                <a:gd name="adj1" fmla="val -21888"/>
                <a:gd name="adj2" fmla="val 183305"/>
                <a:gd name="adj3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B DECRYPTS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S PRIVATE K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067080" y="5450040"/>
              <a:ext cx="1197000" cy="1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187720" y="5478480"/>
              <a:ext cx="2062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433280" y="1693440"/>
            <a:ext cx="1491120" cy="1132200"/>
            <a:chOff x="7433280" y="1693440"/>
            <a:chExt cx="1491120" cy="1132200"/>
          </a:xfrm>
        </p:grpSpPr>
        <p:sp>
          <p:nvSpPr>
            <p:cNvPr id="217" name=""/>
            <p:cNvSpPr/>
            <p:nvPr/>
          </p:nvSpPr>
          <p:spPr>
            <a:xfrm>
              <a:off x="7435080" y="1693440"/>
              <a:ext cx="1277640" cy="2750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B’S PUBL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39760" y="2265120"/>
              <a:ext cx="1396800" cy="275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ICE’S PUBL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39400" y="2550600"/>
              <a:ext cx="1372320" cy="2750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B’S 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33280" y="1980720"/>
              <a:ext cx="1491120" cy="2750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ICE’S 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537960" y="1736640"/>
            <a:ext cx="870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 KE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E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Envelop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45368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Public-key encryption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ch sl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symmetric encryption.  More than 1000 times sl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Combine PKE and 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KE to se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128-b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mmet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ession key only for one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505320" y="4267080"/>
          <a:ext cx="189216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267080"/>
                    <a:ext cx="189216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593680" y="4206240"/>
            <a:ext cx="3249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ONTENTS OF SECURE MESSAG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ONE 128-BIT SYMMETR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952520" y="4525920"/>
            <a:ext cx="838440" cy="19836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1720" y="4007880"/>
            <a:ext cx="3076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USE PUBLIC-KEY 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O SEND A SECURE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(USE RECIPIENT’S PRIVATE KE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99960" y="5395320"/>
            <a:ext cx="4467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ONLY THE RECIPIENT CAN READ THE MESS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HIS SOLVES THE KEY EXCHANGE PROBL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/>
          <p:nvPr/>
        </p:nvCxnSpPr>
        <p:spPr>
          <a:xfrm flipH="1" flipV="1" rot="10800000">
            <a:off x="2201400" y="4738320"/>
            <a:ext cx="1424880" cy="143640"/>
          </a:xfrm>
          <a:prstGeom prst="bentConnector3">
            <a:avLst>
              <a:gd name="adj1" fmla="val -202"/>
            </a:avLst>
          </a:prstGeom>
          <a:ln w="19080">
            <a:solidFill>
              <a:srgbClr val="cc00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ssage Digest (Hash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ssage digest is a “fingerprint” of a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shorter than the original message (e.g. 160 b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recover the message from the di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the message changes the di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12800" y="4321440"/>
            <a:ext cx="639144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E (VERY LO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79680" y="5304960"/>
            <a:ext cx="87624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19160" y="4662360"/>
            <a:ext cx="0" cy="61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85640" y="5049360"/>
            <a:ext cx="3763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DIGEST CAN BE USED TO VERIFY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HE MESSAGE HAS NOT BEEN ALT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547720" y="5234040"/>
            <a:ext cx="631800" cy="1731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gle Step of SHA-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sha" descr=""/>
          <p:cNvPicPr/>
          <p:nvPr/>
        </p:nvPicPr>
        <p:blipFill>
          <a:blip r:embed="rId1"/>
          <a:stretch/>
        </p:blipFill>
        <p:spPr>
          <a:xfrm>
            <a:off x="4494240" y="1905120"/>
            <a:ext cx="3494160" cy="4059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48280" y="1649160"/>
            <a:ext cx="3738960" cy="21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es on 16-word (512-bit) 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s 16 words to 80 words W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s 80 operations as show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for t = 0..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, b, c, d, e are special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special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9640" y="5826240"/>
            <a:ext cx="379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CHNEIER, APPLIED CRYP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75000" y="4263840"/>
            <a:ext cx="219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INITIALLY CONS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438360" y="2313000"/>
            <a:ext cx="989280" cy="185580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479400" y="3170160"/>
            <a:ext cx="927000" cy="106380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543120" y="3924360"/>
            <a:ext cx="850680" cy="35856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392280" y="4692600"/>
            <a:ext cx="1060200" cy="81936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39880" y="4605480"/>
            <a:ext cx="865080" cy="11088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06000" y="1285560"/>
            <a:ext cx="351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80 WORDS INPUT HERE, 1 EACH 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79920" y="1558800"/>
            <a:ext cx="446040" cy="37152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25880" y="1568160"/>
            <a:ext cx="193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MAGIC CONS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87920" y="1749600"/>
            <a:ext cx="245880" cy="17604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040" y="4734720"/>
            <a:ext cx="2606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&lt;&lt; 5” me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clic left shift 5 bit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74720" y="2074680"/>
            <a:ext cx="28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77920" y="2077560"/>
            <a:ext cx="28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8400" y="2101320"/>
            <a:ext cx="28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23720" y="2088720"/>
            <a:ext cx="28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91640" y="3540240"/>
            <a:ext cx="1152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REVI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CONS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FOR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969320" y="2389320"/>
            <a:ext cx="458640" cy="112716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961400" y="4424400"/>
            <a:ext cx="446040" cy="103824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7948440" y="4323960"/>
            <a:ext cx="373320" cy="44460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23240" y="2987640"/>
            <a:ext cx="334800" cy="53352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984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Signa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98400" y="1247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unction of both the message AND the signer’s private key (different for every mess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828720" y="2044800"/>
            <a:ext cx="7642080" cy="3927240"/>
            <a:chOff x="828720" y="2044800"/>
            <a:chExt cx="7642080" cy="3927240"/>
          </a:xfrm>
        </p:grpSpPr>
        <p:sp>
          <p:nvSpPr>
            <p:cNvPr id="265" name=""/>
            <p:cNvSpPr/>
            <p:nvPr/>
          </p:nvSpPr>
          <p:spPr>
            <a:xfrm>
              <a:off x="2643120" y="2044800"/>
              <a:ext cx="435132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SSAGE (LO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10000" y="3217680"/>
              <a:ext cx="85248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10000" y="4154400"/>
              <a:ext cx="85248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62440" y="2385720"/>
              <a:ext cx="0" cy="8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08960" y="2513880"/>
              <a:ext cx="3746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USE SECURE HASH ALGORITHM (SH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TO PRODUCE HASH (MESSAGE DIGES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89440" y="355896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79920" y="3555360"/>
              <a:ext cx="4790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ENCRYPT HASH USING SIGNER’S PRIVATE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123720" y="2771640"/>
              <a:ext cx="88740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3200040" y="3722400"/>
              <a:ext cx="669960" cy="13824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8720" y="3714120"/>
              <a:ext cx="1411200" cy="30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VATE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43160" y="3860640"/>
              <a:ext cx="74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244520" y="4876200"/>
              <a:ext cx="6872400" cy="1095840"/>
              <a:chOff x="1244520" y="4876200"/>
              <a:chExt cx="6872400" cy="1095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097000" y="5419800"/>
                <a:ext cx="4351680" cy="335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ESSAGE (LONG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44520" y="5419800"/>
                <a:ext cx="852480" cy="335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38840" y="4876200"/>
                <a:ext cx="4417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99"/>
                    </a:solidFill>
                    <a:latin typeface="Arial"/>
                  </a:rPr>
                  <a:t>APPEND SIGNATURE TO MESSAGE; SEND BOT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1743120" y="5105160"/>
                <a:ext cx="542880" cy="23184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837480" y="4876560"/>
                <a:ext cx="156960" cy="1095480"/>
              </a:xfrm>
              <a:custGeom>
                <a:avLst/>
                <a:gdLst>
                  <a:gd name="textAreaLeft" fmla="*/ 0 w 156960"/>
                  <a:gd name="textAreaRight" fmla="*/ 56520 w 156960"/>
                  <a:gd name="textAreaTop" fmla="*/ 28440 h 1095480"/>
                  <a:gd name="textAreaBottom" fmla="*/ 1067040 h 1095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993000" y="5029920"/>
                <a:ext cx="11239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99"/>
                    </a:solidFill>
                    <a:latin typeface="Arial"/>
                  </a:rPr>
                  <a:t>DIGITALLY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cc0099"/>
                    </a:solidFill>
                    <a:latin typeface="Arial"/>
                  </a:rPr>
                  <a:t>SIGN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99"/>
                    </a:solidFill>
                    <a:latin typeface="Arial"/>
                  </a:rPr>
                  <a:t>MESSA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hentication by Digital Signa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24120" y="2714760"/>
            <a:ext cx="435132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E (LO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43560" y="3992760"/>
            <a:ext cx="85248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28800" y="4008600"/>
            <a:ext cx="85248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21200" y="3057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86080" y="3307680"/>
            <a:ext cx="2094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RECIPIENT USES S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O COMPUTE H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057120" y="2341440"/>
            <a:ext cx="324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520" y="3322080"/>
            <a:ext cx="2669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RECIPIENT DECRYPTS 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WITH SIGNER’S PUBL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771640" y="1983240"/>
            <a:ext cx="5199120" cy="340560"/>
            <a:chOff x="2771640" y="1983240"/>
            <a:chExt cx="5199120" cy="340560"/>
          </a:xfrm>
        </p:grpSpPr>
        <p:sp>
          <p:nvSpPr>
            <p:cNvPr id="292" name=""/>
            <p:cNvSpPr/>
            <p:nvPr/>
          </p:nvSpPr>
          <p:spPr>
            <a:xfrm>
              <a:off x="3619440" y="1987920"/>
              <a:ext cx="435132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SSAGE (LO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71640" y="1983240"/>
              <a:ext cx="85248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83280" y="4702320"/>
            <a:ext cx="7809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HASHES ARE EQUAL, MESSAGE IS AUTHENT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  IF ANY BIT OF M OR SIG IS ALTERED, HASH CHAN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34400" y="1607760"/>
            <a:ext cx="3537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RECIPIENT RECEIVES SIG +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53080" y="3982680"/>
            <a:ext cx="476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984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al Signa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98400" y="1247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two messages securely but allows only one party to read each.  Used in SET (Secure Electronic Transactions) protoc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8240" y="2144880"/>
            <a:ext cx="317664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03680" y="3237120"/>
            <a:ext cx="130968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ES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09840" y="4156200"/>
            <a:ext cx="180504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3640" y="2487600"/>
            <a:ext cx="0" cy="76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43480" y="2550600"/>
            <a:ext cx="1164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HASH 1 &amp;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WITH S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110120" y="3592440"/>
            <a:ext cx="144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530680" y="3271680"/>
            <a:ext cx="594000" cy="1098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84720" y="2149920"/>
            <a:ext cx="317664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06880" y="3229200"/>
            <a:ext cx="134604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ES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5037120" y="2503440"/>
            <a:ext cx="1440" cy="75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40520" y="2909520"/>
            <a:ext cx="237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ONCATENATE DIG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OGE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2640" y="3688920"/>
            <a:ext cx="2093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HASH WITH SHA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REATE NEW DIG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4223880" y="3742920"/>
            <a:ext cx="1569960" cy="1890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92400" y="5248440"/>
            <a:ext cx="231156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AL SIG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22400" y="4699440"/>
            <a:ext cx="159696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9480" y="4491000"/>
            <a:ext cx="0" cy="75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22600" y="4824360"/>
            <a:ext cx="14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89360" y="4558680"/>
            <a:ext cx="2778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ENCRYPT NEW DIG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WITH SIGNER’S PRIVATE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227120" y="4827600"/>
            <a:ext cx="1274760" cy="1317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308400" y="2781360"/>
            <a:ext cx="296640" cy="1476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45080" y="2805120"/>
            <a:ext cx="322200" cy="1224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Certific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cert" descr=""/>
          <p:cNvPicPr/>
          <p:nvPr/>
        </p:nvPicPr>
        <p:blipFill>
          <a:blip r:embed="rId1"/>
          <a:stretch/>
        </p:blipFill>
        <p:spPr>
          <a:xfrm>
            <a:off x="2965320" y="1720800"/>
            <a:ext cx="5712120" cy="3778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089760" y="5600880"/>
            <a:ext cx="2830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FORD &amp; BAU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CURE ELECTRON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C COMME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3920" y="4933080"/>
            <a:ext cx="2602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1.  USE CA’S PUBL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O VERIFY CERTIF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IS GENUINE AND 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NOT BEEN ALTE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4520" y="3887280"/>
            <a:ext cx="1937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2.  VERIFY THAT 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NAME MATCH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0520" y="3060360"/>
            <a:ext cx="1939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3.  VERIFY ID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OF SEN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2400" y="1555200"/>
            <a:ext cx="2474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4.  DECRYPT SENDER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MESSAGE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SENDER’S PUBL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99320" y="1380240"/>
            <a:ext cx="2241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0.  CA AUTHENTIC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SENDER, DIGIT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SIGNS CERTIF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48440" y="2077920"/>
            <a:ext cx="691920" cy="115092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416320" y="3146040"/>
            <a:ext cx="1409400" cy="28404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71960" y="2168640"/>
            <a:ext cx="1977840" cy="137304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40160" y="4235400"/>
            <a:ext cx="1285560" cy="18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960640" y="5035320"/>
            <a:ext cx="914400" cy="6714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ation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9720" y="1618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data secret from unauthorized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e identity of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messages have not been altered in tran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that a party engaged in a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it impossible for him to deny (nonrepudi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Certificate Cla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1:  Verified email address from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Veri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2:  Verification of identity, social secu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number, date of bi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But fake ID = fake certific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3:  Class 2 + credit check, Dun &amp; Bradstree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not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4:  Class 3 + information about individual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position (to determine legal autho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ified Email Certific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98400" y="1552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68200" y="1189080"/>
            <a:ext cx="6594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s that the holder can read email at the specified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n’t prove ANYTHING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00600" y="2706480"/>
            <a:ext cx="2393280" cy="8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ONE REQU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RTIFICAT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hn_Doe@cmu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11760" y="2351160"/>
            <a:ext cx="0" cy="3265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805360" y="2157840"/>
            <a:ext cx="1154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VERI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03760" y="3598560"/>
            <a:ext cx="2193840" cy="8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ISIGN EM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RTIFICAT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hn_Doe@cmu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20680" y="4491720"/>
            <a:ext cx="2608200" cy="57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hn_Doe@cmu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S CERTIF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45520" y="5386680"/>
            <a:ext cx="262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Only John Doe can get i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4760" y="3079800"/>
            <a:ext cx="1323720" cy="58248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913200" y="4122720"/>
            <a:ext cx="1225440" cy="66996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34960" y="2171880"/>
            <a:ext cx="64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C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blic Key Infrastructure (PKI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98400" y="1552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ve processes for issuance and revocation of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verifies the identify of certification author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ing of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ion Practic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Revocation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nctions of a PK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98400" y="1552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public/private key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uthenticate key subscr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public keys to subscriber by digital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, maintain, administer, revoke, suspend, reinstate, and renew digital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d manage a public key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719440" y="195588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30600" y="232416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9880" y="2959200"/>
            <a:ext cx="173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vest-Shamir-Adelman (RS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asy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numbers but apparently hard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number into a product of two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p, q, it is easy to compute n = p •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p = 5453089; q = 39180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find n = 21365568058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n, hard to find two numbers p, q with p • q =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suppose n = 785911234933814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What are p and q such that p • q =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tion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e-wa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A exploits this fact in public-key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SA Encry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wo large prime numbers p, q (&gt; 100 dig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n = p •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small odd integer e that does not divi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(p - 1)(q - 1).  Then x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(p-1)(q-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(mod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d = e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, d • e gives remainder 1 when divided by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key is the pair (e,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key is the pair (d,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(e, n) is of no help in finding d.  Still need p and q, which involves factoring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SA Encry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M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crypt message M using public key (e, 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C(M) = M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od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crypt message C using private key (d, 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P(C) = 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od n)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P(C(M)) = C(P(M)) = (M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 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M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 n) = 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1 and m = (p-1)(q-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516240" y="3124080"/>
            <a:ext cx="5879880" cy="3130560"/>
            <a:chOff x="516240" y="3124080"/>
            <a:chExt cx="5879880" cy="3130560"/>
          </a:xfrm>
        </p:grpSpPr>
        <p:graphicFrame>
          <p:nvGraphicFramePr>
            <p:cNvPr id="371" name=""/>
            <p:cNvGraphicFramePr/>
            <p:nvPr/>
          </p:nvGraphicFramePr>
          <p:xfrm>
            <a:off x="2413080" y="3124080"/>
            <a:ext cx="3983040" cy="3130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3080" y="3124080"/>
                      <a:ext cx="3983040" cy="313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3" name=""/>
            <p:cNvSpPr/>
            <p:nvPr/>
          </p:nvSpPr>
          <p:spPr>
            <a:xfrm>
              <a:off x="516240" y="4115520"/>
              <a:ext cx="18950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D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icative Invers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 Finite Fiel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verse e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number e satisfies e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e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verse of 5 is 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only allow numbers from 0 to n-1 (mod n), then for special values of n, each e has a unique 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018120" y="3322440"/>
            <a:ext cx="2678040" cy="944640"/>
            <a:chOff x="6018120" y="3322440"/>
            <a:chExt cx="2678040" cy="944640"/>
          </a:xfrm>
        </p:grpSpPr>
        <p:sp>
          <p:nvSpPr>
            <p:cNvPr id="377" name=""/>
            <p:cNvSpPr/>
            <p:nvPr/>
          </p:nvSpPr>
          <p:spPr>
            <a:xfrm>
              <a:off x="6689880" y="3322440"/>
              <a:ext cx="200628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6 </a:t>
              </a:r>
              <a:r>
                <a:rPr b="0" lang="en-US" sz="1800" spc="-1" strike="noStrike">
                  <a:solidFill>
                    <a:srgbClr val="cc0099"/>
                  </a:solidFill>
                  <a:latin typeface="Times New Roman"/>
                </a:rPr>
                <a:t>•</a:t>
              </a: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 2 =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WHEN DIVIDED BY 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GIVES REMAINDER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018120" y="3809880"/>
              <a:ext cx="673200" cy="45720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479760" y="3809880"/>
            <a:ext cx="5216040" cy="1982880"/>
            <a:chOff x="3479760" y="3809880"/>
            <a:chExt cx="5216040" cy="1982880"/>
          </a:xfrm>
        </p:grpSpPr>
        <p:sp>
          <p:nvSpPr>
            <p:cNvPr id="380" name=""/>
            <p:cNvSpPr/>
            <p:nvPr/>
          </p:nvSpPr>
          <p:spPr>
            <a:xfrm>
              <a:off x="3479760" y="3809880"/>
              <a:ext cx="304920" cy="304920"/>
            </a:xfrm>
            <a:prstGeom prst="ellipse">
              <a:avLst/>
            </a:prstGeom>
            <a:noFill/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51360" y="4191120"/>
              <a:ext cx="304920" cy="304560"/>
            </a:xfrm>
            <a:prstGeom prst="ellipse">
              <a:avLst/>
            </a:prstGeom>
            <a:noFill/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18280" y="4495680"/>
              <a:ext cx="304560" cy="304920"/>
            </a:xfrm>
            <a:prstGeom prst="ellipse">
              <a:avLst/>
            </a:prstGeom>
            <a:noFill/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36960" y="4800600"/>
              <a:ext cx="304920" cy="304920"/>
            </a:xfrm>
            <a:prstGeom prst="ellipse">
              <a:avLst/>
            </a:prstGeom>
            <a:noFill/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03880" y="5181480"/>
              <a:ext cx="304560" cy="304920"/>
            </a:xfrm>
            <a:prstGeom prst="ellipse">
              <a:avLst/>
            </a:prstGeom>
            <a:noFill/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75480" y="5486400"/>
              <a:ext cx="304560" cy="304920"/>
            </a:xfrm>
            <a:prstGeom prst="ellipse">
              <a:avLst/>
            </a:prstGeom>
            <a:noFill/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71160" y="4421520"/>
              <a:ext cx="202464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EACH ROW EXCE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THE ZERO R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HAS EXACTLY ON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EACH ELEMENT H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A UNIQUE INVER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079680" y="5105520"/>
              <a:ext cx="592200" cy="38088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4708080" y="4876920"/>
              <a:ext cx="1901880" cy="30456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5155920" y="4266720"/>
              <a:ext cx="1579320" cy="27324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ncryption Pro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ymm" descr=""/>
          <p:cNvPicPr/>
          <p:nvPr/>
        </p:nvPicPr>
        <p:blipFill>
          <a:blip r:embed="rId1"/>
          <a:stretch/>
        </p:blipFill>
        <p:spPr>
          <a:xfrm>
            <a:off x="1749600" y="2557440"/>
            <a:ext cx="5508360" cy="1959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6160" y="1948680"/>
            <a:ext cx="1440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MAT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WE WANT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KEEP SEC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30800" y="1893240"/>
            <a:ext cx="1427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UNREAD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VERSION OF</a:t>
            </a:r>
            <a:br>
              <a:rPr sz="1400"/>
            </a:b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PLAI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65080" y="4723560"/>
            <a:ext cx="1379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DATA TO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77960" y="4760280"/>
            <a:ext cx="1614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MATHEMA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SCRAMB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65160" y="5164200"/>
            <a:ext cx="2030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(TELLS HOW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CRAMBL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PARTICULAR MESS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6160" y="4448160"/>
            <a:ext cx="13294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MIGHT B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DATA</a:t>
            </a:r>
            <a:br>
              <a:rPr sz="1200"/>
            </a:b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PREAD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273320" y="3971880"/>
            <a:ext cx="617400" cy="47160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39840" y="2690640"/>
            <a:ext cx="642960" cy="432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75080" y="3836880"/>
            <a:ext cx="433440" cy="91620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72200" y="4371840"/>
            <a:ext cx="444240" cy="38268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993000" y="2663640"/>
            <a:ext cx="617400" cy="47124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29560" y="5818320"/>
            <a:ext cx="2634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TEIN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EB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57600" y="1195200"/>
            <a:ext cx="37620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:  HIDE A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LAINTEXT) BY MAKING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READABLE (CIPHERT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 of the Key in Cryptograph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4954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 is a parameter to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cry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stays the same, but produces different results based on a given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2360" y="5486040"/>
            <a:ext cx="6773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THIS METHOD IS NOT USED IN ANY REAL CRYPTOGRAPHY SYS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 IS AN EXAMPLE INTENDED ONLY TO ILLUSTRATE THE USE OF KEY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49000" y="2666880"/>
            <a:ext cx="7957440" cy="1221120"/>
            <a:chOff x="549000" y="2666880"/>
            <a:chExt cx="7957440" cy="1221120"/>
          </a:xfrm>
        </p:grpSpPr>
        <p:sp>
          <p:nvSpPr>
            <p:cNvPr id="75" name=""/>
            <p:cNvSpPr/>
            <p:nvPr/>
          </p:nvSpPr>
          <p:spPr>
            <a:xfrm>
              <a:off x="549000" y="3185640"/>
              <a:ext cx="79574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cc0099"/>
                  </a:solidFill>
                  <a:uFillTx/>
                  <a:latin typeface="Courier New"/>
                </a:rPr>
                <a:t>A L G O R I T H M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B C D E F J K N P Q S T U V W X 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 B C D E F G H I J K L M N O P Q R S T U V W X Y 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98280" y="2666880"/>
              <a:ext cx="1621080" cy="5493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456200" y="4044600"/>
            <a:ext cx="4678200" cy="976680"/>
            <a:chOff x="1456200" y="4044600"/>
            <a:chExt cx="4678200" cy="976680"/>
          </a:xfrm>
        </p:grpSpPr>
        <p:sp>
          <p:nvSpPr>
            <p:cNvPr id="78" name=""/>
            <p:cNvSpPr/>
            <p:nvPr/>
          </p:nvSpPr>
          <p:spPr>
            <a:xfrm>
              <a:off x="3053880" y="4044600"/>
              <a:ext cx="3080520" cy="97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 O N S U L T I N 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K D Q N V B U F Q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56200" y="4329000"/>
              <a:ext cx="1454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AMPL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0040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4360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532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988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1480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3868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1972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428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2920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3412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mmetric Encry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symm2" descr=""/>
          <p:cNvPicPr/>
          <p:nvPr/>
        </p:nvPicPr>
        <p:blipFill>
          <a:blip r:embed="rId1"/>
          <a:stretch/>
        </p:blipFill>
        <p:spPr>
          <a:xfrm>
            <a:off x="1046160" y="1463760"/>
            <a:ext cx="6881760" cy="3854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66320" y="1650240"/>
            <a:ext cx="2083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0099"/>
                </a:solidFill>
                <a:uFillTx/>
                <a:latin typeface="Arial"/>
              </a:rPr>
              <a:t>SAME KEY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USED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BOTH ENRC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AND DE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5164920"/>
            <a:ext cx="2913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SENDER AND RECIPIENT M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BOTH KNOW THE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0099"/>
                </a:solidFill>
                <a:uFillTx/>
                <a:latin typeface="Arial"/>
              </a:rPr>
              <a:t>THIS IS A WEAK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041640" y="1719000"/>
            <a:ext cx="965160" cy="384120"/>
          </a:xfrm>
          <a:prstGeom prst="line">
            <a:avLst/>
          </a:prstGeom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16600" y="4767120"/>
            <a:ext cx="965160" cy="384480"/>
          </a:xfrm>
          <a:prstGeom prst="line">
            <a:avLst/>
          </a:prstGeom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77920" y="4892760"/>
            <a:ext cx="941400" cy="407880"/>
          </a:xfrm>
          <a:prstGeom prst="line">
            <a:avLst/>
          </a:prstGeom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86680" y="5725080"/>
            <a:ext cx="2631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TEIN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EB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Encryption Standard (DE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98400" y="1518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, key-based encryption-decryption standard.  No publ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cipher: operates on 64-bit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56-bi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“rounds” -- key for each round is a 48-bit function of the original 56-bit key.  Each key bit participates in an average of 14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symmetric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gorithm decry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implementation in hardware: 1 gigabit/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Encryption Standard (DE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des" descr=""/>
          <p:cNvPicPr/>
          <p:nvPr/>
        </p:nvPicPr>
        <p:blipFill>
          <a:blip r:embed="rId1"/>
          <a:stretch/>
        </p:blipFill>
        <p:spPr>
          <a:xfrm>
            <a:off x="3554280" y="1015920"/>
            <a:ext cx="3267360" cy="4996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49560" y="1169640"/>
            <a:ext cx="207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64 BITS OF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82480" y="1160280"/>
            <a:ext cx="207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INPUT PERMU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45480" y="5382720"/>
            <a:ext cx="1847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INVERSE OF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PERMU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82360" y="1953360"/>
            <a:ext cx="16801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SUBKEY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EACH IS A 48-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FUNCTION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56-BIT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756120" y="2139840"/>
            <a:ext cx="430200" cy="26064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336640" y="1339920"/>
            <a:ext cx="654120" cy="2109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45960" y="5000040"/>
            <a:ext cx="1975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OUTPUT: 64 BITS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ENCRYPTE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5261040" y="5484960"/>
            <a:ext cx="790560" cy="1857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84560" y="5299200"/>
            <a:ext cx="1116000" cy="5061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355920" y="1192320"/>
            <a:ext cx="1128600" cy="1476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35360" y="1706400"/>
            <a:ext cx="718920" cy="28908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40280" y="1550520"/>
            <a:ext cx="1639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LEFT HALF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BLOCK (32 B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45640" y="2582280"/>
            <a:ext cx="2468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99"/>
                </a:solidFill>
                <a:latin typeface="Arial"/>
              </a:rPr>
              <a:t>f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IS A COMPLI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FUNCTION INVOL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VARIOUS PERMU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976480" y="2395080"/>
            <a:ext cx="1782720" cy="35892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684840" y="2465280"/>
            <a:ext cx="517680" cy="73044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748200" y="2898720"/>
            <a:ext cx="641160" cy="178128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0400" y="3414600"/>
            <a:ext cx="1795680" cy="116208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0120" y="5802120"/>
            <a:ext cx="379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CHNEIER, APPLIED CRYP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65400" y="2187360"/>
            <a:ext cx="1931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Symbol"/>
                <a:ea typeface="Symbol"/>
              </a:rPr>
              <a:t>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IS EXCLUSIVE-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92480" y="2357280"/>
            <a:ext cx="882720" cy="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cking Symmetric Encry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9600" y="2214720"/>
          <a:ext cx="8596440" cy="34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2214720"/>
                    <a:ext cx="859644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526840" y="5710680"/>
            <a:ext cx="407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0-bit symmetric key = 384-bit PKE k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80400" y="1504080"/>
            <a:ext cx="4205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IMATED TIME TO CRACK KN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ENCRYPTION ALGORIT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-Key (Asymmetric) Encry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k" descr=""/>
          <p:cNvPicPr/>
          <p:nvPr/>
        </p:nvPicPr>
        <p:blipFill>
          <a:blip r:embed="rId1"/>
          <a:stretch/>
        </p:blipFill>
        <p:spPr>
          <a:xfrm>
            <a:off x="1662120" y="2398680"/>
            <a:ext cx="5764320" cy="2206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20720" y="4987800"/>
            <a:ext cx="2204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1.  USERS WAN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END PLAI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TO RECIPIENT 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880" y="1704960"/>
            <a:ext cx="2629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2.  SENDERS USE SITE’S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KEY FOR ENCRY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08280" y="1701720"/>
            <a:ext cx="2181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3.  SITE USES ITS 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KEY FOR DECRY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72760" y="4916520"/>
            <a:ext cx="25261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4.  ONLY WEBSIT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DECRYPT THE CIPHER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200" spc="-1" strike="noStrike" u="sng">
                <a:solidFill>
                  <a:srgbClr val="cc0099"/>
                </a:solidFill>
                <a:uFillTx/>
                <a:latin typeface="Arial"/>
              </a:rPr>
              <a:t>NO ONE ELSE KNOWS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434960" y="4305240"/>
            <a:ext cx="519120" cy="617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991120" y="2144880"/>
            <a:ext cx="519120" cy="40608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195680" y="4306680"/>
            <a:ext cx="297000" cy="531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57360" y="2160720"/>
            <a:ext cx="593640" cy="309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90320" y="5805360"/>
            <a:ext cx="2634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TEIN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EB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1T20:54:13Z</dcterms:created>
  <dc:creator>Michael I. Shamos</dc:creator>
  <dc:description/>
  <dc:language>en-US</dc:language>
  <cp:lastModifiedBy>Valued Gateway Client</cp:lastModifiedBy>
  <cp:lastPrinted>1999-04-26T23:26:57Z</cp:lastPrinted>
  <dcterms:modified xsi:type="dcterms:W3CDTF">2000-09-08T17:59:11Z</dcterms:modified>
  <cp:revision>0</cp:revision>
  <dc:subject/>
  <dc:title>Cryptographic Security</dc:title>
</cp:coreProperties>
</file>