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17.jpeg" ContentType="image/jpeg"/>
  <Override PartName="/ppt/media/image5.png" ContentType="image/png"/>
  <Override PartName="/ppt/media/image1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69700CE-0DCC-4C79-A54B-5B655C4365A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Img"/>
          </p:nvPr>
        </p:nvSpPr>
        <p:spPr>
          <a:xfrm>
            <a:off x="1175400" y="705240"/>
            <a:ext cx="4639680" cy="347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body"/>
          </p:nvPr>
        </p:nvSpPr>
        <p:spPr>
          <a:xfrm>
            <a:off x="699120" y="4408200"/>
            <a:ext cx="5592600" cy="41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EAE13AD-220F-4CD9-85A2-5A7F88C54E6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150AE87-EE9A-4431-AA9A-BBDA7F1F792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08D05C9-C807-4553-9506-D51F02F82D2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8260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100299B-AD14-4F31-9700-2B83AC429FD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8260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4488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448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448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448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286840" y="6400800"/>
            <a:ext cx="18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9320" y="6095880"/>
            <a:ext cx="9055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657600" y="617220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MSUNG EBUSINESS                                              PITTSBURGH, SEPTEMBER 2000                            COPYRIGHT © 2000 MICHAEL I. SHAM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ware.com/" TargetMode="External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ctivesw.com/" TargetMode="External"/><Relationship Id="rId2" Type="http://schemas.openxmlformats.org/officeDocument/2006/relationships/hyperlink" Target="http://www.tibco.com/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equent.com/solutions/crm/index.html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nt-labes.icmc.sc.usp.br/alunos/dti/wdl/workflow/prodwrkf.html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9.wmf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M Technolo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tantContac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616040" y="1593720"/>
            <a:ext cx="5840280" cy="3645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353280" y="5791320"/>
            <a:ext cx="2446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ROVING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tant Contact Flo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53280" y="5791320"/>
            <a:ext cx="2446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ROVING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10405" r="0" b="0"/>
          <a:stretch/>
        </p:blipFill>
        <p:spPr>
          <a:xfrm>
            <a:off x="1936800" y="1709640"/>
            <a:ext cx="557532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ireless CR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349400" y="5813280"/>
            <a:ext cx="1472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en-US" sz="1200" spc="-1" strike="noStrike" u="sng">
                <a:solidFill>
                  <a:srgbClr val="cc0099"/>
                </a:solidFill>
                <a:uFillTx/>
                <a:latin typeface="Arial"/>
                <a:hlinkClick r:id="rId1"/>
              </a:rPr>
              <a:t>e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3328920" y="1447920"/>
            <a:ext cx="1490760" cy="41176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506520" y="2379600"/>
            <a:ext cx="2104920" cy="15620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5799240" y="2379600"/>
            <a:ext cx="1763640" cy="14652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932200" y="2379600"/>
            <a:ext cx="2139840" cy="11826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72040" y="2981160"/>
            <a:ext cx="10396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lationship Consistenc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77840" y="1463760"/>
            <a:ext cx="8966160" cy="4343400"/>
            <a:chOff x="177840" y="1463760"/>
            <a:chExt cx="8966160" cy="4343400"/>
          </a:xfrm>
        </p:grpSpPr>
        <p:sp>
          <p:nvSpPr>
            <p:cNvPr id="163" name=""/>
            <p:cNvSpPr/>
            <p:nvPr/>
          </p:nvSpPr>
          <p:spPr>
            <a:xfrm>
              <a:off x="177840" y="1463760"/>
              <a:ext cx="8788320" cy="4343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8200" y="1520280"/>
              <a:ext cx="8875800" cy="414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345960" indent="-345960">
                <a:lnSpc>
                  <a:spcPct val="90000"/>
                </a:lnSpc>
                <a:spcBef>
                  <a:spcPts val="1514"/>
                </a:spcBef>
                <a:buClr>
                  <a:srgbClr val="cc3300"/>
                </a:buClr>
                <a:buFont typeface="Monotype Sorts" charset="2"/>
                <a:buChar char="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Visibility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- Agents must have visibility into e-commerce activity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5960" indent="-345960">
                <a:lnSpc>
                  <a:spcPct val="90000"/>
                </a:lnSpc>
                <a:spcBef>
                  <a:spcPts val="1514"/>
                </a:spcBef>
                <a:buClr>
                  <a:srgbClr val="cc3300"/>
                </a:buClr>
                <a:buFont typeface="Monotype Sorts" charset="2"/>
                <a:buChar char="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Reporting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- What customers are using which channels, and how?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5960" indent="-345960">
                <a:lnSpc>
                  <a:spcPct val="90000"/>
                </a:lnSpc>
                <a:spcBef>
                  <a:spcPts val="1514"/>
                </a:spcBef>
                <a:buClr>
                  <a:srgbClr val="cc3300"/>
                </a:buClr>
                <a:buFont typeface="Monotype Sorts" charset="2"/>
                <a:buChar char="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Analysis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- How do I need to invest across channels?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5960" indent="-345960">
                <a:lnSpc>
                  <a:spcPct val="90000"/>
                </a:lnSpc>
                <a:spcBef>
                  <a:spcPts val="1514"/>
                </a:spcBef>
                <a:buClr>
                  <a:srgbClr val="cc3300"/>
                </a:buClr>
                <a:buFont typeface="Monotype Sorts" charset="2"/>
                <a:buChar char="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Profile sharing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- Same customer knowledge for agent, IVR, web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5960" indent="-345960">
                <a:lnSpc>
                  <a:spcPct val="90000"/>
                </a:lnSpc>
                <a:spcBef>
                  <a:spcPts val="1514"/>
                </a:spcBef>
                <a:buClr>
                  <a:srgbClr val="cc3300"/>
                </a:buClr>
                <a:buFont typeface="Monotype Sorts" charset="2"/>
                <a:buChar char="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Consistent routing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-To appropriate resource based on profil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5960" indent="-345960">
                <a:lnSpc>
                  <a:spcPct val="90000"/>
                </a:lnSpc>
                <a:spcBef>
                  <a:spcPts val="1514"/>
                </a:spcBef>
                <a:buClr>
                  <a:srgbClr val="cc3300"/>
                </a:buClr>
                <a:buFont typeface="Monotype Sorts" charset="2"/>
                <a:buChar char="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Consistent cross-selling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- Same offers through agent, IVR, web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5960" indent="-345960">
                <a:lnSpc>
                  <a:spcPct val="90000"/>
                </a:lnSpc>
                <a:spcBef>
                  <a:spcPts val="1514"/>
                </a:spcBef>
                <a:buClr>
                  <a:srgbClr val="cc3300"/>
                </a:buClr>
                <a:buFont typeface="Monotype Sorts" charset="2"/>
                <a:buChar char="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Consistent reaction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-Remove offers once complete in any channe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5960" indent="-345960">
                <a:lnSpc>
                  <a:spcPct val="90000"/>
                </a:lnSpc>
                <a:spcBef>
                  <a:spcPts val="1514"/>
                </a:spcBef>
                <a:buClr>
                  <a:srgbClr val="cc3300"/>
                </a:buClr>
                <a:buFont typeface="Monotype Sorts" charset="2"/>
                <a:buChar char="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Transf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- Call-back buttons, web collaboration, IP phon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736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Web Success is Evaluated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08240" y="1689120"/>
            <a:ext cx="5371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-through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sp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ying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isfaction/return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-influenced purch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09560" y="32976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blish and Subscrib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rcRect l="0" t="20003" r="0" b="4001"/>
          <a:stretch/>
        </p:blipFill>
        <p:spPr>
          <a:xfrm>
            <a:off x="954000" y="1214280"/>
            <a:ext cx="7396200" cy="4427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6627240" y="5791320"/>
            <a:ext cx="2234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WEYERHAE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12840" y="231840"/>
            <a:ext cx="8353440" cy="7221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blish and Subscribe Middlewa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6400" y="1231560"/>
            <a:ext cx="8058240" cy="43434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y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s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cri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nchronous, event-trigger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s activity, pushes content to subscri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Web (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  <a:hlinkClick r:id="rId1"/>
              </a:rPr>
              <a:t>Active Softwar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B/Rendezvous (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  <a:hlinkClick r:id="rId2"/>
              </a:rPr>
              <a:t>TIBCO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04840" y="209520"/>
            <a:ext cx="786132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Workflow Management Syste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17160" y="1922400"/>
            <a:ext cx="8574120" cy="33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 system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anages the flow of business processes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erformed by multiple persons in multiple step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t gets the right data to the right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ith the right tools at the right tim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18960" y="5776920"/>
            <a:ext cx="3175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JIM GRAY, ANDREAS RE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rk Loop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15920" y="5789520"/>
            <a:ext cx="1192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C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30280" y="1996920"/>
            <a:ext cx="2994120" cy="15782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683280" y="1685880"/>
            <a:ext cx="1221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  I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491200" y="1671480"/>
            <a:ext cx="1188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  I PROM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322000" y="3541680"/>
            <a:ext cx="1474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  I AM FINIS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6360" y="3552840"/>
            <a:ext cx="1517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 I AM SATIS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4294080" y="1424160"/>
            <a:ext cx="4329360" cy="41353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991800" y="4185000"/>
            <a:ext cx="190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BASIC LO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18840" y="5122800"/>
            <a:ext cx="17730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IC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UREMEN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RK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590920" y="1971720"/>
            <a:ext cx="59688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191120" y="1971720"/>
            <a:ext cx="59688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91320" y="1971720"/>
            <a:ext cx="59688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20120" y="1285920"/>
            <a:ext cx="59688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20120" y="3114720"/>
            <a:ext cx="596880" cy="520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238880" y="4943520"/>
            <a:ext cx="596880" cy="520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715000" y="3419640"/>
            <a:ext cx="596880" cy="5205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14800" y="3419640"/>
            <a:ext cx="596880" cy="5205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495600"/>
            <a:ext cx="596880" cy="5209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114720"/>
            <a:ext cx="673200" cy="673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514600" y="2200320"/>
            <a:ext cx="673200" cy="673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14800" y="2200320"/>
            <a:ext cx="673200" cy="673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15000" y="2200320"/>
            <a:ext cx="673200" cy="673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14800" y="3724200"/>
            <a:ext cx="673200" cy="673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15000" y="3724200"/>
            <a:ext cx="673200" cy="673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1670040" y="272736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193920" y="249876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794120" y="249876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46360" y="3565440"/>
            <a:ext cx="236196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794120" y="40226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6394320" y="1888920"/>
            <a:ext cx="11430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394320" y="40226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318360" y="4251240"/>
            <a:ext cx="8380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644920" y="2330280"/>
            <a:ext cx="404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245120" y="2330280"/>
            <a:ext cx="404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543800" y="1514520"/>
            <a:ext cx="673200" cy="673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543800" y="2809800"/>
            <a:ext cx="673200" cy="673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94320" y="2575080"/>
            <a:ext cx="11430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223120" y="181296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223120" y="318456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6840" y="2438280"/>
            <a:ext cx="114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636720" y="4943520"/>
            <a:ext cx="761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111400" y="3124080"/>
            <a:ext cx="2134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ase (branch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03560" y="30322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08120" y="356544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064640" y="4113360"/>
            <a:ext cx="82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38560" y="2270160"/>
            <a:ext cx="1863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ork (spa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4638600"/>
            <a:ext cx="672840" cy="673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4717800" y="4327200"/>
            <a:ext cx="24382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12880" y="4799160"/>
            <a:ext cx="759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787400" y="1057320"/>
            <a:ext cx="761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508120" y="1514520"/>
            <a:ext cx="457200" cy="374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02880" y="174240"/>
            <a:ext cx="7797960" cy="81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 Narrow"/>
              </a:rPr>
              <a:t>Components of a Workflo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788800" y="5791320"/>
            <a:ext cx="3175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JIM GRAY, ANDREAS RE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4191120" y="4424400"/>
            <a:ext cx="206280" cy="519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16786" r="0" b="0"/>
          <a:stretch/>
        </p:blipFill>
        <p:spPr>
          <a:xfrm>
            <a:off x="816120" y="1428840"/>
            <a:ext cx="7642080" cy="41180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M in the Web Environ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46840" y="5813280"/>
            <a:ext cx="1962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en-US" sz="1200" spc="-1" strike="noStrike" u="sng">
                <a:solidFill>
                  <a:srgbClr val="cc0099"/>
                </a:solidFill>
                <a:uFillTx/>
                <a:latin typeface="Arial"/>
                <a:hlinkClick r:id="rId2"/>
              </a:rPr>
              <a:t>NUMA-Q (IB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orkflow Example: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ephone Service Provis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04640" y="3100320"/>
            <a:ext cx="1828800" cy="5335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11200" y="3178080"/>
            <a:ext cx="16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rvice or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28680" y="1163520"/>
            <a:ext cx="1760400" cy="809640"/>
          </a:xfrm>
          <a:prstGeom prst="rect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58920" y="1247760"/>
            <a:ext cx="176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stomer C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147840" y="1441440"/>
            <a:ext cx="1617840" cy="81108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232080" y="1474920"/>
            <a:ext cx="146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w-cost provisio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897280" y="2389320"/>
            <a:ext cx="1652400" cy="81576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957400" y="2486160"/>
            <a:ext cx="14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uaranteed Provisioning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422440" y="4363920"/>
            <a:ext cx="1411200" cy="80820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467080" y="4460760"/>
            <a:ext cx="129060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rectory Up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979880" y="2440080"/>
            <a:ext cx="1354320" cy="74124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032440" y="2505240"/>
            <a:ext cx="135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cility instal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560920" y="3681360"/>
            <a:ext cx="1787400" cy="533160"/>
            <a:chOff x="5560920" y="3681360"/>
            <a:chExt cx="1787400" cy="533160"/>
          </a:xfrm>
        </p:grpSpPr>
        <p:sp>
          <p:nvSpPr>
            <p:cNvPr id="249" name=""/>
            <p:cNvSpPr/>
            <p:nvPr/>
          </p:nvSpPr>
          <p:spPr>
            <a:xfrm>
              <a:off x="5560920" y="3681360"/>
              <a:ext cx="1721520" cy="53316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627160" y="3744720"/>
              <a:ext cx="1721160" cy="3682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pdate Swit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7075440" y="1239840"/>
            <a:ext cx="1795680" cy="762120"/>
          </a:xfrm>
          <a:prstGeom prst="rect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130880" y="1281240"/>
            <a:ext cx="17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stomer C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37200" y="4545000"/>
            <a:ext cx="1682640" cy="5335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34040" y="457992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nerate Bi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462040" y="3346560"/>
            <a:ext cx="1652760" cy="81576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22520" y="3443400"/>
            <a:ext cx="146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uaranteed Provisio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928880" y="5506920"/>
            <a:ext cx="1600200" cy="457200"/>
          </a:xfrm>
          <a:prstGeom prst="ellipse">
            <a:avLst/>
          </a:prstGeom>
          <a:solidFill>
            <a:srgbClr val="99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068560" y="5521320"/>
            <a:ext cx="14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rectory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52360" y="5506920"/>
            <a:ext cx="1447920" cy="457200"/>
          </a:xfrm>
          <a:prstGeom prst="ellipse">
            <a:avLst/>
          </a:prstGeom>
          <a:solidFill>
            <a:srgbClr val="99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78000" y="552132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der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757680" y="5506920"/>
            <a:ext cx="1447560" cy="457200"/>
          </a:xfrm>
          <a:prstGeom prst="ellipse">
            <a:avLst/>
          </a:prstGeom>
          <a:solidFill>
            <a:srgbClr val="99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82960" y="552132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cility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805440" y="5430960"/>
            <a:ext cx="1371600" cy="457200"/>
          </a:xfrm>
          <a:prstGeom prst="ellipse">
            <a:avLst/>
          </a:prstGeom>
          <a:solidFill>
            <a:srgbClr val="99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924600" y="5445000"/>
            <a:ext cx="125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lling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510160" y="5460840"/>
            <a:ext cx="1143000" cy="457200"/>
          </a:xfrm>
          <a:prstGeom prst="ellipse">
            <a:avLst/>
          </a:prstGeom>
          <a:solidFill>
            <a:srgbClr val="99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10240" y="5475240"/>
            <a:ext cx="10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7" name=""/>
          <p:cNvCxnSpPr/>
          <p:nvPr/>
        </p:nvCxnSpPr>
        <p:spPr>
          <a:xfrm>
            <a:off x="1209600" y="1960200"/>
            <a:ext cx="110160" cy="1127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68" name=""/>
          <p:cNvCxnSpPr>
            <a:stCxn id="236" idx="3"/>
            <a:endCxn id="240" idx="1"/>
          </p:cNvCxnSpPr>
          <p:nvPr/>
        </p:nvCxnSpPr>
        <p:spPr>
          <a:xfrm flipV="1">
            <a:off x="2233440" y="1847520"/>
            <a:ext cx="915120" cy="1519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69" name=""/>
          <p:cNvCxnSpPr>
            <a:stCxn id="236" idx="3"/>
            <a:endCxn id="255" idx="1"/>
          </p:cNvCxnSpPr>
          <p:nvPr/>
        </p:nvCxnSpPr>
        <p:spPr>
          <a:xfrm>
            <a:off x="2233080" y="3367080"/>
            <a:ext cx="229320" cy="38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70" name=""/>
          <p:cNvCxnSpPr>
            <a:stCxn id="236" idx="3"/>
            <a:endCxn id="244" idx="1"/>
          </p:cNvCxnSpPr>
          <p:nvPr/>
        </p:nvCxnSpPr>
        <p:spPr>
          <a:xfrm>
            <a:off x="2233080" y="3367080"/>
            <a:ext cx="189720" cy="1402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71" name=""/>
          <p:cNvCxnSpPr>
            <a:stCxn id="236" idx="3"/>
            <a:endCxn id="242" idx="1"/>
          </p:cNvCxnSpPr>
          <p:nvPr/>
        </p:nvCxnSpPr>
        <p:spPr>
          <a:xfrm flipV="1">
            <a:off x="2233440" y="2796480"/>
            <a:ext cx="6645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72" name=""/>
          <p:cNvCxnSpPr>
            <a:stCxn id="242" idx="3"/>
            <a:endCxn id="246" idx="1"/>
          </p:cNvCxnSpPr>
          <p:nvPr/>
        </p:nvCxnSpPr>
        <p:spPr>
          <a:xfrm>
            <a:off x="4549320" y="2797200"/>
            <a:ext cx="430920" cy="15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73" name=""/>
          <p:cNvCxnSpPr>
            <a:stCxn id="255" idx="3"/>
            <a:endCxn id="246" idx="1"/>
          </p:cNvCxnSpPr>
          <p:nvPr/>
        </p:nvCxnSpPr>
        <p:spPr>
          <a:xfrm flipV="1">
            <a:off x="4114440" y="2810880"/>
            <a:ext cx="865800" cy="943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74" name=""/>
          <p:cNvCxnSpPr>
            <a:stCxn id="240" idx="3"/>
            <a:endCxn id="246" idx="1"/>
          </p:cNvCxnSpPr>
          <p:nvPr/>
        </p:nvCxnSpPr>
        <p:spPr>
          <a:xfrm>
            <a:off x="4765320" y="1847520"/>
            <a:ext cx="214920" cy="964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75" name=""/>
          <p:cNvCxnSpPr>
            <a:stCxn id="244" idx="3"/>
            <a:endCxn id="249" idx="1"/>
          </p:cNvCxnSpPr>
          <p:nvPr/>
        </p:nvCxnSpPr>
        <p:spPr>
          <a:xfrm flipV="1">
            <a:off x="3833640" y="3947760"/>
            <a:ext cx="1728000" cy="821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76" name=""/>
          <p:cNvCxnSpPr/>
          <p:nvPr/>
        </p:nvCxnSpPr>
        <p:spPr>
          <a:xfrm>
            <a:off x="5671800" y="3171960"/>
            <a:ext cx="711720" cy="535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77" name=""/>
          <p:cNvCxnSpPr>
            <a:stCxn id="249" idx="2"/>
            <a:endCxn id="253" idx="0"/>
          </p:cNvCxnSpPr>
          <p:nvPr/>
        </p:nvCxnSpPr>
        <p:spPr>
          <a:xfrm>
            <a:off x="6421320" y="4214520"/>
            <a:ext cx="457920" cy="330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78" name=""/>
          <p:cNvCxnSpPr>
            <a:stCxn id="236" idx="2"/>
            <a:endCxn id="260" idx="0"/>
          </p:cNvCxnSpPr>
          <p:nvPr/>
        </p:nvCxnSpPr>
        <p:spPr>
          <a:xfrm flipH="1">
            <a:off x="1039320" y="3633480"/>
            <a:ext cx="280080" cy="188820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279" name=""/>
          <p:cNvCxnSpPr>
            <a:stCxn id="244" idx="2"/>
            <a:endCxn id="258" idx="0"/>
          </p:cNvCxnSpPr>
          <p:nvPr/>
        </p:nvCxnSpPr>
        <p:spPr>
          <a:xfrm flipH="1">
            <a:off x="2798280" y="5172120"/>
            <a:ext cx="331200" cy="34992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280" name=""/>
          <p:cNvSpPr/>
          <p:nvPr/>
        </p:nvSpPr>
        <p:spPr>
          <a:xfrm>
            <a:off x="3833640" y="4211640"/>
            <a:ext cx="609840" cy="1295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290840" y="3220920"/>
            <a:ext cx="228600" cy="2286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672080" y="2230560"/>
            <a:ext cx="0" cy="3276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38760" y="4211640"/>
            <a:ext cx="152280" cy="1219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4" name=""/>
          <p:cNvCxnSpPr>
            <a:stCxn id="253" idx="2"/>
            <a:endCxn id="264" idx="0"/>
          </p:cNvCxnSpPr>
          <p:nvPr/>
        </p:nvCxnSpPr>
        <p:spPr>
          <a:xfrm>
            <a:off x="6878520" y="5078520"/>
            <a:ext cx="673920" cy="36720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285" name=""/>
          <p:cNvCxnSpPr>
            <a:stCxn id="253" idx="3"/>
            <a:endCxn id="251" idx="2"/>
          </p:cNvCxnSpPr>
          <p:nvPr/>
        </p:nvCxnSpPr>
        <p:spPr>
          <a:xfrm flipV="1">
            <a:off x="7719840" y="2001240"/>
            <a:ext cx="254880" cy="2810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86" name=""/>
          <p:cNvSpPr/>
          <p:nvPr/>
        </p:nvSpPr>
        <p:spPr>
          <a:xfrm>
            <a:off x="7595640" y="0"/>
            <a:ext cx="1276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M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29880" y="27288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operative Process Example:</a:t>
            </a: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rated Mee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214280" y="1649520"/>
            <a:ext cx="1752840" cy="457200"/>
          </a:xfrm>
          <a:prstGeom prst="rect">
            <a:avLst/>
          </a:prstGeom>
          <a:solidFill>
            <a:srgbClr val="99ff99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214280" y="2487600"/>
            <a:ext cx="1752840" cy="457200"/>
          </a:xfrm>
          <a:prstGeom prst="rect">
            <a:avLst/>
          </a:prstGeom>
          <a:solidFill>
            <a:srgbClr val="99ff99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14280" y="3325680"/>
            <a:ext cx="1752840" cy="457200"/>
          </a:xfrm>
          <a:prstGeom prst="rect">
            <a:avLst/>
          </a:prstGeom>
          <a:solidFill>
            <a:srgbClr val="99ff99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99880" y="2639880"/>
            <a:ext cx="22860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2" name=""/>
          <p:cNvCxnSpPr>
            <a:stCxn id="291" idx="3"/>
            <a:endCxn id="288" idx="1"/>
          </p:cNvCxnSpPr>
          <p:nvPr/>
        </p:nvCxnSpPr>
        <p:spPr>
          <a:xfrm flipV="1">
            <a:off x="528120" y="1877760"/>
            <a:ext cx="686520" cy="83880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293" name=""/>
          <p:cNvCxnSpPr>
            <a:stCxn id="291" idx="3"/>
            <a:endCxn id="289" idx="1"/>
          </p:cNvCxnSpPr>
          <p:nvPr/>
        </p:nvCxnSpPr>
        <p:spPr>
          <a:xfrm>
            <a:off x="528120" y="2715840"/>
            <a:ext cx="686520" cy="108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294" name=""/>
          <p:cNvCxnSpPr>
            <a:stCxn id="291" idx="3"/>
            <a:endCxn id="290" idx="1"/>
          </p:cNvCxnSpPr>
          <p:nvPr/>
        </p:nvCxnSpPr>
        <p:spPr>
          <a:xfrm>
            <a:off x="528120" y="2716200"/>
            <a:ext cx="686520" cy="83880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</p:cxnSp>
      <p:sp>
        <p:nvSpPr>
          <p:cNvPr id="295" name=""/>
          <p:cNvSpPr/>
          <p:nvPr/>
        </p:nvSpPr>
        <p:spPr>
          <a:xfrm>
            <a:off x="268560" y="223956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176880" y="1639800"/>
            <a:ext cx="2208240" cy="457200"/>
          </a:xfrm>
          <a:prstGeom prst="rect">
            <a:avLst/>
          </a:prstGeom>
          <a:solidFill>
            <a:srgbClr val="993300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erate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355080" y="2049120"/>
            <a:ext cx="188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eting moder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965920" y="2478240"/>
            <a:ext cx="2208240" cy="457200"/>
          </a:xfrm>
          <a:prstGeom prst="rect">
            <a:avLst/>
          </a:prstGeom>
          <a:solidFill>
            <a:srgbClr val="b2b2b2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ipate in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118200" y="2868120"/>
            <a:ext cx="189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eting particip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788080" y="3316320"/>
            <a:ext cx="2208240" cy="457200"/>
          </a:xfrm>
          <a:prstGeom prst="rect">
            <a:avLst/>
          </a:prstGeom>
          <a:solidFill>
            <a:srgbClr val="993300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icipate in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4760" y="3725640"/>
            <a:ext cx="189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eting particip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652920" y="2249640"/>
            <a:ext cx="1447560" cy="914400"/>
          </a:xfrm>
          <a:prstGeom prst="rect">
            <a:avLst/>
          </a:prstGeom>
          <a:solidFill>
            <a:srgbClr val="99ff99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ip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2" idx="3"/>
            <a:endCxn id="296" idx="1"/>
          </p:cNvCxnSpPr>
          <p:nvPr/>
        </p:nvCxnSpPr>
        <p:spPr>
          <a:xfrm flipV="1">
            <a:off x="5100480" y="1867680"/>
            <a:ext cx="1077120" cy="83916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2" idx="3"/>
            <a:endCxn id="298" idx="1"/>
          </p:cNvCxnSpPr>
          <p:nvPr/>
        </p:nvCxnSpPr>
        <p:spPr>
          <a:xfrm>
            <a:off x="5100480" y="2706480"/>
            <a:ext cx="866160" cy="108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2" idx="3"/>
            <a:endCxn id="300" idx="1"/>
          </p:cNvCxnSpPr>
          <p:nvPr/>
        </p:nvCxnSpPr>
        <p:spPr>
          <a:xfrm>
            <a:off x="5100480" y="2706840"/>
            <a:ext cx="687960" cy="83880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306" name=""/>
          <p:cNvCxnSpPr>
            <a:stCxn id="288" idx="3"/>
            <a:endCxn id="302" idx="1"/>
          </p:cNvCxnSpPr>
          <p:nvPr/>
        </p:nvCxnSpPr>
        <p:spPr>
          <a:xfrm>
            <a:off x="2966760" y="1878120"/>
            <a:ext cx="686520" cy="82944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307" name=""/>
          <p:cNvCxnSpPr>
            <a:stCxn id="289" idx="3"/>
            <a:endCxn id="302" idx="1"/>
          </p:cNvCxnSpPr>
          <p:nvPr/>
        </p:nvCxnSpPr>
        <p:spPr>
          <a:xfrm flipV="1">
            <a:off x="2966760" y="2706480"/>
            <a:ext cx="686520" cy="1008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308" name=""/>
          <p:cNvCxnSpPr>
            <a:stCxn id="290" idx="3"/>
            <a:endCxn id="302" idx="1"/>
          </p:cNvCxnSpPr>
          <p:nvPr/>
        </p:nvCxnSpPr>
        <p:spPr>
          <a:xfrm flipV="1">
            <a:off x="2966760" y="2706480"/>
            <a:ext cx="686520" cy="84816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309" name=""/>
          <p:cNvCxnSpPr/>
          <p:nvPr/>
        </p:nvCxnSpPr>
        <p:spPr>
          <a:xfrm>
            <a:off x="4262040" y="3173040"/>
            <a:ext cx="2520" cy="55620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310" name=""/>
          <p:cNvCxnSpPr>
            <a:stCxn id="296" idx="3"/>
          </p:cNvCxnSpPr>
          <p:nvPr/>
        </p:nvCxnSpPr>
        <p:spPr>
          <a:xfrm>
            <a:off x="8384760" y="1868040"/>
            <a:ext cx="221400" cy="92484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311" name=""/>
          <p:cNvCxnSpPr>
            <a:stCxn id="298" idx="3"/>
            <a:endCxn id="312" idx="1"/>
          </p:cNvCxnSpPr>
          <p:nvPr/>
        </p:nvCxnSpPr>
        <p:spPr>
          <a:xfrm>
            <a:off x="8173800" y="2706840"/>
            <a:ext cx="448200" cy="2592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313" name=""/>
          <p:cNvCxnSpPr/>
          <p:nvPr/>
        </p:nvCxnSpPr>
        <p:spPr>
          <a:xfrm flipV="1">
            <a:off x="7995960" y="2715840"/>
            <a:ext cx="626040" cy="81360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8623080" y="25635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33400" y="4925880"/>
            <a:ext cx="2208240" cy="304920"/>
          </a:xfrm>
          <a:prstGeom prst="rect">
            <a:avLst/>
          </a:prstGeom>
          <a:solidFill>
            <a:srgbClr val="99ff99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33400" y="5383080"/>
            <a:ext cx="2208240" cy="304920"/>
          </a:xfrm>
          <a:prstGeom prst="rect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905760" y="4893840"/>
            <a:ext cx="212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ynchronous a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926640" y="5366880"/>
            <a:ext cx="201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ynchronous a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584520" y="3716640"/>
            <a:ext cx="1518840" cy="580680"/>
          </a:xfrm>
          <a:prstGeom prst="rect">
            <a:avLst/>
          </a:prstGeom>
          <a:solidFill>
            <a:srgbClr val="99ff99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ufficien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ticipatio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176800" y="4316400"/>
            <a:ext cx="3859200" cy="685800"/>
          </a:xfrm>
          <a:prstGeom prst="ellipse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290640" y="446796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eting co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964120" y="2487600"/>
            <a:ext cx="2208240" cy="457200"/>
          </a:xfrm>
          <a:prstGeom prst="rect">
            <a:avLst/>
          </a:prstGeom>
          <a:solidFill>
            <a:srgbClr val="b2b2b2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ipate in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964120" y="2487600"/>
            <a:ext cx="2208240" cy="457200"/>
          </a:xfrm>
          <a:prstGeom prst="rect">
            <a:avLst/>
          </a:prstGeom>
          <a:solidFill>
            <a:srgbClr val="993300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icipate in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300880" y="2106720"/>
            <a:ext cx="0" cy="2286000"/>
          </a:xfrm>
          <a:prstGeom prst="line">
            <a:avLst/>
          </a:prstGeom>
          <a:ln w="190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072280" y="2944800"/>
            <a:ext cx="0" cy="1447920"/>
          </a:xfrm>
          <a:prstGeom prst="line">
            <a:avLst/>
          </a:prstGeom>
          <a:ln w="190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843680" y="3784680"/>
            <a:ext cx="0" cy="533160"/>
          </a:xfrm>
          <a:prstGeom prst="line">
            <a:avLst/>
          </a:prstGeom>
          <a:ln w="190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453520" y="2684520"/>
            <a:ext cx="22860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511440" y="4932000"/>
            <a:ext cx="1665360" cy="337320"/>
          </a:xfrm>
          <a:prstGeom prst="rect">
            <a:avLst/>
          </a:prstGeom>
          <a:solidFill>
            <a:srgbClr val="99ff99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cel me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8" name=""/>
          <p:cNvCxnSpPr/>
          <p:nvPr/>
        </p:nvCxnSpPr>
        <p:spPr>
          <a:xfrm>
            <a:off x="4262040" y="4303800"/>
            <a:ext cx="1080" cy="61344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</p:cxnSp>
      <p:sp>
        <p:nvSpPr>
          <p:cNvPr id="329" name=""/>
          <p:cNvSpPr/>
          <p:nvPr/>
        </p:nvSpPr>
        <p:spPr>
          <a:xfrm>
            <a:off x="7406640" y="5770440"/>
            <a:ext cx="1276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M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9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llaboration Process Technolo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093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Process Modeling Tools (BPM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flow process spec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ion based on analysis and 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ing but no coord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flow Management Systems (WF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flow process specification and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 coordination and monit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to medium systems scalability and rel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ware Tools (GRW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perative activity/process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ls scale up to a few dozens of human participa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 resource management / status awar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635240" y="5772240"/>
            <a:ext cx="1276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M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11280" y="210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rkflow Autom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250600" y="5838840"/>
            <a:ext cx="389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WORKFLOW MANAGEMENT COAL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957960" y="1334520"/>
            <a:ext cx="7431480" cy="42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ng workflow is crucial to C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ed to publish-and-subscri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fl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s, procedural steps, organizat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or people involved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d input and output information;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s needed for ea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in a business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  <a:hlinkClick r:id="rId1"/>
              </a:rPr>
              <a:t>Directory of workflow products and vend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2719440" y="1955880"/>
            <a:ext cx="1735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530600" y="2324160"/>
            <a:ext cx="1735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09880" y="2959200"/>
            <a:ext cx="17352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Tahoma"/>
              </a:rPr>
              <a:t>&amp;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M in the Web Environ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39280" y="5813280"/>
            <a:ext cx="1977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NUMA-Q (IB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52720" y="1458360"/>
            <a:ext cx="1387440" cy="305640"/>
          </a:xfrm>
          <a:prstGeom prst="rect">
            <a:avLst/>
          </a:prstGeom>
          <a:solidFill>
            <a:srgbClr val="99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52720" y="2155320"/>
            <a:ext cx="1387440" cy="30564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0720" y="1458360"/>
            <a:ext cx="1890720" cy="305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LES FA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60720" y="2155320"/>
            <a:ext cx="1890720" cy="30564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372360" y="1443960"/>
            <a:ext cx="2158920" cy="3056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OGRA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72360" y="2140920"/>
            <a:ext cx="2158920" cy="3056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MO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52720" y="3087360"/>
            <a:ext cx="1387440" cy="275040"/>
          </a:xfrm>
          <a:prstGeom prst="rect">
            <a:avLst/>
          </a:prstGeom>
          <a:solidFill>
            <a:srgbClr val="99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052720" y="4286160"/>
            <a:ext cx="1387440" cy="27504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60720" y="3998520"/>
            <a:ext cx="1890720" cy="2750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EB ACTIVITY F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72360" y="3073320"/>
            <a:ext cx="2158920" cy="2750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YSICAL GE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372360" y="4573440"/>
            <a:ext cx="2158920" cy="2750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NAL PRO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3468600"/>
            <a:ext cx="2158920" cy="2750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B GE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72360" y="3903480"/>
            <a:ext cx="2158920" cy="2750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TE GE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52720" y="3482640"/>
            <a:ext cx="1387440" cy="275040"/>
          </a:xfrm>
          <a:prstGeom prst="rect">
            <a:avLst/>
          </a:prstGeom>
          <a:solidFill>
            <a:srgbClr val="99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SCAL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2720" y="4724280"/>
            <a:ext cx="1387440" cy="27504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372360" y="4997160"/>
            <a:ext cx="2158920" cy="2750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TERNAL PRO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7880" y="2747880"/>
            <a:ext cx="80503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60720" y="3164760"/>
            <a:ext cx="1890720" cy="30564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86280" y="1770120"/>
            <a:ext cx="0" cy="379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40160" y="1608120"/>
            <a:ext cx="520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851440" y="1608120"/>
            <a:ext cx="520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440160" y="1770120"/>
            <a:ext cx="520560" cy="379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851440" y="1755720"/>
            <a:ext cx="520920" cy="379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727520" y="2467080"/>
            <a:ext cx="319320" cy="691920"/>
          </a:xfrm>
          <a:prstGeom prst="downArrow">
            <a:avLst>
              <a:gd name="adj1" fmla="val 50000"/>
              <a:gd name="adj2" fmla="val 54171"/>
            </a:avLst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851440" y="3173040"/>
            <a:ext cx="520920" cy="101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851440" y="3992400"/>
            <a:ext cx="520920" cy="192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5851440" y="3584160"/>
            <a:ext cx="520920" cy="600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86280" y="3476520"/>
            <a:ext cx="0" cy="515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440160" y="3173040"/>
            <a:ext cx="520560" cy="101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3440160" y="3584160"/>
            <a:ext cx="520560" cy="600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440160" y="4184640"/>
            <a:ext cx="520560" cy="669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851440" y="4184640"/>
            <a:ext cx="52092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851440" y="4184640"/>
            <a:ext cx="520920" cy="1093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440160" y="4184640"/>
            <a:ext cx="520560" cy="382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07160" y="1755720"/>
            <a:ext cx="103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BRICK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MORT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7520" y="3763800"/>
            <a:ext cx="947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54160" y="5791320"/>
            <a:ext cx="243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WEBTRENDS COR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0" t="0" r="28077" b="0"/>
          <a:stretch/>
        </p:blipFill>
        <p:spPr>
          <a:xfrm>
            <a:off x="1676520" y="914400"/>
            <a:ext cx="3379680" cy="5904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1676520"/>
            <a:ext cx="8885160" cy="36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1371600"/>
            <a:ext cx="8226360" cy="57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Hits</a:t>
            </a:r>
            <a:r>
              <a:rPr b="0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Number of Successful Hits for Entire Site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184,558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Average Number of Hits Per Day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15,379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Number of Hits for Home Page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2,248</a:t>
            </a:r>
            <a:r>
              <a:rPr b="0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Page Views</a:t>
            </a:r>
            <a:r>
              <a:rPr b="0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Number of Page Views (Impressions)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46,438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Average Number of Page Views Per Day  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3,952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Document Views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43,829</a:t>
            </a:r>
            <a:r>
              <a:rPr b="0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Visitor Sessions</a:t>
            </a:r>
            <a:r>
              <a:rPr b="0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Number of User Sessions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13,564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Average Number of User Sessions Per Day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1,130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Average User Session Length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00:03:09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International User Sessions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26.13%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User Sessions of Unknown Origin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31.01%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User Sessions from United States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42.81%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Visitors</a:t>
            </a:r>
            <a:r>
              <a:rPr b="0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Number of Unique Visitors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11,685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Number of Visitors Who Visited Once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10,720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Number of Visitors Who Visited More Than Once      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959</a:t>
            </a:r>
            <a:r>
              <a:rPr b="0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77840" y="5791320"/>
            <a:ext cx="243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WEBTRENDS COR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28077" b="0"/>
          <a:stretch/>
        </p:blipFill>
        <p:spPr>
          <a:xfrm>
            <a:off x="1676520" y="533520"/>
            <a:ext cx="33796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982880" y="1119240"/>
            <a:ext cx="5292720" cy="41162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010640" y="5791320"/>
            <a:ext cx="1977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NUMA-Q (IB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ll Center Suppor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77840" y="5813280"/>
            <a:ext cx="1413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E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446200" y="1166760"/>
            <a:ext cx="413244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mail Response Manage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77840" y="5813280"/>
            <a:ext cx="1413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E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347920" y="1360440"/>
            <a:ext cx="4314960" cy="457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119320" y="1144440"/>
            <a:ext cx="4888080" cy="4856400"/>
          </a:xfrm>
          <a:prstGeom prst="ellipse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221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Contact Report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072120" y="1301760"/>
            <a:ext cx="975960" cy="949320"/>
            <a:chOff x="6072120" y="1301760"/>
            <a:chExt cx="975960" cy="949320"/>
          </a:xfrm>
        </p:grpSpPr>
        <p:graphicFrame>
          <p:nvGraphicFramePr>
            <p:cNvPr id="112" name=""/>
            <p:cNvGraphicFramePr/>
            <p:nvPr/>
          </p:nvGraphicFramePr>
          <p:xfrm>
            <a:off x="6072120" y="1301760"/>
            <a:ext cx="568800" cy="354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72120" y="1301760"/>
                      <a:ext cx="568800" cy="35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6215400" y="1467720"/>
            <a:ext cx="603720" cy="500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215400" y="1467720"/>
                      <a:ext cx="603720" cy="50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6" name=""/>
            <p:cNvGraphicFramePr/>
            <p:nvPr/>
          </p:nvGraphicFramePr>
          <p:xfrm>
            <a:off x="6302520" y="1594800"/>
            <a:ext cx="568440" cy="354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02520" y="1594800"/>
                      <a:ext cx="568440" cy="35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8" name=""/>
            <p:cNvGraphicFramePr/>
            <p:nvPr/>
          </p:nvGraphicFramePr>
          <p:xfrm>
            <a:off x="6444360" y="1751040"/>
            <a:ext cx="603720" cy="500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444360" y="1751040"/>
                      <a:ext cx="603720" cy="50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0" name=""/>
          <p:cNvGrpSpPr/>
          <p:nvPr/>
        </p:nvGrpSpPr>
        <p:grpSpPr>
          <a:xfrm>
            <a:off x="3297240" y="4226040"/>
            <a:ext cx="2139840" cy="1363320"/>
            <a:chOff x="3297240" y="4226040"/>
            <a:chExt cx="2139840" cy="1363320"/>
          </a:xfrm>
        </p:grpSpPr>
        <p:sp>
          <p:nvSpPr>
            <p:cNvPr id="121" name=""/>
            <p:cNvSpPr/>
            <p:nvPr/>
          </p:nvSpPr>
          <p:spPr>
            <a:xfrm>
              <a:off x="3298680" y="5213520"/>
              <a:ext cx="2136600" cy="375840"/>
            </a:xfrm>
            <a:prstGeom prst="ellipse">
              <a:avLst/>
            </a:prstGeom>
            <a:solidFill>
              <a:srgbClr val="063de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297240" y="4420440"/>
              <a:ext cx="2139840" cy="987480"/>
            </a:xfrm>
            <a:prstGeom prst="rect">
              <a:avLst/>
            </a:pr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305160" y="4226040"/>
              <a:ext cx="2123640" cy="377640"/>
            </a:xfrm>
            <a:prstGeom prst="ellipse">
              <a:avLst/>
            </a:prstGeom>
            <a:solidFill>
              <a:srgbClr val="008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327480" y="4663800"/>
              <a:ext cx="2076480" cy="86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Customer</a:t>
              </a:r>
              <a:br>
                <a:rPr sz="1700"/>
              </a:b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Interaction Repositor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1074600" y="3360600"/>
            <a:ext cx="1455840" cy="58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D, IV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 Telepho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36520" y="1971720"/>
            <a:ext cx="1540080" cy="58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/Emai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-Comme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9"/>
          <a:stretch/>
        </p:blipFill>
        <p:spPr>
          <a:xfrm>
            <a:off x="716040" y="2060640"/>
            <a:ext cx="280800" cy="379440"/>
          </a:xfrm>
          <a:prstGeom prst="rect">
            <a:avLst/>
          </a:prstGeom>
          <a:ln w="12600">
            <a:solidFill>
              <a:srgbClr val="cc3300"/>
            </a:solidFill>
            <a:miter/>
          </a:ln>
        </p:spPr>
      </p:pic>
      <p:pic>
        <p:nvPicPr>
          <p:cNvPr id="128" name="" descr=""/>
          <p:cNvPicPr/>
          <p:nvPr/>
        </p:nvPicPr>
        <p:blipFill>
          <a:blip r:embed="rId10"/>
          <a:stretch/>
        </p:blipFill>
        <p:spPr>
          <a:xfrm>
            <a:off x="8080200" y="2603520"/>
            <a:ext cx="279720" cy="379440"/>
          </a:xfrm>
          <a:prstGeom prst="rect">
            <a:avLst/>
          </a:prstGeom>
          <a:ln w="12600">
            <a:solidFill>
              <a:srgbClr val="cc33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6661080" y="2590920"/>
            <a:ext cx="1295640" cy="82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pri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1"/>
          <a:stretch/>
        </p:blipFill>
        <p:spPr>
          <a:xfrm>
            <a:off x="565200" y="3389400"/>
            <a:ext cx="280800" cy="380880"/>
          </a:xfrm>
          <a:prstGeom prst="rect">
            <a:avLst/>
          </a:prstGeom>
          <a:ln w="12600">
            <a:solidFill>
              <a:srgbClr val="cc3300"/>
            </a:solidFill>
            <a:miter/>
          </a:ln>
        </p:spPr>
      </p:pic>
      <p:graphicFrame>
        <p:nvGraphicFramePr>
          <p:cNvPr id="131" name=""/>
          <p:cNvGraphicFramePr/>
          <p:nvPr/>
        </p:nvGraphicFramePr>
        <p:xfrm>
          <a:off x="5734080" y="3406680"/>
          <a:ext cx="1668600" cy="11098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734080" y="3406680"/>
                    <a:ext cx="1668600" cy="1109880"/>
                  </a:xfrm>
                  <a:prstGeom prst="rect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4132440" y="3319560"/>
            <a:ext cx="512640" cy="893520"/>
          </a:xfrm>
          <a:prstGeom prst="downArrow">
            <a:avLst>
              <a:gd name="adj1" fmla="val 43935"/>
              <a:gd name="adj2" fmla="val 57332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666960" y="2719440"/>
            <a:ext cx="1914840" cy="885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ordination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Shar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y Gath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 rot="7350000">
            <a:off x="2930760" y="2073600"/>
            <a:ext cx="311760" cy="884160"/>
          </a:xfrm>
          <a:prstGeom prst="downArrow">
            <a:avLst>
              <a:gd name="adj1" fmla="val 38713"/>
              <a:gd name="adj2" fmla="val 106219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 flipV="1" rot="14250000">
            <a:off x="5584320" y="1696320"/>
            <a:ext cx="312480" cy="884160"/>
          </a:xfrm>
          <a:prstGeom prst="downArrow">
            <a:avLst>
              <a:gd name="adj1" fmla="val 38713"/>
              <a:gd name="adj2" fmla="val 105975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5400000">
            <a:off x="5926680" y="2499480"/>
            <a:ext cx="311400" cy="684000"/>
          </a:xfrm>
          <a:prstGeom prst="downArrow">
            <a:avLst>
              <a:gd name="adj1" fmla="val 43935"/>
              <a:gd name="adj2" fmla="val 72252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05440" y="1730520"/>
            <a:ext cx="512640" cy="893520"/>
          </a:xfrm>
          <a:prstGeom prst="downArrow">
            <a:avLst>
              <a:gd name="adj1" fmla="val 43935"/>
              <a:gd name="adj2" fmla="val 57332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30720" y="1434960"/>
            <a:ext cx="2157120" cy="76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sonalization</a:t>
            </a:r>
            <a:br>
              <a:rPr sz="16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uting, Workflow, Ru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977160" y="1200240"/>
            <a:ext cx="143172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20275200">
            <a:off x="2581200" y="3276360"/>
            <a:ext cx="981000" cy="355320"/>
          </a:xfrm>
          <a:prstGeom prst="rightArrow">
            <a:avLst>
              <a:gd name="adj1" fmla="val 44509"/>
              <a:gd name="adj2" fmla="val 6890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65360" y="4791240"/>
            <a:ext cx="184140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action His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33920" y="4778280"/>
            <a:ext cx="1936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nsolidat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por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063560" y="5826240"/>
            <a:ext cx="1616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QUIN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6897600" y="4059360"/>
            <a:ext cx="1214280" cy="723600"/>
            <a:chOff x="6897600" y="4059360"/>
            <a:chExt cx="1214280" cy="723600"/>
          </a:xfrm>
        </p:grpSpPr>
        <p:pic>
          <p:nvPicPr>
            <p:cNvPr id="146" name="CCQ%20-%20Report3" descr=""/>
            <p:cNvPicPr/>
            <p:nvPr/>
          </p:nvPicPr>
          <p:blipFill>
            <a:blip r:embed="rId14"/>
            <a:stretch/>
          </p:blipFill>
          <p:spPr>
            <a:xfrm>
              <a:off x="6917760" y="4059360"/>
              <a:ext cx="1194120" cy="72360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</p:pic>
        <p:sp>
          <p:nvSpPr>
            <p:cNvPr id="147" name=""/>
            <p:cNvSpPr/>
            <p:nvPr/>
          </p:nvSpPr>
          <p:spPr>
            <a:xfrm>
              <a:off x="6897600" y="4073400"/>
              <a:ext cx="15804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5T06:45:47Z</dcterms:created>
  <dc:creator>Michael I. Shamos</dc:creator>
  <dc:description/>
  <dc:language>en-US</dc:language>
  <cp:lastModifiedBy>Valued Gateway Client</cp:lastModifiedBy>
  <cp:lastPrinted>1999-04-26T23:26:57Z</cp:lastPrinted>
  <dcterms:modified xsi:type="dcterms:W3CDTF">2000-09-08T17:46:54Z</dcterms:modified>
  <cp:revision>25</cp:revision>
  <dc:subject/>
  <dc:title>CRM</dc:title>
</cp:coreProperties>
</file>