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C73624-2198-4FDC-A5CD-CE29CFEEE2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563B56-158E-4D07-BDED-020E630E40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DCE3BA-DA18-4D05-8CC2-E28C5AF95F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os+@cs.cmu.edu" TargetMode="External"/><Relationship Id="rId2" Type="http://schemas.openxmlformats.org/officeDocument/2006/relationships/hyperlink" Target="http://www.ecom.cmu.edu/shamos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p.aads.net/main.html" TargetMode="External"/><Relationship Id="rId3" Type="http://schemas.openxmlformats.org/officeDocument/2006/relationships/hyperlink" Target="http://www.pacbell.com/products/business/fastrak/networking/nap/index.html" TargetMode="External"/><Relationship Id="rId4" Type="http://schemas.openxmlformats.org/officeDocument/2006/relationships/hyperlink" Target="http://www.sprintbiz.com/nap/" TargetMode="External"/><Relationship Id="rId5" Type="http://schemas.openxmlformats.org/officeDocument/2006/relationships/hyperlink" Target="http://www.nap.net/where/w_mae-east.shtml" TargetMode="External"/><Relationship Id="rId6" Type="http://schemas.openxmlformats.org/officeDocument/2006/relationships/hyperlink" Target="http://www.nap.net/where/w_minneapolis.shtml" TargetMode="External"/><Relationship Id="rId7" Type="http://schemas.openxmlformats.org/officeDocument/2006/relationships/hyperlink" Target="http://www.nap.net/where/w_seattle.shtml" TargetMode="External"/><Relationship Id="rId8" Type="http://schemas.openxmlformats.org/officeDocument/2006/relationships/hyperlink" Target="http://www.pacbell.com/products/business/fastrak/networking/nap/nap2-3.html" TargetMode="External"/><Relationship Id="rId9" Type="http://schemas.openxmlformats.org/officeDocument/2006/relationships/hyperlink" Target="http://www.nap.net/where/w_dallas.shtml" TargetMode="External"/><Relationship Id="rId10" Type="http://schemas.openxmlformats.org/officeDocument/2006/relationships/hyperlink" Target="http://www.bigeast.net/" TargetMode="External"/><Relationship Id="rId11" Type="http://schemas.openxmlformats.org/officeDocument/2006/relationships/hyperlink" Target="http://www.ep.net/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ua.ie/surveys/how_many_online/world.html" TargetMode="External"/><Relationship Id="rId2" Type="http://schemas.openxmlformats.org/officeDocument/2006/relationships/hyperlink" Target="http://www.nua.ie/surveys/how_many_online/africa.html" TargetMode="External"/><Relationship Id="rId3" Type="http://schemas.openxmlformats.org/officeDocument/2006/relationships/hyperlink" Target="file:///online.htm" TargetMode="External"/><Relationship Id="rId4" Type="http://schemas.openxmlformats.org/officeDocument/2006/relationships/hyperlink" Target="http://www.nua.ie/surveys/how_many_online/europe.html" TargetMode="External"/><Relationship Id="rId5" Type="http://schemas.openxmlformats.org/officeDocument/2006/relationships/hyperlink" Target="http://www.nua.ie/surveys/how_many_online/m_east.html" TargetMode="External"/><Relationship Id="rId6" Type="http://schemas.openxmlformats.org/officeDocument/2006/relationships/hyperlink" Target="http://www.nua.ie/surveys/how_many_online/n_america.html" TargetMode="External"/><Relationship Id="rId7" Type="http://schemas.openxmlformats.org/officeDocument/2006/relationships/hyperlink" Target="http://www.nua.ie/surveys/how_many_online/s_america.html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acketdemo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4.wmf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routingdemo.ht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24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rin.net/" TargetMode="External"/><Relationship Id="rId2" Type="http://schemas.openxmlformats.org/officeDocument/2006/relationships/hyperlink" Target="http://www.ripe.net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et.cmu.edu/arch/dns-98.html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nicode.org/iuc/iuc10/x-utf8.html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ples.com/" TargetMode="External"/><Relationship Id="rId2" Type="http://schemas.openxmlformats.org/officeDocument/2006/relationships/hyperlink" Target="http://www.buyersindex.com/" TargetMode="External"/><Relationship Id="rId3" Type="http://schemas.openxmlformats.org/officeDocument/2006/relationships/hyperlink" Target="http://www.buyersindex.com/" TargetMode="External"/><Relationship Id="rId4" Type="http://schemas.openxmlformats.org/officeDocument/2006/relationships/hyperlink" Target="http://www.brandwise.com/" TargetMode="External"/><Relationship Id="rId5" Type="http://schemas.openxmlformats.org/officeDocument/2006/relationships/hyperlink" Target="http://www.brandwise.com/" TargetMode="External"/><Relationship Id="rId6" Type="http://schemas.openxmlformats.org/officeDocument/2006/relationships/hyperlink" Target="http://www.schwab.com/" TargetMode="External"/><Relationship Id="rId7" Type="http://schemas.openxmlformats.org/officeDocument/2006/relationships/hyperlink" Target="http://www.ebay.com/" TargetMode="External"/><Relationship Id="rId8" Type="http://schemas.openxmlformats.org/officeDocument/2006/relationships/hyperlink" Target="http://www.seacat.com/" TargetMode="External"/><Relationship Id="rId9" Type="http://schemas.openxmlformats.org/officeDocument/2006/relationships/hyperlink" Target="http://www.ariba.com/" TargetMode="External"/><Relationship Id="rId10" Type="http://schemas.openxmlformats.org/officeDocument/2006/relationships/hyperlink" Target="https://www.assetexchange.freemarkets.com/" TargetMode="External"/><Relationship Id="rId11" Type="http://schemas.openxmlformats.org/officeDocument/2006/relationships/hyperlink" Target="http://www.instill.com/" TargetMode="External"/><Relationship Id="rId12" Type="http://schemas.openxmlformats.org/officeDocument/2006/relationships/hyperlink" Target="http://www.corbis.com/" TargetMode="External"/><Relationship Id="rId13" Type="http://schemas.openxmlformats.org/officeDocument/2006/relationships/hyperlink" Target="http://www.mp3.com/" TargetMode="External"/><Relationship Id="rId14" Type="http://schemas.openxmlformats.org/officeDocument/2006/relationships/hyperlink" Target="http://www.tdni.sns.ca/cgi/edifsr.exe" TargetMode="External"/><Relationship Id="rId15" Type="http://schemas.openxmlformats.org/officeDocument/2006/relationships/hyperlink" Target="http://www1.bluemountain.com/" TargetMode="External"/><Relationship Id="rId16" Type="http://schemas.openxmlformats.org/officeDocument/2006/relationships/hyperlink" Target="http://www.stamps.com/" TargetMode="External"/><Relationship Id="rId17" Type="http://schemas.openxmlformats.org/officeDocument/2006/relationships/hyperlink" Target="http://www.estamp.com/" TargetMode="External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183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Busin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6680" y="3780720"/>
            <a:ext cx="434556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I. Shamos, Ph.D., J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irector, Institute for e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Pennsylvania 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mail		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8240" y="1022400"/>
            <a:ext cx="7696440" cy="5005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V="1">
            <a:off x="4708440" y="1160280"/>
            <a:ext cx="0" cy="4330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160" y="3908520"/>
            <a:ext cx="157356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5120" y="1876320"/>
            <a:ext cx="157500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87400" y="56563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7640" y="162000"/>
            <a:ext cx="66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ed Internet Host 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9880" y="2024640"/>
            <a:ext cx="11984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UG.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1800" y="2820240"/>
            <a:ext cx="1411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1160" y="2919240"/>
            <a:ext cx="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46840" y="2127240"/>
            <a:ext cx="482400" cy="6811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264000" y="1290600"/>
            <a:ext cx="320760" cy="717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9000" y="3547080"/>
            <a:ext cx="12992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94080" y="2995560"/>
            <a:ext cx="457200" cy="595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97600" y="4477320"/>
            <a:ext cx="118620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UL.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3836880"/>
            <a:ext cx="431640" cy="657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35040" y="1103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(b) = a unit of information,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bits convey 1024 differe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its convey &gt; 1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bits &gt; 1 billion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d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communicatio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ts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EVER ENOUGH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s have 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1 MB at 56K bps takes 143 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56K, 1 GB takes 40 hours; at 7Mbps 19 minu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Gbps 8 seconds; at 1 Tbps .01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1720" y="76356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22720" y="3386160"/>
            <a:ext cx="25362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aming Video + 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54640" y="3954600"/>
            <a:ext cx="1772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ing,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7320" y="4487760"/>
            <a:ext cx="1268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,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3360" y="5600880"/>
            <a:ext cx="839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41120" y="2898720"/>
            <a:ext cx="3255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Conferencing, 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5480" y="5041800"/>
            <a:ext cx="760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56200" y="3692520"/>
            <a:ext cx="231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86600" y="3668760"/>
            <a:ext cx="118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53160" y="210816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2514600"/>
            <a:ext cx="855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/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9920" y="335268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1/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49840" y="4229280"/>
            <a:ext cx="153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2680" y="5313240"/>
            <a:ext cx="185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49960" y="4795920"/>
            <a:ext cx="1476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28760" y="2235240"/>
            <a:ext cx="444672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4360" y="2765520"/>
            <a:ext cx="3936960" cy="531720"/>
          </a:xfrm>
          <a:custGeom>
            <a:avLst/>
            <a:gdLst/>
            <a:ahLst/>
            <a:rect l="l" t="t" r="r" b="b"/>
            <a:pathLst>
              <a:path w="2264" h="376">
                <a:moveTo>
                  <a:pt x="146" y="375"/>
                </a:moveTo>
                <a:lnTo>
                  <a:pt x="2117" y="375"/>
                </a:lnTo>
                <a:lnTo>
                  <a:pt x="2263" y="0"/>
                </a:lnTo>
                <a:lnTo>
                  <a:pt x="0" y="0"/>
                </a:lnTo>
                <a:lnTo>
                  <a:pt x="146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9960" y="3295800"/>
            <a:ext cx="3429000" cy="541080"/>
          </a:xfrm>
          <a:custGeom>
            <a:avLst/>
            <a:gdLst/>
            <a:ahLst/>
            <a:rect l="l" t="t" r="r" b="b"/>
            <a:pathLst>
              <a:path w="1972" h="384">
                <a:moveTo>
                  <a:pt x="146" y="383"/>
                </a:moveTo>
                <a:lnTo>
                  <a:pt x="1825" y="383"/>
                </a:lnTo>
                <a:lnTo>
                  <a:pt x="1971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92320" y="3836880"/>
            <a:ext cx="2919600" cy="541440"/>
          </a:xfrm>
          <a:custGeom>
            <a:avLst/>
            <a:gdLst/>
            <a:ahLst/>
            <a:rect l="l" t="t" r="r" b="b"/>
            <a:pathLst>
              <a:path w="1679" h="384">
                <a:moveTo>
                  <a:pt x="153" y="383"/>
                </a:moveTo>
                <a:lnTo>
                  <a:pt x="1525" y="383"/>
                </a:lnTo>
                <a:lnTo>
                  <a:pt x="1678" y="0"/>
                </a:lnTo>
                <a:lnTo>
                  <a:pt x="0" y="0"/>
                </a:lnTo>
                <a:lnTo>
                  <a:pt x="153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59080" y="4376880"/>
            <a:ext cx="2386080" cy="531720"/>
          </a:xfrm>
          <a:custGeom>
            <a:avLst/>
            <a:gdLst/>
            <a:ahLst/>
            <a:rect l="l" t="t" r="r" b="b"/>
            <a:pathLst>
              <a:path w="1373" h="376">
                <a:moveTo>
                  <a:pt x="1225" y="375"/>
                </a:moveTo>
                <a:lnTo>
                  <a:pt x="1372" y="0"/>
                </a:lnTo>
                <a:lnTo>
                  <a:pt x="0" y="0"/>
                </a:lnTo>
                <a:lnTo>
                  <a:pt x="147" y="375"/>
                </a:lnTo>
                <a:lnTo>
                  <a:pt x="1225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13240" y="4906800"/>
            <a:ext cx="1877760" cy="543240"/>
          </a:xfrm>
          <a:custGeom>
            <a:avLst/>
            <a:gdLst/>
            <a:ahLst/>
            <a:rect l="l" t="t" r="r" b="b"/>
            <a:pathLst>
              <a:path w="1079" h="384">
                <a:moveTo>
                  <a:pt x="146" y="383"/>
                </a:moveTo>
                <a:lnTo>
                  <a:pt x="932" y="383"/>
                </a:lnTo>
                <a:lnTo>
                  <a:pt x="1078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67040" y="5448240"/>
            <a:ext cx="1370160" cy="531720"/>
          </a:xfrm>
          <a:custGeom>
            <a:avLst/>
            <a:gdLst/>
            <a:ahLst/>
            <a:rect l="l" t="t" r="r" b="b"/>
            <a:pathLst>
              <a:path w="787" h="376">
                <a:moveTo>
                  <a:pt x="147" y="375"/>
                </a:moveTo>
                <a:lnTo>
                  <a:pt x="639" y="375"/>
                </a:lnTo>
                <a:lnTo>
                  <a:pt x="786" y="0"/>
                </a:lnTo>
                <a:lnTo>
                  <a:pt x="0" y="0"/>
                </a:lnTo>
                <a:lnTo>
                  <a:pt x="147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8440" y="5310360"/>
            <a:ext cx="106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4920" y="4745160"/>
            <a:ext cx="1063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31960" y="4260960"/>
            <a:ext cx="66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55760" y="3719520"/>
            <a:ext cx="72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8760" y="2593800"/>
            <a:ext cx="1395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 = 44.7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0120" y="2184480"/>
            <a:ext cx="177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C3 = 155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7160" y="4748040"/>
            <a:ext cx="1330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K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95760" y="2367000"/>
            <a:ext cx="3212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Reality, Medical 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040" y="1461960"/>
            <a:ext cx="123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gig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7800" y="3057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10000" y="1771920"/>
            <a:ext cx="1893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-motion HD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41480" y="1704960"/>
            <a:ext cx="502596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53760" y="1508760"/>
            <a:ext cx="1062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Gigab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0" y="76824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93400" y="733320"/>
            <a:ext cx="1116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819520"/>
            <a:ext cx="281160" cy="2360520"/>
          </a:xfrm>
          <a:custGeom>
            <a:avLst/>
            <a:gdLst>
              <a:gd name="textAreaLeft" fmla="*/ 0 w 281160"/>
              <a:gd name="textAreaRight" fmla="*/ 101520 w 281160"/>
              <a:gd name="textAreaTop" fmla="*/ 61560 h 2360520"/>
              <a:gd name="textAreaBottom" fmla="*/ 229896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435400">
            <a:off x="8029440" y="833040"/>
            <a:ext cx="284400" cy="2224080"/>
          </a:xfrm>
          <a:custGeom>
            <a:avLst/>
            <a:gdLst>
              <a:gd name="textAreaLeft" fmla="*/ 0 w 284400"/>
              <a:gd name="textAreaRight" fmla="*/ 102600 w 28440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5240" y="38880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06200" y="2117880"/>
            <a:ext cx="68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7840" y="1171440"/>
            <a:ext cx="5663880" cy="53208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987120"/>
            <a:ext cx="154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99"/>
                </a:solidFill>
                <a:latin typeface="Arial"/>
              </a:rPr>
              <a:t>Experimen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2960" y="98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1 ter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9200" y="1251360"/>
            <a:ext cx="486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U.S. telephone conversations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370800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T1 = 1.544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19440" y="3450960"/>
            <a:ext cx="963360" cy="34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1440" y="3295440"/>
            <a:ext cx="114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 ~ 7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17840" y="3139560"/>
            <a:ext cx="101412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4320" y="1860840"/>
            <a:ext cx="1632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12 = 62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93160" y="5800320"/>
            <a:ext cx="221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speech = 30 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54840" y="565812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WIDTH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17640" y="280368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000" y="2898360"/>
            <a:ext cx="155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CABLE 10-38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0920" y="2927160"/>
            <a:ext cx="433440" cy="129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981000" y="1477800"/>
            <a:ext cx="7172280" cy="4333680"/>
            <a:chOff x="981000" y="1477800"/>
            <a:chExt cx="7172280" cy="4333680"/>
          </a:xfrm>
        </p:grpSpPr>
        <p:grpSp>
          <p:nvGrpSpPr>
            <p:cNvPr id="452" name=""/>
            <p:cNvGrpSpPr/>
            <p:nvPr/>
          </p:nvGrpSpPr>
          <p:grpSpPr>
            <a:xfrm>
              <a:off x="1882800" y="1603440"/>
              <a:ext cx="6270480" cy="3821040"/>
              <a:chOff x="1882800" y="1603440"/>
              <a:chExt cx="6270480" cy="38210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081160" y="1603440"/>
                <a:ext cx="6072120" cy="3670200"/>
                <a:chOff x="2081160" y="1603440"/>
                <a:chExt cx="6072120" cy="36702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2081160" y="1603440"/>
                  <a:ext cx="74520" cy="3146040"/>
                  <a:chOff x="2081160" y="1603440"/>
                  <a:chExt cx="74520" cy="31460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081160" y="47480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081160" y="422100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081160" y="369540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081160" y="318276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081160" y="265572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081160" y="212868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081160" y="16034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1882800" y="5149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981000" y="1477800"/>
              <a:ext cx="7172280" cy="4333680"/>
              <a:chOff x="981000" y="1477800"/>
              <a:chExt cx="7172280" cy="43336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081160" y="1603440"/>
                <a:ext cx="6072120" cy="3724920"/>
                <a:chOff x="2081160" y="1603440"/>
                <a:chExt cx="6072120" cy="3724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155680" y="474804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55680" y="422100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155680" y="369540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155680" y="318276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55680" y="265572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155680" y="212868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noFill/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1160" y="5273640"/>
                  <a:ext cx="7452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155680" y="527364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1556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531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268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40035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36536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74012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51022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4766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5852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2132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6589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694980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3263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76867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80629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981000" y="1477800"/>
                <a:ext cx="7102800" cy="4333680"/>
                <a:chOff x="981000" y="1477800"/>
                <a:chExt cx="7102800" cy="433368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1744560" y="5379840"/>
                  <a:ext cx="6339240" cy="431640"/>
                  <a:chOff x="1744560" y="5379840"/>
                  <a:chExt cx="6339240" cy="4316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8900000">
                    <a:off x="1761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8900000">
                    <a:off x="2138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8900000">
                    <a:off x="24991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8900000">
                    <a:off x="2875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8900000">
                    <a:off x="32356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8900000">
                    <a:off x="3611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8900000">
                    <a:off x="39722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8900000">
                    <a:off x="4348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8900000">
                    <a:off x="47246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8900000">
                    <a:off x="50850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8900000">
                    <a:off x="5460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8900000">
                    <a:off x="58212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8900000">
                    <a:off x="6196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8900000">
                    <a:off x="6557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18900000">
                    <a:off x="6932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8900000">
                    <a:off x="7294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900000">
                    <a:off x="7669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981000" y="1477800"/>
                  <a:ext cx="1018800" cy="3419640"/>
                  <a:chOff x="981000" y="1477800"/>
                  <a:chExt cx="1018800" cy="3419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1619640" y="46227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619640" y="40971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619640" y="357012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6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619640" y="305748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8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425960" y="25304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425960" y="20048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425960" y="147780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1163160" y="297288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5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Wave-Division Multiplex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9260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62916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3880" y="1270080"/>
            <a:ext cx="747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693320" y="4914000"/>
            <a:ext cx="2302920" cy="402480"/>
            <a:chOff x="4693320" y="4914000"/>
            <a:chExt cx="2302920" cy="402480"/>
          </a:xfrm>
        </p:grpSpPr>
        <p:grpSp>
          <p:nvGrpSpPr>
            <p:cNvPr id="523" name=""/>
            <p:cNvGrpSpPr/>
            <p:nvPr/>
          </p:nvGrpSpPr>
          <p:grpSpPr>
            <a:xfrm>
              <a:off x="4995720" y="5219640"/>
              <a:ext cx="2000520" cy="96840"/>
              <a:chOff x="4995720" y="5219640"/>
              <a:chExt cx="2000520" cy="9684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5056200" y="5246280"/>
                <a:ext cx="1940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9572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693320" y="49140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257880" y="4983840"/>
            <a:ext cx="1022400" cy="304200"/>
            <a:chOff x="6257880" y="4983840"/>
            <a:chExt cx="1022400" cy="304200"/>
          </a:xfrm>
        </p:grpSpPr>
        <p:grpSp>
          <p:nvGrpSpPr>
            <p:cNvPr id="528" name=""/>
            <p:cNvGrpSpPr/>
            <p:nvPr/>
          </p:nvGrpSpPr>
          <p:grpSpPr>
            <a:xfrm>
              <a:off x="6935760" y="5191200"/>
              <a:ext cx="344520" cy="96840"/>
              <a:chOff x="6935760" y="5191200"/>
              <a:chExt cx="344520" cy="9684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6996240" y="5219280"/>
                <a:ext cx="284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5760" y="519120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257880" y="4983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365880" y="4849200"/>
            <a:ext cx="1185840" cy="411840"/>
            <a:chOff x="6365880" y="4849200"/>
            <a:chExt cx="1185840" cy="411840"/>
          </a:xfrm>
        </p:grpSpPr>
        <p:grpSp>
          <p:nvGrpSpPr>
            <p:cNvPr id="533" name=""/>
            <p:cNvGrpSpPr/>
            <p:nvPr/>
          </p:nvGrpSpPr>
          <p:grpSpPr>
            <a:xfrm>
              <a:off x="7221600" y="5011560"/>
              <a:ext cx="330120" cy="249480"/>
              <a:chOff x="7221600" y="5011560"/>
              <a:chExt cx="330120" cy="24948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7280280" y="5011560"/>
                <a:ext cx="271440" cy="208080"/>
              </a:xfrm>
              <a:prstGeom prst="line">
                <a:avLst/>
              </a:prstGeom>
              <a:ln w="4428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21600" y="5164200"/>
                <a:ext cx="104760" cy="96840"/>
              </a:xfrm>
              <a:prstGeom prst="rect">
                <a:avLst/>
              </a:prstGeom>
              <a:solidFill>
                <a:srgbClr val="9900cc"/>
              </a:solidFill>
              <a:ln w="144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365880" y="484920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539040" y="4715640"/>
            <a:ext cx="1103040" cy="337320"/>
            <a:chOff x="6539040" y="4715640"/>
            <a:chExt cx="1103040" cy="337320"/>
          </a:xfrm>
        </p:grpSpPr>
        <p:grpSp>
          <p:nvGrpSpPr>
            <p:cNvPr id="538" name=""/>
            <p:cNvGrpSpPr/>
            <p:nvPr/>
          </p:nvGrpSpPr>
          <p:grpSpPr>
            <a:xfrm>
              <a:off x="7491240" y="4858920"/>
              <a:ext cx="150840" cy="194040"/>
              <a:chOff x="7491240" y="4858920"/>
              <a:chExt cx="150840" cy="194040"/>
            </a:xfrm>
          </p:grpSpPr>
          <p:sp>
            <p:nvSpPr>
              <p:cNvPr id="539" name=""/>
              <p:cNvSpPr/>
              <p:nvPr/>
            </p:nvSpPr>
            <p:spPr>
              <a:xfrm flipV="1">
                <a:off x="7551720" y="4858920"/>
                <a:ext cx="90360" cy="152280"/>
              </a:xfrm>
              <a:prstGeom prst="line">
                <a:avLst/>
              </a:prstGeom>
              <a:ln w="44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91240" y="4956120"/>
                <a:ext cx="105120" cy="9684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539040" y="471564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4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533280" y="4569480"/>
            <a:ext cx="1197720" cy="331200"/>
            <a:chOff x="6533280" y="4569480"/>
            <a:chExt cx="1197720" cy="331200"/>
          </a:xfrm>
        </p:grpSpPr>
        <p:grpSp>
          <p:nvGrpSpPr>
            <p:cNvPr id="543" name=""/>
            <p:cNvGrpSpPr/>
            <p:nvPr/>
          </p:nvGrpSpPr>
          <p:grpSpPr>
            <a:xfrm>
              <a:off x="7581960" y="4651200"/>
              <a:ext cx="149040" cy="249480"/>
              <a:chOff x="7581960" y="4651200"/>
              <a:chExt cx="149040" cy="249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7642080" y="4651200"/>
                <a:ext cx="88920" cy="208080"/>
              </a:xfrm>
              <a:prstGeom prst="line">
                <a:avLst/>
              </a:prstGeom>
              <a:ln w="442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81960" y="4803840"/>
                <a:ext cx="104760" cy="96840"/>
              </a:xfrm>
              <a:prstGeom prst="rect">
                <a:avLst/>
              </a:prstGeom>
              <a:solidFill>
                <a:srgbClr val="3366ff"/>
              </a:solidFill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533280" y="45694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761160" y="4411080"/>
            <a:ext cx="1076400" cy="281520"/>
            <a:chOff x="6761160" y="4411080"/>
            <a:chExt cx="1076400" cy="281520"/>
          </a:xfrm>
        </p:grpSpPr>
        <p:grpSp>
          <p:nvGrpSpPr>
            <p:cNvPr id="548" name=""/>
            <p:cNvGrpSpPr/>
            <p:nvPr/>
          </p:nvGrpSpPr>
          <p:grpSpPr>
            <a:xfrm>
              <a:off x="7672320" y="4428720"/>
              <a:ext cx="165240" cy="263880"/>
              <a:chOff x="7672320" y="4428720"/>
              <a:chExt cx="165240" cy="26388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7731000" y="4428720"/>
                <a:ext cx="106560" cy="222120"/>
              </a:xfrm>
              <a:prstGeom prst="line">
                <a:avLst/>
              </a:prstGeom>
              <a:ln w="442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72320" y="4595760"/>
                <a:ext cx="104760" cy="96840"/>
              </a:xfrm>
              <a:prstGeom prst="rect">
                <a:avLst/>
              </a:prstGeom>
              <a:solidFill>
                <a:srgbClr val="008080"/>
              </a:solidFill>
              <a:ln w="144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761160" y="441108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9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749280" y="4012920"/>
            <a:ext cx="1178640" cy="458640"/>
            <a:chOff x="6749280" y="4012920"/>
            <a:chExt cx="1178640" cy="458640"/>
          </a:xfrm>
        </p:grpSpPr>
        <p:grpSp>
          <p:nvGrpSpPr>
            <p:cNvPr id="553" name=""/>
            <p:cNvGrpSpPr/>
            <p:nvPr/>
          </p:nvGrpSpPr>
          <p:grpSpPr>
            <a:xfrm>
              <a:off x="7777080" y="4012920"/>
              <a:ext cx="150840" cy="457560"/>
              <a:chOff x="7777080" y="4012920"/>
              <a:chExt cx="150840" cy="45756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7837560" y="4012920"/>
                <a:ext cx="90360" cy="415800"/>
              </a:xfrm>
              <a:prstGeom prst="line">
                <a:avLst/>
              </a:prstGeom>
              <a:ln w="442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777080" y="4373640"/>
                <a:ext cx="104760" cy="968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749280" y="41950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3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819120" y="3182400"/>
            <a:ext cx="1197720" cy="871920"/>
            <a:chOff x="6819120" y="3182400"/>
            <a:chExt cx="1197720" cy="871920"/>
          </a:xfrm>
        </p:grpSpPr>
        <p:grpSp>
          <p:nvGrpSpPr>
            <p:cNvPr id="558" name=""/>
            <p:cNvGrpSpPr/>
            <p:nvPr/>
          </p:nvGrpSpPr>
          <p:grpSpPr>
            <a:xfrm>
              <a:off x="7867800" y="3182400"/>
              <a:ext cx="149040" cy="871920"/>
              <a:chOff x="7867800" y="3182400"/>
              <a:chExt cx="149040" cy="87192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7927920" y="3182400"/>
                <a:ext cx="88920" cy="83052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800" y="3957480"/>
                <a:ext cx="104760" cy="96840"/>
              </a:xfrm>
              <a:prstGeom prst="rect">
                <a:avLst/>
              </a:prstGeom>
              <a:solidFill>
                <a:srgbClr val="ffcc00"/>
              </a:solidFill>
              <a:ln w="144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6819120" y="370620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4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920640" y="1920600"/>
            <a:ext cx="1186560" cy="1303560"/>
            <a:chOff x="6920640" y="1920600"/>
            <a:chExt cx="1186560" cy="1303560"/>
          </a:xfrm>
        </p:grpSpPr>
        <p:grpSp>
          <p:nvGrpSpPr>
            <p:cNvPr id="563" name=""/>
            <p:cNvGrpSpPr/>
            <p:nvPr/>
          </p:nvGrpSpPr>
          <p:grpSpPr>
            <a:xfrm>
              <a:off x="7956720" y="1920600"/>
              <a:ext cx="150480" cy="1303560"/>
              <a:chOff x="7956720" y="1920600"/>
              <a:chExt cx="150480" cy="130356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8016840" y="1920600"/>
                <a:ext cx="90360" cy="1261800"/>
              </a:xfrm>
              <a:prstGeom prst="line">
                <a:avLst/>
              </a:prstGeom>
              <a:ln w="4428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956720" y="3127320"/>
                <a:ext cx="106200" cy="96840"/>
              </a:xfrm>
              <a:prstGeom prst="rect">
                <a:avLst/>
              </a:prstGeom>
              <a:solidFill>
                <a:srgbClr val="ff9966"/>
              </a:solidFill>
              <a:ln w="144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920640" y="287424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8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955200" y="1000080"/>
            <a:ext cx="1198080" cy="963720"/>
            <a:chOff x="6955200" y="1000080"/>
            <a:chExt cx="1198080" cy="963720"/>
          </a:xfrm>
        </p:grpSpPr>
        <p:grpSp>
          <p:nvGrpSpPr>
            <p:cNvPr id="568" name=""/>
            <p:cNvGrpSpPr/>
            <p:nvPr/>
          </p:nvGrpSpPr>
          <p:grpSpPr>
            <a:xfrm>
              <a:off x="8047080" y="1000080"/>
              <a:ext cx="106200" cy="963720"/>
              <a:chOff x="8047080" y="1000080"/>
              <a:chExt cx="106200" cy="9637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47080" y="1865160"/>
                <a:ext cx="106200" cy="986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8109000" y="1000080"/>
                <a:ext cx="2520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955200" y="166788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2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03800" y="4906080"/>
            <a:ext cx="1652400" cy="410400"/>
            <a:chOff x="3403800" y="4906080"/>
            <a:chExt cx="1652400" cy="410400"/>
          </a:xfrm>
        </p:grpSpPr>
        <p:grpSp>
          <p:nvGrpSpPr>
            <p:cNvPr id="573" name=""/>
            <p:cNvGrpSpPr/>
            <p:nvPr/>
          </p:nvGrpSpPr>
          <p:grpSpPr>
            <a:xfrm>
              <a:off x="3613320" y="5219640"/>
              <a:ext cx="1442880" cy="96840"/>
              <a:chOff x="3613320" y="5219640"/>
              <a:chExt cx="1442880" cy="96840"/>
            </a:xfrm>
          </p:grpSpPr>
          <p:sp>
            <p:nvSpPr>
              <p:cNvPr id="574" name=""/>
              <p:cNvSpPr/>
              <p:nvPr/>
            </p:nvSpPr>
            <p:spPr>
              <a:xfrm>
                <a:off x="3673440" y="5273640"/>
                <a:ext cx="13827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13320" y="5219640"/>
                <a:ext cx="10620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403800" y="490608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7 G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647440" y="4899960"/>
            <a:ext cx="1026000" cy="416520"/>
            <a:chOff x="2647440" y="4899960"/>
            <a:chExt cx="1026000" cy="416520"/>
          </a:xfrm>
        </p:grpSpPr>
        <p:grpSp>
          <p:nvGrpSpPr>
            <p:cNvPr id="578" name=""/>
            <p:cNvGrpSpPr/>
            <p:nvPr/>
          </p:nvGrpSpPr>
          <p:grpSpPr>
            <a:xfrm>
              <a:off x="2876400" y="5219640"/>
              <a:ext cx="797040" cy="96840"/>
              <a:chOff x="2876400" y="5219640"/>
              <a:chExt cx="797040" cy="96840"/>
            </a:xfrm>
          </p:grpSpPr>
          <p:sp>
            <p:nvSpPr>
              <p:cNvPr id="579" name=""/>
              <p:cNvSpPr/>
              <p:nvPr/>
            </p:nvSpPr>
            <p:spPr>
              <a:xfrm>
                <a:off x="293688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7640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2647440" y="48999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103120" y="4988880"/>
            <a:ext cx="833760" cy="327600"/>
            <a:chOff x="2103120" y="4988880"/>
            <a:chExt cx="833760" cy="327600"/>
          </a:xfrm>
        </p:grpSpPr>
        <p:grpSp>
          <p:nvGrpSpPr>
            <p:cNvPr id="583" name=""/>
            <p:cNvGrpSpPr/>
            <p:nvPr/>
          </p:nvGrpSpPr>
          <p:grpSpPr>
            <a:xfrm>
              <a:off x="2141640" y="5219640"/>
              <a:ext cx="795240" cy="96840"/>
              <a:chOff x="2141640" y="5219640"/>
              <a:chExt cx="795240" cy="96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20032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41640" y="521964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103120" y="498888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38320" y="3164040"/>
            <a:ext cx="1195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igabits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000" y="2518200"/>
            <a:ext cx="12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Terabi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23480" cy="57592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15920" y="111240"/>
            <a:ext cx="5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32600" cy="39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like a subway system -- lines inter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 CERF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204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22120" y="1339920"/>
            <a:ext cx="8547840" cy="4540680"/>
            <a:chOff x="222120" y="1339920"/>
            <a:chExt cx="8547840" cy="4540680"/>
          </a:xfrm>
        </p:grpSpPr>
        <p:grpSp>
          <p:nvGrpSpPr>
            <p:cNvPr id="595" name=""/>
            <p:cNvGrpSpPr/>
            <p:nvPr/>
          </p:nvGrpSpPr>
          <p:grpSpPr>
            <a:xfrm>
              <a:off x="264240" y="1354320"/>
              <a:ext cx="8505720" cy="4526280"/>
              <a:chOff x="264240" y="1354320"/>
              <a:chExt cx="8505720" cy="45262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64240" y="1354320"/>
                <a:ext cx="3606120" cy="4526280"/>
                <a:chOff x="264240" y="1354320"/>
                <a:chExt cx="3606120" cy="4526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482920" y="1354320"/>
                  <a:ext cx="1387440" cy="1143360"/>
                </a:xfrm>
                <a:custGeom>
                  <a:avLst/>
                  <a:gdLst/>
                  <a:ahLst/>
                  <a:rect l="l" t="t" r="r" b="b"/>
                  <a:pathLst>
                    <a:path w="828" h="689">
                      <a:moveTo>
                        <a:pt x="499" y="0"/>
                      </a:moveTo>
                      <a:lnTo>
                        <a:pt x="655" y="26"/>
                      </a:lnTo>
                      <a:lnTo>
                        <a:pt x="647" y="35"/>
                      </a:lnTo>
                      <a:lnTo>
                        <a:pt x="680" y="35"/>
                      </a:lnTo>
                      <a:lnTo>
                        <a:pt x="704" y="35"/>
                      </a:lnTo>
                      <a:lnTo>
                        <a:pt x="721" y="53"/>
                      </a:lnTo>
                      <a:lnTo>
                        <a:pt x="696" y="79"/>
                      </a:lnTo>
                      <a:lnTo>
                        <a:pt x="614" y="53"/>
                      </a:lnTo>
                      <a:lnTo>
                        <a:pt x="581" y="88"/>
                      </a:lnTo>
                      <a:lnTo>
                        <a:pt x="655" y="88"/>
                      </a:lnTo>
                      <a:lnTo>
                        <a:pt x="688" y="88"/>
                      </a:lnTo>
                      <a:lnTo>
                        <a:pt x="680" y="115"/>
                      </a:lnTo>
                      <a:lnTo>
                        <a:pt x="729" y="88"/>
                      </a:lnTo>
                      <a:lnTo>
                        <a:pt x="761" y="88"/>
                      </a:lnTo>
                      <a:lnTo>
                        <a:pt x="827" y="88"/>
                      </a:lnTo>
                      <a:lnTo>
                        <a:pt x="753" y="150"/>
                      </a:lnTo>
                      <a:lnTo>
                        <a:pt x="729" y="150"/>
                      </a:lnTo>
                      <a:lnTo>
                        <a:pt x="753" y="176"/>
                      </a:lnTo>
                      <a:lnTo>
                        <a:pt x="729" y="203"/>
                      </a:lnTo>
                      <a:lnTo>
                        <a:pt x="729" y="238"/>
                      </a:lnTo>
                      <a:lnTo>
                        <a:pt x="753" y="247"/>
                      </a:lnTo>
                      <a:lnTo>
                        <a:pt x="721" y="265"/>
                      </a:lnTo>
                      <a:lnTo>
                        <a:pt x="704" y="335"/>
                      </a:lnTo>
                      <a:lnTo>
                        <a:pt x="729" y="335"/>
                      </a:lnTo>
                      <a:lnTo>
                        <a:pt x="688" y="353"/>
                      </a:lnTo>
                      <a:lnTo>
                        <a:pt x="671" y="335"/>
                      </a:lnTo>
                      <a:lnTo>
                        <a:pt x="655" y="362"/>
                      </a:lnTo>
                      <a:lnTo>
                        <a:pt x="704" y="415"/>
                      </a:lnTo>
                      <a:lnTo>
                        <a:pt x="696" y="432"/>
                      </a:lnTo>
                      <a:lnTo>
                        <a:pt x="671" y="415"/>
                      </a:lnTo>
                      <a:lnTo>
                        <a:pt x="622" y="388"/>
                      </a:lnTo>
                      <a:lnTo>
                        <a:pt x="622" y="415"/>
                      </a:lnTo>
                      <a:lnTo>
                        <a:pt x="622" y="432"/>
                      </a:lnTo>
                      <a:lnTo>
                        <a:pt x="639" y="450"/>
                      </a:lnTo>
                      <a:lnTo>
                        <a:pt x="680" y="450"/>
                      </a:lnTo>
                      <a:lnTo>
                        <a:pt x="671" y="467"/>
                      </a:lnTo>
                      <a:lnTo>
                        <a:pt x="557" y="512"/>
                      </a:lnTo>
                      <a:lnTo>
                        <a:pt x="442" y="600"/>
                      </a:lnTo>
                      <a:lnTo>
                        <a:pt x="385" y="688"/>
                      </a:lnTo>
                      <a:lnTo>
                        <a:pt x="319" y="653"/>
                      </a:lnTo>
                      <a:lnTo>
                        <a:pt x="270" y="520"/>
                      </a:lnTo>
                      <a:lnTo>
                        <a:pt x="303" y="467"/>
                      </a:lnTo>
                      <a:lnTo>
                        <a:pt x="287" y="450"/>
                      </a:lnTo>
                      <a:lnTo>
                        <a:pt x="262" y="432"/>
                      </a:lnTo>
                      <a:lnTo>
                        <a:pt x="287" y="432"/>
                      </a:lnTo>
                      <a:lnTo>
                        <a:pt x="262" y="415"/>
                      </a:lnTo>
                      <a:lnTo>
                        <a:pt x="254" y="415"/>
                      </a:lnTo>
                      <a:lnTo>
                        <a:pt x="254" y="388"/>
                      </a:lnTo>
                      <a:lnTo>
                        <a:pt x="262" y="362"/>
                      </a:lnTo>
                      <a:lnTo>
                        <a:pt x="221" y="335"/>
                      </a:lnTo>
                      <a:lnTo>
                        <a:pt x="221" y="300"/>
                      </a:lnTo>
                      <a:lnTo>
                        <a:pt x="180" y="265"/>
                      </a:lnTo>
                      <a:lnTo>
                        <a:pt x="115" y="265"/>
                      </a:lnTo>
                      <a:lnTo>
                        <a:pt x="98" y="291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2"/>
                      </a:lnTo>
                      <a:lnTo>
                        <a:pt x="254" y="53"/>
                      </a:lnTo>
                      <a:lnTo>
                        <a:pt x="270" y="88"/>
                      </a:lnTo>
                      <a:lnTo>
                        <a:pt x="311" y="62"/>
                      </a:lnTo>
                      <a:lnTo>
                        <a:pt x="311" y="53"/>
                      </a:lnTo>
                      <a:lnTo>
                        <a:pt x="352" y="79"/>
                      </a:lnTo>
                      <a:lnTo>
                        <a:pt x="368" y="88"/>
                      </a:lnTo>
                      <a:lnTo>
                        <a:pt x="385" y="88"/>
                      </a:lnTo>
                      <a:lnTo>
                        <a:pt x="377" y="53"/>
                      </a:lnTo>
                      <a:lnTo>
                        <a:pt x="385" y="44"/>
                      </a:lnTo>
                      <a:lnTo>
                        <a:pt x="393" y="26"/>
                      </a:lnTo>
                      <a:lnTo>
                        <a:pt x="483" y="9"/>
                      </a:lnTo>
                      <a:lnTo>
                        <a:pt x="4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68920" y="1412640"/>
                  <a:ext cx="665280" cy="37296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34440" y="1963440"/>
                  <a:ext cx="641880" cy="522360"/>
                </a:xfrm>
                <a:custGeom>
                  <a:avLst/>
                  <a:gdLst/>
                  <a:ahLst/>
                  <a:rect l="l" t="t" r="r" b="b"/>
                  <a:pathLst>
                    <a:path w="383" h="315">
                      <a:moveTo>
                        <a:pt x="41" y="0"/>
                      </a:moveTo>
                      <a:lnTo>
                        <a:pt x="57" y="17"/>
                      </a:lnTo>
                      <a:lnTo>
                        <a:pt x="57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6" y="17"/>
                      </a:lnTo>
                      <a:lnTo>
                        <a:pt x="106" y="52"/>
                      </a:lnTo>
                      <a:lnTo>
                        <a:pt x="179" y="35"/>
                      </a:lnTo>
                      <a:lnTo>
                        <a:pt x="260" y="70"/>
                      </a:lnTo>
                      <a:lnTo>
                        <a:pt x="301" y="113"/>
                      </a:lnTo>
                      <a:lnTo>
                        <a:pt x="301" y="148"/>
                      </a:lnTo>
                      <a:lnTo>
                        <a:pt x="358" y="192"/>
                      </a:lnTo>
                      <a:lnTo>
                        <a:pt x="382" y="183"/>
                      </a:lnTo>
                      <a:lnTo>
                        <a:pt x="374" y="209"/>
                      </a:lnTo>
                      <a:lnTo>
                        <a:pt x="349" y="227"/>
                      </a:lnTo>
                      <a:lnTo>
                        <a:pt x="317" y="192"/>
                      </a:lnTo>
                      <a:lnTo>
                        <a:pt x="301" y="209"/>
                      </a:lnTo>
                      <a:lnTo>
                        <a:pt x="349" y="288"/>
                      </a:lnTo>
                      <a:lnTo>
                        <a:pt x="301" y="279"/>
                      </a:lnTo>
                      <a:lnTo>
                        <a:pt x="317" y="314"/>
                      </a:lnTo>
                      <a:lnTo>
                        <a:pt x="260" y="270"/>
                      </a:lnTo>
                      <a:lnTo>
                        <a:pt x="203" y="244"/>
                      </a:lnTo>
                      <a:lnTo>
                        <a:pt x="163" y="244"/>
                      </a:lnTo>
                      <a:lnTo>
                        <a:pt x="163" y="209"/>
                      </a:lnTo>
                      <a:lnTo>
                        <a:pt x="211" y="209"/>
                      </a:lnTo>
                      <a:lnTo>
                        <a:pt x="211" y="113"/>
                      </a:lnTo>
                      <a:lnTo>
                        <a:pt x="138" y="105"/>
                      </a:lnTo>
                      <a:lnTo>
                        <a:pt x="106" y="105"/>
                      </a:lnTo>
                      <a:lnTo>
                        <a:pt x="41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40360" y="2022840"/>
                  <a:ext cx="405360" cy="194040"/>
                </a:xfrm>
                <a:custGeom>
                  <a:avLst/>
                  <a:gdLst/>
                  <a:ahLst/>
                  <a:rect l="l" t="t" r="r" b="b"/>
                  <a:pathLst>
                    <a:path w="242" h="117">
                      <a:moveTo>
                        <a:pt x="64" y="0"/>
                      </a:moveTo>
                      <a:lnTo>
                        <a:pt x="80" y="17"/>
                      </a:lnTo>
                      <a:lnTo>
                        <a:pt x="80" y="33"/>
                      </a:lnTo>
                      <a:lnTo>
                        <a:pt x="104" y="17"/>
                      </a:lnTo>
                      <a:lnTo>
                        <a:pt x="112" y="25"/>
                      </a:lnTo>
                      <a:lnTo>
                        <a:pt x="129" y="17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50"/>
                      </a:lnTo>
                      <a:lnTo>
                        <a:pt x="217" y="66"/>
                      </a:lnTo>
                      <a:lnTo>
                        <a:pt x="241" y="83"/>
                      </a:lnTo>
                      <a:lnTo>
                        <a:pt x="217" y="99"/>
                      </a:lnTo>
                      <a:lnTo>
                        <a:pt x="217" y="108"/>
                      </a:lnTo>
                      <a:lnTo>
                        <a:pt x="185" y="108"/>
                      </a:lnTo>
                      <a:lnTo>
                        <a:pt x="153" y="108"/>
                      </a:lnTo>
                      <a:lnTo>
                        <a:pt x="80" y="116"/>
                      </a:lnTo>
                      <a:lnTo>
                        <a:pt x="64" y="108"/>
                      </a:lnTo>
                      <a:lnTo>
                        <a:pt x="32" y="108"/>
                      </a:lnTo>
                      <a:lnTo>
                        <a:pt x="32" y="83"/>
                      </a:lnTo>
                      <a:lnTo>
                        <a:pt x="104" y="66"/>
                      </a:lnTo>
                      <a:lnTo>
                        <a:pt x="32" y="50"/>
                      </a:lnTo>
                      <a:lnTo>
                        <a:pt x="0" y="50"/>
                      </a:lnTo>
                      <a:lnTo>
                        <a:pt x="24" y="17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902520" y="2082600"/>
                  <a:ext cx="1997280" cy="1058760"/>
                </a:xfrm>
                <a:custGeom>
                  <a:avLst/>
                  <a:gdLst/>
                  <a:ahLst/>
                  <a:rect l="l" t="t" r="r" b="b"/>
                  <a:pathLst>
                    <a:path w="1192" h="638">
                      <a:moveTo>
                        <a:pt x="641" y="0"/>
                      </a:moveTo>
                      <a:lnTo>
                        <a:pt x="674" y="35"/>
                      </a:lnTo>
                      <a:lnTo>
                        <a:pt x="674" y="71"/>
                      </a:lnTo>
                      <a:lnTo>
                        <a:pt x="706" y="80"/>
                      </a:lnTo>
                      <a:lnTo>
                        <a:pt x="723" y="88"/>
                      </a:lnTo>
                      <a:lnTo>
                        <a:pt x="731" y="71"/>
                      </a:lnTo>
                      <a:lnTo>
                        <a:pt x="756" y="115"/>
                      </a:lnTo>
                      <a:lnTo>
                        <a:pt x="821" y="71"/>
                      </a:lnTo>
                      <a:lnTo>
                        <a:pt x="838" y="80"/>
                      </a:lnTo>
                      <a:lnTo>
                        <a:pt x="813" y="106"/>
                      </a:lnTo>
                      <a:lnTo>
                        <a:pt x="838" y="115"/>
                      </a:lnTo>
                      <a:lnTo>
                        <a:pt x="813" y="142"/>
                      </a:lnTo>
                      <a:lnTo>
                        <a:pt x="731" y="168"/>
                      </a:lnTo>
                      <a:lnTo>
                        <a:pt x="747" y="177"/>
                      </a:lnTo>
                      <a:lnTo>
                        <a:pt x="739" y="203"/>
                      </a:lnTo>
                      <a:lnTo>
                        <a:pt x="706" y="203"/>
                      </a:lnTo>
                      <a:lnTo>
                        <a:pt x="674" y="221"/>
                      </a:lnTo>
                      <a:lnTo>
                        <a:pt x="649" y="319"/>
                      </a:lnTo>
                      <a:lnTo>
                        <a:pt x="674" y="336"/>
                      </a:lnTo>
                      <a:lnTo>
                        <a:pt x="674" y="354"/>
                      </a:lnTo>
                      <a:lnTo>
                        <a:pt x="821" y="416"/>
                      </a:lnTo>
                      <a:lnTo>
                        <a:pt x="821" y="434"/>
                      </a:lnTo>
                      <a:lnTo>
                        <a:pt x="838" y="469"/>
                      </a:lnTo>
                      <a:lnTo>
                        <a:pt x="862" y="469"/>
                      </a:lnTo>
                      <a:lnTo>
                        <a:pt x="862" y="407"/>
                      </a:lnTo>
                      <a:lnTo>
                        <a:pt x="887" y="389"/>
                      </a:lnTo>
                      <a:lnTo>
                        <a:pt x="887" y="354"/>
                      </a:lnTo>
                      <a:lnTo>
                        <a:pt x="862" y="265"/>
                      </a:lnTo>
                      <a:lnTo>
                        <a:pt x="887" y="248"/>
                      </a:lnTo>
                      <a:lnTo>
                        <a:pt x="920" y="248"/>
                      </a:lnTo>
                      <a:lnTo>
                        <a:pt x="1002" y="292"/>
                      </a:lnTo>
                      <a:lnTo>
                        <a:pt x="1002" y="319"/>
                      </a:lnTo>
                      <a:lnTo>
                        <a:pt x="1035" y="319"/>
                      </a:lnTo>
                      <a:lnTo>
                        <a:pt x="1060" y="292"/>
                      </a:lnTo>
                      <a:lnTo>
                        <a:pt x="1142" y="407"/>
                      </a:lnTo>
                      <a:lnTo>
                        <a:pt x="1191" y="469"/>
                      </a:lnTo>
                      <a:lnTo>
                        <a:pt x="1166" y="478"/>
                      </a:lnTo>
                      <a:lnTo>
                        <a:pt x="1142" y="478"/>
                      </a:lnTo>
                      <a:lnTo>
                        <a:pt x="1125" y="504"/>
                      </a:lnTo>
                      <a:lnTo>
                        <a:pt x="1051" y="504"/>
                      </a:lnTo>
                      <a:lnTo>
                        <a:pt x="1027" y="522"/>
                      </a:lnTo>
                      <a:lnTo>
                        <a:pt x="1060" y="531"/>
                      </a:lnTo>
                      <a:lnTo>
                        <a:pt x="1076" y="566"/>
                      </a:lnTo>
                      <a:lnTo>
                        <a:pt x="1084" y="593"/>
                      </a:lnTo>
                      <a:lnTo>
                        <a:pt x="1027" y="593"/>
                      </a:lnTo>
                      <a:lnTo>
                        <a:pt x="1002" y="557"/>
                      </a:lnTo>
                      <a:lnTo>
                        <a:pt x="977" y="584"/>
                      </a:lnTo>
                      <a:lnTo>
                        <a:pt x="953" y="602"/>
                      </a:lnTo>
                      <a:lnTo>
                        <a:pt x="920" y="602"/>
                      </a:lnTo>
                      <a:lnTo>
                        <a:pt x="821" y="637"/>
                      </a:lnTo>
                      <a:lnTo>
                        <a:pt x="838" y="593"/>
                      </a:lnTo>
                      <a:lnTo>
                        <a:pt x="805" y="566"/>
                      </a:lnTo>
                      <a:lnTo>
                        <a:pt x="756" y="566"/>
                      </a:lnTo>
                      <a:lnTo>
                        <a:pt x="739" y="584"/>
                      </a:lnTo>
                      <a:lnTo>
                        <a:pt x="608" y="566"/>
                      </a:lnTo>
                      <a:lnTo>
                        <a:pt x="255" y="549"/>
                      </a:lnTo>
                      <a:lnTo>
                        <a:pt x="238" y="522"/>
                      </a:lnTo>
                      <a:lnTo>
                        <a:pt x="181" y="495"/>
                      </a:lnTo>
                      <a:lnTo>
                        <a:pt x="148" y="425"/>
                      </a:lnTo>
                      <a:lnTo>
                        <a:pt x="140" y="425"/>
                      </a:lnTo>
                      <a:lnTo>
                        <a:pt x="140" y="389"/>
                      </a:lnTo>
                      <a:lnTo>
                        <a:pt x="115" y="389"/>
                      </a:lnTo>
                      <a:lnTo>
                        <a:pt x="99" y="372"/>
                      </a:lnTo>
                      <a:lnTo>
                        <a:pt x="82" y="354"/>
                      </a:lnTo>
                      <a:lnTo>
                        <a:pt x="82" y="345"/>
                      </a:lnTo>
                      <a:lnTo>
                        <a:pt x="57" y="345"/>
                      </a:lnTo>
                      <a:lnTo>
                        <a:pt x="33" y="336"/>
                      </a:lnTo>
                      <a:lnTo>
                        <a:pt x="33" y="319"/>
                      </a:lnTo>
                      <a:lnTo>
                        <a:pt x="8" y="319"/>
                      </a:lnTo>
                      <a:lnTo>
                        <a:pt x="0" y="319"/>
                      </a:lnTo>
                      <a:lnTo>
                        <a:pt x="0" y="71"/>
                      </a:lnTo>
                      <a:lnTo>
                        <a:pt x="82" y="88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5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2" y="115"/>
                      </a:lnTo>
                      <a:lnTo>
                        <a:pt x="452" y="124"/>
                      </a:lnTo>
                      <a:lnTo>
                        <a:pt x="452" y="142"/>
                      </a:lnTo>
                      <a:lnTo>
                        <a:pt x="476" y="115"/>
                      </a:lnTo>
                      <a:lnTo>
                        <a:pt x="452" y="115"/>
                      </a:lnTo>
                      <a:lnTo>
                        <a:pt x="550" y="115"/>
                      </a:lnTo>
                      <a:lnTo>
                        <a:pt x="616" y="115"/>
                      </a:lnTo>
                      <a:lnTo>
                        <a:pt x="641" y="106"/>
                      </a:lnTo>
                      <a:lnTo>
                        <a:pt x="641" y="115"/>
                      </a:lnTo>
                      <a:lnTo>
                        <a:pt x="665" y="88"/>
                      </a:lnTo>
                      <a:lnTo>
                        <a:pt x="641" y="44"/>
                      </a:lnTo>
                      <a:lnTo>
                        <a:pt x="641" y="71"/>
                      </a:lnTo>
                      <a:lnTo>
                        <a:pt x="616" y="35"/>
                      </a:lnTo>
                      <a:lnTo>
                        <a:pt x="6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64240" y="2142360"/>
                  <a:ext cx="623160" cy="612000"/>
                </a:xfrm>
                <a:custGeom>
                  <a:avLst/>
                  <a:gdLst/>
                  <a:ahLst/>
                  <a:rect l="l" t="t" r="r" b="b"/>
                  <a:pathLst>
                    <a:path w="372" h="369">
                      <a:moveTo>
                        <a:pt x="153" y="0"/>
                      </a:moveTo>
                      <a:lnTo>
                        <a:pt x="371" y="35"/>
                      </a:lnTo>
                      <a:lnTo>
                        <a:pt x="371" y="280"/>
                      </a:lnTo>
                      <a:lnTo>
                        <a:pt x="331" y="280"/>
                      </a:lnTo>
                      <a:lnTo>
                        <a:pt x="266" y="263"/>
                      </a:lnTo>
                      <a:lnTo>
                        <a:pt x="266" y="280"/>
                      </a:lnTo>
                      <a:lnTo>
                        <a:pt x="226" y="280"/>
                      </a:lnTo>
                      <a:lnTo>
                        <a:pt x="226" y="263"/>
                      </a:lnTo>
                      <a:lnTo>
                        <a:pt x="194" y="298"/>
                      </a:lnTo>
                      <a:lnTo>
                        <a:pt x="194" y="307"/>
                      </a:lnTo>
                      <a:lnTo>
                        <a:pt x="169" y="333"/>
                      </a:lnTo>
                      <a:lnTo>
                        <a:pt x="89" y="368"/>
                      </a:lnTo>
                      <a:lnTo>
                        <a:pt x="145" y="315"/>
                      </a:lnTo>
                      <a:lnTo>
                        <a:pt x="89" y="307"/>
                      </a:lnTo>
                      <a:lnTo>
                        <a:pt x="73" y="307"/>
                      </a:lnTo>
                      <a:lnTo>
                        <a:pt x="81" y="280"/>
                      </a:lnTo>
                      <a:lnTo>
                        <a:pt x="48" y="280"/>
                      </a:lnTo>
                      <a:lnTo>
                        <a:pt x="32" y="254"/>
                      </a:lnTo>
                      <a:lnTo>
                        <a:pt x="32" y="228"/>
                      </a:lnTo>
                      <a:lnTo>
                        <a:pt x="89" y="175"/>
                      </a:lnTo>
                      <a:lnTo>
                        <a:pt x="32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8" y="105"/>
                      </a:lnTo>
                      <a:lnTo>
                        <a:pt x="32" y="79"/>
                      </a:lnTo>
                      <a:lnTo>
                        <a:pt x="8" y="79"/>
                      </a:lnTo>
                      <a:lnTo>
                        <a:pt x="24" y="53"/>
                      </a:lnTo>
                      <a:lnTo>
                        <a:pt x="48" y="53"/>
                      </a:lnTo>
                      <a:lnTo>
                        <a:pt x="105" y="9"/>
                      </a:lnTo>
                      <a:lnTo>
                        <a:pt x="145" y="9"/>
                      </a:lnTo>
                      <a:lnTo>
                        <a:pt x="153" y="0"/>
                      </a:lnTo>
                      <a:lnTo>
                        <a:pt x="145" y="0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36000" y="2276640"/>
                  <a:ext cx="234360" cy="91080"/>
                </a:xfrm>
                <a:custGeom>
                  <a:avLst/>
                  <a:gdLst/>
                  <a:ahLst/>
                  <a:rect l="l" t="t" r="r" b="b"/>
                  <a:pathLst>
                    <a:path w="140" h="55">
                      <a:moveTo>
                        <a:pt x="8" y="0"/>
                      </a:moveTo>
                      <a:lnTo>
                        <a:pt x="23" y="0"/>
                      </a:lnTo>
                      <a:lnTo>
                        <a:pt x="23" y="15"/>
                      </a:lnTo>
                      <a:lnTo>
                        <a:pt x="100" y="0"/>
                      </a:lnTo>
                      <a:lnTo>
                        <a:pt x="139" y="23"/>
                      </a:lnTo>
                      <a:lnTo>
                        <a:pt x="46" y="54"/>
                      </a:lnTo>
                      <a:lnTo>
                        <a:pt x="39" y="46"/>
                      </a:lnTo>
                      <a:lnTo>
                        <a:pt x="8" y="46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89520" y="2781360"/>
                  <a:ext cx="1335600" cy="897120"/>
                </a:xfrm>
                <a:custGeom>
                  <a:avLst/>
                  <a:gdLst/>
                  <a:ahLst/>
                  <a:rect l="l" t="t" r="r" b="b"/>
                  <a:pathLst>
                    <a:path w="797" h="541">
                      <a:moveTo>
                        <a:pt x="25" y="133"/>
                      </a:moveTo>
                      <a:lnTo>
                        <a:pt x="98" y="0"/>
                      </a:lnTo>
                      <a:lnTo>
                        <a:pt x="386" y="27"/>
                      </a:lnTo>
                      <a:lnTo>
                        <a:pt x="509" y="168"/>
                      </a:lnTo>
                      <a:lnTo>
                        <a:pt x="509" y="221"/>
                      </a:lnTo>
                      <a:lnTo>
                        <a:pt x="509" y="266"/>
                      </a:lnTo>
                      <a:lnTo>
                        <a:pt x="542" y="204"/>
                      </a:lnTo>
                      <a:lnTo>
                        <a:pt x="574" y="204"/>
                      </a:lnTo>
                      <a:lnTo>
                        <a:pt x="574" y="221"/>
                      </a:lnTo>
                      <a:lnTo>
                        <a:pt x="583" y="221"/>
                      </a:lnTo>
                      <a:lnTo>
                        <a:pt x="574" y="266"/>
                      </a:lnTo>
                      <a:lnTo>
                        <a:pt x="607" y="266"/>
                      </a:lnTo>
                      <a:lnTo>
                        <a:pt x="624" y="239"/>
                      </a:lnTo>
                      <a:lnTo>
                        <a:pt x="739" y="186"/>
                      </a:lnTo>
                      <a:lnTo>
                        <a:pt x="771" y="150"/>
                      </a:lnTo>
                      <a:lnTo>
                        <a:pt x="796" y="204"/>
                      </a:lnTo>
                      <a:lnTo>
                        <a:pt x="771" y="221"/>
                      </a:lnTo>
                      <a:lnTo>
                        <a:pt x="739" y="239"/>
                      </a:lnTo>
                      <a:lnTo>
                        <a:pt x="747" y="266"/>
                      </a:lnTo>
                      <a:lnTo>
                        <a:pt x="706" y="274"/>
                      </a:lnTo>
                      <a:lnTo>
                        <a:pt x="698" y="292"/>
                      </a:lnTo>
                      <a:lnTo>
                        <a:pt x="656" y="398"/>
                      </a:lnTo>
                      <a:lnTo>
                        <a:pt x="607" y="416"/>
                      </a:lnTo>
                      <a:lnTo>
                        <a:pt x="607" y="513"/>
                      </a:lnTo>
                      <a:lnTo>
                        <a:pt x="607" y="540"/>
                      </a:lnTo>
                      <a:lnTo>
                        <a:pt x="583" y="513"/>
                      </a:lnTo>
                      <a:lnTo>
                        <a:pt x="583" y="478"/>
                      </a:lnTo>
                      <a:lnTo>
                        <a:pt x="509" y="451"/>
                      </a:lnTo>
                      <a:lnTo>
                        <a:pt x="394" y="505"/>
                      </a:lnTo>
                      <a:lnTo>
                        <a:pt x="377" y="513"/>
                      </a:lnTo>
                      <a:lnTo>
                        <a:pt x="361" y="531"/>
                      </a:lnTo>
                      <a:lnTo>
                        <a:pt x="336" y="513"/>
                      </a:lnTo>
                      <a:lnTo>
                        <a:pt x="312" y="478"/>
                      </a:lnTo>
                      <a:lnTo>
                        <a:pt x="304" y="505"/>
                      </a:lnTo>
                      <a:lnTo>
                        <a:pt x="254" y="451"/>
                      </a:lnTo>
                      <a:lnTo>
                        <a:pt x="222" y="451"/>
                      </a:lnTo>
                      <a:lnTo>
                        <a:pt x="172" y="451"/>
                      </a:lnTo>
                      <a:lnTo>
                        <a:pt x="156" y="434"/>
                      </a:lnTo>
                      <a:lnTo>
                        <a:pt x="107" y="434"/>
                      </a:lnTo>
                      <a:lnTo>
                        <a:pt x="8" y="319"/>
                      </a:lnTo>
                      <a:lnTo>
                        <a:pt x="0" y="221"/>
                      </a:lnTo>
                      <a:lnTo>
                        <a:pt x="0" y="168"/>
                      </a:lnTo>
                      <a:lnTo>
                        <a:pt x="0" y="142"/>
                      </a:lnTo>
                      <a:lnTo>
                        <a:pt x="25" y="150"/>
                      </a:lnTo>
                      <a:lnTo>
                        <a:pt x="25" y="133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440360" y="3421800"/>
                  <a:ext cx="695520" cy="565920"/>
                </a:xfrm>
                <a:custGeom>
                  <a:avLst/>
                  <a:gdLst/>
                  <a:ahLst/>
                  <a:rect l="l" t="t" r="r" b="b"/>
                  <a:pathLst>
                    <a:path w="415" h="341">
                      <a:moveTo>
                        <a:pt x="0" y="52"/>
                      </a:moveTo>
                      <a:lnTo>
                        <a:pt x="65" y="52"/>
                      </a:lnTo>
                      <a:lnTo>
                        <a:pt x="130" y="0"/>
                      </a:lnTo>
                      <a:lnTo>
                        <a:pt x="170" y="9"/>
                      </a:lnTo>
                      <a:lnTo>
                        <a:pt x="211" y="17"/>
                      </a:lnTo>
                      <a:lnTo>
                        <a:pt x="211" y="78"/>
                      </a:lnTo>
                      <a:lnTo>
                        <a:pt x="260" y="139"/>
                      </a:lnTo>
                      <a:lnTo>
                        <a:pt x="268" y="218"/>
                      </a:lnTo>
                      <a:lnTo>
                        <a:pt x="317" y="262"/>
                      </a:lnTo>
                      <a:lnTo>
                        <a:pt x="349" y="262"/>
                      </a:lnTo>
                      <a:lnTo>
                        <a:pt x="406" y="235"/>
                      </a:lnTo>
                      <a:lnTo>
                        <a:pt x="414" y="262"/>
                      </a:lnTo>
                      <a:lnTo>
                        <a:pt x="365" y="296"/>
                      </a:lnTo>
                      <a:lnTo>
                        <a:pt x="365" y="340"/>
                      </a:lnTo>
                      <a:lnTo>
                        <a:pt x="187" y="262"/>
                      </a:lnTo>
                      <a:lnTo>
                        <a:pt x="162" y="235"/>
                      </a:lnTo>
                      <a:lnTo>
                        <a:pt x="179" y="235"/>
                      </a:lnTo>
                      <a:lnTo>
                        <a:pt x="130" y="183"/>
                      </a:lnTo>
                      <a:lnTo>
                        <a:pt x="41" y="61"/>
                      </a:lnTo>
                      <a:lnTo>
                        <a:pt x="81" y="148"/>
                      </a:lnTo>
                      <a:lnTo>
                        <a:pt x="106" y="183"/>
                      </a:lnTo>
                      <a:lnTo>
                        <a:pt x="97" y="192"/>
                      </a:lnTo>
                      <a:lnTo>
                        <a:pt x="32" y="122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315160" y="3826800"/>
                  <a:ext cx="210960" cy="11916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038680" y="3914640"/>
                  <a:ext cx="362160" cy="240120"/>
                </a:xfrm>
                <a:custGeom>
                  <a:avLst/>
                  <a:gdLst/>
                  <a:ahLst/>
                  <a:rect l="l" t="t" r="r" b="b"/>
                  <a:pathLst>
                    <a:path w="216" h="145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1" y="42"/>
                      </a:lnTo>
                      <a:lnTo>
                        <a:pt x="111" y="110"/>
                      </a:lnTo>
                      <a:lnTo>
                        <a:pt x="183" y="127"/>
                      </a:lnTo>
                      <a:lnTo>
                        <a:pt x="215" y="144"/>
                      </a:lnTo>
                      <a:lnTo>
                        <a:pt x="175" y="144"/>
                      </a:lnTo>
                      <a:lnTo>
                        <a:pt x="64" y="102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73400" y="4035600"/>
                  <a:ext cx="1085760" cy="1845000"/>
                </a:xfrm>
                <a:custGeom>
                  <a:avLst/>
                  <a:gdLst/>
                  <a:ahLst/>
                  <a:rect l="l" t="t" r="r" b="b"/>
                  <a:pathLst>
                    <a:path w="648" h="1112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4"/>
                      </a:lnTo>
                      <a:lnTo>
                        <a:pt x="156" y="9"/>
                      </a:lnTo>
                      <a:lnTo>
                        <a:pt x="188" y="9"/>
                      </a:lnTo>
                      <a:lnTo>
                        <a:pt x="197" y="44"/>
                      </a:lnTo>
                      <a:lnTo>
                        <a:pt x="270" y="36"/>
                      </a:lnTo>
                      <a:lnTo>
                        <a:pt x="270" y="44"/>
                      </a:lnTo>
                      <a:lnTo>
                        <a:pt x="319" y="80"/>
                      </a:lnTo>
                      <a:lnTo>
                        <a:pt x="328" y="89"/>
                      </a:lnTo>
                      <a:lnTo>
                        <a:pt x="409" y="116"/>
                      </a:lnTo>
                      <a:lnTo>
                        <a:pt x="426" y="133"/>
                      </a:lnTo>
                      <a:lnTo>
                        <a:pt x="426" y="151"/>
                      </a:lnTo>
                      <a:lnTo>
                        <a:pt x="434" y="178"/>
                      </a:lnTo>
                      <a:lnTo>
                        <a:pt x="442" y="187"/>
                      </a:lnTo>
                      <a:lnTo>
                        <a:pt x="647" y="276"/>
                      </a:lnTo>
                      <a:lnTo>
                        <a:pt x="647" y="293"/>
                      </a:lnTo>
                      <a:lnTo>
                        <a:pt x="581" y="436"/>
                      </a:lnTo>
                      <a:lnTo>
                        <a:pt x="581" y="462"/>
                      </a:lnTo>
                      <a:lnTo>
                        <a:pt x="541" y="542"/>
                      </a:lnTo>
                      <a:lnTo>
                        <a:pt x="442" y="578"/>
                      </a:lnTo>
                      <a:lnTo>
                        <a:pt x="442" y="613"/>
                      </a:lnTo>
                      <a:lnTo>
                        <a:pt x="385" y="738"/>
                      </a:lnTo>
                      <a:lnTo>
                        <a:pt x="352" y="738"/>
                      </a:lnTo>
                      <a:lnTo>
                        <a:pt x="328" y="729"/>
                      </a:lnTo>
                      <a:lnTo>
                        <a:pt x="352" y="755"/>
                      </a:lnTo>
                      <a:lnTo>
                        <a:pt x="328" y="800"/>
                      </a:lnTo>
                      <a:lnTo>
                        <a:pt x="270" y="818"/>
                      </a:lnTo>
                      <a:lnTo>
                        <a:pt x="262" y="853"/>
                      </a:lnTo>
                      <a:lnTo>
                        <a:pt x="238" y="853"/>
                      </a:lnTo>
                      <a:lnTo>
                        <a:pt x="246" y="880"/>
                      </a:lnTo>
                      <a:lnTo>
                        <a:pt x="221" y="898"/>
                      </a:lnTo>
                      <a:lnTo>
                        <a:pt x="213" y="951"/>
                      </a:lnTo>
                      <a:lnTo>
                        <a:pt x="221" y="978"/>
                      </a:lnTo>
                      <a:lnTo>
                        <a:pt x="188" y="1031"/>
                      </a:lnTo>
                      <a:lnTo>
                        <a:pt x="180" y="1067"/>
                      </a:lnTo>
                      <a:lnTo>
                        <a:pt x="221" y="1111"/>
                      </a:lnTo>
                      <a:lnTo>
                        <a:pt x="156" y="1111"/>
                      </a:lnTo>
                      <a:lnTo>
                        <a:pt x="156" y="1084"/>
                      </a:lnTo>
                      <a:lnTo>
                        <a:pt x="123" y="1084"/>
                      </a:lnTo>
                      <a:lnTo>
                        <a:pt x="106" y="951"/>
                      </a:lnTo>
                      <a:lnTo>
                        <a:pt x="123" y="933"/>
                      </a:lnTo>
                      <a:lnTo>
                        <a:pt x="123" y="889"/>
                      </a:lnTo>
                      <a:lnTo>
                        <a:pt x="123" y="782"/>
                      </a:lnTo>
                      <a:lnTo>
                        <a:pt x="139" y="649"/>
                      </a:lnTo>
                      <a:lnTo>
                        <a:pt x="156" y="480"/>
                      </a:lnTo>
                      <a:lnTo>
                        <a:pt x="115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899520" y="1398960"/>
                <a:ext cx="4870440" cy="3839400"/>
                <a:chOff x="3899520" y="1398960"/>
                <a:chExt cx="4870440" cy="38394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634000" y="2605320"/>
                  <a:ext cx="1418040" cy="1281240"/>
                </a:xfrm>
                <a:custGeom>
                  <a:avLst/>
                  <a:gdLst/>
                  <a:ahLst/>
                  <a:rect l="l" t="t" r="r" b="b"/>
                  <a:pathLst>
                    <a:path w="846" h="772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2"/>
                      </a:lnTo>
                      <a:lnTo>
                        <a:pt x="755" y="337"/>
                      </a:lnTo>
                      <a:lnTo>
                        <a:pt x="763" y="372"/>
                      </a:lnTo>
                      <a:lnTo>
                        <a:pt x="804" y="381"/>
                      </a:lnTo>
                      <a:lnTo>
                        <a:pt x="845" y="381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5"/>
                      </a:lnTo>
                      <a:lnTo>
                        <a:pt x="689" y="523"/>
                      </a:lnTo>
                      <a:lnTo>
                        <a:pt x="738" y="576"/>
                      </a:lnTo>
                      <a:lnTo>
                        <a:pt x="738" y="585"/>
                      </a:lnTo>
                      <a:lnTo>
                        <a:pt x="747" y="620"/>
                      </a:lnTo>
                      <a:lnTo>
                        <a:pt x="714" y="638"/>
                      </a:lnTo>
                      <a:lnTo>
                        <a:pt x="673" y="665"/>
                      </a:lnTo>
                      <a:lnTo>
                        <a:pt x="665" y="638"/>
                      </a:lnTo>
                      <a:lnTo>
                        <a:pt x="607" y="594"/>
                      </a:lnTo>
                      <a:lnTo>
                        <a:pt x="599" y="665"/>
                      </a:lnTo>
                      <a:lnTo>
                        <a:pt x="665" y="736"/>
                      </a:lnTo>
                      <a:lnTo>
                        <a:pt x="665" y="771"/>
                      </a:lnTo>
                      <a:lnTo>
                        <a:pt x="607" y="727"/>
                      </a:lnTo>
                      <a:lnTo>
                        <a:pt x="574" y="647"/>
                      </a:lnTo>
                      <a:lnTo>
                        <a:pt x="574" y="585"/>
                      </a:lnTo>
                      <a:lnTo>
                        <a:pt x="558" y="541"/>
                      </a:lnTo>
                      <a:lnTo>
                        <a:pt x="525" y="558"/>
                      </a:lnTo>
                      <a:lnTo>
                        <a:pt x="484" y="452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5"/>
                      </a:lnTo>
                      <a:lnTo>
                        <a:pt x="328" y="585"/>
                      </a:lnTo>
                      <a:lnTo>
                        <a:pt x="328" y="611"/>
                      </a:lnTo>
                      <a:lnTo>
                        <a:pt x="304" y="674"/>
                      </a:lnTo>
                      <a:lnTo>
                        <a:pt x="279" y="665"/>
                      </a:lnTo>
                      <a:lnTo>
                        <a:pt x="254" y="585"/>
                      </a:lnTo>
                      <a:lnTo>
                        <a:pt x="238" y="558"/>
                      </a:lnTo>
                      <a:lnTo>
                        <a:pt x="222" y="470"/>
                      </a:lnTo>
                      <a:lnTo>
                        <a:pt x="205" y="487"/>
                      </a:lnTo>
                      <a:lnTo>
                        <a:pt x="164" y="452"/>
                      </a:lnTo>
                      <a:lnTo>
                        <a:pt x="164" y="425"/>
                      </a:lnTo>
                      <a:lnTo>
                        <a:pt x="82" y="381"/>
                      </a:lnTo>
                      <a:lnTo>
                        <a:pt x="57" y="363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99520" y="2958840"/>
                  <a:ext cx="1585440" cy="1911240"/>
                </a:xfrm>
                <a:custGeom>
                  <a:avLst/>
                  <a:gdLst/>
                  <a:ahLst/>
                  <a:rect l="l" t="t" r="r" b="b"/>
                  <a:pathLst>
                    <a:path w="946" h="1152">
                      <a:moveTo>
                        <a:pt x="337" y="0"/>
                      </a:moveTo>
                      <a:lnTo>
                        <a:pt x="411" y="36"/>
                      </a:lnTo>
                      <a:lnTo>
                        <a:pt x="411" y="71"/>
                      </a:lnTo>
                      <a:lnTo>
                        <a:pt x="468" y="107"/>
                      </a:lnTo>
                      <a:lnTo>
                        <a:pt x="509" y="125"/>
                      </a:lnTo>
                      <a:lnTo>
                        <a:pt x="526" y="107"/>
                      </a:lnTo>
                      <a:lnTo>
                        <a:pt x="542" y="98"/>
                      </a:lnTo>
                      <a:lnTo>
                        <a:pt x="575" y="98"/>
                      </a:lnTo>
                      <a:lnTo>
                        <a:pt x="666" y="107"/>
                      </a:lnTo>
                      <a:lnTo>
                        <a:pt x="690" y="107"/>
                      </a:lnTo>
                      <a:lnTo>
                        <a:pt x="715" y="241"/>
                      </a:lnTo>
                      <a:lnTo>
                        <a:pt x="748" y="259"/>
                      </a:lnTo>
                      <a:lnTo>
                        <a:pt x="748" y="294"/>
                      </a:lnTo>
                      <a:lnTo>
                        <a:pt x="772" y="330"/>
                      </a:lnTo>
                      <a:lnTo>
                        <a:pt x="814" y="384"/>
                      </a:lnTo>
                      <a:lnTo>
                        <a:pt x="863" y="455"/>
                      </a:lnTo>
                      <a:lnTo>
                        <a:pt x="945" y="419"/>
                      </a:lnTo>
                      <a:lnTo>
                        <a:pt x="863" y="553"/>
                      </a:lnTo>
                      <a:lnTo>
                        <a:pt x="781" y="669"/>
                      </a:lnTo>
                      <a:lnTo>
                        <a:pt x="772" y="723"/>
                      </a:lnTo>
                      <a:lnTo>
                        <a:pt x="805" y="776"/>
                      </a:lnTo>
                      <a:lnTo>
                        <a:pt x="805" y="830"/>
                      </a:lnTo>
                      <a:lnTo>
                        <a:pt x="781" y="857"/>
                      </a:lnTo>
                      <a:lnTo>
                        <a:pt x="723" y="919"/>
                      </a:lnTo>
                      <a:lnTo>
                        <a:pt x="723" y="937"/>
                      </a:lnTo>
                      <a:lnTo>
                        <a:pt x="740" y="973"/>
                      </a:lnTo>
                      <a:lnTo>
                        <a:pt x="715" y="981"/>
                      </a:lnTo>
                      <a:lnTo>
                        <a:pt x="690" y="1035"/>
                      </a:lnTo>
                      <a:lnTo>
                        <a:pt x="674" y="1062"/>
                      </a:lnTo>
                      <a:lnTo>
                        <a:pt x="616" y="1133"/>
                      </a:lnTo>
                      <a:lnTo>
                        <a:pt x="592" y="1133"/>
                      </a:lnTo>
                      <a:lnTo>
                        <a:pt x="501" y="1151"/>
                      </a:lnTo>
                      <a:lnTo>
                        <a:pt x="419" y="883"/>
                      </a:lnTo>
                      <a:lnTo>
                        <a:pt x="394" y="857"/>
                      </a:lnTo>
                      <a:lnTo>
                        <a:pt x="427" y="758"/>
                      </a:lnTo>
                      <a:lnTo>
                        <a:pt x="411" y="678"/>
                      </a:lnTo>
                      <a:lnTo>
                        <a:pt x="378" y="633"/>
                      </a:lnTo>
                      <a:lnTo>
                        <a:pt x="378" y="553"/>
                      </a:lnTo>
                      <a:lnTo>
                        <a:pt x="353" y="518"/>
                      </a:lnTo>
                      <a:lnTo>
                        <a:pt x="329" y="544"/>
                      </a:lnTo>
                      <a:lnTo>
                        <a:pt x="312" y="518"/>
                      </a:lnTo>
                      <a:lnTo>
                        <a:pt x="271" y="518"/>
                      </a:lnTo>
                      <a:lnTo>
                        <a:pt x="197" y="526"/>
                      </a:lnTo>
                      <a:lnTo>
                        <a:pt x="107" y="518"/>
                      </a:lnTo>
                      <a:lnTo>
                        <a:pt x="49" y="491"/>
                      </a:lnTo>
                      <a:lnTo>
                        <a:pt x="8" y="419"/>
                      </a:lnTo>
                      <a:lnTo>
                        <a:pt x="0" y="375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1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3" y="36"/>
                      </a:lnTo>
                      <a:lnTo>
                        <a:pt x="222" y="36"/>
                      </a:lnTo>
                      <a:lnTo>
                        <a:pt x="33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29080" y="4257720"/>
                  <a:ext cx="125280" cy="343440"/>
                </a:xfrm>
                <a:custGeom>
                  <a:avLst/>
                  <a:gdLst/>
                  <a:ahLst/>
                  <a:rect l="l" t="t" r="r" b="b"/>
                  <a:pathLst>
                    <a:path w="75" h="207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7"/>
                      </a:lnTo>
                      <a:lnTo>
                        <a:pt x="15" y="206"/>
                      </a:lnTo>
                      <a:lnTo>
                        <a:pt x="0" y="197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926600" y="2810880"/>
                  <a:ext cx="861480" cy="808200"/>
                </a:xfrm>
                <a:custGeom>
                  <a:avLst/>
                  <a:gdLst/>
                  <a:ahLst/>
                  <a:rect l="l" t="t" r="r" b="b"/>
                  <a:pathLst>
                    <a:path w="514" h="487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80"/>
                      </a:lnTo>
                      <a:lnTo>
                        <a:pt x="432" y="71"/>
                      </a:lnTo>
                      <a:lnTo>
                        <a:pt x="489" y="80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4"/>
                      </a:lnTo>
                      <a:lnTo>
                        <a:pt x="448" y="292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9"/>
                      </a:lnTo>
                      <a:lnTo>
                        <a:pt x="334" y="283"/>
                      </a:lnTo>
                      <a:lnTo>
                        <a:pt x="358" y="300"/>
                      </a:lnTo>
                      <a:lnTo>
                        <a:pt x="407" y="292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1"/>
                      </a:lnTo>
                      <a:lnTo>
                        <a:pt x="334" y="451"/>
                      </a:lnTo>
                      <a:lnTo>
                        <a:pt x="244" y="486"/>
                      </a:lnTo>
                      <a:lnTo>
                        <a:pt x="220" y="459"/>
                      </a:lnTo>
                      <a:lnTo>
                        <a:pt x="106" y="239"/>
                      </a:lnTo>
                      <a:lnTo>
                        <a:pt x="90" y="247"/>
                      </a:lnTo>
                      <a:lnTo>
                        <a:pt x="90" y="186"/>
                      </a:lnTo>
                      <a:lnTo>
                        <a:pt x="106" y="186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80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160880" y="2200320"/>
                  <a:ext cx="616680" cy="707040"/>
                </a:xfrm>
                <a:custGeom>
                  <a:avLst/>
                  <a:gdLst/>
                  <a:ahLst/>
                  <a:rect l="l" t="t" r="r" b="b"/>
                  <a:pathLst>
                    <a:path w="368" h="426">
                      <a:moveTo>
                        <a:pt x="261" y="0"/>
                      </a:moveTo>
                      <a:lnTo>
                        <a:pt x="269" y="62"/>
                      </a:lnTo>
                      <a:lnTo>
                        <a:pt x="285" y="53"/>
                      </a:lnTo>
                      <a:lnTo>
                        <a:pt x="285" y="62"/>
                      </a:lnTo>
                      <a:lnTo>
                        <a:pt x="277" y="124"/>
                      </a:lnTo>
                      <a:lnTo>
                        <a:pt x="285" y="142"/>
                      </a:lnTo>
                      <a:lnTo>
                        <a:pt x="302" y="168"/>
                      </a:lnTo>
                      <a:lnTo>
                        <a:pt x="334" y="168"/>
                      </a:lnTo>
                      <a:lnTo>
                        <a:pt x="318" y="195"/>
                      </a:lnTo>
                      <a:lnTo>
                        <a:pt x="351" y="195"/>
                      </a:lnTo>
                      <a:lnTo>
                        <a:pt x="367" y="221"/>
                      </a:lnTo>
                      <a:lnTo>
                        <a:pt x="302" y="266"/>
                      </a:lnTo>
                      <a:lnTo>
                        <a:pt x="310" y="301"/>
                      </a:lnTo>
                      <a:lnTo>
                        <a:pt x="367" y="354"/>
                      </a:lnTo>
                      <a:lnTo>
                        <a:pt x="351" y="354"/>
                      </a:lnTo>
                      <a:lnTo>
                        <a:pt x="351" y="363"/>
                      </a:lnTo>
                      <a:lnTo>
                        <a:pt x="343" y="372"/>
                      </a:lnTo>
                      <a:lnTo>
                        <a:pt x="343" y="363"/>
                      </a:lnTo>
                      <a:lnTo>
                        <a:pt x="318" y="336"/>
                      </a:lnTo>
                      <a:lnTo>
                        <a:pt x="261" y="301"/>
                      </a:lnTo>
                      <a:lnTo>
                        <a:pt x="237" y="274"/>
                      </a:lnTo>
                      <a:lnTo>
                        <a:pt x="171" y="301"/>
                      </a:lnTo>
                      <a:lnTo>
                        <a:pt x="155" y="336"/>
                      </a:lnTo>
                      <a:lnTo>
                        <a:pt x="122" y="363"/>
                      </a:lnTo>
                      <a:lnTo>
                        <a:pt x="122" y="372"/>
                      </a:lnTo>
                      <a:lnTo>
                        <a:pt x="49" y="425"/>
                      </a:lnTo>
                      <a:lnTo>
                        <a:pt x="16" y="398"/>
                      </a:lnTo>
                      <a:lnTo>
                        <a:pt x="0" y="398"/>
                      </a:lnTo>
                      <a:lnTo>
                        <a:pt x="0" y="310"/>
                      </a:lnTo>
                      <a:lnTo>
                        <a:pt x="16" y="274"/>
                      </a:lnTo>
                      <a:lnTo>
                        <a:pt x="90" y="301"/>
                      </a:lnTo>
                      <a:lnTo>
                        <a:pt x="122" y="248"/>
                      </a:lnTo>
                      <a:lnTo>
                        <a:pt x="82" y="221"/>
                      </a:lnTo>
                      <a:lnTo>
                        <a:pt x="65" y="195"/>
                      </a:lnTo>
                      <a:lnTo>
                        <a:pt x="130" y="159"/>
                      </a:lnTo>
                      <a:lnTo>
                        <a:pt x="220" y="89"/>
                      </a:lnTo>
                      <a:lnTo>
                        <a:pt x="253" y="89"/>
                      </a:lnTo>
                      <a:lnTo>
                        <a:pt x="237" y="18"/>
                      </a:lnTo>
                      <a:lnTo>
                        <a:pt x="253" y="9"/>
                      </a:lnTo>
                      <a:lnTo>
                        <a:pt x="261" y="9"/>
                      </a:lnTo>
                      <a:lnTo>
                        <a:pt x="26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19120" y="2289960"/>
                  <a:ext cx="86760" cy="13752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29" y="0"/>
                      </a:moveTo>
                      <a:lnTo>
                        <a:pt x="51" y="16"/>
                      </a:lnTo>
                      <a:lnTo>
                        <a:pt x="51" y="41"/>
                      </a:lnTo>
                      <a:lnTo>
                        <a:pt x="29" y="82"/>
                      </a:lnTo>
                      <a:lnTo>
                        <a:pt x="0" y="66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17760" y="2158920"/>
                  <a:ext cx="18252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171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5" y="119"/>
                      </a:lnTo>
                      <a:lnTo>
                        <a:pt x="108" y="145"/>
                      </a:lnTo>
                      <a:lnTo>
                        <a:pt x="85" y="170"/>
                      </a:lnTo>
                      <a:lnTo>
                        <a:pt x="54" y="170"/>
                      </a:lnTo>
                      <a:lnTo>
                        <a:pt x="0" y="170"/>
                      </a:lnTo>
                      <a:lnTo>
                        <a:pt x="8" y="153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467600" y="163620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841640" y="1398960"/>
                  <a:ext cx="3928320" cy="1624680"/>
                </a:xfrm>
                <a:custGeom>
                  <a:avLst/>
                  <a:gdLst/>
                  <a:ahLst/>
                  <a:rect l="l" t="t" r="r" b="b"/>
                  <a:pathLst>
                    <a:path w="2344" h="979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6"/>
                      </a:lnTo>
                      <a:lnTo>
                        <a:pt x="1345" y="116"/>
                      </a:lnTo>
                      <a:lnTo>
                        <a:pt x="1436" y="142"/>
                      </a:lnTo>
                      <a:lnTo>
                        <a:pt x="1427" y="116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6"/>
                      </a:lnTo>
                      <a:lnTo>
                        <a:pt x="1931" y="196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6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6"/>
                      </a:lnTo>
                      <a:lnTo>
                        <a:pt x="2178" y="365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5"/>
                      </a:lnTo>
                      <a:lnTo>
                        <a:pt x="1955" y="605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8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5"/>
                      </a:lnTo>
                      <a:lnTo>
                        <a:pt x="1955" y="427"/>
                      </a:lnTo>
                      <a:lnTo>
                        <a:pt x="1873" y="462"/>
                      </a:lnTo>
                      <a:lnTo>
                        <a:pt x="1823" y="498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8"/>
                      </a:lnTo>
                      <a:lnTo>
                        <a:pt x="1625" y="613"/>
                      </a:lnTo>
                      <a:lnTo>
                        <a:pt x="1658" y="578"/>
                      </a:lnTo>
                      <a:lnTo>
                        <a:pt x="1683" y="613"/>
                      </a:lnTo>
                      <a:lnTo>
                        <a:pt x="1683" y="640"/>
                      </a:lnTo>
                      <a:lnTo>
                        <a:pt x="1634" y="756"/>
                      </a:lnTo>
                      <a:lnTo>
                        <a:pt x="1625" y="782"/>
                      </a:lnTo>
                      <a:lnTo>
                        <a:pt x="1568" y="827"/>
                      </a:lnTo>
                      <a:lnTo>
                        <a:pt x="1526" y="836"/>
                      </a:lnTo>
                      <a:lnTo>
                        <a:pt x="1502" y="925"/>
                      </a:lnTo>
                      <a:lnTo>
                        <a:pt x="1502" y="960"/>
                      </a:lnTo>
                      <a:lnTo>
                        <a:pt x="1469" y="978"/>
                      </a:lnTo>
                      <a:lnTo>
                        <a:pt x="1469" y="925"/>
                      </a:lnTo>
                      <a:lnTo>
                        <a:pt x="1444" y="907"/>
                      </a:lnTo>
                      <a:lnTo>
                        <a:pt x="1469" y="845"/>
                      </a:lnTo>
                      <a:lnTo>
                        <a:pt x="1526" y="800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40"/>
                      </a:lnTo>
                      <a:lnTo>
                        <a:pt x="1337" y="711"/>
                      </a:lnTo>
                      <a:lnTo>
                        <a:pt x="1337" y="729"/>
                      </a:lnTo>
                      <a:lnTo>
                        <a:pt x="1353" y="729"/>
                      </a:lnTo>
                      <a:lnTo>
                        <a:pt x="1353" y="747"/>
                      </a:lnTo>
                      <a:lnTo>
                        <a:pt x="1337" y="747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6"/>
                      </a:lnTo>
                      <a:lnTo>
                        <a:pt x="1130" y="845"/>
                      </a:lnTo>
                      <a:lnTo>
                        <a:pt x="1056" y="827"/>
                      </a:lnTo>
                      <a:lnTo>
                        <a:pt x="1031" y="836"/>
                      </a:lnTo>
                      <a:lnTo>
                        <a:pt x="1015" y="818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9"/>
                      </a:lnTo>
                      <a:lnTo>
                        <a:pt x="875" y="756"/>
                      </a:lnTo>
                      <a:lnTo>
                        <a:pt x="858" y="756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7"/>
                      </a:lnTo>
                      <a:lnTo>
                        <a:pt x="776" y="854"/>
                      </a:lnTo>
                      <a:lnTo>
                        <a:pt x="743" y="871"/>
                      </a:lnTo>
                      <a:lnTo>
                        <a:pt x="718" y="925"/>
                      </a:lnTo>
                      <a:lnTo>
                        <a:pt x="677" y="925"/>
                      </a:lnTo>
                      <a:lnTo>
                        <a:pt x="586" y="934"/>
                      </a:lnTo>
                      <a:lnTo>
                        <a:pt x="569" y="960"/>
                      </a:lnTo>
                      <a:lnTo>
                        <a:pt x="503" y="925"/>
                      </a:lnTo>
                      <a:lnTo>
                        <a:pt x="470" y="925"/>
                      </a:lnTo>
                      <a:lnTo>
                        <a:pt x="413" y="925"/>
                      </a:lnTo>
                      <a:lnTo>
                        <a:pt x="380" y="916"/>
                      </a:lnTo>
                      <a:lnTo>
                        <a:pt x="371" y="889"/>
                      </a:lnTo>
                      <a:lnTo>
                        <a:pt x="355" y="889"/>
                      </a:lnTo>
                      <a:lnTo>
                        <a:pt x="322" y="880"/>
                      </a:lnTo>
                      <a:lnTo>
                        <a:pt x="297" y="845"/>
                      </a:lnTo>
                      <a:lnTo>
                        <a:pt x="215" y="782"/>
                      </a:lnTo>
                      <a:lnTo>
                        <a:pt x="248" y="729"/>
                      </a:lnTo>
                      <a:lnTo>
                        <a:pt x="182" y="765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5"/>
                      </a:lnTo>
                      <a:lnTo>
                        <a:pt x="116" y="765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8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5"/>
                      </a:lnTo>
                      <a:lnTo>
                        <a:pt x="33" y="498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6"/>
                      </a:lnTo>
                      <a:lnTo>
                        <a:pt x="223" y="276"/>
                      </a:lnTo>
                      <a:lnTo>
                        <a:pt x="256" y="276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6"/>
                      </a:lnTo>
                      <a:lnTo>
                        <a:pt x="239" y="338"/>
                      </a:lnTo>
                      <a:lnTo>
                        <a:pt x="264" y="356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6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7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6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6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5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6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16080" y="1443600"/>
                  <a:ext cx="306720" cy="180720"/>
                </a:xfrm>
                <a:custGeom>
                  <a:avLst/>
                  <a:gdLst/>
                  <a:ahLst/>
                  <a:rect l="l" t="t" r="r" b="b"/>
                  <a:pathLst>
                    <a:path w="183" h="109">
                      <a:moveTo>
                        <a:pt x="158" y="0"/>
                      </a:moveTo>
                      <a:lnTo>
                        <a:pt x="182" y="0"/>
                      </a:lnTo>
                      <a:lnTo>
                        <a:pt x="182" y="33"/>
                      </a:lnTo>
                      <a:lnTo>
                        <a:pt x="87" y="58"/>
                      </a:lnTo>
                      <a:lnTo>
                        <a:pt x="79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7" y="8"/>
                      </a:lnTo>
                      <a:lnTo>
                        <a:pt x="150" y="8"/>
                      </a:lnTo>
                      <a:lnTo>
                        <a:pt x="15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34000" y="1664280"/>
                  <a:ext cx="128880" cy="107640"/>
                </a:xfrm>
                <a:custGeom>
                  <a:avLst/>
                  <a:gdLst/>
                  <a:ahLst/>
                  <a:rect l="l" t="t" r="r" b="b"/>
                  <a:pathLst>
                    <a:path w="77" h="65">
                      <a:moveTo>
                        <a:pt x="46" y="0"/>
                      </a:moveTo>
                      <a:lnTo>
                        <a:pt x="76" y="16"/>
                      </a:lnTo>
                      <a:lnTo>
                        <a:pt x="68" y="32"/>
                      </a:lnTo>
                      <a:lnTo>
                        <a:pt x="76" y="64"/>
                      </a:lnTo>
                      <a:lnTo>
                        <a:pt x="46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93720" y="3826800"/>
                  <a:ext cx="210600" cy="235440"/>
                </a:xfrm>
                <a:custGeom>
                  <a:avLst/>
                  <a:gdLst/>
                  <a:ahLst/>
                  <a:rect l="l" t="t" r="r" b="b"/>
                  <a:pathLst>
                    <a:path w="126" h="142">
                      <a:moveTo>
                        <a:pt x="102" y="0"/>
                      </a:moveTo>
                      <a:lnTo>
                        <a:pt x="125" y="25"/>
                      </a:lnTo>
                      <a:lnTo>
                        <a:pt x="117" y="33"/>
                      </a:lnTo>
                      <a:lnTo>
                        <a:pt x="125" y="66"/>
                      </a:lnTo>
                      <a:lnTo>
                        <a:pt x="117" y="91"/>
                      </a:lnTo>
                      <a:lnTo>
                        <a:pt x="94" y="141"/>
                      </a:lnTo>
                      <a:lnTo>
                        <a:pt x="70" y="141"/>
                      </a:lnTo>
                      <a:lnTo>
                        <a:pt x="16" y="108"/>
                      </a:lnTo>
                      <a:lnTo>
                        <a:pt x="16" y="91"/>
                      </a:lnTo>
                      <a:lnTo>
                        <a:pt x="0" y="66"/>
                      </a:lnTo>
                      <a:lnTo>
                        <a:pt x="70" y="25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243200" y="3479760"/>
                  <a:ext cx="98640" cy="139320"/>
                </a:xfrm>
                <a:custGeom>
                  <a:avLst/>
                  <a:gdLst/>
                  <a:ahLst/>
                  <a:rect l="l" t="t" r="r" b="b"/>
                  <a:pathLst>
                    <a:path w="59" h="84">
                      <a:moveTo>
                        <a:pt x="7" y="0"/>
                      </a:moveTo>
                      <a:lnTo>
                        <a:pt x="36" y="17"/>
                      </a:lnTo>
                      <a:lnTo>
                        <a:pt x="36" y="58"/>
                      </a:lnTo>
                      <a:lnTo>
                        <a:pt x="58" y="83"/>
                      </a:lnTo>
                      <a:lnTo>
                        <a:pt x="0" y="5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549920" y="2854440"/>
                  <a:ext cx="209160" cy="210600"/>
                </a:xfrm>
                <a:custGeom>
                  <a:avLst/>
                  <a:gdLst/>
                  <a:ahLst/>
                  <a:rect l="l" t="t" r="r" b="b"/>
                  <a:pathLst>
                    <a:path w="125" h="127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8"/>
                      </a:lnTo>
                      <a:lnTo>
                        <a:pt x="54" y="118"/>
                      </a:lnTo>
                      <a:lnTo>
                        <a:pt x="47" y="126"/>
                      </a:lnTo>
                      <a:lnTo>
                        <a:pt x="0" y="118"/>
                      </a:lnTo>
                      <a:lnTo>
                        <a:pt x="93" y="59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727400" y="2723040"/>
                  <a:ext cx="113760" cy="8928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15" y="0"/>
                      </a:moveTo>
                      <a:lnTo>
                        <a:pt x="67" y="38"/>
                      </a:lnTo>
                      <a:lnTo>
                        <a:pt x="30" y="53"/>
                      </a:lnTo>
                      <a:lnTo>
                        <a:pt x="15" y="45"/>
                      </a:lnTo>
                      <a:lnTo>
                        <a:pt x="0" y="4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117560" y="4241160"/>
                  <a:ext cx="931680" cy="761400"/>
                </a:xfrm>
                <a:custGeom>
                  <a:avLst/>
                  <a:gdLst/>
                  <a:ahLst/>
                  <a:rect l="l" t="t" r="r" b="b"/>
                  <a:pathLst>
                    <a:path w="556" h="459">
                      <a:moveTo>
                        <a:pt x="408" y="0"/>
                      </a:moveTo>
                      <a:lnTo>
                        <a:pt x="416" y="62"/>
                      </a:lnTo>
                      <a:lnTo>
                        <a:pt x="433" y="62"/>
                      </a:lnTo>
                      <a:lnTo>
                        <a:pt x="433" y="115"/>
                      </a:lnTo>
                      <a:lnTo>
                        <a:pt x="465" y="132"/>
                      </a:lnTo>
                      <a:lnTo>
                        <a:pt x="555" y="247"/>
                      </a:lnTo>
                      <a:lnTo>
                        <a:pt x="555" y="273"/>
                      </a:lnTo>
                      <a:lnTo>
                        <a:pt x="473" y="423"/>
                      </a:lnTo>
                      <a:lnTo>
                        <a:pt x="449" y="458"/>
                      </a:lnTo>
                      <a:lnTo>
                        <a:pt x="359" y="423"/>
                      </a:lnTo>
                      <a:lnTo>
                        <a:pt x="359" y="396"/>
                      </a:lnTo>
                      <a:lnTo>
                        <a:pt x="326" y="361"/>
                      </a:lnTo>
                      <a:lnTo>
                        <a:pt x="335" y="361"/>
                      </a:lnTo>
                      <a:lnTo>
                        <a:pt x="294" y="379"/>
                      </a:lnTo>
                      <a:lnTo>
                        <a:pt x="269" y="326"/>
                      </a:lnTo>
                      <a:lnTo>
                        <a:pt x="245" y="326"/>
                      </a:lnTo>
                      <a:lnTo>
                        <a:pt x="171" y="335"/>
                      </a:lnTo>
                      <a:lnTo>
                        <a:pt x="139" y="361"/>
                      </a:lnTo>
                      <a:lnTo>
                        <a:pt x="82" y="361"/>
                      </a:lnTo>
                      <a:lnTo>
                        <a:pt x="33" y="388"/>
                      </a:lnTo>
                      <a:lnTo>
                        <a:pt x="8" y="361"/>
                      </a:lnTo>
                      <a:lnTo>
                        <a:pt x="24" y="308"/>
                      </a:lnTo>
                      <a:lnTo>
                        <a:pt x="0" y="238"/>
                      </a:lnTo>
                      <a:lnTo>
                        <a:pt x="0" y="176"/>
                      </a:lnTo>
                      <a:lnTo>
                        <a:pt x="8" y="176"/>
                      </a:lnTo>
                      <a:lnTo>
                        <a:pt x="33" y="159"/>
                      </a:lnTo>
                      <a:lnTo>
                        <a:pt x="57" y="159"/>
                      </a:lnTo>
                      <a:lnTo>
                        <a:pt x="114" y="115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2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2"/>
                      </a:lnTo>
                      <a:lnTo>
                        <a:pt x="375" y="97"/>
                      </a:lnTo>
                      <a:lnTo>
                        <a:pt x="384" y="62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33360" y="4001040"/>
                  <a:ext cx="418680" cy="228600"/>
                </a:xfrm>
                <a:custGeom>
                  <a:avLst/>
                  <a:gdLst/>
                  <a:ahLst/>
                  <a:rect l="l" t="t" r="r" b="b"/>
                  <a:pathLst>
                    <a:path w="250" h="138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3" y="60"/>
                      </a:lnTo>
                      <a:lnTo>
                        <a:pt x="201" y="77"/>
                      </a:lnTo>
                      <a:lnTo>
                        <a:pt x="249" y="128"/>
                      </a:lnTo>
                      <a:lnTo>
                        <a:pt x="217" y="137"/>
                      </a:lnTo>
                      <a:lnTo>
                        <a:pt x="193" y="94"/>
                      </a:lnTo>
                      <a:lnTo>
                        <a:pt x="161" y="94"/>
                      </a:lnTo>
                      <a:lnTo>
                        <a:pt x="161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25720" y="5046120"/>
                  <a:ext cx="138960" cy="192240"/>
                </a:xfrm>
                <a:custGeom>
                  <a:avLst/>
                  <a:gdLst/>
                  <a:ahLst/>
                  <a:rect l="l" t="t" r="r" b="b"/>
                  <a:pathLst>
                    <a:path w="83" h="116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5"/>
                      </a:lnTo>
                      <a:lnTo>
                        <a:pt x="0" y="9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03560" y="4895280"/>
                  <a:ext cx="86760" cy="180360"/>
                </a:xfrm>
                <a:custGeom>
                  <a:avLst/>
                  <a:gdLst/>
                  <a:ahLst/>
                  <a:rect l="l" t="t" r="r" b="b"/>
                  <a:pathLst>
                    <a:path w="52" h="109">
                      <a:moveTo>
                        <a:pt x="0" y="0"/>
                      </a:moveTo>
                      <a:lnTo>
                        <a:pt x="29" y="42"/>
                      </a:lnTo>
                      <a:lnTo>
                        <a:pt x="51" y="58"/>
                      </a:lnTo>
                      <a:lnTo>
                        <a:pt x="29" y="108"/>
                      </a:lnTo>
                      <a:lnTo>
                        <a:pt x="7" y="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606560" y="2306880"/>
                  <a:ext cx="417240" cy="567360"/>
                </a:xfrm>
                <a:custGeom>
                  <a:avLst/>
                  <a:gdLst/>
                  <a:ahLst/>
                  <a:rect l="l" t="t" r="r" b="b"/>
                  <a:pathLst>
                    <a:path w="249" h="342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9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80"/>
                      </a:lnTo>
                      <a:lnTo>
                        <a:pt x="184" y="297"/>
                      </a:lnTo>
                      <a:lnTo>
                        <a:pt x="200" y="306"/>
                      </a:lnTo>
                      <a:lnTo>
                        <a:pt x="184" y="324"/>
                      </a:lnTo>
                      <a:lnTo>
                        <a:pt x="168" y="324"/>
                      </a:lnTo>
                      <a:lnTo>
                        <a:pt x="160" y="341"/>
                      </a:lnTo>
                      <a:lnTo>
                        <a:pt x="88" y="236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9"/>
                      </a:lnTo>
                      <a:lnTo>
                        <a:pt x="0" y="114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049800" y="2306880"/>
                  <a:ext cx="1431360" cy="104328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644520" y="3871440"/>
                  <a:ext cx="226440" cy="283680"/>
                </a:xfrm>
                <a:custGeom>
                  <a:avLst/>
                  <a:gdLst/>
                  <a:ahLst/>
                  <a:rect l="l" t="t" r="r" b="b"/>
                  <a:pathLst>
                    <a:path w="135" h="171">
                      <a:moveTo>
                        <a:pt x="0" y="0"/>
                      </a:moveTo>
                      <a:lnTo>
                        <a:pt x="63" y="43"/>
                      </a:lnTo>
                      <a:lnTo>
                        <a:pt x="134" y="136"/>
                      </a:lnTo>
                      <a:lnTo>
                        <a:pt x="134" y="170"/>
                      </a:lnTo>
                      <a:lnTo>
                        <a:pt x="79" y="1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22120" y="1339920"/>
              <a:ext cx="8506080" cy="4524120"/>
              <a:chOff x="222120" y="1339920"/>
              <a:chExt cx="8506080" cy="45241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22120" y="1339920"/>
                <a:ext cx="3610080" cy="4524120"/>
                <a:chOff x="222120" y="1339920"/>
                <a:chExt cx="3610080" cy="45241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439360" y="1339920"/>
                  <a:ext cx="1392840" cy="1146240"/>
                </a:xfrm>
                <a:custGeom>
                  <a:avLst/>
                  <a:gdLst/>
                  <a:ahLst/>
                  <a:rect l="l" t="t" r="r" b="b"/>
                  <a:pathLst>
                    <a:path w="831" h="691">
                      <a:moveTo>
                        <a:pt x="501" y="0"/>
                      </a:moveTo>
                      <a:lnTo>
                        <a:pt x="657" y="27"/>
                      </a:lnTo>
                      <a:lnTo>
                        <a:pt x="649" y="35"/>
                      </a:lnTo>
                      <a:lnTo>
                        <a:pt x="682" y="35"/>
                      </a:lnTo>
                      <a:lnTo>
                        <a:pt x="707" y="35"/>
                      </a:lnTo>
                      <a:lnTo>
                        <a:pt x="723" y="53"/>
                      </a:lnTo>
                      <a:lnTo>
                        <a:pt x="699" y="80"/>
                      </a:lnTo>
                      <a:lnTo>
                        <a:pt x="616" y="53"/>
                      </a:lnTo>
                      <a:lnTo>
                        <a:pt x="583" y="88"/>
                      </a:lnTo>
                      <a:lnTo>
                        <a:pt x="657" y="88"/>
                      </a:lnTo>
                      <a:lnTo>
                        <a:pt x="690" y="88"/>
                      </a:lnTo>
                      <a:lnTo>
                        <a:pt x="682" y="115"/>
                      </a:lnTo>
                      <a:lnTo>
                        <a:pt x="731" y="88"/>
                      </a:lnTo>
                      <a:lnTo>
                        <a:pt x="764" y="88"/>
                      </a:lnTo>
                      <a:lnTo>
                        <a:pt x="830" y="88"/>
                      </a:lnTo>
                      <a:lnTo>
                        <a:pt x="756" y="150"/>
                      </a:lnTo>
                      <a:lnTo>
                        <a:pt x="731" y="150"/>
                      </a:lnTo>
                      <a:lnTo>
                        <a:pt x="756" y="177"/>
                      </a:lnTo>
                      <a:lnTo>
                        <a:pt x="731" y="203"/>
                      </a:lnTo>
                      <a:lnTo>
                        <a:pt x="731" y="239"/>
                      </a:lnTo>
                      <a:lnTo>
                        <a:pt x="756" y="248"/>
                      </a:lnTo>
                      <a:lnTo>
                        <a:pt x="723" y="265"/>
                      </a:lnTo>
                      <a:lnTo>
                        <a:pt x="707" y="336"/>
                      </a:lnTo>
                      <a:lnTo>
                        <a:pt x="731" y="336"/>
                      </a:lnTo>
                      <a:lnTo>
                        <a:pt x="690" y="354"/>
                      </a:lnTo>
                      <a:lnTo>
                        <a:pt x="674" y="336"/>
                      </a:lnTo>
                      <a:lnTo>
                        <a:pt x="657" y="363"/>
                      </a:lnTo>
                      <a:lnTo>
                        <a:pt x="707" y="416"/>
                      </a:lnTo>
                      <a:lnTo>
                        <a:pt x="699" y="433"/>
                      </a:lnTo>
                      <a:lnTo>
                        <a:pt x="674" y="416"/>
                      </a:lnTo>
                      <a:lnTo>
                        <a:pt x="625" y="389"/>
                      </a:lnTo>
                      <a:lnTo>
                        <a:pt x="625" y="416"/>
                      </a:lnTo>
                      <a:lnTo>
                        <a:pt x="625" y="433"/>
                      </a:lnTo>
                      <a:lnTo>
                        <a:pt x="641" y="451"/>
                      </a:lnTo>
                      <a:lnTo>
                        <a:pt x="682" y="451"/>
                      </a:lnTo>
                      <a:lnTo>
                        <a:pt x="674" y="469"/>
                      </a:lnTo>
                      <a:lnTo>
                        <a:pt x="559" y="513"/>
                      </a:lnTo>
                      <a:lnTo>
                        <a:pt x="444" y="602"/>
                      </a:lnTo>
                      <a:lnTo>
                        <a:pt x="386" y="690"/>
                      </a:lnTo>
                      <a:lnTo>
                        <a:pt x="320" y="655"/>
                      </a:lnTo>
                      <a:lnTo>
                        <a:pt x="271" y="522"/>
                      </a:lnTo>
                      <a:lnTo>
                        <a:pt x="304" y="469"/>
                      </a:lnTo>
                      <a:lnTo>
                        <a:pt x="288" y="451"/>
                      </a:lnTo>
                      <a:lnTo>
                        <a:pt x="263" y="433"/>
                      </a:lnTo>
                      <a:lnTo>
                        <a:pt x="288" y="433"/>
                      </a:lnTo>
                      <a:lnTo>
                        <a:pt x="263" y="416"/>
                      </a:lnTo>
                      <a:lnTo>
                        <a:pt x="255" y="416"/>
                      </a:lnTo>
                      <a:lnTo>
                        <a:pt x="255" y="389"/>
                      </a:lnTo>
                      <a:lnTo>
                        <a:pt x="263" y="363"/>
                      </a:lnTo>
                      <a:lnTo>
                        <a:pt x="222" y="336"/>
                      </a:lnTo>
                      <a:lnTo>
                        <a:pt x="222" y="301"/>
                      </a:lnTo>
                      <a:lnTo>
                        <a:pt x="181" y="265"/>
                      </a:lnTo>
                      <a:lnTo>
                        <a:pt x="115" y="265"/>
                      </a:lnTo>
                      <a:lnTo>
                        <a:pt x="99" y="292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3"/>
                      </a:lnTo>
                      <a:lnTo>
                        <a:pt x="255" y="53"/>
                      </a:lnTo>
                      <a:lnTo>
                        <a:pt x="271" y="88"/>
                      </a:lnTo>
                      <a:lnTo>
                        <a:pt x="312" y="62"/>
                      </a:lnTo>
                      <a:lnTo>
                        <a:pt x="312" y="53"/>
                      </a:lnTo>
                      <a:lnTo>
                        <a:pt x="353" y="80"/>
                      </a:lnTo>
                      <a:lnTo>
                        <a:pt x="370" y="88"/>
                      </a:lnTo>
                      <a:lnTo>
                        <a:pt x="386" y="88"/>
                      </a:lnTo>
                      <a:lnTo>
                        <a:pt x="378" y="53"/>
                      </a:lnTo>
                      <a:lnTo>
                        <a:pt x="386" y="44"/>
                      </a:lnTo>
                      <a:lnTo>
                        <a:pt x="394" y="27"/>
                      </a:lnTo>
                      <a:lnTo>
                        <a:pt x="485" y="9"/>
                      </a:lnTo>
                      <a:lnTo>
                        <a:pt x="5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5360" y="1399320"/>
                  <a:ext cx="665280" cy="37332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97720" y="1948680"/>
                  <a:ext cx="636840" cy="522360"/>
                </a:xfrm>
                <a:custGeom>
                  <a:avLst/>
                  <a:gdLst/>
                  <a:ahLst/>
                  <a:rect l="l" t="t" r="r" b="b"/>
                  <a:pathLst>
                    <a:path w="380" h="315">
                      <a:moveTo>
                        <a:pt x="40" y="0"/>
                      </a:moveTo>
                      <a:lnTo>
                        <a:pt x="56" y="17"/>
                      </a:lnTo>
                      <a:lnTo>
                        <a:pt x="56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5" y="17"/>
                      </a:lnTo>
                      <a:lnTo>
                        <a:pt x="105" y="52"/>
                      </a:lnTo>
                      <a:lnTo>
                        <a:pt x="177" y="35"/>
                      </a:lnTo>
                      <a:lnTo>
                        <a:pt x="258" y="70"/>
                      </a:lnTo>
                      <a:lnTo>
                        <a:pt x="298" y="113"/>
                      </a:lnTo>
                      <a:lnTo>
                        <a:pt x="298" y="148"/>
                      </a:lnTo>
                      <a:lnTo>
                        <a:pt x="355" y="192"/>
                      </a:lnTo>
                      <a:lnTo>
                        <a:pt x="379" y="183"/>
                      </a:lnTo>
                      <a:lnTo>
                        <a:pt x="371" y="209"/>
                      </a:lnTo>
                      <a:lnTo>
                        <a:pt x="347" y="227"/>
                      </a:lnTo>
                      <a:lnTo>
                        <a:pt x="314" y="192"/>
                      </a:lnTo>
                      <a:lnTo>
                        <a:pt x="298" y="209"/>
                      </a:lnTo>
                      <a:lnTo>
                        <a:pt x="347" y="288"/>
                      </a:lnTo>
                      <a:lnTo>
                        <a:pt x="298" y="279"/>
                      </a:lnTo>
                      <a:lnTo>
                        <a:pt x="314" y="314"/>
                      </a:lnTo>
                      <a:lnTo>
                        <a:pt x="258" y="270"/>
                      </a:lnTo>
                      <a:lnTo>
                        <a:pt x="202" y="244"/>
                      </a:lnTo>
                      <a:lnTo>
                        <a:pt x="161" y="244"/>
                      </a:lnTo>
                      <a:lnTo>
                        <a:pt x="161" y="209"/>
                      </a:lnTo>
                      <a:lnTo>
                        <a:pt x="210" y="209"/>
                      </a:lnTo>
                      <a:lnTo>
                        <a:pt x="210" y="113"/>
                      </a:lnTo>
                      <a:lnTo>
                        <a:pt x="137" y="105"/>
                      </a:lnTo>
                      <a:lnTo>
                        <a:pt x="105" y="105"/>
                      </a:lnTo>
                      <a:lnTo>
                        <a:pt x="40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400040" y="2009880"/>
                  <a:ext cx="405720" cy="192600"/>
                </a:xfrm>
                <a:custGeom>
                  <a:avLst/>
                  <a:gdLst/>
                  <a:ahLst/>
                  <a:rect l="l" t="t" r="r" b="b"/>
                  <a:pathLst>
                    <a:path w="242" h="116">
                      <a:moveTo>
                        <a:pt x="64" y="0"/>
                      </a:moveTo>
                      <a:lnTo>
                        <a:pt x="80" y="16"/>
                      </a:lnTo>
                      <a:lnTo>
                        <a:pt x="80" y="33"/>
                      </a:lnTo>
                      <a:lnTo>
                        <a:pt x="104" y="16"/>
                      </a:lnTo>
                      <a:lnTo>
                        <a:pt x="112" y="25"/>
                      </a:lnTo>
                      <a:lnTo>
                        <a:pt x="129" y="16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49"/>
                      </a:lnTo>
                      <a:lnTo>
                        <a:pt x="217" y="66"/>
                      </a:lnTo>
                      <a:lnTo>
                        <a:pt x="241" y="82"/>
                      </a:lnTo>
                      <a:lnTo>
                        <a:pt x="217" y="99"/>
                      </a:lnTo>
                      <a:lnTo>
                        <a:pt x="217" y="107"/>
                      </a:lnTo>
                      <a:lnTo>
                        <a:pt x="185" y="107"/>
                      </a:lnTo>
                      <a:lnTo>
                        <a:pt x="153" y="107"/>
                      </a:lnTo>
                      <a:lnTo>
                        <a:pt x="80" y="115"/>
                      </a:lnTo>
                      <a:lnTo>
                        <a:pt x="64" y="107"/>
                      </a:lnTo>
                      <a:lnTo>
                        <a:pt x="32" y="107"/>
                      </a:lnTo>
                      <a:lnTo>
                        <a:pt x="32" y="82"/>
                      </a:lnTo>
                      <a:lnTo>
                        <a:pt x="104" y="66"/>
                      </a:lnTo>
                      <a:lnTo>
                        <a:pt x="32" y="49"/>
                      </a:lnTo>
                      <a:lnTo>
                        <a:pt x="0" y="49"/>
                      </a:lnTo>
                      <a:lnTo>
                        <a:pt x="24" y="16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58960" y="2068200"/>
                  <a:ext cx="2000880" cy="1061640"/>
                </a:xfrm>
                <a:custGeom>
                  <a:avLst/>
                  <a:gdLst/>
                  <a:ahLst/>
                  <a:rect l="l" t="t" r="r" b="b"/>
                  <a:pathLst>
                    <a:path w="1194" h="640">
                      <a:moveTo>
                        <a:pt x="642" y="0"/>
                      </a:moveTo>
                      <a:lnTo>
                        <a:pt x="675" y="36"/>
                      </a:lnTo>
                      <a:lnTo>
                        <a:pt x="675" y="71"/>
                      </a:lnTo>
                      <a:lnTo>
                        <a:pt x="708" y="80"/>
                      </a:lnTo>
                      <a:lnTo>
                        <a:pt x="724" y="89"/>
                      </a:lnTo>
                      <a:lnTo>
                        <a:pt x="732" y="71"/>
                      </a:lnTo>
                      <a:lnTo>
                        <a:pt x="757" y="115"/>
                      </a:lnTo>
                      <a:lnTo>
                        <a:pt x="823" y="71"/>
                      </a:lnTo>
                      <a:lnTo>
                        <a:pt x="839" y="80"/>
                      </a:lnTo>
                      <a:lnTo>
                        <a:pt x="815" y="107"/>
                      </a:lnTo>
                      <a:lnTo>
                        <a:pt x="839" y="115"/>
                      </a:lnTo>
                      <a:lnTo>
                        <a:pt x="815" y="142"/>
                      </a:lnTo>
                      <a:lnTo>
                        <a:pt x="732" y="169"/>
                      </a:lnTo>
                      <a:lnTo>
                        <a:pt x="749" y="178"/>
                      </a:lnTo>
                      <a:lnTo>
                        <a:pt x="740" y="204"/>
                      </a:lnTo>
                      <a:lnTo>
                        <a:pt x="708" y="204"/>
                      </a:lnTo>
                      <a:lnTo>
                        <a:pt x="675" y="222"/>
                      </a:lnTo>
                      <a:lnTo>
                        <a:pt x="650" y="320"/>
                      </a:lnTo>
                      <a:lnTo>
                        <a:pt x="675" y="337"/>
                      </a:lnTo>
                      <a:lnTo>
                        <a:pt x="675" y="355"/>
                      </a:lnTo>
                      <a:lnTo>
                        <a:pt x="823" y="417"/>
                      </a:lnTo>
                      <a:lnTo>
                        <a:pt x="823" y="435"/>
                      </a:lnTo>
                      <a:lnTo>
                        <a:pt x="839" y="470"/>
                      </a:lnTo>
                      <a:lnTo>
                        <a:pt x="864" y="470"/>
                      </a:lnTo>
                      <a:lnTo>
                        <a:pt x="864" y="408"/>
                      </a:lnTo>
                      <a:lnTo>
                        <a:pt x="889" y="391"/>
                      </a:lnTo>
                      <a:lnTo>
                        <a:pt x="889" y="355"/>
                      </a:lnTo>
                      <a:lnTo>
                        <a:pt x="864" y="266"/>
                      </a:lnTo>
                      <a:lnTo>
                        <a:pt x="889" y="249"/>
                      </a:lnTo>
                      <a:lnTo>
                        <a:pt x="921" y="249"/>
                      </a:lnTo>
                      <a:lnTo>
                        <a:pt x="1004" y="293"/>
                      </a:lnTo>
                      <a:lnTo>
                        <a:pt x="1004" y="320"/>
                      </a:lnTo>
                      <a:lnTo>
                        <a:pt x="1037" y="320"/>
                      </a:lnTo>
                      <a:lnTo>
                        <a:pt x="1061" y="293"/>
                      </a:lnTo>
                      <a:lnTo>
                        <a:pt x="1144" y="408"/>
                      </a:lnTo>
                      <a:lnTo>
                        <a:pt x="1193" y="470"/>
                      </a:lnTo>
                      <a:lnTo>
                        <a:pt x="1168" y="479"/>
                      </a:lnTo>
                      <a:lnTo>
                        <a:pt x="1144" y="479"/>
                      </a:lnTo>
                      <a:lnTo>
                        <a:pt x="1127" y="506"/>
                      </a:lnTo>
                      <a:lnTo>
                        <a:pt x="1053" y="506"/>
                      </a:lnTo>
                      <a:lnTo>
                        <a:pt x="1028" y="524"/>
                      </a:lnTo>
                      <a:lnTo>
                        <a:pt x="1061" y="533"/>
                      </a:lnTo>
                      <a:lnTo>
                        <a:pt x="1078" y="568"/>
                      </a:lnTo>
                      <a:lnTo>
                        <a:pt x="1086" y="595"/>
                      </a:lnTo>
                      <a:lnTo>
                        <a:pt x="1028" y="595"/>
                      </a:lnTo>
                      <a:lnTo>
                        <a:pt x="1004" y="559"/>
                      </a:lnTo>
                      <a:lnTo>
                        <a:pt x="979" y="586"/>
                      </a:lnTo>
                      <a:lnTo>
                        <a:pt x="954" y="604"/>
                      </a:lnTo>
                      <a:lnTo>
                        <a:pt x="921" y="604"/>
                      </a:lnTo>
                      <a:lnTo>
                        <a:pt x="823" y="639"/>
                      </a:lnTo>
                      <a:lnTo>
                        <a:pt x="839" y="595"/>
                      </a:lnTo>
                      <a:lnTo>
                        <a:pt x="806" y="568"/>
                      </a:lnTo>
                      <a:lnTo>
                        <a:pt x="757" y="568"/>
                      </a:lnTo>
                      <a:lnTo>
                        <a:pt x="740" y="586"/>
                      </a:lnTo>
                      <a:lnTo>
                        <a:pt x="609" y="568"/>
                      </a:lnTo>
                      <a:lnTo>
                        <a:pt x="255" y="550"/>
                      </a:lnTo>
                      <a:lnTo>
                        <a:pt x="239" y="524"/>
                      </a:lnTo>
                      <a:lnTo>
                        <a:pt x="181" y="497"/>
                      </a:lnTo>
                      <a:lnTo>
                        <a:pt x="148" y="426"/>
                      </a:lnTo>
                      <a:lnTo>
                        <a:pt x="140" y="426"/>
                      </a:lnTo>
                      <a:lnTo>
                        <a:pt x="140" y="391"/>
                      </a:lnTo>
                      <a:lnTo>
                        <a:pt x="115" y="391"/>
                      </a:lnTo>
                      <a:lnTo>
                        <a:pt x="99" y="373"/>
                      </a:lnTo>
                      <a:lnTo>
                        <a:pt x="82" y="355"/>
                      </a:lnTo>
                      <a:lnTo>
                        <a:pt x="82" y="346"/>
                      </a:lnTo>
                      <a:lnTo>
                        <a:pt x="58" y="346"/>
                      </a:lnTo>
                      <a:lnTo>
                        <a:pt x="33" y="337"/>
                      </a:lnTo>
                      <a:lnTo>
                        <a:pt x="33" y="320"/>
                      </a:lnTo>
                      <a:lnTo>
                        <a:pt x="8" y="320"/>
                      </a:lnTo>
                      <a:lnTo>
                        <a:pt x="0" y="320"/>
                      </a:lnTo>
                      <a:lnTo>
                        <a:pt x="0" y="71"/>
                      </a:lnTo>
                      <a:lnTo>
                        <a:pt x="82" y="89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6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3" y="115"/>
                      </a:lnTo>
                      <a:lnTo>
                        <a:pt x="453" y="124"/>
                      </a:lnTo>
                      <a:lnTo>
                        <a:pt x="453" y="142"/>
                      </a:lnTo>
                      <a:lnTo>
                        <a:pt x="477" y="115"/>
                      </a:lnTo>
                      <a:lnTo>
                        <a:pt x="453" y="115"/>
                      </a:lnTo>
                      <a:lnTo>
                        <a:pt x="551" y="115"/>
                      </a:lnTo>
                      <a:lnTo>
                        <a:pt x="617" y="115"/>
                      </a:lnTo>
                      <a:lnTo>
                        <a:pt x="642" y="107"/>
                      </a:lnTo>
                      <a:lnTo>
                        <a:pt x="642" y="115"/>
                      </a:lnTo>
                      <a:lnTo>
                        <a:pt x="666" y="89"/>
                      </a:lnTo>
                      <a:lnTo>
                        <a:pt x="642" y="44"/>
                      </a:lnTo>
                      <a:lnTo>
                        <a:pt x="642" y="71"/>
                      </a:lnTo>
                      <a:lnTo>
                        <a:pt x="617" y="36"/>
                      </a:lnTo>
                      <a:lnTo>
                        <a:pt x="64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22120" y="2127600"/>
                  <a:ext cx="628560" cy="610560"/>
                </a:xfrm>
                <a:custGeom>
                  <a:avLst/>
                  <a:gdLst/>
                  <a:ahLst/>
                  <a:rect l="l" t="t" r="r" b="b"/>
                  <a:pathLst>
                    <a:path w="375" h="368">
                      <a:moveTo>
                        <a:pt x="154" y="0"/>
                      </a:moveTo>
                      <a:lnTo>
                        <a:pt x="374" y="35"/>
                      </a:lnTo>
                      <a:lnTo>
                        <a:pt x="374" y="280"/>
                      </a:lnTo>
                      <a:lnTo>
                        <a:pt x="333" y="280"/>
                      </a:lnTo>
                      <a:lnTo>
                        <a:pt x="268" y="262"/>
                      </a:lnTo>
                      <a:lnTo>
                        <a:pt x="268" y="280"/>
                      </a:lnTo>
                      <a:lnTo>
                        <a:pt x="228" y="280"/>
                      </a:lnTo>
                      <a:lnTo>
                        <a:pt x="228" y="262"/>
                      </a:lnTo>
                      <a:lnTo>
                        <a:pt x="195" y="297"/>
                      </a:lnTo>
                      <a:lnTo>
                        <a:pt x="195" y="306"/>
                      </a:lnTo>
                      <a:lnTo>
                        <a:pt x="171" y="332"/>
                      </a:lnTo>
                      <a:lnTo>
                        <a:pt x="89" y="367"/>
                      </a:lnTo>
                      <a:lnTo>
                        <a:pt x="146" y="315"/>
                      </a:lnTo>
                      <a:lnTo>
                        <a:pt x="89" y="306"/>
                      </a:lnTo>
                      <a:lnTo>
                        <a:pt x="73" y="306"/>
                      </a:lnTo>
                      <a:lnTo>
                        <a:pt x="81" y="280"/>
                      </a:lnTo>
                      <a:lnTo>
                        <a:pt x="49" y="280"/>
                      </a:lnTo>
                      <a:lnTo>
                        <a:pt x="33" y="253"/>
                      </a:lnTo>
                      <a:lnTo>
                        <a:pt x="33" y="227"/>
                      </a:lnTo>
                      <a:lnTo>
                        <a:pt x="89" y="175"/>
                      </a:lnTo>
                      <a:lnTo>
                        <a:pt x="33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9" y="105"/>
                      </a:lnTo>
                      <a:lnTo>
                        <a:pt x="33" y="79"/>
                      </a:lnTo>
                      <a:lnTo>
                        <a:pt x="8" y="79"/>
                      </a:lnTo>
                      <a:lnTo>
                        <a:pt x="24" y="52"/>
                      </a:lnTo>
                      <a:lnTo>
                        <a:pt x="49" y="52"/>
                      </a:lnTo>
                      <a:lnTo>
                        <a:pt x="106" y="9"/>
                      </a:lnTo>
                      <a:lnTo>
                        <a:pt x="146" y="9"/>
                      </a:lnTo>
                      <a:lnTo>
                        <a:pt x="154" y="0"/>
                      </a:lnTo>
                      <a:lnTo>
                        <a:pt x="146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591000" y="2260440"/>
                  <a:ext cx="241200" cy="89280"/>
                </a:xfrm>
                <a:custGeom>
                  <a:avLst/>
                  <a:gdLst/>
                  <a:ahLst/>
                  <a:rect l="l" t="t" r="r" b="b"/>
                  <a:pathLst>
                    <a:path w="144" h="54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103" y="0"/>
                      </a:lnTo>
                      <a:lnTo>
                        <a:pt x="143" y="23"/>
                      </a:lnTo>
                      <a:lnTo>
                        <a:pt x="48" y="53"/>
                      </a:lnTo>
                      <a:lnTo>
                        <a:pt x="40" y="45"/>
                      </a:lnTo>
                      <a:lnTo>
                        <a:pt x="8" y="45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247760" y="2768040"/>
                  <a:ext cx="1333800" cy="892800"/>
                </a:xfrm>
                <a:custGeom>
                  <a:avLst/>
                  <a:gdLst/>
                  <a:ahLst/>
                  <a:rect l="l" t="t" r="r" b="b"/>
                  <a:pathLst>
                    <a:path w="796" h="538">
                      <a:moveTo>
                        <a:pt x="25" y="132"/>
                      </a:moveTo>
                      <a:lnTo>
                        <a:pt x="98" y="0"/>
                      </a:lnTo>
                      <a:lnTo>
                        <a:pt x="385" y="26"/>
                      </a:lnTo>
                      <a:lnTo>
                        <a:pt x="508" y="167"/>
                      </a:lnTo>
                      <a:lnTo>
                        <a:pt x="508" y="220"/>
                      </a:lnTo>
                      <a:lnTo>
                        <a:pt x="508" y="264"/>
                      </a:lnTo>
                      <a:lnTo>
                        <a:pt x="541" y="202"/>
                      </a:lnTo>
                      <a:lnTo>
                        <a:pt x="574" y="202"/>
                      </a:lnTo>
                      <a:lnTo>
                        <a:pt x="574" y="220"/>
                      </a:lnTo>
                      <a:lnTo>
                        <a:pt x="582" y="220"/>
                      </a:lnTo>
                      <a:lnTo>
                        <a:pt x="574" y="264"/>
                      </a:lnTo>
                      <a:lnTo>
                        <a:pt x="606" y="264"/>
                      </a:lnTo>
                      <a:lnTo>
                        <a:pt x="623" y="238"/>
                      </a:lnTo>
                      <a:lnTo>
                        <a:pt x="738" y="185"/>
                      </a:lnTo>
                      <a:lnTo>
                        <a:pt x="770" y="150"/>
                      </a:lnTo>
                      <a:lnTo>
                        <a:pt x="795" y="202"/>
                      </a:lnTo>
                      <a:lnTo>
                        <a:pt x="770" y="220"/>
                      </a:lnTo>
                      <a:lnTo>
                        <a:pt x="738" y="238"/>
                      </a:lnTo>
                      <a:lnTo>
                        <a:pt x="746" y="264"/>
                      </a:lnTo>
                      <a:lnTo>
                        <a:pt x="705" y="273"/>
                      </a:lnTo>
                      <a:lnTo>
                        <a:pt x="697" y="291"/>
                      </a:lnTo>
                      <a:lnTo>
                        <a:pt x="656" y="396"/>
                      </a:lnTo>
                      <a:lnTo>
                        <a:pt x="606" y="414"/>
                      </a:lnTo>
                      <a:lnTo>
                        <a:pt x="606" y="511"/>
                      </a:lnTo>
                      <a:lnTo>
                        <a:pt x="606" y="537"/>
                      </a:lnTo>
                      <a:lnTo>
                        <a:pt x="582" y="511"/>
                      </a:lnTo>
                      <a:lnTo>
                        <a:pt x="582" y="475"/>
                      </a:lnTo>
                      <a:lnTo>
                        <a:pt x="508" y="449"/>
                      </a:lnTo>
                      <a:lnTo>
                        <a:pt x="393" y="502"/>
                      </a:lnTo>
                      <a:lnTo>
                        <a:pt x="377" y="511"/>
                      </a:lnTo>
                      <a:lnTo>
                        <a:pt x="361" y="528"/>
                      </a:lnTo>
                      <a:lnTo>
                        <a:pt x="336" y="511"/>
                      </a:lnTo>
                      <a:lnTo>
                        <a:pt x="311" y="475"/>
                      </a:lnTo>
                      <a:lnTo>
                        <a:pt x="303" y="502"/>
                      </a:lnTo>
                      <a:lnTo>
                        <a:pt x="254" y="449"/>
                      </a:lnTo>
                      <a:lnTo>
                        <a:pt x="221" y="449"/>
                      </a:lnTo>
                      <a:lnTo>
                        <a:pt x="172" y="449"/>
                      </a:lnTo>
                      <a:lnTo>
                        <a:pt x="156" y="431"/>
                      </a:lnTo>
                      <a:lnTo>
                        <a:pt x="107" y="431"/>
                      </a:lnTo>
                      <a:lnTo>
                        <a:pt x="8" y="317"/>
                      </a:lnTo>
                      <a:lnTo>
                        <a:pt x="0" y="220"/>
                      </a:lnTo>
                      <a:lnTo>
                        <a:pt x="0" y="167"/>
                      </a:lnTo>
                      <a:lnTo>
                        <a:pt x="0" y="141"/>
                      </a:lnTo>
                      <a:lnTo>
                        <a:pt x="25" y="150"/>
                      </a:lnTo>
                      <a:lnTo>
                        <a:pt x="25" y="132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400040" y="3407040"/>
                  <a:ext cx="698760" cy="569160"/>
                </a:xfrm>
                <a:custGeom>
                  <a:avLst/>
                  <a:gdLst/>
                  <a:ahLst/>
                  <a:rect l="l" t="t" r="r" b="b"/>
                  <a:pathLst>
                    <a:path w="417" h="343">
                      <a:moveTo>
                        <a:pt x="0" y="53"/>
                      </a:moveTo>
                      <a:lnTo>
                        <a:pt x="65" y="53"/>
                      </a:lnTo>
                      <a:lnTo>
                        <a:pt x="131" y="0"/>
                      </a:lnTo>
                      <a:lnTo>
                        <a:pt x="171" y="9"/>
                      </a:lnTo>
                      <a:lnTo>
                        <a:pt x="212" y="18"/>
                      </a:lnTo>
                      <a:lnTo>
                        <a:pt x="212" y="79"/>
                      </a:lnTo>
                      <a:lnTo>
                        <a:pt x="261" y="140"/>
                      </a:lnTo>
                      <a:lnTo>
                        <a:pt x="269" y="219"/>
                      </a:lnTo>
                      <a:lnTo>
                        <a:pt x="318" y="263"/>
                      </a:lnTo>
                      <a:lnTo>
                        <a:pt x="351" y="263"/>
                      </a:lnTo>
                      <a:lnTo>
                        <a:pt x="408" y="237"/>
                      </a:lnTo>
                      <a:lnTo>
                        <a:pt x="416" y="263"/>
                      </a:lnTo>
                      <a:lnTo>
                        <a:pt x="367" y="298"/>
                      </a:lnTo>
                      <a:lnTo>
                        <a:pt x="367" y="342"/>
                      </a:lnTo>
                      <a:lnTo>
                        <a:pt x="188" y="263"/>
                      </a:lnTo>
                      <a:lnTo>
                        <a:pt x="163" y="237"/>
                      </a:lnTo>
                      <a:lnTo>
                        <a:pt x="179" y="237"/>
                      </a:lnTo>
                      <a:lnTo>
                        <a:pt x="131" y="184"/>
                      </a:lnTo>
                      <a:lnTo>
                        <a:pt x="41" y="61"/>
                      </a:lnTo>
                      <a:lnTo>
                        <a:pt x="82" y="149"/>
                      </a:lnTo>
                      <a:lnTo>
                        <a:pt x="106" y="184"/>
                      </a:lnTo>
                      <a:lnTo>
                        <a:pt x="98" y="193"/>
                      </a:lnTo>
                      <a:lnTo>
                        <a:pt x="33" y="123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273760" y="3808440"/>
                  <a:ext cx="210600" cy="11952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996920" y="3901320"/>
                  <a:ext cx="363600" cy="238680"/>
                </a:xfrm>
                <a:custGeom>
                  <a:avLst/>
                  <a:gdLst/>
                  <a:ahLst/>
                  <a:rect l="l" t="t" r="r" b="b"/>
                  <a:pathLst>
                    <a:path w="217" h="144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2" y="42"/>
                      </a:lnTo>
                      <a:lnTo>
                        <a:pt x="112" y="109"/>
                      </a:lnTo>
                      <a:lnTo>
                        <a:pt x="184" y="126"/>
                      </a:lnTo>
                      <a:lnTo>
                        <a:pt x="216" y="143"/>
                      </a:lnTo>
                      <a:lnTo>
                        <a:pt x="176" y="143"/>
                      </a:lnTo>
                      <a:lnTo>
                        <a:pt x="64" y="101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234880" y="4016160"/>
                  <a:ext cx="1084320" cy="1847880"/>
                </a:xfrm>
                <a:custGeom>
                  <a:avLst/>
                  <a:gdLst/>
                  <a:ahLst/>
                  <a:rect l="l" t="t" r="r" b="b"/>
                  <a:pathLst>
                    <a:path w="647" h="1114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5"/>
                      </a:lnTo>
                      <a:lnTo>
                        <a:pt x="155" y="9"/>
                      </a:lnTo>
                      <a:lnTo>
                        <a:pt x="188" y="9"/>
                      </a:lnTo>
                      <a:lnTo>
                        <a:pt x="196" y="45"/>
                      </a:lnTo>
                      <a:lnTo>
                        <a:pt x="270" y="36"/>
                      </a:lnTo>
                      <a:lnTo>
                        <a:pt x="270" y="45"/>
                      </a:lnTo>
                      <a:lnTo>
                        <a:pt x="319" y="80"/>
                      </a:lnTo>
                      <a:lnTo>
                        <a:pt x="327" y="89"/>
                      </a:lnTo>
                      <a:lnTo>
                        <a:pt x="409" y="116"/>
                      </a:lnTo>
                      <a:lnTo>
                        <a:pt x="425" y="134"/>
                      </a:lnTo>
                      <a:lnTo>
                        <a:pt x="425" y="151"/>
                      </a:lnTo>
                      <a:lnTo>
                        <a:pt x="433" y="178"/>
                      </a:lnTo>
                      <a:lnTo>
                        <a:pt x="442" y="187"/>
                      </a:lnTo>
                      <a:lnTo>
                        <a:pt x="646" y="276"/>
                      </a:lnTo>
                      <a:lnTo>
                        <a:pt x="646" y="294"/>
                      </a:lnTo>
                      <a:lnTo>
                        <a:pt x="581" y="436"/>
                      </a:lnTo>
                      <a:lnTo>
                        <a:pt x="581" y="463"/>
                      </a:lnTo>
                      <a:lnTo>
                        <a:pt x="540" y="543"/>
                      </a:lnTo>
                      <a:lnTo>
                        <a:pt x="442" y="579"/>
                      </a:lnTo>
                      <a:lnTo>
                        <a:pt x="442" y="614"/>
                      </a:lnTo>
                      <a:lnTo>
                        <a:pt x="384" y="739"/>
                      </a:lnTo>
                      <a:lnTo>
                        <a:pt x="352" y="739"/>
                      </a:lnTo>
                      <a:lnTo>
                        <a:pt x="327" y="730"/>
                      </a:lnTo>
                      <a:lnTo>
                        <a:pt x="352" y="757"/>
                      </a:lnTo>
                      <a:lnTo>
                        <a:pt x="327" y="801"/>
                      </a:lnTo>
                      <a:lnTo>
                        <a:pt x="270" y="819"/>
                      </a:lnTo>
                      <a:lnTo>
                        <a:pt x="262" y="855"/>
                      </a:lnTo>
                      <a:lnTo>
                        <a:pt x="237" y="855"/>
                      </a:lnTo>
                      <a:lnTo>
                        <a:pt x="245" y="881"/>
                      </a:lnTo>
                      <a:lnTo>
                        <a:pt x="221" y="899"/>
                      </a:lnTo>
                      <a:lnTo>
                        <a:pt x="213" y="953"/>
                      </a:lnTo>
                      <a:lnTo>
                        <a:pt x="221" y="979"/>
                      </a:lnTo>
                      <a:lnTo>
                        <a:pt x="188" y="1033"/>
                      </a:lnTo>
                      <a:lnTo>
                        <a:pt x="180" y="1068"/>
                      </a:lnTo>
                      <a:lnTo>
                        <a:pt x="221" y="1113"/>
                      </a:lnTo>
                      <a:lnTo>
                        <a:pt x="155" y="1113"/>
                      </a:lnTo>
                      <a:lnTo>
                        <a:pt x="155" y="1086"/>
                      </a:lnTo>
                      <a:lnTo>
                        <a:pt x="123" y="1086"/>
                      </a:lnTo>
                      <a:lnTo>
                        <a:pt x="106" y="953"/>
                      </a:lnTo>
                      <a:lnTo>
                        <a:pt x="123" y="935"/>
                      </a:lnTo>
                      <a:lnTo>
                        <a:pt x="123" y="890"/>
                      </a:lnTo>
                      <a:lnTo>
                        <a:pt x="123" y="784"/>
                      </a:lnTo>
                      <a:lnTo>
                        <a:pt x="139" y="650"/>
                      </a:lnTo>
                      <a:lnTo>
                        <a:pt x="155" y="481"/>
                      </a:lnTo>
                      <a:lnTo>
                        <a:pt x="114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859200" y="1384560"/>
                <a:ext cx="4869000" cy="3840480"/>
                <a:chOff x="3859200" y="1384560"/>
                <a:chExt cx="4869000" cy="3840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5590800" y="2590560"/>
                  <a:ext cx="1417680" cy="1281960"/>
                </a:xfrm>
                <a:custGeom>
                  <a:avLst/>
                  <a:gdLst/>
                  <a:ahLst/>
                  <a:rect l="l" t="t" r="r" b="b"/>
                  <a:pathLst>
                    <a:path w="846" h="773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3"/>
                      </a:lnTo>
                      <a:lnTo>
                        <a:pt x="755" y="337"/>
                      </a:lnTo>
                      <a:lnTo>
                        <a:pt x="763" y="373"/>
                      </a:lnTo>
                      <a:lnTo>
                        <a:pt x="804" y="382"/>
                      </a:lnTo>
                      <a:lnTo>
                        <a:pt x="845" y="382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6"/>
                      </a:lnTo>
                      <a:lnTo>
                        <a:pt x="689" y="524"/>
                      </a:lnTo>
                      <a:lnTo>
                        <a:pt x="738" y="577"/>
                      </a:lnTo>
                      <a:lnTo>
                        <a:pt x="738" y="586"/>
                      </a:lnTo>
                      <a:lnTo>
                        <a:pt x="747" y="621"/>
                      </a:lnTo>
                      <a:lnTo>
                        <a:pt x="714" y="639"/>
                      </a:lnTo>
                      <a:lnTo>
                        <a:pt x="673" y="666"/>
                      </a:lnTo>
                      <a:lnTo>
                        <a:pt x="665" y="639"/>
                      </a:lnTo>
                      <a:lnTo>
                        <a:pt x="607" y="595"/>
                      </a:lnTo>
                      <a:lnTo>
                        <a:pt x="599" y="666"/>
                      </a:lnTo>
                      <a:lnTo>
                        <a:pt x="665" y="737"/>
                      </a:lnTo>
                      <a:lnTo>
                        <a:pt x="665" y="772"/>
                      </a:lnTo>
                      <a:lnTo>
                        <a:pt x="607" y="728"/>
                      </a:lnTo>
                      <a:lnTo>
                        <a:pt x="574" y="648"/>
                      </a:lnTo>
                      <a:lnTo>
                        <a:pt x="574" y="586"/>
                      </a:lnTo>
                      <a:lnTo>
                        <a:pt x="558" y="541"/>
                      </a:lnTo>
                      <a:lnTo>
                        <a:pt x="525" y="559"/>
                      </a:lnTo>
                      <a:lnTo>
                        <a:pt x="484" y="453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6"/>
                      </a:lnTo>
                      <a:lnTo>
                        <a:pt x="328" y="586"/>
                      </a:lnTo>
                      <a:lnTo>
                        <a:pt x="328" y="612"/>
                      </a:lnTo>
                      <a:lnTo>
                        <a:pt x="304" y="674"/>
                      </a:lnTo>
                      <a:lnTo>
                        <a:pt x="279" y="666"/>
                      </a:lnTo>
                      <a:lnTo>
                        <a:pt x="254" y="586"/>
                      </a:lnTo>
                      <a:lnTo>
                        <a:pt x="238" y="559"/>
                      </a:lnTo>
                      <a:lnTo>
                        <a:pt x="222" y="470"/>
                      </a:lnTo>
                      <a:lnTo>
                        <a:pt x="205" y="488"/>
                      </a:lnTo>
                      <a:lnTo>
                        <a:pt x="164" y="453"/>
                      </a:lnTo>
                      <a:lnTo>
                        <a:pt x="164" y="426"/>
                      </a:lnTo>
                      <a:lnTo>
                        <a:pt x="82" y="382"/>
                      </a:lnTo>
                      <a:lnTo>
                        <a:pt x="57" y="364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59200" y="2944080"/>
                  <a:ext cx="1582200" cy="1909440"/>
                </a:xfrm>
                <a:custGeom>
                  <a:avLst/>
                  <a:gdLst/>
                  <a:ahLst/>
                  <a:rect l="l" t="t" r="r" b="b"/>
                  <a:pathLst>
                    <a:path w="944" h="1151">
                      <a:moveTo>
                        <a:pt x="336" y="0"/>
                      </a:moveTo>
                      <a:lnTo>
                        <a:pt x="410" y="36"/>
                      </a:lnTo>
                      <a:lnTo>
                        <a:pt x="410" y="71"/>
                      </a:lnTo>
                      <a:lnTo>
                        <a:pt x="467" y="107"/>
                      </a:lnTo>
                      <a:lnTo>
                        <a:pt x="508" y="125"/>
                      </a:lnTo>
                      <a:lnTo>
                        <a:pt x="525" y="107"/>
                      </a:lnTo>
                      <a:lnTo>
                        <a:pt x="541" y="98"/>
                      </a:lnTo>
                      <a:lnTo>
                        <a:pt x="574" y="98"/>
                      </a:lnTo>
                      <a:lnTo>
                        <a:pt x="664" y="107"/>
                      </a:lnTo>
                      <a:lnTo>
                        <a:pt x="689" y="107"/>
                      </a:lnTo>
                      <a:lnTo>
                        <a:pt x="713" y="241"/>
                      </a:lnTo>
                      <a:lnTo>
                        <a:pt x="746" y="259"/>
                      </a:lnTo>
                      <a:lnTo>
                        <a:pt x="746" y="294"/>
                      </a:lnTo>
                      <a:lnTo>
                        <a:pt x="771" y="330"/>
                      </a:lnTo>
                      <a:lnTo>
                        <a:pt x="812" y="383"/>
                      </a:lnTo>
                      <a:lnTo>
                        <a:pt x="861" y="455"/>
                      </a:lnTo>
                      <a:lnTo>
                        <a:pt x="943" y="419"/>
                      </a:lnTo>
                      <a:lnTo>
                        <a:pt x="861" y="553"/>
                      </a:lnTo>
                      <a:lnTo>
                        <a:pt x="779" y="669"/>
                      </a:lnTo>
                      <a:lnTo>
                        <a:pt x="771" y="722"/>
                      </a:lnTo>
                      <a:lnTo>
                        <a:pt x="804" y="776"/>
                      </a:lnTo>
                      <a:lnTo>
                        <a:pt x="804" y="829"/>
                      </a:lnTo>
                      <a:lnTo>
                        <a:pt x="779" y="856"/>
                      </a:lnTo>
                      <a:lnTo>
                        <a:pt x="722" y="918"/>
                      </a:lnTo>
                      <a:lnTo>
                        <a:pt x="722" y="936"/>
                      </a:lnTo>
                      <a:lnTo>
                        <a:pt x="738" y="972"/>
                      </a:lnTo>
                      <a:lnTo>
                        <a:pt x="713" y="981"/>
                      </a:lnTo>
                      <a:lnTo>
                        <a:pt x="689" y="1034"/>
                      </a:lnTo>
                      <a:lnTo>
                        <a:pt x="672" y="1061"/>
                      </a:lnTo>
                      <a:lnTo>
                        <a:pt x="615" y="1132"/>
                      </a:lnTo>
                      <a:lnTo>
                        <a:pt x="590" y="1132"/>
                      </a:lnTo>
                      <a:lnTo>
                        <a:pt x="500" y="1150"/>
                      </a:lnTo>
                      <a:lnTo>
                        <a:pt x="418" y="883"/>
                      </a:lnTo>
                      <a:lnTo>
                        <a:pt x="394" y="856"/>
                      </a:lnTo>
                      <a:lnTo>
                        <a:pt x="426" y="758"/>
                      </a:lnTo>
                      <a:lnTo>
                        <a:pt x="410" y="678"/>
                      </a:lnTo>
                      <a:lnTo>
                        <a:pt x="377" y="633"/>
                      </a:lnTo>
                      <a:lnTo>
                        <a:pt x="377" y="553"/>
                      </a:lnTo>
                      <a:lnTo>
                        <a:pt x="353" y="517"/>
                      </a:lnTo>
                      <a:lnTo>
                        <a:pt x="328" y="544"/>
                      </a:lnTo>
                      <a:lnTo>
                        <a:pt x="312" y="517"/>
                      </a:lnTo>
                      <a:lnTo>
                        <a:pt x="271" y="517"/>
                      </a:lnTo>
                      <a:lnTo>
                        <a:pt x="197" y="526"/>
                      </a:lnTo>
                      <a:lnTo>
                        <a:pt x="107" y="517"/>
                      </a:lnTo>
                      <a:lnTo>
                        <a:pt x="49" y="490"/>
                      </a:lnTo>
                      <a:lnTo>
                        <a:pt x="8" y="419"/>
                      </a:lnTo>
                      <a:lnTo>
                        <a:pt x="0" y="374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0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2" y="36"/>
                      </a:lnTo>
                      <a:lnTo>
                        <a:pt x="221" y="36"/>
                      </a:lnTo>
                      <a:lnTo>
                        <a:pt x="33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7320" y="4241160"/>
                  <a:ext cx="125280" cy="344880"/>
                </a:xfrm>
                <a:custGeom>
                  <a:avLst/>
                  <a:gdLst/>
                  <a:ahLst/>
                  <a:rect l="l" t="t" r="r" b="b"/>
                  <a:pathLst>
                    <a:path w="75" h="208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8"/>
                      </a:lnTo>
                      <a:lnTo>
                        <a:pt x="15" y="207"/>
                      </a:lnTo>
                      <a:lnTo>
                        <a:pt x="0" y="198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84840" y="2796120"/>
                  <a:ext cx="861480" cy="806040"/>
                </a:xfrm>
                <a:custGeom>
                  <a:avLst/>
                  <a:gdLst/>
                  <a:ahLst/>
                  <a:rect l="l" t="t" r="r" b="b"/>
                  <a:pathLst>
                    <a:path w="514" h="486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79"/>
                      </a:lnTo>
                      <a:lnTo>
                        <a:pt x="432" y="71"/>
                      </a:lnTo>
                      <a:lnTo>
                        <a:pt x="489" y="79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3"/>
                      </a:lnTo>
                      <a:lnTo>
                        <a:pt x="448" y="291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8"/>
                      </a:lnTo>
                      <a:lnTo>
                        <a:pt x="334" y="282"/>
                      </a:lnTo>
                      <a:lnTo>
                        <a:pt x="358" y="300"/>
                      </a:lnTo>
                      <a:lnTo>
                        <a:pt x="407" y="291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0"/>
                      </a:lnTo>
                      <a:lnTo>
                        <a:pt x="334" y="450"/>
                      </a:lnTo>
                      <a:lnTo>
                        <a:pt x="244" y="485"/>
                      </a:lnTo>
                      <a:lnTo>
                        <a:pt x="220" y="459"/>
                      </a:lnTo>
                      <a:lnTo>
                        <a:pt x="106" y="238"/>
                      </a:lnTo>
                      <a:lnTo>
                        <a:pt x="90" y="247"/>
                      </a:lnTo>
                      <a:lnTo>
                        <a:pt x="90" y="185"/>
                      </a:lnTo>
                      <a:lnTo>
                        <a:pt x="106" y="185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79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19120" y="2187360"/>
                  <a:ext cx="614880" cy="700200"/>
                </a:xfrm>
                <a:custGeom>
                  <a:avLst/>
                  <a:gdLst/>
                  <a:ahLst/>
                  <a:rect l="l" t="t" r="r" b="b"/>
                  <a:pathLst>
                    <a:path w="367" h="422">
                      <a:moveTo>
                        <a:pt x="260" y="0"/>
                      </a:moveTo>
                      <a:lnTo>
                        <a:pt x="268" y="61"/>
                      </a:lnTo>
                      <a:lnTo>
                        <a:pt x="285" y="53"/>
                      </a:lnTo>
                      <a:lnTo>
                        <a:pt x="285" y="61"/>
                      </a:lnTo>
                      <a:lnTo>
                        <a:pt x="277" y="123"/>
                      </a:lnTo>
                      <a:lnTo>
                        <a:pt x="285" y="140"/>
                      </a:lnTo>
                      <a:lnTo>
                        <a:pt x="301" y="167"/>
                      </a:lnTo>
                      <a:lnTo>
                        <a:pt x="333" y="167"/>
                      </a:lnTo>
                      <a:lnTo>
                        <a:pt x="317" y="193"/>
                      </a:lnTo>
                      <a:lnTo>
                        <a:pt x="350" y="193"/>
                      </a:lnTo>
                      <a:lnTo>
                        <a:pt x="366" y="219"/>
                      </a:lnTo>
                      <a:lnTo>
                        <a:pt x="301" y="263"/>
                      </a:lnTo>
                      <a:lnTo>
                        <a:pt x="309" y="298"/>
                      </a:lnTo>
                      <a:lnTo>
                        <a:pt x="366" y="351"/>
                      </a:lnTo>
                      <a:lnTo>
                        <a:pt x="350" y="351"/>
                      </a:lnTo>
                      <a:lnTo>
                        <a:pt x="350" y="360"/>
                      </a:lnTo>
                      <a:lnTo>
                        <a:pt x="342" y="368"/>
                      </a:lnTo>
                      <a:lnTo>
                        <a:pt x="342" y="360"/>
                      </a:lnTo>
                      <a:lnTo>
                        <a:pt x="317" y="333"/>
                      </a:lnTo>
                      <a:lnTo>
                        <a:pt x="260" y="298"/>
                      </a:lnTo>
                      <a:lnTo>
                        <a:pt x="236" y="272"/>
                      </a:lnTo>
                      <a:lnTo>
                        <a:pt x="171" y="298"/>
                      </a:lnTo>
                      <a:lnTo>
                        <a:pt x="155" y="333"/>
                      </a:lnTo>
                      <a:lnTo>
                        <a:pt x="122" y="360"/>
                      </a:lnTo>
                      <a:lnTo>
                        <a:pt x="122" y="368"/>
                      </a:lnTo>
                      <a:lnTo>
                        <a:pt x="49" y="421"/>
                      </a:lnTo>
                      <a:lnTo>
                        <a:pt x="16" y="395"/>
                      </a:lnTo>
                      <a:lnTo>
                        <a:pt x="0" y="395"/>
                      </a:lnTo>
                      <a:lnTo>
                        <a:pt x="0" y="307"/>
                      </a:lnTo>
                      <a:lnTo>
                        <a:pt x="16" y="272"/>
                      </a:lnTo>
                      <a:lnTo>
                        <a:pt x="89" y="298"/>
                      </a:lnTo>
                      <a:lnTo>
                        <a:pt x="122" y="246"/>
                      </a:lnTo>
                      <a:lnTo>
                        <a:pt x="81" y="219"/>
                      </a:lnTo>
                      <a:lnTo>
                        <a:pt x="65" y="193"/>
                      </a:lnTo>
                      <a:lnTo>
                        <a:pt x="130" y="158"/>
                      </a:lnTo>
                      <a:lnTo>
                        <a:pt x="220" y="88"/>
                      </a:lnTo>
                      <a:lnTo>
                        <a:pt x="252" y="88"/>
                      </a:lnTo>
                      <a:lnTo>
                        <a:pt x="236" y="18"/>
                      </a:lnTo>
                      <a:lnTo>
                        <a:pt x="252" y="9"/>
                      </a:lnTo>
                      <a:lnTo>
                        <a:pt x="260" y="9"/>
                      </a:lnTo>
                      <a:lnTo>
                        <a:pt x="2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078800" y="2277000"/>
                  <a:ext cx="83880" cy="132480"/>
                </a:xfrm>
                <a:custGeom>
                  <a:avLst/>
                  <a:gdLst/>
                  <a:ahLst/>
                  <a:rect l="l" t="t" r="r" b="b"/>
                  <a:pathLst>
                    <a:path w="50" h="80">
                      <a:moveTo>
                        <a:pt x="28" y="0"/>
                      </a:moveTo>
                      <a:lnTo>
                        <a:pt x="49" y="16"/>
                      </a:lnTo>
                      <a:lnTo>
                        <a:pt x="49" y="40"/>
                      </a:lnTo>
                      <a:lnTo>
                        <a:pt x="28" y="79"/>
                      </a:lnTo>
                      <a:lnTo>
                        <a:pt x="0" y="63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77440" y="2142360"/>
                  <a:ext cx="181080" cy="285120"/>
                </a:xfrm>
                <a:custGeom>
                  <a:avLst/>
                  <a:gdLst/>
                  <a:ahLst/>
                  <a:rect l="l" t="t" r="r" b="b"/>
                  <a:pathLst>
                    <a:path w="108" h="172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4" y="120"/>
                      </a:lnTo>
                      <a:lnTo>
                        <a:pt x="107" y="145"/>
                      </a:lnTo>
                      <a:lnTo>
                        <a:pt x="84" y="171"/>
                      </a:lnTo>
                      <a:lnTo>
                        <a:pt x="54" y="171"/>
                      </a:lnTo>
                      <a:lnTo>
                        <a:pt x="0" y="171"/>
                      </a:lnTo>
                      <a:lnTo>
                        <a:pt x="8" y="154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425840" y="162324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99520" y="1384560"/>
                  <a:ext cx="3928680" cy="1622160"/>
                </a:xfrm>
                <a:custGeom>
                  <a:avLst/>
                  <a:gdLst/>
                  <a:ahLst/>
                  <a:rect l="l" t="t" r="r" b="b"/>
                  <a:pathLst>
                    <a:path w="2344" h="978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5"/>
                      </a:lnTo>
                      <a:lnTo>
                        <a:pt x="1345" y="115"/>
                      </a:lnTo>
                      <a:lnTo>
                        <a:pt x="1436" y="142"/>
                      </a:lnTo>
                      <a:lnTo>
                        <a:pt x="1427" y="115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5"/>
                      </a:lnTo>
                      <a:lnTo>
                        <a:pt x="1931" y="195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5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5"/>
                      </a:lnTo>
                      <a:lnTo>
                        <a:pt x="2178" y="364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4"/>
                      </a:lnTo>
                      <a:lnTo>
                        <a:pt x="1955" y="604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7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4"/>
                      </a:lnTo>
                      <a:lnTo>
                        <a:pt x="1955" y="426"/>
                      </a:lnTo>
                      <a:lnTo>
                        <a:pt x="1873" y="462"/>
                      </a:lnTo>
                      <a:lnTo>
                        <a:pt x="1823" y="497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7"/>
                      </a:lnTo>
                      <a:lnTo>
                        <a:pt x="1625" y="613"/>
                      </a:lnTo>
                      <a:lnTo>
                        <a:pt x="1658" y="577"/>
                      </a:lnTo>
                      <a:lnTo>
                        <a:pt x="1683" y="613"/>
                      </a:lnTo>
                      <a:lnTo>
                        <a:pt x="1683" y="639"/>
                      </a:lnTo>
                      <a:lnTo>
                        <a:pt x="1634" y="755"/>
                      </a:lnTo>
                      <a:lnTo>
                        <a:pt x="1625" y="782"/>
                      </a:lnTo>
                      <a:lnTo>
                        <a:pt x="1568" y="826"/>
                      </a:lnTo>
                      <a:lnTo>
                        <a:pt x="1526" y="835"/>
                      </a:lnTo>
                      <a:lnTo>
                        <a:pt x="1502" y="924"/>
                      </a:lnTo>
                      <a:lnTo>
                        <a:pt x="1502" y="959"/>
                      </a:lnTo>
                      <a:lnTo>
                        <a:pt x="1469" y="977"/>
                      </a:lnTo>
                      <a:lnTo>
                        <a:pt x="1469" y="924"/>
                      </a:lnTo>
                      <a:lnTo>
                        <a:pt x="1444" y="906"/>
                      </a:lnTo>
                      <a:lnTo>
                        <a:pt x="1469" y="844"/>
                      </a:lnTo>
                      <a:lnTo>
                        <a:pt x="1526" y="799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39"/>
                      </a:lnTo>
                      <a:lnTo>
                        <a:pt x="1337" y="711"/>
                      </a:lnTo>
                      <a:lnTo>
                        <a:pt x="1337" y="728"/>
                      </a:lnTo>
                      <a:lnTo>
                        <a:pt x="1353" y="728"/>
                      </a:lnTo>
                      <a:lnTo>
                        <a:pt x="1353" y="746"/>
                      </a:lnTo>
                      <a:lnTo>
                        <a:pt x="1337" y="746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5"/>
                      </a:lnTo>
                      <a:lnTo>
                        <a:pt x="1130" y="844"/>
                      </a:lnTo>
                      <a:lnTo>
                        <a:pt x="1056" y="826"/>
                      </a:lnTo>
                      <a:lnTo>
                        <a:pt x="1031" y="835"/>
                      </a:lnTo>
                      <a:lnTo>
                        <a:pt x="1015" y="817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8"/>
                      </a:lnTo>
                      <a:lnTo>
                        <a:pt x="875" y="755"/>
                      </a:lnTo>
                      <a:lnTo>
                        <a:pt x="858" y="755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6"/>
                      </a:lnTo>
                      <a:lnTo>
                        <a:pt x="776" y="853"/>
                      </a:lnTo>
                      <a:lnTo>
                        <a:pt x="743" y="870"/>
                      </a:lnTo>
                      <a:lnTo>
                        <a:pt x="718" y="924"/>
                      </a:lnTo>
                      <a:lnTo>
                        <a:pt x="677" y="924"/>
                      </a:lnTo>
                      <a:lnTo>
                        <a:pt x="586" y="933"/>
                      </a:lnTo>
                      <a:lnTo>
                        <a:pt x="569" y="959"/>
                      </a:lnTo>
                      <a:lnTo>
                        <a:pt x="503" y="924"/>
                      </a:lnTo>
                      <a:lnTo>
                        <a:pt x="470" y="924"/>
                      </a:lnTo>
                      <a:lnTo>
                        <a:pt x="413" y="924"/>
                      </a:lnTo>
                      <a:lnTo>
                        <a:pt x="380" y="915"/>
                      </a:lnTo>
                      <a:lnTo>
                        <a:pt x="371" y="888"/>
                      </a:lnTo>
                      <a:lnTo>
                        <a:pt x="355" y="888"/>
                      </a:lnTo>
                      <a:lnTo>
                        <a:pt x="322" y="879"/>
                      </a:lnTo>
                      <a:lnTo>
                        <a:pt x="297" y="844"/>
                      </a:lnTo>
                      <a:lnTo>
                        <a:pt x="215" y="782"/>
                      </a:lnTo>
                      <a:lnTo>
                        <a:pt x="248" y="728"/>
                      </a:lnTo>
                      <a:lnTo>
                        <a:pt x="182" y="764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4"/>
                      </a:lnTo>
                      <a:lnTo>
                        <a:pt x="116" y="764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7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4"/>
                      </a:lnTo>
                      <a:lnTo>
                        <a:pt x="33" y="497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5"/>
                      </a:lnTo>
                      <a:lnTo>
                        <a:pt x="223" y="275"/>
                      </a:lnTo>
                      <a:lnTo>
                        <a:pt x="256" y="275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5"/>
                      </a:lnTo>
                      <a:lnTo>
                        <a:pt x="239" y="338"/>
                      </a:lnTo>
                      <a:lnTo>
                        <a:pt x="264" y="355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5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6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5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5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4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5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72880" y="1427400"/>
                  <a:ext cx="309960" cy="180720"/>
                </a:xfrm>
                <a:custGeom>
                  <a:avLst/>
                  <a:gdLst/>
                  <a:ahLst/>
                  <a:rect l="l" t="t" r="r" b="b"/>
                  <a:pathLst>
                    <a:path w="185" h="109">
                      <a:moveTo>
                        <a:pt x="160" y="0"/>
                      </a:moveTo>
                      <a:lnTo>
                        <a:pt x="184" y="0"/>
                      </a:lnTo>
                      <a:lnTo>
                        <a:pt x="184" y="33"/>
                      </a:lnTo>
                      <a:lnTo>
                        <a:pt x="88" y="58"/>
                      </a:lnTo>
                      <a:lnTo>
                        <a:pt x="80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8" y="8"/>
                      </a:lnTo>
                      <a:lnTo>
                        <a:pt x="152" y="8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590800" y="1651680"/>
                  <a:ext cx="127080" cy="107280"/>
                </a:xfrm>
                <a:custGeom>
                  <a:avLst/>
                  <a:gdLst/>
                  <a:ahLst/>
                  <a:rect l="l" t="t" r="r" b="b"/>
                  <a:pathLst>
                    <a:path w="76" h="65">
                      <a:moveTo>
                        <a:pt x="45" y="0"/>
                      </a:moveTo>
                      <a:lnTo>
                        <a:pt x="75" y="16"/>
                      </a:lnTo>
                      <a:lnTo>
                        <a:pt x="68" y="32"/>
                      </a:lnTo>
                      <a:lnTo>
                        <a:pt x="75" y="64"/>
                      </a:lnTo>
                      <a:lnTo>
                        <a:pt x="45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951600" y="3808080"/>
                  <a:ext cx="209520" cy="242280"/>
                </a:xfrm>
                <a:custGeom>
                  <a:avLst/>
                  <a:gdLst/>
                  <a:ahLst/>
                  <a:rect l="l" t="t" r="r" b="b"/>
                  <a:pathLst>
                    <a:path w="125" h="146">
                      <a:moveTo>
                        <a:pt x="101" y="0"/>
                      </a:moveTo>
                      <a:lnTo>
                        <a:pt x="124" y="26"/>
                      </a:lnTo>
                      <a:lnTo>
                        <a:pt x="116" y="34"/>
                      </a:lnTo>
                      <a:lnTo>
                        <a:pt x="124" y="68"/>
                      </a:lnTo>
                      <a:lnTo>
                        <a:pt x="116" y="94"/>
                      </a:lnTo>
                      <a:lnTo>
                        <a:pt x="93" y="145"/>
                      </a:lnTo>
                      <a:lnTo>
                        <a:pt x="70" y="145"/>
                      </a:lnTo>
                      <a:lnTo>
                        <a:pt x="16" y="111"/>
                      </a:lnTo>
                      <a:lnTo>
                        <a:pt x="16" y="94"/>
                      </a:lnTo>
                      <a:lnTo>
                        <a:pt x="0" y="68"/>
                      </a:lnTo>
                      <a:lnTo>
                        <a:pt x="70" y="26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202880" y="3470040"/>
                  <a:ext cx="97200" cy="132120"/>
                </a:xfrm>
                <a:custGeom>
                  <a:avLst/>
                  <a:gdLst/>
                  <a:ahLst/>
                  <a:rect l="l" t="t" r="r" b="b"/>
                  <a:pathLst>
                    <a:path w="58" h="80">
                      <a:moveTo>
                        <a:pt x="7" y="0"/>
                      </a:moveTo>
                      <a:lnTo>
                        <a:pt x="36" y="16"/>
                      </a:lnTo>
                      <a:lnTo>
                        <a:pt x="36" y="55"/>
                      </a:lnTo>
                      <a:lnTo>
                        <a:pt x="57" y="79"/>
                      </a:lnTo>
                      <a:lnTo>
                        <a:pt x="0" y="55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506360" y="2842920"/>
                  <a:ext cx="209160" cy="208800"/>
                </a:xfrm>
                <a:custGeom>
                  <a:avLst/>
                  <a:gdLst/>
                  <a:ahLst/>
                  <a:rect l="l" t="t" r="r" b="b"/>
                  <a:pathLst>
                    <a:path w="125" h="126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7"/>
                      </a:lnTo>
                      <a:lnTo>
                        <a:pt x="54" y="117"/>
                      </a:lnTo>
                      <a:lnTo>
                        <a:pt x="47" y="125"/>
                      </a:lnTo>
                      <a:lnTo>
                        <a:pt x="0" y="117"/>
                      </a:lnTo>
                      <a:lnTo>
                        <a:pt x="93" y="58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87440" y="2706480"/>
                  <a:ext cx="110520" cy="9108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14" y="0"/>
                      </a:moveTo>
                      <a:lnTo>
                        <a:pt x="65" y="39"/>
                      </a:lnTo>
                      <a:lnTo>
                        <a:pt x="29" y="54"/>
                      </a:lnTo>
                      <a:lnTo>
                        <a:pt x="14" y="46"/>
                      </a:lnTo>
                      <a:lnTo>
                        <a:pt x="0" y="4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074000" y="4228200"/>
                  <a:ext cx="931680" cy="757800"/>
                </a:xfrm>
                <a:custGeom>
                  <a:avLst/>
                  <a:gdLst/>
                  <a:ahLst/>
                  <a:rect l="l" t="t" r="r" b="b"/>
                  <a:pathLst>
                    <a:path w="556" h="457">
                      <a:moveTo>
                        <a:pt x="408" y="0"/>
                      </a:moveTo>
                      <a:lnTo>
                        <a:pt x="416" y="61"/>
                      </a:lnTo>
                      <a:lnTo>
                        <a:pt x="433" y="61"/>
                      </a:lnTo>
                      <a:lnTo>
                        <a:pt x="433" y="114"/>
                      </a:lnTo>
                      <a:lnTo>
                        <a:pt x="465" y="132"/>
                      </a:lnTo>
                      <a:lnTo>
                        <a:pt x="555" y="246"/>
                      </a:lnTo>
                      <a:lnTo>
                        <a:pt x="555" y="272"/>
                      </a:lnTo>
                      <a:lnTo>
                        <a:pt x="473" y="421"/>
                      </a:lnTo>
                      <a:lnTo>
                        <a:pt x="449" y="456"/>
                      </a:lnTo>
                      <a:lnTo>
                        <a:pt x="359" y="421"/>
                      </a:lnTo>
                      <a:lnTo>
                        <a:pt x="359" y="395"/>
                      </a:lnTo>
                      <a:lnTo>
                        <a:pt x="326" y="360"/>
                      </a:lnTo>
                      <a:lnTo>
                        <a:pt x="335" y="360"/>
                      </a:lnTo>
                      <a:lnTo>
                        <a:pt x="294" y="377"/>
                      </a:lnTo>
                      <a:lnTo>
                        <a:pt x="269" y="324"/>
                      </a:lnTo>
                      <a:lnTo>
                        <a:pt x="245" y="324"/>
                      </a:lnTo>
                      <a:lnTo>
                        <a:pt x="171" y="333"/>
                      </a:lnTo>
                      <a:lnTo>
                        <a:pt x="139" y="360"/>
                      </a:lnTo>
                      <a:lnTo>
                        <a:pt x="82" y="360"/>
                      </a:lnTo>
                      <a:lnTo>
                        <a:pt x="33" y="386"/>
                      </a:lnTo>
                      <a:lnTo>
                        <a:pt x="8" y="360"/>
                      </a:lnTo>
                      <a:lnTo>
                        <a:pt x="24" y="307"/>
                      </a:lnTo>
                      <a:lnTo>
                        <a:pt x="0" y="237"/>
                      </a:lnTo>
                      <a:lnTo>
                        <a:pt x="0" y="175"/>
                      </a:lnTo>
                      <a:lnTo>
                        <a:pt x="8" y="175"/>
                      </a:lnTo>
                      <a:lnTo>
                        <a:pt x="33" y="158"/>
                      </a:lnTo>
                      <a:lnTo>
                        <a:pt x="57" y="158"/>
                      </a:lnTo>
                      <a:lnTo>
                        <a:pt x="114" y="114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1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1"/>
                      </a:lnTo>
                      <a:lnTo>
                        <a:pt x="375" y="96"/>
                      </a:lnTo>
                      <a:lnTo>
                        <a:pt x="384" y="61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493040" y="3985920"/>
                  <a:ext cx="417240" cy="227160"/>
                </a:xfrm>
                <a:custGeom>
                  <a:avLst/>
                  <a:gdLst/>
                  <a:ahLst/>
                  <a:rect l="l" t="t" r="r" b="b"/>
                  <a:pathLst>
                    <a:path w="249" h="137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2" y="60"/>
                      </a:lnTo>
                      <a:lnTo>
                        <a:pt x="200" y="77"/>
                      </a:lnTo>
                      <a:lnTo>
                        <a:pt x="248" y="128"/>
                      </a:lnTo>
                      <a:lnTo>
                        <a:pt x="216" y="136"/>
                      </a:lnTo>
                      <a:lnTo>
                        <a:pt x="192" y="94"/>
                      </a:lnTo>
                      <a:lnTo>
                        <a:pt x="160" y="94"/>
                      </a:lnTo>
                      <a:lnTo>
                        <a:pt x="160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283960" y="5031000"/>
                  <a:ext cx="138960" cy="194040"/>
                </a:xfrm>
                <a:custGeom>
                  <a:avLst/>
                  <a:gdLst/>
                  <a:ahLst/>
                  <a:rect l="l" t="t" r="r" b="b"/>
                  <a:pathLst>
                    <a:path w="83" h="117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6"/>
                      </a:lnTo>
                      <a:lnTo>
                        <a:pt x="0" y="91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463600" y="4880160"/>
                  <a:ext cx="83520" cy="17892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28" y="41"/>
                      </a:lnTo>
                      <a:lnTo>
                        <a:pt x="49" y="58"/>
                      </a:lnTo>
                      <a:lnTo>
                        <a:pt x="28" y="107"/>
                      </a:lnTo>
                      <a:lnTo>
                        <a:pt x="7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564800" y="2289960"/>
                  <a:ext cx="417240" cy="565560"/>
                </a:xfrm>
                <a:custGeom>
                  <a:avLst/>
                  <a:gdLst/>
                  <a:ahLst/>
                  <a:rect l="l" t="t" r="r" b="b"/>
                  <a:pathLst>
                    <a:path w="249" h="341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8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79"/>
                      </a:lnTo>
                      <a:lnTo>
                        <a:pt x="184" y="296"/>
                      </a:lnTo>
                      <a:lnTo>
                        <a:pt x="200" y="305"/>
                      </a:lnTo>
                      <a:lnTo>
                        <a:pt x="184" y="323"/>
                      </a:lnTo>
                      <a:lnTo>
                        <a:pt x="168" y="323"/>
                      </a:lnTo>
                      <a:lnTo>
                        <a:pt x="160" y="340"/>
                      </a:lnTo>
                      <a:lnTo>
                        <a:pt x="88" y="235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8"/>
                      </a:lnTo>
                      <a:lnTo>
                        <a:pt x="0" y="113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006240" y="2289960"/>
                  <a:ext cx="1431360" cy="104364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04920" y="3853080"/>
                  <a:ext cx="222480" cy="286920"/>
                </a:xfrm>
                <a:custGeom>
                  <a:avLst/>
                  <a:gdLst/>
                  <a:ahLst/>
                  <a:rect l="l" t="t" r="r" b="b"/>
                  <a:pathLst>
                    <a:path w="133" h="173">
                      <a:moveTo>
                        <a:pt x="0" y="0"/>
                      </a:moveTo>
                      <a:lnTo>
                        <a:pt x="62" y="43"/>
                      </a:lnTo>
                      <a:lnTo>
                        <a:pt x="132" y="138"/>
                      </a:lnTo>
                      <a:lnTo>
                        <a:pt x="132" y="172"/>
                      </a:lnTo>
                      <a:lnTo>
                        <a:pt x="78" y="1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9" name=""/>
            <p:cNvSpPr/>
            <p:nvPr/>
          </p:nvSpPr>
          <p:spPr>
            <a:xfrm>
              <a:off x="3745800" y="1801080"/>
              <a:ext cx="1514880" cy="1818720"/>
            </a:xfrm>
            <a:custGeom>
              <a:avLst/>
              <a:gdLst/>
              <a:ahLst/>
              <a:rect l="l" t="t" r="r" b="b"/>
              <a:pathLst>
                <a:path w="904" h="1096">
                  <a:moveTo>
                    <a:pt x="0" y="0"/>
                  </a:moveTo>
                  <a:lnTo>
                    <a:pt x="0" y="846"/>
                  </a:lnTo>
                  <a:lnTo>
                    <a:pt x="903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2629080" y="2574720"/>
            <a:ext cx="1795320" cy="11523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548080" y="3317760"/>
            <a:ext cx="118800" cy="317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48080" y="3914640"/>
            <a:ext cx="199800" cy="6368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682720" y="3184200"/>
            <a:ext cx="2170440" cy="609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359240" y="2203560"/>
            <a:ext cx="131760" cy="409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3440" y="2162160"/>
            <a:ext cx="830520" cy="849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86400" y="2043000"/>
            <a:ext cx="3043080" cy="941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7229160" y="3065400"/>
            <a:ext cx="345960" cy="6890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29520" y="3782880"/>
            <a:ext cx="345960" cy="7416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3084120" y="3768840"/>
            <a:ext cx="4102200" cy="7826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057480" y="3862440"/>
            <a:ext cx="4183200" cy="1299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052720" y="3516480"/>
            <a:ext cx="466560" cy="264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046160" y="2906640"/>
            <a:ext cx="601560" cy="184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06560" y="3211560"/>
            <a:ext cx="695160" cy="237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865680" y="2484360"/>
            <a:ext cx="1190520" cy="432720"/>
            <a:chOff x="3865680" y="2484360"/>
            <a:chExt cx="1190520" cy="432720"/>
          </a:xfrm>
        </p:grpSpPr>
        <p:sp>
          <p:nvSpPr>
            <p:cNvPr id="685" name=""/>
            <p:cNvSpPr/>
            <p:nvPr/>
          </p:nvSpPr>
          <p:spPr>
            <a:xfrm>
              <a:off x="3944880" y="2496960"/>
              <a:ext cx="955080" cy="3812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65680" y="2484360"/>
              <a:ext cx="119052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13680" y="2773440"/>
            <a:ext cx="965160" cy="432720"/>
            <a:chOff x="7213680" y="2773440"/>
            <a:chExt cx="965160" cy="432720"/>
          </a:xfrm>
        </p:grpSpPr>
        <p:sp>
          <p:nvSpPr>
            <p:cNvPr id="688" name=""/>
            <p:cNvSpPr/>
            <p:nvPr/>
          </p:nvSpPr>
          <p:spPr>
            <a:xfrm>
              <a:off x="7218000" y="2786400"/>
              <a:ext cx="954720" cy="37728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13680" y="2773440"/>
              <a:ext cx="965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081080" y="2538360"/>
            <a:ext cx="1511280" cy="432720"/>
            <a:chOff x="1081080" y="2538360"/>
            <a:chExt cx="1511280" cy="432720"/>
          </a:xfrm>
        </p:grpSpPr>
        <p:sp>
          <p:nvSpPr>
            <p:cNvPr id="691" name=""/>
            <p:cNvSpPr/>
            <p:nvPr/>
          </p:nvSpPr>
          <p:spPr>
            <a:xfrm>
              <a:off x="1262160" y="2550960"/>
              <a:ext cx="1065240" cy="3794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81080" y="2538360"/>
              <a:ext cx="1511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60480" y="3336840"/>
            <a:ext cx="1638360" cy="432720"/>
            <a:chOff x="960480" y="3336840"/>
            <a:chExt cx="1638360" cy="432720"/>
          </a:xfrm>
        </p:grpSpPr>
        <p:sp>
          <p:nvSpPr>
            <p:cNvPr id="694" name=""/>
            <p:cNvSpPr/>
            <p:nvPr/>
          </p:nvSpPr>
          <p:spPr>
            <a:xfrm>
              <a:off x="1279080" y="3351240"/>
              <a:ext cx="95436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60480" y="3336840"/>
              <a:ext cx="16383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984320" y="4400640"/>
            <a:ext cx="1430280" cy="432720"/>
            <a:chOff x="1984320" y="4400640"/>
            <a:chExt cx="1430280" cy="432720"/>
          </a:xfrm>
        </p:grpSpPr>
        <p:sp>
          <p:nvSpPr>
            <p:cNvPr id="697" name=""/>
            <p:cNvSpPr/>
            <p:nvPr/>
          </p:nvSpPr>
          <p:spPr>
            <a:xfrm>
              <a:off x="2160360" y="4440240"/>
              <a:ext cx="1066680" cy="3780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4320" y="4400640"/>
              <a:ext cx="1430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690560" y="2879640"/>
            <a:ext cx="2046240" cy="431640"/>
            <a:chOff x="1690560" y="2879640"/>
            <a:chExt cx="2046240" cy="431640"/>
          </a:xfrm>
        </p:grpSpPr>
        <p:sp>
          <p:nvSpPr>
            <p:cNvPr id="700" name=""/>
            <p:cNvSpPr/>
            <p:nvPr/>
          </p:nvSpPr>
          <p:spPr>
            <a:xfrm>
              <a:off x="2041920" y="2879640"/>
              <a:ext cx="1304280" cy="4125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90560" y="2906280"/>
              <a:ext cx="204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4, 5,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94440" y="4441680"/>
            <a:ext cx="1222560" cy="432720"/>
            <a:chOff x="6994440" y="4441680"/>
            <a:chExt cx="1222560" cy="432720"/>
          </a:xfrm>
        </p:grpSpPr>
        <p:sp>
          <p:nvSpPr>
            <p:cNvPr id="703" name=""/>
            <p:cNvSpPr/>
            <p:nvPr/>
          </p:nvSpPr>
          <p:spPr>
            <a:xfrm>
              <a:off x="7103160" y="444456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94440" y="4441680"/>
              <a:ext cx="12225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592520" y="2979720"/>
            <a:ext cx="1397160" cy="432720"/>
            <a:chOff x="4592520" y="2979720"/>
            <a:chExt cx="1397160" cy="432720"/>
          </a:xfrm>
        </p:grpSpPr>
        <p:sp>
          <p:nvSpPr>
            <p:cNvPr id="706" name=""/>
            <p:cNvSpPr/>
            <p:nvPr/>
          </p:nvSpPr>
          <p:spPr>
            <a:xfrm>
              <a:off x="4807080" y="298080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2520" y="2979720"/>
              <a:ext cx="1397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935000" y="5038560"/>
            <a:ext cx="1531800" cy="432720"/>
            <a:chOff x="1935000" y="5038560"/>
            <a:chExt cx="1531800" cy="432720"/>
          </a:xfrm>
        </p:grpSpPr>
        <p:sp>
          <p:nvSpPr>
            <p:cNvPr id="709" name=""/>
            <p:cNvSpPr/>
            <p:nvPr/>
          </p:nvSpPr>
          <p:spPr>
            <a:xfrm>
              <a:off x="2205000" y="5064120"/>
              <a:ext cx="955440" cy="3776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35000" y="5038560"/>
              <a:ext cx="15318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705720" y="3460680"/>
            <a:ext cx="1143000" cy="432720"/>
            <a:chOff x="6705720" y="3460680"/>
            <a:chExt cx="1143000" cy="432720"/>
          </a:xfrm>
        </p:grpSpPr>
        <p:sp>
          <p:nvSpPr>
            <p:cNvPr id="712" name=""/>
            <p:cNvSpPr/>
            <p:nvPr/>
          </p:nvSpPr>
          <p:spPr>
            <a:xfrm>
              <a:off x="7057080" y="348552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720" y="346068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933720" y="1846440"/>
            <a:ext cx="1143000" cy="432720"/>
            <a:chOff x="3933720" y="1846440"/>
            <a:chExt cx="1143000" cy="432720"/>
          </a:xfrm>
        </p:grpSpPr>
        <p:sp>
          <p:nvSpPr>
            <p:cNvPr id="715" name=""/>
            <p:cNvSpPr/>
            <p:nvPr/>
          </p:nvSpPr>
          <p:spPr>
            <a:xfrm>
              <a:off x="4285080" y="1871280"/>
              <a:ext cx="403560" cy="3474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320" bIns="121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33720" y="184644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949400" y="3614760"/>
            <a:ext cx="1143000" cy="432720"/>
            <a:chOff x="1949400" y="3614760"/>
            <a:chExt cx="1143000" cy="432720"/>
          </a:xfrm>
        </p:grpSpPr>
        <p:sp>
          <p:nvSpPr>
            <p:cNvPr id="718" name=""/>
            <p:cNvSpPr/>
            <p:nvPr/>
          </p:nvSpPr>
          <p:spPr>
            <a:xfrm>
              <a:off x="2300760" y="363960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49400" y="361476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4640" y="2959200"/>
            <a:ext cx="1143000" cy="432720"/>
            <a:chOff x="404640" y="2959200"/>
            <a:chExt cx="1143000" cy="432720"/>
          </a:xfrm>
        </p:grpSpPr>
        <p:sp>
          <p:nvSpPr>
            <p:cNvPr id="721" name=""/>
            <p:cNvSpPr/>
            <p:nvPr/>
          </p:nvSpPr>
          <p:spPr>
            <a:xfrm>
              <a:off x="756000" y="298404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640" y="295920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 flipH="1">
            <a:off x="8184960" y="2709720"/>
            <a:ext cx="766440" cy="244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0160" y="3168720"/>
            <a:ext cx="542880" cy="163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80240" y="579132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17280" y="538668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1880" y="5394600"/>
            <a:ext cx="139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UNET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 (interconnect level, N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of page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 (national backbone, MAE, F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Internet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eement to connect &amp; share routing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 (regional providers, state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 (local I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 (companies, 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473720" y="1560600"/>
            <a:ext cx="4232160" cy="25606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98400" y="1072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ier 1 networks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Chicag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merit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MAE W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Pac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New York NA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Spr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AE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MSF), C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Minne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NAP Conn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2 MAEs (Metropolitan Area Etherne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Dal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L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Big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Exchange Poi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Access Points (NA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2541600" y="1522440"/>
            <a:ext cx="6095880" cy="44528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is 24/36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66600" y="1108440"/>
            <a:ext cx="574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 East Aggregate Input Traffic: Tuesday, Nov. 23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210200" y="3803760"/>
            <a:ext cx="1896840" cy="595440"/>
            <a:chOff x="4210200" y="3803760"/>
            <a:chExt cx="1896840" cy="595440"/>
          </a:xfrm>
        </p:grpSpPr>
        <p:sp>
          <p:nvSpPr>
            <p:cNvPr id="737" name=""/>
            <p:cNvSpPr/>
            <p:nvPr/>
          </p:nvSpPr>
          <p:spPr>
            <a:xfrm>
              <a:off x="4742280" y="3941640"/>
              <a:ext cx="136476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: 118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15 a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4210200" y="38037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8000" y="2149560"/>
            <a:ext cx="1418040" cy="1280880"/>
            <a:chOff x="5868000" y="2149560"/>
            <a:chExt cx="1418040" cy="1280880"/>
          </a:xfrm>
        </p:grpSpPr>
        <p:sp>
          <p:nvSpPr>
            <p:cNvPr id="740" name=""/>
            <p:cNvSpPr/>
            <p:nvPr/>
          </p:nvSpPr>
          <p:spPr>
            <a:xfrm>
              <a:off x="5868000" y="2972880"/>
              <a:ext cx="141804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k: 226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 p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33840" y="2149560"/>
              <a:ext cx="3045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80880" y="1599840"/>
            <a:ext cx="19623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jo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abits/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Technolo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erce is not “electronic” withou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models can only be implemented if the technology i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determines the range of possible busin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component of this course is a survey of technologies applicable to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ellite Acce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terSatCo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6019920" cy="38862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67080" cy="198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800040" y="3700080"/>
            <a:ext cx="208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BIT = 22,000 M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25240" y="4728600"/>
            <a:ext cx="1942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CY = 1/4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 Internet Population  9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World 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 M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Asia/Paci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34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Eur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7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iddle 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Canada &amp; U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Latin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5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A INTERNET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vailability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68440" y="2066760"/>
            <a:ext cx="7205760" cy="4052880"/>
            <a:chOff x="1468440" y="2066760"/>
            <a:chExt cx="7205760" cy="4052880"/>
          </a:xfrm>
        </p:grpSpPr>
        <p:graphicFrame>
          <p:nvGraphicFramePr>
            <p:cNvPr id="752" name=""/>
            <p:cNvGraphicFramePr/>
            <p:nvPr/>
          </p:nvGraphicFramePr>
          <p:xfrm>
            <a:off x="1468440" y="2066760"/>
            <a:ext cx="572580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8440" y="2066760"/>
                      <a:ext cx="572580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"/>
            <p:cNvSpPr/>
            <p:nvPr/>
          </p:nvSpPr>
          <p:spPr>
            <a:xfrm>
              <a:off x="6581880" y="271440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ta 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68560" y="3362400"/>
              <a:ext cx="210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commer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82600" y="4194000"/>
              <a:ext cx="185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ssion-cri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98080" y="483696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94480" y="5286240"/>
              <a:ext cx="178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rrier-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5400000">
            <a:off x="4799160" y="371880"/>
            <a:ext cx="209880" cy="3017880"/>
          </a:xfrm>
          <a:custGeom>
            <a:avLst/>
            <a:gdLst>
              <a:gd name="textAreaLeft" fmla="*/ 134280 w 209880"/>
              <a:gd name="textAreaRight" fmla="*/ 210240 w 20988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6160" y="148068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ISSIBLE DOW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77440" y="1482480"/>
            <a:ext cx="184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D UP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5400000">
            <a:off x="2305800" y="1032480"/>
            <a:ext cx="196920" cy="1766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46080 h 1766880"/>
              <a:gd name="textAreaBottom" fmla="*/ 1720800 h 17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0800000">
            <a:off x="6391080" y="3065040"/>
            <a:ext cx="169560" cy="1149480"/>
          </a:xfrm>
          <a:custGeom>
            <a:avLst/>
            <a:gdLst>
              <a:gd name="textAreaLeft" fmla="*/ 108360 w 169560"/>
              <a:gd name="textAreaRight" fmla="*/ 169920 w 169560"/>
              <a:gd name="textAreaTop" fmla="*/ 29880 h 1149480"/>
              <a:gd name="textAreaBottom" fmla="*/ 111960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Old Telephone System (PO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t1" descr=""/>
          <p:cNvPicPr/>
          <p:nvPr/>
        </p:nvPicPr>
        <p:blipFill>
          <a:blip r:embed="rId1"/>
          <a:stretch/>
        </p:blipFill>
        <p:spPr>
          <a:xfrm>
            <a:off x="1571760" y="1519200"/>
            <a:ext cx="5564160" cy="41036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492880" y="1868400"/>
            <a:ext cx="0" cy="532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878360" y="2392200"/>
            <a:ext cx="619200" cy="297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90960" y="268920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38680" y="3492360"/>
            <a:ext cx="103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638440" y="3481560"/>
            <a:ext cx="1200240" cy="804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1320" y="4284720"/>
            <a:ext cx="35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2880" y="1397520"/>
            <a:ext cx="1690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s 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dedicated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rom point A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06960" y="156204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50880" y="38782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5360" y="4653720"/>
            <a:ext cx="1542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pacity is t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p for the en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ll even if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is tal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53640" y="2394720"/>
            <a:ext cx="162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person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alk to one 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son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08760" y="1402920"/>
            <a:ext cx="191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networ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IRCUIT-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85040" y="3579120"/>
            <a:ext cx="149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so tru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42200" y="5130000"/>
            <a:ext cx="150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f one link fail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0956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3324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two computers causes co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chine on a network must have a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chine 2 sends a message to machine 4, what tells 1, 3 and 5 to ignore it, but 4 to l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protocol. 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042920" y="2022480"/>
            <a:ext cx="6246720" cy="911160"/>
            <a:chOff x="1042920" y="2022480"/>
            <a:chExt cx="6246720" cy="911160"/>
          </a:xfrm>
        </p:grpSpPr>
        <p:pic>
          <p:nvPicPr>
            <p:cNvPr id="783" name="" descr=""/>
            <p:cNvPicPr/>
            <p:nvPr/>
          </p:nvPicPr>
          <p:blipFill>
            <a:blip r:embed="rId2"/>
            <a:stretch/>
          </p:blipFill>
          <p:spPr>
            <a:xfrm>
              <a:off x="1628640" y="2057400"/>
              <a:ext cx="695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2722680" y="2041560"/>
              <a:ext cx="6951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 flipH="1">
              <a:off x="1042920" y="2930400"/>
              <a:ext cx="6246720" cy="32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4"/>
            <a:stretch/>
          </p:blipFill>
          <p:spPr>
            <a:xfrm>
              <a:off x="3863880" y="2022480"/>
              <a:ext cx="695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5"/>
            <a:stretch/>
          </p:blipFill>
          <p:spPr>
            <a:xfrm>
              <a:off x="498636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6"/>
            <a:stretch/>
          </p:blipFill>
          <p:spPr>
            <a:xfrm>
              <a:off x="609768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1924200" y="259884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9088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2920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78320" y="2589120"/>
              <a:ext cx="12960" cy="3128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366960" y="2576520"/>
              <a:ext cx="11160" cy="3380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410840" y="18356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45920" y="18385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74880" y="18622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22560" y="18496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925600" y="18514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74840" y="3134160"/>
            <a:ext cx="22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BUS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915960" y="3020400"/>
            <a:ext cx="1917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 = LOC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(Internet Protocol) Rout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5160" y="4657680"/>
            <a:ext cx="27799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Router A can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the packet eith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4560" y="1386720"/>
            <a:ext cx="2851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35 wants to sen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to Machine 24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s determine the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cket will 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860720" y="2035440"/>
            <a:ext cx="2230560" cy="1482480"/>
            <a:chOff x="4860720" y="2035440"/>
            <a:chExt cx="2230560" cy="1482480"/>
          </a:xfrm>
        </p:grpSpPr>
        <p:sp>
          <p:nvSpPr>
            <p:cNvPr id="805" name=""/>
            <p:cNvSpPr/>
            <p:nvPr/>
          </p:nvSpPr>
          <p:spPr>
            <a:xfrm>
              <a:off x="5767920" y="2035440"/>
              <a:ext cx="95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860720" y="2338560"/>
              <a:ext cx="9284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6880" y="24033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61000" y="2403360"/>
              <a:ext cx="53028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938840" y="2428920"/>
              <a:ext cx="110160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 flipH="1">
            <a:off x="1499760" y="3916440"/>
            <a:ext cx="919080" cy="126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432160" y="3394080"/>
            <a:ext cx="0" cy="954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419200" y="371304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34040" y="3262320"/>
            <a:ext cx="1503360" cy="13460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451640" y="2773080"/>
            <a:ext cx="12960" cy="6490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50000" y="2282760"/>
            <a:ext cx="0" cy="4698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19320" y="2938320"/>
            <a:ext cx="1293840" cy="7034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489"/>
                </a:moveTo>
                <a:lnTo>
                  <a:pt x="462" y="288"/>
                </a:lnTo>
                <a:lnTo>
                  <a:pt x="380" y="220"/>
                </a:lnTo>
                <a:lnTo>
                  <a:pt x="88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70480" y="2943360"/>
            <a:ext cx="151740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264200" y="4475880"/>
            <a:ext cx="1652400" cy="1890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026120" y="276552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45040" y="3259080"/>
            <a:ext cx="979560" cy="49212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138560" y="1842840"/>
            <a:ext cx="0" cy="6094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398840" y="2398680"/>
            <a:ext cx="0" cy="5810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813120" y="241920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5895720" y="4551120"/>
            <a:ext cx="11160" cy="274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067440" y="479232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450040" y="481824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081240" y="2909520"/>
            <a:ext cx="711360" cy="33804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2480" y="4075200"/>
            <a:ext cx="536760" cy="3906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5080" y="300672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27840" y="294156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046400" y="273672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1303200" y="3451320"/>
            <a:ext cx="825480" cy="73656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807000" y="1469880"/>
            <a:ext cx="825480" cy="736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7194600" y="1824120"/>
            <a:ext cx="825480" cy="7380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5686560" y="503388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565560" y="307872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49000" y="144360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113680" y="502884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496280" y="505476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6"/>
          <a:stretch/>
        </p:blipFill>
        <p:spPr>
          <a:xfrm>
            <a:off x="7732800" y="527040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 flipV="1">
            <a:off x="7854840" y="4592160"/>
            <a:ext cx="12960" cy="459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86600" y="4505400"/>
            <a:ext cx="1368360" cy="1998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4360" y="3170160"/>
            <a:ext cx="151776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6200000">
            <a:off x="6945120" y="38667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7"/>
          <a:stretch/>
        </p:blipFill>
        <p:spPr>
          <a:xfrm>
            <a:off x="7396200" y="4519440"/>
            <a:ext cx="770040" cy="4464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"/>
          <a:stretch/>
        </p:blipFill>
        <p:spPr>
          <a:xfrm>
            <a:off x="7097760" y="307332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984480" y="3932280"/>
            <a:ext cx="793800" cy="66528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9"/>
          <a:stretch/>
        </p:blipFill>
        <p:spPr>
          <a:xfrm>
            <a:off x="4444920" y="362124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081240" y="3774960"/>
            <a:ext cx="933480" cy="8636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3587760" y="448308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2774880" y="345276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 rot="5400000">
            <a:off x="5267160" y="37479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2"/>
          <a:stretch/>
        </p:blipFill>
        <p:spPr>
          <a:xfrm>
            <a:off x="5450040" y="4229280"/>
            <a:ext cx="769680" cy="44604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3"/>
          <a:stretch/>
        </p:blipFill>
        <p:spPr>
          <a:xfrm>
            <a:off x="5675400" y="2930400"/>
            <a:ext cx="771480" cy="44604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 rot="18638400">
            <a:off x="5054400" y="4019040"/>
            <a:ext cx="1854360" cy="1968480"/>
          </a:xfrm>
          <a:prstGeom prst="ellipse">
            <a:avLst/>
          </a:prstGeom>
          <a:noFill/>
          <a:ln w="1908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76200" y="5450040"/>
            <a:ext cx="125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ETWORK 4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T’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51280" y="4997160"/>
            <a:ext cx="617760" cy="446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08840" y="113436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0280" y="501840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19880" y="531684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0320" y="5714640"/>
            <a:ext cx="209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G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1760" y="5486040"/>
            <a:ext cx="205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RO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1828800" y="4724280"/>
            <a:ext cx="2381400" cy="1190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2724120" cy="8096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6172200" y="2362320"/>
            <a:ext cx="70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449568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6934320" y="3886200"/>
            <a:ext cx="55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4"/>
          <a:stretch/>
        </p:blipFill>
        <p:spPr>
          <a:xfrm>
            <a:off x="1066680" y="16765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et Switching (TCP/I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rcRect l="918" t="918" r="918" b="918"/>
          <a:stretch/>
        </p:blipFill>
        <p:spPr>
          <a:xfrm>
            <a:off x="1138320" y="1504800"/>
            <a:ext cx="4752720" cy="44197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755680" y="1635480"/>
            <a:ext cx="283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 =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reaks messages into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assembles th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5440" y="3402720"/>
            <a:ext cx="2163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=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ves packets 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63760" y="5815080"/>
            <a:ext cx="197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. 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84640" y="48193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heavily instr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erformance is constantly moni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traffic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network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/Serv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Interne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quests service; server provid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changed only through real-tim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y become a client to a differ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158840" y="3270240"/>
            <a:ext cx="6666840" cy="2376720"/>
            <a:chOff x="1158840" y="3270240"/>
            <a:chExt cx="6666840" cy="2376720"/>
          </a:xfrm>
        </p:grpSpPr>
        <p:sp>
          <p:nvSpPr>
            <p:cNvPr id="884" name=""/>
            <p:cNvSpPr/>
            <p:nvPr/>
          </p:nvSpPr>
          <p:spPr>
            <a:xfrm>
              <a:off x="4920840" y="3270240"/>
              <a:ext cx="898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5" name="" descr=""/>
            <p:cNvPicPr/>
            <p:nvPr/>
          </p:nvPicPr>
          <p:blipFill>
            <a:blip r:embed="rId1"/>
            <a:stretch/>
          </p:blipFill>
          <p:spPr>
            <a:xfrm>
              <a:off x="1158840" y="3498840"/>
              <a:ext cx="82548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6072120" y="329256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936800" y="3983040"/>
              <a:ext cx="14256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3257640" y="3857760"/>
              <a:ext cx="2036520" cy="1315800"/>
              <a:chOff x="3257640" y="3857760"/>
              <a:chExt cx="2036520" cy="1315800"/>
            </a:xfrm>
          </p:grpSpPr>
          <p:pic>
            <p:nvPicPr>
              <p:cNvPr id="8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57640" y="3857760"/>
                <a:ext cx="203652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3454920" y="4292280"/>
                <a:ext cx="1661400" cy="4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040" bIns="50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he 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1" name="" descr=""/>
            <p:cNvPicPr/>
            <p:nvPr/>
          </p:nvPicPr>
          <p:blipFill>
            <a:blip r:embed="rId4"/>
            <a:stretch/>
          </p:blipFill>
          <p:spPr>
            <a:xfrm>
              <a:off x="6338880" y="484344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029680" y="345744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1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200000">
              <a:off x="5442480" y="3502440"/>
              <a:ext cx="285840" cy="9637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82040" y="3607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87400" y="34002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558840" y="49701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9920" y="4865760"/>
              <a:ext cx="1190520" cy="5173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5230800" y="3985560"/>
              <a:ext cx="1054080" cy="53316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9840" y="406728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2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3960" y="5189400"/>
              <a:ext cx="151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3 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ommerc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French, from Lat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erciu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400"/>
            </a:b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com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geth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merc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rchandise) (153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exchange or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uying and s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mmod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large sc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ranspor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lace to pla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and selling ( transaction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( supply cha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4083120"/>
            <a:ext cx="149040" cy="1089000"/>
          </a:xfrm>
          <a:custGeom>
            <a:avLst/>
            <a:gdLst>
              <a:gd name="textAreaLeft" fmla="*/ 0 w 149040"/>
              <a:gd name="textAreaRight" fmla="*/ 53640 w 14904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7960" y="4247280"/>
            <a:ext cx="198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EE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L OF TH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s on the Internet need an addressing scheme (or couldn’t receive packet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chine has a 32-bit address assigned by the Internet Corporation for Assigned Names and Numbers (ICAN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U.S.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merican Registry for Internet Number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urope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Réseaux IP Européen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R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are written in dotted decimal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. 2 . 218 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000   00000010   11011010   000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ax number of IP addresses = 2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4,0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851200" y="434484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074840" y="434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15080" y="43322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79920" y="4332240"/>
            <a:ext cx="11653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5708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inconvenient to remem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28.2.218.2  v.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fully qua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are alphanumeric aliases for IP addresses.  They form a tree structure of FQD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221000" y="297864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935000" y="3588120"/>
            <a:ext cx="541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GOV      .COM      .MIL      .NET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.ED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.ORG     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25920" y="4273920"/>
            <a:ext cx="259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PITT      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4720" y="4285080"/>
            <a:ext cx="349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AZON     MCKINSEY    YAHO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51280" y="4847040"/>
            <a:ext cx="30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IA    CS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HEI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77280" y="5429520"/>
            <a:ext cx="344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N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U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DOLLAR   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544480" y="320688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382920" y="320688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068360" y="328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02240" y="3282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30840" y="3282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06800" y="320688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59440" y="320688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849040" y="396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625400" y="3968640"/>
            <a:ext cx="1299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30640" y="3968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214960" y="3892680"/>
            <a:ext cx="30168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92600" y="38926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21200" y="38926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1000" y="45021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830480" y="457848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5400" y="4578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64280" y="4565520"/>
            <a:ext cx="10508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449240" y="51879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5287680" y="5187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92600" y="5187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07720" y="456228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7.237.113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75600" y="56890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28.2.21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4960" y="455256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8.216.18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45320" y="5165640"/>
            <a:ext cx="102528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44080" y="56764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.2.218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ing Domain Names to IP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track topology (physical lo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track administrative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no conversion formula.  Has to be looked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(Domain Name System)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rvers maintain tables of domain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obtained by resolvers that communicat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meser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NS at C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99640" y="3394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Resolution of “abc.foo.com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3720" y="1643040"/>
            <a:ext cx="2519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IP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abc.foo.co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6600" y="581328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68600" y="3149640"/>
            <a:ext cx="506160" cy="93816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79320" y="2587680"/>
            <a:ext cx="1239840" cy="496800"/>
            <a:chOff x="679320" y="2587680"/>
            <a:chExt cx="1239840" cy="496800"/>
          </a:xfrm>
        </p:grpSpPr>
        <p:pic>
          <p:nvPicPr>
            <p:cNvPr id="947" name="" descr=""/>
            <p:cNvPicPr/>
            <p:nvPr/>
          </p:nvPicPr>
          <p:blipFill>
            <a:blip r:embed="rId1"/>
            <a:stretch/>
          </p:blipFill>
          <p:spPr>
            <a:xfrm>
              <a:off x="1430280" y="2587680"/>
              <a:ext cx="4888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679320" y="2654280"/>
              <a:ext cx="9777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9480"/>
                  <a:tab algn="l" pos="1758960"/>
                  <a:tab algn="l" pos="2638440"/>
                  <a:tab algn="l" pos="3517920"/>
                  <a:tab algn="l" pos="4397400"/>
                  <a:tab algn="l" pos="5276880"/>
                  <a:tab algn="l" pos="6156360"/>
                  <a:tab algn="l" pos="7035840"/>
                  <a:tab algn="l" pos="7915320"/>
                  <a:tab algn="l" pos="8794800"/>
                  <a:tab algn="l" pos="9674280"/>
                  <a:tab algn="l" pos="105537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108160" y="407844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 flipV="1">
            <a:off x="2514600" y="2819160"/>
            <a:ext cx="1143000" cy="11048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3"/>
          <a:stretch/>
        </p:blipFill>
        <p:spPr>
          <a:xfrm>
            <a:off x="3708360" y="230652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5494320" y="262080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6780240" y="396396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853920" y="4336920"/>
            <a:ext cx="13068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06760" y="319716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49520" y="1982880"/>
            <a:ext cx="1306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07040" y="232560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84720" y="3497400"/>
            <a:ext cx="1465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 fo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05720" y="3657600"/>
            <a:ext cx="1631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10440" y="4826160"/>
            <a:ext cx="1884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.foo.com is 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819520" y="3352320"/>
            <a:ext cx="684000" cy="6858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954160" y="3462480"/>
            <a:ext cx="2270160" cy="78408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3083040" y="3733920"/>
            <a:ext cx="1998720" cy="6840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68560" y="4675320"/>
            <a:ext cx="3456000" cy="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25720" y="4875120"/>
            <a:ext cx="3241800" cy="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790640" y="4943880"/>
            <a:ext cx="968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1905120" y="3123720"/>
            <a:ext cx="457200" cy="8384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38440" y="221004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: Uniform Resource Loc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identifies a specific resource on a server in a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tells what protocol to use to access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/program/courses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col:/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main_name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/path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48006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800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63832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URL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ure, encrypted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le transfer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mote lo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Usenet n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net Relay Ch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information about a u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:   (indexes of text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tp datab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480" y="1188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HTTP (HyperText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ing, freshn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mapping, e.g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, 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multimedia, manages 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cache,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es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nnect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eCommerc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-switched, based on shor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ble, exp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e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Electronic Commer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2160" y="1053720"/>
            <a:ext cx="8093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business transactions mediat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hopp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tapl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buyersindex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ecommenda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brandwise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tock trad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Schw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uc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eB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business transactions (e.g. procure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Sea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Ar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ber-intermediari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freemarket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instil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delivery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2"/>
              </a:rPr>
              <a:t>Cor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3"/>
              </a:rPr>
              <a:t>M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ervic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4"/>
              </a:rPr>
              <a:t>cargo tr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5"/>
              </a:rPr>
              <a:t>greeting c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ge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6"/>
              </a:rPr>
              <a:t>stamp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7"/>
              </a:rPr>
              <a:t>E-Stam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Market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4560" y="1451880"/>
            <a:ext cx="103392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204720"/>
            <a:ext cx="142740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14920" y="4271400"/>
            <a:ext cx="10537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680" y="3738240"/>
            <a:ext cx="6591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4560" y="4804920"/>
            <a:ext cx="10749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53078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7880" y="24422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69800" y="137160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EARCH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0880" y="2666880"/>
            <a:ext cx="135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OPPING 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560" y="297180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640" y="1676520"/>
            <a:ext cx="160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35268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UTOMATED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876920"/>
            <a:ext cx="156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CKING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5181480"/>
            <a:ext cx="126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8600" y="5791320"/>
            <a:ext cx="192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INTERNET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89520" y="2057400"/>
            <a:ext cx="224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4280" y="2819520"/>
            <a:ext cx="218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ARGAINING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5840" y="3124080"/>
            <a:ext cx="177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RICE SENSI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680" y="4191120"/>
            <a:ext cx="265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REDIT/PAYM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0960" y="50292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ON-LINE PROBLEM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5920" y="5700600"/>
            <a:ext cx="296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FOLLOW-ON SALES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990360"/>
            <a:ext cx="278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SOME TECHNOLOGIE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4280" y="990360"/>
            <a:ext cx="312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OME INFORMATION GATHER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6560" y="1676520"/>
            <a:ext cx="1887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ROWS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89520" y="4572000"/>
            <a:ext cx="221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DELIVER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7880" y="4572000"/>
            <a:ext cx="185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-PAYM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523880"/>
            <a:ext cx="91440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828800"/>
            <a:ext cx="83844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895480"/>
            <a:ext cx="7621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124080"/>
            <a:ext cx="76212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3429000"/>
            <a:ext cx="4572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8120" y="4495320"/>
            <a:ext cx="68580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029200"/>
            <a:ext cx="76212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76176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24080" y="5714640"/>
            <a:ext cx="4572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685800" cy="3049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828800"/>
            <a:ext cx="9144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638680"/>
            <a:ext cx="7621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5181120"/>
            <a:ext cx="76212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29200" y="4723920"/>
            <a:ext cx="6858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43400"/>
            <a:ext cx="762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276360"/>
            <a:ext cx="761760" cy="15228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05520" y="2971440"/>
            <a:ext cx="60948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29200" y="2209320"/>
            <a:ext cx="76212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17600" y="2286000"/>
            <a:ext cx="1428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ONFIGU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438280"/>
            <a:ext cx="83808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960" y="1981080"/>
            <a:ext cx="1987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RECOMMEND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05120"/>
            <a:ext cx="838440" cy="4572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9280" y="3657600"/>
            <a:ext cx="231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NSACTION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8600" y="396252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DATA INTER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71800" y="3962160"/>
            <a:ext cx="9144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0160" y="42670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343400"/>
            <a:ext cx="9144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4560" y="548640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BROWSER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971800" y="5562360"/>
            <a:ext cx="609480" cy="7596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6560" y="3733920"/>
            <a:ext cx="150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MARKET BAS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886200"/>
            <a:ext cx="11430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1064520" y="3197880"/>
            <a:ext cx="3357360" cy="314280"/>
          </a:xfrm>
          <a:prstGeom prst="rect">
            <a:avLst/>
          </a:prstGeom>
        </p:spPr>
        <p:txBody>
          <a:bodyPr wrap="none" lIns="91800" rIns="91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INTERNET</a:t>
            </a:r>
            <a:endParaRPr b="0" lang="en-US" sz="1800" spc="-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5877720" y="3429000"/>
            <a:ext cx="149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ERSON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24280" y="3580920"/>
            <a:ext cx="11430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33412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29200" y="5486400"/>
            <a:ext cx="762120" cy="763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8960" y="1371600"/>
            <a:ext cx="167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EARCH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52880" y="1523880"/>
            <a:ext cx="9907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438280"/>
            <a:ext cx="278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EFFECTIVENESS OF PROMO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29200" y="2590560"/>
            <a:ext cx="609480" cy="7596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Internet connect ever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essages mov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P addresses and domain n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reliable enough for a business to depen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21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raffic doubles every 98 days (Korea: 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1 becomes 4 billion in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dox of exponent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rce activity doubles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(1999) $130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exceed B2C by a factor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will go up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exchange ($2T/day), interbank ($2T/day), securities ($100B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, global ecommerce $3.2T, 10% of current world economic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20840" y="500544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20840" y="44658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20840" y="39132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20840" y="337356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83356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20840" y="229248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20840" y="174132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0840" y="12016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2084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0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1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332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3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94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18280" y="5545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8280" y="5440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18280" y="5334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18280" y="5216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111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18280" y="50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18280" y="4898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1828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8280" y="4676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18280" y="4570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8280" y="4465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8280" y="434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8280" y="4241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8280" y="4137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8280" y="4030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8280" y="3913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18280" y="3808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18280" y="3701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18280" y="3595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18280" y="3478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8280" y="3373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8280" y="326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8280" y="31622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18280" y="3044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8280" y="2938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8280" y="2833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18280" y="2727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18280" y="2610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8280" y="2505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18280" y="2398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8280" y="2292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18280" y="2174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2070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18280" y="1963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8280" y="1859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18280" y="1741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18280" y="1635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1530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1424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18280" y="13064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8280" y="1201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7120" y="55450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07120" y="5005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7120" y="44658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07120" y="39132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07120" y="33735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07120" y="2833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07120" y="22924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7120" y="17413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07120" y="12016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0840" y="55450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320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00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479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69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47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272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06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842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74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541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33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12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90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81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460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40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179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697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87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67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448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0243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03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93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71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3512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304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100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78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7576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8368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146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994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845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641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433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21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00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10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570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6483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27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807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8974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75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54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33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13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02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81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608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40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618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708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788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8672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45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024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114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194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73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51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31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5214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600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678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57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374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27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0056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085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2084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90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71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4332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213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194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89240" y="5181120"/>
            <a:ext cx="450720" cy="10476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39960" y="5028840"/>
            <a:ext cx="530280" cy="15228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70240" y="4839840"/>
            <a:ext cx="485640" cy="1890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855880" y="4663800"/>
            <a:ext cx="495360" cy="17604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351240" y="4487760"/>
            <a:ext cx="474480" cy="1764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1960" y="444168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38760" y="4289400"/>
            <a:ext cx="90360" cy="58680"/>
          </a:xfrm>
          <a:custGeom>
            <a:avLst/>
            <a:gdLst/>
            <a:ahLst/>
            <a:rect l="l" t="t" r="r" b="b"/>
            <a:pathLst>
              <a:path w="57" h="37">
                <a:moveTo>
                  <a:pt x="0" y="29"/>
                </a:moveTo>
                <a:lnTo>
                  <a:pt x="28" y="0"/>
                </a:lnTo>
                <a:lnTo>
                  <a:pt x="57" y="7"/>
                </a:lnTo>
                <a:lnTo>
                  <a:pt x="28" y="37"/>
                </a:lnTo>
                <a:lnTo>
                  <a:pt x="0" y="29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73400" y="4124160"/>
            <a:ext cx="90720" cy="71640"/>
          </a:xfrm>
          <a:custGeom>
            <a:avLst/>
            <a:gdLst/>
            <a:ahLst/>
            <a:rect l="l" t="t" r="r" b="b"/>
            <a:pathLst>
              <a:path w="57" h="45">
                <a:moveTo>
                  <a:pt x="0" y="37"/>
                </a:moveTo>
                <a:lnTo>
                  <a:pt x="28" y="0"/>
                </a:lnTo>
                <a:lnTo>
                  <a:pt x="57" y="8"/>
                </a:lnTo>
                <a:lnTo>
                  <a:pt x="28" y="45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7240" y="396072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321080" y="3549600"/>
            <a:ext cx="486000" cy="3873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807080" y="3196800"/>
            <a:ext cx="484200" cy="3524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1280" y="2492280"/>
            <a:ext cx="485640" cy="70488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43160" y="524016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1355400" y="525096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9240" y="5286240"/>
            <a:ext cx="331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355400" y="528624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389240" y="525096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5320" y="513396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806120" y="5146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518148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806120" y="5181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839960" y="5146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5600" y="498168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336400" y="4993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70240" y="5029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36400" y="5029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70240" y="499392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09800" y="479412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820600" y="480492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55880" y="484020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820600" y="484020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855880" y="4804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06600" y="4618080"/>
            <a:ext cx="11304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317400" y="46288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1240" y="4664160"/>
            <a:ext cx="3492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7400" y="4664160"/>
            <a:ext cx="3348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51240" y="46288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444168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3790440" y="44524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5720" y="448776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90440" y="448776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825720" y="4452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76800" y="38894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287960" y="390168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1080" y="39369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287960" y="393696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321080" y="39016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61000" y="35020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773240" y="351432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7080" y="354960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73240" y="35496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807080" y="351432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6640" y="31496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257440" y="31618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91280" y="31971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440" y="319716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91280" y="31618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0840" y="2446200"/>
            <a:ext cx="114480" cy="11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74308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7692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4308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77692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27640" y="15652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238440" y="15760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38440" y="1611360"/>
            <a:ext cx="3492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273720" y="15760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52640" y="5440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6000" y="48988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26000" y="43592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26000" y="38084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26000" y="32670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26000" y="27273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6000" y="21877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26000" y="16351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6000" y="10954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84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8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9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95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9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85960" y="570564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60560" y="3549600"/>
            <a:ext cx="11635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justed old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8960" y="174600"/>
            <a:ext cx="67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Host Count 1995-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65600" y="1393920"/>
            <a:ext cx="1419120" cy="45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,4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76920" y="1611000"/>
            <a:ext cx="496800" cy="8809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3720" y="1611360"/>
            <a:ext cx="3348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2289240"/>
            <a:ext cx="9554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39720" y="1360440"/>
            <a:ext cx="2019600" cy="275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 =  DOMAI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3:31Z</dcterms:modified>
  <cp:revision>46</cp:revision>
  <dc:subject/>
  <dc:title>Internet</dc:title>
</cp:coreProperties>
</file>